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4035-0BF0-4699-A0F3-F77BC3EDAD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355E-ED02-4DE2-91FE-BFAEBFBC45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97A1-7FE2-4898-B364-B6AC8D3B7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C2EF-4D24-4358-922B-30F24F0A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FEFE-E49B-4565-93CB-DE5266195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ED3F-B36A-42CE-9D00-C90AD0F7D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3656-0AE0-4AAE-B2C3-134747A7D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5AEA-3080-4BA2-9D65-A51AAA8B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C689-0B19-4140-8741-E1F5AFFC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2431-136E-4998-84BB-2762697C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10A2-6E46-4779-8594-D5DE71AF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8FD7-6C36-4B8E-9D75-8728DBFE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4969-D272-483C-A4B9-E7E8F2BE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4C71-BDDF-49AF-8BD8-EAE1FCB9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5B38-3280-4C98-A320-D6295AE0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01AB-73B8-4D50-A54A-FFD64FBB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69F6-7BF2-4D41-9BC6-75F45BB6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70A0-83EE-48BA-B580-C8466225D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625F-C935-43DD-AB0F-ABDC4974B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CD81-BB13-4684-B07E-2DDDA97E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85B8-27E7-465D-90D5-3D531C68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5ECE-3DAD-449A-AB3F-181406D4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6207-9D2B-4C84-9A5A-DD399C38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1469-62DF-4646-BCBB-85E2741B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26D4-3B88-4CFE-BCFA-4D047ABC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F70B-36BE-40BB-A59D-428CF414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92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A795-C68B-41AC-9AC5-BD15E49325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283" name="Picture 91" descr="earth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A783-A896-4797-9356-E2EA1B027F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Номер слайда 5"/>
          <p:cNvSpPr/>
          <p:nvPr/>
        </p:nvSpPr>
        <p:spPr>
          <a:xfrm>
            <a:off x="6553080" y="6181560"/>
            <a:ext cx="19051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0E86-DD6A-47CD-80C9-46B646035C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1652400" y="4383000"/>
            <a:ext cx="7491240" cy="20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461520" y="1606320"/>
            <a:ext cx="8218440" cy="352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00"/>
                </a:solidFill>
                <a:latin typeface="Arial"/>
              </a:rPr>
              <a:t>Использование </a:t>
            </a:r>
            <a:r>
              <a:rPr b="1" lang="en-US" sz="4000" spc="-1" strike="noStrike">
                <a:solidFill>
                  <a:srgbClr val="cc6600"/>
                </a:solidFill>
                <a:latin typeface="Arial"/>
              </a:rPr>
              <a:t>SWOT-</a:t>
            </a:r>
            <a:r>
              <a:rPr b="1" lang="ru-RU" sz="4000" spc="-1" strike="noStrike">
                <a:solidFill>
                  <a:srgbClr val="cc6600"/>
                </a:solidFill>
                <a:latin typeface="Arial"/>
              </a:rPr>
              <a:t>методики для анализа потенциала дистанционных технологий профильного обучения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Номер слайда 5"/>
          <p:cNvSpPr/>
          <p:nvPr/>
        </p:nvSpPr>
        <p:spPr>
          <a:xfrm>
            <a:off x="655308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FCB3-AE5E-428A-B15F-E629DB3E4A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17520" y="980640"/>
            <a:ext cx="85075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6600"/>
                </a:solidFill>
                <a:latin typeface="Times New Roman"/>
              </a:rPr>
              <a:t>Основные правила </a:t>
            </a: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SWOT</a:t>
            </a:r>
            <a:r>
              <a:rPr b="0" i="1" lang="ru-RU" sz="4000" spc="-1" strike="noStrike">
                <a:solidFill>
                  <a:srgbClr val="cc6600"/>
                </a:solidFill>
                <a:latin typeface="Times New Roman"/>
              </a:rPr>
              <a:t>-анализа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70040" y="1844280"/>
            <a:ext cx="7602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авило 1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щательно определите сферу каждого SWOT-анализ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авило 2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оймите различия между элементами SWOT. Сильные и слабые стороны — это внутренние черты ОУ, следовательно, ей подконтрольные. Возможности и угрозы связаны с характеристиками внешней среды и неподвластны влиянию организаци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авило 3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Сильные и слабые стороны могут считаться таковыми лишь в том случае, если так их воспринимают конкуренты и партнеры. Нужно включать в анализ только наиболее относящиеся к делу преимущества и слабост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авило 4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Будьте объективны и используйте разностороннюю входную информацию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авило 5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Избегайте пространных и двусмысленных заявлени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Номер слайда 5"/>
          <p:cNvSpPr/>
          <p:nvPr/>
        </p:nvSpPr>
        <p:spPr>
          <a:xfrm>
            <a:off x="655308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530E-4C24-44FB-AB76-5ABA9B30E0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826920" y="1267920"/>
            <a:ext cx="749016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оворят, если знаешь других и знаешь себя, тебе не грозит поражение и в сотнях битв; если не знаешь других и знаешь себя, то будешь одну битву выигрывать, а другую – проигрывать; если же не знаешь ни других, ни себя, проиграешь все битвы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ун Цу. Искусство стратегии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ек до н.э. 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Номер слайда 5"/>
          <p:cNvSpPr/>
          <p:nvPr/>
        </p:nvSpPr>
        <p:spPr>
          <a:xfrm>
            <a:off x="655308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2295-E1F9-4999-8A80-2F3005DD87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здание стратегии является расчетливым проектированием,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интуитивной дальновидностью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незапным осознанием; оно настолько же связано с изменениями, как и со стабильностью; оно должно включать в себя: вначале – анализ, в конце – создание программы, а в процессе – обсужден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ф. Г. Минцберг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nry Mintzber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Gill University, Cana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Номер слайда 5"/>
          <p:cNvSpPr/>
          <p:nvPr/>
        </p:nvSpPr>
        <p:spPr>
          <a:xfrm>
            <a:off x="655308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C9B9-C0BD-44E7-A89E-EF74BB4918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Методология 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WOT</a:t>
            </a: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-анализа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выявление внутренних сильных и слабых сторон организации;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542160" indent="-54216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выявление внешних возможностей и угроз;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542160" indent="-54216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установление связей между ним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5421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Номер слайда 5"/>
          <p:cNvSpPr/>
          <p:nvPr/>
        </p:nvSpPr>
        <p:spPr>
          <a:xfrm>
            <a:off x="655308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96CA-AF3D-479B-8C50-EE89E66912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822960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6600"/>
                </a:solidFill>
                <a:latin typeface="Times New Roman"/>
              </a:rPr>
              <a:t>Основы </a:t>
            </a: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SWOT</a:t>
            </a:r>
            <a:r>
              <a:rPr b="0" i="1" lang="ru-RU" sz="4000" spc="-1" strike="noStrike">
                <a:solidFill>
                  <a:srgbClr val="cc6600"/>
                </a:solidFill>
                <a:latin typeface="Times New Roman"/>
              </a:rPr>
              <a:t>-анализа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68360" y="1628640"/>
          <a:ext cx="8218440" cy="5040360"/>
        </p:xfrm>
        <a:graphic>
          <a:graphicData uri="http://schemas.openxmlformats.org/drawingml/2006/table">
            <a:tbl>
              <a:tblPr/>
              <a:tblGrid>
                <a:gridCol w="4110120"/>
                <a:gridCol w="4108320"/>
              </a:tblGrid>
              <a:tr h="234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5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ength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5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ильные сторо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5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W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aknesses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5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лабые сторо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5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O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portuni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5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лагоприятные возмож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5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5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T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re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5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грозы, вызов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Rectangle 72"/>
          <p:cNvSpPr/>
          <p:nvPr/>
        </p:nvSpPr>
        <p:spPr>
          <a:xfrm>
            <a:off x="684360" y="2997360"/>
            <a:ext cx="77752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енциальны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рен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лементы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ямую относящиеся к организац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Rectangle 73"/>
          <p:cNvSpPr/>
          <p:nvPr/>
        </p:nvSpPr>
        <p:spPr>
          <a:xfrm>
            <a:off x="684360" y="5734080"/>
            <a:ext cx="77752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ш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лементы, относящиеся к различным сферам среды (законодательство, политика, экономика, технология, общество и т.д.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Номер слайда 5"/>
          <p:cNvSpPr/>
          <p:nvPr/>
        </p:nvSpPr>
        <p:spPr>
          <a:xfrm>
            <a:off x="655308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90C1-F2B9-499C-9F03-E00648E84F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Вопросы для обсуждения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29840" y="1916280"/>
            <a:ext cx="87138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истанционная форма обучения – это дешевое и некачественное образование или это форма получения качественного образования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ие факторы влияют на качество дистанционного образования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образование является фактором устойчивого развития России, какое место в системе непрерывного образования может и должно занять дистанционное образование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Номер слайда 6"/>
          <p:cNvSpPr/>
          <p:nvPr/>
        </p:nvSpPr>
        <p:spPr>
          <a:xfrm>
            <a:off x="655308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3B31-2E69-4AAE-AA84-A666FF00C2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67840" y="958320"/>
            <a:ext cx="8480520" cy="3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6600"/>
                </a:solidFill>
                <a:latin typeface="Times New Roman"/>
              </a:rPr>
              <a:t>Составление матрицы стратегий 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468360" y="1700280"/>
          <a:ext cx="8362800" cy="4800600"/>
        </p:xfrm>
        <a:graphic>
          <a:graphicData uri="http://schemas.openxmlformats.org/drawingml/2006/table">
            <a:tbl>
              <a:tblPr/>
              <a:tblGrid>
                <a:gridCol w="4181400"/>
                <a:gridCol w="4181400"/>
              </a:tblGrid>
              <a:tr h="237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1800" algn="ctr">
                        <a:spcBef>
                          <a:spcPts val="35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ильные сторо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61800"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61800"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61800"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5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W)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лабые сторо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0360" indent="1440" algn="ctr">
                        <a:spcBef>
                          <a:spcPts val="35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змож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60360" indent="1440"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60360" indent="1440"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60360" indent="1440"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5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гроз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Номер слайда 5"/>
          <p:cNvSpPr/>
          <p:nvPr/>
        </p:nvSpPr>
        <p:spPr>
          <a:xfrm>
            <a:off x="655308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6D46-C7A3-4F7A-9A7C-F66F573404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58920" y="942480"/>
            <a:ext cx="734688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Анализ матрицы стратегий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53" name="Object 26"/>
          <p:cNvGraphicFramePr/>
          <p:nvPr/>
        </p:nvGraphicFramePr>
        <p:xfrm>
          <a:off x="684360" y="1628640"/>
          <a:ext cx="7197480" cy="502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628640"/>
                    <a:ext cx="7197480" cy="50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Номер слайда 5"/>
          <p:cNvSpPr/>
          <p:nvPr/>
        </p:nvSpPr>
        <p:spPr>
          <a:xfrm>
            <a:off x="655308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2011-49DD-4EF5-91F4-9E1C31B0D9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Матрицы стратегий 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WO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O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мероприятия, которые необходимо провести, чтобы использовать сильные стороны для увеличения возможностей ОУ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WO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мероприятия, которые необходимо провести, преодолевая слабые стороны и используя представленные возможно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T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мероприятия, которые используют сильные стороны ОУ для избежания угроз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WT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мероприятия, которые минимизируют слабые стороны для избежания угроз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Номер слайда 5"/>
          <p:cNvSpPr/>
          <p:nvPr/>
        </p:nvSpPr>
        <p:spPr>
          <a:xfrm>
            <a:off x="655308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6F78-7375-46C6-B2BC-7C63E335FE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WOT</a:t>
            </a: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: 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pros &amp; con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+) Концептуальная простот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+) Не требуются ни обширные базы данных, ни формальная подготовк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-) Возможность поспешных и бессмысленных выводов, неопределенных и двусмысленных понятий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-) Опасность использования устаревшей или ненадежной информа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16:45:01Z</dcterms:created>
  <dc:creator>Александр Наумов</dc:creator>
  <dc:description/>
  <dc:language>en-US</dc:language>
  <cp:lastModifiedBy>Коля</cp:lastModifiedBy>
  <dcterms:modified xsi:type="dcterms:W3CDTF">2013-04-12T17:06:48Z</dcterms:modified>
  <cp:revision>5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mplateUrl">
    <vt:lpwstr/>
  </property>
  <property fmtid="{D5CDD505-2E9C-101B-9397-08002B2CF9AE}" pid="3" name="_SourceUrl">
    <vt:lpwstr/>
  </property>
  <property fmtid="{D5CDD505-2E9C-101B-9397-08002B2CF9AE}" pid="4" name="display_urn:schemas-microsoft-com:office:office#Author">
    <vt:lpwstr>MRC_Buy</vt:lpwstr>
  </property>
  <property fmtid="{D5CDD505-2E9C-101B-9397-08002B2CF9AE}" pid="5" name="display_urn:schemas-microsoft-com:office:office#Editor">
    <vt:lpwstr>MRC_Buy</vt:lpwstr>
  </property>
  <property fmtid="{D5CDD505-2E9C-101B-9397-08002B2CF9AE}" pid="6" name="xd_ProgID">
    <vt:lpwstr/>
  </property>
  <property fmtid="{D5CDD505-2E9C-101B-9397-08002B2CF9AE}" pid="7" name="xd_Signature">
    <vt:lpwstr/>
  </property>
</Properties>
</file>