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B49F-BDC5-4A88-990C-0E5013D370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9314-F4C0-4829-9153-57E55B2E4F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F160-BAA3-4895-9B4A-D5464716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209-AF2B-4790-AE8C-F5FCCABD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330-5254-4973-A4E7-9BF72FEB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8FA1-5217-44AF-B9B9-376DB675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CB4D-FC3F-49D3-A139-F9949387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969F-7B9B-43C1-B4B0-AE625B48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BC7C-6C6B-4582-B2DA-2DD240D0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F2AF-861F-4202-AE03-9AD2341B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C0FA-476E-4F05-9DDE-6548E08E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56E4-5BE6-4BF2-8886-53C31C56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2269-ECC8-4896-AF44-31439B52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054-0476-4742-B8EB-42AF34C5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6F9A-ED00-44EA-9DA8-52ED6D88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9C35-CE50-4E99-8C34-2BFB784E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2FFF-D49B-4A0C-9F4B-DC74E46D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3FFC-D4F3-49AB-800B-A727F1C8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2323-BFB0-4940-90EF-B56ED109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3554-BD4E-47B0-87B8-F99EB8F7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64A-B8C7-4FAC-A073-59291E15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562-5701-4793-B5A2-4B49C3FD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E85-7CA8-4DED-9014-2AAA017C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9480-CFBE-4115-9E44-A06164DD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97F-1896-4413-BB6C-21AA7CB5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228-0E31-4415-8781-53FEE7F4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92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9494-FFA3-46E3-955E-7472B39C37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263D-5155-457A-9796-6F1A40D02A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Номер слайда 5"/>
          <p:cNvSpPr/>
          <p:nvPr/>
        </p:nvSpPr>
        <p:spPr>
          <a:xfrm>
            <a:off x="6553080" y="6181560"/>
            <a:ext cx="1905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8AD7-CDF1-4F8F-A93D-09F65FC5DE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652400" y="4383000"/>
            <a:ext cx="7491240" cy="20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461520" y="1606320"/>
            <a:ext cx="8218440" cy="35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Использование </a:t>
            </a:r>
            <a:r>
              <a:rPr b="1" lang="en-US" sz="4000" spc="-1" strike="noStrike">
                <a:solidFill>
                  <a:srgbClr val="cc6600"/>
                </a:solidFill>
                <a:latin typeface="Arial"/>
              </a:rPr>
              <a:t>SWOT-</a:t>
            </a: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методики для анализа потенциала дистанционных технологий профильного обучения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EDCC-5593-4120-BDC3-E0AB81532C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7520" y="980640"/>
            <a:ext cx="850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Times New Roman"/>
              </a:rPr>
              <a:t>Основные правила </a:t>
            </a: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SWOT</a:t>
            </a:r>
            <a:r>
              <a:rPr b="0" i="1" lang="ru-RU" sz="4000" spc="-1" strike="noStrike">
                <a:solidFill>
                  <a:srgbClr val="cc6600"/>
                </a:solidFill>
                <a:latin typeface="Times New Roman"/>
              </a:rPr>
              <a:t>-анализа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70040" y="1844280"/>
            <a:ext cx="7602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ило 1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щательно определите сферу каждого SWOT-анализ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ило 2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ймите различия между элементами SWOT. Сильные и слабые стороны — это внутренние черты ОУ, следовательно, ей подконтрольные. Возможности и угрозы связаны с характеристиками внешней среды и неподвластны влиянию организ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ило 3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ильные и слабые стороны могут считаться таковыми лишь в том случае, если так их воспринимают конкуренты и партнеры. Нужно включать в анализ только наиболее относящиеся к делу преимущества и слабост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ило 4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Будьте объективны и используйте разностороннюю входную информацию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ило 5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збегайте пространных и двусмысленных заявлен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35F4-978C-4741-B973-65775E3CDD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26920" y="1267920"/>
            <a:ext cx="74901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ворят, если знаешь других и знаешь себя, тебе не грозит поражение и в сотнях битв; если не знаешь других и знаешь себя, то будешь одну битву выигрывать, а другую – проигрывать; если же не знаешь ни других, ни себя, проиграешь все битвы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н Цу. Искусство стратегии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к до н.э. 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01AA-72FE-429B-BBAC-2644EFB96E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тратегии является расчетливым проектированием,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интуитивной дальновидностью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запным осознанием; оно настолько же связано с изменениями, как и со стабильностью; оно должно включать в себя: вначале – анализ, в конце – создание программы, а в процессе – обсужд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ф. Г. Минцберг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ry Mintzber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Gill University, Can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FC93-E319-488F-9D8B-53907763CB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Методология 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WOT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-анализ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ыявление внутренних сильных и слабых сторон организации;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ыявление внешних возможностей и угроз;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установление связей между ним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BA26-6C89-43C7-9DB2-F2538FBB5C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Times New Roman"/>
              </a:rPr>
              <a:t>Основы </a:t>
            </a: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SWOT</a:t>
            </a:r>
            <a:r>
              <a:rPr b="0" i="1" lang="ru-RU" sz="4000" spc="-1" strike="noStrike">
                <a:solidFill>
                  <a:srgbClr val="cc6600"/>
                </a:solidFill>
                <a:latin typeface="Times New Roman"/>
              </a:rPr>
              <a:t>-анализа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68360" y="1628640"/>
          <a:ext cx="8218440" cy="504036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234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ength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льные сторо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W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knesses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абые сторо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O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portun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лагоприятные возмож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re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грозы, вызов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Rectangle 72"/>
          <p:cNvSpPr/>
          <p:nvPr/>
        </p:nvSpPr>
        <p:spPr>
          <a:xfrm>
            <a:off x="684360" y="2997360"/>
            <a:ext cx="7775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енциальн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лементы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ямую относящиеся к организа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73"/>
          <p:cNvSpPr/>
          <p:nvPr/>
        </p:nvSpPr>
        <p:spPr>
          <a:xfrm>
            <a:off x="684360" y="5734080"/>
            <a:ext cx="7775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ш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лементы, относящиеся к различным сферам среды (законодательство, политика, экономика, технология, общество и т.д.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C334-A5EC-43A0-AA9A-AA5FD7F841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Вопросы для обсуждения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29840" y="1916280"/>
            <a:ext cx="87138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истанционная форма обучения – это дешевое и некачественное образование или это форма получения качественного образования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е факторы влияют на качество дистанционного образования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образование является фактором устойчивого развития России, какое место в системе непрерывного образования может и должно занять дистанционное образование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6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4655-F655-4618-BF0A-243BFADEC0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67840" y="958320"/>
            <a:ext cx="8480520" cy="3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Times New Roman"/>
              </a:rPr>
              <a:t>Составление матрицы стратегий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68360" y="1700280"/>
          <a:ext cx="8362800" cy="4800600"/>
        </p:xfrm>
        <a:graphic>
          <a:graphicData uri="http://schemas.openxmlformats.org/drawingml/2006/table">
            <a:tbl>
              <a:tblPr/>
              <a:tblGrid>
                <a:gridCol w="4181400"/>
                <a:gridCol w="4181400"/>
              </a:tblGrid>
              <a:tr h="23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1800"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льные сторо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W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абые сторо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1440"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змож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60360" indent="144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60360" indent="144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60360" indent="144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гроз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EFD0-9ECC-4126-A06D-5DC8B0AE9D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58920" y="942480"/>
            <a:ext cx="734688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Анализ матрицы стратегий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3" name="Object 26"/>
          <p:cNvGraphicFramePr/>
          <p:nvPr/>
        </p:nvGraphicFramePr>
        <p:xfrm>
          <a:off x="684360" y="1628640"/>
          <a:ext cx="7197480" cy="50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197480" cy="50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50A3-C6C1-4C7B-8A99-58A16A6F15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Матрицы стратегий 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WO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мероприятия, которые необходимо провести, чтобы использовать сильные стороны для увеличения возможностей О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O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мероприятия, которые необходимо провести, преодолевая слабые стороны и используя представленные возмож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мероприятия, которые используют сильные стороны ОУ для избежания угроз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мероприятия, которые минимизируют слабые стороны для избежания угроз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C9EE-F989-44BF-A7D7-5BB49E8B0D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WOT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: 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ros &amp; c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+) Концептуальная простот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+) Не требуются ни обширные базы данных, ни формальная подготовк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-) Возможность поспешных и бессмысленных выводов, неопределенных и двусмысленных поняти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-) Опасность использования устаревшей или ненадежной информ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16:45:01Z</dcterms:created>
  <dc:creator>Александр Наумов</dc:creator>
  <dc:description/>
  <dc:language>en-US</dc:language>
  <cp:lastModifiedBy>Коля</cp:lastModifiedBy>
  <dcterms:modified xsi:type="dcterms:W3CDTF">2013-04-12T17:06:48Z</dcterms:modified>
  <cp:revision>5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Url">
    <vt:lpwstr/>
  </property>
  <property fmtid="{D5CDD505-2E9C-101B-9397-08002B2CF9AE}" pid="3" name="_SourceUrl">
    <vt:lpwstr/>
  </property>
  <property fmtid="{D5CDD505-2E9C-101B-9397-08002B2CF9AE}" pid="4" name="display_urn:schemas-microsoft-com:office:office#Author">
    <vt:lpwstr>MRC_Buy</vt:lpwstr>
  </property>
  <property fmtid="{D5CDD505-2E9C-101B-9397-08002B2CF9AE}" pid="5" name="display_urn:schemas-microsoft-com:office:office#Editor">
    <vt:lpwstr>MRC_Buy</vt:lpwstr>
  </property>
  <property fmtid="{D5CDD505-2E9C-101B-9397-08002B2CF9AE}" pid="6" name="xd_ProgID">
    <vt:lpwstr/>
  </property>
  <property fmtid="{D5CDD505-2E9C-101B-9397-08002B2CF9AE}" pid="7" name="xd_Signature">
    <vt:lpwstr/>
  </property>
</Properties>
</file>