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4A25-725A-4367-A825-5A51E39C8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F9D8-3F35-45D8-B27E-4F756B5BB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BAA-A3A8-4D28-8F31-368FD080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F3F-6484-46E1-A971-25E0561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DEA-A505-494C-8665-119C1E67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6DB-86E6-444F-9C3F-E3C638C1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CE79-CD17-48BF-8E47-AF33553C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8A2E-44E0-4685-810C-7C64F1D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A4F4-43E7-4ACD-B103-56299632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0A2-381D-4561-9BDF-CD567A94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DD02-8659-4A02-9541-3C5E031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F75E-1F62-4345-BBEF-A8C305D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F6C2-68C6-4B8F-BE40-730B9C2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2F9-415B-40AF-8C17-BE71C1C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8574-7A92-4693-84DB-572F624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4B96-BF68-4025-BA24-7D88463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ADEC-7696-4E5F-90BF-67C16037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7977-A01E-44B3-AAF8-0AF6F223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240E-4C4A-49F9-8B25-28BA11E6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E68-8F04-49EE-9C4D-C13E5D64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B31-1F7F-4990-A2C2-E983B48C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60F-7681-48E3-8282-7DAC9DE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E6D-AD98-483F-880A-694EAB3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A42-87DB-4D0E-B4E1-C0DC133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62E-352B-485D-BA6C-E48C7BE3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843-B447-4E8A-B46C-8C8F5CB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9C3C-0DEE-4FD2-B006-049C3B8CE3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2DC-0749-440E-AF42-B86AA4AA29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6553080" y="6181560"/>
            <a:ext cx="1905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A0F-0AEA-4FD4-8835-27BEA1D4B8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0" y="4383000"/>
            <a:ext cx="749124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61520" y="1606320"/>
            <a:ext cx="8218440" cy="35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Использование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SWOT-</a:t>
            </a: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методики для анализа потенциала дистанционных технологий профильного обуче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A7E-8469-45CC-AFCB-5BBC771220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7520" y="980640"/>
            <a:ext cx="850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Основные правила 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0040" y="1844280"/>
            <a:ext cx="7602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щательно определите сферу каждого SWOT-анализ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ймите различия между элементами SWOT. Сильные и слабые стороны — это внутренние черты ОУ, следовательно, ей подконтрольные. Возможности и угрозы связаны с характеристиками внешней среды и неподвластны влиянию орган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3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ильные и слабые стороны могут считаться таковыми лишь в том случае, если так их воспринимают конкуренты и партнеры. Нужно включать в анализ только наиболее относящиеся к делу преимущества и слаб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4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Будьте объективны и используйте разностороннюю входную информац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5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збегайте пространных и двусмысленных заявл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8E09-717B-44D9-AE88-A55A3448A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74901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ворят, если знаешь других и знаешь себя, тебе не грозит поражение и в сотнях битв; если не знаешь других и знаешь себя, то будешь одну битву выигрывать, а другую – проигрывать; если же не знаешь ни других, ни себя, проиграешь все битвы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н Цу. Искусство стратеги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к до н.э. 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B957-A6A8-4304-A8CA-A22BBD83D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тратегии является расчетливым проектированием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интуитивной дальновидностью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запным осознанием; оно настолько же связано с изменениями, как и со стабильностью; оно должно включать в себя: вначале – анализ, в конце – создание программы, а в процессе – обсужд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. Г. Минцберг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ry Mintzber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ill University, Ca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176-983D-46C4-8232-633A167291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Методология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явление внутренних сильных и слабых сторон организации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явление внешних возможностей и угроз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становление связей между ни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AC66-BB43-456F-A8B3-2C2894C8A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Основы 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-анализа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28640"/>
          <a:ext cx="8218440" cy="50403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23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ng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W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knesse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агоприятные возмо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re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розы, выз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72"/>
          <p:cNvSpPr/>
          <p:nvPr/>
        </p:nvSpPr>
        <p:spPr>
          <a:xfrm>
            <a:off x="684360" y="2997360"/>
            <a:ext cx="777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нциаль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мую относящиеся к орган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3"/>
          <p:cNvSpPr/>
          <p:nvPr/>
        </p:nvSpPr>
        <p:spPr>
          <a:xfrm>
            <a:off x="684360" y="5734080"/>
            <a:ext cx="777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ы, относящиеся к различным сферам среды (законодательство, политика, экономика, технология, общество и т.д.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DA44-476E-4E85-BDC7-973E3F003C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Вопросы для обсуждения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29840" y="1916280"/>
            <a:ext cx="8713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станционная форма обучения – это дешевое и некачественное образование или это форма получения качественного образовани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факторы влияют на качество дистанционного образовани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образование является фактором устойчивого развития России, какое место в системе непрерывного образования может и должно занять дистанционное образование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6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780-63A1-4C5C-B539-8D83FC6185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67840" y="958320"/>
            <a:ext cx="848052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Составление матрицы стратегий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68360" y="1700280"/>
          <a:ext cx="8362800" cy="480060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180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W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144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змож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60360" indent="144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5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ро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D97E-515F-40F4-9EEF-8F44B305F8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8920" y="942480"/>
            <a:ext cx="73468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Анализ матрицы стратегий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3" name="Object 26"/>
          <p:cNvGraphicFramePr/>
          <p:nvPr/>
        </p:nvGraphicFramePr>
        <p:xfrm>
          <a:off x="684360" y="1628640"/>
          <a:ext cx="719748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1974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1A52-EC87-4749-A7C7-C464BABEF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Матрицы стратегий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необходимо провести, чтобы использовать сильные стороны для увеличения возможностей О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O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необходимо провести, преодолевая слабые стороны и используя представленные возмож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используют сильные стороны ОУ для избежания угроз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W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ероприятия, которые минимизируют слабые стороны для избежания угро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5"/>
          <p:cNvSpPr/>
          <p:nvPr/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6E2D-7115-4245-BB6F-FCE470FA00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WOT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s &amp; c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+) Концептуальная просто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+) Не требуются ни обширные базы данных, ни формальная подготов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-) Возможность поспешных и бессмысленных выводов, неопределенных и двусмысленных понят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-) Опасность использования устаревшей или ненадежной информ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6:45:01Z</dcterms:created>
  <dc:creator>Александр Наумов</dc:creator>
  <dc:description/>
  <dc:language>en-US</dc:language>
  <cp:lastModifiedBy>Коля</cp:lastModifiedBy>
  <dcterms:modified xsi:type="dcterms:W3CDTF">2013-04-12T17:06:48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MRC_Buy</vt:lpwstr>
  </property>
  <property fmtid="{D5CDD505-2E9C-101B-9397-08002B2CF9AE}" pid="5" name="display_urn:schemas-microsoft-com:office:office#Editor">
    <vt:lpwstr>MRC_Bu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