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97D4-8658-4329-9D42-7AA8E2FFA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7048-80AD-4A17-9BC4-2BDADE5D6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9E7C-499F-410F-AA43-1B5F2F065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966D-5275-42E9-8FD0-38F9A815E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7551-A90D-49D2-8310-53C21977F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66AD-8D8D-4FB7-99AA-58D55328F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B98B-C598-4593-B126-B8BD3851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8498-3DFE-4E3A-B2F1-A1DB617AB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838A-E29E-487E-9295-5C99F30CF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F054-1A0E-4629-A025-BF44F1DA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D06E-AF44-4D31-8190-69D9B9C8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A2CB-AF9C-4417-9DAF-6297C503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689F9-D25A-4641-B00C-210ABB6499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ематическая группа «Новое качество и новое содержание образования»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Ведущий группы: В. К. Бацы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99680" y="1285920"/>
            <a:ext cx="81867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временный ученик не похож на своих сверстников недавнего прошлого. Но научная аналитика на этот счет педагогам неизвест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менять старые способы образования и социализации к современным ученикам неэффектив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уществующее содержание образования отражает реалии прошлых лет, а не актуального состояния мира и дет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7120" y="274680"/>
            <a:ext cx="832968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овое понимание зн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57120" y="1071720"/>
            <a:ext cx="832968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ируется новое понимание «знания». Это не «запомненная информация», а то, что проверено на собственном опыте и осмыслено человеком. В этом смысле знание уникально и в принципе не передаваемо (передавать можно только информацию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овый принцип отбора содержания образования и социализа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лжен быть изменен концептуальный принцип понимания «содержания образования». СО - это общение учеников и учителей по актуальным вопросам личностного и социокультурного развития ученика – его «человеческого капитала» (самопознание, самореализация, способы освоения - познания и взаимодействия - мира и т.д.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9680" y="274680"/>
            <a:ext cx="818676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овое качество образов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99680" y="1142640"/>
            <a:ext cx="81867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чество образования измеряется тем, насколько индивидуализированное знание помогает человеку реализовать самого себя под свои цели с учетом своих способностей и возможностей и понимает, какое образование ему нужно. Можно оценить созданные для этого условия и зафиксировать проявления компетентностей в различных ситуациях социокультурного бытия. А степень их развитости пусть ее оценивает сам человек и общество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0T10:42:26Z</dcterms:created>
  <dc:creator>Пользователь</dc:creator>
  <dc:description/>
  <dc:language>en-US</dc:language>
  <cp:lastModifiedBy>Коля</cp:lastModifiedBy>
  <dcterms:modified xsi:type="dcterms:W3CDTF">2013-04-09T14:15:58Z</dcterms:modified>
  <cp:revision>3</cp:revision>
  <dc:subject/>
  <dc:title>Тематическая группа «Новое качество и новое содержание образования»</dc:title>
</cp:coreProperties>
</file>