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6EB-47AB-4E07-A557-63ED2444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FDB-6858-4F19-AFB0-4B50E8E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439-54FE-49CC-99F3-71C5C28A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456-9E1A-48A6-889A-C760C13A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606-8D74-49E8-9B49-BFE5B32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BC9-8B40-4441-A565-4FDF5CCA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DD3-733E-452E-AEE9-4724F49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1C2-1E36-4672-9653-0D1F5BC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9DF-AF3A-4A16-BE40-CC29046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533-FEB9-490B-9F5D-5A9A740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9DE-05B1-40E4-95FF-A809CF4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0D5-05E0-4133-8D7F-D28979D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7C5-BCCF-4300-A022-A6F00B128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тическая группа «Новое качество и новое содержание образования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едущий группы: В. К. Бац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1285920"/>
            <a:ext cx="8186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ый ученик не похож на своих сверстников недавнего прошлого. Но научная аналитика на этот счет педагогам неизвес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старые способы образования и социализации к современным ученикам неэффекти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ющее содержание образования отражает реалии прошлых лет, а не актуального состояния мира 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понимание 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1071720"/>
            <a:ext cx="83296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новое понимание «знания». Это не «запомненная информация», а то, что проверено на собственном опыте и осмыслено человеком. В этом смысле знание уникально и в принципе не передаваемо (передавать можно только информацию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ый принцип отбора содержания образования и соци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быть изменен концептуальный принцип понимания «содержания образования». СО - это общение учеников и учителей по актуальным вопросам личностного и социокультурного развития ученика – его «человеческого капитала» (самопознание, самореализация, способы освоения - познания и взаимодействия - мира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ое качеств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114264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чество образования измеряется тем, насколько индивидуализированное знание помогает человеку реализовать самого себя под свои цели с учетом своих способностей и возможностей и понимает, какое образование ему нужно. Можно оценить созданные для этого условия и зафиксировать проявления компетентностей в различных ситуациях социокультурного бытия. А степень их развитости пусть ее оценивает сам человек и обще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0:42:26Z</dcterms:created>
  <dc:creator>Пользователь</dc:creator>
  <dc:description/>
  <dc:language>en-US</dc:language>
  <cp:lastModifiedBy>Коля</cp:lastModifiedBy>
  <dcterms:modified xsi:type="dcterms:W3CDTF">2013-04-09T14:15:58Z</dcterms:modified>
  <cp:revision>3</cp:revision>
  <dc:subject/>
  <dc:title>Тематическая группа «Новое качество и новое содержание образования»</dc:title>
</cp:coreProperties>
</file>