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3A2F-4856-4A0E-9DB7-FD51580FF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8D83-AC38-424A-8512-B1ED16AC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3A62-7E82-4FF8-91B7-849FFF22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D8E1-C193-4B82-8594-7A1FE0AC9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FCD4-7D19-4B7E-973F-574E28C9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B2F7-5D65-4345-A24E-6D08EFC4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8A7E-44CD-4E61-B651-A2B22662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B76D-9EF9-4A09-BACC-6D047CF0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BEDA-A977-463C-ABD9-2C3EA3BF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26F0-C07D-4EFC-BDC9-63D62725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AB47-D36D-44CA-842F-9D7E01FF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8A36-B7A5-4255-B90E-C4B2B6F7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DD0E-F073-411C-91C2-E31C41E4AE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матическая группа «Новое качество и новое содержание образования»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Ведущий группы: В. К. Бацы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99680" y="1285920"/>
            <a:ext cx="8186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временный ученик не похож на своих сверстников недавнего прошлого. Но научная аналитика на этот счет педагогам неизвест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нять старые способы образования и социализации к современным ученикам неэффектив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ществующее содержание образования отражает реалии прошлых лет, а не актуального состояния мира и де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32968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овое понимание зн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57120" y="1071720"/>
            <a:ext cx="832968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уется новое понимание «знания». Это не «запомненная информация», а то, что проверено на собственном опыте и осмыслено человеком. В этом смысле знание уникально и в принципе не передаваемо (передавать можно только информацию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овый принцип отбора содержания образования и социализ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лжен быть изменен концептуальный принцип понимания «содержания образования». СО - это общение учеников и учителей по актуальным вопросам личностного и социокультурного развития ученика – его «человеческого капитала» (самопознание, самореализация, способы освоения - познания и взаимодействия - мира и т.д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9680" y="274680"/>
            <a:ext cx="818676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овое качество образ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99680" y="1142640"/>
            <a:ext cx="81867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чество образования измеряется тем, насколько индивидуализированное знание помогает человеку реализовать самого себя под свои цели с учетом своих способностей и возможностей и понимает, какое образование ему нужно. Можно оценить созданные для этого условия и зафиксировать проявления компетентностей в различных ситуациях социокультурного бытия. А степень их развитости пусть ее оценивает сам человек и обществ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0T10:42:26Z</dcterms:created>
  <dc:creator>Пользователь</dc:creator>
  <dc:description/>
  <dc:language>en-US</dc:language>
  <cp:lastModifiedBy>Коля</cp:lastModifiedBy>
  <dcterms:modified xsi:type="dcterms:W3CDTF">2013-04-09T14:15:58Z</dcterms:modified>
  <cp:revision>3</cp:revision>
  <dc:subject/>
  <dc:title>Тематическая группа «Новое качество и новое содержание образования»</dc:title>
</cp:coreProperties>
</file>