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6.jpeg" ContentType="image/jpeg"/>
  <Override PartName="/ppt/media/suction.wav" ContentType="audio/x-wav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846D-1089-43B9-A2F6-7CDA94A4F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5194-E242-4EBA-9EAD-E4A05F0A9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1BAC51-30CD-4847-8322-262E32392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3370D6-02BB-4DF8-9D9D-D33FF2ED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01C2A6-220E-463C-AEB2-0C2D8D7DC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7619F8-BDC8-4CF8-B765-78FE43AF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66CF7C-4121-4832-BF1A-4EB394BF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E88165-EC68-4BF1-85C0-2A1CA627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2AD340-9C43-43D1-8836-454951437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BDE6DA-FB72-4229-9B5F-FAEFE104C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7595E8-071D-4E93-B3BC-B883F920A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7DEDBD-2584-438B-B34B-4649AB57E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AA12-DA22-4CF6-8BF2-1530B135E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A58EE5-ADF7-4598-8DD2-B10F85CA8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8772E4-F138-4A3C-A621-89D62DAA5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0FB7B8-58D2-4628-89C8-E5825D3A3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8A36AD-5952-4C5D-9249-83FCA800B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364702-F1E4-4D71-82B1-2C21E5435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7FB687-42A1-4391-9E8F-129DC5A6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11A085-F493-4926-8801-5255D78C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862D9B-DEC5-40CB-9F18-1CBC39EA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F52A19-4A92-4E7D-A1A2-DD46B3DB5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AF2A39-2142-4390-B852-B2A8574BE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BD2D-E91D-45F0-8E39-3BBB3A1C2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AD0E7C-6F90-41D5-B55D-B7AE20BEF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248F6B-DD94-48AC-A738-2FEC00024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2846E4-CBD6-43F3-8F2A-472C7E522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33EF0E-3E68-47B9-A565-F26189FFF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B300CA-9E53-4A96-A9AE-60398F004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C90903-ECF6-4341-9967-18536B1D2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297D78-495C-423D-B0A2-02FBD7918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6CA588-2126-4AFD-9B17-786D9CF9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494819-87D0-4D13-A7E2-5DBCEA58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0FA620-9FF7-46EA-9566-3598AA3E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57937-0984-4DC9-9883-542C1BABE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605340-A680-450D-979C-C218BD26F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CC15B1-910E-4DEC-8DBC-3411523F4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29125C-E93A-4603-8AFA-221757B9A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793FD9-DB75-4634-952E-B104DED86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184BD0-D588-4461-B785-A50F553E7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619668-D7CB-472C-A20D-5098C5C0D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E6639E-73B8-4563-93AC-D48130291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D6915D-13DC-4BB4-A5EB-3495645E1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02669C-4B66-48F0-B3B4-B55CA144B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A96DA5-6B03-4625-AE91-D882476C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15168-6839-42A5-B84D-BC3E12B3F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09BE35-D03D-4B76-8634-05CC7B09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D4533C-1AEE-4083-A4CA-EF9FF814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BBDA1F-5313-4B86-8610-85135887D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442DF4-FFFE-4663-AE7B-5FBA6378A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F2C8B7-22B4-4328-A6BF-DB50DA804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EAC19-9CCF-4B38-A94C-1FFC4646B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48A6E-2008-4F0E-B031-C042B68C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FD665-F509-41C7-99F9-6D83017CC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206EA-5F46-4AAF-BBB0-004CFC38F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4FFD2-89EF-4432-B602-2109A29A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2278-53A1-4248-B4A3-97B501A8D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A6547-04CB-41E2-8C80-B4057D0C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0EF43-9B8A-4B25-8CF0-F9F1AD41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AAA9E-7440-4365-96D9-DB570A0C6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AB2FB-D8C4-4A32-914E-05A7ABF2A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17BE1-C278-4C37-A908-820E6411D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06097-9D17-4558-8D03-F9F150B33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CFF55-004A-4F75-BCBB-DECCCC7B2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58DBB-0032-4C0C-A9F6-E76FAF1F6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9F201-E62A-4EFE-ACDF-FCB298AB2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FC3BA-0A88-464A-858B-C0544C6E0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D93B-7275-47E7-A9AD-B0558B15D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4E65F-E58C-4F4E-A0F9-CC4360612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8A95D-C832-4104-9A7D-64A828C9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E0DE9-91A6-41D9-ABBD-C40ABC1A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4B4B7-F79A-4F68-9E2D-AFD8DDA5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01F69-ECAA-40E2-AFB2-E9FAE1673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C8CC4-B716-45E3-9D6A-F8D3A6AFA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DB2BF-7C36-4D09-B43B-09540826C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B8367-7F27-4AD6-9E6F-4FFCCC176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DD351-78C0-423F-A96F-92734D3B6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B3A86-1D44-4294-AFDB-34064D2B6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963C-85D6-4332-A89B-2DA076048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23CB6-77E8-46CE-9DC8-67061D344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B42E5-C5E9-4E34-BB3C-6848D84B8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38EA8-DDEA-4FAB-8AAD-659822311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B32AD-C20A-4B01-BAC2-09B2517D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3D87C-CD0C-455F-A7E8-B6A09D2A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05E53-A368-46D4-9A13-99E7A1D0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93AEA-34D3-4A4B-AAFB-0792562EA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5CBE0-10E8-43AA-83EE-FAB31E8B1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8D068-EDCA-44DC-A2EA-2BF31C1BC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C06DF-8DE2-49ED-8A9E-C018475EA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A980-AC26-4887-BE21-E61A9F6A7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9C70A-195B-4870-B31F-409D142BB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6E5CB-1B08-4F2D-8892-87D640A6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7D4DD-3BF4-40D6-A5B8-04E6FDA7B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AF0BF-3F90-4CA2-8D41-DB5F63A40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A1238-F6B0-43C3-B309-A7258BDD3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05418B-8F17-4BBA-A10B-96624733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62869-A8AF-48BF-8741-1C6C2739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AA2F1-209B-4C7C-A75C-CBAA6055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767BB-618D-44FA-A763-E19589B35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3E8FC-04C3-4350-A8C5-885E8F90F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FA4F-812F-488B-9DA4-8816AE6F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1E7A6-15CE-4AA7-9497-DEB5F7B3C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80184-7D70-4C69-AE12-F58813109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50432F-1C29-439E-B761-262644FB4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F05B1F-2E02-42E3-AC92-36095C1FD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29CC9-9594-414A-8B0E-5ED4D25DD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B7447-0D02-47D1-9ED0-AF4F01858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B43E3-A5BE-427F-B9ED-F5BF751E9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77F93-E155-4B76-8330-08490C39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641F0-515A-43FE-9144-30232A43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5E0C7-9AB9-426E-96E9-D35A3809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E4D4-946C-4D13-8543-0684E33A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C3683-6B30-4E7A-BEC3-4E1157CEC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C6413-2481-418C-9A96-B3C681252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CD79C-3A42-4FA8-A76E-2680EE7BC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FE56D-ACB8-42FB-B2DE-FD6CE4216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C3873-B1F8-4156-A63A-10C32F0E0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8A04E-C9B7-4FCC-BDC6-3B168B099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763061-3C8D-40C5-BCBB-2EBFD8FE2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88653-CDAA-481B-8247-F52D5E91D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CA48C6-6E94-4D29-BEC7-D95457675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140FB8-2A40-4889-A60A-E2A5564A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011E-99CC-4D08-84E5-05A753D9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5DCE0A-0986-469F-B792-D4AE2AA4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2927A-BCB0-4A87-B23E-CBE5F358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D0D46-982D-4D2E-AC14-47B4F0DE6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C51BDB-6DBB-46FE-9F2A-0274AFA50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A7A01-25EF-4888-B4DA-897D2C3FF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4E1BAE-9F50-4220-BA45-1766D750C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B9273E-5DBD-4EAD-B089-F2246D153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80B458-FAD3-442D-9EA3-7FA1821CA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8D7D84-10E8-41F8-82B1-7A22084DE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D81919-4E65-40BD-B344-320976775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F5A4-D1E5-4535-B969-66C3453B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0CF7B5-B297-444A-9B3B-A224FBFD5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C29AA7-92EF-4283-A89A-01123879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A92DF-DED8-4385-A15D-05A2B4B6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DBA601-6AFC-4057-9B46-0AA94B00A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16C95F-8BDB-489D-BC87-FA3DAF2CE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CF9738-7A2D-42BD-8FF4-D7078DFE7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4EBB8D-84A2-41B4-B11B-71BA48F25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D0F765-B6C0-45E0-8E3C-60BC8AC20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D2AC9D-3B4F-4589-B1DE-FB747CF67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F47A39-94D5-451A-9CFC-12E0D5ACC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E2145-DC91-471A-BD3E-DDDAB78D16A1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8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9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30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A9AE9-B6DF-483E-AC16-5C03DE117C5A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3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3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Num" idx="3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98FFD-4970-4D4D-9EF8-4243DD0156FF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3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3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81D9E-CB00-4424-B027-17EE7435BE2E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10F20-5B2C-4F37-9AAF-9008D8E1323A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5070B-042F-4451-9E93-4A3F79296814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FC3DA-047D-4DAB-A05D-A4BA77084448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CD062-58BC-4F84-BCE0-CB7B9211CA2C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63B2D-F5BE-41AD-83A1-B05EC92951D7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B6216-8C91-431F-81A2-1CCD1B1A61A2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46589-FF94-4D10-AFA0-02FB089A3583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6361E-C35A-453A-AA8E-59722D88B608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audio" Target="../media/suction.wav"/><Relationship Id="rId7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8.jpeg"/><Relationship Id="rId4" Type="http://schemas.openxmlformats.org/officeDocument/2006/relationships/audio" Target="../media/suction.wav"/><Relationship Id="rId5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Заголовок 1" descr=""/>
          <p:cNvPicPr/>
          <p:nvPr/>
        </p:nvPicPr>
        <p:blipFill>
          <a:blip r:embed="rId1"/>
          <a:stretch/>
        </p:blipFill>
        <p:spPr>
          <a:xfrm>
            <a:off x="493560" y="706320"/>
            <a:ext cx="7053480" cy="2438640"/>
          </a:xfrm>
          <a:prstGeom prst="rect">
            <a:avLst/>
          </a:prstGeom>
          <a:ln w="0">
            <a:noFill/>
          </a:ln>
        </p:spPr>
      </p:pic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611280" y="263700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ингвист, лексикограф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октор филологических наук, профессор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23 сентября 1900 года – 15 декабря 1964 год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4" name="Picture 3" descr="F:\Ожегов\2af3bb040f3f.jpg"/>
          <p:cNvPicPr/>
          <p:nvPr/>
        </p:nvPicPr>
        <p:blipFill>
          <a:blip r:embed="rId2"/>
          <a:stretch/>
        </p:blipFill>
        <p:spPr>
          <a:xfrm>
            <a:off x="3125880" y="2378160"/>
            <a:ext cx="316548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950"/>
                            </p:stCondLst>
                            <p:childTnLst>
                              <p:par>
                                <p:cTn id="12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395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495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7950"/>
                            </p:stCondLst>
                            <p:childTnLst>
                              <p:par>
                                <p:cTn id="30" nodeType="afterEffect" fill="hold" presetClass="exit" presetID="42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10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1950"/>
                            </p:stCondLst>
                            <p:childTnLst>
                              <p:par>
                                <p:cTn id="36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1000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2950"/>
                            </p:stCondLst>
                            <p:childTnLst>
                              <p:par>
                                <p:cTn id="42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100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3950"/>
                            </p:stCondLst>
                            <p:childTnLst>
                              <p:par>
                                <p:cTn id="48" nodeType="afterEffect" fill="hold" presetClass="entr" presetID="6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456840" y="312480"/>
            <a:ext cx="8218440" cy="62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месте с другими учеными С.И.Ожегов организует языковедческое научное общество, изучает язык военного времени. Многим это не нравилось. В письме к Г.О. Винокуру он сообщал: "Зная отношение ко мне некоторых ташкентцев, я и к Вашему молчанию склонен относиться подозрительно! Меня ведь винят и в болезни Д.Н.  (т.е. Ушакова), и за отказ ехать из Москвы, и за создание в Москве "общества" лингвистического, как там кажется называют, и еще за многое…"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8" name="Picture 2" descr="F:\Ожегов\22-5.jpg"/>
          <p:cNvPicPr/>
          <p:nvPr/>
        </p:nvPicPr>
        <p:blipFill>
          <a:blip r:embed="rId1"/>
          <a:stretch/>
        </p:blipFill>
        <p:spPr>
          <a:xfrm>
            <a:off x="4665600" y="4057560"/>
            <a:ext cx="3313080" cy="249084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2" name="suction.wav"/>
      </p:stSnd>
    </p:sndAc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5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Словарь русского язык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57200" y="1600200"/>
            <a:ext cx="82915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-е издание этого ставшего ныне классическим "тезауруса" вышло в 1949 году и сразу же обратило на себя внимание. С.И. Ожегов получал сотни писем с просьбами прислать словарь, объяснить то или иное слово. Ученый никому не отказывал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suction.wav"/>
      </p:stSnd>
    </p:sndAc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552" name="Picture 2" descr="F:\Ожегов\342445.jpg"/>
          <p:cNvPicPr/>
          <p:nvPr/>
        </p:nvPicPr>
        <p:blipFill>
          <a:blip r:embed="rId1"/>
          <a:stretch/>
        </p:blipFill>
        <p:spPr>
          <a:xfrm rot="20707800">
            <a:off x="468360" y="351000"/>
            <a:ext cx="2233440" cy="310968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3" descr="F:\Ожегов\2468020.jpg"/>
          <p:cNvPicPr/>
          <p:nvPr/>
        </p:nvPicPr>
        <p:blipFill>
          <a:blip r:embed="rId2"/>
          <a:stretch/>
        </p:blipFill>
        <p:spPr>
          <a:xfrm rot="1205400">
            <a:off x="6595560" y="593640"/>
            <a:ext cx="1946520" cy="238140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4" descr="F:\Ожегов\ast1015604big.jpg"/>
          <p:cNvPicPr/>
          <p:nvPr/>
        </p:nvPicPr>
        <p:blipFill>
          <a:blip r:embed="rId3"/>
          <a:stretch/>
        </p:blipFill>
        <p:spPr>
          <a:xfrm rot="1195200">
            <a:off x="5848200" y="3235320"/>
            <a:ext cx="2141640" cy="321624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5" descr="F:\Ожегов\dd1c.jpg"/>
          <p:cNvPicPr/>
          <p:nvPr/>
        </p:nvPicPr>
        <p:blipFill>
          <a:blip r:embed="rId4"/>
          <a:stretch/>
        </p:blipFill>
        <p:spPr>
          <a:xfrm rot="20257800">
            <a:off x="1495080" y="3327120"/>
            <a:ext cx="2525760" cy="316872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6" descr="F:\Ожегов\ast1033605big.jpg"/>
          <p:cNvPicPr/>
          <p:nvPr/>
        </p:nvPicPr>
        <p:blipFill>
          <a:blip r:embed="rId5"/>
          <a:stretch/>
        </p:blipFill>
        <p:spPr>
          <a:xfrm rot="702000">
            <a:off x="3598560" y="415440"/>
            <a:ext cx="2593800" cy="345600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6" name="suction.wav"/>
      </p:stSnd>
    </p:sndAc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Содержимое 5" descr="slovari-ozhegova-trudnostey-russkogo-yazyka-inostrannyh-slov_36060696_2_F.jpg"/>
          <p:cNvPicPr/>
          <p:nvPr/>
        </p:nvPicPr>
        <p:blipFill>
          <a:blip r:embed="rId1"/>
          <a:stretch/>
        </p:blipFill>
        <p:spPr>
          <a:xfrm>
            <a:off x="214200" y="357120"/>
            <a:ext cx="8643960" cy="6215040"/>
          </a:xfrm>
          <a:prstGeom prst="rect">
            <a:avLst/>
          </a:prstGeom>
          <a:ln w="0">
            <a:noFill/>
          </a:ln>
        </p:spPr>
      </p:pic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2356920" y="1600200"/>
            <a:ext cx="6286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"…известно, что пролагающий новую дорогу встречает много препятствий", – писал знаменитый предок С.И. Ожегова Г.П.Павский. Так и С.И. Ожегов не только удостоился заслуженных похвал, но навлек на себя и тенденциозную критику. 11 июня 1950 года газета "Культура и жизнь" опубликовала рецензию некоего Н. Родионова с весьма показательным названием "Об одном неудачном словаре". С.И. Ожегов написал ответное письмо редактору газеты, а копию послал в "Правду". В 13-страничном послании нет ни малейшего стремления унизить горе-рецензента. Ученый предъявлял ему обоснованно жесткую, корректную, научную аргументацию и в итоге одержал победу. При жизни С.И. Ожегова Словарь выдержал восемь изданий; каждое он тщательно дорабатыва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2" name="suction.wav"/>
      </p:stSnd>
    </p:sndAc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Содержимое 4" descr="03lablv871224237705.jpg"/>
          <p:cNvPicPr/>
          <p:nvPr/>
        </p:nvPicPr>
        <p:blipFill>
          <a:blip r:embed="rId1"/>
          <a:stretch/>
        </p:blipFill>
        <p:spPr>
          <a:xfrm>
            <a:off x="4267080" y="500040"/>
            <a:ext cx="4448160" cy="228600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Заключени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ть такое слово – "богорадить", то есть посвящать себя богоугодным делам. Сергей Иванович Ожегов и был таким "богорадным", "хорошим русским человеком и славным ученым", жизнь которого, не слишком долгая, но яркая, стремительная, богатая событиями и встречами, – достойна нашей памяти.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3" name="Рисунок 5" descr="123638.jpg"/>
          <p:cNvPicPr/>
          <p:nvPr/>
        </p:nvPicPr>
        <p:blipFill>
          <a:blip r:embed="rId2"/>
          <a:stretch/>
        </p:blipFill>
        <p:spPr>
          <a:xfrm>
            <a:off x="5643720" y="1785960"/>
            <a:ext cx="304776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3" name="suction.wav"/>
      </p:stSnd>
    </p:sndAc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428760" y="164304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здесь мы задаемся вопросом: почему мы до сих пор пользуемся словарем Ожегова? Наверное потому, что он понятно дает пояснения каждому слову как для ученого, так и для школьника. В нем находится богатый запас знакомых и незнакомых нам русских слов. Вот именно за его богатство и простоту мы до сих пор и пользуемся словарем С.И. Ожего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6" name="Содержимое 5" descr="1697504.jpg"/>
          <p:cNvPicPr/>
          <p:nvPr/>
        </p:nvPicPr>
        <p:blipFill>
          <a:blip r:embed="rId1"/>
          <a:stretch/>
        </p:blipFill>
        <p:spPr>
          <a:xfrm>
            <a:off x="4214880" y="428760"/>
            <a:ext cx="3929040" cy="3500280"/>
          </a:xfrm>
          <a:prstGeom prst="rect">
            <a:avLst/>
          </a:prstGeom>
          <a:ln w="0">
            <a:noFill/>
          </a:ln>
        </p:spPr>
      </p:pic>
      <p:pic>
        <p:nvPicPr>
          <p:cNvPr id="567" name="Рисунок 6" descr="school2501.jpg"/>
          <p:cNvPicPr/>
          <p:nvPr/>
        </p:nvPicPr>
        <p:blipFill>
          <a:blip r:embed="rId2"/>
          <a:stretch/>
        </p:blipFill>
        <p:spPr>
          <a:xfrm>
            <a:off x="4071960" y="3071880"/>
            <a:ext cx="2714760" cy="2500200"/>
          </a:xfrm>
          <a:prstGeom prst="rect">
            <a:avLst/>
          </a:prstGeom>
          <a:ln w="0">
            <a:noFill/>
          </a:ln>
        </p:spPr>
      </p:pic>
      <p:pic>
        <p:nvPicPr>
          <p:cNvPr id="568" name="Рисунок 7" descr="123638.jpg"/>
          <p:cNvPicPr/>
          <p:nvPr/>
        </p:nvPicPr>
        <p:blipFill>
          <a:blip r:embed="rId3"/>
          <a:stretch/>
        </p:blipFill>
        <p:spPr>
          <a:xfrm>
            <a:off x="6858000" y="3857760"/>
            <a:ext cx="1976400" cy="250020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4" name="suction.wav"/>
      </p:stSnd>
    </p:sndAc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Жизнь С.И. Ожегова до его словаря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572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ергей Иванович Ожегов родился 23 сентября (по новому стилю) 1900 года в поселке Каменное Новоторжского уезда Тверской губернии. Отец его, Иван Иванович Ожегов, работал инженером-технологом на местной фабрике. У С.И. Ожегова (старшего из детей) было два брата: средний – Борис и младший – Евгений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636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suction.wav"/>
      </p:stSnd>
    </p:sndAc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6840" y="5486400"/>
            <a:ext cx="4040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6ea0b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44720" y="5486400"/>
            <a:ext cx="404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6ea0b0"/>
              </a:solidFill>
              <a:latin typeface="Arial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456840" y="151740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канун первой мировой войны семья С.И.Ожегова переезжает в Петроград, где он оканчивает гимназию. Сережа был живой и веселый мальчик. По словам Сергея Сергеевича, сына Ожегова, у отца была "бурная, горячая молодость": он увлекался футболом, только входившим тогда в моду, состоял в спортивном обществе, "еще почти мальчишкой вступил в партию эсеров"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1" name="Содержимое 7" descr="school0409.jpg"/>
          <p:cNvPicPr/>
          <p:nvPr/>
        </p:nvPicPr>
        <p:blipFill>
          <a:blip r:embed="rId1"/>
          <a:stretch/>
        </p:blipFill>
        <p:spPr>
          <a:xfrm>
            <a:off x="5000760" y="1857240"/>
            <a:ext cx="3714480" cy="307188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2" name="suction.wav"/>
      </p:stSnd>
    </p:sndAc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6840" y="5486400"/>
            <a:ext cx="4040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6ea0b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44720" y="5486400"/>
            <a:ext cx="404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6ea0b0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456840" y="151740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В 1918 году Сергей Ожегов поступает в Петроградский университет. Увлечение именно филологией, возможно, оказалось наследственным. Мать Сергея Ивановича, Александра Федоровна (в девичестве Дегожская), приходилась внучатой племянницей известному филологу и педагогу, профессору Петербургского университета протоиерею Герасиму Петровичу Павскому (1787-1863). Его "Филологические наблюдения над составом русского языка" были удостоены Демидовской премии и изданы дважды. Так Императорская Академия наук почтила труд русского ученого, быть может, в силу своего священства понявшего дух и строй языка шире и яснее, чем многие талантливые современники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Содержимое 7" descr="i (1).jpg"/>
          <p:cNvPicPr/>
          <p:nvPr/>
        </p:nvPicPr>
        <p:blipFill>
          <a:blip r:embed="rId1"/>
          <a:stretch/>
        </p:blipFill>
        <p:spPr>
          <a:xfrm>
            <a:off x="4857840" y="1571760"/>
            <a:ext cx="4000320" cy="371448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2" name="suction.wav"/>
      </p:stSnd>
    </p:sndAc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го почитали, с ним не раз советовались ученейшие мужи: А.Х. Востоков, И.И. Срезневский, Ф.И. Буслаев. Конечно же, об этом знал С.И. Ожегов. Начавшиеся университетские занятия скоро пришлось прервать – С.И. Ожегов ушел добровольцем на фронт. Судьба предоставила ему первое по-настоящему мужское испытание, которое он выдержал, участвуя в боях на западе России, у Карельского перешейка, на Украин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Содержимое 5" descr="1298025318_tolkovyj_slovar_screenshot.png"/>
          <p:cNvPicPr/>
          <p:nvPr/>
        </p:nvPicPr>
        <p:blipFill>
          <a:blip r:embed="rId1"/>
          <a:stretch/>
        </p:blipFill>
        <p:spPr>
          <a:xfrm>
            <a:off x="4338720" y="1571760"/>
            <a:ext cx="4233960" cy="372888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2" name="suction.wav"/>
      </p:stSnd>
    </p:sndAc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Содержимое 5" descr="03lablv871224237705.jpg"/>
          <p:cNvPicPr/>
          <p:nvPr/>
        </p:nvPicPr>
        <p:blipFill>
          <a:blip r:embed="rId1"/>
          <a:stretch/>
        </p:blipFill>
        <p:spPr>
          <a:xfrm>
            <a:off x="500040" y="642960"/>
            <a:ext cx="8072640" cy="5929200"/>
          </a:xfrm>
          <a:prstGeom prst="rect">
            <a:avLst/>
          </a:prstGeom>
          <a:ln w="0">
            <a:noFill/>
          </a:ln>
        </p:spPr>
      </p:pic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6840" y="1600200"/>
            <a:ext cx="6829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2d050"/>
                </a:solidFill>
                <a:latin typeface="Arial"/>
              </a:rPr>
              <a:t>Окончив службу в 1922 году в штабе Харьковского военного округа, он сразу же вернулся в университет на факультет языкознания и материальной культуры. В 1926 году С.И.Ожегов завершает курс обучения и поступает в аспирантуру. К этому времени относятся его первые научные опыты. В собрании С.И.Ожегова в Архиве РАН сохранился "Проект словаря революционной эпохи" – предвестник будущей капитальной работы авторского коллектива под руководством Д.Н.Ушакова, где С.И.Ожегов был одним из самых активных участников, "движителей", как называл его учител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2" name="suction.wav"/>
      </p:stSnd>
    </p:sndAc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456840" y="1600200"/>
            <a:ext cx="4614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 конца 1920-х годов С.И.Ожегов работает над "Толковым словарем русского языка" – Ушаковским словарем, как назвали его позже. Коллеги – Г.О.Винокур, В.В.Виноградов, Б.А.Ларин, Б.В.Томашевский и прежде всего Д.Н.Ушаков – помогали и в какой-то мере воспитывали С.И.Ожегова. Но особенно любил и почитал он Дмитрия Николаевича Ушакова – легендарного русского ученого, педагога, самобытного художника, собирателя и знатока народной старины, мудрого и мужественного человека, почти забытого сейчас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5" name="Содержимое 5" descr="ushakov.jpg"/>
          <p:cNvPicPr/>
          <p:nvPr/>
        </p:nvPicPr>
        <p:blipFill>
          <a:blip r:embed="rId1"/>
          <a:stretch/>
        </p:blipFill>
        <p:spPr>
          <a:xfrm>
            <a:off x="5643720" y="785880"/>
            <a:ext cx="2786040" cy="364320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2" name="suction.wav"/>
      </p:stSnd>
    </p:sndAc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6840" y="5486400"/>
            <a:ext cx="4040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6ea0b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44720" y="5486400"/>
            <a:ext cx="404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6ea0b0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7200" y="1517400"/>
            <a:ext cx="475776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бота над Словарем закончилась в предвоенное время. В 1940-м году вышел последний 4-й том. Это стало настоящим событием. А С.И. Ожегов жил уже новыми замыслами. Один из них – составление популярного толкового однотомного словаря – подсказал ему Д.Н.  Ушаков. Но помешала война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еных эвакуировали в августе-октябре 1941 года. Практически весь Институт языка и письменности оказался в Узбекистан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Содержимое 7" descr="123638.jpg"/>
          <p:cNvPicPr/>
          <p:nvPr/>
        </p:nvPicPr>
        <p:blipFill>
          <a:blip r:embed="rId1"/>
          <a:stretch/>
        </p:blipFill>
        <p:spPr>
          <a:xfrm>
            <a:off x="6000840" y="1500120"/>
            <a:ext cx="2627280" cy="394200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2" name="suction.wav"/>
      </p:stSnd>
    </p:sndAc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6840" y="5486400"/>
            <a:ext cx="4040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6ea0b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44720" y="5486400"/>
            <a:ext cx="404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6ea0b0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56840" y="151740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.И. Ожегов остался в Москве. Он разработал и читал студентам пединститута курс русской палеографии, дежурил в ночных патрулях, охраняя родной дом – впоследствии Институт русского языка. В эти годы С.И. Ожегов исполнял обязанности директора Института языка и письменности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5" name="Содержимое 7" descr="s1_439_5.jpg"/>
          <p:cNvPicPr/>
          <p:nvPr/>
        </p:nvPicPr>
        <p:blipFill>
          <a:blip r:embed="rId1"/>
          <a:stretch/>
        </p:blipFill>
        <p:spPr>
          <a:xfrm>
            <a:off x="4500720" y="500040"/>
            <a:ext cx="4041720" cy="2575080"/>
          </a:xfrm>
          <a:prstGeom prst="rect">
            <a:avLst/>
          </a:prstGeom>
          <a:ln w="0">
            <a:noFill/>
          </a:ln>
        </p:spPr>
      </p:pic>
      <p:pic>
        <p:nvPicPr>
          <p:cNvPr id="546" name="Рисунок 8" descr="school0406.jpg"/>
          <p:cNvPicPr/>
          <p:nvPr/>
        </p:nvPicPr>
        <p:blipFill>
          <a:blip r:embed="rId2"/>
          <a:stretch/>
        </p:blipFill>
        <p:spPr>
          <a:xfrm>
            <a:off x="4643280" y="3500280"/>
            <a:ext cx="4071960" cy="264348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3" name="suction.wav"/>
      </p:stSnd>
    </p:sndAc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5T16:18:41Z</dcterms:created>
  <dc:creator>Admin</dc:creator>
  <dc:description/>
  <dc:language>en-US</dc:language>
  <cp:lastModifiedBy>Yra</cp:lastModifiedBy>
  <dcterms:modified xsi:type="dcterms:W3CDTF">2011-12-20T04:31:18Z</dcterms:modified>
  <cp:revision>12</cp:revision>
  <dc:subject/>
  <dc:title>Сергей Иванович Ожегов</dc:title>
</cp:coreProperties>
</file>