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suction.wav" ContentType="audio/x-wav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4FF2-6EEE-499A-98AC-D74248A6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395-10FA-4849-8139-22545345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3A039-34B1-4ED3-A4BA-26D344DA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2EC77-254C-4D8C-A61E-02DDC7FB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23F16-927F-4618-B7AF-78F36303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06C73-36BC-40B6-87EE-7B7F8741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59EFC-9B0E-4E8A-A5A1-FDC1CE5F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6FE3D-9AB9-4784-825D-4C6EC6C8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F48CD-4F1F-4B26-B17D-43EC5D06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F3892-E143-47E4-A550-14028F0C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ABB75-7C3C-45CF-BEC9-865B5441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E73FE-F5A6-43B1-9E9D-112BAD32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209-F32D-4B2D-A264-834CC3AE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D74B1-AFC9-4CA0-926D-92639A94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177E7-0E7E-4E38-9D56-34838D40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C278A-0545-4C33-9D82-A2B7CFA1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3081B-BD5C-4AD8-9A3F-FA534ECA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A8354-CAA5-44D8-B30C-8D08996D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19F5B-A104-4B6A-B938-530254EA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81B64-DA27-4706-8FED-488819A3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AEE82-2917-423B-B513-62668873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4C506-14A6-43DC-8E69-735462CC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66C14-F704-4F5F-888A-7253A2AE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47C1-F10C-4B88-89FD-5FA8176F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CFD44-F2DE-4425-A2ED-3635F359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F80AD-66EA-4E3C-B4AA-1D74D4CB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4151F-22AC-4B81-8173-9D44D433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3105C-3A36-4734-8D19-92846414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6E263-5245-400C-AC4E-57BC1808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A0A86-4110-4BD7-BB98-CFB12C42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00084-B86A-48C0-BFC5-1200A536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E7799-9322-45C7-BE9C-2686812E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46962-BA68-4DE9-A339-118EAEA9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B90EC-BBB5-43A9-812F-AD0B563F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1888-BBC8-439E-8EBB-18F27917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DD8E8-A33B-4610-B79F-778E27A8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00F32-B053-4C89-91BC-A9DCA699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276A4-6330-4374-9473-23B5066E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19FD7-3B7C-4E68-94B8-BA470872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ACE0E-2C74-4F9A-A26E-79232089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7C62E-B86C-4296-A358-EE33CD2B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AAC01-53EF-4856-B323-B767D0FF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3EC17-F78C-4810-8A7A-B0261D9F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86EDF-7F66-457D-ACF9-52662B57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A30A4-1E7C-4C4E-BE19-D994EBBD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4BAD-0A81-4D51-A650-858D396F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94257-746D-4053-9470-3FCA02C2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E8A86-392B-4831-9C43-7CDB9ACF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27159-FE5A-4412-975B-7BFA9571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2CD60-8390-4FFB-8D3C-D06D8789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259CA-B090-49E0-84FC-3DA509A2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19DC-30AE-42FC-80EA-F3807424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880E-44F4-4508-AEB1-22BF11BB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F296-4A96-48F5-8142-ADE0ACD2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3806-6D36-4519-934C-95700EC2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5C64-CA74-4342-9C13-2063FBC8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102-FD71-4142-8D6C-F808E557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9FBC-511D-4461-9D93-0945F1DC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2FA4-E54B-4959-BBE4-795D92DE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2ED0-DF19-4374-9869-A2362855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B686-D76D-4D7C-BCE4-E723ED6D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28CB-240F-4934-BF44-CC735A03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C6638-D4AB-4E97-846C-C766D1DD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2F875-F10C-43F0-BC13-8477D043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73169-013D-4336-9580-78AA04A1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34E10-BD03-46D5-AD75-68442FDA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54971-7B4F-4998-A924-D892D854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79CB-F174-45AC-A98C-F70E0CE2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FBF86-89FA-4738-B5E1-70C75680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D17C2-AD7F-4796-AB31-1CE6B097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B4A8F-D2C4-487A-AD81-EC622505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583D3-45D2-451E-B43F-F8B124C8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67D5B-191E-48F1-8F2A-71B42E75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75E12-E1C2-49CF-9418-8E878647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82FAB-09F0-4262-B515-666234D3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10921-E29F-47FD-9ED0-7F11BB6D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EA59E-899E-46DE-9A76-5A635B75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04EB4-D089-4E48-92F3-F3A8A31B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479-B288-4D6B-84D1-C3FD5D2D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4EC14-FDE7-4D78-9D0F-2D58181E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B3AF0-F997-4CF9-A853-DF419A33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89563-9A31-463A-AD29-C5834AF4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12569-21A4-4687-A49F-818D86B6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C3927-2F8A-48EB-85D7-E114A610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B4EEF-D7F2-49C7-95B8-73E5D810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91352-E0F0-4F21-A5C5-C52917C9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D258E-6665-4249-86F2-3B5BDFA9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019D4-E559-4734-BE95-021577A0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95037-8E19-48CD-B394-9399CD11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686-039C-4854-B917-2E269FDE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FF6D2-AE4B-4FDA-AE3D-774F57E7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3E478-5546-4352-91F9-BCA66245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8927E-7266-405B-AFF5-22FB387D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C2371-96E9-47DF-8C13-4E173621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7F167-C952-4E49-82DE-6236B2E8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F1A5B-F45D-43B8-80DF-DCC608F5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DB060-5E33-4F73-BDAA-ECB91643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AE672-8E3A-49F3-9C66-58378423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85FFC-AC6F-4C7C-8AE6-7F0BA880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C0F7A-A27A-4F72-BA5C-87536136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915-877E-4405-ACB5-6482DC0A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F2C1E-23EF-402E-9B88-0F068445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3027A-2910-4762-BE6F-A9F5A2D9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4EE2E-3CD6-4A79-B78F-FB83390E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0ACCB-B08D-4C0D-9B3B-50716B8C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F7EB2-11AC-4232-80F2-9C73ED21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9B1FB-020A-43D9-9657-F27C8552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F2EB2-AA5C-4963-AC96-4F92F4A4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B9555-D043-4A81-862C-A1C54541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0C892-509D-4F1E-BEB6-BC93F53B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8736A-20E8-48FC-8D27-8435F8C3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34B1-49F1-473E-AEF0-8A9CEC06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408B0-34B8-404F-A47D-46E86BA5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FDFA8-7620-44D6-AAB3-35044CB3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64AB9-142D-476B-95A3-C1D01DEB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5AA50-52D5-41C3-8AC3-9839414F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11FEF-CC79-4CF6-94AA-CDF1A887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1089C-FEA9-4603-90BC-07448C2D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90C86-09DE-4094-9C4E-C4CEC73E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73E98-EAE9-4DE2-AFB0-5A645170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E7ECB-961E-4879-972C-5036396A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26C58-1F19-4F08-A277-8FD83336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83FE-B1FA-4B6E-9DE0-9FC0ED31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732E8-9970-4425-8B54-A1550D32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49FD8-CBCD-4ECF-A7B8-1AA6C634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1847F-1E20-47E5-8A56-531E8889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8DBDE-7059-4353-8E9F-363207CC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9EFE5-C57B-4439-ADEF-39BCBD99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87B5F-DE87-4AD0-99C6-6AEA99BD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5E85F-8437-40ED-A6B1-8ECC0DF5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44919-05D1-4CE6-9BE1-54DDDFA7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BB90D-4280-4169-8025-82017E01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9579F-6426-43A0-9A80-B2A7CA6C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BF3-8AFE-4C18-944F-8AFC2141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23AA7-4014-415E-B3EC-0D9D5267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63DF7-E437-4861-AA03-A204AE63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4D891-FE9C-4C7D-8C37-4DE9995F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0BF08-89EA-4318-98C7-1697FB01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CEAAC-40CC-4E47-9341-E7B2294F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95A13-E68A-41EB-836A-347F20B4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A15D6-3F81-454E-B349-C4BF4D13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00385-4B4F-4659-9E99-343A850C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96532-ED5A-48A0-8834-5E8D8D04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BA7B3-7CF3-4F48-9734-D59D9183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EFE9-767D-489C-AD4B-549EF493205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6893-A188-43AD-BABE-1FB4FB26CE1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06B0-E992-4563-B688-706BDA37618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83F6-1ACA-4070-9D50-FDA0719C904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3C13-154F-46F3-924E-9AF1750952E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408C-5937-4A1C-BD5B-533EADB71F7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E82B-5EC0-46DC-A71B-42B7BF6299B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EB7F-DDB6-42FC-8F4B-DED422DDD3B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105A-90F0-4594-83A9-4158B41F65C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74E0-A64C-43F0-8ACC-98DA6F7AA6D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A876-0C2B-49E4-8478-8F39287C39E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F6CC-F071-455A-B9ED-97A8E383339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audio" Target="../media/suction.wav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8.jpeg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Заголовок 1" descr=""/>
          <p:cNvPicPr/>
          <p:nvPr/>
        </p:nvPicPr>
        <p:blipFill>
          <a:blip r:embed="rId1"/>
          <a:stretch/>
        </p:blipFill>
        <p:spPr>
          <a:xfrm>
            <a:off x="493560" y="706320"/>
            <a:ext cx="7053480" cy="243864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611280" y="263700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гвист, лексикограф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ктор филологических наук, профессор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23 сентября 1900 года – 15 декабря 1964 год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3" descr="F:\Ожегов\2af3bb040f3f.jpg"/>
          <p:cNvPicPr/>
          <p:nvPr/>
        </p:nvPicPr>
        <p:blipFill>
          <a:blip r:embed="rId2"/>
          <a:stretch/>
        </p:blipFill>
        <p:spPr>
          <a:xfrm>
            <a:off x="3125880" y="2378160"/>
            <a:ext cx="316548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950"/>
                            </p:stCondLst>
                            <p:childTnLst>
                              <p:par>
                                <p:cTn id="30" nodeType="afterEffect" fill="hold" presetClass="exit" presetID="42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1950"/>
                            </p:stCondLst>
                            <p:childTnLst>
                              <p:par>
                                <p:cTn id="36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2950"/>
                            </p:stCondLst>
                            <p:childTnLst>
                              <p:par>
                                <p:cTn id="42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395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56840" y="312480"/>
            <a:ext cx="821844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е с другими учеными С.И.Ожегов организует языковедческое научное общество, изучает язык военного времени. Многим это не нравилось. В письме к Г.О. Винокуру он сообщал: "Зная отношение ко мне некоторых ташкентцев, я и к Вашему молчанию склонен относиться подозрительно! Меня ведь винят и в болезни Д.Н.  (т.е. Ушакова), и за отказ ехать из Москвы, и за создание в Москве "общества" лингвистического, как там кажется называют, и еще за многое…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2" descr="F:\Ожегов\22-5.jpg"/>
          <p:cNvPicPr/>
          <p:nvPr/>
        </p:nvPicPr>
        <p:blipFill>
          <a:blip r:embed="rId1"/>
          <a:stretch/>
        </p:blipFill>
        <p:spPr>
          <a:xfrm>
            <a:off x="4665600" y="4057560"/>
            <a:ext cx="3313080" cy="249084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suction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ловарь русского язы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-е издание этого ставшего ныне классическим "тезауруса" вышло в 1949 году и сразу же обратило на себя внимание. С.И. Ожегов получал сотни писем с просьбами прислать словарь, объяснить то или иное слово. Ученый никому не отказыва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suction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552" name="Picture 2" descr="F:\Ожегов\342445.jpg"/>
          <p:cNvPicPr/>
          <p:nvPr/>
        </p:nvPicPr>
        <p:blipFill>
          <a:blip r:embed="rId1"/>
          <a:stretch/>
        </p:blipFill>
        <p:spPr>
          <a:xfrm rot="20707800">
            <a:off x="468360" y="351000"/>
            <a:ext cx="2233440" cy="31096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" descr="F:\Ожегов\2468020.jpg"/>
          <p:cNvPicPr/>
          <p:nvPr/>
        </p:nvPicPr>
        <p:blipFill>
          <a:blip r:embed="rId2"/>
          <a:stretch/>
        </p:blipFill>
        <p:spPr>
          <a:xfrm rot="1205400">
            <a:off x="6595560" y="593640"/>
            <a:ext cx="1946520" cy="2381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F:\Ожегов\ast1015604big.jpg"/>
          <p:cNvPicPr/>
          <p:nvPr/>
        </p:nvPicPr>
        <p:blipFill>
          <a:blip r:embed="rId3"/>
          <a:stretch/>
        </p:blipFill>
        <p:spPr>
          <a:xfrm rot="1195200">
            <a:off x="5848200" y="3235320"/>
            <a:ext cx="2141640" cy="32162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F:\Ожегов\dd1c.jpg"/>
          <p:cNvPicPr/>
          <p:nvPr/>
        </p:nvPicPr>
        <p:blipFill>
          <a:blip r:embed="rId4"/>
          <a:stretch/>
        </p:blipFill>
        <p:spPr>
          <a:xfrm rot="20257800">
            <a:off x="1495080" y="3327120"/>
            <a:ext cx="2525760" cy="31687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6" descr="F:\Ожегов\ast1033605big.jpg"/>
          <p:cNvPicPr/>
          <p:nvPr/>
        </p:nvPicPr>
        <p:blipFill>
          <a:blip r:embed="rId5"/>
          <a:stretch/>
        </p:blipFill>
        <p:spPr>
          <a:xfrm rot="702000">
            <a:off x="3598560" y="415440"/>
            <a:ext cx="259380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6" name="suction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Содержимое 5" descr="slovari-ozhegova-trudnostey-russkogo-yazyka-inostrannyh-slov_36060696_2_F.jpg"/>
          <p:cNvPicPr/>
          <p:nvPr/>
        </p:nvPicPr>
        <p:blipFill>
          <a:blip r:embed="rId1"/>
          <a:stretch/>
        </p:blipFill>
        <p:spPr>
          <a:xfrm>
            <a:off x="214200" y="357120"/>
            <a:ext cx="8643960" cy="621504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2356920" y="1600200"/>
            <a:ext cx="62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"…известно, что пролагающий новую дорогу встречает много препятствий", – писал знаменитый предок С.И. Ожегова Г.П.Павский. Так и С.И. Ожегов не только удостоился заслуженных похвал, но навлек на себя и тенденциозную критику. 11 июня 1950 года газета "Культура и жизнь" опубликовала рецензию некоего Н. Родионова с весьма показательным названием "Об одном неудачном словаре". С.И. Ожегов написал ответное письмо редактору газеты, а копию послал в "Правду". В 13-страничном послании нет ни малейшего стремления унизить горе-рецензента. Ученый предъявлял ему обоснованно жесткую, корректную, научную аргументацию и в итоге одержал победу. При жизни С.И. Ожегова Словарь выдержал восемь изданий; каждое он тщательно дорабатыв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suction.wav"/>
      </p:stSnd>
    </p:sndAc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Содержимое 4" descr="03lablv871224237705.jpg"/>
          <p:cNvPicPr/>
          <p:nvPr/>
        </p:nvPicPr>
        <p:blipFill>
          <a:blip r:embed="rId1"/>
          <a:stretch/>
        </p:blipFill>
        <p:spPr>
          <a:xfrm>
            <a:off x="4267080" y="500040"/>
            <a:ext cx="4448160" cy="228600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аключ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ть такое слово – "богорадить", то есть посвящать себя богоугодным делам. Сергей Иванович Ожегов и был таким "богорадным", "хорошим русским человеком и славным ученым", жизнь которого, не слишком долгая, но яркая, стремительная, богатая событиями и встречами, – достойна нашей памяти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Рисунок 5" descr="123638.jpg"/>
          <p:cNvPicPr/>
          <p:nvPr/>
        </p:nvPicPr>
        <p:blipFill>
          <a:blip r:embed="rId2"/>
          <a:stretch/>
        </p:blipFill>
        <p:spPr>
          <a:xfrm>
            <a:off x="5643720" y="1785960"/>
            <a:ext cx="30477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3" name="suction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28760" y="164304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здесь мы задаемся вопросом: почему мы до сих пор пользуемся словарем Ожегова? Наверное потому, что он понятно дает пояснения каждому слову как для ученого, так и для школьника. В нем находится богатый запас знакомых и незнакомых нам русских слов. Вот именно за его богатство и простоту мы до сих пор и пользуемся словарем С.И. Ожег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Содержимое 5" descr="1697504.jpg"/>
          <p:cNvPicPr/>
          <p:nvPr/>
        </p:nvPicPr>
        <p:blipFill>
          <a:blip r:embed="rId1"/>
          <a:stretch/>
        </p:blipFill>
        <p:spPr>
          <a:xfrm>
            <a:off x="4214880" y="428760"/>
            <a:ext cx="3929040" cy="350028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6" descr="school2501.jpg"/>
          <p:cNvPicPr/>
          <p:nvPr/>
        </p:nvPicPr>
        <p:blipFill>
          <a:blip r:embed="rId2"/>
          <a:stretch/>
        </p:blipFill>
        <p:spPr>
          <a:xfrm>
            <a:off x="4071960" y="3071880"/>
            <a:ext cx="2714760" cy="250020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7" descr="123638.jpg"/>
          <p:cNvPicPr/>
          <p:nvPr/>
        </p:nvPicPr>
        <p:blipFill>
          <a:blip r:embed="rId3"/>
          <a:stretch/>
        </p:blipFill>
        <p:spPr>
          <a:xfrm>
            <a:off x="6858000" y="3857760"/>
            <a:ext cx="197640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suction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Жизнь С.И. Ожегова до его словаря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ергей Иванович Ожегов родился 23 сентября (по новому стилю) 1900 года в поселке Каменное Новоторжского уезда Тверской губернии. Отец его, Иван Иванович Ожегов, работал инженером-технологом на местной фабрике. У С.И. Ожегова (старшего из детей) было два брата: средний – Борис и младший – Евгений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suction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6840" y="151740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нун первой мировой войны семья С.И.Ожегова переезжает в Петроград, где он оканчивает гимназию. Сережа был живой и веселый мальчик. По словам Сергея Сергеевича, сына Ожегова, у отца была "бурная, горячая молодость": он увлекался футболом, только входившим тогда в моду, состоял в спортивном обществе, "еще почти мальчишкой вступил в партию эсеров"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Содержимое 7" descr="school0409.jpg"/>
          <p:cNvPicPr/>
          <p:nvPr/>
        </p:nvPicPr>
        <p:blipFill>
          <a:blip r:embed="rId1"/>
          <a:stretch/>
        </p:blipFill>
        <p:spPr>
          <a:xfrm>
            <a:off x="5000760" y="1857240"/>
            <a:ext cx="371448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suction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6840" y="151740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В 1918 году Сергей Ожегов поступает в Петроградский университет. Увлечение именно филологией, возможно, оказалось наследственным. Мать Сергея Ивановича, Александра Федоровна (в девичестве Дегожская), приходилась внучатой племянницей известному филологу и педагогу, профессору Петербургского университета протоиерею Герасиму Петровичу Павскому (1787-1863). Его "Филологические наблюдения над составом русского языка" были удостоены Демидовской премии и изданы дважды. Так Императорская Академия наук почтила труд русского ученого, быть может, в силу своего священства понявшего дух и строй языка шире и яснее, чем многие талантливые современники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Содержимое 7" descr="i (1).jpg"/>
          <p:cNvPicPr/>
          <p:nvPr/>
        </p:nvPicPr>
        <p:blipFill>
          <a:blip r:embed="rId1"/>
          <a:stretch/>
        </p:blipFill>
        <p:spPr>
          <a:xfrm>
            <a:off x="4857840" y="1571760"/>
            <a:ext cx="4000320" cy="37144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suction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го почитали, с ним не раз советовались ученейшие мужи: А.Х. Востоков, И.И. Срезневский, Ф.И. Буслаев. Конечно же, об этом знал С.И. Ожегов. Начавшиеся университетские занятия скоро пришлось прервать – С.И. Ожегов ушел добровольцем на фронт. Судьба предоставила ему первое по-настоящему мужское испытание, которое он выдержал, участвуя в боях на западе России, у Карельского перешейка, на Украи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Содержимое 5" descr="1298025318_tolkovyj_slovar_screenshot.png"/>
          <p:cNvPicPr/>
          <p:nvPr/>
        </p:nvPicPr>
        <p:blipFill>
          <a:blip r:embed="rId1"/>
          <a:stretch/>
        </p:blipFill>
        <p:spPr>
          <a:xfrm>
            <a:off x="4338720" y="1571760"/>
            <a:ext cx="4233960" cy="372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suction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Содержимое 5" descr="03lablv871224237705.jpg"/>
          <p:cNvPicPr/>
          <p:nvPr/>
        </p:nvPicPr>
        <p:blipFill>
          <a:blip r:embed="rId1"/>
          <a:stretch/>
        </p:blipFill>
        <p:spPr>
          <a:xfrm>
            <a:off x="500040" y="642960"/>
            <a:ext cx="8072640" cy="592920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1600200"/>
            <a:ext cx="682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Окончив службу в 1922 году в штабе Харьковского военного округа, он сразу же вернулся в университет на факультет языкознания и материальной культуры. В 1926 году С.И.Ожегов завершает курс обучения и поступает в аспирантуру. К этому времени относятся его первые научные опыты. В собрании С.И.Ожегова в Архиве РАН сохранился "Проект словаря революционной эпохи" – предвестник будущей капитальной работы авторского коллектива под руководством Д.Н.Ушакова, где С.И.Ожегов был одним из самых активных участников, "движителей", как называл его учи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suction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6840" y="1600200"/>
            <a:ext cx="46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конца 1920-х годов С.И.Ожегов работает над "Толковым словарем русского языка" – Ушаковским словарем, как назвали его позже. Коллеги – Г.О.Винокур, В.В.Виноградов, Б.А.Ларин, Б.В.Томашевский и прежде всего Д.Н.Ушаков – помогали и в какой-то мере воспитывали С.И.Ожегова. Но особенно любил и почитал он Дмитрия Николаевича Ушакова – легендарного русского ученого, педагога, самобытного художника, собирателя и знатока народной старины, мудрого и мужественного человека, почти забытого сейча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Содержимое 5" descr="ushakov.jpg"/>
          <p:cNvPicPr/>
          <p:nvPr/>
        </p:nvPicPr>
        <p:blipFill>
          <a:blip r:embed="rId1"/>
          <a:stretch/>
        </p:blipFill>
        <p:spPr>
          <a:xfrm>
            <a:off x="5643720" y="785880"/>
            <a:ext cx="2786040" cy="364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suction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517400"/>
            <a:ext cx="475776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над Словарем закончилась в предвоенное время. В 1940-м году вышел последний 4-й том. Это стало настоящим событием. А С.И. Ожегов жил уже новыми замыслами. Один из них – составление популярного толкового однотомного словаря – подсказал ему Д.Н.  Ушаков. Но помешала война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ых эвакуировали в августе-октябре 1941 года. Практически весь Институт языка и письменности оказался в Узбекистан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Содержимое 7" descr="123638.jpg"/>
          <p:cNvPicPr/>
          <p:nvPr/>
        </p:nvPicPr>
        <p:blipFill>
          <a:blip r:embed="rId1"/>
          <a:stretch/>
        </p:blipFill>
        <p:spPr>
          <a:xfrm>
            <a:off x="6000840" y="1500120"/>
            <a:ext cx="2627280" cy="394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suction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6840" y="151740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.И. Ожегов остался в Москве. Он разработал и читал студентам пединститута курс русской палеографии, дежурил в ночных патрулях, охраняя родной дом – впоследствии Институт русского языка. В эти годы С.И. Ожегов исполнял обязанности директора Института языка и письменност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Содержимое 7" descr="s1_439_5.jpg"/>
          <p:cNvPicPr/>
          <p:nvPr/>
        </p:nvPicPr>
        <p:blipFill>
          <a:blip r:embed="rId1"/>
          <a:stretch/>
        </p:blipFill>
        <p:spPr>
          <a:xfrm>
            <a:off x="4500720" y="500040"/>
            <a:ext cx="4041720" cy="2575080"/>
          </a:xfrm>
          <a:prstGeom prst="rect">
            <a:avLst/>
          </a:prstGeom>
          <a:ln w="0">
            <a:noFill/>
          </a:ln>
        </p:spPr>
      </p:pic>
      <p:pic>
        <p:nvPicPr>
          <p:cNvPr id="546" name="Рисунок 8" descr="school0406.jpg"/>
          <p:cNvPicPr/>
          <p:nvPr/>
        </p:nvPicPr>
        <p:blipFill>
          <a:blip r:embed="rId2"/>
          <a:stretch/>
        </p:blipFill>
        <p:spPr>
          <a:xfrm>
            <a:off x="4643280" y="3500280"/>
            <a:ext cx="4071960" cy="26434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3" name="suction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6:18:41Z</dcterms:created>
  <dc:creator>Admin</dc:creator>
  <dc:description/>
  <dc:language>en-US</dc:language>
  <cp:lastModifiedBy>Yra</cp:lastModifiedBy>
  <dcterms:modified xsi:type="dcterms:W3CDTF">2011-12-20T04:31:18Z</dcterms:modified>
  <cp:revision>12</cp:revision>
  <dc:subject/>
  <dc:title>Сергей Иванович Ожегов</dc:title>
</cp:coreProperties>
</file>