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537-9982-4364-886C-7D693E0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B5C-6439-433A-B9AF-071A85A7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2785C-4E37-4571-BE30-D407D04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450F4-2821-42D0-8F7E-22EEBDD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7DBB0-77D7-4476-B08C-7A88ACF0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0634E-43F3-4AE3-912E-9E7898D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A53FA-EF19-4AB1-A25F-B85AB7D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AC7D4-B541-41AC-BAD3-BF3A57C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9E4A5-AD1D-4378-A5F4-BB27A364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207B8-8F04-465E-9C47-FAE8FB98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E437-A44D-4F27-A27C-383B2110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36FC2-9F06-443B-999C-EAFA61BD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C77-3249-4F9F-8BCF-8A7A7D03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C012C-F923-458A-922A-428A186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8ABA2-247F-4262-B0FF-E0D9E256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62A37-DB01-40C9-B298-9AA6484F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9CDF2-7B6A-4440-911C-177F4468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8C1D7-0446-43E0-A443-73465D8F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91407-BA6B-4BE4-BA2C-C0D13E1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6BA9B-DB3B-4574-B99D-DB5659D7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2E779-CFE7-472B-8AAC-A939C31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3E1E-7A7C-48F1-B606-BBADE3E9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584E3-DDF7-4A45-AE3E-9170652D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541-589F-4347-A3A3-65041AEB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EE615-F559-436B-9074-4D9113F1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CACD-2204-4A8C-A57F-8AA0CF72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0FD7A-F84F-4B71-80E7-4E6944B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AD56C-8214-4E2E-9476-EEB98BB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7D5E3-9388-4459-96D9-32B073F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A278D-DADE-4A85-A80C-C987965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C2738-1CEE-47EA-AEB1-22936722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8F57-90FC-432B-8643-B975632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A70A2-438F-465C-A822-C0630D96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E6C3B-C5DB-45CD-8A04-05586C79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D1C-CEF5-496A-97F3-EC779C99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000D1-E881-4AC5-8213-56485A33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8D06A-A703-4DC7-A471-8CB9343B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CC67D-9505-4D85-9121-DFA2B64E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18AE-7DD4-4C4A-88A4-E3C977D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F320B-91BD-4359-8FEC-3EDC83AA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1FABD-8C7D-4A86-889C-81FB3B29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A72C9-0938-4AF1-A164-42F872D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CAED6-FA5A-4446-A803-F36EAF6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23606-18D4-4907-B063-5C7ABBA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B71B2-7C07-4443-943E-8962788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B571-3CC8-4972-BC4D-1B08D876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DF119-2478-4812-B89B-DBF6AF2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F55CE-8DA2-4CD1-843F-0BCCCFE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EE1D3-F654-4F14-BA1B-6C67C80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03454-3F63-45C3-B05A-FF5E5505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5BE26-C68C-4092-938B-92FBEDF9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3F5-5B7C-42E7-A5DF-A3D0A7B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73AA-56E4-4862-B750-243A8970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EBB5-E8AD-472F-94E6-9B8D0262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AA95-EFB8-431D-B1FF-CDE137FC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70F9-19C6-4F45-B1F0-91633A9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9D7-53BD-40C5-BEF4-AAB38DE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8DB2-A929-4EF4-89C8-DCED224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64E4-16E6-46B0-B079-7D0BBD5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B8F-CE5E-4FEB-8495-5B9BD2B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3BC0-A1AB-4176-8F96-D173C69F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FBE7-2B2E-4EBD-BC0C-49E63BC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DCDB-676E-47F6-9DEA-14B70EE6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B21A-1223-4EF5-B8E7-0B3EB04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A8ED-3EB3-4099-9857-D01165DC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6368-52BC-401C-9C73-3BEC5586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D0FC-10CE-4AFD-A053-8D8C7FC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8E2-640C-4F6E-B819-1B2E9EDF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AF27-3215-43D0-B1D3-481B6E6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72F9-2CFB-4EA0-B5C8-2549F52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6CA5-9AFF-4B38-A8E7-C778316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CC02-325C-41D5-A94D-4FA107F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BF59-6486-4183-978E-6A08AA1E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BC9D-2E8E-4B6A-B450-85064F2B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BF4F-9A0C-481E-8AE4-0C72C363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3D8E-5EBE-438D-820D-11B15CC2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E71F-0C15-47B3-8298-ADEB4C67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F160-0D92-4E89-8E0D-5206E49F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5A3-09F4-4A95-A15F-3553AC18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890D-D0C3-444D-82B2-9F532072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9F14-DE35-4A01-8658-6F2F1E3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5957-ABE6-4E56-BF0D-5F68070F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7B12-19AC-4C73-BAC5-CE46F7DC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5216-BCCF-4B41-92BB-AD2A328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F9D0-511B-411E-B1C0-BA3822E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84A1-62C9-476D-9B6E-72BD9E4A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DA8B-41B1-43BE-BEE7-23FBA8E7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E3D3-6D63-49ED-82AF-0270182D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EFBE-D938-484C-AFA6-55DEFBE0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68C-938C-4FCE-AB89-29B56384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B0478-2746-419C-8237-611A951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3983-6A48-41B2-80F4-72B32F19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D596-C8BE-4A8F-850D-01A1868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5714-BF03-4799-9E82-3D50D11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E2B0F-8A87-45F2-A742-C33BC36B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3950-12BE-4C94-B278-039791B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2097-8142-436B-A03D-9ABC768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A340-6A5D-4152-9253-6AD1AE48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90F3-3D54-4C54-9BA8-14E21C8C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258E-54F3-45AD-9F81-019B59D1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99A-52A0-4404-B743-D6BC03F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6D6A-FFB8-4302-BD8C-D1F85025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534C-BD2D-4F2C-9FD3-02452E18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AD439-DA8E-44C4-926A-0B32755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A0E0-211F-446E-8117-3AB96D17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641D-3D8B-4A50-AC1F-2E80457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C11D-BA6B-45EF-9744-38BFA086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F24B-6297-4AEE-9502-2930E96D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79D1-4FAD-4FF8-B6BB-D6CC49EA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EDDBA-776A-4AC9-B752-6484451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4C81B-4654-4CF5-AB8E-E9B06D2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0DC-1159-41E3-9ADF-7BF8D0D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4823-AAF5-4AA1-887F-B4B08583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9163-E776-4662-8742-18FCFA46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81910-D164-4F6F-A01B-6B2E141F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58C9-7958-41D3-9A25-10EB3D15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B4B1-ADF7-4672-9F4B-BCD610CB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756D-664E-4E55-800E-90E4A84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70CA-0515-4856-A317-CA48472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382F-D1C9-4B58-B0D7-C82FDEDF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72F0B-5B19-4358-8C8B-7416082B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84EA-2C7F-437A-AF92-BDD3A3C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7E4-AD06-4486-943C-C188182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867A-8B73-4DF3-B2B7-E2D40F88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7638-B90A-4866-9BD9-2A1F8BF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3CA1F-5E0E-4579-AADD-FB51A648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114FB-AA9B-45FE-985C-C6B06CC3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F3DB-6D6E-4507-B526-88B03158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08874-98FE-46C2-AAEB-AA4083CD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6F18-7E13-4D32-BD97-4979FA5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DBF0-2904-4D4C-B532-1B27B2E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92A6-0D52-4712-8BD9-942D9DF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BD79D-BEDE-4CE1-8B86-F4B857A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615-1483-4603-B536-146ECCC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F25D-168B-4351-BFF8-C973FF68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366AC-C0F8-4000-8C41-4077316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D295-ACB3-4953-980D-707094F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D3A8-BDB6-4906-A0DD-8413C10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EE34E-7293-4F3A-969C-45E1CA54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745C5-272A-40F6-BFF0-5D5735C9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56478-9BBC-4F00-80A9-73513405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9A93-892E-4488-83FF-8A5DA3E9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E2447-B168-4514-9728-A7170353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D16E4-76D7-4752-B266-A523225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D39-19EF-4FE0-BE9C-C71BF63C680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95B-3B4D-4286-9E0C-C62D8906E78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891-C1A0-4E7B-A823-E0D07F0AEB7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76AE-8494-4BFF-B266-56D2B7F8E97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897-6E98-4BF2-95E1-CF88A6410C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E06E-5D80-4BF8-8FB4-8A63C0CA7AE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F9B4-5A63-4BBB-85C2-66BD16E3009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DCB9-1A19-4C3B-8E5E-7047C6A447C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57F-3019-469F-947D-B36E02FFA8A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B6C-ECDF-4194-8798-2B4A50A6A12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8D1-929A-41F1-B22E-DB7D68D4A77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F5C4-2E27-4506-B41A-1A29A99C5C9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Заголово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7053480" cy="2438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11280" y="263700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гвист, лексикограф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ктор филологических наук, профессо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23 сентября 1900 года – 15 декабря 1964 го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3" descr="F:\Ожегов\2af3bb040f3f.jpg"/>
          <p:cNvPicPr/>
          <p:nvPr/>
        </p:nvPicPr>
        <p:blipFill>
          <a:blip r:embed="rId2"/>
          <a:stretch/>
        </p:blipFill>
        <p:spPr>
          <a:xfrm>
            <a:off x="3125880" y="2378160"/>
            <a:ext cx="3165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30" nodeType="afterEffect" fill="hold" presetClass="exit" presetID="42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3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950"/>
                            </p:stCondLst>
                            <p:childTnLst>
                              <p:par>
                                <p:cTn id="4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95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6840" y="312480"/>
            <a:ext cx="82184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 другими учеными С.И.Ожегов организует языковедческое научное общество, изучает язык военного времени. Многим это не нравилось. В письме к Г.О. Винокуру он сообщал: "Зная отношение ко мне некоторых ташкентцев, я и к Вашему молчанию склонен относиться подозрительно! Меня ведь винят и в болезни Д.Н.  (т.е. Ушакова), и за отказ ехать из Москвы, и за создание в Москве "общества" лингвистического, как там кажется называют, и еще за многое…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" descr="F:\Ожегов\22-5.jpg"/>
          <p:cNvPicPr/>
          <p:nvPr/>
        </p:nvPicPr>
        <p:blipFill>
          <a:blip r:embed="rId1"/>
          <a:stretch/>
        </p:blipFill>
        <p:spPr>
          <a:xfrm>
            <a:off x="4665600" y="405756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ловарь русского язы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е издание этого ставшего ныне классическим "тезауруса" вышло в 1949 году и сразу же обратило на себя внимание. С.И. Ожегов получал сотни писем с просьбами прислать словарь, объяснить то или иное слово. Ученый никому не отказыва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suction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52" name="Picture 2" descr="F:\Ожегов\342445.jpg"/>
          <p:cNvPicPr/>
          <p:nvPr/>
        </p:nvPicPr>
        <p:blipFill>
          <a:blip r:embed="rId1"/>
          <a:stretch/>
        </p:blipFill>
        <p:spPr>
          <a:xfrm rot="20707800">
            <a:off x="468360" y="351000"/>
            <a:ext cx="2233440" cy="3109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F:\Ожегов\2468020.jpg"/>
          <p:cNvPicPr/>
          <p:nvPr/>
        </p:nvPicPr>
        <p:blipFill>
          <a:blip r:embed="rId2"/>
          <a:stretch/>
        </p:blipFill>
        <p:spPr>
          <a:xfrm rot="1205400">
            <a:off x="6595560" y="593640"/>
            <a:ext cx="1946520" cy="2381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F:\Ожегов\ast1015604big.jpg"/>
          <p:cNvPicPr/>
          <p:nvPr/>
        </p:nvPicPr>
        <p:blipFill>
          <a:blip r:embed="rId3"/>
          <a:stretch/>
        </p:blipFill>
        <p:spPr>
          <a:xfrm rot="1195200">
            <a:off x="5848200" y="3235320"/>
            <a:ext cx="2141640" cy="32162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F:\Ожегов\dd1c.jpg"/>
          <p:cNvPicPr/>
          <p:nvPr/>
        </p:nvPicPr>
        <p:blipFill>
          <a:blip r:embed="rId4"/>
          <a:stretch/>
        </p:blipFill>
        <p:spPr>
          <a:xfrm rot="20257800">
            <a:off x="1495080" y="3327120"/>
            <a:ext cx="2525760" cy="3168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F:\Ожегов\ast1033605big.jpg"/>
          <p:cNvPicPr/>
          <p:nvPr/>
        </p:nvPicPr>
        <p:blipFill>
          <a:blip r:embed="rId5"/>
          <a:stretch/>
        </p:blipFill>
        <p:spPr>
          <a:xfrm rot="702000">
            <a:off x="3598560" y="415440"/>
            <a:ext cx="25938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suction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Содержимое 5" descr="slovari-ozhegova-trudnostey-russkogo-yazyka-inostrannyh-slov_36060696_2_F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21504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356920" y="1600200"/>
            <a:ext cx="62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…известно, что пролагающий новую дорогу встречает много препятствий", – писал знаменитый предок С.И. Ожегова Г.П.Павский. Так и С.И. Ожегов не только удостоился заслуженных похвал, но навлек на себя и тенденциозную критику. 11 июня 1950 года газета "Культура и жизнь" опубликовала рецензию некоего Н. Родионова с весьма показательным названием "Об одном неудачном словаре". С.И. Ожегов написал ответное письмо редактору газеты, а копию послал в "Правду". В 13-страничном послании нет ни малейшего стремления унизить горе-рецензента. Ученый предъявлял ему обоснованно жесткую, корректную, научную аргументацию и в итоге одержал победу. При жизни С.И. Ожегова Словарь выдержал восемь изданий; каждое он тщательно дорабатыв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uction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Содержимое 4" descr="03lablv871224237705.jpg"/>
          <p:cNvPicPr/>
          <p:nvPr/>
        </p:nvPicPr>
        <p:blipFill>
          <a:blip r:embed="rId1"/>
          <a:stretch/>
        </p:blipFill>
        <p:spPr>
          <a:xfrm>
            <a:off x="4267080" y="500040"/>
            <a:ext cx="4448160" cy="22860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ключ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такое слово – "богорадить", то есть посвящать себя богоугодным делам. Сергей Иванович Ожегов и был таким "богорадным", "хорошим русским человеком и славным ученым", жизнь которого, не слишком долгая, но яркая, стремительная, богатая событиями и встречами, – достойна нашей памяти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Рисунок 5" descr="123638.jpg"/>
          <p:cNvPicPr/>
          <p:nvPr/>
        </p:nvPicPr>
        <p:blipFill>
          <a:blip r:embed="rId2"/>
          <a:stretch/>
        </p:blipFill>
        <p:spPr>
          <a:xfrm>
            <a:off x="5643720" y="178596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suction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287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здесь мы задаемся вопросом: почему мы до сих пор пользуемся словарем Ожегова? Наверное потому, что он понятно дает пояснения каждому слову как для ученого, так и для школьника. В нем находится богатый запас знакомых и незнакомых нам русских слов. Вот именно за его богатство и простоту мы до сих пор и пользуемся словарем С.И. Ожег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Содержимое 5" descr="1697504.jpg"/>
          <p:cNvPicPr/>
          <p:nvPr/>
        </p:nvPicPr>
        <p:blipFill>
          <a:blip r:embed="rId1"/>
          <a:stretch/>
        </p:blipFill>
        <p:spPr>
          <a:xfrm>
            <a:off x="4214880" y="428760"/>
            <a:ext cx="3929040" cy="35002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6" descr="school2501.jpg"/>
          <p:cNvPicPr/>
          <p:nvPr/>
        </p:nvPicPr>
        <p:blipFill>
          <a:blip r:embed="rId2"/>
          <a:stretch/>
        </p:blipFill>
        <p:spPr>
          <a:xfrm>
            <a:off x="4071960" y="307188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7" descr="123638.jpg"/>
          <p:cNvPicPr/>
          <p:nvPr/>
        </p:nvPicPr>
        <p:blipFill>
          <a:blip r:embed="rId3"/>
          <a:stretch/>
        </p:blipFill>
        <p:spPr>
          <a:xfrm>
            <a:off x="6858000" y="3857760"/>
            <a:ext cx="19764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suction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Жизнь С.И. Ожегова до его словар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ргей Иванович Ожегов родился 23 сентября (по новому стилю) 1900 года в поселке Каменное Новоторжского уезда Тверской губернии. Отец его, Иван Иванович Ожегов, работал инженером-технологом на местной фабрике. У С.И. Ожегова (старшего из детей) было два брата: средний – Борис и младший – Евгений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suction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нун первой мировой войны семья С.И.Ожегова переезжает в Петроград, где он оканчивает гимназию. Сережа был живой и веселый мальчик. По словам Сергея Сергеевича, сына Ожегова, у отца была "бурная, горячая молодость": он увлекался футболом, только входившим тогда в моду, состоял в спортивном обществе, "еще почти мальчишкой вступил в партию эсеров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Содержимое 7" descr="school0409.jpg"/>
          <p:cNvPicPr/>
          <p:nvPr/>
        </p:nvPicPr>
        <p:blipFill>
          <a:blip r:embed="rId1"/>
          <a:stretch/>
        </p:blipFill>
        <p:spPr>
          <a:xfrm>
            <a:off x="5000760" y="185724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 1918 году Сергей Ожегов поступает в Петроградский университет. Увлечение именно филологией, возможно, оказалось наследственным. Мать Сергея Ивановича, Александра Федоровна (в девичестве Дегожская), приходилась внучатой племянницей известному филологу и педагогу, профессору Петербургского университета протоиерею Герасиму Петровичу Павскому (1787-1863). Его "Филологические наблюдения над составом русского языка" были удостоены Демидовской премии и изданы дважды. Так Императорская Академия наук почтила труд русского ученого, быть может, в силу своего священства понявшего дух и строй языка шире и яснее, чем многие талантливые современники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Содержимое 7" descr="i (1).jpg"/>
          <p:cNvPicPr/>
          <p:nvPr/>
        </p:nvPicPr>
        <p:blipFill>
          <a:blip r:embed="rId1"/>
          <a:stretch/>
        </p:blipFill>
        <p:spPr>
          <a:xfrm>
            <a:off x="4857840" y="1571760"/>
            <a:ext cx="4000320" cy="371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почитали, с ним не раз советовались ученейшие мужи: А.Х. Востоков, И.И. Срезневский, Ф.И. Буслаев. Конечно же, об этом знал С.И. Ожегов. Начавшиеся университетские занятия скоро пришлось прервать – С.И. Ожегов ушел добровольцем на фронт. Судьба предоставила ему первое по-настоящему мужское испытание, которое он выдержал, участвуя в боях на западе России, у Карельского перешейка, на Укра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Содержимое 5" descr="1298025318_tolkovyj_slovar_screenshot.png"/>
          <p:cNvPicPr/>
          <p:nvPr/>
        </p:nvPicPr>
        <p:blipFill>
          <a:blip r:embed="rId1"/>
          <a:stretch/>
        </p:blipFill>
        <p:spPr>
          <a:xfrm>
            <a:off x="4338720" y="1571760"/>
            <a:ext cx="423396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Содержимое 5" descr="03lablv871224237705.jpg"/>
          <p:cNvPicPr/>
          <p:nvPr/>
        </p:nvPicPr>
        <p:blipFill>
          <a:blip r:embed="rId1"/>
          <a:stretch/>
        </p:blipFill>
        <p:spPr>
          <a:xfrm>
            <a:off x="500040" y="642960"/>
            <a:ext cx="8072640" cy="59292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Окончив службу в 1922 году в штабе Харьковского военного округа, он сразу же вернулся в университет на факультет языкознания и материальной культуры. В 1926 году С.И.Ожегов завершает курс обучения и поступает в аспирантуру. К этому времени относятся его первые научные опыты. В собрании С.И.Ожегова в Архиве РАН сохранился "Проект словаря революционной эпохи" – предвестник будущей капитальной работы авторского коллектива под руководством Д.Н.Ушакова, где С.И.Ожегов был одним из самых активных участников, "движителей", как называл его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uction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онца 1920-х годов С.И.Ожегов работает над "Толковым словарем русского языка" – Ушаковским словарем, как назвали его позже. Коллеги – Г.О.Винокур, В.В.Виноградов, Б.А.Ларин, Б.В.Томашевский и прежде всего Д.Н.Ушаков – помогали и в какой-то мере воспитывали С.И.Ожегова. Но особенно любил и почитал он Дмитрия Николаевича Ушакова – легендарного русского ученого, педагога, самобытного художника, собирателя и знатока народной старины, мудрого и мужественного человека, почти забытого сей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Содержимое 5" descr="ushakov.jpg"/>
          <p:cNvPicPr/>
          <p:nvPr/>
        </p:nvPicPr>
        <p:blipFill>
          <a:blip r:embed="rId1"/>
          <a:stretch/>
        </p:blipFill>
        <p:spPr>
          <a:xfrm>
            <a:off x="5643720" y="78588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517400"/>
            <a:ext cx="47577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над Словарем закончилась в предвоенное время. В 1940-м году вышел последний 4-й том. Это стало настоящим событием. А С.И. Ожегов жил уже новыми замыслами. Один из них – составление популярного толкового однотомного словаря – подсказал ему Д.Н.  Ушаков. Но помешала войн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ых эвакуировали в августе-октябре 1941 года. Практически весь Институт языка и письменности оказался в Узбекист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Содержимое 7" descr="123638.jpg"/>
          <p:cNvPicPr/>
          <p:nvPr/>
        </p:nvPicPr>
        <p:blipFill>
          <a:blip r:embed="rId1"/>
          <a:stretch/>
        </p:blipFill>
        <p:spPr>
          <a:xfrm>
            <a:off x="6000840" y="1500120"/>
            <a:ext cx="262728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.И. Ожегов остался в Москве. Он разработал и читал студентам пединститута курс русской палеографии, дежурил в ночных патрулях, охраняя родной дом – впоследствии Институт русского языка. В эти годы С.И. Ожегов исполнял обязанности директора Института языка и письмен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Содержимое 7" descr="s1_439_5.jpg"/>
          <p:cNvPicPr/>
          <p:nvPr/>
        </p:nvPicPr>
        <p:blipFill>
          <a:blip r:embed="rId1"/>
          <a:stretch/>
        </p:blipFill>
        <p:spPr>
          <a:xfrm>
            <a:off x="4500720" y="500040"/>
            <a:ext cx="4041720" cy="257508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8" descr="school0406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264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suction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6:18:41Z</dcterms:created>
  <dc:creator>Admin</dc:creator>
  <dc:description/>
  <dc:language>en-US</dc:language>
  <cp:lastModifiedBy>Yra</cp:lastModifiedBy>
  <dcterms:modified xsi:type="dcterms:W3CDTF">2011-12-20T04:31:18Z</dcterms:modified>
  <cp:revision>12</cp:revision>
  <dc:subject/>
  <dc:title>Сергей Иванович Ожегов</dc:title>
</cp:coreProperties>
</file>