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346-1E51-4044-9FE3-EC0CE56D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B965-AEE1-4541-9EFE-3F1E8630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A6FC-E054-4BCC-AF5B-9DED2DA3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22AF-E762-4A8F-8C18-AF8D3BA4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2D9E9-1352-4230-830E-B50B317A8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73981-7FD4-41AE-9683-7EA575E2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F194B-7F1B-4A82-886E-2F5A3F2A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60144-C9C5-4342-8E60-8D496780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B42FF-A178-4595-8348-744A3A1E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AB43E-364D-44C5-B612-9C01557F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738C6-9624-49EC-9FC6-532368B3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35C0-3FB6-4C46-818F-BE97B755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927A0-AD1B-423F-B78B-B552C6D3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D5011-B19E-4BB0-87CC-D508431E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E8C5C-EC77-4761-9CD0-2A8C74F7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C58EC-02CC-479E-B3E0-73A3BFA4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0CE63-4373-4C5F-B473-67EF6A51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8C4-8325-472E-BDA8-63D0F268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EE54-A799-4C41-B047-4212C9C2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C8F-E471-4A4A-9064-6D326366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C3D-7B25-46AE-A5FD-65D30B3C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52BD-385E-48A8-AC93-B6170835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AF65-C99C-4AAE-9417-0E970E35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9552-9C0B-4B4B-871A-66043FFB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8AA5-11FA-41A2-885E-EEADDED830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0A00-4BBD-4DA0-B2F9-12F2458B15E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240" y="2997000"/>
            <a:ext cx="694548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Творческое назва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В судьбе оставленные шра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410080" y="189000"/>
            <a:ext cx="373392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Молчат гробницы, мумии и кости,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Лишь слову жизнь дана: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Из древней тьмы, на мировом погосте, 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Звучат лишь Письмена.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                                         И. Бунин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61928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1628640"/>
            <a:ext cx="748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ема учебного проект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поры об авторстве романа «Тихий Дон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Основополагающий вопрос</a:t>
            </a:r>
            <a:br>
              <a:rPr sz="2400"/>
            </a:br>
            <a:r>
              <a:rPr b="1" lang="ru-RU" sz="3100" spc="-1" strike="noStrike">
                <a:solidFill>
                  <a:srgbClr val="ffff99"/>
                </a:solidFill>
                <a:latin typeface="Tahoma"/>
              </a:rPr>
              <a:t>Кто истинный автор романа </a:t>
            </a:r>
            <a:br>
              <a:rPr sz="3100"/>
            </a:br>
            <a:r>
              <a:rPr b="1" lang="ru-RU" sz="3100" spc="-1" strike="noStrike">
                <a:solidFill>
                  <a:srgbClr val="ffff99"/>
                </a:solidFill>
                <a:latin typeface="Tahoma"/>
              </a:rPr>
              <a:t>«Тихий Дон»?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03280" y="5445000"/>
            <a:ext cx="5699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ебный предмет: литерату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астники: учащиеся 11 клас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IN00343_"/>
          <p:cNvPicPr/>
          <p:nvPr/>
        </p:nvPicPr>
        <p:blipFill>
          <a:blip r:embed="rId1"/>
          <a:stretch/>
        </p:blipFill>
        <p:spPr>
          <a:xfrm>
            <a:off x="1619280" y="1700280"/>
            <a:ext cx="2124000" cy="2663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3851280" y="2637000"/>
            <a:ext cx="2016000" cy="24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6012000" y="3357720"/>
            <a:ext cx="2160360" cy="24476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7622640" y="3357720"/>
            <a:ext cx="44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4426560" y="324648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3276720" y="1700280"/>
            <a:ext cx="31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        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Пояснительная записк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Актуальность данной темы обусловлена тем, что споры об авторстве «самой великой книги ХХ века» продолжаются до сих по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Проект способствует углублению знаний учащихся о личности М. А. Шолохова, его таланте и мастерстве, а также дает представление о полемике вокруг авторства романа « Тихий Дон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У детей формируются умения и навыки в работе с документами, письмами, текстом, развиваются коммуникативные навыки, творческие способ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Самостоятельные исследования учащихся включают следующие этап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- работу с монографией, документам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-  сопоставительный анализ текстов произведений М. А. Шолохова и Ф. Д. Крюков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-  исследование фактов биографий двух автор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-  результаты социологического опроса учащихся 11 класс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Практические занятия и исследовательская работа в группах помогут ученикам ответить на основной вопрос:  « Кто истинный автор романа      «Тихий Дон»?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Дидактическая цел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Восполнить информационный вакуум у учащихся по поводу авторства романа. « Тихий Дон» с целью правильной ориентации в творчестве классика русской литературы в цел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Методические задач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расширить представление учащихся о проблемах, возникших вокруг авторства роман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овершенствовать методику работы с  различными источниками (тексты, документы, письма, публицистика) с целью аргументации собственной точки зрени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формировать навыки лингвистического анализа текс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развить умения  исследовательской самостоятельной работы в группах с целью реализации коммуникативной компетенции учащихся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роблемы самостоятельных исследований учащихс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56944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Загадки романа « Тихий Дон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Версии о предполагаемом авторстве ром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«Рукописи не горят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Соотношение реалий действительности, отображенных в романе, с жизненной биографией М. А. Шолох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Характерные особенности стиля М. Шолохова и манера письма Ф. Крюк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УМПК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2258640"/>
            <a:ext cx="381312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Результаты исследований учащих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Презентация учащих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формационный букл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2640" y="1905120"/>
            <a:ext cx="387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Материалы к проек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Дидактические материа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Веб – сай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Критерии оценивания работ      учащих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4"/>
          <p:cNvSpPr/>
          <p:nvPr/>
        </p:nvSpPr>
        <p:spPr>
          <a:xfrm flipH="1">
            <a:off x="2555640" y="1557360"/>
            <a:ext cx="1368360" cy="35892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995640" y="1557360"/>
            <a:ext cx="2592360" cy="35892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Этапы и сроки провед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«Мозговой штурм» ( формирование тем исследований учеников) – 3 урок, 15 мину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Формирование групп для проведения исследований,  выдвижение гипотез решения проблем – 2 урок, 10 мину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Выбор творческого названия проекта ( совместно с учащимися), обсуждение плана работы учащихся индивидуально или  в группе –2 урок,20 мину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Обсуждение со школьниками возможных источников информации, вопросов защиты авторских прав – 4 урок, 10 минут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Этапы и сроки провед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Самостоятельная работа групп по выполнению заданий, самостоятельная работа учащихся по обсуждению задания каждого в группе - 3 у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Подготовка школьниками презентации по отчету о проделанной работе, защита полученных результатов и выводов 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4 уро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Информационные ресурс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В.А. Чалмаев «М.А. Шолохов в жизни и творчестве» Москва «Русское слово», 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М.Шолохов в школе. Книга для учителя. Москва «Дрофа», 2001 Автор – составитель М.А. Нянко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Ф.Г. Бирюков «Художественное открытие М. Шолохова» Москва, 198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«Загадки и тайны «Тихого Дона» Самара, 199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Л.Е. Колодный «Кто написал «Тихий Дон» Москва, 199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http://www.philol.msu.ru/~lex/td/?pid=012182&amp;oid=04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06T19:12:05Z</dcterms:modified>
  <cp:revision>40</cp:revision>
  <dc:subject/>
  <dc:title>PowerPoint Presentation</dc:title>
</cp:coreProperties>
</file>