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3DE5-4996-4E10-BEFF-B6EB699EF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5013-9FEA-4E54-BF06-A5787D1B9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6B77-B9D3-47F3-BBA7-94B8D2C7F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CB3C-27D8-4AE6-A54F-7A494F8A4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4295E5-9C87-4671-8215-FFD86FDD9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F5F1AC-8292-4B44-A001-ADE8628D1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54C602-93C1-4E1A-8927-13C13882C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6B8A1C-ABB6-4318-A103-2F9EB3E04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AF004C-0FDB-440D-93D6-EB155F570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4AF6E3-5DAA-4D2A-8312-F38C213A7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80E1B4-3D09-413D-958F-D0FBA437A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C1F2-3A4B-4490-92CD-A50B7CC9B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5C1D1F-F9CB-4F6A-B645-E639135B8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8C3B4A-A0CD-48F3-B7CF-BDE119BC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55CC97-BE1A-4D9D-9B5C-D4C97E033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C18A1E-AA1F-495E-9B2C-AED956893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9B22E8-BB07-42DA-BDCE-EA8D89A13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6842-B037-4A9C-9DB2-613731964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B41C-3E92-40EA-9B98-D97FE5F05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1656-9F1D-448C-AAD6-7BC7CAC74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FC04-02FF-41AA-B75E-A815943ED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A9CC-A143-4C1F-A9B9-220B4E62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A9F5-D16A-497D-9EBD-DF8C18318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A116-650D-4C78-AB39-1189D886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4805C-FB2F-4E4D-BDE5-6C451C60FF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AAE8A-A59E-4363-8D81-55FC0DC69AA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564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240" y="2997000"/>
            <a:ext cx="6945480" cy="172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Творческое название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cc3300"/>
                </a:solidFill>
                <a:latin typeface="Tahoma"/>
              </a:rPr>
              <a:t>В судьбе оставленные шрам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5410080" y="189000"/>
            <a:ext cx="3733920" cy="18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Молчат гробницы, мумии и кости,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–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1600"/>
            </a:b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Лишь слову жизнь дана:</a:t>
            </a:r>
            <a:br>
              <a:rPr sz="1600"/>
            </a:b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Из древней тьмы, на мировом погосте, </a:t>
            </a:r>
            <a:br>
              <a:rPr sz="1600"/>
            </a:b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Звучат лишь Письмена.</a:t>
            </a:r>
            <a:br>
              <a:rPr sz="1600"/>
            </a:b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                                         И. Бунин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1619280" y="170028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0" y="1628640"/>
            <a:ext cx="748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ема учебного проект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поры об авторстве романа «Тихий Дон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Основополагающий вопрос</a:t>
            </a:r>
            <a:br>
              <a:rPr sz="2400"/>
            </a:br>
            <a:r>
              <a:rPr b="1" lang="ru-RU" sz="3100" spc="-1" strike="noStrike">
                <a:solidFill>
                  <a:srgbClr val="ffff99"/>
                </a:solidFill>
                <a:latin typeface="Tahoma"/>
              </a:rPr>
              <a:t>Кто истинный автор романа </a:t>
            </a:r>
            <a:br>
              <a:rPr sz="3100"/>
            </a:br>
            <a:r>
              <a:rPr b="1" lang="ru-RU" sz="3100" spc="-1" strike="noStrike">
                <a:solidFill>
                  <a:srgbClr val="ffff99"/>
                </a:solidFill>
                <a:latin typeface="Tahoma"/>
              </a:rPr>
              <a:t>«Тихий Дон»?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03280" y="5445000"/>
            <a:ext cx="569916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Учебный предмет: литератур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Участники: учащиеся 11 класс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4" descr="IN00343_"/>
          <p:cNvPicPr/>
          <p:nvPr/>
        </p:nvPicPr>
        <p:blipFill>
          <a:blip r:embed="rId1"/>
          <a:stretch/>
        </p:blipFill>
        <p:spPr>
          <a:xfrm>
            <a:off x="1619280" y="1700280"/>
            <a:ext cx="2124000" cy="266364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5"/>
          <p:cNvSpPr/>
          <p:nvPr/>
        </p:nvSpPr>
        <p:spPr>
          <a:xfrm>
            <a:off x="3851280" y="2637000"/>
            <a:ext cx="2016000" cy="24476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2"/>
          <a:stretch/>
        </p:blipFill>
        <p:spPr>
          <a:xfrm>
            <a:off x="6012000" y="3357720"/>
            <a:ext cx="2160360" cy="24476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7"/>
          <p:cNvSpPr/>
          <p:nvPr/>
        </p:nvSpPr>
        <p:spPr>
          <a:xfrm>
            <a:off x="7622640" y="3357720"/>
            <a:ext cx="44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4426560" y="3246480"/>
            <a:ext cx="2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3276720" y="1700280"/>
            <a:ext cx="314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         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Пояснительная записка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99"/>
                </a:solidFill>
                <a:latin typeface="Tahoma"/>
              </a:rPr>
              <a:t>Актуальность данной темы обусловлена тем, что споры об авторстве «самой великой книги ХХ века» продолжаются до сих по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99"/>
                </a:solidFill>
                <a:latin typeface="Tahoma"/>
              </a:rPr>
              <a:t>Проект способствует углублению знаний учащихся о личности М. А. Шолохова, его таланте и мастерстве, а также дает представление о полемике вокруг авторства романа « Тихий Дон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99"/>
                </a:solidFill>
                <a:latin typeface="Tahoma"/>
              </a:rPr>
              <a:t>У детей формируются умения и навыки в работе с документами, письмами, текстом, развиваются коммуникативные навыки, творческие способност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99"/>
                </a:solidFill>
                <a:latin typeface="Tahoma"/>
              </a:rPr>
              <a:t>Самостоятельные исследования учащихся включают следующие этапы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99"/>
                </a:solidFill>
                <a:latin typeface="Tahoma"/>
              </a:rPr>
              <a:t>- работу с монографией, документами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99"/>
                </a:solidFill>
                <a:latin typeface="Tahoma"/>
              </a:rPr>
              <a:t>-  сопоставительный анализ текстов произведений М. А. Шолохова и Ф. Д. Крюкова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99"/>
                </a:solidFill>
                <a:latin typeface="Tahoma"/>
              </a:rPr>
              <a:t>-  исследование фактов биографий двух авторов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99"/>
                </a:solidFill>
                <a:latin typeface="Tahoma"/>
              </a:rPr>
              <a:t>-  результаты социологического опроса учащихся 11 класс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99"/>
                </a:solidFill>
                <a:latin typeface="Tahoma"/>
              </a:rPr>
              <a:t>Практические занятия и исследовательская работа в группах помогут ученикам ответить на основной вопрос:  « Кто истинный автор романа      «Тихий Дон»?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12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Дидактическая цел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ffff99"/>
                </a:solidFill>
                <a:latin typeface="Tahoma"/>
              </a:rPr>
              <a:t>Восполнить информационный вакуум у учащихся по поводу авторства романа. « Тихий Дон» с целью правильной ориентации в творчестве классика русской литературы в цело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Методические задач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Tahoma"/>
              </a:rPr>
              <a:t>расширить представление учащихся о проблемах, возникших вокруг авторства роман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99"/>
                </a:solidFill>
                <a:latin typeface="Tahoma"/>
              </a:rPr>
              <a:t>совершенствовать методику работы с  различными источниками (тексты, документы, письма, публицистика) с целью аргументации собственной точки зрения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Tahoma"/>
              </a:rPr>
              <a:t>сформировать навыки лингвистического анализа текст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Tahoma"/>
              </a:rPr>
              <a:t>развить умения  исследовательской самостоятельной работы в группах с целью реализации коммуникативной компетенции учащихся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Проблемы самостоятельных исследований учащихс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56944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Загадки романа « Тихий Дон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Версии о предполагаемом авторстве рома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«Рукописи не горят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Соотношение реалий действительности, отображенных в романе, с жизненной биографией М. А. Шолохо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Характерные особенности стиля М. Шолохова и манера письма Ф. Крюко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УМПК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360" y="2258640"/>
            <a:ext cx="3813120" cy="37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Результаты исследований учащихс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ahoma"/>
              </a:rPr>
              <a:t>Презентация учащих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Информационный букле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2640" y="1905120"/>
            <a:ext cx="387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Материалы к проект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ahoma"/>
              </a:rPr>
              <a:t>Дидактические материал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ahoma"/>
              </a:rPr>
              <a:t>Веб – сай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cc00"/>
                </a:solidFill>
                <a:uFillTx/>
                <a:latin typeface="Tahoma"/>
              </a:rPr>
              <a:t>Критерии оценивания работ      учащих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Line 4"/>
          <p:cNvSpPr/>
          <p:nvPr/>
        </p:nvSpPr>
        <p:spPr>
          <a:xfrm flipH="1">
            <a:off x="2555640" y="1557360"/>
            <a:ext cx="1368360" cy="35892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Line 5"/>
          <p:cNvSpPr/>
          <p:nvPr/>
        </p:nvSpPr>
        <p:spPr>
          <a:xfrm>
            <a:off x="3995640" y="1557360"/>
            <a:ext cx="2592360" cy="358920"/>
          </a:xfrm>
          <a:prstGeom prst="line">
            <a:avLst/>
          </a:prstGeom>
          <a:ln w="284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Этапы и сроки проведен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ahoma"/>
              </a:rPr>
              <a:t>«Мозговой штурм» ( формирование тем исследований учеников) – 3 урок, 15 мину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ahoma"/>
              </a:rPr>
              <a:t>Формирование групп для проведения исследований,  выдвижение гипотез решения проблем – 2 урок, 10 мину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ahoma"/>
              </a:rPr>
              <a:t>Выбор творческого названия проекта ( совместно с учащимися), обсуждение плана работы учащихся индивидуально или  в группе –2 урок,20 мину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ahoma"/>
              </a:rPr>
              <a:t>Обсуждение со школьниками возможных источников информации, вопросов защиты авторских прав – 4 урок, 10 минут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Этапы и сроки проведен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Самостоятельная работа групп по выполнению заданий, самостоятельная работа учащихся по обсуждению задания каждого в группе - 3 уро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Подготовка школьниками презентации по отчету о проделанной работе, защита полученных результатов и выводов  –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    </a:t>
            </a: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4 урок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Информационные ресурс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ahoma"/>
              </a:rPr>
              <a:t>В.А. Чалмаев «М.А. Шолохов в жизни и творчестве» Москва «Русское слово», 200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ahoma"/>
              </a:rPr>
              <a:t>М.Шолохов в школе. Книга для учителя. Москва «Дрофа», 2001 Автор – составитель М.А. Нянковск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ahoma"/>
              </a:rPr>
              <a:t>Ф.Г. Бирюков «Художественное открытие М. Шолохова» Москва, 198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ahoma"/>
              </a:rPr>
              <a:t>«Загадки и тайны «Тихого Дона» Самара, 199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ahoma"/>
              </a:rPr>
              <a:t>Л.Е. Колодный «Кто написал «Тихий Дон» Москва, 199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ahoma"/>
              </a:rPr>
              <a:t>http://www.philol.msu.ru/~lex/td/?pid=012182&amp;oid=04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5-06T19:12:05Z</dcterms:modified>
  <cp:revision>40</cp:revision>
  <dc:subject/>
  <dc:title>PowerPoint Presentation</dc:title>
</cp:coreProperties>
</file>