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E6B-447D-4B48-B4B1-652F2D1F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386-6C2C-4F6C-BAC4-FA5CE170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095-2DB5-4EC3-84AB-44D19B9A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9D1-75CA-4341-8E83-361CC99E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C31EF-6C25-4C50-8BA3-C9920530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EC4EA-B75E-4563-A3F8-7E0FF043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BB038-658D-405D-9829-55AA495C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53EB6-7ABD-43A9-BFC7-6E353E2F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7ECAE-2583-4D7A-9830-68EB7654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155CF-D6D1-4E1E-B703-8FEB1344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F0DBF-95CA-42AA-AC00-4DFB532A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E9C-81D6-44E3-A81F-2E2E3836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66194-8D82-4BD4-90FC-288B52E5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30C7D-FBEC-423F-A69E-D4C9965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6D256-582C-49A0-A59E-245560F3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B549E-6E4B-47BE-94BE-FE3D56F3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E4B14-9819-4918-A4B4-C0A872B5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29C-B06A-4C3A-B352-8DC30B57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DBA-BF5C-40F2-9815-3A2AB62D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185-0A48-4E48-AAAA-4E99F40C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419-C2A2-455C-9A8C-0380D413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C86-B408-467B-A3B2-403F76F8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E27-AD88-48FF-923D-1FBD3CB7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13B-4C8F-4BAB-BA9D-5ED35342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AFCE-4D6B-410F-BFDC-8DC7DF73E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4417-4D91-46C2-BBB6-76ADA83FD7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2997000"/>
            <a:ext cx="694548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Творческое назва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В судьбе оставленные шра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410080" y="189000"/>
            <a:ext cx="37339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Молчат гробницы, мумии и кости,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Лишь слову жизнь дана: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Из древней тьмы, на мировом погосте, 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Звучат лишь Письмена.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                                        И. Бунин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61928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1628640"/>
            <a:ext cx="74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ма учебного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поры об авторстве романа «Тихий Дон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Основополагающий вопрос</a:t>
            </a:r>
            <a:br>
              <a:rPr sz="2400"/>
            </a:br>
            <a:r>
              <a:rPr b="1" lang="ru-RU" sz="3100" spc="-1" strike="noStrike">
                <a:solidFill>
                  <a:srgbClr val="ffff99"/>
                </a:solidFill>
                <a:latin typeface="Tahoma"/>
              </a:rPr>
              <a:t>Кто истинный автор романа </a:t>
            </a:r>
            <a:br>
              <a:rPr sz="3100"/>
            </a:br>
            <a:r>
              <a:rPr b="1" lang="ru-RU" sz="3100" spc="-1" strike="noStrike">
                <a:solidFill>
                  <a:srgbClr val="ffff99"/>
                </a:solidFill>
                <a:latin typeface="Tahoma"/>
              </a:rPr>
              <a:t>«Тихий Дон»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3280" y="5445000"/>
            <a:ext cx="5699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ый предмет: литера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астники: учащиеся 11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IN00343_"/>
          <p:cNvPicPr/>
          <p:nvPr/>
        </p:nvPicPr>
        <p:blipFill>
          <a:blip r:embed="rId1"/>
          <a:stretch/>
        </p:blipFill>
        <p:spPr>
          <a:xfrm>
            <a:off x="1619280" y="1700280"/>
            <a:ext cx="2124000" cy="2663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851280" y="2637000"/>
            <a:ext cx="2016000" cy="24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160360" cy="2447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7622640" y="3357720"/>
            <a:ext cx="44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426560" y="32464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276720" y="1700280"/>
            <a:ext cx="31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яснительная запис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Актуальность данной темы обусловлена тем, что споры об авторстве «самой великой книги ХХ века» продолжаются до сих п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Проект способствует углублению знаний учащихся о личности М. А. Шолохова, его таланте и мастерстве, а также дает представление о полемике вокруг авторства романа « Тихий Дон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У детей формируются умения и навыки в работе с документами, письмами, текстом, развиваются коммуникативные навыки, творческие способ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Самостоятельные исследования учащихся включают следующие этап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работу с монографией, документам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 сопоставительный анализ текстов произведений М. А. Шолохова и Ф. Д. Крюко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 исследование фактов биографий двух автор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-  результаты социологического опроса учащихся 11 клас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Практические занятия и исследовательская работа в группах помогут ученикам ответить на основной вопрос:  « Кто истинный автор романа      «Тихий Дон»?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Дидактическая ц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Восполнить информационный вакуум у учащихся по поводу авторства романа. « Тихий Дон» с целью правильной ориентации в творчестве классика русской литературы в це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етодические зада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расширить представление учащихся о проблемах, возникших вокруг авторства рома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овершенствовать методику работы с  различными источниками (тексты, документы, письма, публицистика) с целью аргументации собственной точки зр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формировать навыки лингвистического анализа текс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развить умения  исследовательской самостоятельной работы в группах с целью реализации коммуникативной компетенции учащихся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облемы самостоятельных исследований учащих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Загадки романа « Тихий Дон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Версии о предполагаемом авторстве ром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«Рукописи не горя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оотношение реалий действительности, отображенных в романе, с жизненной биографией М. А. Шолох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Характерные особенности стиля М. Шолохова и манера письма Ф. Крюк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УМП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2258640"/>
            <a:ext cx="381312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езультаты исследований учащих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Презентация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формационный бук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387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атериалы к проек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Дидактические матери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Веб – сай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Критерии оценивания работ     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4"/>
          <p:cNvSpPr/>
          <p:nvPr/>
        </p:nvSpPr>
        <p:spPr>
          <a:xfrm flipH="1">
            <a:off x="2555640" y="1557360"/>
            <a:ext cx="1368360" cy="3589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995640" y="1557360"/>
            <a:ext cx="2592360" cy="35892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Этапы и сроки прове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«Мозговой штурм» ( формирование тем исследований учеников) – 3 урок, 15 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Формирование групп для проведения исследований,  выдвижение гипотез решения проблем – 2 урок, 10 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Выбор творческого названия проекта ( совместно с учащимися), обсуждение плана работы учащихся индивидуально или  в группе –2 урок,20 мин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Обсуждение со школьниками возможных источников информации, вопросов защиты авторских прав – 4 урок, 10 минут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Этапы и сроки прове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амостоятельная работа групп по выполнению заданий, самостоятельная работа учащихся по обсуждению задания каждого в группе - 3 у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Подготовка школьниками презентации по отчету о проделанной работе, защита полученных результатов и выводов 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4 ур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Информационные ресурс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В.А. Чалмаев «М.А. Шолохов в жизни и творчестве» Москва «Русское слово»,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М.Шолохов в школе. Книга для учителя. Москва «Дрофа», 2001 Автор – составитель М.А. Нян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Ф.Г. Бирюков «Художественное открытие М. Шолохова» Москва, 19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«Загадки и тайны «Тихого Дона» Самара, 199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Л.Е. Колодный «Кто написал «Тихий Дон» Москва, 199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http://www.philol.msu.ru/~lex/td/?pid=012182&amp;oid=0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6T19:12:05Z</dcterms:modified>
  <cp:revision>40</cp:revision>
  <dc:subject/>
  <dc:title>PowerPoint Presentation</dc:title>
</cp:coreProperties>
</file>