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00E-CED1-4686-A0DF-81D83E0D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3C3-C8F5-4A82-B902-B38BD07C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1BE-0FC1-4957-B457-CC9DDB54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381-FC4D-4D4F-8489-3C13862E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9F5-83E0-4CAC-8AC4-09E0BA7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D8A-6810-447A-84B0-FF65960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358-DDAD-4B9C-BF97-B13E0EC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DBB-16BF-41ED-9183-D7011B3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1AF-47C0-4970-9B4F-BA925B8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671-455C-4BB4-A0F7-4D3FE8B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187-8980-4B34-875E-A88645F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310-EF97-4598-B9D2-B614010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BEB-C471-4BC7-B9E0-F104C9347C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Роль микроорганизмов в разрушении материа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бумаг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иологическому разрушению подвергается не только готовая бумага, но и сырье для ее изготовления. Носителями вредных микроорганизмов в бумажном производстве могут быть сырье, воздух и вода. Очень опасны для целлюлозы находящиеся в воде представители семейства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микроорганизмов бумагу разрушают бактерии и грибы, имеющие энзим целлюлазу, который расщепляет целлюл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сени развиваются на бумаге различным образом. Некоторые из них продырявливают бумагу с поверхности, другие, внедряясь, прорастают в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69 из 850"/>
          <p:cNvPicPr/>
          <p:nvPr/>
        </p:nvPicPr>
        <p:blipFill>
          <a:blip r:embed="rId2"/>
          <a:stretch/>
        </p:blipFill>
        <p:spPr>
          <a:xfrm>
            <a:off x="1116000" y="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68 из 850"/>
          <p:cNvPicPr/>
          <p:nvPr/>
        </p:nvPicPr>
        <p:blipFill>
          <a:blip r:embed="rId3"/>
          <a:stretch/>
        </p:blipFill>
        <p:spPr>
          <a:xfrm>
            <a:off x="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64 из 850"/>
          <p:cNvPicPr/>
          <p:nvPr/>
        </p:nvPicPr>
        <p:blipFill>
          <a:blip r:embed="rId4"/>
          <a:stretch/>
        </p:blipFill>
        <p:spPr>
          <a:xfrm>
            <a:off x="7215120" y="4149720"/>
            <a:ext cx="19288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66 из 850"/>
          <p:cNvPicPr/>
          <p:nvPr/>
        </p:nvPicPr>
        <p:blipFill>
          <a:blip r:embed="rId5"/>
          <a:stretch/>
        </p:blipFill>
        <p:spPr>
          <a:xfrm>
            <a:off x="0" y="1341360"/>
            <a:ext cx="184932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17 из 850"/>
          <p:cNvPicPr/>
          <p:nvPr/>
        </p:nvPicPr>
        <p:blipFill>
          <a:blip r:embed="rId6"/>
          <a:stretch/>
        </p:blipFill>
        <p:spPr>
          <a:xfrm>
            <a:off x="7240680" y="1197000"/>
            <a:ext cx="190332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476360" y="3571920"/>
            <a:ext cx="4390920" cy="328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70 из 850"/>
          <p:cNvPicPr/>
          <p:nvPr/>
        </p:nvPicPr>
        <p:blipFill>
          <a:blip r:embed="rId8"/>
          <a:stretch/>
        </p:blipFill>
        <p:spPr>
          <a:xfrm>
            <a:off x="3924360" y="1844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та бумаги от микро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настоящего времени не существует защиты бумаги от воздействия микроорганизмов, которая соответствовала бы всем необходимым требованиям (отсутствие запаха, эффективность действия при малой дозировке, достаточная растворимость в воде, безвредность для человеческого организма, доступность и дешевиз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нзойная и салициловая кислота и их производные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рименяются для антисептической бумаги и таких изделий, как вата, целлюлоза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и серебр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ввиду дороговизны серебро не получило распространения в качестве препарата для защиты бумаги от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ные фенол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эти препараты негодны для защиты бумаги, применяемой для пищевых продуктов, поскольку они обладают сильным запахом и токсичны для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 ртути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 распространенным и эффективным является фунгицид--ацетат фенилртути, не снижает механической прочности бумаги.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 – деструкторы лаков и кра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плесневых грибов на красках проявляется пятнами, и многие разновидности такого плесневого гриба выпадают в загрязняющий осадок в краске. Плесень и небиологические осадки взаимосвяз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ок дает достаточно питания для развития микроорганизмов, а нарастающая масса микроорганизмов образует подходящую поверхность для скопления еще большего количества загрязнений, а это создает питание другим микроорганизмам и т. д. Таким путем происходит накопление небиологических осадков, включающих в себя и микроорган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кож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уральная кожа, являясь природным белковым материалом, приобретает товарные качества в результате многостадийной обработки разнообразными химическими реагентами и представляет собой питательную среду, на которой осаждаются и развиваются споры плесневых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икробы, которые оказываются на шкуре после ее снятия, частично имелись при жизни животного, а частично попали на нее после снятия шкуры, поэтому сразу после снятия ее подвергают консервированию растворами, в которые вводят биоц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ициды - вещества, уничтожающие живые организмы. Включают пестициды (бактерициды, фунгициды, инсектициды, гербициды, зооциды и др.), антисептические, дезинфекционные и консервирующиесред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организмы парной шк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нсервированная шкура легко поддается гни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микробов парной шкуры имеется большое количество так называемых гнилостных. В числе их встречаются коки и палочки, аэробы и анаэробы. Общим признаком для этих микробов является способность их разлагать белки. Чаще всего встречаются палочковы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ервирование кожевенного сы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едохранения шкур от загнивания их консервируют. В настоящее время обычно применяются следующие способы консервирования шкур: мокросоление, пресная сушка, сухосоление и замораж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2 из 2797"/>
          <p:cNvPicPr/>
          <p:nvPr/>
        </p:nvPicPr>
        <p:blipFill>
          <a:blip r:embed="rId2"/>
          <a:stretch/>
        </p:blipFill>
        <p:spPr>
          <a:xfrm>
            <a:off x="0" y="614520"/>
            <a:ext cx="662292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родная устойчивость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е целлюлозные материалы могут служить питанием для микроорганизмов. При наличии в материале 10% влаги из спор развивается мицелий. Волокна плесневых грибов растут как на поверхности, так и внутри текстильного волокна. Это вызывает в волокне как химические, так и физические изменения. В результате волокно снижает свою прочность и обесцве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виды хлопка более устойчивы к микробиологическому разрушению, чем другие. Самый прочный хлопок - американский, наименее прочный - индий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кр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ный способ консервирования. Производится посыпанием шкуры поваренной солью или опусканием ее в концентрированный раствор поваренной соли (тузлук)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ная с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а на удалении из парной шкуры около 60% влаги, благодаря чему прекращается развитие бактерий и шкура не загн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шка производится на открытом воздухе под навесами при температуре воздуха 18—2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шки шкуры навешивают по хребту на шесты, шерстью вниз. Продолжительность сушки — около двух суток и более, в зависимости от толщины шкуры, влажности и температуры возду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вид консервирования применяется для мелкого сырья, так как его легче довести до сухого состояния и удобнее транспортир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х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комбинированный способ консервирования. При этом способе сырье предварительно подвергают засолке, так же как при мокросолении, но с уменьшенным количеством соли, а затем суш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ора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ет собой способ консервирования, основанный на том, что жизнедеятельность бактерий прекращается при низких температур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оженое сырье отличается хрупкостью, ломкостью; оно громоздко и, следовательно, неудобно для перевозки. При оттаивании оно загни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замораживание допускается только в отдельных случаях, когда не могут быть применены другие способ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есневые грибы в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0 из 89"/>
          <p:cNvPicPr/>
          <p:nvPr/>
        </p:nvPicPr>
        <p:blipFill>
          <a:blip r:embed="rId2"/>
          <a:stretch/>
        </p:blipFill>
        <p:spPr>
          <a:xfrm>
            <a:off x="0" y="1125360"/>
            <a:ext cx="5425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о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илцеллюлозные волокна более устойчивы, чем целлюлоза, шерсть и шел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, выставленные на солнечный свет, биологически меньше повреждаются чем те, которые оставались в тени, хотя при этом обнаруживают большую потерю прочности в результате химического распада целлюл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ой хлопок содержит главные минеральные вещества (К, Na, Ca, Mg), значительно способствующие росту плесневых грибов. В нем имеются также главные микроэлементы (Fe, Cu,. Zn), стимулирующие рост определенных микро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беливание на 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22 из 272"/>
          <p:cNvPicPr/>
          <p:nvPr/>
        </p:nvPicPr>
        <p:blipFill>
          <a:blip r:embed="rId2"/>
          <a:stretch/>
        </p:blipFill>
        <p:spPr>
          <a:xfrm>
            <a:off x="971640" y="1638360"/>
            <a:ext cx="6913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, могут быть разделены на 3 группы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, актиномицеты,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тек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ие соединения меди - самые эффективные фунгициды для обработки текстиля с целью повышения его устойчивости к плесневению. Прежде всего следует упомяну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фтена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в больших количествах используются для различных текстиль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фтенат ме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- твердый или очень вязкий продукт сине-зеленого цвета. Обладает неприятным запахом из-за наличия посторонних веществ в сырой смеси нафтеновых кислот. Нафтенат меди растворим в органических растворителях, бензоле, ксилоле, минеральных маслах. Не растворим в спи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представляет собой соль нафтеновой кислоты. В действительности применяемая для его изготовления нафтеновая кислота является смесью различных нафтеновых кислот и друг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хинолинат меди - вещество желто-зеленого цвета, без запаха, практически нерастворим в воде, спирте, эфире и в большинстве обычных органических растворителей. Очень незначительно растворим в уайтспирите и хлорофор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Ольга</cp:lastModifiedBy>
  <dcterms:modified xsi:type="dcterms:W3CDTF">2012-04-19T20:40:54Z</dcterms:modified>
  <cp:revision>834</cp:revision>
  <dc:subject/>
  <dc:title>Diapositiva 1</dc:title>
</cp:coreProperties>
</file>