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8B3-91F5-42A9-84DF-1376CBE9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16E-5E56-44EC-9150-2AFB21C8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380-C8CD-454A-8146-8E51DBE7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0EA-BFCA-4405-8806-F7498AD5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660-3D21-4B0D-A3C6-71BEE477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5B4-7677-4B1D-8A4E-02D8CFD9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68E-904B-474D-B8D1-916D25D4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685-CB06-41EF-9DDF-547C898E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4E8-38D9-49C2-B860-83B2CC9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53F-CD0A-42FF-AA00-136D70AD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AEC-9769-4860-BAD4-94DA1F98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A5D-D545-4234-8D52-12C2D2A8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B5B0-1BF7-4CD2-A6D3-3B255E084B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Роль микроорганизмов в разрушении материа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тойчивость бумаги к микроорганиз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биологическому разрушению подвергается не только готовая бумага, но и сырье для ее изготовления. Носителями вредных микроорганизмов в бумажном производстве могут быть сырье, воздух и вода. Очень опасны для целлюлозы находящиеся в воде представители семейства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микроорганизмов бумагу разрушают бактерии и грибы, имеющие энзим целлюлазу, который расщепляет целлюло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сени развиваются на бумаге различным образом. Некоторые из них продырявливают бумагу с поверхности, другие, внедряясь, прорастают в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69 из 850"/>
          <p:cNvPicPr/>
          <p:nvPr/>
        </p:nvPicPr>
        <p:blipFill>
          <a:blip r:embed="rId2"/>
          <a:stretch/>
        </p:blipFill>
        <p:spPr>
          <a:xfrm>
            <a:off x="1116000" y="0"/>
            <a:ext cx="34560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68 из 850"/>
          <p:cNvPicPr/>
          <p:nvPr/>
        </p:nvPicPr>
        <p:blipFill>
          <a:blip r:embed="rId3"/>
          <a:stretch/>
        </p:blipFill>
        <p:spPr>
          <a:xfrm>
            <a:off x="0" y="4221000"/>
            <a:ext cx="1871640" cy="26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64 из 850"/>
          <p:cNvPicPr/>
          <p:nvPr/>
        </p:nvPicPr>
        <p:blipFill>
          <a:blip r:embed="rId4"/>
          <a:stretch/>
        </p:blipFill>
        <p:spPr>
          <a:xfrm>
            <a:off x="7215120" y="4149720"/>
            <a:ext cx="192888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66 из 850"/>
          <p:cNvPicPr/>
          <p:nvPr/>
        </p:nvPicPr>
        <p:blipFill>
          <a:blip r:embed="rId5"/>
          <a:stretch/>
        </p:blipFill>
        <p:spPr>
          <a:xfrm>
            <a:off x="0" y="1341360"/>
            <a:ext cx="1849320" cy="280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17 из 850"/>
          <p:cNvPicPr/>
          <p:nvPr/>
        </p:nvPicPr>
        <p:blipFill>
          <a:blip r:embed="rId6"/>
          <a:stretch/>
        </p:blipFill>
        <p:spPr>
          <a:xfrm>
            <a:off x="7240680" y="1197000"/>
            <a:ext cx="1903320" cy="28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1476360" y="3571920"/>
            <a:ext cx="4390920" cy="3286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70 из 850"/>
          <p:cNvPicPr/>
          <p:nvPr/>
        </p:nvPicPr>
        <p:blipFill>
          <a:blip r:embed="rId8"/>
          <a:stretch/>
        </p:blipFill>
        <p:spPr>
          <a:xfrm>
            <a:off x="3924360" y="1844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щита бумаги от микро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настоящего времени не существует защиты бумаги от воздействия микроорганизмов, которая соответствовала бы всем необходимым требованиям (отсутствие запаха, эффективность действия при малой дозировке, достаточная растворимость в воде, безвредность для человеческого организма, доступность и дешевиз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гициды для бум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нзойная и салициловая кислота и их производные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применяются для антисептической бумаги и таких изделий, как вата, целлюлоза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и серебра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ввиду дороговизны серебро не получило распространения в качестве препарата для защиты бумаги от микро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ные фенола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эти препараты негодны для защиты бумаги, применяемой для пищевых продуктов, поскольку они обладают сильным запахом и токсичны для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ческие соединения ртути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м распространенным и эффективным является фунгицид--ацетат фенилртути, не снижает механической прочности бумаги.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кроорганизмы – деструкторы лаков и крас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плесневых грибов на красках проявляется пятнами, и многие разновидности такого плесневого гриба выпадают в загрязняющий осадок в краске. Плесень и небиологические осадки взаимосвяз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адок дает достаточно питания для развития микроорганизмов, а нарастающая масса микроорганизмов образует подходящую поверхность для скопления еще большего количества загрязнений, а это создает питание другим микроорганизмам и т. д. Таким путем происходит накопление небиологических осадков, включающих в себя и микроорганиз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тойчивость кожи к микроорганиз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туральная кожа, являясь природным белковым материалом, приобретает товарные качества в результате многостадийной обработки разнообразными химическими реагентами и представляет собой питательную среду, на которой осаждаются и развиваются споры плесневых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икробы, которые оказываются на шкуре после ее снятия, частично имелись при жизни животного, а частично попали на нее после снятия шкуры, поэтому сразу после снятия ее подвергают консервированию растворами, в которые вводят биоц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ициды - вещества, уничтожающие живые организмы. Включают пестициды (бактерициды, фунгициды, инсектициды, гербициды, зооциды и др.), антисептические, дезинфекционные и консервирующиесред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кроорганизмы парной шк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нсервированная шкура легко поддается гни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микробов парной шкуры имеется большое количество так называемых гнилостных. В числе их встречаются коки и палочки, аэробы и анаэробы. Общим признаком для этих микробов является способность их разлагать белки. Чаще всего встречаются палочковые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сервирование кожевенного сыр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едохранения шкур от загнивания их консервируют. В настоящее время обычно применяются следующие способы консервирования шкур: мокросоление, пресная сушка, сухосоление и заморажи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Картинка 2 из 2797"/>
          <p:cNvPicPr/>
          <p:nvPr/>
        </p:nvPicPr>
        <p:blipFill>
          <a:blip r:embed="rId2"/>
          <a:stretch/>
        </p:blipFill>
        <p:spPr>
          <a:xfrm>
            <a:off x="0" y="614520"/>
            <a:ext cx="662292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родная устойчивость тексти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е целлюлозные материалы могут служить питанием для микроорганизмов. При наличии в материале 10% влаги из спор развивается мицелий. Волокна плесневых грибов растут как на поверхности, так и внутри текстильного волокна. Это вызывает в волокне как химические, так и физические изменения. В результате волокно снижает свою прочность и обесцвеч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виды хлопка более устойчивы к микробиологическому разрушению, чем другие. Самый прочный хлопок - американский, наименее прочный - индий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кросо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распространенный способ консервирования. Производится посыпанием шкуры поваренной солью или опусканием ее в концентрированный раствор поваренной соли (тузлук)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сная с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а на удалении из парной шкуры около 60% влаги, благодаря чему прекращается развитие бактерий и шкура не загн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шка производится на открытом воздухе под навесами при температуре воздуха 18—25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ушки шкуры навешивают по хребту на шесты, шерстью вниз. Продолжительность сушки — около двух суток и более, в зависимости от толщины шкуры, влажности и температуры возду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вид консервирования применяется для мелкого сырья, так как его легче довести до сухого состояния и удобнее транспортиро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хосо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комбинированный способ консервирования. При этом способе сырье предварительно подвергают засолке, так же как при мокросолении, но с уменьшенным количеством соли, а затем суш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ора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ет собой способ консервирования, основанный на том, что жизнедеятельность бактерий прекращается при низких температура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оженое сырье отличается хрупкостью, ломкостью; оно громоздко и, следовательно, неудобно для перевозки. При оттаивании оно загни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замораживание допускается только в отдельных случаях, когда не могут быть применены другие способ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есневые грибы в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50 из 89"/>
          <p:cNvPicPr/>
          <p:nvPr/>
        </p:nvPicPr>
        <p:blipFill>
          <a:blip r:embed="rId2"/>
          <a:stretch/>
        </p:blipFill>
        <p:spPr>
          <a:xfrm>
            <a:off x="0" y="1125360"/>
            <a:ext cx="54259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о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илцеллюлозные волокна более устойчивы, чем целлюлоза, шерсть и шел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и, выставленные на солнечный свет, биологически меньше повреждаются чем те, которые оставались в тени, хотя при этом обнаруживают большую потерю прочности в результате химического распада целлюл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рой хлопок содержит главные минеральные вещества (К, Na, Ca, Mg), значительно способствующие росту плесневых грибов. В нем имеются также главные микроэлементы (Fe, Cu,. Zn), стимулирующие рост определенных микро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беливание на 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22 из 272"/>
          <p:cNvPicPr/>
          <p:nvPr/>
        </p:nvPicPr>
        <p:blipFill>
          <a:blip r:embed="rId2"/>
          <a:stretch/>
        </p:blipFill>
        <p:spPr>
          <a:xfrm>
            <a:off x="971640" y="1638360"/>
            <a:ext cx="69134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кроорганизмы, вызывающие порчу тексти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организмы, вызывающие порчу текстиля, могут быть разделены на 3 группы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есневые грибы, актиномицеты,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распространен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есневые гриб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гициды для текст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ческие соединения меди - самые эффективные фунгициды для обработки текстиля с целью повышения его устойчивости к плесневению. Прежде всего следует упомяну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фтенат м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ихинолят м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в больших количествах используются для различных текстильных изд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фтенат ме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фтенат меди - твердый или очень вязкий продукт сине-зеленого цвета. Обладает неприятным запахом из-за наличия посторонних веществ в сырой смеси нафтеновых кислот. Нафтенат меди растворим в органических растворителях, бензоле, ксилоле, минеральных маслах. Не растворим в спи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фтенат меди представляет собой соль нафтеновой кислоты. В действительности применяемая для его изготовления нафтеновая кислота является смесью различных нафтеновых кислот и других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сихинолят м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хинолинат меди - вещество желто-зеленого цвета, без запаха, практически нерастворим в воде, спирте, эфире и в большинстве обычных органических растворителей. Очень незначительно растворим в уайтспирите и хлорофор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Ольга</cp:lastModifiedBy>
  <dcterms:modified xsi:type="dcterms:W3CDTF">2012-04-19T20:40:54Z</dcterms:modified>
  <cp:revision>834</cp:revision>
  <dc:subject/>
  <dc:title>Diapositiva 1</dc:title>
</cp:coreProperties>
</file>