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9418-13C0-4277-99B5-FB500B98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2FE3-4164-47A0-9C3A-34987CBC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9571-0C07-4C72-979A-6772DB0D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5D8A-A44F-497E-B604-760DF6F6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8EA7-9E56-4C9C-A605-005378FD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AE17-EEF3-4B4A-A9DF-DA62B9F4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56DC-E40F-4325-A214-A9E96743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65DC-D63D-4C36-962E-972C4C6A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6CC0-50FF-4472-B387-7039C6D4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B911-744E-466D-A31A-98703111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A23A-5C52-4C10-B831-3C245A86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ED91-D97C-4EBD-BCF2-3E298E06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95EF-CC34-4F3A-B2C4-DBF7C9D4464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Роль микроорганизмов в разрушении материал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стойчивость бумаги к микроорганизм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биологическому разрушению подвергается не только готовая бумага, но и сырье для ее изготовления. Носителями вредных микроорганизмов в бумажном производстве могут быть сырье, воздух и вода. Очень опасны для целлюлозы находящиеся в воде представители семейства бактер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микроорганизмов бумагу разрушают бактерии и грибы, имеющие энзим целлюлазу, который расщепляет целлюло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есени развиваются на бумаге различным образом. Некоторые из них продырявливают бумагу с поверхности, другие, внедряясь, прорастают в 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Картинка 69 из 850"/>
          <p:cNvPicPr/>
          <p:nvPr/>
        </p:nvPicPr>
        <p:blipFill>
          <a:blip r:embed="rId2"/>
          <a:stretch/>
        </p:blipFill>
        <p:spPr>
          <a:xfrm>
            <a:off x="1116000" y="0"/>
            <a:ext cx="3456000" cy="2409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Картинка 68 из 850"/>
          <p:cNvPicPr/>
          <p:nvPr/>
        </p:nvPicPr>
        <p:blipFill>
          <a:blip r:embed="rId3"/>
          <a:stretch/>
        </p:blipFill>
        <p:spPr>
          <a:xfrm>
            <a:off x="0" y="4221000"/>
            <a:ext cx="1871640" cy="2637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Картинка 64 из 850"/>
          <p:cNvPicPr/>
          <p:nvPr/>
        </p:nvPicPr>
        <p:blipFill>
          <a:blip r:embed="rId4"/>
          <a:stretch/>
        </p:blipFill>
        <p:spPr>
          <a:xfrm>
            <a:off x="7215120" y="4149720"/>
            <a:ext cx="1928880" cy="2708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Картинка 66 из 850"/>
          <p:cNvPicPr/>
          <p:nvPr/>
        </p:nvPicPr>
        <p:blipFill>
          <a:blip r:embed="rId5"/>
          <a:stretch/>
        </p:blipFill>
        <p:spPr>
          <a:xfrm>
            <a:off x="0" y="1341360"/>
            <a:ext cx="1849320" cy="2808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Картинка 17 из 850"/>
          <p:cNvPicPr/>
          <p:nvPr/>
        </p:nvPicPr>
        <p:blipFill>
          <a:blip r:embed="rId6"/>
          <a:stretch/>
        </p:blipFill>
        <p:spPr>
          <a:xfrm>
            <a:off x="7240680" y="1197000"/>
            <a:ext cx="1903320" cy="2881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1476360" y="3571920"/>
            <a:ext cx="4390920" cy="3286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Картинка 70 из 850"/>
          <p:cNvPicPr/>
          <p:nvPr/>
        </p:nvPicPr>
        <p:blipFill>
          <a:blip r:embed="rId8"/>
          <a:stretch/>
        </p:blipFill>
        <p:spPr>
          <a:xfrm>
            <a:off x="3924360" y="1844640"/>
            <a:ext cx="3168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щита бумаги от микроорган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 настоящего времени не существует защиты бумаги от воздействия микроорганизмов, которая соответствовала бы всем необходимым требованиям (отсутствие запаха, эффективность действия при малой дозировке, достаточная растворимость в воде, безвредность для человеческого организма, доступность и дешевизн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нгициды для бума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ензойная и салициловая кислота и их производные.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применяются для антисептической бумаги и таких изделий, как вата, целлюлоза и т. 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ли серебра.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ввиду дороговизны серебро не получило распространения в качестве препарата для защиты бумаги от микроорганиз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изводные фенола.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эти препараты негодны для защиты бумаги, применяемой для пищевых продуктов, поскольку они обладают сильным запахом и токсичны для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ганические соединения ртути.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м распространенным и эффективным является фунгицид--ацетат фенилртути, не снижает механической прочности бумаги. 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икроорганизмы – деструкторы лаков и крас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т плесневых грибов на красках проявляется пятнами, и многие разновидности такого плесневого гриба выпадают в загрязняющий осадок в краске. Плесень и небиологические осадки взаимосвяз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адок дает достаточно питания для развития микроорганизмов, а нарастающая масса микроорганизмов образует подходящую поверхность для скопления еще большего количества загрязнений, а это создает питание другим микроорганизмам и т. д. Таким путем происходит накопление небиологических осадков, включающих в себя и микроорганиз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стойчивость кожи к микроорганизм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туральная кожа, являясь природным белковым материалом, приобретает товарные качества в результате многостадийной обработки разнообразными химическими реагентами и представляет собой питательную среду, на которой осаждаются и развиваются споры плесневых гри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 микробы, которые оказываются на шкуре после ее снятия, частично имелись при жизни животного, а частично попали на нее после снятия шкуры, поэтому сразу после снятия ее подвергают консервированию растворами, в которые вводят биоци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ициды - вещества, уничтожающие живые организмы. Включают пестициды (бактерициды, фунгициды, инсектициды, гербициды, зооциды и др.), антисептические, дезинфекционные и консервирующиесредств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кроорганизмы парной шк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консервированная шкура легко поддается гниени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и микробов парной шкуры имеется большое количество так называемых гнилостных. В числе их встречаются коки и палочки, аэробы и анаэробы. Общим признаком для этих микробов является способность их разлагать белки. Чаще всего встречаются палочковые фор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сервирование кожевенного сыр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редохранения шкур от загнивания их консервируют. В настоящее время обычно применяются следующие способы консервирования шкур: мокросоление, пресная сушка, сухосоление и заморажив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Картинка 2 из 2797"/>
          <p:cNvPicPr/>
          <p:nvPr/>
        </p:nvPicPr>
        <p:blipFill>
          <a:blip r:embed="rId2"/>
          <a:stretch/>
        </p:blipFill>
        <p:spPr>
          <a:xfrm>
            <a:off x="0" y="614520"/>
            <a:ext cx="6622920" cy="62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родная устойчивость тексти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жные целлюлозные материалы могут служить питанием для микроорганизмов. При наличии в материале 10% влаги из спор развивается мицелий. Волокна плесневых грибов растут как на поверхности, так и внутри текстильного волокна. Это вызывает в волокне как химические, так и физические изменения. В результате волокно снижает свою прочность и обесцвечив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виды хлопка более устойчивы к микробиологическому разрушению, чем другие. Самый прочный хлопок - американский, наименее прочный - индийск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кросо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иболее распространенный способ консервирования. Производится посыпанием шкуры поваренной солью или опусканием ее в концентрированный раствор поваренной соли (тузлук)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сная с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на на удалении из парной шкуры около 60% влаги, благодаря чему прекращается развитие бактерий и шкура не загнив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шка производится на открытом воздухе под навесами при температуре воздуха 18—25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ушки шкуры навешивают по хребту на шесты, шерстью вниз. Продолжительность сушки — около двух суток и более, в зависимости от толщины шкуры, влажности и температуры воздух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вид консервирования применяется для мелкого сырья, так как его легче довести до сухого состояния и удобнее транспортиров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хосо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яет собой комбинированный способ консервирования. При этом способе сырье предварительно подвергают засолке, так же как при мокросолении, но с уменьшенным количеством соли, а затем суша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моражи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ляет собой способ консервирования, основанный на том, что жизнедеятельность бактерий прекращается при низких температурах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оженое сырье отличается хрупкостью, ломкостью; оно громоздко и, следовательно, неудобно для перевозки. При оттаивании оно загнив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ому замораживание допускается только в отдельных случаях, когда не могут быть применены другие способы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есневые грибы в тка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Картинка 50 из 89"/>
          <p:cNvPicPr/>
          <p:nvPr/>
        </p:nvPicPr>
        <p:blipFill>
          <a:blip r:embed="rId2"/>
          <a:stretch/>
        </p:blipFill>
        <p:spPr>
          <a:xfrm>
            <a:off x="0" y="1125360"/>
            <a:ext cx="54259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вестно ч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цетилцеллюлозные волокна более устойчивы, чем целлюлоза, шерсть и шел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кани, выставленные на солнечный свет, биологически меньше повреждаются чем те, которые оставались в тени, хотя при этом обнаруживают большую потерю прочности в результате химического распада целлюл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ырой хлопок содержит главные минеральные вещества (К, Na, Ca, Mg), значительно способствующие росту плесневых грибов. В нем имеются также главные микроэлементы (Fe, Cu,. Zn), стимулирующие рост определенных микроорганизм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беливание на солн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22 из 272"/>
          <p:cNvPicPr/>
          <p:nvPr/>
        </p:nvPicPr>
        <p:blipFill>
          <a:blip r:embed="rId2"/>
          <a:stretch/>
        </p:blipFill>
        <p:spPr>
          <a:xfrm>
            <a:off x="971640" y="1638360"/>
            <a:ext cx="691344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икроорганизмы, вызывающие порчу тексти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кроорганизмы, вызывающие порчу текстиля, могут быть разделены на 3 группы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есневые грибы, актиномицеты, бакте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иболее распространены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есневые гриб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нгициды для тексти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ческие соединения меди - самые эффективные фунгициды для обработки текстиля с целью повышения его устойчивости к плесневению. Прежде всего следует упомяну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фтенат мед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ксихинолят мед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ые в больших количествах используются для различных текстильных издел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фтенат мед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фтенат меди - твердый или очень вязкий продукт сине-зеленого цвета. Обладает неприятным запахом из-за наличия посторонних веществ в сырой смеси нафтеновых кислот. Нафтенат меди растворим в органических растворителях, бензоле, ксилоле, минеральных маслах. Не растворим в спир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фтенат меди представляет собой соль нафтеновой кислоты. В действительности применяемая для его изготовления нафтеновая кислота является смесью различных нафтеновых кислот и других веще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ксихинолят ме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сихинолинат меди - вещество желто-зеленого цвета, без запаха, практически нерастворим в воде, спирте, эфире и в большинстве обычных органических растворителей. Очень незначительно растворим в уайтспирите и хлорофор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Ольга</cp:lastModifiedBy>
  <dcterms:modified xsi:type="dcterms:W3CDTF">2012-04-19T20:40:54Z</dcterms:modified>
  <cp:revision>834</cp:revision>
  <dc:subject/>
  <dc:title>Diapositiva 1</dc:title>
</cp:coreProperties>
</file>