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8633-BC0D-45D9-9B8D-839E93F9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81C2-3C8E-410D-BB1F-5894014F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145D-B086-4B7E-8488-FCD485C7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3644-4BA0-4950-B95D-F5E04C35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052D-0F80-45A9-9727-26EA13CA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6504-3EFE-4C0E-8F93-5E8C8640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490F-BBDE-4576-8AF5-B2CC0348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CD4B-DD91-46DF-B5D9-A1AA9DA3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2ECF-B9B1-4E58-99E0-E12FF24C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252A-8169-471F-B63E-0307B384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F90F-7D8F-4C43-B0C9-27506DAA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F8E1-766F-4B89-BB9B-DD7B4D11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A7B1-661D-448F-B3F6-464352B0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65E1-A800-4E60-8BBB-116C2A26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CD67-F1F2-417C-BE93-8871D66A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B6D2-A983-4D3F-BDFB-3C9B3749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EA6E-B833-43A9-9311-74F89124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C53E-2A58-4C06-B0D7-589AA41D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E3FE-A371-4FA5-B3B9-07565395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45CA-3522-4E0D-833A-8362BCDB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5628-24EA-45CC-A659-C2779DE8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70E7-0429-4C03-8355-4C9B42B0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A04B-B566-49F0-BD9E-B6E97E85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24F5-9D06-47BE-A35E-E5E1DBCF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85D6-BE66-481C-9CC2-C1AC8957926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31D7-B793-410F-A85F-8AEF31350DE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Организация работы с родителям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Дворцо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Наталия Борисов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бучение родител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воспитател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учителя своего ребён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союзника и партнё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ормы обучения родител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актику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ренинг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овые игр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мен опыто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онсультирование (индивидуальное собеседование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ланируется во время канику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одители заранее оповещаются о времени собеседования, можно оформить пригласительные. Обычно на организационном родительском собрании согласуется время собеседова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читель тщательно готовится к собеседованию: собирает данные о ребёнке, проводит тесты, анкеты, готовит рабочие, контрольные тетрад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 собеседование приходят родители или родитель со своим ребёнком. В течение запланированных 40-50 минут учитель беседует с родителями, все вместе проверяют состояние тетрадей, учебников, дневника. Во время собеседования можно проверить ЗУН учащегося, отметить отставания или похвалить за успех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собеседовании главная роль отводится родителю, учитель же фиксирует его предложения, замечания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 итогам собеседования совместно с родителем и ребёнком составляется индивидуальная карта работы с учеником на год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овые формы общения с родителям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Индивидуальные собеседов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Пресс – конференция с родителя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Родительские собрания, проводимые деть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Групповая работа родителе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Родительское собрание с работой в микрогруппа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Семейные мероприятия для учащихся класс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авила общения с родителям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Оформляй, придумывай интересные, интригующие приглашения на классные собрания и мероприятия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Уважай своё и родительское время. Всегда назначай собрания за неделю до проведения. Если можно, укажи точное время начала и конц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Всегда отчитывайся перед родителями о проделанной работе. Оформи папки, альбомы с диаграммами, отчётами об успеваемости класса, об участии в мероприятиях школы, о занятости учащихся, о родительской активности и.т.д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Как можно больше рассказывай об инновационном движении, о самых разных школах в России и за рубежом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и посещении на дому заранее предупреди о цели посещения. Например: посещение с целью проверки уголка школьника (полка для книг, стол для приготовления уроков и.т.д.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очаще хвали родителя за воспитание ребёнка. Вручай от случая к случаю грамоты, благодарственные письм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К концу каждого учебного года при помощи анкеты для родителей сделай анализ работы за год и план работы на следующий год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и мимолётной встрече с родителями никогда не рассказывай о плохих сторонах его ребёнк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омни, что неопрятная причёска, измятый костюм, несвежая рубашка, - проявление неуважения к родителю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Литература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ябов А. Образование, необходимое для создания здоровой и счастливой семьи // Директор школы. – 2002. -№6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алейдоскоп родительских собраний: Методические разработки. Выпуск I. / Под.ред. Е.Н.Степанова. – М.: ТЦ Сфера, 2003 – 144с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расновский Л. О родительских собраниях// Воспитание школьников – 2003 №5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урносова Л.А. Нетрадиционные формы работы с родителями// Классный руководитель – 1999 №3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етенова Н.М. Родительское собрание// Начальная школа: плюс - минус. – 2001. №10-11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ихайлова. Как я провожу родительские собрания// Начальная школа. - 1993. - № 10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илл А. О воспитании детей // Родительское собрание. – 2003. - №2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рене С. К родителям // Родительское собрание. – 2003. - №2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Шишмакова Е. Родительские собрания // Воспитательная работа в школе. – 2003 №4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онцепция модернизации образования на период до 2010 год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Исключительная роль в воспитании детей принадлежит родителям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27640" y="1053000"/>
            <a:ext cx="8243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фициальный сайт Президента России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здел «Управление президента по работе с обращениями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924280"/>
            <a:ext cx="7693200" cy="31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Совершенствование системы образования и успешная реализация национального проекта в образовании не возможны без участия родителей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ель образовательного учрежд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изовать взаимодействие с семьёй в интересах развития личности ребён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правления работы с родителям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Picture 4" descr="sistrod"/>
          <p:cNvPicPr/>
          <p:nvPr/>
        </p:nvPicPr>
        <p:blipFill>
          <a:blip r:embed="rId1"/>
          <a:stretch/>
        </p:blipFill>
        <p:spPr>
          <a:xfrm>
            <a:off x="1332000" y="2281320"/>
            <a:ext cx="741672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нформационная поддержка родител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формирование отдельных родител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формирование группы родител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формирование родителей как членов сообщества О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формирование родителей как граждан страны, города, район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3526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арианты информиров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оздание электронных рассылок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спользование на собран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ультимедийной техни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исьменные приглашения на классные собрания и мероприят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мятки родителя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дагогическое просвещ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Цель – формирование оптимальной родительской пози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одительская позиция – это реальная психологическая и воспитательная направленность отца и матери, основанная на бессознательной оценке ребёнка, выражающаяся в определённых способах и нормах взаимодействия с ни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Формы педагогического просвещ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ек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еминар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искусс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дагогические чт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ечера вопросов и ответ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ферен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6:30:19Z</dcterms:created>
  <dc:creator>Админ</dc:creator>
  <dc:description/>
  <dc:language>en-US</dc:language>
  <cp:lastModifiedBy>Коля</cp:lastModifiedBy>
  <dcterms:modified xsi:type="dcterms:W3CDTF">2013-04-18T11:42:42Z</dcterms:modified>
  <cp:revision>11</cp:revision>
  <dc:subject/>
  <dc:title>Организация работы с родителями</dc:title>
</cp:coreProperties>
</file>