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9875-8794-4C66-9F6B-7CBBAA5E7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C614-8B50-4E60-AAFB-7F2443F4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E371-55A2-4466-9111-5349724E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5756-5A6F-496B-9621-65E128FC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FF51-153A-46D4-AB52-C168658ED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8524-675C-4396-8FBE-F254C6DF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B06C-A76A-4DB2-B2AF-004391C1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BDCB-B773-4059-930B-2148D1A3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3ED2-52A3-4694-99A9-E1835E0B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4F25-58F0-4E5A-B59C-6475C0CB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671F-3662-48E8-B821-4FC58CEA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0D13-02DC-4BE2-BFE2-6B8C396E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D448-88BF-4A08-9364-57AB6170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0B33-3F27-4408-A816-C931CD81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8753-DABD-4322-9683-D5E26350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1E65-59BB-4A1B-BB3D-6E313B76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E3AA-794A-47B2-8E66-65ABB93C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EA8D-5D8A-414A-A061-E87712E9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CBF7-16C1-4194-A4B2-55C79F3E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8BBB-E3C7-46EE-B717-26FE099A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F2FF-E318-4416-A4D7-0C3A7C80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135D-2647-413B-B277-3A6E3B19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AD27-5AB5-4917-BB3F-4F3B7F2F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201D-C8E8-4644-86FD-2A3AEB2F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07F1-C4EF-4F6B-8BB0-352E9DAB123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CC3A-6D25-4813-A551-292297613CB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Организация работы с родителям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Дворцо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Наталия Борисов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бучение родителе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воспитател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учителя своего ребён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союзника и партнёр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Формы обучения родителе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актикум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ренинг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ловые игр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мен опыто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онсультирование (индивидуальное собеседование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ланируется во время каникул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одители заранее оповещаются о времени собеседования, можно оформить пригласительные. Обычно на организационном родительском собрании согласуется время собеседова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Учитель тщательно готовится к собеседованию: собирает данные о ребёнке, проводит тесты, анкеты, готовит рабочие, контрольные тетрад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а собеседование приходят родители или родитель со своим ребёнком. В течение запланированных 40-50 минут учитель беседует с родителями, все вместе проверяют состояние тетрадей, учебников, дневника. Во время собеседования можно проверить ЗУН учащегося, отметить отставания или похвалить за успех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 собеседовании главная роль отводится родителю, учитель же фиксирует его предложения, замечания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о итогам собеседования совместно с родителем и ребёнком составляется индивидуальная карта работы с учеником на год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овые формы общения с родителям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Индивидуальные собеседов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Пресс – конференция с родителя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Родительские собрания, проводимые деть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Групповая работа родителе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Родительское собрание с работой в микрогруппа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Семейные мероприятия для учащихся класса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авила общения с родителям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Оформляй, придумывай интересные, интригующие приглашения на классные собрания и мероприятия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Уважай своё и родительское время. Всегда назначай собрания за неделю до проведения. Если можно, укажи точное время начала и конца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Всегда отчитывайся перед родителями о проделанной работе. Оформи папки, альбомы с диаграммами, отчётами об успеваемости класса, об участии в мероприятиях школы, о занятости учащихся, о родительской активности и.т.д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Как можно больше рассказывай об инновационном движении, о самых разных школах в России и за рубежом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ри посещении на дому заранее предупреди о цели посещения. Например: посещение с целью проверки уголка школьника (полка для книг, стол для приготовления уроков и.т.д.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очаще хвали родителя за воспитание ребёнка. Вручай от случая к случаю грамоты, благодарственные письма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К концу каждого учебного года при помощи анкеты для родителей сделай анализ работы за год и план работы на следующий год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ри мимолётной встрече с родителями никогда не рассказывай о плохих сторонах его ребёнка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омни, что неопрятная причёска, измятый костюм, несвежая рубашка, - проявление неуважения к родителю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Литература: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ябов А. Образование, необходимое для создания здоровой и счастливой семьи // Директор школы. – 2002. -№6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алейдоскоп родительских собраний: Методические разработки. Выпуск I. / Под.ред. Е.Н.Степанова. – М.: ТЦ Сфера, 2003 – 144с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расновский Л. О родительских собраниях// Воспитание школьников – 2003 №5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урносова Л.А. Нетрадиционные формы работы с родителями// Классный руководитель – 1999 №3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етенова Н.М. Родительское собрание// Начальная школа: плюс - минус. – 2001. №10-11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ихайлова. Как я провожу родительские собрания// Начальная школа. - 1993. - № 10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илл А. О воспитании детей // Родительское собрание. – 2003. - №2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Френе С. К родителям // Родительское собрание. – 2003. - №2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Шишмакова Е. Родительские собрания // Воспитательная работа в школе. – 2003 №4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онцепция модернизации образования на период до 2010 год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Исключительная роль в воспитании детей принадлежит родителям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27640" y="1053000"/>
            <a:ext cx="8243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фициальный сайт Президента России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здел «Управление президента по работе с обращениями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924280"/>
            <a:ext cx="7693200" cy="31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Совершенствование системы образования и успешная реализация национального проекта в образовании не возможны без участия родителей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ель образовательного учрежде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рганизовать взаимодействие с семьёй в интересах развития личности ребёнк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аправления работы с родителям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Picture 4" descr="sistrod"/>
          <p:cNvPicPr/>
          <p:nvPr/>
        </p:nvPicPr>
        <p:blipFill>
          <a:blip r:embed="rId1"/>
          <a:stretch/>
        </p:blipFill>
        <p:spPr>
          <a:xfrm>
            <a:off x="1332000" y="2281320"/>
            <a:ext cx="741672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нформационная поддержка родител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формирование отдельных родителе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формирование группы родителе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формирование родителей как членов сообщества О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формирование родителей как граждан страны, города, район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3526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арианты информиров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оздание электронных рассылок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спользование на собран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ультимедийной техни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исьменные приглашения на классные собрания и мероприят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амятки родителя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дагогическое просвещ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Цель – формирование оптимальной родительской пози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одительская позиция – это реальная психологическая и воспитательная направленность отца и матери, основанная на бессознательной оценке ребёнка, выражающаяся в определённых способах и нормах взаимодействия с ни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Формы педагогического просвеще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ек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еминар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искусс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едагогические чт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ечера вопросов и ответ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нферен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06:30:19Z</dcterms:created>
  <dc:creator>Админ</dc:creator>
  <dc:description/>
  <dc:language>en-US</dc:language>
  <cp:lastModifiedBy>Коля</cp:lastModifiedBy>
  <dcterms:modified xsi:type="dcterms:W3CDTF">2013-04-18T11:42:42Z</dcterms:modified>
  <cp:revision>11</cp:revision>
  <dc:subject/>
  <dc:title>Организация работы с родителями</dc:title>
</cp:coreProperties>
</file>