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ED0-D50B-4952-A18E-95641AC3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B87-E609-49FD-AD07-A1C2531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C80-2EFD-4A69-AA37-C98798B0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427-DC4A-40C2-A10E-8758B598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F53D-970F-4C85-ABF6-D17250B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2BB-3867-4248-ABCB-672D237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1C4-D716-4363-9261-88A68BCB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374-9BBA-47F0-A3A7-A820DB71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075E-3084-453A-8CF8-92096129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24C8-6A09-4BBD-9CD5-5000AF76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5DED-9DE7-4266-A39D-0BDFEAE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0D2-3B1A-4C09-AE67-997446B4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2BEB-D5BB-4FA8-ACE1-C19BEE9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0E91-3B28-42B9-BDD9-73D9D4A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625C-E442-4441-9426-2758CCD8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F39-B9F0-457D-A20A-BE0FBB34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9E3E-166E-4C55-B4AF-0B1528AB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511-80E5-48F4-A739-C5946F8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A62-9034-43FC-8F1D-1B153379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7AC-D6B0-4121-AD17-5F32EC9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656-C41C-43CB-839D-B679C92D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B5C-CF20-4D0C-A426-9388839C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0F4-C858-4A56-A83F-165699D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76C-0BAE-43E9-B97F-6A313B4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C0C1-7F6B-4295-8315-AA9FFA6890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EFA9-660A-469C-A0BD-976E7FAEB8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рганизация работы с род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Дворц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талия Борисо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учение родит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воспитате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учителя своего ребё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оюзника и партнё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обучения родит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ые иг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опы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сультирование (индивидуальное собеседова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ланируется во время канику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тели заранее оповещаются о времени собеседования, можно оформить пригласительные. Обычно на организационном родительском собрании согласуется время собеседов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тщательно готовится к собеседованию: собирает данные о ребёнке, проводит тесты, анкеты, готовит рабочие, контрольные тетрад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собеседование приходят родители или родитель со своим ребёнком. В течение запланированных 40-50 минут учитель беседует с родителями, все вместе проверяют состояние тетрадей, учебников, дневника. Во время собеседования можно проверить ЗУН учащегося, отметить отставания или похвалить за успех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собеседовании главная роль отводится родителю, учитель же фиксирует его предложения, замеча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 итогам собеседования совместно с родителем и ребёнком составляется индивидуальная карта работы с учеником на г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формы общения с родителя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дивидуальные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ресс – конференция с родител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одительские собрания, проводимые деть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Групповая работа родител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одительское собрание с работой в микрогрупп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емейные мероприятия для учащихся класс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а общения с род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формляй, придумывай интересные, интригующие приглашения на классные собрания и мероприят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важай своё и родительское время. Всегда назначай собрания за неделю до проведения. Если можно, укажи точное время начала и конц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сегда отчитывайся перед родителями о проделанной работе. Оформи папки, альбомы с диаграммами, отчётами об успеваемости класса, об участии в мероприятиях школы, о занятости учащихся, о родительской активности и.т.д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ак можно больше рассказывай об инновационном движении, о самых разных школах в России и за рубеж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 посещении на дому заранее предупреди о цели посещения. Например: посещение с целью проверки уголка школьника (полка для книг, стол для приготовления уроков и.т.д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чаще хвали родителя за воспитание ребёнка. Вручай от случая к случаю грамоты, благодарственные письм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 концу каждого учебного года при помощи анкеты для родителей сделай анализ работы за год и план работы на следующий год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 мимолётной встрече с родителями никогда не рассказывай о плохих сторонах его ребё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мни, что неопрятная причёска, измятый костюм, несвежая рубашка, - проявление неуважения к родител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ябов А. Образование, необходимое для создания здоровой и счастливой семьи // Директор школы. – 2002. -№6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лейдоскоп родительских собраний: Методические разработки. Выпуск I. / Под.ред. Е.Н.Степанова. – М.: ТЦ Сфера, 2003 – 144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расновский Л. О родительских собраниях// Воспитание школьников – 2003 №5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урносова Л.А. Нетрадиционные формы работы с родителями// Классный руководитель – 1999 №3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етенова Н.М. Родительское собрание// Начальная школа: плюс - минус. – 2001. №10-11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ихайлова. Как я провожу родительские собрания// Начальная школа. - 1993. - № 10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илл А. О воспитании детей // Родительское собрание. – 2003. - №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рене С. К родителям // Родительское собрание. – 2003. - №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ишмакова Е. Родительские собрания // Воспитательная работа в школе. – 2003 №4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цепция модернизации образования на период до 2010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ключительная роль в воспитании детей принадлежит родител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1053000"/>
            <a:ext cx="82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фициальный сайт Президента России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дел «Управление президента по работе с обращениям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924280"/>
            <a:ext cx="76932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Совершенствование системы образования и успешная реализация национального проекта в образовании не возможны без участия родител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ь образовательного учре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изовать взаимодействие с семьёй в интересах развития личности ребён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правления работы с родителя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sistrod"/>
          <p:cNvPicPr/>
          <p:nvPr/>
        </p:nvPicPr>
        <p:blipFill>
          <a:blip r:embed="rId1"/>
          <a:stretch/>
        </p:blipFill>
        <p:spPr>
          <a:xfrm>
            <a:off x="1332000" y="2281320"/>
            <a:ext cx="7416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ая поддержка родит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отдельных роди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группы роди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родителей как членов сообщества О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родителей как граждан страны, города, райо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352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рианты информир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электронных рассыл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на собр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льтимедийной тех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сьменные приглашения на классные собрания и мероприя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ки родител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ое просвещ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 – формирование оптимальной родительской поз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ьская позиция – это реальная психологическая и воспитательная направленность отца и матери, основанная на бессознательной оценке ребёнка, выражающаяся в определённых способах и нормах взаимодействия с н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ы педагогического просвещ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ску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е ч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чера вопросов и отв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ерен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6:30:19Z</dcterms:created>
  <dc:creator>Админ</dc:creator>
  <dc:description/>
  <dc:language>en-US</dc:language>
  <cp:lastModifiedBy>Коля</cp:lastModifiedBy>
  <dcterms:modified xsi:type="dcterms:W3CDTF">2013-04-18T11:42:42Z</dcterms:modified>
  <cp:revision>11</cp:revision>
  <dc:subject/>
  <dc:title>Организация работы с родителями</dc:title>
</cp:coreProperties>
</file>