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B6F-797D-483F-82E7-5D988DA3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CEE-525B-4F3A-8C2C-9140622C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F51E5-C60D-4EDF-8EE9-62374A5D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A110A-87DD-4D2C-BF0C-FB5440AC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607FC-20FD-4CE4-AD5B-79E005AB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4FE43-EBEB-4BC8-AB4B-DB414ECE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B26D1-B660-47CC-B3B1-6B505D25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94BC8-6947-4F1B-B059-05302728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DD61A-D819-45BE-AC82-145C1526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2650F-B301-4C2C-BFC1-61DBCD7D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AFAE2-FF6E-456D-B8DC-1E30E7AF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E8599E-1171-4E15-B935-C1993E9C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7C8-8670-400A-B73D-A56132FC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257341-EBB7-47A5-9698-29729BF2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E35837-234B-4E32-849E-171F1B39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EA8E8D-EFA1-4D48-995C-D12EA287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EA7B5F-96CD-4571-926A-958A6B15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3B4F18-A169-421B-A410-B1E00B0F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B6A7BC-817B-4957-8A58-EB2DF2BC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2542ED-F157-48BE-9AB4-AD786ACE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B9B344-CB91-496C-9886-F47F7C6A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70FC63-3F3D-4F69-9FB4-C2967606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61CA61-60C0-42CA-92C7-E37EDC64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56E-F934-4728-B8DB-81E41C71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EBF837-8AF5-4D27-9BE6-7756C2E6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6E000-2B51-4743-B098-47506C60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86053-C04F-4249-A74F-E628FA3E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E29E0-962C-49DE-BB02-DAC897B9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1A7C9-4138-4FEA-96DF-E333C016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997B2-A8FE-41A4-95E1-7342E3CD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74B74-2479-48E3-9143-4D0D944D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36820-2660-4A63-B53B-D5E08DDF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1BA-6D90-42A5-AE5E-55BD761F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6FD29-CACE-448B-9624-7DC86D45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4D4B0-32D1-4E1A-803B-509E9A60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0C9CE-D055-4F18-88E2-0062F3AA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B3EDD-593C-4F06-9E13-20046827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A14C9-52EB-46B0-98BC-7DBD3B99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9C0FA-A955-47B3-8A44-A990BE8C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4DEC3-75BE-4FDF-AAB5-704D2787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8BAF8-353E-4CA2-8018-F044BFB9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18CE-0AF4-4D55-826A-E2525C31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717A-059E-4795-A72B-16544F6E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DEE-286C-4111-BAD3-7357A9B9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DAD1E-58D8-46EE-BB1B-38873B73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AEF1-C290-417E-AC20-7D189145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DA9AB-04C1-4818-A98B-60AB2C38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0F9AE-6F7B-403C-8B50-63DFFA61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6540-5976-43B4-B2CB-AB49C028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FFFB2-52FB-4FE8-83FA-A087C35C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EE533-205F-45E6-8749-78411E9A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D7335-A486-4F24-B782-0E7F7A10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EDAC0-22D4-491A-8C46-9007E1D0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3E86F-A35F-4686-8F0C-4FCB5FBC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CF2-43A4-45A1-84C2-D8C405EA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04C35-F1C4-4D44-ABE0-9E8D54C6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A7B35-4E53-4934-841D-8AFA192C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CEE63-8141-457B-8809-F63F3C50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BFED4-5705-4026-93C8-94E4FB1D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41A1D-445C-4212-ABC5-3CCC80C3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7BFD0-CC77-46AA-BF79-EB83509F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261B5-E6B0-4AEA-AC52-48897457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30E19-575E-47F9-8BE1-8CDC61D6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AA3A8-D744-4BEB-A181-8D06A518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9C131-16DE-4611-AD45-C8988941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962-68CB-4AE7-90F0-AFA4AF81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0C42F-E31B-484F-808E-2F377300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690CA-37BD-4499-9311-E2F11DE1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799EC-D5BF-409A-BF0E-4B825D4A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1FDA4-94AF-4FD3-9E92-3BBFC2F7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98AE6-6870-491E-A5CB-8DA53B74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023F3-5384-429F-8ED9-CC048C6C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F4470-D9EE-4A37-9207-67F5D7F9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EBBA2-A278-4C93-91BD-ADE16D2B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E2882-3011-4B07-A09F-C4437054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F4CAF-3C17-4BCA-8EC1-43F5B6A4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A04-8C7C-4FF7-AA2E-DAA33721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391BD-0B93-428E-85BD-0230F644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CE118-AB11-4B31-B1C8-D5CFE60A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F3CF0-5B3D-4DB5-9614-E5CE9217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99AC6-702B-4AD5-AC9F-DC5A1BB0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D839C-4292-470E-B6B8-C6F35927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22E82-CE6E-419C-926E-F9FF3429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A1038-59FC-49EB-811B-CF97B15B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D893F-2001-425F-BDF1-38EB8FEE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4FE09-A2BB-483D-B213-02D36239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B304A-FDA6-4602-BD9D-3BEC7410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B1C-3E46-4885-832E-8593DD06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43475-0358-4582-9D96-66171435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3067D-1C9B-48D2-966A-210AB4C0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C1C68-4012-4C4B-A2E4-E7F3D924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8300F-EDD2-41BE-89EE-ED1554B9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3D0D6-820B-4F73-AA47-FB96606D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0E621-2643-49C0-A924-D15455C6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16EE1-6452-44F6-9D83-9F4AE89C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597DF-ADBD-4848-8981-9A0FC91A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5A1A4-603E-421E-BC36-AA3C08C2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E4FA9-EDE8-48C0-A26C-B0C09C26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8F9-2C83-44FF-9E6B-43FC021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39E20-9D03-4D48-B732-231F92E6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36C6E-56E8-4114-BC3B-299510D4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17C4C-7A99-4ADC-A39E-3134E929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057B4-4C61-4A27-9B0E-9C93B73E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6A6C8-764C-4B2C-9F4E-F0959F64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6C94C-8B26-40AA-8FA3-F81716F2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6DE2A-ECDD-4F05-85D4-54E9C2F2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84604-2D0E-44D3-961E-2AF7E869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90DE1-94B8-4D4E-841C-8F8491B2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52CF8-40BC-4347-B130-E01E90B7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7D4-6EF4-4546-9ABD-8C6DEBD3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1E849-FDE2-443D-8579-59C8D97E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ADE9F-FE8D-40FA-9771-F47DBF7B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18ED0-2026-4780-9C9E-31CC09D2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54C32-0CE6-4A86-A013-D50CF4FA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4B029-51ED-44C7-9C4C-D29AB71A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3CF7F-7130-4B37-8869-3DE94149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94D76-D1A2-4EB6-825D-B2CC7FE3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4FB64-8868-4519-B744-EB90D495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2C720-B971-490F-95FB-718D54C1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277CB-F3F7-4A9E-9C80-CB155ACB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805E-6E0C-4B51-89CC-52CD487EE12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AE87-FD52-4643-81B4-4EA10BF392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F80F-38BE-4549-A4B8-62AADDC462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5BAC-3884-4D6C-AA37-9E303FFDEC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1D87-EB55-4211-8B42-DACDB96AEA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3F72-F111-4ECB-BB61-4CCAD69BAD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9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6039-8670-4B14-93CE-1A5E7F6AD2F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7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8E4A-6D83-474F-93B0-A99A47E0A89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329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5D08-8943-4BB5-83E0-324FA178BC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7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02D4-B617-4251-994D-C08B254EBC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012000" y="4365360"/>
            <a:ext cx="247968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Автор работы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учитель физической культу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Горшков Андр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Александрови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WordArt 4"/>
          <p:cNvSpPr txBox="1"/>
          <p:nvPr/>
        </p:nvSpPr>
        <p:spPr>
          <a:xfrm>
            <a:off x="2195640" y="1052640"/>
            <a:ext cx="4680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зентац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тему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ыжки в длин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4" name="Picture 8" descr="i(11)"/>
          <p:cNvPicPr/>
          <p:nvPr/>
        </p:nvPicPr>
        <p:blipFill>
          <a:blip r:embed="rId1"/>
          <a:stretch/>
        </p:blipFill>
        <p:spPr>
          <a:xfrm>
            <a:off x="1928880" y="3500280"/>
            <a:ext cx="3313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8640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талкиваясь двумя ногами (стопы на ширине плеч и параллельно друг другу), мах руками вперед-вверх. В прыжке максимально вытянуться. Усилия прилагать не только в горизонтальном, но и в вертикальном направлении. При приземлении подать плечи максимально вперед, стараться удержать ноги выше, не допускать преждевременного приземления. Обязательно добиваться широкой амплитуды движений, правильного маха руками, мягкого приземления одновременно на две но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WordArt 5"/>
          <p:cNvSpPr txBox="1"/>
          <p:nvPr/>
        </p:nvSpPr>
        <p:spPr>
          <a:xfrm>
            <a:off x="2268360" y="476280"/>
            <a:ext cx="519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ыжки в длину с мест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7" name="Picture 6" descr="i(19)"/>
          <p:cNvPicPr/>
          <p:nvPr/>
        </p:nvPicPr>
        <p:blipFill>
          <a:blip r:embed="rId1"/>
          <a:stretch/>
        </p:blipFill>
        <p:spPr>
          <a:xfrm>
            <a:off x="6443640" y="5418000"/>
            <a:ext cx="24494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этому упражнению легче начинать в игровой форме: например, в игре «Цапля и лягушки». Соревновательный момент в этом, как и в других упражнениях, используют лишь тогда, когда у детей сложился правильный рисунок прыжка. Иначе произойдет закрепление неверного движения и повлечет за собой дальнейшие ошибки при выполнении более сложных прыж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4" descr="i(6)"/>
          <p:cNvPicPr/>
          <p:nvPr/>
        </p:nvPicPr>
        <p:blipFill>
          <a:blip r:embed="rId1"/>
          <a:stretch/>
        </p:blipFill>
        <p:spPr>
          <a:xfrm>
            <a:off x="5219640" y="4653000"/>
            <a:ext cx="3240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положения широкого шага (толчковая нога на месте отталкивания) выполняется активный мах согнутой в колене маховой ногой со сменой положения рук. Важно зафиксировать это положение, стоя высоко на стопе, и многократно его повторять, отводя маховую ногу в исходное положение. Активным должен быть не только мах ногой, но и смена положения ру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WordArt 4"/>
          <p:cNvSpPr txBox="1"/>
          <p:nvPr/>
        </p:nvSpPr>
        <p:spPr>
          <a:xfrm>
            <a:off x="3132000" y="260280"/>
            <a:ext cx="2781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ход в Шаг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2" name="Picture 5" descr="i(12)"/>
          <p:cNvPicPr/>
          <p:nvPr/>
        </p:nvPicPr>
        <p:blipFill>
          <a:blip r:embed="rId1"/>
          <a:stretch/>
        </p:blipFill>
        <p:spPr>
          <a:xfrm>
            <a:off x="4716360" y="4941720"/>
            <a:ext cx="3384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WordArt 4"/>
          <p:cNvSpPr txBox="1"/>
          <p:nvPr/>
        </p:nvSpPr>
        <p:spPr>
          <a:xfrm>
            <a:off x="611280" y="549360"/>
            <a:ext cx="8296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чем надо помнить при отталкиван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5" name="Picture 5" descr="i(8)"/>
          <p:cNvPicPr/>
          <p:nvPr/>
        </p:nvPicPr>
        <p:blipFill>
          <a:blip r:embed="rId1"/>
          <a:stretch/>
        </p:blipFill>
        <p:spPr>
          <a:xfrm>
            <a:off x="4500720" y="5516640"/>
            <a:ext cx="3095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1. Ноги выносятся далеко вперед, причем они почти выпрямлены, но не напряжены.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2. Как только пятки касаются грунта, ноги мягко сгибаются в коленях. При этом верхняя часть туловища несколько приподнимается, чтобы бедра можно было вынести вперед. Таким образом вес тела перемещается за точку приземления.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3. Таз не должен преждевременно коснуться грунта.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4. Обе ноги приземляются на одинаковом уровне. Точка приземления будет правильной, если после касания ногами грунта прыгун может перемещать тело вперед по прямой линии или же произвести падение в сторону от нее.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5. Вначале руки сильно опущены вниз-назад, а затем, выполняя мах вперед, они содействуют продвижению туловища.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6. Выходить из прыжковой ямы нужно только вперед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WordArt 4"/>
          <p:cNvSpPr txBox="1"/>
          <p:nvPr/>
        </p:nvSpPr>
        <p:spPr>
          <a:xfrm>
            <a:off x="755640" y="260280"/>
            <a:ext cx="7858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 приземлении важно следующ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Последний шаг выполняется быстрее, чем все предыдущие. Нога ставится на доску отталкивания очень энергично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Пятка только на миг касается грунта, стопа быстро перекатывается на носок. Затем следует энергичное выпрямление всего тела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Верхняя часть туловища находится в вертикальном положении, взгляд направлен вперед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 Бедро маховой ноги поднимается до горизонтальной линии (колено сильно сгибается)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 Отталкиванию содействуют попеременные маховые движения одной и другой руки (плечи энергично поднимаютс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0:14:51Z</dcterms:created>
  <dc:creator>User</dc:creator>
  <dc:description/>
  <dc:language>en-US</dc:language>
  <cp:lastModifiedBy>Пользователь</cp:lastModifiedBy>
  <dcterms:modified xsi:type="dcterms:W3CDTF">2013-12-28T10:05:36Z</dcterms:modified>
  <cp:revision>7</cp:revision>
  <dc:subject/>
  <dc:title>Слайд 1</dc:title>
</cp:coreProperties>
</file>