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566B-840A-4E8F-8FBF-49D1C4ED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9F9-D962-427B-B113-8EBCCCD4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8E980-9EDE-4172-A7D7-C6ACC746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FE88A-0014-45D6-899E-76F0E514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50E9F-9771-444B-955E-AD3DD738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B45A8-C0FF-457B-B50B-51586A2C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84E3A-FA79-40AA-83C1-2BA86933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F7BD4-880C-486E-93DF-408A0AEF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24ABA-471D-47CE-9591-C3C88C84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42B4E-C8CA-432B-AB31-B4A50A3C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B741A-7676-4276-8E9B-55F656CC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CA9877-8A40-46AF-B1E1-139A70E0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CE2F-9F5C-4DCB-BBDC-8A816FF2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20FB9E-DCFE-4B8F-BCA9-B4EB1C98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D40568-4DC6-42CB-A282-758728EB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603685-0BDA-4D1C-8DC2-C91553B5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A4D49D-4953-4EFC-BFAD-D253655C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86385D-4C99-472C-87C1-0C06E0A1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15B9F4-74F1-4741-AA46-9C18EA9B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068186-F15F-4200-9BC0-5FF213B5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FAC41E-2684-4879-B8A8-7FB90954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36E6AD-127D-4DE8-9E10-9039958A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EF712B-B95E-4912-9D20-E837B9BD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253-DE61-42F1-9986-C5BE40CE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CAFE56-0DA4-4882-86FF-192096E3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79923-7691-4380-A72D-0ABBDE87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3E5E7-80AE-4B1C-99F5-B77D4553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AEDA5-584B-49AC-9DA2-A1DA1473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88482-2BDB-43AA-9735-4EE5B143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A93CB-E011-42A8-BA60-8C290121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20005-5623-4036-BC9F-6D0E38A1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76A7E-C565-4592-BA26-F88DE334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94DA-AFE4-42A8-B3CB-5E2C5956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5AB71-F51E-450E-A559-806E31F5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5DFE1-0C94-44DE-BB0E-0E01B57B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726E8-AA3D-45FB-9C8F-96CB6CF9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8E765-672A-4425-BE93-7A458398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D00AB-3C34-4266-AE8B-2DA08FD1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2E87B-89C1-47ED-BF00-18921CA4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902F5-9AEA-450D-B610-62C4CCB0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25813-375C-4BD0-89DB-98CA0229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2CFAF-9C30-4D75-9250-56D29EBF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578EB-E666-4194-8A69-30D36FB6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6679-59C0-4D97-84AF-6DE0D5FC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8B511-8017-425D-B290-157576B6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3ECDB-A447-4255-BF8F-C58CB903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C4E5B-EC4F-4E18-939F-A7F0087F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355BD-60AF-46DC-987A-2DF632C8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B2567-1335-463D-9A5D-05DE1F06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DBE8B-7618-4EB4-B475-C98E0D51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32840-F123-4292-8DE2-8EA7A81B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45EC4-D524-4C12-B96F-A248C2CF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C3611-EED3-4FC5-B397-9E92038B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C990D-07D6-4618-997F-CC0C48AE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592A-4B1F-4E3D-B67E-209353C6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BEFE9-A1C0-4D03-A398-CD48025C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2C5AC-F528-4A18-B0CB-99C0285C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EDC67-6877-43EA-84F1-41589E26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3335F-A380-4AC6-8E92-ECB51360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DDA88-84D6-4E1D-9612-6967FA8E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44C44-5696-4C74-AB10-A9402F40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65541-7047-47D2-840B-6A48FDD8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1154F-C68C-4FE2-9757-20675AE3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B2AC0-4DEA-40F1-933A-2C365298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DA917-F876-4B65-B9DF-278221E9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A63-DE4A-4EFA-ACB1-F8A690CF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62066-3CB0-4F58-89CA-59D5B690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BB978-FC19-4701-8961-D67C47A9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4BC90-06C8-4236-AC82-76B32194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F234E-77C3-487A-81BF-399B0EA8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E2CA1-54FA-426C-991F-6B1ED3D0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0D2FC-F67E-4807-BF13-5778143E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78470-3502-4B64-8E91-4EB05E82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6E53E-0850-4B4E-A135-B473E603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880A9-0848-4C74-BC70-5465539B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6DB94-9198-48ED-A046-FA65EA93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26C0-9517-495C-86DD-0481E256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4C95B-D2C9-4D1F-A1D9-730F37FD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09ADF-BF3E-4753-8E62-009C6706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06D3A-FC0A-49B0-AC41-AE45BC14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1EFEB-12AB-4670-9F1F-26C5B357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5A58B-1A05-437B-8F2A-9A38045C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C7367-3B06-4C0B-9524-A882B543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0291A-F04E-44F0-B659-EC06AEA1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2F639-A285-4166-B954-96901CF4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4FBD9-D92F-4CD2-8733-E2DE1F60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FDE06-C3CA-43EC-AA38-47BDFE91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307-6E56-493F-BB46-702F35D4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B2678-92E1-4A47-9F78-3AB7C08B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FE3FF-02AF-4005-9B59-62872243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ACB95-6DB6-43BD-B15C-BB479C8D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76862-34A1-445E-AF5A-7940F2C3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E5FE6-6FF6-4A9E-9F4A-133E403B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2C5E3-3318-414D-9B29-20FF6F03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06357-E75D-49AF-8C95-509B62AE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494A1-A7EB-450C-9D33-81D6C0A8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C0604-7318-47D9-B335-44A28D69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97846-5235-410D-94FC-FECF46EF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EF0-6BD1-4091-90B7-F2D6BD20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3F6B5-052E-4C3C-9D91-962B1A80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3CA38-3C0F-4BED-AB0E-1BA777D4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09C22-50DC-4609-8BDB-4C506B10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27737-B153-4F1E-99B6-812E4FD7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6E76E-16AC-4FBA-B0BB-CADBA06F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DBE26-D2D4-4268-B67E-A0EBCCBF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B0752-4FEF-4209-9DE4-078F0F2C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6DBC0-24B0-4237-A3E7-0F642E48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B494F-6C8D-418F-B60C-5603FB27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A6256-8C3E-4FB8-9068-373CFB49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11B-9056-4C43-AD88-13DE1596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627A1-0D3D-499E-B5F8-66480C06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5D7C4-68AF-425F-82C7-FF852842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DFD94-6503-47EB-AA67-B6F6C683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DFE88-28B7-4EF4-AC08-B9B9F309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D575E-54FF-48BE-A047-6396745A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A9435-503E-4E2F-84A0-E36702BE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27BD9-DB39-43C6-A4C4-A48E533A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D0239-549F-4857-8C90-58A8CCBD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283BB-F987-4536-ACDA-C050717D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84C94-6350-44D4-8EC6-F3437FED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524F-617E-4FA6-9A30-74516BF32F4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7FAF-D4A3-41F6-ACA8-8536A6D98C4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5AE7-FD69-428C-B381-C73EEED927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DBC5-955D-4BDA-A671-E90412F85E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CDDD-C1F9-4FF5-ABB7-D97CD20381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BF4F-F88A-4B65-B3B9-AC6241C572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29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253C-7A8E-48D7-881C-BAA0F7AF3B8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7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25D5-F289-40D1-AABC-E46E72BE7C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329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0F9A-C913-4AB0-A572-93BBD7F058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7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7936-5A0F-44AF-BA4B-1090481CDB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6012000" y="4365360"/>
            <a:ext cx="247968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Автор работы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учитель физической культур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Горшков Андр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Александрович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WordArt 4"/>
          <p:cNvSpPr txBox="1"/>
          <p:nvPr/>
        </p:nvSpPr>
        <p:spPr>
          <a:xfrm>
            <a:off x="2195640" y="1052640"/>
            <a:ext cx="4680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зентаци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тему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ыжки в длин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4" name="Picture 8" descr="i(11)"/>
          <p:cNvPicPr/>
          <p:nvPr/>
        </p:nvPicPr>
        <p:blipFill>
          <a:blip r:embed="rId1"/>
          <a:stretch/>
        </p:blipFill>
        <p:spPr>
          <a:xfrm>
            <a:off x="1928880" y="3500280"/>
            <a:ext cx="33130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8640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талкиваясь двумя ногами (стопы на ширине плеч и параллельно друг другу), мах руками вперед-вверх. В прыжке максимально вытянуться. Усилия прилагать не только в горизонтальном, но и в вертикальном направлении. При приземлении подать плечи максимально вперед, стараться удержать ноги выше, не допускать преждевременного приземления. Обязательно добиваться широкой амплитуды движений, правильного маха руками, мягкого приземления одновременно на две но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WordArt 5"/>
          <p:cNvSpPr txBox="1"/>
          <p:nvPr/>
        </p:nvSpPr>
        <p:spPr>
          <a:xfrm>
            <a:off x="2268360" y="476280"/>
            <a:ext cx="519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ыжки в длину с мест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7" name="Picture 6" descr="i(19)"/>
          <p:cNvPicPr/>
          <p:nvPr/>
        </p:nvPicPr>
        <p:blipFill>
          <a:blip r:embed="rId1"/>
          <a:stretch/>
        </p:blipFill>
        <p:spPr>
          <a:xfrm>
            <a:off x="6443640" y="5418000"/>
            <a:ext cx="244944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этому упражнению легче начинать в игровой форме: например, в игре «Цапля и лягушки». Соревновательный момент в этом, как и в других упражнениях, используют лишь тогда, когда у детей сложился правильный рисунок прыжка. Иначе произойдет закрепление неверного движения и повлечет за собой дальнейшие ошибки при выполнении более сложных прыж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4" descr="i(6)"/>
          <p:cNvPicPr/>
          <p:nvPr/>
        </p:nvPicPr>
        <p:blipFill>
          <a:blip r:embed="rId1"/>
          <a:stretch/>
        </p:blipFill>
        <p:spPr>
          <a:xfrm>
            <a:off x="5219640" y="4653000"/>
            <a:ext cx="3240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положения широкого шага (толчковая нога на месте отталкивания) выполняется активный мах согнутой в колене маховой ногой со сменой положения рук. Важно зафиксировать это положение, стоя высоко на стопе, и многократно его повторять, отводя маховую ногу в исходное положение. Активным должен быть не только мах ногой, но и смена положения ру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WordArt 4"/>
          <p:cNvSpPr txBox="1"/>
          <p:nvPr/>
        </p:nvSpPr>
        <p:spPr>
          <a:xfrm>
            <a:off x="3132000" y="260280"/>
            <a:ext cx="2781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ход в Шаг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2" name="Picture 5" descr="i(12)"/>
          <p:cNvPicPr/>
          <p:nvPr/>
        </p:nvPicPr>
        <p:blipFill>
          <a:blip r:embed="rId1"/>
          <a:stretch/>
        </p:blipFill>
        <p:spPr>
          <a:xfrm>
            <a:off x="4716360" y="4941720"/>
            <a:ext cx="3384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WordArt 4"/>
          <p:cNvSpPr txBox="1"/>
          <p:nvPr/>
        </p:nvSpPr>
        <p:spPr>
          <a:xfrm>
            <a:off x="611280" y="549360"/>
            <a:ext cx="8296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 чем надо помнить при отталкиван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5" name="Picture 5" descr="i(8)"/>
          <p:cNvPicPr/>
          <p:nvPr/>
        </p:nvPicPr>
        <p:blipFill>
          <a:blip r:embed="rId1"/>
          <a:stretch/>
        </p:blipFill>
        <p:spPr>
          <a:xfrm>
            <a:off x="4500720" y="5516640"/>
            <a:ext cx="3095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1. Ноги выносятся далеко вперед, причем они почти выпрямлены, но не напряжены.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2. Как только пятки касаются грунта, ноги мягко сгибаются в коленях. При этом верхняя часть туловища несколько приподнимается, чтобы бедра можно было вынести вперед. Таким образом вес тела перемещается за точку приземления.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3. Таз не должен преждевременно коснуться грунта.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4. Обе ноги приземляются на одинаковом уровне. Точка приземления будет правильной, если после касания ногами грунта прыгун может перемещать тело вперед по прямой линии или же произвести падение в сторону от нее.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5. Вначале руки сильно опущены вниз-назад, а затем, выполняя мах вперед, они содействуют продвижению туловища.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6. Выходить из прыжковой ямы нужно только вперед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WordArt 4"/>
          <p:cNvSpPr txBox="1"/>
          <p:nvPr/>
        </p:nvSpPr>
        <p:spPr>
          <a:xfrm>
            <a:off x="755640" y="260280"/>
            <a:ext cx="7858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 приземлении важно следующе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Последний шаг выполняется быстрее, чем все предыдущие. Нога ставится на доску отталкивания очень энергично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Пятка только на миг касается грунта, стопа быстро перекатывается на носок. Затем следует энергичное выпрямление всего тела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Верхняя часть туловища находится в вертикальном положении, взгляд направлен вперед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 Бедро маховой ноги поднимается до горизонтальной линии (колено сильно сгибается)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 Отталкиванию содействуют попеременные маховые движения одной и другой руки (плечи энергично поднимаютс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0:14:51Z</dcterms:created>
  <dc:creator>User</dc:creator>
  <dc:description/>
  <dc:language>en-US</dc:language>
  <cp:lastModifiedBy>Пользователь</cp:lastModifiedBy>
  <dcterms:modified xsi:type="dcterms:W3CDTF">2013-12-28T10:05:36Z</dcterms:modified>
  <cp:revision>7</cp:revision>
  <dc:subject/>
  <dc:title>Слайд 1</dc:title>
</cp:coreProperties>
</file>