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6DF5-D950-4210-90A7-3040AFECB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B148-31B3-46A8-8DC9-72D2569E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082F7B-F677-43AB-8F60-7C1CECE5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24D0F5-0113-40A2-A746-D6258B42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8218AF-B0DD-4BD1-B08A-EDB26BF3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84EB3D-9FEC-4F8C-9526-2D5CBE4B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9FF352-4EBC-4ADF-9015-1D1B6ADD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958FAA-3BE0-40F2-9A4D-A51980D5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F022D4-F32B-41DC-97A0-1380C9F0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DA01CF-7945-49B2-814A-3288A5871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6885F0-875E-4E93-AA50-8C559642B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E235C1-4159-4C71-8F88-961046938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2F1E-85D7-49BD-A1B6-0A405DC2E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E82D18-2961-4DAE-8FE7-D1D823C3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2A61EE-2A5F-4BCD-B2F2-9A869A5D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6D3329-F256-4551-8869-1917A658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3A76AA-CA43-4C86-BB05-DC220741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BCF41D-1B1D-4CF3-9D0E-6CD6CBA0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A8EAAC-D0EE-4863-B1FA-B855E691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6A01DB-ED70-4385-8853-E212FD3D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B01750-2175-472E-A823-37E79007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AE8E89A-ECBC-4B05-AC3F-5A564C0E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966E5C-A8E6-4E2D-95F0-B403E5087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8C21-39CE-4A1D-BEBB-A06CB6273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823D07-74DC-4A59-A088-656F52F7B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D6389-EEAF-479B-923D-5EF8EECDC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DE5658-2E31-4689-825A-EBDD1D06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77B4B1-D274-421A-AA3B-85B5A03B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BCC753-53CC-41B7-99BD-CC510ADA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9BBAC9-C32D-455E-866E-2553D772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2CF94E-7DF5-4CFA-998C-E7011ADC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6D94D-7422-492F-B49B-6EFE97BB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11D4-7717-4BAA-AA80-BB27D468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525E2-71AA-42E5-8B29-2E0F1E9D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F613BE-0AA2-455B-A211-B470CC4A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2DDC8-8F22-4EE0-AFDC-7D20B27F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75B5A-DA97-4051-9851-32EF1EBCC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49175-632D-4414-9080-F605B723E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E83F0-3662-4F29-8FA2-E08332112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62563-F059-4CE6-B494-29BB9C06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9AF88-7DDD-4B82-BFEE-70461F69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9CE8E-53A4-4D57-A0FB-A263FFD0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EE258-54A0-459A-9A05-C3E8266C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9005-9F15-41D3-9628-16A8198C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721EA-BAE2-412D-B931-EB0B58B9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F3715-6102-4936-9766-EBAACD04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5B3A8-66DF-4217-ADEF-97BD67AC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98EF8-689E-414E-BE8C-4B5F9480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113E9-ECEE-4713-8D88-FE839247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5B685-B438-4EF4-9495-90CAF1B46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56C0A-6295-429C-87EB-894C24302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E8D87-E23E-4855-8BA1-1CF6086B4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CCBD1-C33F-4D25-B118-16B43952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753EA-D6BA-4CFF-BB78-CB8BE19C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947E-2AEE-4CA9-A325-BE71846D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D1FAB-9E71-4796-BE10-9BF978D0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E3EFA-3613-43C6-9089-FFE1D840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E763F-D728-4A4C-B512-F4FC5707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D095E-1718-4E2A-8544-BD36F4FC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7E407-1C0D-4AE4-9727-F9AB8741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E0790-894C-41A1-AA0D-F99EB92B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A11B5-C08C-4478-B9C9-F5D36BAF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B057D-41F0-4A95-A4B3-E5948BC14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00EA3-66BE-474B-AF57-D61BAF800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BD623-BEAB-4F6E-BBB4-5C3C7D95E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10C7-C518-466F-BF2E-DDC55470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71C7E-8FBC-4F9D-9AD9-7586C5C6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6EACA-1DDB-4FF9-8848-467F3F23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34796-4C52-4E61-9BB0-A431BDBE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BC556-58AC-486B-A1A7-B2DB57FF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25455-A92C-4FC1-BFD6-B8538CD5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AE82D-08E7-4667-A446-CFDD781E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3588F-6F92-48B1-B7DD-BC187D15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D4677-CC6A-4C2C-A2E8-2BCA47BC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21885-008B-4268-8C7F-AD884BB3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8D318-A072-4F0A-84E4-3F701D008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4EA4-C5D6-480A-981F-43184FC0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97F38-6E58-4111-9E95-559D501C3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84BBF-3BF8-441F-B47B-B905CE37F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B35DA-99B9-419A-B2DA-CD7309B0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95E96-12F0-408E-8458-6FAF5951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7BD1A-7871-47F1-8054-46019CDA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4C0FA-1A86-48F5-9956-43F26043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7A149-BFAA-437E-828D-EAA08F49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36347-7C62-43A6-A46A-A642A399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B93A8-2699-45F8-8297-90CFEFB7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1F3E1-A181-4859-942E-64085B44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4063-A82C-4D0B-B8DD-15124AD0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D666F-2404-447F-BAEF-61085CE1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4D44C-8A8D-430C-812F-A3202F464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E2F23-42C0-4EAB-ABF9-8C61174B6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F4029-AAC3-486B-863F-ABEFEBB3E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25E7B-A0FF-4EA4-A0A0-1AFA9273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79588-63DC-4F79-9050-84B1BBE4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5F7F0-C90B-43F2-B8C9-AFDF1587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24271-B46E-46EB-BD34-84307B52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E6F6E-253F-4A74-982C-FB5386D1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2997D-D698-44F8-9DB2-86D838F0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F384-6264-4317-A3BD-E52FB3B8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79167-FEAC-49C5-A21F-72D99FD6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FE913-6686-49D0-8AC0-F1395140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0D08D-F50F-4ABE-8F45-ECEFA6A7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6CAC1-149D-432C-8AEA-BB3C05857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F09CE-5C3E-4C4A-88D4-17D76C79B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8463D-3DBC-42E3-B42C-410249680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B1C62-66B5-4C44-97B3-A5AE4ADE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35FA0-DB07-4C05-8129-5DFF1376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11AB6-CA1B-4A8C-88C3-CF4BECF0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3E27A-970C-48F0-B264-108910D2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59E4-6805-4F73-BB66-75EB4262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5153C-0A66-4D92-B8A3-7E202159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2B744-A221-4BB4-BC7A-61054A05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0BBBA-AC9A-4546-814E-F968DCFB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FB29C-A36F-4179-A5C8-4F16CDA3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AD380-0091-444B-A492-9BCD4971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DF831-E588-482F-B6A2-39ABCB751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A9E50-BC4A-4CA3-960D-B3C29EE30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BCE141-5EBA-4ED6-BAD6-A5AFD6DF4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3C1423-1012-43F3-B0AB-E85A5858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E6D49C-5E85-42A1-839D-B5C53916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69C0-6FFD-4867-A4CC-D471280F167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4F87-7B43-4F01-8035-98DADC91903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13B1-6963-4811-A944-E032EC55F86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9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004E-667A-4E57-AAF1-B12E348138F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4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5ADE-5F63-4497-84CF-82F447993D5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11A3-B01C-4472-8167-41A333724C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229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33BD-44BA-4B29-BB02-510EAEF19AD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7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7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62A1-AB39-4E4C-814C-871701FD492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329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3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337D-8742-44D4-894A-84D36F33972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373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6366-0CAB-464F-BE64-A36AB6F9796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6012000" y="4365360"/>
            <a:ext cx="2479680" cy="14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Verdana"/>
              </a:rPr>
              <a:t>Автор работы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Verdana"/>
              </a:rPr>
              <a:t>учитель физической культур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Verdana"/>
              </a:rPr>
              <a:t>Горшков Андре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Verdana"/>
              </a:rPr>
              <a:t>Александрович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WordArt 4"/>
          <p:cNvSpPr txBox="1"/>
          <p:nvPr/>
        </p:nvSpPr>
        <p:spPr>
          <a:xfrm>
            <a:off x="2195640" y="1052640"/>
            <a:ext cx="4680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зентация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тему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ыжки в длин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4" name="Picture 8" descr="i(11)"/>
          <p:cNvPicPr/>
          <p:nvPr/>
        </p:nvPicPr>
        <p:blipFill>
          <a:blip r:embed="rId1"/>
          <a:stretch/>
        </p:blipFill>
        <p:spPr>
          <a:xfrm>
            <a:off x="1928880" y="3500280"/>
            <a:ext cx="33130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8640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талкиваясь двумя ногами (стопы на ширине плеч и параллельно друг другу), мах руками вперед-вверх. В прыжке максимально вытянуться. Усилия прилагать не только в горизонтальном, но и в вертикальном направлении. При приземлении подать плечи максимально вперед, стараться удержать ноги выше, не допускать преждевременного приземления. Обязательно добиваться широкой амплитуды движений, правильного маха руками, мягкого приземления одновременно на две ног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WordArt 5"/>
          <p:cNvSpPr txBox="1"/>
          <p:nvPr/>
        </p:nvSpPr>
        <p:spPr>
          <a:xfrm>
            <a:off x="2268360" y="476280"/>
            <a:ext cx="5191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ыжки в длину с мест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67" name="Picture 6" descr="i(19)"/>
          <p:cNvPicPr/>
          <p:nvPr/>
        </p:nvPicPr>
        <p:blipFill>
          <a:blip r:embed="rId1"/>
          <a:stretch/>
        </p:blipFill>
        <p:spPr>
          <a:xfrm>
            <a:off x="6443640" y="5418000"/>
            <a:ext cx="244944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учение этому упражнению легче начинать в игровой форме: например, в игре «Цапля и лягушки». Соревновательный момент в этом, как и в других упражнениях, используют лишь тогда, когда у детей сложился правильный рисунок прыжка. Иначе произойдет закрепление неверного движения и повлечет за собой дальнейшие ошибки при выполнении более сложных прыж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4" descr="i(6)"/>
          <p:cNvPicPr/>
          <p:nvPr/>
        </p:nvPicPr>
        <p:blipFill>
          <a:blip r:embed="rId1"/>
          <a:stretch/>
        </p:blipFill>
        <p:spPr>
          <a:xfrm>
            <a:off x="5219640" y="4653000"/>
            <a:ext cx="324000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з положения широкого шага (толчковая нога на месте отталкивания) выполняется активный мах согнутой в колене маховой ногой со сменой положения рук. Важно зафиксировать это положение, стоя высоко на стопе, и многократно его повторять, отводя маховую ногу в исходное положение. Активным должен быть не только мах ногой, но и смена положения рук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WordArt 4"/>
          <p:cNvSpPr txBox="1"/>
          <p:nvPr/>
        </p:nvSpPr>
        <p:spPr>
          <a:xfrm>
            <a:off x="3132000" y="260280"/>
            <a:ext cx="2781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ход в Шаг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72" name="Picture 5" descr="i(12)"/>
          <p:cNvPicPr/>
          <p:nvPr/>
        </p:nvPicPr>
        <p:blipFill>
          <a:blip r:embed="rId1"/>
          <a:stretch/>
        </p:blipFill>
        <p:spPr>
          <a:xfrm>
            <a:off x="4716360" y="4941720"/>
            <a:ext cx="33847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WordArt 4"/>
          <p:cNvSpPr txBox="1"/>
          <p:nvPr/>
        </p:nvSpPr>
        <p:spPr>
          <a:xfrm>
            <a:off x="611280" y="549360"/>
            <a:ext cx="8296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 чем надо помнить при отталкивани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75" name="Picture 5" descr="i(8)"/>
          <p:cNvPicPr/>
          <p:nvPr/>
        </p:nvPicPr>
        <p:blipFill>
          <a:blip r:embed="rId1"/>
          <a:stretch/>
        </p:blipFill>
        <p:spPr>
          <a:xfrm>
            <a:off x="4500720" y="5516640"/>
            <a:ext cx="30956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1. Ноги выносятся далеко вперед, причем они почти выпрямлены, но не напряжены.</a:t>
            </a:r>
            <a:br>
              <a:rPr sz="2300"/>
            </a:b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2. Как только пятки касаются грунта, ноги мягко сгибаются в коленях. При этом верхняя часть туловища несколько приподнимается, чтобы бедра можно было вынести вперед. Таким образом вес тела перемещается за точку приземления.</a:t>
            </a:r>
            <a:br>
              <a:rPr sz="2300"/>
            </a:b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3. Таз не должен преждевременно коснуться грунта.</a:t>
            </a:r>
            <a:br>
              <a:rPr sz="2300"/>
            </a:b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4. Обе ноги приземляются на одинаковом уровне. Точка приземления будет правильной, если после касания ногами грунта прыгун может перемещать тело вперед по прямой линии или же произвести падение в сторону от нее.</a:t>
            </a:r>
            <a:br>
              <a:rPr sz="2300"/>
            </a:b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5. Вначале руки сильно опущены вниз-назад, а затем, выполняя мах вперед, они содействуют продвижению туловища.</a:t>
            </a:r>
            <a:br>
              <a:rPr sz="2300"/>
            </a:b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6. Выходить из прыжковой ямы нужно только вперед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WordArt 4"/>
          <p:cNvSpPr txBox="1"/>
          <p:nvPr/>
        </p:nvSpPr>
        <p:spPr>
          <a:xfrm>
            <a:off x="755640" y="260280"/>
            <a:ext cx="7858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 приземлении важно следующе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 Последний шаг выполняется быстрее, чем все предыдущие. Нога ставится на доску отталкивания очень энергично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 Пятка только на миг касается грунта, стопа быстро перекатывается на носок. Затем следует энергичное выпрямление всего тела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 Верхняя часть туловища находится в вертикальном положении, взгляд направлен вперед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 Бедро маховой ноги поднимается до горизонтальной линии (колено сильно сгибается)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 Отталкиванию содействуют попеременные маховые движения одной и другой руки (плечи энергично поднимаются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0:14:51Z</dcterms:created>
  <dc:creator>User</dc:creator>
  <dc:description/>
  <dc:language>en-US</dc:language>
  <cp:lastModifiedBy>Пользователь</cp:lastModifiedBy>
  <dcterms:modified xsi:type="dcterms:W3CDTF">2013-12-28T10:05:36Z</dcterms:modified>
  <cp:revision>7</cp:revision>
  <dc:subject/>
  <dc:title>Слайд 1</dc:title>
</cp:coreProperties>
</file>