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67A-F849-4BAE-98B9-AEDF00F5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711-3ED3-4F13-B642-77F2BE2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43E-6ACF-4231-BD87-740118CC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A0B-397D-4DDD-9FA5-30F8AFCE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3DA-35FF-45C0-8856-5966E543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1E9E-0616-4DEB-A020-901278B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A53-90AE-4EAC-855A-6EF9960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F11-0A7B-465D-9EF5-06F48129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9C7C-6588-4D85-A93F-2AAA0D61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343-106D-4DF7-8E3D-D55C24E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C5C-D293-49EA-8579-8A29606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1F0-E599-4AE5-8815-D961D09F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322-769D-4DF5-9688-49BAAF0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DE9-FD3A-4DEA-AE19-EAB5638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F09C-C623-4EC5-9FB1-E780F99D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D14B-37EB-4311-BC0C-6F9F70D6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7A61-F4A3-4DAA-8F33-B27868BE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68F-0B94-433B-BF82-1331B5B5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66B-4CAB-4FB3-901C-61FB0B2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23B-5CC8-4B97-8C62-F67DDCAA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21D-5E85-4161-A473-D6A364A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326-96D0-461F-A8E0-39DC15E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759-560E-42EE-863C-6B0A1B1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50F-D78F-45EC-98A1-1C9AB16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A7EE-2587-4D9C-BCC8-DCAD6E7211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A408-999C-4C32-A3AA-39179E41D4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0469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ектирование учебного процесса по физике на основе педтехнологии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В.М. Монах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3885840"/>
            <a:ext cx="4825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икова Ольг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физики и матема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БОУ «Щеколдинская ООШ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. Щеколдино Зубцовского района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57200" cy="33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4211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Результативнос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сихологический комф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уроке для каждого ученика /здоровьесбережение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спеваем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ниже 7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витие интер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аст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нкурсах, олимпиадах, спартакиадах, конференциях  районного, регионального, федерального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07040" y="1600200"/>
            <a:ext cx="325260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37160" y="3141720"/>
            <a:ext cx="2490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Педагоги не могут кого-то успешно учить, если в это же время не учатся са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Али Апшерон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учить эффективно, учусь сама. Прохожу курсы повышения квалификации, дистанцио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 блог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х порталах,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общение с коллегам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ценимый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4316400" cy="336384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«Если вы владеете знаниями, дайте другим зажечь от них свои светильники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 Томас Фуллер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413000"/>
          <a:ext cx="2951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2951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0892000">
            <a:off x="2946240" y="1645920"/>
            <a:ext cx="2988000" cy="41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634200">
            <a:off x="5940360" y="1557360"/>
            <a:ext cx="2793960" cy="396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826200">
            <a:off x="1272960" y="4060800"/>
            <a:ext cx="17762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5580000" y="4437000"/>
            <a:ext cx="16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«Уча других, мы учимся и сами»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/А. Сенека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важай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ого ребёнка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юб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ё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ы в школе – для детей, а не дети для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лай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сё для того, чтобы им было на уроке комфортно, спокой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 тогд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кола будет миром гармонии и сотрудни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Если учитель соединяет в себе любовь к делу и к ученику, он – совершенный учитель.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Л. Толстой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считаю, что только в умелом сплетении мудр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шл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передового опы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тоящ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ет р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ениальное соврем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лог успеха современного учителя – любовь к своим ученикам и своему 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3206880"/>
            <a:ext cx="4325760" cy="33559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Учитель – человек, который может делать трудные вещи лёгкими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/Ральф Эмирсон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ная педтехнология позволяет учителю создать проект свое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она позволяет сплетать элементы традиционной педагогики, развивающее обучение и удовлетворяет принципам индивидуализации и дифференциации современ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200400" cy="42670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раметризация процесса и его инфра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кетирование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зучение мотивации учения, познавательных потребностей, выявление психологического здоровья учащихся. Анкетирование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елеполаг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истема микроцелей. Каждая микроцель – группа уроков, на которых она должна быть достиг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вод методического замысла учителя в целостную и логическую наглядную модель учебн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ие кар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учебного процесса – пошаговая последовательность действий с указанием применяем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правленческая информация о факте достижения или не достижения микроцели. Количество диагностик равно числу микро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зированное домашнее 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держательное и количественное задание, гарантируемое успешное прохождение диагностики – таблицы разноуровневых заданий для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ррек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информации о педагогическом бра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Плохой учитель преподносит истину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хороший учит её находить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Иммануил Кан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ая деятельность спроектирована таким образом, что усвоение учебного материала идёт на уровне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пособностей и запросов каждого уче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еспечивает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каждо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можность достижение планируемых результатов с учётом его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614840" cy="30178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мощь развитию мыслительных операций создаю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Банк развивающих заданий по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«Банк» включает в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Теоре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татьи, анкеты, памят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Диагнос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обходимую для определения, в заданиях какого типа нуждается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ак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пражнения для развития восприятия, внимания, памяти,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ключающее в себя раздат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2239920"/>
            <a:ext cx="4392360" cy="3565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99"/>
                </a:solidFill>
                <a:latin typeface="Arial"/>
              </a:rPr>
              <a:t>Инновационный подход к оценива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ы готовятся из 4 заданий. Все работы составляются на трёх уровн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прод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нял, запомнил, воспроизвёл /задание № 1- 2/ - отметк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стр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менил знания по образцу и в изменённой ситуации /задание № 3/ - отметк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ворчески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учился переносить знания в новые условия /задание № 4/ - отметк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акому принципу составлено дозированное ДЗ, диагностики, К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67360" y="1731960"/>
            <a:ext cx="3200400" cy="4267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Коррек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ЛР, диагностик, КР заносятся в таблицу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Мониторинг качества знаний по теме..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нализируя эти данные, провожу корре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Данные материалы доступны дл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процессе обучения и во внеклассной работе использую готовые 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здаю сам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Занимательные задачи, кроссворды, загадки, леген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Э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Презентации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Интернет –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Обучающие фильмы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Видеоролики экспери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9:45Z</dcterms:created>
  <dc:creator>Formoza</dc:creator>
  <dc:description/>
  <dc:language>en-US</dc:language>
  <cp:lastModifiedBy>Formoza</cp:lastModifiedBy>
  <dcterms:modified xsi:type="dcterms:W3CDTF">2002-12-31T23:28:49Z</dcterms:modified>
  <cp:revision>4</cp:revision>
  <dc:subject/>
  <dc:title>Проектирование учебного процесса по физике на основе педтехнологии В.М. Монахова.</dc:title>
</cp:coreProperties>
</file>