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C78-8470-4EF4-AAF0-29182129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01A-809E-4D49-A2A0-7207258E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ACB-384E-4202-A986-20E4295B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44A-F830-4DE7-9032-35408B26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4EF2-9F72-423B-9E0D-7C979EF9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630E-1432-484B-AAEB-433F810B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52B1-2A60-4131-A526-1D509E9B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1C7F-42A4-4902-9D67-7A6D53E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CBBC-852D-4477-B25D-3A752D61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626A-2853-4338-8D4C-DCA53D23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9911-B9B4-4D93-8AC8-01635625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2FC-1776-44A2-AD78-0EF626C3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8CC4-9A53-43C1-A4DF-8BA44AB0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FC44-969C-420E-A11B-5FFDC5FB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7F8C-71EB-4B05-BEA6-E55B0695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1252-8933-4536-9CD4-99B75AC5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9841-0E35-4B3C-B194-C3105BC5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808-33B1-40FA-B4C3-693D6837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B01-EB32-428D-90A1-E2B3B23F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28B-9D5A-4E82-9FD1-032898F0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9C6-6CFA-4B91-95E9-D1B9191D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21C-B15A-4EF4-AE96-05ADD184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2AE-DB2E-4F31-87D4-DDAAF187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CE1-20C0-4DD6-A300-88B1DCA9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4F4D-39C4-4905-8AB4-C5EDBB68D3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310C-3586-4897-87D5-45602F4A55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604692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роектирование учебного процесса по физике на основе педтехнологии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В.М. Монах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3885840"/>
            <a:ext cx="4825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овикова Ольг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физики и математ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МБОУ «Щеколдинская ООШ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. Щеколдино Зубцовского района Тве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57200" cy="338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42116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Результативность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сихологический комф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уроке для каждого ученика /здоровьесбережение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спеваем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ниже 7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витие интере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част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конкурсах, олимпиадах, спартакиадах, конференциях  районного, регионального, федерального уров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207040" y="1600200"/>
            <a:ext cx="325260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37160" y="3141720"/>
            <a:ext cx="24908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«Педагоги не могут кого-то успешно учить, если в это же время не учатся са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Али Апшерон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учить эффективно, учусь сама. Прохожу курсы повышения квалификации, дистанционное об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ю блоги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х порталах, 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общение с коллегами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ценимый оп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0" y="3213000"/>
            <a:ext cx="4316400" cy="3363840"/>
          </a:xfrm>
          <a:prstGeom prst="rect">
            <a:avLst/>
          </a:prstGeom>
          <a:ln w="76320">
            <a:solidFill>
              <a:srgbClr val="676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«Если вы владеете знаниями, дайте другим зажечь от них свои светильники»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 Томас Фуллер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1413000"/>
          <a:ext cx="2951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2951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20892000">
            <a:off x="2946240" y="1645920"/>
            <a:ext cx="2988000" cy="410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 rot="634200">
            <a:off x="5940360" y="1557360"/>
            <a:ext cx="2793960" cy="396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 rot="826200">
            <a:off x="1272960" y="4060800"/>
            <a:ext cx="177624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5580000" y="4437000"/>
            <a:ext cx="161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«Уча других, мы учимся и сами»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/А. Сенека/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важай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ого ребёнка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юб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ё д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мн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ы в школе – для детей, а не дети для В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лай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сё для того, чтобы им было на уроке комфортно, спокойно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И тогд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школа будет миром гармонии и сотрудни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«Если учитель соединяет в себе любовь к делу и к ученику, он – совершенный учитель.»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Л. Толстой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считаю, что только в умелом сплетении мудрос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шл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передового опыт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тоящ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ет род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ениальное соврем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алог успеха современного учителя – любовь к своим ученикам и своему де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00720" y="3206880"/>
            <a:ext cx="4325760" cy="335592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Учитель – человек, который может делать трудные вещи лёгкими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/Ральф Эмирсон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ная педтехнология позволяет учителю создать проект своей деятель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она позволяет сплетать элементы традиционной педагогики, развивающее обучение и удовлетворяет принципам индивидуализации и дифференциации современ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35640" y="2205000"/>
            <a:ext cx="3200400" cy="4267080"/>
          </a:xfrm>
          <a:prstGeom prst="rect">
            <a:avLst/>
          </a:prstGeom>
          <a:ln w="76320">
            <a:solidFill>
              <a:srgbClr val="676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араметризация процесса и его инфра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нкетирование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изучение мотивации учения, познавательных потребностей, выявление психологического здоровья учащихся. Анкетирование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Целеполаг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истема микроцелей. Каждая микроцель – группа уроков, на которых она должна быть достигн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огическая струк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вод методического замысла учителя в целостную и логическую наглядную модель учебного 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ческие кар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ект учебного процесса – пошаговая последовательность действий с указанием применяем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агно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правленческая информация о факте достижения или не достижения микроцели. Количество диагностик равно числу микро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зированное домашнее зад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держательное и количественное задание, гарантируемое успешное прохождение диагностики – таблицы разноуровневых заданий для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ррек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едоставление информации о педагогическом бра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Плохой учитель преподносит истину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хороший учит её находить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Иммануил Кант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ая деятельность спроектирована таким образом, что усвоение учебного материала идёт на уровне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пособностей и запросов каждого уче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беспечивает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каждо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зможность достижение планируемых результатов с учётом его индивидуальных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4614840" cy="3017880"/>
          </a:xfrm>
          <a:prstGeom prst="rect">
            <a:avLst/>
          </a:prstGeom>
          <a:ln w="76320">
            <a:solidFill>
              <a:srgbClr val="676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мощь развитию мыслительных операций создаю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«Банк развивающих заданий по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«Банк» включает в себ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Теоретическая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татьи, анкеты, памят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Диагностическая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необходимую для определения, в заданиях какого типа нуждается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Практическая ч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упражнения для развития восприятия, внимания, памяти,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Прил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ключающее в себя раздат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0720" y="2239920"/>
            <a:ext cx="4392360" cy="3565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99"/>
                </a:solidFill>
                <a:latin typeface="Arial"/>
              </a:rPr>
              <a:t>Инновационный подход к оценивани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ы готовятся из 4 заданий. Все работы составляются на трёх уровн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епродуктивны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нял, запомнил, воспроизвёл /задание № 1- 2/ - отметка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нструктивны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менил знания по образцу и в изменённой ситуации /задание № 3/ - отметка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ворчески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учился переносить знания в новые условия /задание № 4/ - отметка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такому принципу составлено дозированное ДЗ, диагностики, К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67360" y="1731960"/>
            <a:ext cx="3200400" cy="4267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Коррекц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ы ЛР, диагностик, КР заносятся в таблицу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«Мониторинг качества знаний по теме..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нализируя эти данные, провожу корре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Данные материалы доступны для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51944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процессе обучения и во внеклассной работе использую готовые и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здаю сам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Занимательные задачи, кроссворды, загадки, леген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Э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Презентации по т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Интернет –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Обучающие фильмы по т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Видеоролики экспери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9:45Z</dcterms:created>
  <dc:creator>Formoza</dc:creator>
  <dc:description/>
  <dc:language>en-US</dc:language>
  <cp:lastModifiedBy>Formoza</cp:lastModifiedBy>
  <dcterms:modified xsi:type="dcterms:W3CDTF">2002-12-31T23:28:49Z</dcterms:modified>
  <cp:revision>4</cp:revision>
  <dc:subject/>
  <dc:title>Проектирование учебного процесса по физике на основе педтехнологии В.М. Монахова.</dc:title>
</cp:coreProperties>
</file>