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46A8-F738-4566-AACD-28D805C0D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FF59-91BF-4FFA-9BD3-28D5D85A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CF70-8E43-4D9E-B149-B8EC96F2A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3479-B634-46A7-BB52-E3AE5E438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E56D-439A-4973-AED3-11005B99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6054-E6A6-43AB-9670-919B4C78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8A94-742B-4F44-A566-FC7B5027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2953-4B65-4CDA-B355-4972C8A7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21CC-60B3-45C2-91FB-7F26BE0A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DB19-0C4F-4C96-BABC-4F15B395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B3C8-3B80-4B90-A95B-2800D909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7A8C-8264-43C8-8728-0D6782F5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6E51-D7CB-4968-8579-89AD9749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7404-8318-4A44-B306-5B71CE1D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D07E-7657-4196-B37D-595D7E32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32C7-4DD8-487A-BE69-315769346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8FB6-143D-4BF0-8F73-A79F8375C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694E-6071-49A3-AF77-50EEE78F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36DB-D128-4E00-B238-6CD4FE63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41F8-2FFD-4CB9-A22F-77125ABA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BDF8-F420-4C21-A8C3-33E828F0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C90D-F322-4694-987C-9A778ED1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ADAC-2F86-4A74-AB0B-0511E751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F94F-F816-46AE-9766-AD6F2F79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1E6F-F61F-4000-8774-9091BC1AB1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2B6C-ECB2-4A86-A87F-A6482AAC51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26920" y="476280"/>
            <a:ext cx="6046920" cy="25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Проектирование учебного процесса по физике на основе педтехнологии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В.М. Монах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50560" y="3885840"/>
            <a:ext cx="482580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Новикова Ольг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итель физики и математи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МБОУ «Щеколдинская ООШ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. Щеколдино Зубцовского района Тве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257200" cy="338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88000" y="4365720"/>
            <a:ext cx="421164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Arial"/>
              </a:rPr>
              <a:t>Результативность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сихологический комфор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уроке для каждого ученика /здоровьесбережение/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Успеваем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 ниже 70 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Развитие интере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 предме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Участ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конкурсах, олимпиадах, спартакиадах, конференциях  районного, регионального, федерального уров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207040" y="1600200"/>
            <a:ext cx="3252600" cy="2438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537160" y="3141720"/>
            <a:ext cx="24908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«Педагоги не могут кого-то успешно учить, если в это же время не учатся сами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Али Апшерон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тобы учить эффективно, учусь сама. Прохожу курсы повышения квалификации, дистанционное обу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ю блоги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тельных порталах, т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общение с коллегами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ценимый опы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0" y="3213000"/>
            <a:ext cx="4316400" cy="3363840"/>
          </a:xfrm>
          <a:prstGeom prst="rect">
            <a:avLst/>
          </a:prstGeom>
          <a:ln w="76320">
            <a:solidFill>
              <a:srgbClr val="6767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99"/>
                </a:solidFill>
                <a:latin typeface="Arial"/>
              </a:rPr>
              <a:t>«Если вы владеете знаниями, дайте другим зажечь от них свои светильники»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/ Томас Фуллер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79280" y="1413000"/>
          <a:ext cx="295128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295128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 rot="20892000">
            <a:off x="2946240" y="1645920"/>
            <a:ext cx="2988000" cy="4105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 rot="634200">
            <a:off x="5940360" y="1557360"/>
            <a:ext cx="2793960" cy="3960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 rot="826200">
            <a:off x="1272960" y="4060800"/>
            <a:ext cx="1776240" cy="2448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5580000" y="4437000"/>
            <a:ext cx="1619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Arial"/>
              </a:rPr>
              <a:t>«Уча других, мы учимся и сами»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/А. Сенека/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важайт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ждого ребёнка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любит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оё де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омни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Вы в школе – для детей, а не дети для Ва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Делай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сё для того, чтобы им было на уроке комфортно, спокойно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И тогда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школа будет миром гармонии и сотруднич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«Если учитель соединяет в себе любовь к делу и к ученику, он – совершенный учитель.»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Л. Толстой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 считаю, что только в умелом сплетении мудрост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ошлог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передового опыт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стоящег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ожет роди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гениальное современ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Залог успеха современного учителя – любовь к своим ученикам и своему де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00720" y="3206880"/>
            <a:ext cx="4325760" cy="335592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«Учитель – человек, который может делать трудные вещи лёгкими»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/Ральф Эмирсон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анная педтехнология позволяет учителю создать проект своей деятельност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ме того, она позволяет сплетать элементы традиционной педагогики, развивающее обучение и удовлетворяет принципам индивидуализации и дифференциации современного образ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435640" y="2205000"/>
            <a:ext cx="3200400" cy="4267080"/>
          </a:xfrm>
          <a:prstGeom prst="rect">
            <a:avLst/>
          </a:prstGeom>
          <a:ln w="76320">
            <a:solidFill>
              <a:srgbClr val="6767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араметризация процесса и его инфрамо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Анкетирование учащих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изучение мотивации учения, познавательных потребностей, выявление психологического здоровья учащихся. Анкетирование род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Целеполаг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истема микроцелей. Каждая микроцель – группа уроков, на которых она должна быть достигну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Логическая структу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еревод методического замысла учителя в целостную и логическую наглядную модель учебного процес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ехнологические кар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роект учебного процесса – пошаговая последовательность действий с указанием применяемых сред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иагности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управленческая информация о факте достижения или не достижения микроцели. Количество диагностик равно числу микроц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озированное домашнее зад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одержательное и количественное задание, гарантируемое успешное прохождение диагностики – таблицы разноуровневых заданий для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оррекц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предоставление информации о педагогическом бра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«Плохой учитель преподносит истину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хороший учит её находить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/Иммануил Кант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ебная деятельность спроектирована таким образом, что усвоение учебного материала идёт на уровне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способностей и запросов каждого учени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обеспечивает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каждом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озможность достижение планируемых результатов с учётом его индивидуальных особен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4614840" cy="3017880"/>
          </a:xfrm>
          <a:prstGeom prst="rect">
            <a:avLst/>
          </a:prstGeom>
          <a:ln w="76320">
            <a:solidFill>
              <a:srgbClr val="6767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омощь развитию мыслительных операций создаю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«Банк развивающих заданий по физик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«Банк» включает в себ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Теоретическая ча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статьи, анкеты, памятк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Диагностическая ча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необходимую для определения, в заданиях какого типа нуждается уче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Практическая ча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упражнения для развития восприятия, внимания, памяти, мыш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Прилож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включающее в себя раздаточный матери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00720" y="2239920"/>
            <a:ext cx="4392360" cy="356544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99"/>
                </a:solidFill>
                <a:latin typeface="Arial"/>
              </a:rPr>
              <a:t>Инновационный подход к оцениванию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боты готовятся из 4 заданий. Все работы составляются на трёх уровня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Репродуктивный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онял, запомнил, воспроизвёл /задание № 1- 2/ - отметка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Конструктивный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рименил знания по образцу и в изменённой ситуации /задание № 3/ - отметка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Творческий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научился переносить знания в новые условия /задание № 4/ - отметка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 такому принципу составлено дозированное ДЗ, диагностики, К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067360" y="1731960"/>
            <a:ext cx="3200400" cy="426708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Arial"/>
              </a:rPr>
              <a:t>Коррекц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зультаты ЛР, диагностик, КР заносятся в таблицу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«Мониторинг качества знаний по теме..»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Анализируя эти данные, провожу коррек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* Данные материалы доступны для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519444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В процессе обучения и во внеклассной работе использую готовые и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создаю сама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Занимательные задачи, кроссворды, загадки, легенд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Э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Презентации по тем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Интернет –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Обучающие фильмы по тем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Видеоролики экспери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1:39:45Z</dcterms:created>
  <dc:creator>Formoza</dc:creator>
  <dc:description/>
  <dc:language>en-US</dc:language>
  <cp:lastModifiedBy>Formoza</cp:lastModifiedBy>
  <dcterms:modified xsi:type="dcterms:W3CDTF">2002-12-31T23:28:49Z</dcterms:modified>
  <cp:revision>4</cp:revision>
  <dc:subject/>
  <dc:title>Проектирование учебного процесса по физике на основе педтехнологии В.М. Монахова.</dc:title>
</cp:coreProperties>
</file>