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E1C-05EA-4A8B-B513-07E0A379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2BB-003E-4256-8DEB-3221A5F9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095-6126-442D-8BB6-477B8987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28F-238B-447F-89B3-B237A7FB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B44-3175-45CE-B343-73B1391F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02A-F840-475D-98A5-F16D620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F34-0782-410D-A9F5-BB9232C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639-D012-4E17-9376-B7D30CE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AC2-688C-4C8B-B234-7148617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6FB-A395-4276-ADF6-AB3D847A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09F-9C82-4180-91A5-E03CBBA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773-8029-4184-9B89-E2D1AD7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ADB-6521-46F7-8230-02072B56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374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девятнадцатого века высказывались разнообразные предположения о существовании обитателей Марса подобных человеку. В шутку, хотя и не совсем безосновательно , было решено 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едать обитателям Марса сигнал в виде теоремы Пифаг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известно, как это сделать; но для всех очевидно, что математический факт, выражаемый теоремой Пифагора имеет место всюду и поэтому похожие на нас обитатели другого мира должны понять так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5229360"/>
            <a:ext cx="2247840" cy="1057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5724360" y="6597720"/>
            <a:ext cx="503280" cy="260280"/>
          </a:xfrm>
          <a:custGeom>
            <a:avLst/>
            <a:gdLst>
              <a:gd name="textAreaLeft" fmla="*/ 16560 w 503280"/>
              <a:gd name="textAreaRight" fmla="*/ 486720 w 503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738" h="21600">
                <a:moveTo>
                  <a:pt x="0" y="0"/>
                </a:moveTo>
                <a:lnTo>
                  <a:pt x="41738" y="0"/>
                </a:lnTo>
                <a:lnTo>
                  <a:pt x="41738" y="21600"/>
                </a:lnTo>
                <a:lnTo>
                  <a:pt x="0" y="21600"/>
                </a:lnTo>
                <a:close/>
              </a:path>
              <a:path fill="lightenLess" w="41738" h="21600">
                <a:moveTo>
                  <a:pt x="0" y="0"/>
                </a:moveTo>
                <a:lnTo>
                  <a:pt x="41738" y="0"/>
                </a:lnTo>
                <a:lnTo>
                  <a:pt x="40338" y="1400"/>
                </a:lnTo>
                <a:lnTo>
                  <a:pt x="1400" y="1400"/>
                </a:lnTo>
                <a:close/>
              </a:path>
              <a:path fill="darken" w="41738" h="21600">
                <a:moveTo>
                  <a:pt x="41738" y="0"/>
                </a:moveTo>
                <a:lnTo>
                  <a:pt x="41738" y="21600"/>
                </a:lnTo>
                <a:lnTo>
                  <a:pt x="40338" y="20200"/>
                </a:lnTo>
                <a:lnTo>
                  <a:pt x="40338" y="1400"/>
                </a:lnTo>
                <a:close/>
              </a:path>
              <a:path fill="darkenLess" w="41738" h="21600">
                <a:moveTo>
                  <a:pt x="41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8" y="20200"/>
                </a:lnTo>
                <a:close/>
              </a:path>
              <a:path fill="lighten" w="41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8" h="21600">
                <a:moveTo>
                  <a:pt x="13863" y="10800"/>
                </a:moveTo>
                <a:lnTo>
                  <a:pt x="27876" y="3794"/>
                </a:lnTo>
                <a:lnTo>
                  <a:pt x="2787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6597720"/>
            <a:ext cx="505080" cy="260280"/>
          </a:xfrm>
          <a:custGeom>
            <a:avLst/>
            <a:gdLst>
              <a:gd name="textAreaLeft" fmla="*/ 16560 w 505080"/>
              <a:gd name="textAreaRight" fmla="*/ 488520 w 505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87" h="21600">
                <a:moveTo>
                  <a:pt x="0" y="0"/>
                </a:moveTo>
                <a:lnTo>
                  <a:pt x="41887" y="0"/>
                </a:lnTo>
                <a:lnTo>
                  <a:pt x="41887" y="21600"/>
                </a:lnTo>
                <a:lnTo>
                  <a:pt x="0" y="21600"/>
                </a:lnTo>
                <a:close/>
              </a:path>
              <a:path fill="lightenLess" w="41887" h="21600">
                <a:moveTo>
                  <a:pt x="0" y="0"/>
                </a:moveTo>
                <a:lnTo>
                  <a:pt x="41887" y="0"/>
                </a:lnTo>
                <a:lnTo>
                  <a:pt x="40487" y="1400"/>
                </a:lnTo>
                <a:lnTo>
                  <a:pt x="1400" y="1400"/>
                </a:lnTo>
                <a:close/>
              </a:path>
              <a:path fill="darken" w="41887" h="21600">
                <a:moveTo>
                  <a:pt x="41887" y="0"/>
                </a:moveTo>
                <a:lnTo>
                  <a:pt x="41887" y="21600"/>
                </a:lnTo>
                <a:lnTo>
                  <a:pt x="40487" y="20200"/>
                </a:lnTo>
                <a:lnTo>
                  <a:pt x="40487" y="1400"/>
                </a:lnTo>
                <a:close/>
              </a:path>
              <a:path fill="darkenLess" w="41887" h="21600">
                <a:moveTo>
                  <a:pt x="41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87" y="20200"/>
                </a:lnTo>
                <a:close/>
              </a:path>
              <a:path fill="lighten" w="41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87" h="21600">
                <a:moveTo>
                  <a:pt x="13937" y="7493"/>
                </a:moveTo>
                <a:lnTo>
                  <a:pt x="17445" y="7493"/>
                </a:lnTo>
                <a:lnTo>
                  <a:pt x="17445" y="12828"/>
                </a:lnTo>
                <a:cubicBezTo>
                  <a:pt x="17445" y="13751"/>
                  <a:pt x="18245" y="14482"/>
                  <a:pt x="19281" y="14482"/>
                </a:cubicBezTo>
                <a:lnTo>
                  <a:pt x="20944" y="14482"/>
                </a:lnTo>
                <a:cubicBezTo>
                  <a:pt x="21979" y="14482"/>
                  <a:pt x="22780" y="13751"/>
                  <a:pt x="22780" y="12828"/>
                </a:cubicBezTo>
                <a:lnTo>
                  <a:pt x="22780" y="7493"/>
                </a:lnTo>
                <a:lnTo>
                  <a:pt x="20944" y="7493"/>
                </a:lnTo>
                <a:lnTo>
                  <a:pt x="24451" y="3985"/>
                </a:lnTo>
                <a:lnTo>
                  <a:pt x="28124" y="7493"/>
                </a:lnTo>
                <a:lnTo>
                  <a:pt x="26288" y="7493"/>
                </a:lnTo>
                <a:lnTo>
                  <a:pt x="26288" y="12828"/>
                </a:lnTo>
                <a:cubicBezTo>
                  <a:pt x="26288" y="15596"/>
                  <a:pt x="23711" y="18155"/>
                  <a:pt x="20944" y="18155"/>
                </a:cubicBezTo>
                <a:lnTo>
                  <a:pt x="19281" y="18155"/>
                </a:lnTo>
                <a:cubicBezTo>
                  <a:pt x="16513" y="18155"/>
                  <a:pt x="13937" y="15596"/>
                  <a:pt x="13937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 кр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домов и коттеджей часто встает вопрос о длине стропил для крыши, если уже изготовлены балки. Например: в доме задумано построить двускатную крышу (форма в сечении). Какой длины должны быть стропила, если изготовлены балки AC=8 м., и AB=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треугольника DBC: DB=2,5 м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треугольника AB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32360" cy="176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529080" cy="495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85928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строно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B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C=R=200 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C= r =638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OA+AB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r + 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теорему Пифагора, получим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2,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833480" cy="2349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5219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ниеот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70360" y="3114720"/>
            <a:ext cx="437364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ниеот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молниеотвод защищает от молнии все предметы, расстояние которых от его основания не превышает его удвоенной высоты. Необходимо определить оптимальное положение молниеотвода на двускатной крыше, обеспечивающее наименьшую его доступную вы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2≥ a2+b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≥(a2+b2)1/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27640" y="5127480"/>
            <a:ext cx="3816360" cy="17305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28472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10800"/>
                </a:moveTo>
                <a:lnTo>
                  <a:pt x="25612" y="3794"/>
                </a:lnTo>
                <a:lnTo>
                  <a:pt x="2561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дания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ического и романского сти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е окна (b) для наружны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е ширины, (b/2) для внутренни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ется еще полная окружность, касающаяся четырех дуг.   Т. к. она заключена между двумя концентрическими окружностями, то ее диаметр равен расстоянию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ми окружностями, т. е. b/2 и, 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равен b/4. А тогда становится ясны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ение ее цен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31080" y="3716280"/>
            <a:ext cx="14112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87708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3794"/>
                </a:moveTo>
                <a:lnTo>
                  <a:pt x="20987" y="10800"/>
                </a:lnTo>
                <a:lnTo>
                  <a:pt x="697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443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ской архитек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о встречается мотив, представленный на рисунке. Если b по-прежнему обозначает ширину окна, то радиусы полуокружностей будут равны R = b / 2 и r = b / 4. Радиус p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b/4+p, один катет равен b/4, а другой b/2-p. По теореме Пифагора име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b/4+p)=( b/4)+( b/4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/16+ bp/2+p=b/16+b/4-bp+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p/2=b/4-b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в на b и приводя подобные члены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/2)p=b/4, p=b/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303640" cy="147348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524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10800"/>
                </a:moveTo>
                <a:lnTo>
                  <a:pt x="23306" y="3794"/>
                </a:lnTo>
                <a:lnTo>
                  <a:pt x="2330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ы точки A и B и путь светового луча от A к B и обратно. Путь луча показан изогнутой стрелкой для наглядности, на самом деле, световой луч -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путь проходит луч? Поскольку свет идет туда и обратно одинаковый путь, спросим сразу: чему равно расстояние между точ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latrest" descr=""/>
          <p:cNvPicPr/>
          <p:nvPr/>
        </p:nvPicPr>
        <p:blipFill>
          <a:blip r:embed="rId1"/>
          <a:stretch/>
        </p:blipFill>
        <p:spPr>
          <a:xfrm>
            <a:off x="6516720" y="3860640"/>
            <a:ext cx="1333440" cy="249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651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8818"/>
                </a:moveTo>
                <a:lnTo>
                  <a:pt x="7301" y="8818"/>
                </a:lnTo>
                <a:lnTo>
                  <a:pt x="7301" y="14154"/>
                </a:lnTo>
                <a:cubicBezTo>
                  <a:pt x="7301" y="15076"/>
                  <a:pt x="8102" y="15807"/>
                  <a:pt x="9138" y="15807"/>
                </a:cubicBezTo>
                <a:lnTo>
                  <a:pt x="10800" y="15807"/>
                </a:lnTo>
                <a:cubicBezTo>
                  <a:pt x="11836" y="15807"/>
                  <a:pt x="12636" y="15076"/>
                  <a:pt x="12636" y="14154"/>
                </a:cubicBezTo>
                <a:lnTo>
                  <a:pt x="12636" y="8818"/>
                </a:lnTo>
                <a:lnTo>
                  <a:pt x="10800" y="8818"/>
                </a:lnTo>
                <a:lnTo>
                  <a:pt x="14308" y="5311"/>
                </a:lnTo>
                <a:lnTo>
                  <a:pt x="17981" y="8818"/>
                </a:lnTo>
                <a:lnTo>
                  <a:pt x="16144" y="8818"/>
                </a:lnTo>
                <a:lnTo>
                  <a:pt x="16144" y="14154"/>
                </a:lnTo>
                <a:cubicBezTo>
                  <a:pt x="16144" y="16921"/>
                  <a:pt x="13568" y="19480"/>
                  <a:pt x="10800" y="19480"/>
                </a:cubicBezTo>
                <a:lnTo>
                  <a:pt x="9138" y="19480"/>
                </a:lnTo>
                <a:cubicBezTo>
                  <a:pt x="6370" y="19480"/>
                  <a:pt x="3794" y="16921"/>
                  <a:pt x="3794" y="14154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01200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 путь светового луча только с другой точки зрения, например из космического корабля. Предположим, что корабль движется влево. Тогда две точки, между которыми движется световой луч, станут двигаться вправо с той же скоростью. Причем, в то время, пока луч пробегает свой путь, исходная точка A смещается и луч возвращается уже в новую точку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dilatmove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230508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558000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9339" y="10800"/>
                </a:moveTo>
                <a:lnTo>
                  <a:pt x="23352" y="3794"/>
                </a:lnTo>
                <a:lnTo>
                  <a:pt x="2335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012000" y="6524640"/>
            <a:ext cx="576000" cy="33336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05" h="21600">
                <a:moveTo>
                  <a:pt x="0" y="0"/>
                </a:moveTo>
                <a:lnTo>
                  <a:pt x="37305" y="0"/>
                </a:lnTo>
                <a:lnTo>
                  <a:pt x="37305" y="21600"/>
                </a:lnTo>
                <a:lnTo>
                  <a:pt x="0" y="21600"/>
                </a:lnTo>
                <a:close/>
              </a:path>
              <a:path fill="lightenLess" w="37305" h="21600">
                <a:moveTo>
                  <a:pt x="0" y="0"/>
                </a:moveTo>
                <a:lnTo>
                  <a:pt x="37305" y="0"/>
                </a:lnTo>
                <a:lnTo>
                  <a:pt x="35905" y="1400"/>
                </a:lnTo>
                <a:lnTo>
                  <a:pt x="1400" y="1400"/>
                </a:lnTo>
                <a:close/>
              </a:path>
              <a:path fill="darken" w="37305" h="21600">
                <a:moveTo>
                  <a:pt x="37305" y="0"/>
                </a:moveTo>
                <a:lnTo>
                  <a:pt x="37305" y="21600"/>
                </a:lnTo>
                <a:lnTo>
                  <a:pt x="35905" y="20200"/>
                </a:lnTo>
                <a:lnTo>
                  <a:pt x="35905" y="1400"/>
                </a:lnTo>
                <a:close/>
              </a:path>
              <a:path fill="darkenLess" w="37305" h="21600">
                <a:moveTo>
                  <a:pt x="37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5" y="20200"/>
                </a:lnTo>
                <a:close/>
              </a:path>
              <a:path fill="lighten" w="37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5" h="21600">
                <a:moveTo>
                  <a:pt x="11646" y="3794"/>
                </a:moveTo>
                <a:lnTo>
                  <a:pt x="25659" y="10800"/>
                </a:lnTo>
                <a:lnTo>
                  <a:pt x="1164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57:36Z</dcterms:created>
  <dc:creator>Kaтя</dc:creator>
  <dc:description/>
  <dc:language>en-US</dc:language>
  <cp:lastModifiedBy>Kaтя</cp:lastModifiedBy>
  <dcterms:modified xsi:type="dcterms:W3CDTF">2005-03-01T18:46:37Z</dcterms:modified>
  <cp:revision>8</cp:revision>
  <dc:subject/>
  <dc:title>ТЕОРЕМА ПИФАОРА</dc:title>
</cp:coreProperties>
</file>