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FCB-6E67-4406-BF84-A616E3B9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04A-9B7B-4D0F-B3B6-1A0F8C29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2C8-A3A0-4F17-B6A4-74272EE8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EB4-C49E-4167-B6F6-619BBF1A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804-7892-48B7-96E5-90D54C2F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D0C-DC0A-4DE0-B408-F034D04E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D9F-F41F-4C71-B6DF-71D64CD4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185-4550-4081-B297-44162F34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1EE-5F0B-422C-AF20-50C0B43D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81F9-5522-4DD0-832B-6001B709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1A4-3FFB-410F-BB59-BA311D3A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0DE-050F-4E4F-AF8A-CA09ACE3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3C6A-CFD9-47F1-AD0A-4099F35F2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1.xm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ЕМА ПИФАГ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23749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нце девятнадцатого века высказывались разнообразные предположения о существовании обитателей Марса подобных человеку. В шутку, хотя и не совсем безосновательно , было решено 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редать обитателям Марса сигнал в виде теоремы Пифаг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еизвестно, как это сделать; но для всех очевидно, что математический факт, выражаемый теоремой Пифагора имеет место всюду и поэтому похожие на нас обитатели другого мира должны понять такой сиг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435640" y="5229360"/>
            <a:ext cx="2247840" cy="105732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5724360" y="6597720"/>
            <a:ext cx="503280" cy="260280"/>
          </a:xfrm>
          <a:custGeom>
            <a:avLst/>
            <a:gdLst>
              <a:gd name="textAreaLeft" fmla="*/ 16560 w 503280"/>
              <a:gd name="textAreaRight" fmla="*/ 486720 w 503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1738" h="21600">
                <a:moveTo>
                  <a:pt x="0" y="0"/>
                </a:moveTo>
                <a:lnTo>
                  <a:pt x="41738" y="0"/>
                </a:lnTo>
                <a:lnTo>
                  <a:pt x="41738" y="21600"/>
                </a:lnTo>
                <a:lnTo>
                  <a:pt x="0" y="21600"/>
                </a:lnTo>
                <a:close/>
              </a:path>
              <a:path fill="lightenLess" w="41738" h="21600">
                <a:moveTo>
                  <a:pt x="0" y="0"/>
                </a:moveTo>
                <a:lnTo>
                  <a:pt x="41738" y="0"/>
                </a:lnTo>
                <a:lnTo>
                  <a:pt x="40338" y="1400"/>
                </a:lnTo>
                <a:lnTo>
                  <a:pt x="1400" y="1400"/>
                </a:lnTo>
                <a:close/>
              </a:path>
              <a:path fill="darken" w="41738" h="21600">
                <a:moveTo>
                  <a:pt x="41738" y="0"/>
                </a:moveTo>
                <a:lnTo>
                  <a:pt x="41738" y="21600"/>
                </a:lnTo>
                <a:lnTo>
                  <a:pt x="40338" y="20200"/>
                </a:lnTo>
                <a:lnTo>
                  <a:pt x="40338" y="1400"/>
                </a:lnTo>
                <a:close/>
              </a:path>
              <a:path fill="darkenLess" w="41738" h="21600">
                <a:moveTo>
                  <a:pt x="41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8" y="20200"/>
                </a:lnTo>
                <a:close/>
              </a:path>
              <a:path fill="lighten" w="41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38" h="21600">
                <a:moveTo>
                  <a:pt x="13863" y="10800"/>
                </a:moveTo>
                <a:lnTo>
                  <a:pt x="27876" y="3794"/>
                </a:lnTo>
                <a:lnTo>
                  <a:pt x="27876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7640" y="6597720"/>
            <a:ext cx="505080" cy="260280"/>
          </a:xfrm>
          <a:custGeom>
            <a:avLst/>
            <a:gdLst>
              <a:gd name="textAreaLeft" fmla="*/ 16560 w 505080"/>
              <a:gd name="textAreaRight" fmla="*/ 488520 w 5050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1887" h="21600">
                <a:moveTo>
                  <a:pt x="0" y="0"/>
                </a:moveTo>
                <a:lnTo>
                  <a:pt x="41887" y="0"/>
                </a:lnTo>
                <a:lnTo>
                  <a:pt x="41887" y="21600"/>
                </a:lnTo>
                <a:lnTo>
                  <a:pt x="0" y="21600"/>
                </a:lnTo>
                <a:close/>
              </a:path>
              <a:path fill="lightenLess" w="41887" h="21600">
                <a:moveTo>
                  <a:pt x="0" y="0"/>
                </a:moveTo>
                <a:lnTo>
                  <a:pt x="41887" y="0"/>
                </a:lnTo>
                <a:lnTo>
                  <a:pt x="40487" y="1400"/>
                </a:lnTo>
                <a:lnTo>
                  <a:pt x="1400" y="1400"/>
                </a:lnTo>
                <a:close/>
              </a:path>
              <a:path fill="darken" w="41887" h="21600">
                <a:moveTo>
                  <a:pt x="41887" y="0"/>
                </a:moveTo>
                <a:lnTo>
                  <a:pt x="41887" y="21600"/>
                </a:lnTo>
                <a:lnTo>
                  <a:pt x="40487" y="20200"/>
                </a:lnTo>
                <a:lnTo>
                  <a:pt x="40487" y="1400"/>
                </a:lnTo>
                <a:close/>
              </a:path>
              <a:path fill="darkenLess" w="41887" h="21600">
                <a:moveTo>
                  <a:pt x="41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87" y="20200"/>
                </a:lnTo>
                <a:close/>
              </a:path>
              <a:path fill="lighten" w="41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87" h="21600">
                <a:moveTo>
                  <a:pt x="13937" y="7493"/>
                </a:moveTo>
                <a:lnTo>
                  <a:pt x="17445" y="7493"/>
                </a:lnTo>
                <a:lnTo>
                  <a:pt x="17445" y="12828"/>
                </a:lnTo>
                <a:cubicBezTo>
                  <a:pt x="17445" y="13751"/>
                  <a:pt x="18245" y="14482"/>
                  <a:pt x="19281" y="14482"/>
                </a:cubicBezTo>
                <a:lnTo>
                  <a:pt x="20944" y="14482"/>
                </a:lnTo>
                <a:cubicBezTo>
                  <a:pt x="21979" y="14482"/>
                  <a:pt x="22780" y="13751"/>
                  <a:pt x="22780" y="12828"/>
                </a:cubicBezTo>
                <a:lnTo>
                  <a:pt x="22780" y="7493"/>
                </a:lnTo>
                <a:lnTo>
                  <a:pt x="20944" y="7493"/>
                </a:lnTo>
                <a:lnTo>
                  <a:pt x="24451" y="3985"/>
                </a:lnTo>
                <a:lnTo>
                  <a:pt x="28124" y="7493"/>
                </a:lnTo>
                <a:lnTo>
                  <a:pt x="26288" y="7493"/>
                </a:lnTo>
                <a:lnTo>
                  <a:pt x="26288" y="12828"/>
                </a:lnTo>
                <a:cubicBezTo>
                  <a:pt x="26288" y="15596"/>
                  <a:pt x="23711" y="18155"/>
                  <a:pt x="20944" y="18155"/>
                </a:cubicBezTo>
                <a:lnTo>
                  <a:pt x="19281" y="18155"/>
                </a:lnTo>
                <a:cubicBezTo>
                  <a:pt x="16513" y="18155"/>
                  <a:pt x="13937" y="15596"/>
                  <a:pt x="13937" y="12828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ительство кры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троительстве домов и коттеджей часто встает вопрос о длине стропил для крыши, если уже изготовлены балки. Например: в доме задумано построить двускатную крышу (форма в сечении). Какой длины должны быть стропила, если изготовлены балки AC=8 м., и AB=B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ADC - равнобедренный AB=BC=4 м., BF=4 м. Если предположить, что FD=1,5 м., 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з треугольника DBC: DB=2,5 м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 треугольника AB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64000" y="4365720"/>
            <a:ext cx="3132360" cy="1766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42920" y="5589720"/>
            <a:ext cx="3529080" cy="49500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4859280" y="652464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7493"/>
                </a:moveTo>
                <a:lnTo>
                  <a:pt x="10540" y="7493"/>
                </a:lnTo>
                <a:lnTo>
                  <a:pt x="10540" y="12828"/>
                </a:lnTo>
                <a:cubicBezTo>
                  <a:pt x="10540" y="13751"/>
                  <a:pt x="11341" y="14482"/>
                  <a:pt x="12376" y="14482"/>
                </a:cubicBezTo>
                <a:lnTo>
                  <a:pt x="14039" y="14482"/>
                </a:lnTo>
                <a:cubicBezTo>
                  <a:pt x="15075" y="14482"/>
                  <a:pt x="15875" y="13751"/>
                  <a:pt x="15875" y="12828"/>
                </a:cubicBezTo>
                <a:lnTo>
                  <a:pt x="15875" y="7493"/>
                </a:lnTo>
                <a:lnTo>
                  <a:pt x="14039" y="7493"/>
                </a:lnTo>
                <a:lnTo>
                  <a:pt x="17546" y="3985"/>
                </a:lnTo>
                <a:lnTo>
                  <a:pt x="21219" y="7493"/>
                </a:lnTo>
                <a:lnTo>
                  <a:pt x="19383" y="7493"/>
                </a:lnTo>
                <a:lnTo>
                  <a:pt x="19383" y="12828"/>
                </a:lnTo>
                <a:cubicBezTo>
                  <a:pt x="19383" y="15596"/>
                  <a:pt x="16807" y="18155"/>
                  <a:pt x="14039" y="18155"/>
                </a:cubicBezTo>
                <a:lnTo>
                  <a:pt x="12376" y="18155"/>
                </a:lnTo>
                <a:cubicBezTo>
                  <a:pt x="9609" y="18155"/>
                  <a:pt x="7032" y="15596"/>
                  <a:pt x="7032" y="12828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рои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Астроно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бильная связ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932360" y="2781360"/>
            <a:ext cx="3772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бильн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наибольшую высоту должна иметь антенна мобильного оператора, чтобы передачу можно было принимать в радиусе R=200 км? (радиус Земли равен 6380 к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AB= 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C=R=200 к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OC= r =638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=OA+AB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=r + x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теорему Пифагора, получим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2,3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04000" y="4508640"/>
            <a:ext cx="1833480" cy="234936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5219640" y="652464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р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ниеот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70360" y="3114720"/>
            <a:ext cx="4373640" cy="3743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8000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лниеот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о, что молниеотвод защищает от молнии все предметы, расстояние которых от его основания не превышает его удвоенной высоты. Необходимо определить оптимальное положение молниеотвода на двускатной крыше, обеспечивающее наименьшую его доступную выс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теореме Пифагор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2≥ a2+b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значит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≥(a2+b2)1/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27640" y="5127480"/>
            <a:ext cx="3816360" cy="173052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428472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10800"/>
                </a:moveTo>
                <a:lnTo>
                  <a:pt x="25612" y="3794"/>
                </a:lnTo>
                <a:lnTo>
                  <a:pt x="25612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к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дания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тического и романского стил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рхние части окон расчленяются каменными ребрами, которые не только играют роль орнамента, но и способствуют прочности окон. На рисунке представлен простой пример такого окна в готическом стиле. Способ построения его очень прост: Из рисунка легко найти центры шести дуг окружностей, радиусы которых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ирине окна (b) для наружных ду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овине ширины, (b/2) для внутренних ду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ется еще полная окружность, касающаяся четырех дуг.   Т. к. она заключена между двумя концентрическими окружностями, то ее диаметр равен расстоянию меж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ими окружностями, т. е. b/2 и, следователь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равен b/4. А тогда становится ясны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ожение ее цен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31080" y="3716280"/>
            <a:ext cx="1411200" cy="314172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687708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3794"/>
                </a:moveTo>
                <a:lnTo>
                  <a:pt x="20987" y="10800"/>
                </a:lnTo>
                <a:lnTo>
                  <a:pt x="697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6443640" y="652464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7493"/>
                </a:moveTo>
                <a:lnTo>
                  <a:pt x="10540" y="7493"/>
                </a:lnTo>
                <a:lnTo>
                  <a:pt x="10540" y="12828"/>
                </a:lnTo>
                <a:cubicBezTo>
                  <a:pt x="10540" y="13751"/>
                  <a:pt x="11341" y="14482"/>
                  <a:pt x="12376" y="14482"/>
                </a:cubicBezTo>
                <a:lnTo>
                  <a:pt x="14039" y="14482"/>
                </a:lnTo>
                <a:cubicBezTo>
                  <a:pt x="15075" y="14482"/>
                  <a:pt x="15875" y="13751"/>
                  <a:pt x="15875" y="12828"/>
                </a:cubicBezTo>
                <a:lnTo>
                  <a:pt x="15875" y="7493"/>
                </a:lnTo>
                <a:lnTo>
                  <a:pt x="14039" y="7493"/>
                </a:lnTo>
                <a:lnTo>
                  <a:pt x="17546" y="3985"/>
                </a:lnTo>
                <a:lnTo>
                  <a:pt x="21219" y="7493"/>
                </a:lnTo>
                <a:lnTo>
                  <a:pt x="19383" y="7493"/>
                </a:lnTo>
                <a:lnTo>
                  <a:pt x="19383" y="12828"/>
                </a:lnTo>
                <a:cubicBezTo>
                  <a:pt x="19383" y="15596"/>
                  <a:pt x="16807" y="18155"/>
                  <a:pt x="14039" y="18155"/>
                </a:cubicBezTo>
                <a:lnTo>
                  <a:pt x="12376" y="18155"/>
                </a:lnTo>
                <a:cubicBezTo>
                  <a:pt x="9609" y="18155"/>
                  <a:pt x="7032" y="15596"/>
                  <a:pt x="7032" y="12828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манской архитекту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о встречается мотив, представленный на рисунке. Если b по-прежнему обозначает ширину окна, то радиусы полуокружностей будут равны R = b / 2 и r = b / 4. Радиус p внутренней окружности можно вычислить из прямоугольного треугольника, изображенного на рис. пунктиром. Гипотенуза этого треугольника, проходящая через точку касания окружностей, равна b/4+p, один катет равен b/4, а другой b/2-p. По теореме Пифагора име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b/4+p)=( b/4)+( b/4-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/16+ bp/2+p=b/16+b/4-bp+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p/2=b/4-b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в на b и приводя подобные члены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/2)p=b/4, p=b/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443640" y="3573360"/>
            <a:ext cx="2303640" cy="147348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7524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9293" y="10800"/>
                </a:moveTo>
                <a:lnTo>
                  <a:pt x="23306" y="3794"/>
                </a:lnTo>
                <a:lnTo>
                  <a:pt x="23306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строно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этом рисунке показаны точки A и B и путь светового луча от A к B и обратно. Путь луча показан изогнутой стрелкой для наглядности, на самом деле, световой луч -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й путь проходит луч? Поскольку свет идет туда и обратно одинаковый путь, спросим сразу: чему равно расстояние между точ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dilatrest" descr=""/>
          <p:cNvPicPr/>
          <p:nvPr/>
        </p:nvPicPr>
        <p:blipFill>
          <a:blip r:embed="rId1"/>
          <a:stretch/>
        </p:blipFill>
        <p:spPr>
          <a:xfrm>
            <a:off x="6516720" y="3860640"/>
            <a:ext cx="1333440" cy="249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0"/>
          <a:ext cx="9144000" cy="517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565164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8818"/>
                </a:moveTo>
                <a:lnTo>
                  <a:pt x="7301" y="8818"/>
                </a:lnTo>
                <a:lnTo>
                  <a:pt x="7301" y="14154"/>
                </a:lnTo>
                <a:cubicBezTo>
                  <a:pt x="7301" y="15076"/>
                  <a:pt x="8102" y="15807"/>
                  <a:pt x="9138" y="15807"/>
                </a:cubicBezTo>
                <a:lnTo>
                  <a:pt x="10800" y="15807"/>
                </a:lnTo>
                <a:cubicBezTo>
                  <a:pt x="11836" y="15807"/>
                  <a:pt x="12636" y="15076"/>
                  <a:pt x="12636" y="14154"/>
                </a:cubicBezTo>
                <a:lnTo>
                  <a:pt x="12636" y="8818"/>
                </a:lnTo>
                <a:lnTo>
                  <a:pt x="10800" y="8818"/>
                </a:lnTo>
                <a:lnTo>
                  <a:pt x="14308" y="5311"/>
                </a:lnTo>
                <a:lnTo>
                  <a:pt x="17981" y="8818"/>
                </a:lnTo>
                <a:lnTo>
                  <a:pt x="16144" y="8818"/>
                </a:lnTo>
                <a:lnTo>
                  <a:pt x="16144" y="14154"/>
                </a:lnTo>
                <a:cubicBezTo>
                  <a:pt x="16144" y="16921"/>
                  <a:pt x="13568" y="19480"/>
                  <a:pt x="10800" y="19480"/>
                </a:cubicBezTo>
                <a:lnTo>
                  <a:pt x="9138" y="19480"/>
                </a:lnTo>
                <a:cubicBezTo>
                  <a:pt x="6370" y="19480"/>
                  <a:pt x="3794" y="16921"/>
                  <a:pt x="3794" y="14154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601200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3794"/>
                </a:moveTo>
                <a:lnTo>
                  <a:pt x="18526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этом рисунке показан путь светового луча только с другой точки зрения, например из космического корабля. Предположим, что корабль движется влево. Тогда две точки, между которыми движется световой луч, станут двигаться вправо с той же скоростью. Причем, в то время, пока луч пробегает свой путь, исходная точка A смещается и луч возвращается уже в новую точку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dilatmove" descr=""/>
          <p:cNvPicPr/>
          <p:nvPr/>
        </p:nvPicPr>
        <p:blipFill>
          <a:blip r:embed="rId1"/>
          <a:stretch/>
        </p:blipFill>
        <p:spPr>
          <a:xfrm>
            <a:off x="4788000" y="3573360"/>
            <a:ext cx="2305080" cy="278136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5580000" y="6524640"/>
            <a:ext cx="504720" cy="333360"/>
          </a:xfrm>
          <a:custGeom>
            <a:avLst/>
            <a:gdLst>
              <a:gd name="textAreaLeft" fmla="*/ 21600 w 504720"/>
              <a:gd name="textAreaRight" fmla="*/ 483120 w 504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691" h="21600">
                <a:moveTo>
                  <a:pt x="0" y="0"/>
                </a:moveTo>
                <a:lnTo>
                  <a:pt x="32691" y="0"/>
                </a:lnTo>
                <a:lnTo>
                  <a:pt x="32691" y="21600"/>
                </a:lnTo>
                <a:lnTo>
                  <a:pt x="0" y="21600"/>
                </a:lnTo>
                <a:close/>
              </a:path>
              <a:path fill="lightenLess" w="32691" h="21600">
                <a:moveTo>
                  <a:pt x="0" y="0"/>
                </a:moveTo>
                <a:lnTo>
                  <a:pt x="32691" y="0"/>
                </a:lnTo>
                <a:lnTo>
                  <a:pt x="31291" y="1400"/>
                </a:lnTo>
                <a:lnTo>
                  <a:pt x="1400" y="1400"/>
                </a:lnTo>
                <a:close/>
              </a:path>
              <a:path fill="darken" w="32691" h="21600">
                <a:moveTo>
                  <a:pt x="32691" y="0"/>
                </a:moveTo>
                <a:lnTo>
                  <a:pt x="32691" y="21600"/>
                </a:lnTo>
                <a:lnTo>
                  <a:pt x="31291" y="20200"/>
                </a:lnTo>
                <a:lnTo>
                  <a:pt x="31291" y="1400"/>
                </a:lnTo>
                <a:close/>
              </a:path>
              <a:path fill="darkenLess" w="32691" h="21600">
                <a:moveTo>
                  <a:pt x="32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91" y="20200"/>
                </a:lnTo>
                <a:close/>
              </a:path>
              <a:path fill="lighten" w="32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91" h="21600">
                <a:moveTo>
                  <a:pt x="9339" y="10800"/>
                </a:moveTo>
                <a:lnTo>
                  <a:pt x="23352" y="3794"/>
                </a:lnTo>
                <a:lnTo>
                  <a:pt x="23352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6012000" y="6524640"/>
            <a:ext cx="576000" cy="333360"/>
          </a:xfrm>
          <a:custGeom>
            <a:avLst/>
            <a:gdLst>
              <a:gd name="textAreaLeft" fmla="*/ 21600 w 576000"/>
              <a:gd name="textAreaRight" fmla="*/ 554400 w 576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05" h="21600">
                <a:moveTo>
                  <a:pt x="0" y="0"/>
                </a:moveTo>
                <a:lnTo>
                  <a:pt x="37305" y="0"/>
                </a:lnTo>
                <a:lnTo>
                  <a:pt x="37305" y="21600"/>
                </a:lnTo>
                <a:lnTo>
                  <a:pt x="0" y="21600"/>
                </a:lnTo>
                <a:close/>
              </a:path>
              <a:path fill="lightenLess" w="37305" h="21600">
                <a:moveTo>
                  <a:pt x="0" y="0"/>
                </a:moveTo>
                <a:lnTo>
                  <a:pt x="37305" y="0"/>
                </a:lnTo>
                <a:lnTo>
                  <a:pt x="35905" y="1400"/>
                </a:lnTo>
                <a:lnTo>
                  <a:pt x="1400" y="1400"/>
                </a:lnTo>
                <a:close/>
              </a:path>
              <a:path fill="darken" w="37305" h="21600">
                <a:moveTo>
                  <a:pt x="37305" y="0"/>
                </a:moveTo>
                <a:lnTo>
                  <a:pt x="37305" y="21600"/>
                </a:lnTo>
                <a:lnTo>
                  <a:pt x="35905" y="20200"/>
                </a:lnTo>
                <a:lnTo>
                  <a:pt x="35905" y="1400"/>
                </a:lnTo>
                <a:close/>
              </a:path>
              <a:path fill="darkenLess" w="37305" h="21600">
                <a:moveTo>
                  <a:pt x="37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05" y="20200"/>
                </a:lnTo>
                <a:close/>
              </a:path>
              <a:path fill="lighten" w="37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05" h="21600">
                <a:moveTo>
                  <a:pt x="11646" y="3794"/>
                </a:moveTo>
                <a:lnTo>
                  <a:pt x="25659" y="10800"/>
                </a:lnTo>
                <a:lnTo>
                  <a:pt x="11646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12:57:36Z</dcterms:created>
  <dc:creator>Kaтя</dc:creator>
  <dc:description/>
  <dc:language>en-US</dc:language>
  <cp:lastModifiedBy>Kaтя</cp:lastModifiedBy>
  <dcterms:modified xsi:type="dcterms:W3CDTF">2005-03-01T18:46:37Z</dcterms:modified>
  <cp:revision>8</cp:revision>
  <dc:subject/>
  <dc:title>ТЕОРЕМА ПИФАОРА</dc:title>
</cp:coreProperties>
</file>