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gif" ContentType="image/gif"/>
  <Override PartName="/ppt/media/image24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803-AB0D-4601-A749-DC2F8A93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BCB-269D-4BFA-B8B1-7F04CE8D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D6F-5B4A-4C76-8B81-9F643D4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4F5-35AF-46FD-93F8-530A5305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968-0488-4E2C-A682-50E4B316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836A-950C-4413-8C62-5C7A524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842-2B56-466B-8B4C-D2CA122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FB57-07B7-48C1-85C6-F7BFC12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B3A-74EB-444E-8062-69449EEF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B09C-A1F2-413A-953A-036802F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F16-F648-474B-9E44-0E639FE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199-6E15-4BCD-918D-436ACD7F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E11-3C3B-4D09-A3BC-363F174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DB01-BEA7-4611-A190-09358C6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5D1D-4444-400F-A7AC-83BA1FA1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7AD4-2389-48F0-9675-7B8016A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9E9-7F11-4BB3-9D46-1568B334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CE07-876C-41E1-9A4E-01D32306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85E0-CD2B-47EB-8367-7B885AFF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80B6-3AD2-485B-B171-9C8BF3F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3B99-3511-4503-B35E-6A482D3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3184-EEF7-4D00-A838-F4A56E6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8BFE-4E9C-46DA-9804-10135ABD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FF6D-450A-4401-9202-0C607AD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86FD-7709-4E40-BE9A-D67D54F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1757-A16F-4061-9A27-62BF4E0D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A582-5187-4D6C-A5FA-9AF45C2A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9123-65C6-4316-822F-9843BFC3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9B9C-031A-404F-9394-72146018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D5C7-E261-420F-BE3F-5D6E3624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8E54-3E17-4A2E-9698-AB49AE0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5DB3-3C9F-4FEA-81A9-CB69F5D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D679-3CE2-42D8-BA6B-5AECBD98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11E-B7F8-4888-B983-5CECFB6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AEE9-58FD-41D0-B75C-72CA323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17330-9AAA-4FDE-80EB-09248EC7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D6B7-5924-4E71-BA85-36495F14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CD54-8BCD-458A-B46A-DA138A3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BB14-D795-42BE-8CB8-C8638113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D44B-9645-4FFD-82FB-7433D50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E220-B19A-4ED2-94C2-6893DB2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9A04C-E88D-4FA9-947F-3D5A844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7ABF-93CB-4CBD-9326-65348CD6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1E5F-255A-420E-AB91-0DA272E8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02E-3406-4BC4-BA10-B8826F8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6630-3B42-4230-939F-DBC5BDD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A4B0-23F0-4B7B-B0AD-B47BEE2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2F0A-69CE-48DA-90C7-BA6AC256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B680-7FE7-4495-A7B7-CA45519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F30A-36CC-49DD-ADDE-1F9C0C95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3F18-597D-4E35-A18E-E608A6A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CC53-435B-4FA7-8908-9A94B8E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F513-BF1E-48A0-85EE-3DDABA8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2164-9CDA-41E2-98FF-2D3D560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737D-0C8D-4612-9A67-D1193652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547-8269-422F-9096-B283043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CBCC-6C88-47B0-8D68-44AF1797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3132-622D-4FE3-8BD3-4CDA44D7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31858-B291-4B99-B4EB-A9B92FAF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E3FB2-E9A8-49F0-95B3-575C41C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3637-D9E8-4D14-814D-843FB867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611D-6A80-4EAE-9398-554A5943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C1C30-9119-4E7E-8488-3B36D59B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F248-ECDA-4A89-9DD8-D37097CD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A96B-F02F-4FE8-974F-674ED02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8E374-412D-417E-8FF6-021F8F8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A21-7904-4918-836B-B3AEDA6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7AC5-6494-4583-8DCD-DD6EBD10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26A0-ECA0-4CDC-A483-761A7659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7326-7A85-4348-9029-B0514179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A0FEF-604D-4F06-8C65-919D4D4B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A04D9-A0CB-4899-83EF-C38A730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FA68-FE8F-49B9-8A3E-4BE294C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87BE-67F4-4AC1-BB29-F2349151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5689E-15E7-4DDE-8DBD-A70E6796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AEDD-648B-42C8-B78D-A51E7412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BC69-02BA-4012-A946-336A0DF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1DC-1A51-4109-BCBB-43317D8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62A8-FE52-4A2D-BEC0-7A40DCF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07F0-53AA-4197-B0DF-6645062E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33E17-075F-40F9-A2E4-DAE3084C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47497-D490-4A98-AE60-6D475B12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5A1B-08BD-4AB0-A955-A7586DA7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7F1-009D-4271-9863-6E1576A5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029F-412E-410A-BDBC-2060BA20D6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784-7544-495D-9EFE-EA0B0CC347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FC0-2182-4C0E-9A01-7D180CBD50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BA0-BAC5-44C7-84CC-17E2CC6047C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DEB-1084-4E1B-93C0-5D850FBCED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7B6-108A-490A-B38D-D69CFF4310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48E-A650-415A-840A-8F5BC9205C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rgif.com/priroda/priroda-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rgif.com/priroda/nebo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Анимации, анимашки 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2" descr=""/>
          <p:cNvPicPr/>
          <p:nvPr/>
        </p:nvPicPr>
        <p:blipFill>
          <a:blip r:embed="rId2"/>
          <a:stretch/>
        </p:blipFill>
        <p:spPr>
          <a:xfrm>
            <a:off x="1695600" y="1427040"/>
            <a:ext cx="5742000" cy="21211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857160" y="42876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галева Надежда Григорьевна МБОУ «СОШ №29» г.Братск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нтификатор: 240-490-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2714760" y="1357200"/>
            <a:ext cx="3786120" cy="5000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50004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14308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929040" y="2643120"/>
            <a:ext cx="121464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5500800" y="2643120"/>
            <a:ext cx="13572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7"/>
          <p:cNvSpPr/>
          <p:nvPr/>
        </p:nvSpPr>
        <p:spPr>
          <a:xfrm>
            <a:off x="7215120" y="2643120"/>
            <a:ext cx="1143000" cy="4287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15"/>
          <p:cNvCxnSpPr>
            <a:endCxn id="340" idx="0"/>
          </p:cNvCxnSpPr>
          <p:nvPr/>
        </p:nvCxnSpPr>
        <p:spPr>
          <a:xfrm>
            <a:off x="5715000" y="1856880"/>
            <a:ext cx="46584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3" name="Прямая со стрелкой 19"/>
          <p:cNvCxnSpPr/>
          <p:nvPr/>
        </p:nvCxnSpPr>
        <p:spPr>
          <a:xfrm>
            <a:off x="6143760" y="1856880"/>
            <a:ext cx="135792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4" name="Прямая со стрелкой 23"/>
          <p:cNvCxnSpPr>
            <a:stCxn id="336" idx="2"/>
          </p:cNvCxnSpPr>
          <p:nvPr/>
        </p:nvCxnSpPr>
        <p:spPr>
          <a:xfrm>
            <a:off x="4605840" y="1856880"/>
            <a:ext cx="3708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5" name="Прямая со стрелкой 25"/>
          <p:cNvCxnSpPr/>
          <p:nvPr/>
        </p:nvCxnSpPr>
        <p:spPr>
          <a:xfrm flipH="1">
            <a:off x="3071520" y="1856880"/>
            <a:ext cx="28656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27"/>
          <p:cNvCxnSpPr/>
          <p:nvPr/>
        </p:nvCxnSpPr>
        <p:spPr>
          <a:xfrm flipH="1">
            <a:off x="1571400" y="1856160"/>
            <a:ext cx="142920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47" name="Прямоугольник 30" descr=""/>
          <p:cNvPicPr/>
          <p:nvPr/>
        </p:nvPicPr>
        <p:blipFill>
          <a:blip r:embed="rId1"/>
          <a:stretch/>
        </p:blipFill>
        <p:spPr>
          <a:xfrm>
            <a:off x="493560" y="274680"/>
            <a:ext cx="7944120" cy="620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1"/>
          <p:cNvSpPr/>
          <p:nvPr/>
        </p:nvSpPr>
        <p:spPr>
          <a:xfrm>
            <a:off x="1071720" y="414324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в тетради схе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ы атмосферных осад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условия образования  разных видов оса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798480"/>
            <a:ext cx="8113680" cy="44798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500120" y="578628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можете объяснить эти 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1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Прямоугольник 7" descr=""/>
          <p:cNvPicPr/>
          <p:nvPr/>
        </p:nvPicPr>
        <p:blipFill>
          <a:blip r:embed="rId3"/>
          <a:stretch/>
        </p:blipFill>
        <p:spPr>
          <a:xfrm>
            <a:off x="878040" y="341280"/>
            <a:ext cx="78642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143000" y="1447200"/>
            <a:ext cx="650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диаграмме годовое количество осадков по г. Братску определит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Количество осадков, выпадающих за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месяц, за который выпадает большее количество осад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месяц с самым маленьким количеством оса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9360">
            <a:solidFill>
              <a:srgbClr val="e7dec9"/>
            </a:solidFill>
            <a:miter/>
          </a:ln>
        </p:spPr>
      </p:pic>
      <p:pic>
        <p:nvPicPr>
          <p:cNvPr id="357" name="Picture 7" descr="a380"/>
          <p:cNvPicPr/>
          <p:nvPr/>
        </p:nvPicPr>
        <p:blipFill>
          <a:blip r:embed="rId2"/>
          <a:stretch/>
        </p:blipFill>
        <p:spPr>
          <a:xfrm>
            <a:off x="2000160" y="3786120"/>
            <a:ext cx="609840" cy="1162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a380"/>
          <p:cNvPicPr/>
          <p:nvPr/>
        </p:nvPicPr>
        <p:blipFill>
          <a:blip r:embed="rId3"/>
          <a:stretch/>
        </p:blipFill>
        <p:spPr>
          <a:xfrm>
            <a:off x="3071880" y="435780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a380"/>
          <p:cNvPicPr/>
          <p:nvPr/>
        </p:nvPicPr>
        <p:blipFill>
          <a:blip r:embed="rId4"/>
          <a:stretch/>
        </p:blipFill>
        <p:spPr>
          <a:xfrm>
            <a:off x="1000080" y="3500280"/>
            <a:ext cx="609480" cy="1162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nature21"/>
          <p:cNvPicPr/>
          <p:nvPr/>
        </p:nvPicPr>
        <p:blipFill>
          <a:blip r:embed="rId5"/>
          <a:stretch/>
        </p:blipFill>
        <p:spPr>
          <a:xfrm>
            <a:off x="500040" y="2214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nature21"/>
          <p:cNvPicPr/>
          <p:nvPr/>
        </p:nvPicPr>
        <p:blipFill>
          <a:blip r:embed="rId6"/>
          <a:stretch/>
        </p:blipFill>
        <p:spPr>
          <a:xfrm>
            <a:off x="2786040" y="15001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D:\Анимашки\Аним. огонь и вода. Природа\nature05.gif"/>
          <p:cNvPicPr/>
          <p:nvPr/>
        </p:nvPicPr>
        <p:blipFill>
          <a:blip r:embed="rId7"/>
          <a:stretch/>
        </p:blipFill>
        <p:spPr>
          <a:xfrm>
            <a:off x="7180200" y="0"/>
            <a:ext cx="1963800" cy="174636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11" descr=""/>
          <p:cNvPicPr/>
          <p:nvPr/>
        </p:nvPicPr>
        <p:blipFill>
          <a:blip r:embed="rId8"/>
          <a:stretch/>
        </p:blipFill>
        <p:spPr>
          <a:xfrm>
            <a:off x="781200" y="66600"/>
            <a:ext cx="63687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1500120" y="1161360"/>
            <a:ext cx="678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причины влияют на количество выпавших осадков?  Преобразуй информацию в свое решение,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откуда летом и зимой дуют ветры в нашем городе. Как ветры влияют на количество и режим осад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1" descr=""/>
          <p:cNvPicPr/>
          <p:nvPr/>
        </p:nvPicPr>
        <p:blipFill>
          <a:blip r:embed="rId1"/>
          <a:stretch/>
        </p:blipFill>
        <p:spPr>
          <a:xfrm>
            <a:off x="1504800" y="457200"/>
            <a:ext cx="6937560" cy="121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2"/>
          <p:cNvSpPr/>
          <p:nvPr/>
        </p:nvSpPr>
        <p:spPr>
          <a:xfrm>
            <a:off x="1571760" y="2428920"/>
            <a:ext cx="692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ляну в окошко, идет длинный Ант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али, звали, а показался – так все прочь побеж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а пришёл, в землю у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апли дождя, тем дольше он будет ид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1" descr=""/>
          <p:cNvPicPr/>
          <p:nvPr/>
        </p:nvPicPr>
        <p:blipFill>
          <a:blip r:embed="rId1"/>
          <a:stretch/>
        </p:blipFill>
        <p:spPr>
          <a:xfrm>
            <a:off x="1249200" y="652320"/>
            <a:ext cx="3206880" cy="121932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2" descr=""/>
          <p:cNvPicPr/>
          <p:nvPr/>
        </p:nvPicPr>
        <p:blipFill>
          <a:blip r:embed="rId2"/>
          <a:stretch/>
        </p:blipFill>
        <p:spPr>
          <a:xfrm>
            <a:off x="1292400" y="2840040"/>
            <a:ext cx="2041200" cy="8110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3214800" y="335772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стихотворения об осадках, обла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428840" y="1714680"/>
            <a:ext cx="61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му выпадают осадки? Какое значение они имеют для челове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D:\Анимашки\Аним. огонь и вода. Природа\nature21.gif"/>
          <p:cNvPicPr/>
          <p:nvPr/>
        </p:nvPicPr>
        <p:blipFill>
          <a:blip r:embed="rId3"/>
          <a:stretch/>
        </p:blipFill>
        <p:spPr>
          <a:xfrm>
            <a:off x="6072120" y="285840"/>
            <a:ext cx="2727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714680" y="158832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1. Установить  причинно-следственные связи,  происходящие в атмосфере с водяными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2. Поиск и выделение необходимой информации,  используя текст учебника и презен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3. Развивать  учебное  сотрудничество  с учителем и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2" descr=""/>
          <p:cNvPicPr/>
          <p:nvPr/>
        </p:nvPicPr>
        <p:blipFill>
          <a:blip r:embed="rId1"/>
          <a:stretch/>
        </p:blipFill>
        <p:spPr>
          <a:xfrm>
            <a:off x="1968480" y="365040"/>
            <a:ext cx="5896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3" descr=""/>
          <p:cNvPicPr/>
          <p:nvPr/>
        </p:nvPicPr>
        <p:blipFill>
          <a:blip r:embed="rId1"/>
          <a:stretch/>
        </p:blipFill>
        <p:spPr>
          <a:xfrm>
            <a:off x="133200" y="139680"/>
            <a:ext cx="8802720" cy="1042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950760" y="1571760"/>
            <a:ext cx="81932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523880" y="1071720"/>
          <a:ext cx="6691320" cy="3429000"/>
        </p:xfrm>
        <a:graphic>
          <a:graphicData uri="http://schemas.openxmlformats.org/drawingml/2006/table">
            <a:tbl>
              <a:tblPr/>
              <a:tblGrid>
                <a:gridCol w="3346560"/>
                <a:gridCol w="334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водяного п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27" name="Прямоугольник 3"/>
          <p:cNvSpPr/>
          <p:nvPr/>
        </p:nvSpPr>
        <p:spPr>
          <a:xfrm>
            <a:off x="1214280" y="4857840"/>
            <a:ext cx="75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колько грамм водяного пара может содержать воздух при разной температуре?  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ч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1071720" y="785880"/>
            <a:ext cx="7715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е:  а) Сколько грамм водяного пара может вместить 1м³ насыщенного воздуха при нагре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°С  до 10°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0°С  до 30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вляется ли воздух насыщенным, если при температуре +20°С содержится 7 грамм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изойдет ли конденсация водяного пара при охлаждении1м³ воздуха. Содержащего 7 г водяного пара, до температуры +10³С.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решение и подготовь уст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такая влажность воздух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285920" y="94284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прос классу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происходит с насыщенным водяным паром воздухом  при соприкосновении с охлажденной земной поверхностью и при поднятии воздуха ввер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Подберите текст, из которого можно вычитать решение этой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1" descr="http://mirgif.com/priroda/peyzazh25.gif"/>
          <p:cNvPicPr/>
          <p:nvPr/>
        </p:nvPicPr>
        <p:blipFill>
          <a:blip r:embed="rId1"/>
          <a:stretch/>
        </p:blipFill>
        <p:spPr>
          <a:xfrm>
            <a:off x="1071720" y="357120"/>
            <a:ext cx="7500960" cy="53769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928800" y="6000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вид облак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ни формирую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mirgif.com/10/priroda-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7215480" cy="4984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143000" y="542916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данный вид облаков? Принесут эти облака осадки ? Сформулируй сво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" descr="http://mirgif.com/10/nebo2_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214200"/>
            <a:ext cx="6643800" cy="55152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"/>
          <p:cNvSpPr/>
          <p:nvPr/>
        </p:nvSpPr>
        <p:spPr>
          <a:xfrm>
            <a:off x="1500120" y="578628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ярусу относятся данные виды облаков? На какой высоте они образу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07:14:19Z</dcterms:created>
  <dc:creator>Admin</dc:creator>
  <dc:description/>
  <dc:language>en-US</dc:language>
  <cp:lastModifiedBy>Admin</cp:lastModifiedBy>
  <dcterms:modified xsi:type="dcterms:W3CDTF">2013-01-24T13:02:44Z</dcterms:modified>
  <cp:revision>71</cp:revision>
  <dc:subject/>
  <dc:title>Слайд 1</dc:title>
</cp:coreProperties>
</file>