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0.gif" ContentType="image/gif"/>
  <Override PartName="/ppt/media/image11.jpeg" ContentType="image/jpeg"/>
  <Override PartName="/ppt/media/image9.jpeg" ContentType="image/jpeg"/>
  <Override PartName="/ppt/media/image8.png" ContentType="image/png"/>
  <Override PartName="/ppt/media/image5.gif" ContentType="image/gif"/>
  <Override PartName="/ppt/media/image7.png" ContentType="image/png"/>
  <Override PartName="/ppt/media/image1.jpeg" ContentType="image/jpeg"/>
  <Override PartName="/ppt/media/image15.wmf" ContentType="image/x-wmf"/>
  <Override PartName="/ppt/media/image6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19.gif" ContentType="image/gif"/>
  <Override PartName="/ppt/media/image24.png" ContentType="image/png"/>
  <Override PartName="/ppt/media/image18.gif" ContentType="image/gif"/>
  <Override PartName="/ppt/media/image20.gif" ContentType="image/gif"/>
  <Override PartName="/ppt/media/image2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9CDB-DD4E-4F50-960D-17029C224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438E-24DC-4CA7-9E75-50DC5209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3E13-4EEF-4AFF-A05F-4C7E68BD2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0AF8-A2D9-4148-A952-CA0441B14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67FD3-65A8-4067-A98D-6645ECFB0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1CA8-C174-4B27-A71D-C8588903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D39F4-4F00-4A73-85A1-1185787D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F456-2093-4637-8D15-743C5A8A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1BFD-84EB-4E0C-A669-71784613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1AFCC-EC14-4ADF-B5D4-8A471451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C765-26A7-40D7-BA6F-4A34C4C9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4C23-1CB4-489E-AAA6-3F8FF7EE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82DB-141A-421E-8A31-503A1270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CF82-CF17-4A64-B87A-20181572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63A7-45B9-4B44-90AA-DA5FE53B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9657-D763-477B-8567-BD29F622A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B5B48-9D8D-482B-A9E7-0A6B20EA5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130CE-1CEE-4FEC-84C5-99EEE47D9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22C2B-2F38-47A4-B7ED-E41FE625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04548-02E3-4475-B614-11F91B8E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2409C-E944-441A-BC95-04BCA554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5C602-BC49-4D1B-BF5E-C3E9238D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1A70-8333-4935-A456-C3393B3A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ADB7A-CFD0-46F5-A858-FABB5114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3E24B-B19D-48F9-B686-F7F5996A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451C3-3138-4928-B51F-5D2052C7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4D798-E5C7-4613-BC1C-0FB5058E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AF8BE-150A-4559-B30F-713B32E2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19FAB-945D-44FD-8D41-A78FD396E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AC6A8-0312-4273-8DCD-92BC5DA36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9B396-E6EF-4E04-B454-06F448D35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552F5-36C1-4C04-AC18-B5CA7F18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DBB12-0688-4A1E-ACE9-BCF35F3C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7854-2748-4CBA-B545-5B8AC2AB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7F082-9733-42E5-B5F6-42238FA3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B03A6-EDBF-4EEB-A20A-4C35A30C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CD823-EEEA-445C-808C-EF48E5A9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77903-840A-4377-8C7B-139D3CA0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C6CCE-739D-4AF1-995D-F3E10470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29CBD-5F46-4617-B185-6EA863F2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B8E8C-1415-4112-807F-C3C1C765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D7319-56EE-4DC6-914F-7C44FE478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12092-5C5E-4A03-BC36-17871A0D7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5E9A7-D103-4FD2-994F-8E9126630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B07A-1597-4B98-BE6D-0AFA6169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A204A-C9D6-4E0A-BAB0-5E8EA35C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58F55-70F4-45DE-BC34-772C7CC8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22128-8327-4B0B-8E3C-E21B5D8D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41998-9E5F-4FB0-8720-6750CE6F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41C20-1BAA-4FA0-BF9A-FBFD3565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3DB9F-2B70-4515-BD34-23F86C7A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F85FA-9159-4858-A239-CA24E071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2B0E8-1C26-4ED2-9F92-B9AF964A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A756D-823E-4BD9-92BD-3EA3E709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E7242-C7B1-4FEB-AFEE-624F3699D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91F9-8456-4D8C-9C4E-206B33B5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F3A1E-0607-437B-BC97-E8209C12B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605E4-BB17-47B8-88C6-6DFB0C673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A3B91-D1C0-4595-AA20-F3620ED3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86FD0-E0A3-40C3-B211-8EBBCAEA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B0877-B098-4A89-97C5-6A624F1B1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0CF4B-3864-4A44-8361-ACF5F3E5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A25AA-0198-4009-B829-334F2E4B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E0674-5C9C-4D07-AEB7-AE7D15C3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DEDAB-FFAF-411F-AEC5-8BC428EE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C1FEA-4382-4FD9-9A76-2E80992C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7A39-EDA5-4AA3-BB90-493508E2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90463-7C99-4D29-A7C6-50B4D256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C3602-7596-470E-8F91-729562047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AE28E-74DF-4F41-9286-6F2855EE4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4FFE4-857D-4983-9810-331F7E258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866D9-C8D0-4491-8D65-D7644F6C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D3438-61E9-4738-8DAF-E2F53F7B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06740-F62E-4674-BAA4-E1E44842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1BCC3-CBA6-4578-B40E-5710D781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418E7-0793-4495-8022-55AFC3F2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A2B0F-0811-44F4-BA96-1570B5F9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3A8F-E418-4816-AF59-B61E2433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5369D-02D3-472D-ADB1-7C76DBAA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76A02-CA3C-4E51-94F4-AF013696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F964B-84B6-486B-844C-8D3544D8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EBCEA-92CD-4B55-BE9F-8EE25BF07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82371-3E63-4A4D-9635-C8104A56F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FB9F-4C10-4E11-A816-5E57BA3A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9A5F-F73A-4BE7-AE55-454A251075A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851B-E65A-40A7-A950-B289BDFE997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AFF9-4546-4C1F-9022-ED183C4F2EC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F586-3DC5-4BED-8E0A-57B9378582F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0BF5-2B35-4659-8B5C-330FA2BB610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421F-CA22-463A-888E-8B789035179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3436-7BB6-4B26-9426-474C57F084E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image" Target="../media/image20.gif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irgif.com/priroda/priroda-2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mirgif.com/priroda/nebo2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Рисунок 1" descr="Анимации, анимашки Природ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9" name="Прямоугольник 2" descr=""/>
          <p:cNvPicPr/>
          <p:nvPr/>
        </p:nvPicPr>
        <p:blipFill>
          <a:blip r:embed="rId2"/>
          <a:stretch/>
        </p:blipFill>
        <p:spPr>
          <a:xfrm>
            <a:off x="1695600" y="1427040"/>
            <a:ext cx="5742000" cy="2121120"/>
          </a:xfrm>
          <a:prstGeom prst="rect">
            <a:avLst/>
          </a:prstGeom>
          <a:ln w="0">
            <a:noFill/>
          </a:ln>
        </p:spPr>
      </p:pic>
      <p:sp>
        <p:nvSpPr>
          <p:cNvPr id="320" name="TextBox 3"/>
          <p:cNvSpPr/>
          <p:nvPr/>
        </p:nvSpPr>
        <p:spPr>
          <a:xfrm>
            <a:off x="857160" y="428760"/>
            <a:ext cx="77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галева Надежда Григорьевна МБОУ «СОШ №29» г.Братск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дентификатор: 240-490-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Прямоугольник 1"/>
          <p:cNvSpPr/>
          <p:nvPr/>
        </p:nvSpPr>
        <p:spPr>
          <a:xfrm>
            <a:off x="2714760" y="1357200"/>
            <a:ext cx="3786120" cy="50004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2"/>
          <p:cNvSpPr/>
          <p:nvPr/>
        </p:nvSpPr>
        <p:spPr>
          <a:xfrm>
            <a:off x="500040" y="2643120"/>
            <a:ext cx="1357200" cy="4287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3"/>
          <p:cNvSpPr/>
          <p:nvPr/>
        </p:nvSpPr>
        <p:spPr>
          <a:xfrm>
            <a:off x="2143080" y="2643120"/>
            <a:ext cx="1357200" cy="4287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4"/>
          <p:cNvSpPr/>
          <p:nvPr/>
        </p:nvSpPr>
        <p:spPr>
          <a:xfrm>
            <a:off x="3929040" y="2643120"/>
            <a:ext cx="1214640" cy="4287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5"/>
          <p:cNvSpPr/>
          <p:nvPr/>
        </p:nvSpPr>
        <p:spPr>
          <a:xfrm>
            <a:off x="5500800" y="2643120"/>
            <a:ext cx="1357200" cy="4287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7"/>
          <p:cNvSpPr/>
          <p:nvPr/>
        </p:nvSpPr>
        <p:spPr>
          <a:xfrm>
            <a:off x="7215120" y="2643120"/>
            <a:ext cx="1143000" cy="4287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Прямая со стрелкой 15"/>
          <p:cNvCxnSpPr>
            <a:endCxn id="340" idx="0"/>
          </p:cNvCxnSpPr>
          <p:nvPr/>
        </p:nvCxnSpPr>
        <p:spPr>
          <a:xfrm>
            <a:off x="5715000" y="1856880"/>
            <a:ext cx="465840" cy="7866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43" name="Прямая со стрелкой 19"/>
          <p:cNvCxnSpPr/>
          <p:nvPr/>
        </p:nvCxnSpPr>
        <p:spPr>
          <a:xfrm>
            <a:off x="6143760" y="1856880"/>
            <a:ext cx="1357920" cy="7866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44" name="Прямая со стрелкой 23"/>
          <p:cNvCxnSpPr>
            <a:stCxn id="336" idx="2"/>
          </p:cNvCxnSpPr>
          <p:nvPr/>
        </p:nvCxnSpPr>
        <p:spPr>
          <a:xfrm>
            <a:off x="4605840" y="1856880"/>
            <a:ext cx="37080" cy="7866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45" name="Прямая со стрелкой 25"/>
          <p:cNvCxnSpPr/>
          <p:nvPr/>
        </p:nvCxnSpPr>
        <p:spPr>
          <a:xfrm flipH="1">
            <a:off x="3071520" y="1856880"/>
            <a:ext cx="286560" cy="7866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46" name="Прямая со стрелкой 27"/>
          <p:cNvCxnSpPr/>
          <p:nvPr/>
        </p:nvCxnSpPr>
        <p:spPr>
          <a:xfrm flipH="1">
            <a:off x="1571400" y="1856160"/>
            <a:ext cx="1429200" cy="7866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pic>
        <p:nvPicPr>
          <p:cNvPr id="347" name="Прямоугольник 30" descr=""/>
          <p:cNvPicPr/>
          <p:nvPr/>
        </p:nvPicPr>
        <p:blipFill>
          <a:blip r:embed="rId1"/>
          <a:stretch/>
        </p:blipFill>
        <p:spPr>
          <a:xfrm>
            <a:off x="493560" y="274680"/>
            <a:ext cx="7944120" cy="620640"/>
          </a:xfrm>
          <a:prstGeom prst="rect">
            <a:avLst/>
          </a:prstGeom>
          <a:ln w="0">
            <a:noFill/>
          </a:ln>
        </p:spPr>
      </p:pic>
      <p:sp>
        <p:nvSpPr>
          <p:cNvPr id="348" name="TextBox 31"/>
          <p:cNvSpPr/>
          <p:nvPr/>
        </p:nvSpPr>
        <p:spPr>
          <a:xfrm>
            <a:off x="1071720" y="4143240"/>
            <a:ext cx="7715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4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ьте в тетради схему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иды атмосферных осадк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условия образования  разных видов осад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Прямоугольник 3" descr=""/>
          <p:cNvPicPr/>
          <p:nvPr/>
        </p:nvPicPr>
        <p:blipFill>
          <a:blip r:embed="rId1"/>
          <a:stretch/>
        </p:blipFill>
        <p:spPr>
          <a:xfrm>
            <a:off x="1066680" y="798480"/>
            <a:ext cx="8113680" cy="4479840"/>
          </a:xfrm>
          <a:prstGeom prst="rect">
            <a:avLst/>
          </a:prstGeom>
          <a:ln w="0">
            <a:noFill/>
          </a:ln>
        </p:spPr>
      </p:pic>
      <p:sp>
        <p:nvSpPr>
          <p:cNvPr id="350" name="TextBox 4"/>
          <p:cNvSpPr/>
          <p:nvPr/>
        </p:nvSpPr>
        <p:spPr>
          <a:xfrm>
            <a:off x="1500120" y="5786280"/>
            <a:ext cx="692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 можете объяснить эти поговор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Object 1"/>
          <p:cNvGraphicFramePr/>
          <p:nvPr/>
        </p:nvGraphicFramePr>
        <p:xfrm>
          <a:off x="0" y="1571760"/>
          <a:ext cx="9144000" cy="52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71760"/>
                    <a:ext cx="9144000" cy="52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4" name="Прямоугольник 7" descr=""/>
          <p:cNvPicPr/>
          <p:nvPr/>
        </p:nvPicPr>
        <p:blipFill>
          <a:blip r:embed="rId3"/>
          <a:stretch/>
        </p:blipFill>
        <p:spPr>
          <a:xfrm>
            <a:off x="878040" y="341280"/>
            <a:ext cx="786420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"/>
          <p:cNvSpPr/>
          <p:nvPr/>
        </p:nvSpPr>
        <p:spPr>
          <a:xfrm>
            <a:off x="1143000" y="1447200"/>
            <a:ext cx="6500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ние 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диаграмме годовое количество осадков по г. Братску определите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) Количество осадков, выпадающих за го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б) месяц, за который выпадает большее количество осад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) месяц с самым маленьким количеством осад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4" descr=""/>
          <p:cNvPicPr/>
          <p:nvPr/>
        </p:nvPicPr>
        <p:blipFill>
          <a:blip r:embed="rId1"/>
          <a:stretch/>
        </p:blipFill>
        <p:spPr>
          <a:xfrm>
            <a:off x="0" y="714240"/>
            <a:ext cx="9144000" cy="6143760"/>
          </a:xfrm>
          <a:prstGeom prst="rect">
            <a:avLst/>
          </a:prstGeom>
          <a:ln w="9360">
            <a:solidFill>
              <a:srgbClr val="e7dec9"/>
            </a:solidFill>
            <a:miter/>
          </a:ln>
        </p:spPr>
      </p:pic>
      <p:pic>
        <p:nvPicPr>
          <p:cNvPr id="357" name="Picture 7" descr="a380"/>
          <p:cNvPicPr/>
          <p:nvPr/>
        </p:nvPicPr>
        <p:blipFill>
          <a:blip r:embed="rId2"/>
          <a:stretch/>
        </p:blipFill>
        <p:spPr>
          <a:xfrm>
            <a:off x="2000160" y="3786120"/>
            <a:ext cx="609840" cy="11620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a380"/>
          <p:cNvPicPr/>
          <p:nvPr/>
        </p:nvPicPr>
        <p:blipFill>
          <a:blip r:embed="rId3"/>
          <a:stretch/>
        </p:blipFill>
        <p:spPr>
          <a:xfrm>
            <a:off x="3071880" y="4357800"/>
            <a:ext cx="609480" cy="11620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7" descr="a380"/>
          <p:cNvPicPr/>
          <p:nvPr/>
        </p:nvPicPr>
        <p:blipFill>
          <a:blip r:embed="rId4"/>
          <a:stretch/>
        </p:blipFill>
        <p:spPr>
          <a:xfrm>
            <a:off x="1000080" y="3500280"/>
            <a:ext cx="609480" cy="11620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nature21"/>
          <p:cNvPicPr/>
          <p:nvPr/>
        </p:nvPicPr>
        <p:blipFill>
          <a:blip r:embed="rId5"/>
          <a:stretch/>
        </p:blipFill>
        <p:spPr>
          <a:xfrm>
            <a:off x="500040" y="2214720"/>
            <a:ext cx="1152720" cy="7524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8" descr="nature21"/>
          <p:cNvPicPr/>
          <p:nvPr/>
        </p:nvPicPr>
        <p:blipFill>
          <a:blip r:embed="rId6"/>
          <a:stretch/>
        </p:blipFill>
        <p:spPr>
          <a:xfrm>
            <a:off x="2786040" y="1500120"/>
            <a:ext cx="1152720" cy="7524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" descr="D:\Анимашки\Аним. огонь и вода. Природа\nature05.gif"/>
          <p:cNvPicPr/>
          <p:nvPr/>
        </p:nvPicPr>
        <p:blipFill>
          <a:blip r:embed="rId7"/>
          <a:stretch/>
        </p:blipFill>
        <p:spPr>
          <a:xfrm>
            <a:off x="7180200" y="0"/>
            <a:ext cx="1963800" cy="1746360"/>
          </a:xfrm>
          <a:prstGeom prst="rect">
            <a:avLst/>
          </a:prstGeom>
          <a:ln w="0">
            <a:noFill/>
          </a:ln>
        </p:spPr>
      </p:pic>
      <p:pic>
        <p:nvPicPr>
          <p:cNvPr id="363" name="Прямоугольник 11" descr=""/>
          <p:cNvPicPr/>
          <p:nvPr/>
        </p:nvPicPr>
        <p:blipFill>
          <a:blip r:embed="rId8"/>
          <a:stretch/>
        </p:blipFill>
        <p:spPr>
          <a:xfrm>
            <a:off x="781200" y="66600"/>
            <a:ext cx="636876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3"/>
          <p:cNvSpPr/>
          <p:nvPr/>
        </p:nvSpPr>
        <p:spPr>
          <a:xfrm>
            <a:off x="1500120" y="1161360"/>
            <a:ext cx="6786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ние 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ие причины влияют на количество выпавших осадков?  Преобразуй информацию в свое решение, подготовь устный отв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ите, откуда летом и зимой дуют ветры в нашем городе. Как ветры влияют на количество и режим осадк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Прямоугольник 1" descr=""/>
          <p:cNvPicPr/>
          <p:nvPr/>
        </p:nvPicPr>
        <p:blipFill>
          <a:blip r:embed="rId1"/>
          <a:stretch/>
        </p:blipFill>
        <p:spPr>
          <a:xfrm>
            <a:off x="1504800" y="457200"/>
            <a:ext cx="6937560" cy="1219320"/>
          </a:xfrm>
          <a:prstGeom prst="rect">
            <a:avLst/>
          </a:prstGeom>
          <a:ln w="0">
            <a:noFill/>
          </a:ln>
        </p:spPr>
      </p:pic>
      <p:sp>
        <p:nvSpPr>
          <p:cNvPr id="366" name="TextBox 2"/>
          <p:cNvSpPr/>
          <p:nvPr/>
        </p:nvSpPr>
        <p:spPr>
          <a:xfrm>
            <a:off x="1571760" y="2428920"/>
            <a:ext cx="6929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гляну в окошко, идет длинный Анто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дали, звали, а показался – так все прочь побеж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еба пришёл, в землю уш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меньше капли дождя, тем дольше он будет ид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Прямоугольник 1" descr=""/>
          <p:cNvPicPr/>
          <p:nvPr/>
        </p:nvPicPr>
        <p:blipFill>
          <a:blip r:embed="rId1"/>
          <a:stretch/>
        </p:blipFill>
        <p:spPr>
          <a:xfrm>
            <a:off x="1249200" y="652320"/>
            <a:ext cx="3206880" cy="1219320"/>
          </a:xfrm>
          <a:prstGeom prst="rect">
            <a:avLst/>
          </a:prstGeom>
          <a:ln w="0">
            <a:noFill/>
          </a:ln>
        </p:spPr>
      </p:pic>
      <p:pic>
        <p:nvPicPr>
          <p:cNvPr id="368" name="Прямоугольник 2" descr=""/>
          <p:cNvPicPr/>
          <p:nvPr/>
        </p:nvPicPr>
        <p:blipFill>
          <a:blip r:embed="rId2"/>
          <a:stretch/>
        </p:blipFill>
        <p:spPr>
          <a:xfrm>
            <a:off x="1292400" y="2840040"/>
            <a:ext cx="2041200" cy="811080"/>
          </a:xfrm>
          <a:prstGeom prst="rect">
            <a:avLst/>
          </a:prstGeom>
          <a:ln w="0">
            <a:noFill/>
          </a:ln>
        </p:spPr>
      </p:pic>
      <p:sp>
        <p:nvSpPr>
          <p:cNvPr id="369" name="TextBox 3"/>
          <p:cNvSpPr/>
          <p:nvPr/>
        </p:nvSpPr>
        <p:spPr>
          <a:xfrm>
            <a:off x="3214800" y="3357720"/>
            <a:ext cx="46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ерите стихотворения об осадках, обла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4"/>
          <p:cNvSpPr/>
          <p:nvPr/>
        </p:nvSpPr>
        <p:spPr>
          <a:xfrm>
            <a:off x="1428840" y="1714680"/>
            <a:ext cx="6143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му выпадают осадки? Какое значение они имеют для челове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3" descr="D:\Анимашки\Аним. огонь и вода. Природа\nature21.gif"/>
          <p:cNvPicPr/>
          <p:nvPr/>
        </p:nvPicPr>
        <p:blipFill>
          <a:blip r:embed="rId3"/>
          <a:stretch/>
        </p:blipFill>
        <p:spPr>
          <a:xfrm>
            <a:off x="6072120" y="285840"/>
            <a:ext cx="272736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"/>
          <p:cNvSpPr/>
          <p:nvPr/>
        </p:nvSpPr>
        <p:spPr>
          <a:xfrm>
            <a:off x="1714680" y="1588320"/>
            <a:ext cx="6929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1. Установить  причинно-следственные связи,  происходящие в атмосфере с водяными па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2. Поиск и выделение необходимой информации,  используя текст учебника и презентац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3. Развивать  учебное  сотрудничество  с учителем и сверстни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Прямоугольник 2" descr=""/>
          <p:cNvPicPr/>
          <p:nvPr/>
        </p:nvPicPr>
        <p:blipFill>
          <a:blip r:embed="rId1"/>
          <a:stretch/>
        </p:blipFill>
        <p:spPr>
          <a:xfrm>
            <a:off x="1968480" y="365040"/>
            <a:ext cx="589608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Прямоугольник 3" descr=""/>
          <p:cNvPicPr/>
          <p:nvPr/>
        </p:nvPicPr>
        <p:blipFill>
          <a:blip r:embed="rId1"/>
          <a:stretch/>
        </p:blipFill>
        <p:spPr>
          <a:xfrm>
            <a:off x="133200" y="139680"/>
            <a:ext cx="8802720" cy="1042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"/>
          <p:cNvPicPr/>
          <p:nvPr/>
        </p:nvPicPr>
        <p:blipFill>
          <a:blip r:embed="rId2"/>
          <a:stretch/>
        </p:blipFill>
        <p:spPr>
          <a:xfrm>
            <a:off x="950760" y="1571760"/>
            <a:ext cx="819324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1523880" y="1071720"/>
          <a:ext cx="6691320" cy="3429000"/>
        </p:xfrm>
        <a:graphic>
          <a:graphicData uri="http://schemas.openxmlformats.org/drawingml/2006/table">
            <a:tbl>
              <a:tblPr/>
              <a:tblGrid>
                <a:gridCol w="3346560"/>
                <a:gridCol w="3344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Температура воздух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Количество водяного па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46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30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0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5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0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6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0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0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  <p:sp>
        <p:nvSpPr>
          <p:cNvPr id="327" name="Прямоугольник 3"/>
          <p:cNvSpPr/>
          <p:nvPr/>
        </p:nvSpPr>
        <p:spPr>
          <a:xfrm>
            <a:off x="1214280" y="4857840"/>
            <a:ext cx="750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Сколько грамм водяного пара может содержать воздух при разной температуре?   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ите табличк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1"/>
          <p:cNvSpPr/>
          <p:nvPr/>
        </p:nvSpPr>
        <p:spPr>
          <a:xfrm>
            <a:off x="1071720" y="785880"/>
            <a:ext cx="77151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2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ределите:  а) Сколько грамм водяного пара может вместить 1м³ насыщенного воздуха при нагреван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0°С  до 10°С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20°С  до 30°С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Является ли воздух насыщенным, если при температуре +20°С содержится 7 грамм вод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Произойдет ли конденсация водяного пара при охлаждении1м³ воздуха. Содержащего 7 г водяного пара, до температуры +10³С.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 решение и подготовь устный отв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ется такая влажность воздуха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1"/>
          <p:cNvSpPr/>
          <p:nvPr/>
        </p:nvSpPr>
        <p:spPr>
          <a:xfrm>
            <a:off x="1285920" y="942840"/>
            <a:ext cx="7215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классу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 происходит с насыщенным водяным паром воздухом  при соприкосновении с охлажденной земной поверхностью и при поднятии воздуха ввер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ние 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.Подберите текст, из которого можно вычитать решение этой пробле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Рисунок 1" descr="http://mirgif.com/priroda/peyzazh25.gif"/>
          <p:cNvPicPr/>
          <p:nvPr/>
        </p:nvPicPr>
        <p:blipFill>
          <a:blip r:embed="rId1"/>
          <a:stretch/>
        </p:blipFill>
        <p:spPr>
          <a:xfrm>
            <a:off x="1071720" y="357120"/>
            <a:ext cx="7500960" cy="5376960"/>
          </a:xfrm>
          <a:prstGeom prst="rect">
            <a:avLst/>
          </a:prstGeom>
          <a:ln w="0">
            <a:noFill/>
          </a:ln>
        </p:spPr>
      </p:pic>
      <p:sp>
        <p:nvSpPr>
          <p:cNvPr id="331" name="TextBox 2"/>
          <p:cNvSpPr/>
          <p:nvPr/>
        </p:nvSpPr>
        <p:spPr>
          <a:xfrm>
            <a:off x="928800" y="600084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вид облако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они формируютс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Рисунок 1" descr="http://mirgif.com/10/priroda-2_sm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4280" y="357120"/>
            <a:ext cx="7215480" cy="4984920"/>
          </a:xfrm>
          <a:prstGeom prst="rect">
            <a:avLst/>
          </a:prstGeom>
          <a:ln w="0">
            <a:noFill/>
          </a:ln>
        </p:spPr>
      </p:pic>
      <p:sp>
        <p:nvSpPr>
          <p:cNvPr id="333" name="TextBox 2"/>
          <p:cNvSpPr/>
          <p:nvPr/>
        </p:nvSpPr>
        <p:spPr>
          <a:xfrm>
            <a:off x="1143000" y="5429160"/>
            <a:ext cx="77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ются данный вид облаков? Принесут эти облака осадки ? Сформулируй свое реш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Рисунок 1" descr="http://mirgif.com/10/nebo2_sm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43040" y="214200"/>
            <a:ext cx="6643800" cy="5515200"/>
          </a:xfrm>
          <a:prstGeom prst="rect">
            <a:avLst/>
          </a:prstGeom>
          <a:ln w="0">
            <a:noFill/>
          </a:ln>
        </p:spPr>
      </p:pic>
      <p:sp>
        <p:nvSpPr>
          <p:cNvPr id="335" name="TextBox 2"/>
          <p:cNvSpPr/>
          <p:nvPr/>
        </p:nvSpPr>
        <p:spPr>
          <a:xfrm>
            <a:off x="1500120" y="5786280"/>
            <a:ext cx="700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какому ярусу относятся данные виды облаков? На какой высоте они образуют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2T07:14:19Z</dcterms:created>
  <dc:creator>Admin</dc:creator>
  <dc:description/>
  <dc:language>en-US</dc:language>
  <cp:lastModifiedBy>Admin</cp:lastModifiedBy>
  <dcterms:modified xsi:type="dcterms:W3CDTF">2013-01-24T13:02:44Z</dcterms:modified>
  <cp:revision>71</cp:revision>
  <dc:subject/>
  <dc:title>Слайд 1</dc:title>
</cp:coreProperties>
</file>