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10.gif" ContentType="image/gif"/>
  <Override PartName="/ppt/media/image11.jpeg" ContentType="image/jpeg"/>
  <Override PartName="/ppt/media/image9.jpeg" ContentType="image/jpeg"/>
  <Override PartName="/ppt/media/image8.png" ContentType="image/png"/>
  <Override PartName="/ppt/media/image5.gif" ContentType="image/gif"/>
  <Override PartName="/ppt/media/image7.png" ContentType="image/png"/>
  <Override PartName="/ppt/media/image1.jpeg" ContentType="image/jpeg"/>
  <Override PartName="/ppt/media/image15.wmf" ContentType="image/x-wmf"/>
  <Override PartName="/ppt/media/image6.png" ContentType="image/png"/>
  <Override PartName="/ppt/media/image22.png" ContentType="image/png"/>
  <Override PartName="/ppt/media/image21.png" ContentType="image/png"/>
  <Override PartName="/ppt/media/image4.png" ContentType="image/png"/>
  <Override PartName="/ppt/media/image19.gif" ContentType="image/gif"/>
  <Override PartName="/ppt/media/image24.png" ContentType="image/png"/>
  <Override PartName="/ppt/media/image18.gif" ContentType="image/gif"/>
  <Override PartName="/ppt/media/image20.gif" ContentType="image/gif"/>
  <Override PartName="/ppt/media/image23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.png" ContentType="image/png"/>
  <Override PartName="/ppt/media/image3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D34D5-17B9-466D-8D8A-2CD3C7C8C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92A43-4008-47E8-91E1-AED4F65DF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3C4C7-D206-4AC2-97D3-9CAA05420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F6D4E-3AA8-4F07-9327-96F805820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017AD-6229-4C91-84A4-9FA3018B1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0D62A-0EC7-4534-A62A-1EDB4EE0E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2823B-245D-4545-A5B0-21729C148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E4EF0-1C04-48D6-A76F-3EA6533FB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F47A0-D5B5-417C-B530-11FE93A1C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3E3A7-5DA7-4360-9AE5-6FD07B303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9155C-1E56-4BEF-B837-45D84A7C9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9815C-6EEE-4E3C-B116-281A1A41B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ADEDA-CFE2-428B-9DC8-B7288A041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0446D-99BB-43E2-8420-5BB0884A8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7EB59-98E6-438D-B899-21CF10DBD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ECBCB-8C08-419D-B775-24F02A2B0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8DA97-EFE7-4581-B8C2-3F6ADEFA6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979412-5F34-467F-A7EB-A6E06D9AF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C7BF0D-C864-4918-8436-17400A02C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80BE9F-89E2-4491-B618-4A095439E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5CAFB1-B84C-4278-AC29-173BC182E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31332D-68A5-4D02-9CEC-528D01B1E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040CA-37CF-4C26-B91F-46E0A654A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3F9796-C8EC-45CC-8D3B-0D893BFCA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F87176-B062-4E73-9654-EA161DA5B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411B00-7606-4CB4-87D2-8B33334CB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572042-02B4-44FD-A379-84CD965D5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2D3721-AAA3-41C2-AF5D-5306A5F4F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0F7811-F27B-4563-A571-6DEF82BD8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57A5B4-9C9E-4DC0-A842-929B675F5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29C666-DBFD-4BEC-8B31-E83C64032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3D247A-6246-4906-8026-375E5A585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064172-88E9-40E2-B392-471315619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B23AD-6C54-4BB0-98A3-75AE89D5A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B17BE2-91FD-4F62-996C-E22D46B7B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748F64-9BAF-49B7-A25F-797DAAE9F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CDC8BD-BC6D-485E-A4F8-DA38A08A0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664DCD-CBE4-492B-AFCA-77A9619BD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EFA426-11C1-4A08-BB69-9F99ECD74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A3E63B-880F-4886-A8F4-AB6DA69F0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45A7A2-62A1-45D4-A4E4-59E9D3082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EBEEF4-BA41-4F2C-B5AC-4995F93FB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DEDB53-D5FB-4D72-8264-040642EB1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D65FCF-26B3-4637-AAEB-44678E492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EC547-9C49-4503-8935-7634BC8F0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2D2425-4ED2-4263-B30D-28F8E848D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D5CF91-38D8-400F-8AB5-9717C91B5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18FAF6-28E6-4DE6-B3AF-3B84E3303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E1BE2C-F8F7-47B9-AE98-0169DD827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502247-BE80-4890-A39B-0BC605792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606C08-AB1E-43E3-8A75-5F751057D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957860-8947-45D7-9588-3302BBFF4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A05F8B-5A99-4C85-97BF-A4112936B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8A7F2C-E04F-4B06-8AE2-D2641CDB4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FBCAB1-5638-4E55-86DC-BED5B2608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C5598-FFC5-4021-92AB-8DA14B2CA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183760-D089-4038-9980-A9F0C4E1B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8AB918-C6A6-4FE6-BA9A-D7514DF40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D3850B-26A8-4100-85C8-81AF60C54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AAB479-BB66-483E-B2E6-39ECD5528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0CAEC3-EC20-4FE0-8609-5DCE362F9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9FCE51-03FD-4D3A-911E-48C344A72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B73891-934C-4151-A353-842676DED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38000E-2A7B-40B2-AE65-6E6F7240B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424C5B-890A-491F-930E-08EEB3BBF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83144E-9651-4923-A7C4-2264DD014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475E1-1A59-49D1-B177-E144FDFC5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42213A-DC14-4E49-B27D-9F2F68B78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C8BCAF-4AEF-4966-9984-4CCE360E1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AA7F41-B23D-4531-B274-4CCCF20D8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931E8B-CE88-4C3E-AECC-3FB3A0528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9A2C1F-8313-4512-8AA0-05477FFBF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3513A1-C625-4087-A5F2-A5A63A3B0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7761A3-3BC3-4690-9384-4BB5736EC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425EB3-6F13-4DCA-9A8C-2675A6B5B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025D9E-AED9-4C57-A838-47DFE6840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09F4F5-F948-43BB-8CFA-41C804B24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1D4EE-34A0-4FE8-B1B5-751D662F5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CAB736-282E-45BE-A015-79A8F1EAC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37261C-2E1F-4E0B-A575-114415152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97380F-1C63-48D3-87F7-4C16A0838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1D1D72-569F-4CC5-8A64-C4CEA40A1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C0E4BC-0A6F-42B7-B520-B3437592F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67708-7D00-4C84-B5E4-A388E7170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B1D99-E507-47F2-95E9-0FE1CFFB8F8B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9BCBD-2100-4B94-BA53-18B59F1DECCE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BB0E3-3613-448D-B0D1-A299C1771290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4EAFB-8E1D-4616-845F-FCB17C64F309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D2803-511A-47CB-89CC-354214F2AFC8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9CD13-4C24-41A7-A536-08A00C8ABA35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C5899-83AB-4EA3-80F2-EA8CA84C4FEC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gif"/><Relationship Id="rId3" Type="http://schemas.openxmlformats.org/officeDocument/2006/relationships/image" Target="../media/image18.gif"/><Relationship Id="rId4" Type="http://schemas.openxmlformats.org/officeDocument/2006/relationships/image" Target="../media/image18.gif"/><Relationship Id="rId5" Type="http://schemas.openxmlformats.org/officeDocument/2006/relationships/image" Target="../media/image19.gif"/><Relationship Id="rId6" Type="http://schemas.openxmlformats.org/officeDocument/2006/relationships/image" Target="../media/image19.gif"/><Relationship Id="rId7" Type="http://schemas.openxmlformats.org/officeDocument/2006/relationships/image" Target="../media/image20.gif"/><Relationship Id="rId8" Type="http://schemas.openxmlformats.org/officeDocument/2006/relationships/image" Target="../media/image21.png"/><Relationship Id="rId9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19.gif"/><Relationship Id="rId4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mirgif.com/priroda/priroda-2.jpg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mirgif.com/priroda/nebo2.jpg" TargetMode="Externa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Рисунок 1" descr="Анимации, анимашки Природ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19" name="Прямоугольник 2" descr=""/>
          <p:cNvPicPr/>
          <p:nvPr/>
        </p:nvPicPr>
        <p:blipFill>
          <a:blip r:embed="rId2"/>
          <a:stretch/>
        </p:blipFill>
        <p:spPr>
          <a:xfrm>
            <a:off x="1695600" y="1427040"/>
            <a:ext cx="5742000" cy="2121120"/>
          </a:xfrm>
          <a:prstGeom prst="rect">
            <a:avLst/>
          </a:prstGeom>
          <a:ln w="0">
            <a:noFill/>
          </a:ln>
        </p:spPr>
      </p:pic>
      <p:sp>
        <p:nvSpPr>
          <p:cNvPr id="320" name="TextBox 3"/>
          <p:cNvSpPr/>
          <p:nvPr/>
        </p:nvSpPr>
        <p:spPr>
          <a:xfrm>
            <a:off x="857160" y="428760"/>
            <a:ext cx="77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огалева Надежда Григорьевна МБОУ «СОШ №29» г.Братск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Идентификатор: 240-490-0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4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Прямоугольник 1"/>
          <p:cNvSpPr/>
          <p:nvPr/>
        </p:nvSpPr>
        <p:spPr>
          <a:xfrm>
            <a:off x="2714760" y="1357200"/>
            <a:ext cx="3786120" cy="500040"/>
          </a:xfrm>
          <a:prstGeom prst="rect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Прямоугольник 2"/>
          <p:cNvSpPr/>
          <p:nvPr/>
        </p:nvSpPr>
        <p:spPr>
          <a:xfrm>
            <a:off x="500040" y="2643120"/>
            <a:ext cx="1357200" cy="428760"/>
          </a:xfrm>
          <a:prstGeom prst="rect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Прямоугольник 3"/>
          <p:cNvSpPr/>
          <p:nvPr/>
        </p:nvSpPr>
        <p:spPr>
          <a:xfrm>
            <a:off x="2143080" y="2643120"/>
            <a:ext cx="1357200" cy="428760"/>
          </a:xfrm>
          <a:prstGeom prst="rect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Прямоугольник 4"/>
          <p:cNvSpPr/>
          <p:nvPr/>
        </p:nvSpPr>
        <p:spPr>
          <a:xfrm>
            <a:off x="3929040" y="2643120"/>
            <a:ext cx="1214640" cy="428760"/>
          </a:xfrm>
          <a:prstGeom prst="rect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Прямоугольник 5"/>
          <p:cNvSpPr/>
          <p:nvPr/>
        </p:nvSpPr>
        <p:spPr>
          <a:xfrm>
            <a:off x="5500800" y="2643120"/>
            <a:ext cx="1357200" cy="428760"/>
          </a:xfrm>
          <a:prstGeom prst="rect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Прямоугольник 7"/>
          <p:cNvSpPr/>
          <p:nvPr/>
        </p:nvSpPr>
        <p:spPr>
          <a:xfrm>
            <a:off x="7215120" y="2643120"/>
            <a:ext cx="1143000" cy="428760"/>
          </a:xfrm>
          <a:prstGeom prst="rect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2" name="Прямая со стрелкой 15"/>
          <p:cNvCxnSpPr>
            <a:endCxn id="340" idx="0"/>
          </p:cNvCxnSpPr>
          <p:nvPr/>
        </p:nvCxnSpPr>
        <p:spPr>
          <a:xfrm>
            <a:off x="5715000" y="1856880"/>
            <a:ext cx="465840" cy="78660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343" name="Прямая со стрелкой 19"/>
          <p:cNvCxnSpPr/>
          <p:nvPr/>
        </p:nvCxnSpPr>
        <p:spPr>
          <a:xfrm>
            <a:off x="6143760" y="1856880"/>
            <a:ext cx="1357920" cy="78660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344" name="Прямая со стрелкой 23"/>
          <p:cNvCxnSpPr>
            <a:stCxn id="336" idx="2"/>
          </p:cNvCxnSpPr>
          <p:nvPr/>
        </p:nvCxnSpPr>
        <p:spPr>
          <a:xfrm>
            <a:off x="4605840" y="1856880"/>
            <a:ext cx="37080" cy="78660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345" name="Прямая со стрелкой 25"/>
          <p:cNvCxnSpPr/>
          <p:nvPr/>
        </p:nvCxnSpPr>
        <p:spPr>
          <a:xfrm flipH="1">
            <a:off x="3071520" y="1856880"/>
            <a:ext cx="286560" cy="78660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346" name="Прямая со стрелкой 27"/>
          <p:cNvCxnSpPr/>
          <p:nvPr/>
        </p:nvCxnSpPr>
        <p:spPr>
          <a:xfrm flipH="1">
            <a:off x="1571400" y="1856160"/>
            <a:ext cx="1429200" cy="78660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pic>
        <p:nvPicPr>
          <p:cNvPr id="347" name="Прямоугольник 30" descr=""/>
          <p:cNvPicPr/>
          <p:nvPr/>
        </p:nvPicPr>
        <p:blipFill>
          <a:blip r:embed="rId1"/>
          <a:stretch/>
        </p:blipFill>
        <p:spPr>
          <a:xfrm>
            <a:off x="493560" y="274680"/>
            <a:ext cx="7944120" cy="620640"/>
          </a:xfrm>
          <a:prstGeom prst="rect">
            <a:avLst/>
          </a:prstGeom>
          <a:ln w="0">
            <a:noFill/>
          </a:ln>
        </p:spPr>
      </p:pic>
      <p:sp>
        <p:nvSpPr>
          <p:cNvPr id="348" name="TextBox 31"/>
          <p:cNvSpPr/>
          <p:nvPr/>
        </p:nvSpPr>
        <p:spPr>
          <a:xfrm>
            <a:off x="1071720" y="4143240"/>
            <a:ext cx="7715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ние 4: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ьте в тетради схему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Виды атмосферных осадков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овите условия образования  разных видов осад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Прямоугольник 3" descr=""/>
          <p:cNvPicPr/>
          <p:nvPr/>
        </p:nvPicPr>
        <p:blipFill>
          <a:blip r:embed="rId1"/>
          <a:stretch/>
        </p:blipFill>
        <p:spPr>
          <a:xfrm>
            <a:off x="1066680" y="798480"/>
            <a:ext cx="8113680" cy="4479840"/>
          </a:xfrm>
          <a:prstGeom prst="rect">
            <a:avLst/>
          </a:prstGeom>
          <a:ln w="0">
            <a:noFill/>
          </a:ln>
        </p:spPr>
      </p:pic>
      <p:sp>
        <p:nvSpPr>
          <p:cNvPr id="350" name="TextBox 4"/>
          <p:cNvSpPr/>
          <p:nvPr/>
        </p:nvSpPr>
        <p:spPr>
          <a:xfrm>
            <a:off x="1500120" y="5786280"/>
            <a:ext cx="692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вы можете объяснить эти поговор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2" name="Object 1"/>
          <p:cNvGraphicFramePr/>
          <p:nvPr/>
        </p:nvGraphicFramePr>
        <p:xfrm>
          <a:off x="0" y="1571760"/>
          <a:ext cx="9144000" cy="5286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3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571760"/>
                    <a:ext cx="9144000" cy="528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54" name="Прямоугольник 7" descr=""/>
          <p:cNvPicPr/>
          <p:nvPr/>
        </p:nvPicPr>
        <p:blipFill>
          <a:blip r:embed="rId3"/>
          <a:stretch/>
        </p:blipFill>
        <p:spPr>
          <a:xfrm>
            <a:off x="878040" y="341280"/>
            <a:ext cx="7864200" cy="10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1"/>
          <p:cNvSpPr/>
          <p:nvPr/>
        </p:nvSpPr>
        <p:spPr>
          <a:xfrm>
            <a:off x="1143000" y="1447200"/>
            <a:ext cx="65008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Задание 5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диаграмме годовое количество осадков по г. Братску определите: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а) Количество осадков, выпадающих за год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б) месяц, за который выпадает большее количество осадко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в) месяц с самым маленьким количеством осадк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Picture 4" descr=""/>
          <p:cNvPicPr/>
          <p:nvPr/>
        </p:nvPicPr>
        <p:blipFill>
          <a:blip r:embed="rId1"/>
          <a:stretch/>
        </p:blipFill>
        <p:spPr>
          <a:xfrm>
            <a:off x="0" y="714240"/>
            <a:ext cx="9144000" cy="6143760"/>
          </a:xfrm>
          <a:prstGeom prst="rect">
            <a:avLst/>
          </a:prstGeom>
          <a:ln w="9360">
            <a:solidFill>
              <a:srgbClr val="e7dec9"/>
            </a:solidFill>
            <a:miter/>
          </a:ln>
        </p:spPr>
      </p:pic>
      <p:pic>
        <p:nvPicPr>
          <p:cNvPr id="357" name="Picture 7" descr="a380"/>
          <p:cNvPicPr/>
          <p:nvPr/>
        </p:nvPicPr>
        <p:blipFill>
          <a:blip r:embed="rId2"/>
          <a:stretch/>
        </p:blipFill>
        <p:spPr>
          <a:xfrm>
            <a:off x="2000160" y="3786120"/>
            <a:ext cx="609840" cy="116208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7" descr="a380"/>
          <p:cNvPicPr/>
          <p:nvPr/>
        </p:nvPicPr>
        <p:blipFill>
          <a:blip r:embed="rId3"/>
          <a:stretch/>
        </p:blipFill>
        <p:spPr>
          <a:xfrm>
            <a:off x="3071880" y="4357800"/>
            <a:ext cx="609480" cy="116208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7" descr="a380"/>
          <p:cNvPicPr/>
          <p:nvPr/>
        </p:nvPicPr>
        <p:blipFill>
          <a:blip r:embed="rId4"/>
          <a:stretch/>
        </p:blipFill>
        <p:spPr>
          <a:xfrm>
            <a:off x="1000080" y="3500280"/>
            <a:ext cx="609480" cy="116208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8" descr="nature21"/>
          <p:cNvPicPr/>
          <p:nvPr/>
        </p:nvPicPr>
        <p:blipFill>
          <a:blip r:embed="rId5"/>
          <a:stretch/>
        </p:blipFill>
        <p:spPr>
          <a:xfrm>
            <a:off x="500040" y="2214720"/>
            <a:ext cx="1152720" cy="75240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8" descr="nature21"/>
          <p:cNvPicPr/>
          <p:nvPr/>
        </p:nvPicPr>
        <p:blipFill>
          <a:blip r:embed="rId6"/>
          <a:stretch/>
        </p:blipFill>
        <p:spPr>
          <a:xfrm>
            <a:off x="2786040" y="1500120"/>
            <a:ext cx="1152720" cy="75240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2" descr="D:\Анимашки\Аним. огонь и вода. Природа\nature05.gif"/>
          <p:cNvPicPr/>
          <p:nvPr/>
        </p:nvPicPr>
        <p:blipFill>
          <a:blip r:embed="rId7"/>
          <a:stretch/>
        </p:blipFill>
        <p:spPr>
          <a:xfrm>
            <a:off x="7180200" y="0"/>
            <a:ext cx="1963800" cy="1746360"/>
          </a:xfrm>
          <a:prstGeom prst="rect">
            <a:avLst/>
          </a:prstGeom>
          <a:ln w="0">
            <a:noFill/>
          </a:ln>
        </p:spPr>
      </p:pic>
      <p:pic>
        <p:nvPicPr>
          <p:cNvPr id="363" name="Прямоугольник 11" descr=""/>
          <p:cNvPicPr/>
          <p:nvPr/>
        </p:nvPicPr>
        <p:blipFill>
          <a:blip r:embed="rId8"/>
          <a:stretch/>
        </p:blipFill>
        <p:spPr>
          <a:xfrm>
            <a:off x="781200" y="66600"/>
            <a:ext cx="6368760" cy="61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3"/>
          <p:cNvSpPr/>
          <p:nvPr/>
        </p:nvSpPr>
        <p:spPr>
          <a:xfrm>
            <a:off x="1500120" y="1161360"/>
            <a:ext cx="67867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Задание 6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Какие причины влияют на количество выпавших осадков?  Преобразуй информацию в свое решение, подготовь устный отв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ределите, откуда летом и зимой дуют ветры в нашем городе. Как ветры влияют на количество и режим осадков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Прямоугольник 1" descr=""/>
          <p:cNvPicPr/>
          <p:nvPr/>
        </p:nvPicPr>
        <p:blipFill>
          <a:blip r:embed="rId1"/>
          <a:stretch/>
        </p:blipFill>
        <p:spPr>
          <a:xfrm>
            <a:off x="1504800" y="457200"/>
            <a:ext cx="6937560" cy="1219320"/>
          </a:xfrm>
          <a:prstGeom prst="rect">
            <a:avLst/>
          </a:prstGeom>
          <a:ln w="0">
            <a:noFill/>
          </a:ln>
        </p:spPr>
      </p:pic>
      <p:sp>
        <p:nvSpPr>
          <p:cNvPr id="366" name="TextBox 2"/>
          <p:cNvSpPr/>
          <p:nvPr/>
        </p:nvSpPr>
        <p:spPr>
          <a:xfrm>
            <a:off x="1571760" y="2428920"/>
            <a:ext cx="69292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гляну в окошко, идет длинный Антош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дали, звали, а показался – так все прочь побежа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неба пришёл, в землю уше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м меньше капли дождя, тем дольше он будет ид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7" name="Прямоугольник 1" descr=""/>
          <p:cNvPicPr/>
          <p:nvPr/>
        </p:nvPicPr>
        <p:blipFill>
          <a:blip r:embed="rId1"/>
          <a:stretch/>
        </p:blipFill>
        <p:spPr>
          <a:xfrm>
            <a:off x="1249200" y="652320"/>
            <a:ext cx="3206880" cy="1219320"/>
          </a:xfrm>
          <a:prstGeom prst="rect">
            <a:avLst/>
          </a:prstGeom>
          <a:ln w="0">
            <a:noFill/>
          </a:ln>
        </p:spPr>
      </p:pic>
      <p:pic>
        <p:nvPicPr>
          <p:cNvPr id="368" name="Прямоугольник 2" descr=""/>
          <p:cNvPicPr/>
          <p:nvPr/>
        </p:nvPicPr>
        <p:blipFill>
          <a:blip r:embed="rId2"/>
          <a:stretch/>
        </p:blipFill>
        <p:spPr>
          <a:xfrm>
            <a:off x="1292400" y="2840040"/>
            <a:ext cx="2041200" cy="811080"/>
          </a:xfrm>
          <a:prstGeom prst="rect">
            <a:avLst/>
          </a:prstGeom>
          <a:ln w="0">
            <a:noFill/>
          </a:ln>
        </p:spPr>
      </p:pic>
      <p:sp>
        <p:nvSpPr>
          <p:cNvPr id="369" name="TextBox 3"/>
          <p:cNvSpPr/>
          <p:nvPr/>
        </p:nvSpPr>
        <p:spPr>
          <a:xfrm>
            <a:off x="3214800" y="3357720"/>
            <a:ext cx="464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берите стихотворения об осадках, облак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Box 4"/>
          <p:cNvSpPr/>
          <p:nvPr/>
        </p:nvSpPr>
        <p:spPr>
          <a:xfrm>
            <a:off x="1428840" y="1714680"/>
            <a:ext cx="61434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ему выпадают осадки? Какое значение они имеют для человек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Picture 3" descr="D:\Анимашки\Аним. огонь и вода. Природа\nature21.gif"/>
          <p:cNvPicPr/>
          <p:nvPr/>
        </p:nvPicPr>
        <p:blipFill>
          <a:blip r:embed="rId3"/>
          <a:stretch/>
        </p:blipFill>
        <p:spPr>
          <a:xfrm>
            <a:off x="6072120" y="285840"/>
            <a:ext cx="2727360" cy="195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1"/>
          <p:cNvSpPr/>
          <p:nvPr/>
        </p:nvSpPr>
        <p:spPr>
          <a:xfrm>
            <a:off x="1714680" y="1588320"/>
            <a:ext cx="69292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Calibri"/>
              </a:rPr>
              <a:t>1. Установить  причинно-следственные связи,  происходящие в атмосфере с водяными пар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Calibri"/>
              </a:rPr>
              <a:t>2. Поиск и выделение необходимой информации,  используя текст учебника и презентаци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Calibri"/>
              </a:rPr>
              <a:t>3. Развивать  учебное  сотрудничество  с учителем и сверстник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Прямоугольник 2" descr=""/>
          <p:cNvPicPr/>
          <p:nvPr/>
        </p:nvPicPr>
        <p:blipFill>
          <a:blip r:embed="rId1"/>
          <a:stretch/>
        </p:blipFill>
        <p:spPr>
          <a:xfrm>
            <a:off x="1968480" y="365040"/>
            <a:ext cx="5896080" cy="11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Прямоугольник 3" descr=""/>
          <p:cNvPicPr/>
          <p:nvPr/>
        </p:nvPicPr>
        <p:blipFill>
          <a:blip r:embed="rId1"/>
          <a:stretch/>
        </p:blipFill>
        <p:spPr>
          <a:xfrm>
            <a:off x="133200" y="139680"/>
            <a:ext cx="8802720" cy="104292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4" descr=""/>
          <p:cNvPicPr/>
          <p:nvPr/>
        </p:nvPicPr>
        <p:blipFill>
          <a:blip r:embed="rId2"/>
          <a:stretch/>
        </p:blipFill>
        <p:spPr>
          <a:xfrm>
            <a:off x="950760" y="1571760"/>
            <a:ext cx="8193240" cy="45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6" name=""/>
          <p:cNvGraphicFramePr/>
          <p:nvPr/>
        </p:nvGraphicFramePr>
        <p:xfrm>
          <a:off x="1523880" y="1071720"/>
          <a:ext cx="6691320" cy="3429000"/>
        </p:xfrm>
        <a:graphic>
          <a:graphicData uri="http://schemas.openxmlformats.org/drawingml/2006/table">
            <a:tbl>
              <a:tblPr/>
              <a:tblGrid>
                <a:gridCol w="3346560"/>
                <a:gridCol w="334476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Температура воздух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Количество водяного па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46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30°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46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20°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45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10°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46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°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46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0°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46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0°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</a:tbl>
          </a:graphicData>
        </a:graphic>
      </p:graphicFrame>
      <p:sp>
        <p:nvSpPr>
          <p:cNvPr id="327" name="Прямоугольник 3"/>
          <p:cNvSpPr/>
          <p:nvPr/>
        </p:nvSpPr>
        <p:spPr>
          <a:xfrm>
            <a:off x="1214280" y="4857840"/>
            <a:ext cx="7500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ние 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Сколько грамм водяного пара может содержать воздух при разной температуре?   (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олните табличку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TextBox 1"/>
          <p:cNvSpPr/>
          <p:nvPr/>
        </p:nvSpPr>
        <p:spPr>
          <a:xfrm>
            <a:off x="1071720" y="785880"/>
            <a:ext cx="771516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ние 2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пределите:  а) Сколько грамм водяного пара может вместить 1м³ насыщенного воздуха при нагревани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 0°С  до 10°С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 20°С  до 30°С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Является ли воздух насыщенным, если при температуре +20°С содержится 7 грамм воды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Произойдет ли конденсация водяного пара при охлаждении1м³ воздуха. Содержащего 7 г водяного пара, до температуры +10³С.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иши решение и подготовь устный отв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называется такая влажность воздуха?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1"/>
          <p:cNvSpPr/>
          <p:nvPr/>
        </p:nvSpPr>
        <p:spPr>
          <a:xfrm>
            <a:off x="1285920" y="942840"/>
            <a:ext cx="72151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Вопрос классу: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Что происходит с насыщенным водяным паром воздухом  при соприкосновении с охлажденной земной поверхностью и при поднятии воздуха вверх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Задание 3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.Подберите текст, из которого можно вычитать решение этой проблем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Рисунок 1" descr="http://mirgif.com/priroda/peyzazh25.gif"/>
          <p:cNvPicPr/>
          <p:nvPr/>
        </p:nvPicPr>
        <p:blipFill>
          <a:blip r:embed="rId1"/>
          <a:stretch/>
        </p:blipFill>
        <p:spPr>
          <a:xfrm>
            <a:off x="1071720" y="357120"/>
            <a:ext cx="7500960" cy="5376960"/>
          </a:xfrm>
          <a:prstGeom prst="rect">
            <a:avLst/>
          </a:prstGeom>
          <a:ln w="0">
            <a:noFill/>
          </a:ln>
        </p:spPr>
      </p:pic>
      <p:sp>
        <p:nvSpPr>
          <p:cNvPr id="331" name="TextBox 2"/>
          <p:cNvSpPr/>
          <p:nvPr/>
        </p:nvSpPr>
        <p:spPr>
          <a:xfrm>
            <a:off x="928800" y="6000840"/>
            <a:ext cx="735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овите вид облаков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де они формируются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Рисунок 1" descr="http://mirgif.com/10/priroda-2_small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214280" y="357120"/>
            <a:ext cx="7215480" cy="4984920"/>
          </a:xfrm>
          <a:prstGeom prst="rect">
            <a:avLst/>
          </a:prstGeom>
          <a:ln w="0">
            <a:noFill/>
          </a:ln>
        </p:spPr>
      </p:pic>
      <p:sp>
        <p:nvSpPr>
          <p:cNvPr id="333" name="TextBox 2"/>
          <p:cNvSpPr/>
          <p:nvPr/>
        </p:nvSpPr>
        <p:spPr>
          <a:xfrm>
            <a:off x="1143000" y="5429160"/>
            <a:ext cx="7786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называются данный вид облаков? Принесут эти облака осадки ? Сформулируй свое реше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Рисунок 1" descr="http://mirgif.com/10/nebo2_small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643040" y="214200"/>
            <a:ext cx="6643800" cy="5515200"/>
          </a:xfrm>
          <a:prstGeom prst="rect">
            <a:avLst/>
          </a:prstGeom>
          <a:ln w="0">
            <a:noFill/>
          </a:ln>
        </p:spPr>
      </p:pic>
      <p:sp>
        <p:nvSpPr>
          <p:cNvPr id="335" name="TextBox 2"/>
          <p:cNvSpPr/>
          <p:nvPr/>
        </p:nvSpPr>
        <p:spPr>
          <a:xfrm>
            <a:off x="1500120" y="5786280"/>
            <a:ext cx="7000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какому ярусу относятся данные виды облаков? На какой высоте они образуютс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12T07:14:19Z</dcterms:created>
  <dc:creator>Admin</dc:creator>
  <dc:description/>
  <dc:language>en-US</dc:language>
  <cp:lastModifiedBy>Admin</cp:lastModifiedBy>
  <dcterms:modified xsi:type="dcterms:W3CDTF">2013-01-24T13:02:44Z</dcterms:modified>
  <cp:revision>71</cp:revision>
  <dc:subject/>
  <dc:title>Слайд 1</dc:title>
</cp:coreProperties>
</file>