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4"/>
          </p:nvPr>
        </p:nvSpPr>
        <p:spPr>
          <a:xfrm>
            <a:off x="4280040" y="10155240"/>
            <a:ext cx="3265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9C838-AD8F-4316-B553-519CA2D469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D784-01AE-45F9-AD30-9B9E885609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EBF1-F2E8-42F3-9FF8-C22255F726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E3BD8-C210-4EAE-A954-8E4AED5D43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5DC44-31E1-4FEF-9051-2B5DFD0880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B4A61-8B81-4F51-A1AB-B319350EBA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D8547-2458-4CFD-A6EE-EF1CD404CB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07A92-A5C5-47A6-A7CA-4ADE6D2C5F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76370-5632-4849-BDE8-8A95DE7CCC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254BD-625C-44FB-B758-860B8BDBFD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FCF92-43B4-4760-8CF8-1C6AD2400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4DFCA-479F-4443-BF90-107ABD4043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786BD-514C-4A7C-8FF7-99F0E8E64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AAC53-F2EE-43BF-BEE5-8F8AA48EC8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5B02D-258F-451C-A64A-F8F70C8AEB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13B03-B379-4A32-99E9-43F795F225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78FF9-8BB7-45EA-9A1E-1D395F19CE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F12B3-783C-4F49-A5E9-CEEAEC103C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99054-2DE8-430F-8A94-556839EA41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3B26D-DA0E-442C-B87D-2E6E2A3070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29382-D374-4BE5-9FB9-641635040E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7FE0E-8AC8-4149-B468-0FE1501226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C07F7-3254-4EDE-94A0-494C022F92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E70DB-6F7C-4FAF-B9C9-107B3DF13F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7C486-7323-4B89-86F5-E288AD0761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91EC8-B13B-4B7F-A3C0-0F765283E7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88AC7-D5AA-4FCA-9E45-776C1CAFF7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11E-A081-4A31-8FB2-AB2FF832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DE5-55CE-4095-A7AA-F082D0F5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1D8-D791-4A7D-BB60-6B505B3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BDD-66D2-48EB-AC04-E4A7AE7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70E-FA05-4FC4-96D2-7474CB34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013-901B-4F55-9DCB-B3AA0092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6A8-3D4B-4152-BF30-0B3B7DEC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C27-C728-4DA9-97E1-CF77FBA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4A8-B588-4069-8E9C-E06B63E2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4AE-D870-471B-BB0C-5124D456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1F2-586D-480D-83A7-0B85A524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F18-36F8-464E-9AB4-90F04AE4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875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B82721-7A89-4AD8-AC23-40E25BC2D5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1785960"/>
            <a:ext cx="79167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Место и роль итоговой комплексной работы в системе оценочной деятельности 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34960"/>
            <a:ext cx="827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5920" y="285840"/>
            <a:ext cx="77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281240" cy="13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86240" y="4786200"/>
            <a:ext cx="3710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5400720"/>
            <a:ext cx="3417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Arial"/>
              </a:rPr>
              <a:t>Состав групп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Arial"/>
              </a:rPr>
              <a:t>Н.К. Расулова, А.П. Цветкова, И.И. Медведева, Е.Д. Ткачук, Е.Ю.Кулак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0040" y="2428920"/>
            <a:ext cx="82249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040" y="1357200"/>
            <a:ext cx="8286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160720" y="324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0720" y="1785960"/>
            <a:ext cx="79167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534960"/>
            <a:ext cx="827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85920" y="285840"/>
            <a:ext cx="77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86240" y="4786200"/>
            <a:ext cx="3710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5400720"/>
            <a:ext cx="3417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0040" y="2428920"/>
            <a:ext cx="82249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131920" y="111240"/>
            <a:ext cx="4845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0040" y="2428920"/>
            <a:ext cx="82249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1785960"/>
            <a:ext cx="755964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6165d"/>
                </a:solidFill>
                <a:latin typeface="Arial"/>
              </a:rPr>
              <a:t>На всех этапах развития школы при усилении  демократических   начал  в ее организации на первое место выдвигается вопрос поиска эффективных путей реализации оценочной функции учител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34960"/>
            <a:ext cx="827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5920" y="285840"/>
            <a:ext cx="77104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281240" cy="1303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86240" y="4786200"/>
            <a:ext cx="37101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14240" y="1619280"/>
            <a:ext cx="77454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6165d"/>
                </a:solidFill>
                <a:latin typeface="Arial"/>
              </a:rPr>
              <a:t>Главное назначение современного учителя- уметь не только обеспечить условия для развития личности, но и сделать этот процесс отлаженным и управляемым, обучить всему этому самих учащихся, сделать их мыслящими субъектами, не теряющимися в любой жизненной ситу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гимназия им.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858160" y="6550200"/>
            <a:ext cx="567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85920" y="720720"/>
            <a:ext cx="76532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6165d"/>
                </a:solidFill>
                <a:uFillTx/>
                <a:latin typeface="Arial"/>
              </a:rPr>
              <a:t>Принципы, которыми следует руководствоваться учителю при осуществлении оценочной деятельност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0"/>
            <a:ext cx="7710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25520" y="1703520"/>
            <a:ext cx="821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9640" y="1979640"/>
            <a:ext cx="7920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80"/>
                </a:solidFill>
                <a:latin typeface="Times New Roman"/>
              </a:rPr>
              <a:t>оценивание является постоянным процессом, естественным образом интегрированным в образовательную практи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оценивание может быть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только критериальным</a:t>
            </a:r>
            <a:r>
              <a:rPr b="1" lang="en-US" sz="2100" spc="-1" strike="noStrike">
                <a:solidFill>
                  <a:srgbClr val="333366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оцениваться с помощью отметки могут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только результаты деятельности ученика </a:t>
            </a: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и процесс их формирования,                   но не личные качества ребенка;  оценить можно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только то, чему учат</a:t>
            </a: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система оценивания выстраивается таким образом, чтобы учащиеся включались  в  контрольно-оценочную деятельность, приобретая навыки и привычку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 к самооценке   и взаимооценке</a:t>
            </a:r>
            <a:r>
              <a:rPr b="1" lang="en-US" sz="2100" spc="-1" strike="noStrike">
                <a:solidFill>
                  <a:srgbClr val="333366"/>
                </a:solidFill>
                <a:latin typeface="Times New Roman"/>
              </a:rPr>
              <a:t>;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80"/>
                </a:solidFill>
                <a:latin typeface="Times New Roman"/>
              </a:rPr>
              <a:t>в оценочной деятельности реализуется заложенный                  в стандарте принцип распределения ответственности между различными участниками образовательного процесса </a:t>
            </a:r>
            <a:r>
              <a:rPr b="1" lang="en-US" sz="21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85920" y="785880"/>
            <a:ext cx="765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85920" y="360360"/>
            <a:ext cx="7710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5520" y="1703520"/>
            <a:ext cx="8215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60360" y="1079640"/>
            <a:ext cx="702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Внутренняя оценка выставляетс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учителем, учеником, родителями,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Внешняя оценка проводится различными независимыми службам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мониторинговые исследования, аттестация ОУ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85920" y="785880"/>
            <a:ext cx="765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3720" y="1703520"/>
            <a:ext cx="8215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900000"/>
            <a:ext cx="864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Модули  оценочной деятельности: внутрення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Times New Roman"/>
              </a:rPr>
              <a:t>Оценка учител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Состояние: динамика, срез (тематический, промежуточный, итоговый), стартовая, текущ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Динамика: индивидуальный прог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Times New Roman"/>
              </a:rPr>
              <a:t>Оценка учени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Само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Взаимо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85920" y="785880"/>
            <a:ext cx="765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a206a"/>
                </a:solidFill>
                <a:latin typeface="Arial"/>
              </a:rPr>
              <a:t>Муниципальное общеобразовательное учреждение гимназия им. Ф.К.Салман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150920" cy="117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3720" y="1703520"/>
            <a:ext cx="8215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2160720"/>
            <a:ext cx="8640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Times New Roman"/>
              </a:rPr>
              <a:t>Итогов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Times New Roman"/>
              </a:rPr>
              <a:t>комплексная рабо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00040" y="2428920"/>
            <a:ext cx="82249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040" y="1357200"/>
            <a:ext cx="8286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80036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0040" y="2428920"/>
            <a:ext cx="82249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85920" y="285840"/>
            <a:ext cx="7710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040" y="1357200"/>
            <a:ext cx="8286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60720" y="324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силий</dc:creator>
  <dc:description/>
  <dc:language>en-US</dc:language>
  <cp:lastModifiedBy>Василий</cp:lastModifiedBy>
  <dcterms:modified xsi:type="dcterms:W3CDTF">2011-02-25T16:15:55Z</dcterms:modified>
  <cp:revision>21</cp:revision>
  <dc:subject/>
  <dc:title>Слайд 1</dc:title>
</cp:coreProperties>
</file>