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052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4"/>
          </p:nvPr>
        </p:nvSpPr>
        <p:spPr>
          <a:xfrm>
            <a:off x="4280040" y="10155240"/>
            <a:ext cx="32652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F30C0-591D-45E0-AC95-5FB9CCA6A0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38BA9-31F6-4161-B82F-5F81754B20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9D9F3-ACF6-49BD-8C11-7C6FB741FF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04CCE-5F4A-4F64-B838-A4861C6AE7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7D6BA-EE49-4953-AAE6-C50F543E63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C53F1-65F6-4176-9D18-E9DAD67042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02A12-E110-41D0-9F65-46D5911ACA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84BDD-60EC-457C-8DF2-CCA41D2C32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16255-F308-4C02-9810-247C350D7F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85898-2FE8-463A-B594-3A6773AC14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1D778-344F-40CD-9A49-737AB327D9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62880-6273-4D66-95A1-1893735063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A943F-52CC-4E05-A880-9BBCEAC635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378FB-F021-48C8-9202-D7336F0E16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A3201-B0C2-460A-BBB1-29ACE5A861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7506B-AC18-4709-ACF3-25A97F98AB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E5FFD-614F-46D4-8359-AE56CA1278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6E13A-027D-4A51-9FEB-DA1C0BCE41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1ACF5-2491-43E0-9437-7B518735FD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069F6-DAED-4E90-9C05-F2917D9B34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C5659-7B1E-4566-919F-94A5850E97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577D2-5A05-44D6-9C28-F25839A887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EEA26-1041-4872-931A-1749FD5373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8A6A0-3DAF-4D93-81F4-9EA7424D82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1457F-C69F-4CC7-848A-2C580FF659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F2211-67A9-4310-8335-A9BF083B7C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67924-23C7-4AA0-BA13-321CA1BF2F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64E-00B9-472B-AC77-4A89F43E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1CBC-DF79-43D3-AE18-DF8D6553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4C9-1AD3-4FC0-896E-9413EA94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54A3-0BFF-4695-A575-21026680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5995-628C-4D65-98DB-6BF1618C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E0CB-5907-484B-8B90-86F3D715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7915-363B-4906-8C4D-950AB3D8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650-5EC6-4058-A10F-B201B87F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9EA-29F5-4ABE-B50D-DF607318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C93E-E963-4A4E-AB0C-E1C90A8E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2AB-0A3E-41F3-BE9B-F3F966D3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F28-4820-4385-AF0E-4D4F43FF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6960" y="6246360"/>
            <a:ext cx="28875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5960" y="62463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AEBBC57-BA17-4E33-89C8-A7B742179B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20720" y="1785960"/>
            <a:ext cx="791676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Место и роль итоговой комплексной работы в системе оценочной деятельности уч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34960"/>
            <a:ext cx="8275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85920" y="285840"/>
            <a:ext cx="77104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 гимназия им. Ф.К.Салман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1281240" cy="13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286240" y="4786200"/>
            <a:ext cx="371016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5400720"/>
            <a:ext cx="34178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Arial"/>
              </a:rPr>
              <a:t>Состав групп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Arial"/>
              </a:rPr>
              <a:t>Н.К. Расулова, А.П. Цветкова, И.И. Медведева, Е.Д. Ткачук, Е.Ю.Кулак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00040" y="2428920"/>
            <a:ext cx="822492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85920" y="285840"/>
            <a:ext cx="7710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040" y="1357200"/>
            <a:ext cx="82868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6165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160720" y="3240"/>
            <a:ext cx="4844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20720" y="1785960"/>
            <a:ext cx="791676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534960"/>
            <a:ext cx="8275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85920" y="285840"/>
            <a:ext cx="77104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86240" y="4786200"/>
            <a:ext cx="371016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19640" y="5400720"/>
            <a:ext cx="34178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4844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00040" y="2428920"/>
            <a:ext cx="822492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1150920" cy="1174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131920" y="111240"/>
            <a:ext cx="4845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00040" y="2428920"/>
            <a:ext cx="822492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85920" y="285840"/>
            <a:ext cx="7710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 гимназия им. Ф.К.Салман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1150920" cy="117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00000" y="1785960"/>
            <a:ext cx="755964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6165d"/>
                </a:solidFill>
                <a:latin typeface="Arial"/>
              </a:rPr>
              <a:t>На всех этапах развития школы при усилении  демократических   начал  в ее организации на первое место выдвигается вопрос поиска эффективных путей реализации оценочной функции учител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534960"/>
            <a:ext cx="8275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85920" y="285840"/>
            <a:ext cx="77104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 гимназия им. Ф.К.Салман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1281240" cy="1303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86240" y="4786200"/>
            <a:ext cx="371016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14240" y="1619280"/>
            <a:ext cx="774540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16165d"/>
                </a:solidFill>
                <a:latin typeface="Arial"/>
              </a:rPr>
              <a:t>Главное назначение современного учителя- уметь не только обеспечить условия для развития личности, но и сделать этот процесс отлаженным и управляемым, обучить всему этому самих учащихся, сделать их мыслящими субъектами, не теряющимися в любой жизненной ситу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85920" y="285840"/>
            <a:ext cx="7710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гимназия им.Ф.К.Салман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1150920" cy="1174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858160" y="6550200"/>
            <a:ext cx="567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85920" y="720720"/>
            <a:ext cx="765324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16165d"/>
                </a:solidFill>
                <a:uFillTx/>
                <a:latin typeface="Arial"/>
              </a:rPr>
              <a:t>Принципы, которыми следует руководствоваться учителю при осуществлении оценочной деятельност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 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85920" y="0"/>
            <a:ext cx="7710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гимназия им. Ф.К.Салман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1150920" cy="1174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25520" y="1703520"/>
            <a:ext cx="821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79640" y="1979640"/>
            <a:ext cx="7920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80"/>
                </a:solidFill>
                <a:latin typeface="Times New Roman"/>
              </a:rPr>
              <a:t>оценивание является постоянным процессом, естественным образом интегрированным в образовательную практику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000080"/>
                </a:solidFill>
                <a:latin typeface="Times New Roman"/>
              </a:rPr>
              <a:t>оценивание может быть 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</a:rPr>
              <a:t>только критериальным</a:t>
            </a:r>
            <a:r>
              <a:rPr b="1" lang="en-US" sz="2100" spc="-1" strike="noStrike">
                <a:solidFill>
                  <a:srgbClr val="333366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000080"/>
                </a:solidFill>
                <a:latin typeface="Times New Roman"/>
              </a:rPr>
              <a:t>оцениваться с помощью отметки могут 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</a:rPr>
              <a:t>только результаты деятельности ученика </a:t>
            </a:r>
            <a:r>
              <a:rPr b="1" lang="en-US" sz="2100" spc="-1" strike="noStrike">
                <a:solidFill>
                  <a:srgbClr val="000080"/>
                </a:solidFill>
                <a:latin typeface="Times New Roman"/>
              </a:rPr>
              <a:t>и процесс их формирования,                   но не личные качества ребенка;  оценить можно 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</a:rPr>
              <a:t>только то, чему учат</a:t>
            </a:r>
            <a:r>
              <a:rPr b="1" lang="en-US" sz="2100" spc="-1" strike="noStrike">
                <a:solidFill>
                  <a:srgbClr val="000080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000080"/>
                </a:solidFill>
                <a:latin typeface="Times New Roman"/>
              </a:rPr>
              <a:t>система оценивания выстраивается таким образом, чтобы учащиеся включались  в  контрольно-оценочную деятельность, приобретая навыки и привычку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</a:rPr>
              <a:t> к самооценке   и взаимооценке</a:t>
            </a:r>
            <a:r>
              <a:rPr b="1" lang="en-US" sz="2100" spc="-1" strike="noStrike">
                <a:solidFill>
                  <a:srgbClr val="333366"/>
                </a:solidFill>
                <a:latin typeface="Times New Roman"/>
              </a:rPr>
              <a:t>;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80"/>
                </a:solidFill>
                <a:latin typeface="Times New Roman"/>
              </a:rPr>
              <a:t>в оценочной деятельности реализуется заложенный                  в стандарте принцип распределения ответственности между различными участниками образовательного процесса </a:t>
            </a:r>
            <a:r>
              <a:rPr b="1" lang="en-US" sz="21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85920" y="785880"/>
            <a:ext cx="76532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 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85920" y="360360"/>
            <a:ext cx="7710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гимназия им. Ф.К.Салман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1150920" cy="1174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25520" y="1703520"/>
            <a:ext cx="8215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60360" y="1079640"/>
            <a:ext cx="70200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Внутренняя оценка выставляется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учителем, учеником, родителями, образовательным учрежде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Внешняя оценка проводится различными независимыми службами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мониторинговые исследования, аттестация ОУ и т.п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85920" y="785880"/>
            <a:ext cx="76532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 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5920" y="285840"/>
            <a:ext cx="7710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 гимназия им. Ф.К.Салман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1150920" cy="1174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23720" y="1703520"/>
            <a:ext cx="8215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920" y="900000"/>
            <a:ext cx="864072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Модули  оценочной деятельности: внутренняя 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000080"/>
                </a:solidFill>
                <a:uFillTx/>
                <a:latin typeface="Times New Roman"/>
              </a:rPr>
              <a:t>Оценка учител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Состояние: динамика, срез (тематический, промежуточный, итоговый), стартовая, текущ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Динамика: индивидуальный прогр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000080"/>
                </a:solidFill>
                <a:uFillTx/>
                <a:latin typeface="Times New Roman"/>
              </a:rPr>
              <a:t>Оценка ученик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Само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Взаимо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85920" y="785880"/>
            <a:ext cx="76532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 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85920" y="285840"/>
            <a:ext cx="7710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 гимназия им. Ф.К.Салман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1150920" cy="1174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23720" y="1703520"/>
            <a:ext cx="8215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2160720"/>
            <a:ext cx="864072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80"/>
                </a:solidFill>
                <a:latin typeface="Times New Roman"/>
              </a:rPr>
              <a:t>Итогова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80"/>
                </a:solidFill>
                <a:latin typeface="Times New Roman"/>
              </a:rPr>
              <a:t>комплексная работ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00040" y="2428920"/>
            <a:ext cx="822492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85920" y="285840"/>
            <a:ext cx="7710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040" y="1357200"/>
            <a:ext cx="82868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6165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80036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00040" y="2428920"/>
            <a:ext cx="822492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85920" y="285840"/>
            <a:ext cx="7710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040" y="1357200"/>
            <a:ext cx="82868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6165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60720" y="3240"/>
            <a:ext cx="4844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силий</dc:creator>
  <dc:description/>
  <dc:language>en-US</dc:language>
  <cp:lastModifiedBy>Василий</cp:lastModifiedBy>
  <dcterms:modified xsi:type="dcterms:W3CDTF">2011-02-25T16:15:55Z</dcterms:modified>
  <cp:revision>21</cp:revision>
  <dc:subject/>
  <dc:title>Слайд 1</dc:title>
</cp:coreProperties>
</file>