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0520" cy="39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4"/>
          </p:nvPr>
        </p:nvSpPr>
        <p:spPr>
          <a:xfrm>
            <a:off x="4280040" y="10155240"/>
            <a:ext cx="32652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56699-1492-4001-BB58-F53F7F20E2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28004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0B5DE6-F9FF-49BC-BEE1-465E136F53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66E862-DE79-40BF-928C-40146FF0EA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28004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8C289-2C39-44B7-8D86-F1208588CB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6FA31-B82F-47CD-B507-498BA31E8C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28004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7DB002-1FCA-46E3-B9E1-FC313536DF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59855-FB6A-4082-A6D0-3DE43F7A23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28004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DD74F-338B-45CB-A8C0-A9B9259F5E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B7D7A-3E65-4633-B92C-FDD89D0C67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28004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96B99-E402-4427-8322-2209DD45DA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3CF6D-FEC7-46AC-89F7-FE896099E5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28004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289CD-59F0-40CE-A9DD-AE1D3C2752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AE71B-131C-43B3-9580-EC96036DFA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28004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A3EC9-AADE-4844-8737-81EA9AE107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9EE88-981D-49CE-9537-1A487319DD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28004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6ED07-CBDE-43BE-A2EA-9493778181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EBBF2-9195-448D-8991-4F16BAFFD4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28004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06CC8-BF4E-4DD4-878B-5A10064BF2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690CB-44FD-4251-92AC-F352DCCA3F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28004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71B55-6A98-41F8-904E-B2936564C3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90B22-4407-4C9C-90D8-CC40AE6F5B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28004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A85CF-5EAA-4B70-A534-0F1ABCABE3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8F5B7-9D24-4917-8F45-2C07725F99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28004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A08C8-C405-4DEC-A0EF-D5685A0CBE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02558-4C79-4C18-BD7D-4FD71E8BAF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28004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EA628-06A0-4E45-943B-8E5244C575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E9D99-DF79-49DF-A939-794B872705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B7B0-6A84-4821-BD8E-C0104E081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671A-6A89-4113-A1CA-96F18FDE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4817-6BD6-45FC-A53D-5F3B9F28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7306-F902-4330-85EB-0CC75760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8FA5-1762-4C44-AB52-6B453462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500A-75C1-4E19-ADCB-8A4E6C0B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BCAF-2069-4A56-80DB-370B6123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F6F6-D1B5-4333-BD45-D5C6C314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9172-16F6-4863-8E3E-FBE43BAD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F5D4-E973-473F-B4FE-24514C65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6784-A4F2-4662-9794-4556DCC4D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57A2-AE29-4563-BFF8-BBED5CA78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6360"/>
            <a:ext cx="21193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6960" y="6246360"/>
            <a:ext cx="28875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5960" y="6246360"/>
            <a:ext cx="21193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89ABF8B-0F32-48DC-962A-054028F8E4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20720" y="1785960"/>
            <a:ext cx="7916760" cy="30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Место и роль итоговой комплексной работы в системе оценочной деятельности учит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534960"/>
            <a:ext cx="8275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85920" y="285840"/>
            <a:ext cx="77104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4a206a"/>
                </a:solidFill>
                <a:latin typeface="Arial"/>
              </a:rPr>
              <a:t>Муниципальное общеобразовательное учреждение гимназия им. Ф.К.Салмано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1281240" cy="13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286240" y="4786200"/>
            <a:ext cx="371016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19640" y="5400720"/>
            <a:ext cx="341784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80"/>
                </a:solidFill>
                <a:latin typeface="Arial"/>
              </a:rPr>
              <a:t>Состав групп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80"/>
                </a:solidFill>
                <a:latin typeface="Arial"/>
              </a:rPr>
              <a:t>Н.К. Расулова, А.П. Цветкова, И.И. Медведева, Е.Д. Ткачук, Е.Ю.Кулако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00040" y="2428920"/>
            <a:ext cx="822492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85920" y="285840"/>
            <a:ext cx="77104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0040" y="1357200"/>
            <a:ext cx="82868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16165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160720" y="3240"/>
            <a:ext cx="4844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20720" y="1785960"/>
            <a:ext cx="7916760" cy="30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534960"/>
            <a:ext cx="8275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85920" y="285840"/>
            <a:ext cx="77104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86240" y="4786200"/>
            <a:ext cx="371016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19640" y="5400720"/>
            <a:ext cx="341784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340000" y="0"/>
            <a:ext cx="4844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00040" y="2428920"/>
            <a:ext cx="822492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42920" y="0"/>
            <a:ext cx="1150920" cy="11746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2131920" y="111240"/>
            <a:ext cx="48452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00040" y="2428920"/>
            <a:ext cx="822492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85920" y="285840"/>
            <a:ext cx="77104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a206a"/>
                </a:solidFill>
                <a:latin typeface="Arial"/>
              </a:rPr>
              <a:t>Муниципальное общеобразовательное учреждение гимназия им. Ф.К.Салмано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42920" y="0"/>
            <a:ext cx="1150920" cy="117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00000" y="1785960"/>
            <a:ext cx="7559640" cy="30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16165d"/>
                </a:solidFill>
                <a:latin typeface="Arial"/>
              </a:rPr>
              <a:t>На всех этапах развития школы при усилении  демократических   начал  в ее организации на первое место выдвигается вопрос поиска эффективных путей реализации оценочной функции учителя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534960"/>
            <a:ext cx="8275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85920" y="285840"/>
            <a:ext cx="77104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4a206a"/>
                </a:solidFill>
                <a:latin typeface="Arial"/>
              </a:rPr>
              <a:t>Муниципальное общеобразовательное учреждение гимназия им. Ф.К.Салмано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1281240" cy="1303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286240" y="4786200"/>
            <a:ext cx="371016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14240" y="1619280"/>
            <a:ext cx="774540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6165d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16165d"/>
                </a:solidFill>
                <a:latin typeface="Arial"/>
              </a:rPr>
              <a:t>Главное назначение современного учителя- уметь не только обеспечить условия для развития личности, но и сделать этот процесс отлаженным и управляемым, обучить всему этому самих учащихся, сделать их мыслящими субъектами, не теряющимися в любой жизненной ситу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85920" y="285840"/>
            <a:ext cx="77104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a206a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a206a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4a206a"/>
                </a:solidFill>
                <a:latin typeface="Arial"/>
              </a:rPr>
              <a:t>гимназия им.Ф.К.Салмано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2920" y="0"/>
            <a:ext cx="1150920" cy="11746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858160" y="6550200"/>
            <a:ext cx="567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85920" y="720720"/>
            <a:ext cx="765324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16165d"/>
                </a:solidFill>
                <a:uFillTx/>
                <a:latin typeface="Arial"/>
              </a:rPr>
              <a:t>Принципы, которыми следует руководствоваться учителю при осуществлении оценочной деятельности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16165d"/>
                </a:solidFill>
                <a:latin typeface="Arial"/>
              </a:rPr>
              <a:t> </a:t>
            </a: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85920" y="0"/>
            <a:ext cx="7710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a206a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a206a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4a206a"/>
                </a:solidFill>
                <a:latin typeface="Arial"/>
              </a:rPr>
              <a:t>гимназия им. Ф.К.Салмано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42920" y="0"/>
            <a:ext cx="1150920" cy="1174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25520" y="1703520"/>
            <a:ext cx="821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79640" y="1979640"/>
            <a:ext cx="7920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000080"/>
                </a:solidFill>
                <a:latin typeface="Times New Roman"/>
              </a:rPr>
              <a:t>оценивание является постоянным процессом, естественным образом интегрированным в образовательную практику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000080"/>
                </a:solidFill>
                <a:latin typeface="Times New Roman"/>
              </a:rPr>
              <a:t>оценивание может быть </a:t>
            </a:r>
            <a:r>
              <a:rPr b="1" lang="en-US" sz="2100" spc="-1" strike="noStrike">
                <a:solidFill>
                  <a:srgbClr val="ff0000"/>
                </a:solidFill>
                <a:latin typeface="Times New Roman"/>
              </a:rPr>
              <a:t>только критериальным</a:t>
            </a:r>
            <a:r>
              <a:rPr b="1" lang="en-US" sz="2100" spc="-1" strike="noStrike">
                <a:solidFill>
                  <a:srgbClr val="333366"/>
                </a:solidFill>
                <a:latin typeface="Times New Roman"/>
              </a:rPr>
              <a:t>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000080"/>
                </a:solidFill>
                <a:latin typeface="Times New Roman"/>
              </a:rPr>
              <a:t>оцениваться с помощью отметки могут </a:t>
            </a:r>
            <a:r>
              <a:rPr b="1" lang="en-US" sz="2100" spc="-1" strike="noStrike">
                <a:solidFill>
                  <a:srgbClr val="ff0000"/>
                </a:solidFill>
                <a:latin typeface="Times New Roman"/>
              </a:rPr>
              <a:t>только результаты деятельности ученика </a:t>
            </a:r>
            <a:r>
              <a:rPr b="1" lang="en-US" sz="2100" spc="-1" strike="noStrike">
                <a:solidFill>
                  <a:srgbClr val="000080"/>
                </a:solidFill>
                <a:latin typeface="Times New Roman"/>
              </a:rPr>
              <a:t>и процесс их формирования,                   но не личные качества ребенка;  оценить можно </a:t>
            </a:r>
            <a:r>
              <a:rPr b="1" lang="en-US" sz="2100" spc="-1" strike="noStrike">
                <a:solidFill>
                  <a:srgbClr val="ff0000"/>
                </a:solidFill>
                <a:latin typeface="Times New Roman"/>
              </a:rPr>
              <a:t>только то, чему учат</a:t>
            </a:r>
            <a:r>
              <a:rPr b="1" lang="en-US" sz="2100" spc="-1" strike="noStrike">
                <a:solidFill>
                  <a:srgbClr val="000080"/>
                </a:solidFill>
                <a:latin typeface="Times New Roman"/>
              </a:rPr>
              <a:t>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000080"/>
                </a:solidFill>
                <a:latin typeface="Times New Roman"/>
              </a:rPr>
              <a:t>система оценивания выстраивается таким образом, чтобы учащиеся включались  в  контрольно-оценочную деятельность, приобретая навыки и привычку</a:t>
            </a:r>
            <a:r>
              <a:rPr b="1" lang="en-US" sz="2100" spc="-1" strike="noStrike">
                <a:solidFill>
                  <a:srgbClr val="ff0000"/>
                </a:solidFill>
                <a:latin typeface="Times New Roman"/>
              </a:rPr>
              <a:t> к самооценке   и взаимооценке</a:t>
            </a:r>
            <a:r>
              <a:rPr b="1" lang="en-US" sz="2100" spc="-1" strike="noStrike">
                <a:solidFill>
                  <a:srgbClr val="333366"/>
                </a:solidFill>
                <a:latin typeface="Times New Roman"/>
              </a:rPr>
              <a:t>;</a:t>
            </a:r>
            <a:r>
              <a:rPr b="1" lang="en-US" sz="21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000080"/>
                </a:solidFill>
                <a:latin typeface="Times New Roman"/>
              </a:rPr>
              <a:t>в оценочной деятельности реализуется заложенный                  в стандарте принцип распределения ответственности между различными участниками образовательного процесса </a:t>
            </a:r>
            <a:r>
              <a:rPr b="1" lang="en-US" sz="21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85920" y="785880"/>
            <a:ext cx="76532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16165d"/>
                </a:solidFill>
                <a:latin typeface="Arial"/>
              </a:rPr>
              <a:t> </a:t>
            </a: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85920" y="360360"/>
            <a:ext cx="7710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a206a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a206a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4a206a"/>
                </a:solidFill>
                <a:latin typeface="Arial"/>
              </a:rPr>
              <a:t>гимназия им. Ф.К.Салмано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42920" y="0"/>
            <a:ext cx="1150920" cy="1174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25520" y="1703520"/>
            <a:ext cx="82152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60360" y="1079640"/>
            <a:ext cx="702000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Внутренняя оценка выставляется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учителем, учеником, родителями, образовательным учреждени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Внешняя оценка проводится различными независимыми службами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мониторинговые исследования, аттестация ОУ и т.п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85920" y="785880"/>
            <a:ext cx="76532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16165d"/>
                </a:solidFill>
                <a:latin typeface="Arial"/>
              </a:rPr>
              <a:t> </a:t>
            </a: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85920" y="285840"/>
            <a:ext cx="77104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a206a"/>
                </a:solidFill>
                <a:latin typeface="Arial"/>
              </a:rPr>
              <a:t>Муниципальное общеобразовательное учреждение гимназия им. Ф.К.Салмано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42920" y="0"/>
            <a:ext cx="1150920" cy="1174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23720" y="1703520"/>
            <a:ext cx="8215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8920" y="900000"/>
            <a:ext cx="864072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Times New Roman"/>
              </a:rPr>
              <a:t>Модули  оценочной деятельности: внутренняя оце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000080"/>
                </a:solidFill>
                <a:uFillTx/>
                <a:latin typeface="Times New Roman"/>
              </a:rPr>
              <a:t>Оценка учителя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Times New Roman"/>
              </a:rPr>
              <a:t>Состояние: динамика, срез (тематический, промежуточный, итоговый), стартовая, текущ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Times New Roman"/>
              </a:rPr>
              <a:t>Динамика: индивидуальный прогре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000080"/>
                </a:solidFill>
                <a:uFillTx/>
                <a:latin typeface="Times New Roman"/>
              </a:rPr>
              <a:t>Оценка ученик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80"/>
                </a:solidFill>
                <a:latin typeface="Times New Roman"/>
              </a:rPr>
              <a:t>Самооце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Times New Roman"/>
              </a:rPr>
              <a:t>Взаимооце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85920" y="785880"/>
            <a:ext cx="76532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16165d"/>
                </a:solidFill>
                <a:latin typeface="Arial"/>
              </a:rPr>
              <a:t> </a:t>
            </a: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85920" y="285840"/>
            <a:ext cx="77104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a206a"/>
                </a:solidFill>
                <a:latin typeface="Arial"/>
              </a:rPr>
              <a:t>Муниципальное общеобразовательное учреждение гимназия им. Ф.К.Салмано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42920" y="0"/>
            <a:ext cx="1150920" cy="1174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23720" y="1703520"/>
            <a:ext cx="8215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920" y="2160720"/>
            <a:ext cx="864072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000080"/>
                </a:solidFill>
                <a:latin typeface="Times New Roman"/>
              </a:rPr>
              <a:t>Итоговая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000080"/>
                </a:solidFill>
                <a:latin typeface="Times New Roman"/>
              </a:rPr>
              <a:t>комплексная работ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00040" y="2428920"/>
            <a:ext cx="822492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85920" y="285840"/>
            <a:ext cx="77104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0040" y="1357200"/>
            <a:ext cx="82868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16165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800360" y="0"/>
            <a:ext cx="5400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00040" y="2428920"/>
            <a:ext cx="822492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85920" y="285840"/>
            <a:ext cx="77104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0040" y="1357200"/>
            <a:ext cx="82868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16165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160720" y="3240"/>
            <a:ext cx="4844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асилий</dc:creator>
  <dc:description/>
  <dc:language>en-US</dc:language>
  <cp:lastModifiedBy>Василий</cp:lastModifiedBy>
  <dcterms:modified xsi:type="dcterms:W3CDTF">2011-02-25T16:15:55Z</dcterms:modified>
  <cp:revision>21</cp:revision>
  <dc:subject/>
  <dc:title>Слайд 1</dc:title>
</cp:coreProperties>
</file>