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6.png" ContentType="image/png"/>
  <Override PartName="/ppt/media/image14.wmf" ContentType="image/x-wmf"/>
  <Override PartName="/ppt/media/image2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coin.wav" ContentType="audio/x-wav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FFB-1EC4-48A2-8DFB-015CED61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339-A897-470C-9809-7EEBD9F0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4D7-D570-461E-8ED2-75A45099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965-8FC4-4637-AAC4-F0BCBB4D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63B4-734E-4FD9-8D10-0ADF6AC1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753AC-4CE6-4642-AC8D-7044E73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A3ED1-2B41-4519-8750-8CFB6B20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3B81-7C69-4DA4-86FB-982536F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B3550-99D6-428D-8CC7-00DDA06A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067DC-E973-440B-8AC2-4BFD78E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CE89-2037-49D2-9AE9-BCC6E7E1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816-8273-4E3C-BB06-17EA92F2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4161A-A349-47A9-A8D1-3C23F8B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A57A5-0061-4CAC-B221-C82FBFC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4FC3-2BEA-4A6C-AC16-E63784C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C042A-AA29-43AE-B2B8-5C72929D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91105-0148-457C-9630-7D5D2BBE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ECD-28EC-470F-86D5-59E2551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F90-E6C6-44D7-AC12-468F0E81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B80-4755-4597-B656-1D203E0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3B1-1652-4613-80E0-2FF41E5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456-2B42-4EF1-9AFC-8863FB47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607-2856-41B8-8296-755EEE2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C71-E8DF-49A2-9FEC-FE4E58F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3D7-0134-47BC-A6A0-74B3974BD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7731-F211-437F-A996-BBF0BD6746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Влияние здоровья на эффективность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учебно-воспитательной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работ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343400" y="3048120"/>
            <a:ext cx="4572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Выступление учителя биологии-хим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МОУ СОШ №2 г.Унеч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Брянской области Братяковой Светланы Борис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0"/>
          <p:cNvSpPr txBox="1"/>
          <p:nvPr/>
        </p:nvSpPr>
        <p:spPr>
          <a:xfrm>
            <a:off x="914400" y="228600"/>
            <a:ext cx="732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желудочно-кишечные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0" y="914400"/>
          <a:ext cx="9144000" cy="617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1440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5" name="coin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143000" y="228600"/>
            <a:ext cx="701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олезни органов дыха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533520" y="228600"/>
            <a:ext cx="8286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олезни мочевыделительной сис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762120" y="228600"/>
            <a:ext cx="761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костно-мышечные заболе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533520" y="228600"/>
            <a:ext cx="83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сихо-неврологические заболевания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371600" y="228600"/>
            <a:ext cx="6095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олезни кров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905120" y="380880"/>
            <a:ext cx="487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тугоух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523880" y="380880"/>
            <a:ext cx="6248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Times New Roman"/>
              </a:rPr>
              <a:t>снижение з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219320" y="228600"/>
            <a:ext cx="703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еличение щитовидной желез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066680" y="228600"/>
            <a:ext cx="716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гето-сосудистая дистония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0" y="838080"/>
          <a:ext cx="91105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10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-457200" y="838080"/>
          <a:ext cx="96012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96012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447920" y="304920"/>
            <a:ext cx="6400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алиды детсва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03280" y="1125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685800" y="457200"/>
            <a:ext cx="7515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дивидуальное обучение учащих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0" name="Object 5"/>
          <p:cNvGraphicFramePr/>
          <p:nvPr/>
        </p:nvGraphicFramePr>
        <p:xfrm>
          <a:off x="0" y="1920960"/>
          <a:ext cx="9144000" cy="47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4400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066680" y="3049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 педагогов в больни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0" y="1295280"/>
          <a:ext cx="8805960" cy="54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0596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838080" y="2286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нализ заболеваемости учителе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5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3"/>
          <p:cNvGraphicFramePr/>
          <p:nvPr/>
        </p:nvGraphicFramePr>
        <p:xfrm>
          <a:off x="0" y="4572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0" y="2666880"/>
            <a:ext cx="19051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616" y="-39825"/>
                </a:moveTo>
                <a:lnTo>
                  <a:pt x="22464" y="400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Здоровый образ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-55%</a:t>
            </a:r>
            <a:r>
              <a:rPr b="0" lang="ru-RU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6248520" y="2724120"/>
            <a:ext cx="2895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79" y="-45225"/>
                </a:moveTo>
                <a:lnTo>
                  <a:pt x="-568" y="40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Экологическое состояние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20-2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228600" y="5410080"/>
            <a:ext cx="3429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720" y="-140400"/>
                </a:moveTo>
                <a:lnTo>
                  <a:pt x="22080" y="4000"/>
                </a:lnTo>
              </a:path>
              <a:path w="21600" h="21600">
                <a:moveTo>
                  <a:pt x="22080" y="0"/>
                </a:moveTo>
                <a:lnTo>
                  <a:pt x="2208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Наслед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5-20%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5257800"/>
            <a:ext cx="35053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870" y="-136350"/>
                </a:moveTo>
                <a:lnTo>
                  <a:pt x="-470" y="4000"/>
                </a:lnTo>
              </a:path>
              <a:path w="21600" h="21600">
                <a:moveTo>
                  <a:pt x="-470" y="0"/>
                </a:moveTo>
                <a:lnTo>
                  <a:pt x="-47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Здравоохра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0%</a:t>
            </a:r>
            <a:r>
              <a:rPr b="1" lang="ru-RU" sz="2400" spc="-1" strike="noStrike">
                <a:solidFill>
                  <a:srgbClr val="ff66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1447920" y="228600"/>
            <a:ext cx="586728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ДОРОВЬЕ ЧЕЛОВЕКА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0021_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 rot="5400000">
            <a:off x="-2356560" y="2991600"/>
            <a:ext cx="6172200" cy="798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здоровый обра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 rot="5400000">
            <a:off x="5186880" y="3042360"/>
            <a:ext cx="6248160" cy="77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нездоровый обра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16"/>
          <p:cNvSpPr txBox="1"/>
          <p:nvPr/>
        </p:nvSpPr>
        <p:spPr>
          <a:xfrm>
            <a:off x="3124080" y="37339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6324480" y="419112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9"/>
          <p:cNvSpPr/>
          <p:nvPr/>
        </p:nvSpPr>
        <p:spPr>
          <a:xfrm flipH="1" flipV="1">
            <a:off x="1828800" y="4262040"/>
            <a:ext cx="990720" cy="11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2" name="coin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17640" y="380880"/>
            <a:ext cx="822636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доровый образ жизн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38080" y="1600200"/>
            <a:ext cx="289584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лноц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38080" y="2666880"/>
            <a:ext cx="3810240" cy="838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работой, комфо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838080" y="3657600"/>
            <a:ext cx="487692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Высо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едицинск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838080" y="4876920"/>
            <a:ext cx="4572000" cy="7617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сихофизи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343400" y="1523880"/>
            <a:ext cx="4267080" cy="838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Активная жизн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зи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105520" y="2514600"/>
            <a:ext cx="373356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Сбалансирова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ит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867280" y="3581280"/>
            <a:ext cx="3276720" cy="1447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Независ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Эконом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и матер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495680" y="5715000"/>
            <a:ext cx="4648320" cy="914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Регуляр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Физическ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3" name="coin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838080" y="304920"/>
            <a:ext cx="74678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ДОРОВЫЙ</a:t>
            </a:r>
            <a:endParaRPr b="1" lang="en-US" sz="4000" spc="1" strike="noStrike">
              <a:ln w="1908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 ЖИЗНИ</a:t>
            </a:r>
            <a:endParaRPr b="1" lang="en-US" sz="4000" spc="1" strike="noStrike">
              <a:ln w="19080">
                <a:solidFill>
                  <a:srgbClr val="6600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33520" y="1600200"/>
            <a:ext cx="350496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еполноце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33520" y="5105520"/>
            <a:ext cx="4267080" cy="12189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ереутомл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е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жизненной ситу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219320" y="2743200"/>
            <a:ext cx="3504960" cy="9144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Соц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асс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029200" y="2819520"/>
            <a:ext cx="411480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ару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семейной ситу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133720" y="3733920"/>
            <a:ext cx="3504960" cy="990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аруше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ежим пи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495680" y="1600200"/>
            <a:ext cx="3505320" cy="12193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из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едицин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638680" y="3962520"/>
            <a:ext cx="35053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Вред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ривы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257800" y="5257800"/>
            <a:ext cx="3886200" cy="990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иподинам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6" name="coin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373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0" y="3049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А каковы результа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регулярны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профилактически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медицинских осмотр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учащихся нашей школ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за 11 лет</a:t>
            </a:r>
            <a:r>
              <a:rPr b="1" lang="ru-RU" sz="4400" spc="-1" strike="noStrike">
                <a:solidFill>
                  <a:srgbClr val="0032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609480" y="228600"/>
            <a:ext cx="756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дечно-сосудистые заболевани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42:56Z</dcterms:created>
  <dc:creator>Алёна</dc:creator>
  <dc:description/>
  <dc:language>en-US</dc:language>
  <cp:lastModifiedBy>Братякова</cp:lastModifiedBy>
  <dcterms:modified xsi:type="dcterms:W3CDTF">2011-11-06T05:35:02Z</dcterms:modified>
  <cp:revision>24</cp:revision>
  <dc:subject/>
  <dc:title>Слайд 1</dc:title>
</cp:coreProperties>
</file>