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DE5E-42E0-4C75-A13D-93410CEF8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B3E0-3238-4D45-982B-E8B8918B9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CDF-AE05-4A9F-B16B-476D7A8D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965-CD83-43A7-8695-353EC7E8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744-7F07-42E9-939A-B3000EA4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B21-5853-48DD-AEC3-09195C59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845-07D8-4E3D-B11D-3995AD80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426-6331-47E9-B62A-0094F77C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678-373A-4CC1-A018-9BEB4D97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6CE-48DD-4143-9233-E296DC7D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EBB-080C-400C-83A6-1C125DC5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2EF-6946-4CFA-9E82-22778DEE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8EF-FAC8-43E5-987F-008AE58B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B45-FB37-488C-9E01-22045046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FD0E-0E85-4036-A8EA-05FA52089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бучающий семинар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для тьюторов проекта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«Школьный стандарт профила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26920" y="5444640"/>
            <a:ext cx="6359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Ведущ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Екатерина Львовна Лашевская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начальник информационно-методического отдела, 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Галина Ивановна Васильева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2133720"/>
            <a:ext cx="8229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«Организация и проведение мониторинга профилактической деятельности образовательного учреждения в рамках школьного стандарта профилакт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18864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Оценк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ариан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105440" cy="5327640"/>
          </a:xfrm>
          <a:prstGeom prst="rect">
            <a:avLst/>
          </a:prstGeom>
          <a:noFill/>
          <a:ln w="9360">
            <a:solidFill>
              <a:srgbClr val="333399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ект осущест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ш проект – лучши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ффективность реализации проекта. Как усовершенств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рос заказ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0000" y="1268280"/>
            <a:ext cx="3924360" cy="5400720"/>
          </a:xfrm>
          <a:prstGeom prst="rect">
            <a:avLst/>
          </a:prstGeom>
          <a:noFill/>
          <a:ln w="9360">
            <a:solidFill>
              <a:srgbClr val="333399"/>
            </a:solidFill>
            <a:round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жна группа для сравнения и внешний экспе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процесса и промежуточн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в рамках  определенного фор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170028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285264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422100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5877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Этапы монитор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8715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эта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определение ц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готовка плана проведения исслед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этап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разработка (подбор) инструментар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этап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этап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ботка и анализ полученных результа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этап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ставление отчета и выработка рекоменд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 этап – определение целей, подготовка плана проведения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ценка исходн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ановка цели мониторин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объекта мониторин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лиц, осуществляющих монитори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формы и объема мониторинга, времени на его разработку и реализ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казание потребителе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2 этап – разработка (подбор) инструмент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684360" y="1773360"/>
            <a:ext cx="1655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3132000" y="4149720"/>
            <a:ext cx="2016360" cy="1297080"/>
          </a:xfrm>
          <a:prstGeom prst="ellipse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скуссии 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блюд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611280" y="4797360"/>
            <a:ext cx="1873080" cy="936720"/>
          </a:xfrm>
          <a:prstGeom prst="ellipse">
            <a:avLst/>
          </a:prstGeom>
          <a:solidFill>
            <a:srgbClr val="ffe5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е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2340000" y="5661000"/>
            <a:ext cx="1655640" cy="914400"/>
          </a:xfrm>
          <a:prstGeom prst="ellipse">
            <a:avLst/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в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5076720" y="3213000"/>
            <a:ext cx="2016360" cy="914400"/>
          </a:xfrm>
          <a:prstGeom prst="ellipse">
            <a:avLst/>
          </a:prstGeom>
          <a:solidFill>
            <a:srgbClr val="c3f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сужден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кус-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3635280" y="1413000"/>
            <a:ext cx="1944720" cy="1201680"/>
          </a:xfrm>
          <a:prstGeom prst="ellipse">
            <a:avLst/>
          </a:prstGeom>
          <a:solidFill>
            <a:srgbClr val="ffe5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мент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6372360" y="4292640"/>
            <a:ext cx="2160360" cy="10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то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6300720" y="1844640"/>
            <a:ext cx="2158920" cy="1224000"/>
          </a:xfrm>
          <a:prstGeom prst="ellipse">
            <a:avLst/>
          </a:prstGeom>
          <a:solidFill>
            <a:srgbClr val="c8d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а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684360" y="1773360"/>
            <a:ext cx="1655640" cy="1008000"/>
          </a:xfrm>
          <a:prstGeom prst="ellipse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0280" y="3559680"/>
            <a:ext cx="1433880" cy="630720"/>
          </a:xfrm>
          <a:prstGeom prst="rect">
            <a:avLst/>
          </a:prstGeom>
          <a:solidFill>
            <a:srgbClr val="c3fdc9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4859280" y="5516640"/>
            <a:ext cx="2305080" cy="1131840"/>
          </a:xfrm>
          <a:prstGeom prst="ellipse">
            <a:avLst/>
          </a:prstGeom>
          <a:solidFill>
            <a:srgbClr val="ffe5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ализ соч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Письмо другу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2556000" y="2852640"/>
            <a:ext cx="2301840" cy="892440"/>
          </a:xfrm>
          <a:prstGeom prst="ellipse">
            <a:avLst/>
          </a:prstGeom>
          <a:solidFill>
            <a:srgbClr val="c8d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в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 этап – сбор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соответствии с разработанным инструментар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этап – обработка и анализ получен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тизация полученны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чественный и качественный анализ полученны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решений, которые необходимо принять на основе полученн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5 этап – составление отчет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и выработка рекоменд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859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работка рекоменд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ректировка реализации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ирование дальнейше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формирование потребителей: учащихся, родителей, педагогов, социальных партн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1120" y="179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Критерии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250920" y="1081080"/>
            <a:ext cx="2449440" cy="2492280"/>
          </a:xfrm>
          <a:prstGeom prst="borderCallout1">
            <a:avLst>
              <a:gd name="adj1" fmla="val 18750"/>
              <a:gd name="adj2" fmla="val -8333"/>
              <a:gd name="adj3" fmla="val -14694"/>
              <a:gd name="adj4" fmla="val 75143"/>
            </a:avLst>
          </a:prstGeom>
          <a:solidFill>
            <a:srgbClr val="d3ebed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системы организации профилактичес-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. 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276720" y="1125360"/>
            <a:ext cx="2449440" cy="2448000"/>
          </a:xfrm>
          <a:prstGeom prst="borderCallout1">
            <a:avLst>
              <a:gd name="adj1" fmla="val 18750"/>
              <a:gd name="adj2" fmla="val -8333"/>
              <a:gd name="adj3" fmla="val -17393"/>
              <a:gd name="adj4" fmla="val 54643"/>
            </a:avLst>
          </a:prstGeom>
          <a:solidFill>
            <a:srgbClr val="d3ebed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содержания профилактичес-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тр. 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443640" y="1125360"/>
            <a:ext cx="2340000" cy="2374920"/>
          </a:xfrm>
          <a:prstGeom prst="borderCallout1">
            <a:avLst>
              <a:gd name="adj1" fmla="val 18750"/>
              <a:gd name="adj2" fmla="val -8333"/>
              <a:gd name="adj3" fmla="val -17263"/>
              <a:gd name="adj4" fmla="val 8333"/>
            </a:avLst>
          </a:prstGeom>
          <a:solidFill>
            <a:srgbClr val="d3ebed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ь профилакт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тр. 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60360" y="4500720"/>
            <a:ext cx="192888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2790720" y="4500720"/>
            <a:ext cx="2789280" cy="539640"/>
          </a:xfrm>
          <a:prstGeom prst="borderCallout1">
            <a:avLst>
              <a:gd name="adj1" fmla="val 18750"/>
              <a:gd name="adj2" fmla="val -8333"/>
              <a:gd name="adj3" fmla="val 145000"/>
              <a:gd name="adj4" fmla="val -24074"/>
            </a:avLst>
          </a:pr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790720" y="5219640"/>
            <a:ext cx="2789280" cy="539640"/>
          </a:xfrm>
          <a:prstGeom prst="borderCallout1">
            <a:avLst>
              <a:gd name="adj1" fmla="val 18750"/>
              <a:gd name="adj2" fmla="val -8333"/>
              <a:gd name="adj3" fmla="val 55000"/>
              <a:gd name="adj4" fmla="val -25953"/>
            </a:avLst>
          </a:pr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2790720" y="5940360"/>
            <a:ext cx="2789280" cy="539640"/>
          </a:xfrm>
          <a:prstGeom prst="borderCallout1">
            <a:avLst>
              <a:gd name="adj1" fmla="val 18750"/>
              <a:gd name="adj2" fmla="val -8333"/>
              <a:gd name="adj3" fmla="val -30000"/>
              <a:gd name="adj4" fmla="val -25384"/>
            </a:avLst>
          </a:pr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ев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480000" y="4479840"/>
            <a:ext cx="1979640" cy="540000"/>
          </a:xfrm>
          <a:prstGeom prst="borderCallout1">
            <a:avLst>
              <a:gd name="adj1" fmla="val 18750"/>
              <a:gd name="adj2" fmla="val -8333"/>
              <a:gd name="adj3" fmla="val 292939"/>
              <a:gd name="adj4" fmla="val -49078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6480000" y="5219640"/>
            <a:ext cx="1979640" cy="539640"/>
          </a:xfrm>
          <a:prstGeom prst="borderCallout1">
            <a:avLst>
              <a:gd name="adj1" fmla="val 18750"/>
              <a:gd name="adj2" fmla="val -8333"/>
              <a:gd name="adj3" fmla="val 179412"/>
              <a:gd name="adj4" fmla="val -48115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6480000" y="5940360"/>
            <a:ext cx="1979640" cy="539640"/>
          </a:xfrm>
          <a:prstGeom prst="borderCallout1">
            <a:avLst>
              <a:gd name="adj1" fmla="val 18750"/>
              <a:gd name="adj2" fmla="val -8333"/>
              <a:gd name="adj3" fmla="val 61763"/>
              <a:gd name="adj4" fmla="val -48837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755640" y="3716280"/>
            <a:ext cx="7416720" cy="433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«Эффективность»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положительная дина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1125000"/>
            <a:ext cx="7490160" cy="387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Мониторинг эффективности  мини-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Задание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оанализируйте данные, сделайте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пределите возможные факторы р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едложите варианты изменения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С какими трудностями столкнулись при анализе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Цель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обучить тьюторов проекта организации и проведению мониторинга профилактической деятельности образовательного учреждения в рамках школьного стандарта профилак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Задание наблюда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Провести мониторинг активности группы в процессе обсуждения и принятия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Оценить продуктивность работы группы и практичность принятого реш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704000" cy="36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Мониторинг эффективности 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Задачи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туализировать знания участников семинара в области организации мониторинга в соответствии со школьным стандартом профилак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накомить с основными понятиями мониторинга и оц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казать на практике необходимость анализа данных и важность принятия решений на основе полученн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324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Монитор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исходной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Мониторинг – это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2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4 –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995640" y="1700280"/>
            <a:ext cx="1368360" cy="647640"/>
          </a:xfrm>
          <a:prstGeom prst="rect">
            <a:avLst/>
          </a:prstGeom>
          <a:solidFill>
            <a:srgbClr val="eb9c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95640" y="2852640"/>
            <a:ext cx="1368360" cy="647640"/>
          </a:xfrm>
          <a:prstGeom prst="rect">
            <a:avLst/>
          </a:prstGeom>
          <a:solidFill>
            <a:srgbClr val="ca62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95640" y="5229360"/>
            <a:ext cx="1368360" cy="647640"/>
          </a:xfrm>
          <a:prstGeom prst="rect">
            <a:avLst/>
          </a:prstGeom>
          <a:solidFill>
            <a:srgbClr val="e7f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995640" y="4076640"/>
            <a:ext cx="136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акая из предложенных схем отражает соотношение мониторинга и оце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826920" y="2781360"/>
            <a:ext cx="172908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324000" y="5013360"/>
            <a:ext cx="172872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3348000" y="3284640"/>
            <a:ext cx="172872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7164360" y="2708280"/>
            <a:ext cx="1728720" cy="158436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5940360" y="4941720"/>
            <a:ext cx="172872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6732720" y="3141720"/>
            <a:ext cx="863640" cy="79200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7308720" y="5373720"/>
            <a:ext cx="863640" cy="79200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4500720" y="3284640"/>
            <a:ext cx="1728720" cy="158436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2050920" y="5013360"/>
            <a:ext cx="1729080" cy="158436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684360" y="234936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284720" y="234936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8028000" y="206064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1835280" y="4581360"/>
            <a:ext cx="43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7596360" y="479736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1763640" y="1268280"/>
            <a:ext cx="287280" cy="28764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5148360" y="1268280"/>
            <a:ext cx="287280" cy="28764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1476360" y="119700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4788000" y="1197000"/>
            <a:ext cx="252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Как часто нужно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проводить мониторин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23640" y="2276280"/>
            <a:ext cx="597708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конце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начале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течение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488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Мониторинг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регулярное отслеживание ключевых моментов эффективности деятельности, посредством регистрации данных, введения систем отчетности учреждений, непосредственно связанных с проблемой профилактики рискованного поведения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4968720" cy="536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Мониторинг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то регулярное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слежи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лючевых мо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ффективности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средством регист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анных, введения сис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тчетности учрежд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посредственно связанных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блемой профилак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искованного по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совершеннолет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508360" y="260280"/>
            <a:ext cx="3322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цен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то совокуп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идов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зволя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ценить коне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езульт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6156360" y="4149720"/>
            <a:ext cx="2303280" cy="2158920"/>
          </a:xfrm>
          <a:prstGeom prst="ellipse">
            <a:avLst/>
          </a:prstGeom>
          <a:solidFill>
            <a:srgbClr val="5757f7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6804000" y="4724280"/>
            <a:ext cx="1008000" cy="100980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1:16:35Z</dcterms:created>
  <dc:creator>dialog</dc:creator>
  <dc:description/>
  <dc:language>en-US</dc:language>
  <cp:lastModifiedBy>dialog</cp:lastModifiedBy>
  <dcterms:modified xsi:type="dcterms:W3CDTF">2010-09-30T04:09:41Z</dcterms:modified>
  <cp:revision>19</cp:revision>
  <dc:subject/>
  <dc:title>Какая из предложенных схем отражает соотношение мониторинга и оценки</dc:title>
</cp:coreProperties>
</file>