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1CE2-A9A7-49DC-9A38-085E58F72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7091-FBED-4032-9CF4-2C0B31607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C3C-EB78-4A81-8B37-02AF1B22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6B2-ACB3-4AE0-A6A8-4A84C5C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180-FF5F-4B15-888F-FABE6C6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B95-2F09-45C0-AEDA-C7C2788D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D55-2E54-4937-89B4-61AC6151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31E-E661-4850-AADB-E51B1975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AED-F0C5-4D81-9823-E421EB51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AC0-3DCF-4B5E-BA0B-84BEEC2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B58-FC3F-4586-B2BA-15B7557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4EE-DCEE-4EAE-A8B2-9446B4D1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5B6-469E-4383-A851-2621159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453-4A50-4457-9F4A-99472D5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2EB3-9494-4255-AB77-67D6A3B48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бучающий семинар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для тьюторов проекта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«Школьный стандарт профила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26920" y="5444640"/>
            <a:ext cx="6359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Веду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Екатерина Львовна Лашевская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начальник информационно-методического отдела, 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Галина Ивановна Васильева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2133720"/>
            <a:ext cx="822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«Организация и проведение мониторинга профилактической деятельности образовательного учреждения в рамках школьного стандарта профилак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18864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Оценк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риан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105440" cy="5327640"/>
          </a:xfrm>
          <a:prstGeom prst="rect">
            <a:avLst/>
          </a:prstGeom>
          <a:noFill/>
          <a:ln w="9360">
            <a:solidFill>
              <a:srgbClr val="333399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ект осущест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ш проект – лучши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ффективность реализации проекта. Как усовершенств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рос заказ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0000" y="1268280"/>
            <a:ext cx="3924360" cy="5400720"/>
          </a:xfrm>
          <a:prstGeom prst="rect">
            <a:avLst/>
          </a:prstGeom>
          <a:noFill/>
          <a:ln w="9360">
            <a:solidFill>
              <a:srgbClr val="333399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жна группа для сравнения и внешний экспе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процесса и промежуточ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в рамках  определенного фор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170028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285264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422100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877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Этапы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715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определение ц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ка плана проведения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этап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разработка (подбор) инструмента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ботка и анализ полученных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этап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авление отчета и выработка рекоменд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 этап – определение целей, подготовка плана проведения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ценка исход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ка цели монитори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объекта монитори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лиц, осуществляющих монитор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формы и объема мониторинга, времени на его разработку и реализ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казание потребителе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2 этап – разработка (подбор) инструмент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684360" y="1773360"/>
            <a:ext cx="1655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3132000" y="4149720"/>
            <a:ext cx="2016360" cy="1297080"/>
          </a:xfrm>
          <a:prstGeom prst="ellipse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скуссии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611280" y="4797360"/>
            <a:ext cx="1873080" cy="93672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340000" y="5661000"/>
            <a:ext cx="1655640" cy="914400"/>
          </a:xfrm>
          <a:prstGeom prst="ellips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5076720" y="3213000"/>
            <a:ext cx="2016360" cy="914400"/>
          </a:xfrm>
          <a:prstGeom prst="ellipse">
            <a:avLst/>
          </a:prstGeom>
          <a:solidFill>
            <a:srgbClr val="c3f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сужден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кус-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635280" y="1413000"/>
            <a:ext cx="1944720" cy="120168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мент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6372360" y="4292640"/>
            <a:ext cx="2160360" cy="1058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300720" y="1844640"/>
            <a:ext cx="2158920" cy="1224000"/>
          </a:xfrm>
          <a:prstGeom prst="ellipse">
            <a:avLst/>
          </a:prstGeom>
          <a:solidFill>
            <a:srgbClr val="c8d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а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684360" y="1773360"/>
            <a:ext cx="1655640" cy="1008000"/>
          </a:xfrm>
          <a:prstGeom prst="ellipse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0280" y="3559680"/>
            <a:ext cx="1433880" cy="630720"/>
          </a:xfrm>
          <a:prstGeom prst="rect">
            <a:avLst/>
          </a:prstGeom>
          <a:solidFill>
            <a:srgbClr val="c3fdc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4859280" y="5516640"/>
            <a:ext cx="2305080" cy="1131840"/>
          </a:xfrm>
          <a:prstGeom prst="ellipse">
            <a:avLst/>
          </a:prstGeom>
          <a:solidFill>
            <a:srgbClr val="ffe5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 соч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Письмо другу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2556000" y="2852640"/>
            <a:ext cx="2301840" cy="892440"/>
          </a:xfrm>
          <a:prstGeom prst="ellipse">
            <a:avLst/>
          </a:prstGeom>
          <a:solidFill>
            <a:srgbClr val="c8d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в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 этап – сбор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соответствии с разработанным инструментар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этап – обработка и анализ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изация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чественный и качественный анализ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решений, которые необходимо принять на основе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5 этап – составление отчет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 выработка рекоменд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7859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работка рекоменд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тировка реализации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альнейше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формирование потребителей: учащихся, родителей, педагогов, социальных партн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1120" y="179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ритерии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50920" y="1081080"/>
            <a:ext cx="2449440" cy="2492280"/>
          </a:xfrm>
          <a:prstGeom prst="borderCallout1">
            <a:avLst>
              <a:gd name="adj1" fmla="val 18750"/>
              <a:gd name="adj2" fmla="val -8333"/>
              <a:gd name="adj3" fmla="val -14694"/>
              <a:gd name="adj4" fmla="val 7514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системы организации профилактичес-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. 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276720" y="1125360"/>
            <a:ext cx="2449440" cy="2448000"/>
          </a:xfrm>
          <a:prstGeom prst="borderCallout1">
            <a:avLst>
              <a:gd name="adj1" fmla="val 18750"/>
              <a:gd name="adj2" fmla="val -8333"/>
              <a:gd name="adj3" fmla="val -17393"/>
              <a:gd name="adj4" fmla="val 5464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содержания профилактичес-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тр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443640" y="1125360"/>
            <a:ext cx="2340000" cy="2374920"/>
          </a:xfrm>
          <a:prstGeom prst="borderCallout1">
            <a:avLst>
              <a:gd name="adj1" fmla="val 18750"/>
              <a:gd name="adj2" fmla="val -8333"/>
              <a:gd name="adj3" fmla="val -17263"/>
              <a:gd name="adj4" fmla="val 8333"/>
            </a:avLst>
          </a:prstGeom>
          <a:solidFill>
            <a:srgbClr val="d3ebed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ь профил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тр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60360" y="4500720"/>
            <a:ext cx="19288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790720" y="450072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145000"/>
              <a:gd name="adj4" fmla="val -24074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790720" y="521964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55000"/>
              <a:gd name="adj4" fmla="val -25953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2790720" y="5940360"/>
            <a:ext cx="2789280" cy="539640"/>
          </a:xfrm>
          <a:prstGeom prst="borderCallout1">
            <a:avLst>
              <a:gd name="adj1" fmla="val 18750"/>
              <a:gd name="adj2" fmla="val -8333"/>
              <a:gd name="adj3" fmla="val -30000"/>
              <a:gd name="adj4" fmla="val -25384"/>
            </a:avLst>
          </a:pr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в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480000" y="4479840"/>
            <a:ext cx="1979640" cy="540000"/>
          </a:xfrm>
          <a:prstGeom prst="borderCallout1">
            <a:avLst>
              <a:gd name="adj1" fmla="val 18750"/>
              <a:gd name="adj2" fmla="val -8333"/>
              <a:gd name="adj3" fmla="val 292939"/>
              <a:gd name="adj4" fmla="val -4907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6480000" y="5219640"/>
            <a:ext cx="1979640" cy="539640"/>
          </a:xfrm>
          <a:prstGeom prst="borderCallout1">
            <a:avLst>
              <a:gd name="adj1" fmla="val 18750"/>
              <a:gd name="adj2" fmla="val -8333"/>
              <a:gd name="adj3" fmla="val 179412"/>
              <a:gd name="adj4" fmla="val -48115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6480000" y="5940360"/>
            <a:ext cx="1979640" cy="539640"/>
          </a:xfrm>
          <a:prstGeom prst="borderCallout1">
            <a:avLst>
              <a:gd name="adj1" fmla="val 18750"/>
              <a:gd name="adj2" fmla="val -8333"/>
              <a:gd name="adj3" fmla="val 61763"/>
              <a:gd name="adj4" fmla="val -4883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55640" y="3716280"/>
            <a:ext cx="7416720" cy="433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«Эффективность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ложительная дин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490160" cy="387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 эффективности  мини-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ние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анализируйте данные, сделайт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ределите возможные факторы р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едложите варианты изменени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 какими трудностями столкнулись при анализе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Цель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бучить тьюторов проекта организации и проведению мониторинга профилактической деятельности образовательного учреждения в рамках школьного стандарта профилак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ние наблюда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Провести мониторинг активности группы в процессе обсуждения и принятия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ценить продуктивность работы группы и практичность принят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704000" cy="36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 эффективности 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Задачи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уализировать знания участников семинара в области организации мониторинга в соответствии со школьным стандартом профилак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 с основными понятиями мониторинга и оц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казать на практике необходимость анализа данных и важность принятия решений на основе полученн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32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Монитор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исход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Мониторинг – это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2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4 –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995640" y="1700280"/>
            <a:ext cx="1368360" cy="647640"/>
          </a:xfrm>
          <a:prstGeom prst="rect">
            <a:avLst/>
          </a:prstGeom>
          <a:solidFill>
            <a:srgbClr val="eb9c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95640" y="2852640"/>
            <a:ext cx="1368360" cy="647640"/>
          </a:xfrm>
          <a:prstGeom prst="rect">
            <a:avLst/>
          </a:prstGeom>
          <a:solidFill>
            <a:srgbClr val="ca62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95640" y="5229360"/>
            <a:ext cx="1368360" cy="647640"/>
          </a:xfrm>
          <a:prstGeom prst="rect">
            <a:avLst/>
          </a:prstGeom>
          <a:solidFill>
            <a:srgbClr val="e7f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95640" y="4076640"/>
            <a:ext cx="136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акая из предложенных схем отражает соотношение мониторинга и оце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826920" y="2781360"/>
            <a:ext cx="172908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24000" y="501336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3348000" y="328464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7164360" y="2708280"/>
            <a:ext cx="172872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940360" y="4941720"/>
            <a:ext cx="1728720" cy="158436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6732720" y="3141720"/>
            <a:ext cx="863640" cy="79200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7308720" y="5373720"/>
            <a:ext cx="863640" cy="7920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4500720" y="3284640"/>
            <a:ext cx="172872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2050920" y="5013360"/>
            <a:ext cx="1729080" cy="158436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684360" y="2349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284720" y="2349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8028000" y="206064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1835280" y="4581360"/>
            <a:ext cx="43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7596360" y="4797360"/>
            <a:ext cx="43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1763640" y="1268280"/>
            <a:ext cx="287280" cy="287640"/>
          </a:xfrm>
          <a:prstGeom prst="ellipse">
            <a:avLst/>
          </a:prstGeom>
          <a:solidFill>
            <a:srgbClr val="575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5148360" y="1268280"/>
            <a:ext cx="287280" cy="28764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1476360" y="1197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4788000" y="1197000"/>
            <a:ext cx="252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Как часто нужно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проводить мониторин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597708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конц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начал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 течение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488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Мониторинг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регулярное отслеживание ключевых моментов эффективности деятельности, посредством регистрации данных, введения систем отчетности учреждений, непосредственно связанных с проблемой профилактики рискованного поведения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968720" cy="536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Мониторинг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то регулярное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слежи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лючевых мо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ффективности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средством реги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анных, введения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тчетности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посредственно связанны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блемой профилак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искованного по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совершеннолет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508360" y="260280"/>
            <a:ext cx="3322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цен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то совокуп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идов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зво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ценить коне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езульт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6156360" y="4149720"/>
            <a:ext cx="2303280" cy="2158920"/>
          </a:xfrm>
          <a:prstGeom prst="ellipse">
            <a:avLst/>
          </a:prstGeom>
          <a:solidFill>
            <a:srgbClr val="5757f7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6804000" y="4724280"/>
            <a:ext cx="1008000" cy="1009800"/>
          </a:xfrm>
          <a:prstGeom prst="ellipse">
            <a:avLst/>
          </a:prstGeom>
          <a:solidFill>
            <a:srgbClr val="b23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1:16:35Z</dcterms:created>
  <dc:creator>dialog</dc:creator>
  <dc:description/>
  <dc:language>en-US</dc:language>
  <cp:lastModifiedBy>dialog</cp:lastModifiedBy>
  <dcterms:modified xsi:type="dcterms:W3CDTF">2010-09-30T04:09:41Z</dcterms:modified>
  <cp:revision>19</cp:revision>
  <dc:subject/>
  <dc:title>Какая из предложенных схем отражает соотношение мониторинга и оценки</dc:title>
</cp:coreProperties>
</file>