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FD3D-0ED3-44D9-8940-FCFAA950AC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E542-C962-491E-BEDC-CF807E48BD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936A-098D-434A-ACC1-25BB4F24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7D49-DAFE-4D9B-87F2-7B4B0BC8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A01D-E86A-4D21-B491-288ECF5E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C84F-F8F0-4E80-A27E-CCA1D507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5F2C-2848-4352-BEE5-FF7A3302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190A-98C3-41A9-9EB6-731AE7FC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D16E-3C83-4F8C-A255-D3EDED49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9086-61BD-4A46-B579-BF4DB1AF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8D75-962F-409E-ACC5-814D5EF5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725B-994E-4D48-AA7A-557F5DBE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BEA1-AEBD-489C-83EC-5E07BE43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0618-455D-4968-BFEE-58B0C3E1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EC60-B407-4523-8024-61ECCE775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569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Обучающий семинар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для тьюторов проекта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«Школьный стандарт профилакт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26920" y="5444640"/>
            <a:ext cx="63594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Ведущ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Екатерина Львовна Лашевская,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начальник информационно-методического отдела, педагог-психо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Галина Ивановна Васильева,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педагог-психо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68360" y="2133720"/>
            <a:ext cx="82296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«Организация и проведение мониторинга профилактической деятельности образовательного учреждения в рамках школьного стандарта профилакт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1120" y="188640"/>
            <a:ext cx="8337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Оценка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ариан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105440" cy="5327640"/>
          </a:xfrm>
          <a:prstGeom prst="rect">
            <a:avLst/>
          </a:prstGeom>
          <a:noFill/>
          <a:ln w="9360">
            <a:solidFill>
              <a:srgbClr val="333399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ект осуществл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 мо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ш проект – лучши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ффективность реализации проекта. Как усовершенствов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прос заказч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0000" y="1268280"/>
            <a:ext cx="3924360" cy="5400720"/>
          </a:xfrm>
          <a:prstGeom prst="rect">
            <a:avLst/>
          </a:prstGeom>
          <a:noFill/>
          <a:ln w="9360">
            <a:solidFill>
              <a:srgbClr val="333399"/>
            </a:solidFill>
            <a:round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ценка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ужна группа для сравнения и внешний экспер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ценка процесса и промежуточных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ценка в рамках  определенного форм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84720" y="1700280"/>
            <a:ext cx="720720" cy="28872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4720" y="2852640"/>
            <a:ext cx="720720" cy="289080"/>
          </a:xfrm>
          <a:prstGeom prst="rightArrow">
            <a:avLst>
              <a:gd name="adj1" fmla="val 50000"/>
              <a:gd name="adj2" fmla="val 62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84720" y="4221000"/>
            <a:ext cx="720720" cy="289080"/>
          </a:xfrm>
          <a:prstGeom prst="rightArrow">
            <a:avLst>
              <a:gd name="adj1" fmla="val 50000"/>
              <a:gd name="adj2" fmla="val 62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5877000"/>
            <a:ext cx="720720" cy="28872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Этапы мониторин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5480" y="1600200"/>
            <a:ext cx="87152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эта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определение це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готовка плана проведения исслед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этап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разработка (подбор) инструментар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этап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бор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этап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работка и анализ полученных результа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этап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ставление отчета и выработка рекоменда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 этап – определение целей, подготовка плана проведения монитор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ценка исходной ситу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тановка цели мониторин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пределение объекта мониторин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пределение лиц, осуществляющих мониторин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пределение формы и объема мониторинга, времени на его разработку и реализ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казание потребителей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2 этап – разработка (подбор) инструмент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"/>
          <p:cNvSpPr/>
          <p:nvPr/>
        </p:nvSpPr>
        <p:spPr>
          <a:xfrm>
            <a:off x="684360" y="1773360"/>
            <a:ext cx="16556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к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3132000" y="4149720"/>
            <a:ext cx="2016360" cy="1297080"/>
          </a:xfrm>
          <a:prstGeom prst="ellipse">
            <a:avLst/>
          </a:prstGeom>
          <a:solidFill>
            <a:srgbClr val="f4f9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искуссии п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блюд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611280" y="4797360"/>
            <a:ext cx="1873080" cy="936720"/>
          </a:xfrm>
          <a:prstGeom prst="ellipse">
            <a:avLst/>
          </a:prstGeom>
          <a:solidFill>
            <a:srgbClr val="ffe5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ществ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2340000" y="5661000"/>
            <a:ext cx="1655640" cy="914400"/>
          </a:xfrm>
          <a:prstGeom prst="ellipse">
            <a:avLst/>
          </a:prstGeom>
          <a:solidFill>
            <a:srgbClr val="d3e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терв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5076720" y="3213000"/>
            <a:ext cx="2016360" cy="914400"/>
          </a:xfrm>
          <a:prstGeom prst="ellipse">
            <a:avLst/>
          </a:prstGeom>
          <a:solidFill>
            <a:srgbClr val="c3fd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суждени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кус-груп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3635280" y="1413000"/>
            <a:ext cx="1944720" cy="1201680"/>
          </a:xfrm>
          <a:prstGeom prst="ellipse">
            <a:avLst/>
          </a:prstGeom>
          <a:solidFill>
            <a:srgbClr val="ffe5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омент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6372360" y="4292640"/>
            <a:ext cx="2160360" cy="1058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ото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6300720" y="1844640"/>
            <a:ext cx="2158920" cy="1224000"/>
          </a:xfrm>
          <a:prstGeom prst="ellipse">
            <a:avLst/>
          </a:prstGeom>
          <a:solidFill>
            <a:srgbClr val="c8d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истемат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1"/>
          <p:cNvSpPr/>
          <p:nvPr/>
        </p:nvSpPr>
        <p:spPr>
          <a:xfrm>
            <a:off x="684360" y="1773360"/>
            <a:ext cx="1655640" cy="1008000"/>
          </a:xfrm>
          <a:prstGeom prst="ellipse">
            <a:avLst/>
          </a:prstGeom>
          <a:solidFill>
            <a:srgbClr val="f4f9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нк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0280" y="3559680"/>
            <a:ext cx="1433880" cy="630720"/>
          </a:xfrm>
          <a:prstGeom prst="rect">
            <a:avLst/>
          </a:prstGeom>
          <a:solidFill>
            <a:srgbClr val="c3fdc9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3"/>
          <p:cNvSpPr/>
          <p:nvPr/>
        </p:nvSpPr>
        <p:spPr>
          <a:xfrm>
            <a:off x="4859280" y="5516640"/>
            <a:ext cx="2305080" cy="1131840"/>
          </a:xfrm>
          <a:prstGeom prst="ellipse">
            <a:avLst/>
          </a:prstGeom>
          <a:solidFill>
            <a:srgbClr val="ffe5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нализ сочи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Письмо другу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4"/>
          <p:cNvSpPr/>
          <p:nvPr/>
        </p:nvSpPr>
        <p:spPr>
          <a:xfrm>
            <a:off x="2556000" y="2852640"/>
            <a:ext cx="2301840" cy="892440"/>
          </a:xfrm>
          <a:prstGeom prst="ellipse">
            <a:avLst/>
          </a:prstGeom>
          <a:solidFill>
            <a:srgbClr val="c8d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в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ксп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3 этап – сбор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 соответствии с разработанным инструментар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этап – обработка и анализ полученных результа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стематизация полученных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личественный и качественный анализ полученных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пределение решений, которые необходимо принять на основе полученной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5 этап – составление отчета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и выработка рекоменд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78598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ыработка рекоменда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рректировка реализации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ланирование дальнейшей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нформирование потребителей: учащихся, родителей, педагогов, социальных партн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1120" y="179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Критерии мониторин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250920" y="1081080"/>
            <a:ext cx="2449440" cy="2492280"/>
          </a:xfrm>
          <a:prstGeom prst="borderCallout1">
            <a:avLst>
              <a:gd name="adj1" fmla="val 18750"/>
              <a:gd name="adj2" fmla="val -8333"/>
              <a:gd name="adj3" fmla="val -14694"/>
              <a:gd name="adj4" fmla="val 75143"/>
            </a:avLst>
          </a:prstGeom>
          <a:solidFill>
            <a:srgbClr val="d3ebed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системы организации профилактичес-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р. 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276720" y="1125360"/>
            <a:ext cx="2449440" cy="2448000"/>
          </a:xfrm>
          <a:prstGeom prst="borderCallout1">
            <a:avLst>
              <a:gd name="adj1" fmla="val 18750"/>
              <a:gd name="adj2" fmla="val -8333"/>
              <a:gd name="adj3" fmla="val -17393"/>
              <a:gd name="adj4" fmla="val 54643"/>
            </a:avLst>
          </a:prstGeom>
          <a:solidFill>
            <a:srgbClr val="d3ebed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содержания профилактичес-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стр. 2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443640" y="1125360"/>
            <a:ext cx="2340000" cy="2374920"/>
          </a:xfrm>
          <a:prstGeom prst="borderCallout1">
            <a:avLst>
              <a:gd name="adj1" fmla="val 18750"/>
              <a:gd name="adj2" fmla="val -8333"/>
              <a:gd name="adj3" fmla="val -17263"/>
              <a:gd name="adj4" fmla="val 8333"/>
            </a:avLst>
          </a:prstGeom>
          <a:solidFill>
            <a:srgbClr val="d3ebed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ть профилакти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стр. 2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60360" y="4500720"/>
            <a:ext cx="192888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и 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2790720" y="4500720"/>
            <a:ext cx="2789280" cy="539640"/>
          </a:xfrm>
          <a:prstGeom prst="borderCallout1">
            <a:avLst>
              <a:gd name="adj1" fmla="val 18750"/>
              <a:gd name="adj2" fmla="val -8333"/>
              <a:gd name="adj3" fmla="val 145000"/>
              <a:gd name="adj4" fmla="val -24074"/>
            </a:avLst>
          </a:prstGeom>
          <a:solidFill>
            <a:srgbClr val="33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2790720" y="5219640"/>
            <a:ext cx="2789280" cy="539640"/>
          </a:xfrm>
          <a:prstGeom prst="borderCallout1">
            <a:avLst>
              <a:gd name="adj1" fmla="val 18750"/>
              <a:gd name="adj2" fmla="val -8333"/>
              <a:gd name="adj3" fmla="val 55000"/>
              <a:gd name="adj4" fmla="val -25953"/>
            </a:avLst>
          </a:prstGeom>
          <a:solidFill>
            <a:srgbClr val="33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ко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2790720" y="5940360"/>
            <a:ext cx="2789280" cy="539640"/>
          </a:xfrm>
          <a:prstGeom prst="borderCallout1">
            <a:avLst>
              <a:gd name="adj1" fmla="val 18750"/>
              <a:gd name="adj2" fmla="val -8333"/>
              <a:gd name="adj3" fmla="val -30000"/>
              <a:gd name="adj4" fmla="val -25384"/>
            </a:avLst>
          </a:prstGeom>
          <a:solidFill>
            <a:srgbClr val="33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евых гру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4"/>
          <p:cNvSpPr/>
          <p:nvPr/>
        </p:nvSpPr>
        <p:spPr>
          <a:xfrm>
            <a:off x="6480000" y="4479840"/>
            <a:ext cx="1979640" cy="540000"/>
          </a:xfrm>
          <a:prstGeom prst="borderCallout1">
            <a:avLst>
              <a:gd name="adj1" fmla="val 18750"/>
              <a:gd name="adj2" fmla="val -8333"/>
              <a:gd name="adj3" fmla="val 292939"/>
              <a:gd name="adj4" fmla="val -49078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е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6480000" y="5219640"/>
            <a:ext cx="1979640" cy="539640"/>
          </a:xfrm>
          <a:prstGeom prst="borderCallout1">
            <a:avLst>
              <a:gd name="adj1" fmla="val 18750"/>
              <a:gd name="adj2" fmla="val -8333"/>
              <a:gd name="adj3" fmla="val 179412"/>
              <a:gd name="adj4" fmla="val -48115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6"/>
          <p:cNvSpPr/>
          <p:nvPr/>
        </p:nvSpPr>
        <p:spPr>
          <a:xfrm>
            <a:off x="6480000" y="5940360"/>
            <a:ext cx="1979640" cy="539640"/>
          </a:xfrm>
          <a:prstGeom prst="borderCallout1">
            <a:avLst>
              <a:gd name="adj1" fmla="val 18750"/>
              <a:gd name="adj2" fmla="val -8333"/>
              <a:gd name="adj3" fmla="val 61763"/>
              <a:gd name="adj4" fmla="val -48837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755640" y="3716280"/>
            <a:ext cx="7416720" cy="433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«Эффективность»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положительная дина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26920" y="1125000"/>
            <a:ext cx="7490160" cy="387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eorgia"/>
              </a:rPr>
              <a:t>Мониторинг эффективности  мини-л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Задание групп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роанализируйте данные, сделайте вы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Определите возможные факторы ри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редложите варианты изменения ситу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С какими трудностями столкнулись при анализе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Цель семин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обучить тьюторов проекта организации и проведению мониторинга профилактической деятельности образовательного учреждения в рамках школьного стандарта профилакт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Задание наблюда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Провести мониторинг активности группы в процессе обсуждения и принятия реш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Оценить продуктивность работы группы и практичность принятого реш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704000" cy="360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eorgia"/>
              </a:rPr>
              <a:t>Мониторинг эффективности  семин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Задачи семин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ктуализировать знания участников семинара в области организации мониторинга в соответствии со школьным стандартом профилак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знакомить с основными понятиями мониторинга и оце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казать на практике необходимость анализа данных и важность принятия решений на основе полученной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8229600" cy="3241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eorgia"/>
              </a:rPr>
              <a:t>Монитори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eorgia"/>
              </a:rPr>
              <a:t>исходной ситу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Мониторинг – это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79280" y="1628640"/>
            <a:ext cx="53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2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3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4 –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995640" y="1700280"/>
            <a:ext cx="1368360" cy="647640"/>
          </a:xfrm>
          <a:prstGeom prst="rect">
            <a:avLst/>
          </a:prstGeom>
          <a:solidFill>
            <a:srgbClr val="eb9c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995640" y="2852640"/>
            <a:ext cx="1368360" cy="647640"/>
          </a:xfrm>
          <a:prstGeom prst="rect">
            <a:avLst/>
          </a:prstGeom>
          <a:solidFill>
            <a:srgbClr val="ca62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995640" y="5229360"/>
            <a:ext cx="1368360" cy="647640"/>
          </a:xfrm>
          <a:prstGeom prst="rect">
            <a:avLst/>
          </a:prstGeom>
          <a:solidFill>
            <a:srgbClr val="e7f2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995640" y="4076640"/>
            <a:ext cx="136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акая из предложенных схем отражает соотношение мониторинга и оцен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826920" y="2781360"/>
            <a:ext cx="1729080" cy="1584360"/>
          </a:xfrm>
          <a:prstGeom prst="ellipse">
            <a:avLst/>
          </a:prstGeom>
          <a:solidFill>
            <a:srgbClr val="575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"/>
          <p:cNvSpPr/>
          <p:nvPr/>
        </p:nvSpPr>
        <p:spPr>
          <a:xfrm>
            <a:off x="1258920" y="3141720"/>
            <a:ext cx="863640" cy="792000"/>
          </a:xfrm>
          <a:prstGeom prst="ellipse">
            <a:avLst/>
          </a:prstGeom>
          <a:solidFill>
            <a:srgbClr val="b23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1"/>
          <p:cNvSpPr/>
          <p:nvPr/>
        </p:nvSpPr>
        <p:spPr>
          <a:xfrm>
            <a:off x="324000" y="5013360"/>
            <a:ext cx="1728720" cy="1584360"/>
          </a:xfrm>
          <a:prstGeom prst="ellipse">
            <a:avLst/>
          </a:prstGeom>
          <a:solidFill>
            <a:srgbClr val="575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2"/>
          <p:cNvSpPr/>
          <p:nvPr/>
        </p:nvSpPr>
        <p:spPr>
          <a:xfrm>
            <a:off x="3348000" y="3284640"/>
            <a:ext cx="1728720" cy="1584360"/>
          </a:xfrm>
          <a:prstGeom prst="ellipse">
            <a:avLst/>
          </a:prstGeom>
          <a:solidFill>
            <a:srgbClr val="575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7164360" y="2708280"/>
            <a:ext cx="1728720" cy="1584360"/>
          </a:xfrm>
          <a:prstGeom prst="ellipse">
            <a:avLst/>
          </a:prstGeom>
          <a:solidFill>
            <a:srgbClr val="b23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4"/>
          <p:cNvSpPr/>
          <p:nvPr/>
        </p:nvSpPr>
        <p:spPr>
          <a:xfrm>
            <a:off x="5940360" y="4941720"/>
            <a:ext cx="1728720" cy="1584360"/>
          </a:xfrm>
          <a:prstGeom prst="ellipse">
            <a:avLst/>
          </a:prstGeom>
          <a:solidFill>
            <a:srgbClr val="575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5"/>
          <p:cNvSpPr/>
          <p:nvPr/>
        </p:nvSpPr>
        <p:spPr>
          <a:xfrm>
            <a:off x="6732720" y="3141720"/>
            <a:ext cx="863640" cy="792000"/>
          </a:xfrm>
          <a:prstGeom prst="ellipse">
            <a:avLst/>
          </a:prstGeom>
          <a:solidFill>
            <a:srgbClr val="575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6"/>
          <p:cNvSpPr/>
          <p:nvPr/>
        </p:nvSpPr>
        <p:spPr>
          <a:xfrm>
            <a:off x="7308720" y="5373720"/>
            <a:ext cx="863640" cy="792000"/>
          </a:xfrm>
          <a:prstGeom prst="ellipse">
            <a:avLst/>
          </a:prstGeom>
          <a:solidFill>
            <a:srgbClr val="b23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7"/>
          <p:cNvSpPr/>
          <p:nvPr/>
        </p:nvSpPr>
        <p:spPr>
          <a:xfrm>
            <a:off x="4500720" y="3284640"/>
            <a:ext cx="1728720" cy="1584360"/>
          </a:xfrm>
          <a:prstGeom prst="ellipse">
            <a:avLst/>
          </a:prstGeom>
          <a:solidFill>
            <a:srgbClr val="b23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8"/>
          <p:cNvSpPr/>
          <p:nvPr/>
        </p:nvSpPr>
        <p:spPr>
          <a:xfrm>
            <a:off x="2050920" y="5013360"/>
            <a:ext cx="1729080" cy="1584360"/>
          </a:xfrm>
          <a:prstGeom prst="ellipse">
            <a:avLst/>
          </a:prstGeom>
          <a:solidFill>
            <a:srgbClr val="b23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684360" y="2349360"/>
            <a:ext cx="431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4284720" y="2349360"/>
            <a:ext cx="431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3"/>
          <p:cNvSpPr/>
          <p:nvPr/>
        </p:nvSpPr>
        <p:spPr>
          <a:xfrm>
            <a:off x="8028000" y="2060640"/>
            <a:ext cx="431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6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5"/>
          <p:cNvSpPr/>
          <p:nvPr/>
        </p:nvSpPr>
        <p:spPr>
          <a:xfrm>
            <a:off x="1835280" y="4581360"/>
            <a:ext cx="4330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7"/>
          <p:cNvSpPr/>
          <p:nvPr/>
        </p:nvSpPr>
        <p:spPr>
          <a:xfrm>
            <a:off x="7596360" y="4797360"/>
            <a:ext cx="431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9"/>
          <p:cNvSpPr/>
          <p:nvPr/>
        </p:nvSpPr>
        <p:spPr>
          <a:xfrm>
            <a:off x="1763640" y="1268280"/>
            <a:ext cx="287280" cy="287640"/>
          </a:xfrm>
          <a:prstGeom prst="ellipse">
            <a:avLst/>
          </a:prstGeom>
          <a:solidFill>
            <a:srgbClr val="575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0"/>
          <p:cNvSpPr/>
          <p:nvPr/>
        </p:nvSpPr>
        <p:spPr>
          <a:xfrm>
            <a:off x="5148360" y="1268280"/>
            <a:ext cx="287280" cy="287640"/>
          </a:xfrm>
          <a:prstGeom prst="ellipse">
            <a:avLst/>
          </a:prstGeom>
          <a:solidFill>
            <a:srgbClr val="b23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1"/>
          <p:cNvSpPr/>
          <p:nvPr/>
        </p:nvSpPr>
        <p:spPr>
          <a:xfrm>
            <a:off x="1476360" y="1197000"/>
            <a:ext cx="30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нитор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2"/>
          <p:cNvSpPr/>
          <p:nvPr/>
        </p:nvSpPr>
        <p:spPr>
          <a:xfrm>
            <a:off x="4788000" y="1197000"/>
            <a:ext cx="252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Как часто нужно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проводить мониторин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23640" y="2276280"/>
            <a:ext cx="5977080" cy="27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в конце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в начале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в течение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488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Мониторинг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то регулярное отслеживание ключевых моментов эффективности деятельности, посредством регистрации данных, введения систем отчетности учреждений, непосредственно связанных с проблемой профилактики рискованного поведения несовершеннолет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4968720" cy="536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Мониторинг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это регулярное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тслежи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ключевых мом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эффективности де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осредством регистр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данных, введения сис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тчетности учрежд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непосредственно связанных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роблемой профилак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рискованного пове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несовершеннолет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508360" y="260280"/>
            <a:ext cx="3322440" cy="32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ценк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это совокуп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идов де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озволяющ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ценить конеч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результ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р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"/>
          <p:cNvSpPr/>
          <p:nvPr/>
        </p:nvSpPr>
        <p:spPr>
          <a:xfrm>
            <a:off x="6156360" y="4149720"/>
            <a:ext cx="2303280" cy="2158920"/>
          </a:xfrm>
          <a:prstGeom prst="ellipse">
            <a:avLst/>
          </a:prstGeom>
          <a:solidFill>
            <a:srgbClr val="5757f7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"/>
          <p:cNvSpPr/>
          <p:nvPr/>
        </p:nvSpPr>
        <p:spPr>
          <a:xfrm>
            <a:off x="6804000" y="4724280"/>
            <a:ext cx="1008000" cy="1009800"/>
          </a:xfrm>
          <a:prstGeom prst="ellipse">
            <a:avLst/>
          </a:prstGeom>
          <a:solidFill>
            <a:srgbClr val="b23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1:16:35Z</dcterms:created>
  <dc:creator>dialog</dc:creator>
  <dc:description/>
  <dc:language>en-US</dc:language>
  <cp:lastModifiedBy>dialog</cp:lastModifiedBy>
  <dcterms:modified xsi:type="dcterms:W3CDTF">2010-09-30T04:09:41Z</dcterms:modified>
  <cp:revision>19</cp:revision>
  <dc:subject/>
  <dc:title>Какая из предложенных схем отражает соотношение мониторинга и оценки</dc:title>
</cp:coreProperties>
</file>