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CBC08-157A-4E15-9182-32D3857C1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7F2E9-7EE7-468B-AF8E-41882A48A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89994-9BDA-4586-BFFC-EBA3E57A3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1BBAD-3D72-4598-A706-97D5140DC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9D09-75C9-4701-930E-5A81CF63C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3D19A-E336-46C9-A42D-720C7B477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E941C-7F63-452F-AE67-9D05148D5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88A3-2AF5-4485-BA3D-00B0CD24F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1711E-A48B-423A-9159-CC077D70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FC24-E80B-4FAB-9FB8-367D21EE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090F-DEB4-4109-83BF-819F5963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4C8E-B150-4564-8863-5705B76A2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18D4-42D5-462F-8AA7-E248246809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10480" cy="58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800" spc="-1" strike="noStrike">
                <a:solidFill>
                  <a:srgbClr val="000000"/>
                </a:solidFill>
                <a:latin typeface="Times New Roman"/>
                <a:ea typeface="Times New Roman"/>
              </a:rPr>
              <a:t>Психологический климат в коллективе и его характеристика</a:t>
            </a:r>
            <a:endParaRPr b="0" lang="en-US" sz="7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i="1" lang="ru-RU" sz="3200" spc="-1" strike="noStrike">
                <a:solidFill>
                  <a:srgbClr val="000000"/>
                </a:solidFill>
                <a:latin typeface="Times New Roman"/>
                <a:ea typeface="Times New Roman"/>
              </a:rPr>
              <a:t>Когда ведут речь о социально-психологическом климате (СПК) коллектива, подразумевают следующе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овокупность социально-психологических характеристик групп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еобладающий и устойчивый психологический настрой коллектив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характер взаимоотношений в коллективе;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нтегральная характеристика состояния коллектив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457200" y="228600"/>
            <a:ext cx="8229600" cy="5897520"/>
          </a:xfrm>
          <a:prstGeom prst="rect">
            <a:avLst/>
          </a:prstGeom>
          <a:noFill/>
          <a:ln w="0">
            <a:noFill/>
          </a:ln>
        </p:spPr>
        <p:txBody>
          <a:bodyPr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Благоприятный СПК</a:t>
            </a:r>
            <a:r>
              <a:rPr b="0" lang="ru-RU" sz="2500" spc="-1" strike="noStrike">
                <a:solidFill>
                  <a:srgbClr val="000000"/>
                </a:solidFill>
                <a:latin typeface="Times New Roman"/>
                <a:ea typeface="Times New Roman"/>
              </a:rPr>
              <a:t> характеризуют оптимизм, радость общения, доверие, чувство защищенности, безопасности и комфорта, взаимная поддержка, теплота и внимание в отношениях, межличностные симпатии, открытость коммуникации, уверенность, бодрость, возможность свободно мыслить, творить, интеллектуально и профессионально расти, вносить вклад в развитие организации, совершать ошибки без страха наказания и т.д.</a:t>
            </a:r>
            <a:endParaRPr b="0" lang="en-US" sz="2500" spc="-1" strike="noStrike">
              <a:solidFill>
                <a:srgbClr val="000000"/>
              </a:solidFill>
              <a:latin typeface="Arial"/>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Неблагоприятный СПК</a:t>
            </a:r>
            <a:r>
              <a:rPr b="0" lang="ru-RU" sz="2500" spc="-1" strike="noStrike">
                <a:solidFill>
                  <a:srgbClr val="000000"/>
                </a:solidFill>
                <a:latin typeface="Times New Roman"/>
                <a:ea typeface="Times New Roman"/>
              </a:rPr>
              <a:t> характеризуют пессимизм, раздражительность, скука, высокая напряженность и конфликтность отношений в группе, неуверенность, боязнь ошибиться или произвести плохое впечатление, страх наказания, неприятие, непонимание, враждебность, подозрительность, недоверие друг к другу, нежелание вкладывать усилия в совместный продукт, в развитие коллектива и организации в целом, неудовлетворенность и т.д.</a:t>
            </a:r>
            <a:endParaRPr b="0" lang="en-US" sz="2500" spc="-1" strike="noStrike">
              <a:solidFill>
                <a:srgbClr val="000000"/>
              </a:solidFill>
              <a:latin typeface="Arial"/>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28240" y="152280"/>
            <a:ext cx="8458200" cy="6553440"/>
          </a:xfrm>
          <a:prstGeom prst="rect">
            <a:avLst/>
          </a:prstGeom>
          <a:noFill/>
          <a:ln w="0">
            <a:noFill/>
          </a:ln>
        </p:spPr>
        <p:txBody>
          <a:bodyPr anchor="t">
            <a:norm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1700" spc="-1" strike="noStrike">
                <a:solidFill>
                  <a:srgbClr val="000000"/>
                </a:solidFill>
                <a:latin typeface="Times New Roman"/>
                <a:ea typeface="Times New Roman"/>
              </a:rPr>
              <a:t>Предложенные ниже вопросы помогут оценить атмосферу в коллективе.</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 Нравится ли вам ваша работ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 Хотели бы вы ее поменять?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3. Если бы вам сейчас предстояло заняться поиском работы, остановили бы вы свой выбор на вашем настоящем мес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4. Достаточно ли ваша работа для вас интересна и разнообразн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5. Устраивают ли вас условия на вашем рабочем мес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6. Удовлетворяет ли вас оснащение, оборудование, которое вы используете в рабо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7. Насколько удовлетворяет вас оплата труд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8. Имеете ли вы возможность повысить свою квалификацию? Хотите ли воспользоваться такой возможностью?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9. Устраивает ли вас объем работы, которую вам приходится выполнять? Не перегружены ли вы? Приходится ли работать в нерабочее время?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0. Что в организации совместной деятельности вы предложили бы изменить?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1. Как бы вы оценили атмосферу в вашем трудовом коллективе (дружеские отношения, взаимное уважение, доверие или зависть, непонимание, напряженность в отношениях)?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2. Устраивают ли вас отношения с вашим непосредственным руководителем?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3. Часто ли возникают в вашем коллективе конфликты?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4. Считаете ли вы своих коллег квалифицированными работниками? Ответственными?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5. Пользуетесь ли вы доверием и уважением у ваших коллег?</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уководитель может целенаправленно регулировать характер отношений в группе и влиять на СПК. Для этого необходимо знать закономерности его формирования и осуществлять управленческую деятельность с учетом факторов, влияющих на СПК. Остановимся на их характеристике более подробно.</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акторы определяющие социально-психологический климат</a:t>
            </a:r>
            <a:br>
              <a:rPr sz="2800"/>
            </a:br>
            <a:endParaRPr b="0" lang="en-US" sz="28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Существует целый ряд факторов, определяющих социально-психологический климат в коллективе. Попробуем их перечислить.</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800" spc="-1" strike="noStrike">
                <a:solidFill>
                  <a:srgbClr val="000000"/>
                </a:solidFill>
                <a:latin typeface="Times New Roman"/>
                <a:ea typeface="Times New Roman"/>
              </a:rPr>
              <a:t>Глобальная макросреда</a:t>
            </a:r>
            <a:r>
              <a:rPr b="0" lang="ru-RU" sz="2800" spc="-1" strike="noStrike">
                <a:solidFill>
                  <a:srgbClr val="000000"/>
                </a:solidFill>
                <a:latin typeface="Times New Roman"/>
                <a:ea typeface="Times New Roman"/>
              </a:rPr>
              <a:t>: обстановка в обществе, совокупность экономических, культурных, политических и др. условий. Стабильность в экономической, политической жизни общества обеспечивают социальное и психологическое благополучие его членов и косвенно влияют на социально-психологический климат рабочих групп.</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28600" y="152280"/>
            <a:ext cx="8686800" cy="6553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Локальная макросреда</a:t>
            </a:r>
            <a:r>
              <a:rPr b="0" lang="ru-RU" sz="2400" spc="-1" strike="noStrike">
                <a:solidFill>
                  <a:srgbClr val="000000"/>
                </a:solidFill>
                <a:latin typeface="Times New Roman"/>
                <a:ea typeface="Times New Roman"/>
              </a:rPr>
              <a:t>, т.е. организация, в структуру которой входит трудовой коллектив. Размеры организации, статусно-ролевая структура, отсутствие функционально-ролевых противоречий, степень централизации власти, участие сотрудников в планировании, в распределении ресурсов, состав структурных подразделений (половозрастной, профессиональный, этнический) и т.д.</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изический микроклимат</a:t>
            </a:r>
            <a:r>
              <a:rPr b="0" lang="ru-RU" sz="2400" spc="-1" strike="noStrike">
                <a:solidFill>
                  <a:srgbClr val="000000"/>
                </a:solidFill>
                <a:latin typeface="Times New Roman"/>
                <a:ea typeface="Times New Roman"/>
              </a:rPr>
              <a:t>, санитарно-гигиенические условия труда. Жара, духота, плохая освещенность, постоянный шум могут стать источником повышенной раздражительности и косвенно повлиять на психологическую атмосферу в группе. Напротив, хорошо оборудованное рабочее место, благоприятные санитарно-гигиенические условия повышают удовлетворенность от трудовой деятельности в целом, способствуя формированию благоприятного СПК.</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txBox="1"/>
          <p:nvPr/>
        </p:nvSpPr>
        <p:spPr>
          <a:xfrm>
            <a:off x="228600" y="228600"/>
            <a:ext cx="8763120" cy="640080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Удовлетворенность работой</a:t>
            </a:r>
            <a:r>
              <a:rPr b="0" lang="ru-RU" sz="2000" spc="-1" strike="noStrike">
                <a:solidFill>
                  <a:srgbClr val="000000"/>
                </a:solidFill>
                <a:latin typeface="Times New Roman"/>
                <a:ea typeface="Times New Roman"/>
              </a:rPr>
              <a:t>. Большое значение для формирования благоприятного СПК имеет то, насколько работа является для человека интересной, разнообразной, творческой, соответствует ли она его профессиональному уровню, позволяет ли реализовать творческий потенциал, профессионально расти. Привлекательность работы повышают удовлетворенность условиями труда, оплатой, системой материального и морального стимулирования, социальным обеспечением, распределением отпусков, режимом работы, информационным обеспечением, перспективами карьерного роста, возможностью повысить уровень своего профессионализма, уровнем компетентности коллег, характером деловых и личных отношений в коллективе по вертикали и горизонтали и т.д. Привлекательность работы зависит от того, насколько ее условия соответствуют ожиданиям субъекта и позволяют реализовать его собственные интересы, удовлетворить потребности личности:</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хороших условиях труда и достойном материальном вознаграждении;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бщении и дружеских межличностных отношениях;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пехе, достижениях, признании и личном авторитете, обладании властью и возможностью влиять на поведение других;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ворческой и интересной работе, возможности профессионального и личностного развития, реализации своего потенциала.</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228600" y="228600"/>
            <a:ext cx="8686800" cy="6400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рактер выполняемой деятельности</a:t>
            </a:r>
            <a:r>
              <a:rPr b="0" lang="ru-RU" sz="2800" spc="-1" strike="noStrike">
                <a:solidFill>
                  <a:srgbClr val="000000"/>
                </a:solidFill>
                <a:latin typeface="Times New Roman"/>
                <a:ea typeface="Times New Roman"/>
              </a:rPr>
              <a:t>. Монотонность деятельности, ее высокая ответственность, наличие риска для здоровья и жизни сотрудника, стрессогенный характер, эмоциональная насыщенность и т.д. — все это факторы, которые косвенно могут негативно сказаться на СПК в рабочем коллективе.</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рганизация совместной деятельности</a:t>
            </a:r>
            <a:r>
              <a:rPr b="0" lang="ru-RU" sz="2800" spc="-1" strike="noStrike">
                <a:solidFill>
                  <a:srgbClr val="000000"/>
                </a:solidFill>
                <a:latin typeface="Times New Roman"/>
                <a:ea typeface="Times New Roman"/>
              </a:rPr>
              <a:t>. Формальная структура группы, способ распределения полномочий, наличие единой цели влияет на СПК. Взаимозависимость задач, нечеткое распределение функциональных обязанностей, несоответствие сотрудника его профессиональной роли, психологическая несовместимость участников совместной деятельности повышают напряженность отношений в группе и могут стать источником конфликтов.</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228600" y="228600"/>
            <a:ext cx="8686800" cy="6400800"/>
          </a:xfrm>
          <a:prstGeom prst="rect">
            <a:avLst/>
          </a:prstGeom>
          <a:noFill/>
          <a:ln w="0">
            <a:noFill/>
          </a:ln>
        </p:spPr>
        <p:txBody>
          <a:bodyPr anchor="t">
            <a:normAutofit fontScale="99000"/>
          </a:bodyPr>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Times New Roman"/>
                <a:ea typeface="Times New Roman"/>
              </a:rPr>
              <a:t>     </a:t>
            </a:r>
            <a:r>
              <a:rPr b="1" lang="ru-RU" sz="2300" spc="-1" strike="noStrike">
                <a:solidFill>
                  <a:srgbClr val="000000"/>
                </a:solidFill>
                <a:latin typeface="Times New Roman"/>
                <a:ea typeface="Times New Roman"/>
              </a:rPr>
              <a:t>Психологическая совместимость</a:t>
            </a:r>
            <a:r>
              <a:rPr b="0" lang="ru-RU" sz="2300" spc="-1" strike="noStrike">
                <a:solidFill>
                  <a:srgbClr val="000000"/>
                </a:solidFill>
                <a:latin typeface="Times New Roman"/>
                <a:ea typeface="Times New Roman"/>
              </a:rPr>
              <a:t> является важным фактором, влияющим на СПК. Под психологической совместимостью понимают способность к совместной деятельности, в основе которой лежит оптимальное сочетание в коллективе личностных качеств участников. Психологическая совместимость может быть обусловлена сходством характеристик участников совместной деятельности. Людям, похожим друг на друга легче наладить взаимодействие. Сходство способствует появлению чувства безопасности и уверенности в себе, повышает самооценку. В основе психологической совместимости может лежать и различие характеристик по принципу взаимодополняемости. В таком случае говорят, что люди подходят друг другу "как ключ к замку". Условием и результатом совместимости является межличностная симпатия, привязанность участников взаимодействия друг к другу. Вынужденное общение с неприятным субъектом может стать источником отрицательных эмоций.</a:t>
            </a: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На степень психологической совместимости сотрудников влияет то, насколько однородным является состав рабочей группы по различным социальным и психологическим параметрам.</a:t>
            </a: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txBox="1"/>
          <p:nvPr/>
        </p:nvSpPr>
        <p:spPr>
          <a:xfrm>
            <a:off x="0" y="228600"/>
            <a:ext cx="9144000" cy="6400800"/>
          </a:xfrm>
          <a:prstGeom prst="rect">
            <a:avLst/>
          </a:prstGeom>
          <a:noFill/>
          <a:ln w="0">
            <a:noFill/>
          </a:ln>
        </p:spPr>
        <p:txBody>
          <a:bodyPr anchor="t">
            <a:normAutofit/>
          </a:bodyPr>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ыделяют три уровня совместимости: </a:t>
            </a:r>
            <a:r>
              <a:rPr b="1" i="1" lang="ru-RU" sz="1900" spc="-1" strike="noStrike">
                <a:solidFill>
                  <a:srgbClr val="000000"/>
                </a:solidFill>
                <a:latin typeface="Times New Roman"/>
                <a:ea typeface="Times New Roman"/>
              </a:rPr>
              <a:t>психофизиологический, психологический и социально-психологический:</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Психофизи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овместимости имеет в своей основе оптимальное сочетание особенностей системы органов чувств (зрение, слух, осязание и т.д.) и свойств темперамента. Этот уровень совместимости приобретает особое значение при организации совместной деятельности. Холерик и флегматик будут выполнять задание в разном темпе, что может повлечь за собой сбои в работе и напряженность в отношениях между рабочими. </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Псих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едполагает совместимость характеров, мотивов, типов поведения. </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Социально-псих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овместимости основан на согласованности социальных ролей, социальных установок, ценностных ориентации, интересов. Двум субъектам, стремящимся к доминированию, будет сложно организовать совместную деятельность. Совместимости будет способствовать ориентация одного из них на подчинение. Вспыльчивому и импульсивному человеку больше подойдет в качестве напарника спокойный и уравновешенный сотрудник. Психологической совместимости способствуют критичность к себе, терпимость и доверие по отношению к партнеру по взаимодействию.</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Сработанность</a:t>
            </a:r>
            <a:r>
              <a:rPr b="0" lang="ru-RU" sz="1900" spc="-1" strike="noStrike">
                <a:solidFill>
                  <a:srgbClr val="000000"/>
                </a:solidFill>
                <a:latin typeface="Times New Roman"/>
                <a:ea typeface="Times New Roman"/>
              </a:rPr>
              <a:t> — это результат совместимости сотрудников. Она обеспечивает максимально возможную успешность совместной деятельности при минимальных затратах.</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228600" y="228600"/>
            <a:ext cx="8763120" cy="6400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рактер коммуникаций в организации</a:t>
            </a:r>
            <a:r>
              <a:rPr b="0" lang="ru-RU" sz="2800" spc="-1" strike="noStrike">
                <a:solidFill>
                  <a:srgbClr val="000000"/>
                </a:solidFill>
                <a:latin typeface="Times New Roman"/>
                <a:ea typeface="Times New Roman"/>
              </a:rPr>
              <a:t> выступает в качестве фактора СПК. Отсутствие полной и точной информации по важному для сотрудников вопросу создает благодатную почву для возникновения и распространения слухов и сплетен, плетения интриг и закулисных игр. Руководителю стоит внимательно следить за удовлетворительным информационным обеспечением деятельности организации. Низкая коммуникативная компетентность сотрудников также ведет к коммуникативным барьерам, росту напряженности в межличностных отношениях, непониманию, недоверию, конфликтам. Умение ясно и точно излагать свою точку зрения, владение приемами конструктивной критики, навыками активного слушания и т.д. создают условия для удовлетворительной коммуникации в организац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ллектив — это высшая форма организованной группы, в которой межличностные отношения опосредуются личностно значимым и общественно ценным содержанием групповой деятельности.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ллектив — это реальная, малая, она же организованная формальная группа высшего уровня развит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иль руководства</a:t>
            </a:r>
            <a:r>
              <a:rPr b="0" lang="ru-RU" sz="2800" spc="-1" strike="noStrike">
                <a:solidFill>
                  <a:srgbClr val="000000"/>
                </a:solidFill>
                <a:latin typeface="Times New Roman"/>
                <a:ea typeface="Times New Roman"/>
              </a:rPr>
              <a:t>. Роль руководителя в создании оптимального СПК является решающей:</a:t>
            </a:r>
            <a:br>
              <a:rPr sz="4000"/>
            </a:br>
            <a:endParaRPr b="0" lang="en-US" sz="2800" spc="-1" strike="noStrike">
              <a:solidFill>
                <a:srgbClr val="000000"/>
              </a:solidFill>
              <a:latin typeface="Arial"/>
            </a:endParaRPr>
          </a:p>
        </p:txBody>
      </p:sp>
      <p:sp>
        <p:nvSpPr>
          <p:cNvPr id="65" name=""/>
          <p:cNvSpPr txBox="1"/>
          <p:nvPr/>
        </p:nvSpPr>
        <p:spPr>
          <a:xfrm>
            <a:off x="228600" y="1219320"/>
            <a:ext cx="8686800" cy="5410080"/>
          </a:xfrm>
          <a:prstGeom prst="rect">
            <a:avLst/>
          </a:prstGeom>
          <a:noFill/>
          <a:ln w="0">
            <a:noFill/>
          </a:ln>
        </p:spPr>
        <p:txBody>
          <a:bodyPr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емократический стиль развивает общительность и доверительность взаимоотношений, дружественность. При этом нет ощущения навязанности решений извне, "сверху". Участие членов коллектива в управлении, свойственное этому стилю руководства, способствует оптимизации СПК. </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вторитарный стиль обычно порождает враждебность, покорность и заискивание, зависть и недоверие. Но если этот стиль приводит к успеху, который оправдывает его использование в глазах группы, он способствует благоприятному СПК, как например, в спорте или в армии. </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пустительский стиль имеет своим следствием низкую продуктивность и качество работы, неудовлетворенность совместной деятельностью и ведет к формированию неблагоприятного СПК. Попустительский стиль может быть приемлем лишь в некоторых творческих коллективах.</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457200" y="152280"/>
            <a:ext cx="8229600" cy="5973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 людей, составляющих коллектив, действуют определенные социально-психологические закономерности. Без знания этих закономерностей руководителю трудно управлять людьми, вести воспитательную работу, мобилизовать работающих на выполнение и перевыполнение планов. Вот почему каждый руководитель должен знать социально-психологическую структуру коллектива и социально-психологические закономерности, которые действуют в группах люде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457200" y="151920"/>
            <a:ext cx="8229600" cy="63248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     </a:t>
            </a:r>
            <a:r>
              <a:rPr b="0" lang="ru-RU" sz="2600" spc="-1" strike="noStrike">
                <a:solidFill>
                  <a:srgbClr val="000000"/>
                </a:solidFill>
                <a:latin typeface="Times New Roman"/>
                <a:ea typeface="Times New Roman"/>
              </a:rPr>
              <a:t>Социально–психологический климат представляет собой специфическое явление, которое слагается из особенностей восприятия человека человеком, взаимно испытываемых чувств, оценок и мнений, готовности к реагированию определенным образом на слова и поступки окружающих. Он оказывает влияние на самочувствие членов коллектива; на выработку, принятие и осуществление совместных решений; на достижение эффективности совместной деятельности.</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Таким образом, социально-психологический климат — это преобладающий в группе или коллективе относительно устойчивый психологический настрой его членов, проявляющийся в отношении друг к другу, к труду, к окружающим событиям и к организации в целом на основании индивидуальных, личностных ценностей и ориентации.</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6" name=""/>
          <p:cNvSpPr txBox="1"/>
          <p:nvPr/>
        </p:nvSpPr>
        <p:spPr>
          <a:xfrm>
            <a:off x="457200" y="304560"/>
            <a:ext cx="8229600" cy="6553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800" spc="-1" strike="noStrike">
                <a:solidFill>
                  <a:srgbClr val="000000"/>
                </a:solidFill>
                <a:latin typeface="Times New Roman"/>
                <a:ea typeface="Times New Roman"/>
              </a:rPr>
              <a:t>Определение В.М.Шепеля: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Психологический климат </a:t>
            </a:r>
            <a:r>
              <a:rPr b="0" lang="ru-RU" sz="2800" spc="-1" strike="noStrike">
                <a:solidFill>
                  <a:srgbClr val="000000"/>
                </a:solidFill>
                <a:latin typeface="Times New Roman"/>
                <a:ea typeface="Times New Roman"/>
              </a:rPr>
              <a:t>– это эмоциональная окраска психологических связей членов коллектива, возникающая на основе их симпатии, совпадения характеров, интересов, склонностей. Он считал, что СПК состоит из трех составляющи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оциальный климат: определяется осознанием общих целей и задач организаци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ральный климат – определяется принятыми моральными ценностями организаци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сихологический климат – это неофициальные отношения, которые складываются между работник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ea typeface="Times New Roman"/>
              </a:rPr>
              <a:t>Парыгин Б.Д.  говорил:</a:t>
            </a:r>
            <a:endParaRPr b="0" lang="en-US" sz="4400" spc="-1" strike="noStrike">
              <a:solidFill>
                <a:srgbClr val="000000"/>
              </a:solidFill>
              <a:latin typeface="Arial"/>
            </a:endParaRPr>
          </a:p>
        </p:txBody>
      </p:sp>
      <p:sp>
        <p:nvSpPr>
          <p:cNvPr id="48"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Значимость социально-психологического климата определяется также тем, что он способен выступать в качестве фактора эффективности тех или иных социальных явлений и процессов, служить показателем как их состояния, так и их изменения под влиянием социального и научно-технического прогресса.</a:t>
            </a:r>
            <a:br>
              <a:rPr sz="2500"/>
            </a:br>
            <a:r>
              <a:rPr b="0" lang="ru-RU" sz="2500" spc="-1" strike="noStrike">
                <a:solidFill>
                  <a:srgbClr val="000000"/>
                </a:solidFill>
                <a:latin typeface="Times New Roman"/>
                <a:ea typeface="Times New Roman"/>
              </a:rPr>
              <a:t>Социально-психологический климат выступает также в качестве полифункционального показателя уровня психологической включенности человека в деятельность, меры психологической эффективности этой деятельности, уровня психического потенциала личности и коллектива, масштаба и глубины барьеров, лежащих на пути реализации психологических резервов коллектива.</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152280" y="228600"/>
            <a:ext cx="8839440" cy="6400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Как пишет американский психолог Дж. Морено, известны четыре типа поведения людей в коллективе, которые отражают отношение члена группы к ее задачам, целям и обеспечивающим их нормам поведения:</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Внутригрупповая внушаемость </a:t>
            </a:r>
            <a:r>
              <a:rPr b="0" lang="ru-RU" sz="2100" spc="-1" strike="noStrike">
                <a:solidFill>
                  <a:srgbClr val="000000"/>
                </a:solidFill>
                <a:latin typeface="Times New Roman"/>
                <a:ea typeface="Times New Roman"/>
              </a:rPr>
              <a:t>— бесконфликтное, неосознаваемое принятие членом группы мнения группы. Происходит как бы гипнотизирование: принятие мнения группы происходит совершенно некритично;</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Конформность</a:t>
            </a:r>
            <a:r>
              <a:rPr b="0" lang="ru-RU" sz="2100" spc="-1" strike="noStrike">
                <a:solidFill>
                  <a:srgbClr val="000000"/>
                </a:solidFill>
                <a:latin typeface="Times New Roman"/>
                <a:ea typeface="Times New Roman"/>
              </a:rPr>
              <a:t> — осознанное внешнее согласие с мнением группы при внутреннем расхождении с ним. Человек осознанно меняет собственные оценки, под давлением группы внутренне оставаясь несогласным с этим (голый король);</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Негативизм</a:t>
            </a:r>
            <a:r>
              <a:rPr b="0" lang="ru-RU" sz="2100" spc="-1" strike="noStrike">
                <a:solidFill>
                  <a:srgbClr val="000000"/>
                </a:solidFill>
                <a:latin typeface="Times New Roman"/>
                <a:ea typeface="Times New Roman"/>
              </a:rPr>
              <a:t> — человек во всем противится мнению группы, демонстрируя на первый взгляд крайне независимую позицию; он "привязан" к групповому мнению, но всегда с обратным знаком;</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Коллективизм</a:t>
            </a:r>
            <a:r>
              <a:rPr b="0" lang="ru-RU" sz="2100" spc="-1" strike="noStrike">
                <a:solidFill>
                  <a:srgbClr val="000000"/>
                </a:solidFill>
                <a:latin typeface="Times New Roman"/>
                <a:ea typeface="Times New Roman"/>
              </a:rPr>
              <a:t> — это тип поведения личности в коллективе, для которого характерно избирательное отношение к ее любым влияниям, к мнениям группы, продиктованное сознательным следованием ее общественно значимым целям и задачам.</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Большое психологическое значение для взаимоотношений в коллективе имеют особенности слов, мимики, жестикуляции, действий коллег в зависимости от отдельных ситуаций и условий. Все это составляет источник дополнительной информации.</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457200" y="228600"/>
            <a:ext cx="8229600" cy="58975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0" i="1" lang="ru-RU" sz="2200" spc="-1" strike="noStrike">
                <a:solidFill>
                  <a:srgbClr val="000000"/>
                </a:solidFill>
                <a:latin typeface="Arial"/>
              </a:rPr>
              <a:t>Основные показатели психологического климат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работников организации характером и содержанием труда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взаимоотношениями с коллегами по работе и менеджерами</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стилем руководств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уровнем конфликтности отношений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профессиональной подготовкой персонал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В качестве специальных мер применяются: научнообоснованный подбор, обучение и периодическая аттестация руководящих кадров;</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Комплектование первичных коллективов с учетом фактора психологической совместимости; применение социальнопсихологических методов, способствующих выработке у членов коллектива навыков эффективного взаимопонимания и взаимодействия (СПТ, деловая игр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Психологический климат зависит от стиля руководств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57200" y="228600"/>
            <a:ext cx="8229600" cy="58975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0" i="1" lang="ru-RU" sz="3600" spc="-1" strike="noStrike">
                <a:solidFill>
                  <a:srgbClr val="000000"/>
                </a:solidFill>
                <a:latin typeface="Times New Roman"/>
                <a:ea typeface="Times New Roman"/>
              </a:rPr>
              <a:t>Факторы, влияющие на психологический климат группы</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1. Стиль руководства.</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2. Особенности деятельност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3. Система взаимоотношений по    вертикал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4. Система отношений по горизонтал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5. Совместимость.</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i="1" lang="ru-RU" sz="2800" spc="-1" strike="noStrike">
                <a:solidFill>
                  <a:srgbClr val="000000"/>
                </a:solidFill>
                <a:latin typeface="Times New Roman"/>
                <a:ea typeface="Times New Roman"/>
              </a:rPr>
              <a:t>Существуют признаки, по которым косвенно можно судить об атмосфере в группе. К ним относят:</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уровень текучести кадров;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изводительность труд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чество продукци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личество прогулов и опозданий;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личество претензий, жалоб, поступающих от сотрудников и клиентов;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полнение работы в срок или с опоздание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ккуратность или небрежность в обращении с оборудование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частота перерывов в работе.</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02T08:23: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