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D8A-8B59-4D77-B13B-3BCFEAB5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840-DBA7-4BBB-89D1-3894FAFB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52E-4FB5-432F-85E6-F33739D6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D7E-D378-4568-AEEF-FBC6EDB3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F02-7A47-4EED-9B38-34D6D47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0F4-52FB-4FC8-A34D-0A8327E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77E-AE0B-4C50-854A-6587FB8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6EE-7DF1-4EBD-A480-EBC39957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813-0B22-4C91-B916-07E7A2FA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8C1-45C5-45CF-83A3-0253253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9C9-8E86-4118-9EFE-FB72862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04A-3E77-43DF-91FF-2156E8F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C6D-2656-42C7-A7AE-408537D13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slide" Target="slide14.xml"/><Relationship Id="rId4" Type="http://schemas.openxmlformats.org/officeDocument/2006/relationships/image" Target="../media/image22.jpeg"/><Relationship Id="rId5" Type="http://schemas.openxmlformats.org/officeDocument/2006/relationships/slide" Target="slide13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1748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Животные наших ле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6733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видимые сети и невидимы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Урок окружающе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з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1260360" y="4167360"/>
            <a:ext cx="18655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волк"/>
          <p:cNvPicPr/>
          <p:nvPr/>
        </p:nvPicPr>
        <p:blipFill>
          <a:blip r:embed="rId2"/>
          <a:stretch/>
        </p:blipFill>
        <p:spPr>
          <a:xfrm>
            <a:off x="0" y="3821040"/>
            <a:ext cx="2538360" cy="260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лиса"/>
          <p:cNvPicPr/>
          <p:nvPr/>
        </p:nvPicPr>
        <p:blipFill>
          <a:blip r:embed="rId3"/>
          <a:srcRect l="0" t="0" r="0" b="12863"/>
          <a:stretch/>
        </p:blipFill>
        <p:spPr>
          <a:xfrm>
            <a:off x="2484360" y="4618080"/>
            <a:ext cx="4184640" cy="18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медведь"/>
          <p:cNvPicPr/>
          <p:nvPr/>
        </p:nvPicPr>
        <p:blipFill>
          <a:blip r:embed="rId4"/>
          <a:stretch/>
        </p:blipFill>
        <p:spPr>
          <a:xfrm>
            <a:off x="7250040" y="3078000"/>
            <a:ext cx="17748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0039334"/>
          <p:cNvPicPr/>
          <p:nvPr/>
        </p:nvPicPr>
        <p:blipFill>
          <a:blip r:embed="rId1"/>
          <a:stretch/>
        </p:blipFill>
        <p:spPr>
          <a:xfrm>
            <a:off x="217440" y="509760"/>
            <a:ext cx="8675640" cy="58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Доброе слово о хищни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вол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1413000"/>
            <a:ext cx="1873440" cy="126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ят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47973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ышь лесная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00720" y="285264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оброе слово о вол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сторожный умный зверь, он хорошо чувствует опасность и умело скрывается от охотников. Летом, когда пищу можно достать очень легко, волки живут семьями. Зимой, когда добывать еду  становится трудно, волки объединяются в стаю. Каждый зверь в стае занимает свое место. Сильный зверь в драке никогда не загрызет более слабого. Раньше волков беспощадно уничтожали. И вдруг заметили: где не стало волков, там уменьшилось и количество других животных. Оказалось, что волк -хороший санитар. Он уничтожает больных травоядных животных, препятствует распространению болезней среди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брое слово о мы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ую многочисленную группу лесных млекопитающих составляют мыши. Для них здесь много растительной пищи, а от дневной жары, зимней стужи и хищников можно спрятаться в норах, которые можно вырыть под корнями деревьев, в земле. Мыши- основная пища лис, ежей, птиц отряда ястребиных. Лесу от них вреда никакого, а вот польза очевидна. Кружат над лесом в изобилии хищные птицы- порядок! Лес зд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33"/>
                </a:solidFill>
                <a:latin typeface="Arial"/>
              </a:rPr>
              <a:t>Доброе слово о дят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ятел- яркая птица нашего леса. Далеко слышно,  как хлопочет о здоровье леса этот санитар. Настоящий доктор! Лечит и предупреждает заболевания деревьев. Даже головы своей не жалеет. Ника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жучок, никакой червячок не спрячется от его клюва. Крепким острым клювом вытаскивает на свет божий букашку и …- тут ей и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ямые и косвенные связи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ям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– коро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стья дуба - 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Желуди дуба -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56000" y="1628280"/>
            <a:ext cx="4608720" cy="4464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acf2b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Косвенн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куш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16360" y="2781360"/>
            <a:ext cx="26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43280" y="306864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ли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Diagram 10"/>
          <p:cNvGrpSpPr/>
          <p:nvPr/>
        </p:nvGrpSpPr>
        <p:grpSpPr>
          <a:xfrm>
            <a:off x="5839920" y="4289760"/>
            <a:ext cx="2144160" cy="1753200"/>
            <a:chOff x="5839920" y="4289760"/>
            <a:chExt cx="2144160" cy="1753200"/>
          </a:xfrm>
        </p:grpSpPr>
        <p:sp>
          <p:nvSpPr>
            <p:cNvPr id="117" name="_s2052"/>
            <p:cNvSpPr/>
            <p:nvPr/>
          </p:nvSpPr>
          <p:spPr>
            <a:xfrm>
              <a:off x="6237000" y="4289760"/>
              <a:ext cx="1350360" cy="1209240"/>
            </a:xfrm>
            <a:custGeom>
              <a:avLst/>
              <a:gdLst>
                <a:gd name="textAreaLeft" fmla="*/ 0 w 1350360"/>
                <a:gd name="textAreaRight" fmla="*/ 1350720 w 135036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3"/>
            <p:cNvSpPr/>
            <p:nvPr/>
          </p:nvSpPr>
          <p:spPr>
            <a:xfrm rot="7200000">
              <a:off x="6491880" y="450612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4"/>
            <p:cNvSpPr/>
            <p:nvPr/>
          </p:nvSpPr>
          <p:spPr>
            <a:xfrm rot="14400000">
              <a:off x="6122160" y="450576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5"/>
            <p:cNvSpPr/>
            <p:nvPr/>
          </p:nvSpPr>
          <p:spPr>
            <a:xfrm>
              <a:off x="7282080" y="4511160"/>
              <a:ext cx="5418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6642360" y="5505840"/>
              <a:ext cx="541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7"/>
            <p:cNvSpPr/>
            <p:nvPr/>
          </p:nvSpPr>
          <p:spPr>
            <a:xfrm>
              <a:off x="6000120" y="4511880"/>
              <a:ext cx="541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Пищевая сеть. Что это тако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ищевая сеть дубового лес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0"/>
          <p:cNvGrpSpPr/>
          <p:nvPr/>
        </p:nvGrpSpPr>
        <p:grpSpPr>
          <a:xfrm>
            <a:off x="329400" y="2276640"/>
            <a:ext cx="8510760" cy="3484080"/>
            <a:chOff x="329400" y="2276640"/>
            <a:chExt cx="8510760" cy="3484080"/>
          </a:xfrm>
        </p:grpSpPr>
        <p:sp>
          <p:nvSpPr>
            <p:cNvPr id="127" name="Text Box 5"/>
            <p:cNvSpPr/>
            <p:nvPr/>
          </p:nvSpPr>
          <p:spPr>
            <a:xfrm>
              <a:off x="1587600" y="5301000"/>
              <a:ext cx="916920" cy="4597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100680" y="3932280"/>
              <a:ext cx="2028960" cy="459720"/>
              <a:chOff x="3100680" y="3932280"/>
              <a:chExt cx="2028960" cy="459720"/>
            </a:xfrm>
          </p:grpSpPr>
          <p:sp>
            <p:nvSpPr>
              <p:cNvPr id="129" name="Text Box 6"/>
              <p:cNvSpPr/>
              <p:nvPr/>
            </p:nvSpPr>
            <p:spPr>
              <a:xfrm>
                <a:off x="3100680" y="3932280"/>
                <a:ext cx="732240" cy="459720"/>
              </a:xfrm>
              <a:prstGeom prst="rect">
                <a:avLst/>
              </a:prstGeom>
              <a:solidFill>
                <a:srgbClr val="baf4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у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"/>
              <p:cNvSpPr/>
              <p:nvPr/>
            </p:nvSpPr>
            <p:spPr>
              <a:xfrm>
                <a:off x="3819600" y="3932280"/>
                <a:ext cx="1310040" cy="459720"/>
              </a:xfrm>
              <a:prstGeom prst="rect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желуд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2"/>
            <p:cNvSpPr/>
            <p:nvPr/>
          </p:nvSpPr>
          <p:spPr>
            <a:xfrm>
              <a:off x="3821040" y="2995920"/>
              <a:ext cx="90468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зме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925040" y="2276640"/>
              <a:ext cx="915120" cy="4597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2813400" y="2995920"/>
              <a:ext cx="892440" cy="459720"/>
            </a:xfrm>
            <a:prstGeom prst="rect">
              <a:avLst/>
            </a:prstGeom>
            <a:solidFill>
              <a:srgbClr val="bbe0e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63240" y="3140280"/>
              <a:ext cx="90000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л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4540320" y="5229360"/>
              <a:ext cx="1230840" cy="459720"/>
            </a:xfrm>
            <a:prstGeom prst="rect">
              <a:avLst/>
            </a:prstGeom>
            <a:solidFill>
              <a:srgbClr val="b0eed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ку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5837400" y="5229360"/>
              <a:ext cx="17244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рност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2741040" y="5229360"/>
              <a:ext cx="154332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усе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443960" y="3932280"/>
              <a:ext cx="1108800" cy="45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мыш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261400" y="4437360"/>
              <a:ext cx="105408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1805400" y="2995920"/>
              <a:ext cx="9000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и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329400" y="4869000"/>
              <a:ext cx="104472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5261400" y="3284640"/>
              <a:ext cx="1400040" cy="4597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укуш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 flipH="1">
              <a:off x="2552760" y="4164120"/>
              <a:ext cx="5155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V="1">
              <a:off x="1871640" y="3429000"/>
              <a:ext cx="0" cy="502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 flipV="1">
              <a:off x="1871640" y="3500280"/>
              <a:ext cx="115200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1871640" y="3500280"/>
              <a:ext cx="230292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 flipV="1">
              <a:off x="4390920" y="2420640"/>
              <a:ext cx="3528720" cy="57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 flipV="1">
              <a:off x="6624720" y="2708640"/>
              <a:ext cx="1294920" cy="57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 flipV="1">
              <a:off x="5903640" y="2708640"/>
              <a:ext cx="2160360" cy="1728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 flipH="1">
              <a:off x="5327280" y="4869000"/>
              <a:ext cx="28836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6048360" y="4869000"/>
              <a:ext cx="21528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5"/>
            <p:cNvSpPr/>
            <p:nvPr/>
          </p:nvSpPr>
          <p:spPr>
            <a:xfrm flipV="1">
              <a:off x="3166920" y="4363920"/>
              <a:ext cx="0" cy="865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 flipV="1">
              <a:off x="4248000" y="3716640"/>
              <a:ext cx="1655280" cy="1512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 flipH="1" flipV="1">
              <a:off x="923760" y="3645000"/>
              <a:ext cx="1018800" cy="165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 flipV="1">
              <a:off x="1366920" y="4437000"/>
              <a:ext cx="3312720" cy="647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 flipV="1">
              <a:off x="863640" y="3571560"/>
              <a:ext cx="0" cy="1297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Пищевая пирамида = экологическая пирам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_s1029"/>
          <p:cNvSpPr/>
          <p:nvPr/>
        </p:nvSpPr>
        <p:spPr>
          <a:xfrm flipV="1">
            <a:off x="1116000" y="3212280"/>
            <a:ext cx="2692440" cy="1166760"/>
          </a:xfrm>
          <a:prstGeom prst="pi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_s1029"/>
          <p:cNvSpPr/>
          <p:nvPr/>
        </p:nvSpPr>
        <p:spPr>
          <a:xfrm flipV="1">
            <a:off x="468360" y="4438800"/>
            <a:ext cx="4038480" cy="1164960"/>
          </a:xfrm>
          <a:prstGeom prst="pie">
            <a:avLst/>
          </a:prstGeom>
          <a:solidFill>
            <a:srgbClr val="cc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а о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_s1028"/>
          <p:cNvSpPr/>
          <p:nvPr/>
        </p:nvSpPr>
        <p:spPr>
          <a:xfrm flipV="1">
            <a:off x="1763640" y="1988280"/>
            <a:ext cx="1346400" cy="1165320"/>
          </a:xfrm>
          <a:prstGeom prst="pie">
            <a:avLst/>
          </a:prstGeom>
          <a:solidFill>
            <a:srgbClr val="ffff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1030"/>
          <p:cNvSpPr/>
          <p:nvPr/>
        </p:nvSpPr>
        <p:spPr>
          <a:xfrm flipV="1">
            <a:off x="4545000" y="4403880"/>
            <a:ext cx="4141800" cy="1195200"/>
          </a:xfrm>
          <a:prstGeom prst="pie">
            <a:avLst/>
          </a:prstGeom>
          <a:solidFill>
            <a:srgbClr val="99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1029"/>
          <p:cNvSpPr/>
          <p:nvPr/>
        </p:nvSpPr>
        <p:spPr>
          <a:xfrm flipV="1">
            <a:off x="5235480" y="3099600"/>
            <a:ext cx="2760840" cy="1197000"/>
          </a:xfrm>
          <a:prstGeom prst="pie">
            <a:avLst/>
          </a:prstGeom>
          <a:solidFill>
            <a:srgbClr val="00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_s1028"/>
          <p:cNvSpPr/>
          <p:nvPr/>
        </p:nvSpPr>
        <p:spPr>
          <a:xfrm flipV="1">
            <a:off x="5925960" y="1843920"/>
            <a:ext cx="1379880" cy="1195560"/>
          </a:xfrm>
          <a:prstGeom prst="pie">
            <a:avLst/>
          </a:prstGeom>
          <a:solidFill>
            <a:srgbClr val="ff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Arial"/>
              </a:rPr>
              <a:t>Пищевая пирам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и пирамидами можно расположить животных в природе. В основании пирамиды будет очень много растений. В средней части- много животных. В верхней части – мало животных. Проверь, как ты понял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нужно природе большое количество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тениями питаются многие жив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о в природе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елких живот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 лесу так много мыш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ми питаются многие живот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, что ест?</a:t>
            </a:r>
            <a:br>
              <a:rPr sz="5400"/>
            </a:br>
            <a:r>
              <a:rPr b="0" i="1" lang="ru-RU" sz="4000" spc="-1" strike="noStrike">
                <a:solidFill>
                  <a:srgbClr val="3333cc"/>
                </a:solidFill>
                <a:latin typeface="Arial"/>
              </a:rPr>
              <a:t>Вопросы для решени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 какие группы можно разделить животных по типам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то такое цепь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чему цепь питания начинается с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брое слово о хищ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ямые и косвенные связи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ищевая сеть. Что э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ищевая пирамида. Кто на верш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Группы животных по типам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700280"/>
            <a:ext cx="4824360" cy="2114640"/>
          </a:xfrm>
          <a:prstGeom prst="rect">
            <a:avLst/>
          </a:prstGeom>
          <a:solidFill>
            <a:srgbClr val="c6e9bd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стительнояд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животные, которым нужна растительная п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92720" y="1557360"/>
            <a:ext cx="3456000" cy="2449440"/>
          </a:xfrm>
          <a:prstGeom prst="rect">
            <a:avLst/>
          </a:prstGeom>
          <a:solidFill>
            <a:srgbClr val="ff0000">
              <a:alpha val="22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Хищ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животные, которые охотятся более крупную добычу, поедают себе подоб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4076640"/>
            <a:ext cx="3961080" cy="2449440"/>
          </a:xfrm>
          <a:prstGeom prst="rect">
            <a:avLst/>
          </a:prstGeom>
          <a:solidFill>
            <a:srgbClr val="f3ccb7">
              <a:alpha val="68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сеядные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животные, которые могут питаться растениями и поедать себе подобные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58920" y="4508640"/>
            <a:ext cx="3956040" cy="1760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асекомоядные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животные, которые едят насекомых. Это тоже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rId6" action="ppaction://hlinksldjump"/>
          </p:cNvPr>
          <p:cNvSpPr/>
          <p:nvPr/>
        </p:nvSpPr>
        <p:spPr>
          <a:xfrm>
            <a:off x="8459640" y="6381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астительнояд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8461440" y="638316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заяц1"/>
          <p:cNvPicPr/>
          <p:nvPr/>
        </p:nvPicPr>
        <p:blipFill>
          <a:blip r:embed="rId2"/>
          <a:stretch/>
        </p:blipFill>
        <p:spPr>
          <a:xfrm>
            <a:off x="3492360" y="1557360"/>
            <a:ext cx="2352960" cy="226548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59" name="Picture 7" descr="лось"/>
          <p:cNvPicPr/>
          <p:nvPr/>
        </p:nvPicPr>
        <p:blipFill>
          <a:blip r:embed="rId3"/>
          <a:stretch/>
        </p:blipFill>
        <p:spPr>
          <a:xfrm>
            <a:off x="6070680" y="1643040"/>
            <a:ext cx="2678040" cy="207324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0" name="Picture 8" descr="sekia-бабочка"/>
          <p:cNvPicPr/>
          <p:nvPr/>
        </p:nvPicPr>
        <p:blipFill>
          <a:blip r:embed="rId4"/>
          <a:stretch/>
        </p:blipFill>
        <p:spPr>
          <a:xfrm>
            <a:off x="5867280" y="4005360"/>
            <a:ext cx="3041640" cy="22813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1" name="Picture 9" descr="гусеница"/>
          <p:cNvPicPr/>
          <p:nvPr/>
        </p:nvPicPr>
        <p:blipFill>
          <a:blip r:embed="rId5"/>
          <a:stretch/>
        </p:blipFill>
        <p:spPr>
          <a:xfrm>
            <a:off x="2556000" y="4095720"/>
            <a:ext cx="2987640" cy="207000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Насекомоядные 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я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ре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стрекоза"/>
          <p:cNvPicPr/>
          <p:nvPr/>
        </p:nvPicPr>
        <p:blipFill>
          <a:blip r:embed="rId2"/>
          <a:stretch/>
        </p:blipFill>
        <p:spPr>
          <a:xfrm>
            <a:off x="2268360" y="4637160"/>
            <a:ext cx="2767320" cy="20746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6" name="Picture 6" descr="кукушка"/>
          <p:cNvPicPr/>
          <p:nvPr/>
        </p:nvPicPr>
        <p:blipFill>
          <a:blip r:embed="rId3"/>
          <a:stretch/>
        </p:blipFill>
        <p:spPr>
          <a:xfrm>
            <a:off x="6156360" y="1689120"/>
            <a:ext cx="2120760" cy="2676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7" name="Picture 7" descr="дятел"/>
          <p:cNvPicPr/>
          <p:nvPr/>
        </p:nvPicPr>
        <p:blipFill>
          <a:blip r:embed="rId4"/>
          <a:stretch/>
        </p:blipFill>
        <p:spPr>
          <a:xfrm>
            <a:off x="3780000" y="1700280"/>
            <a:ext cx="205236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8" name="Picture 8" descr="муравей"/>
          <p:cNvPicPr/>
          <p:nvPr/>
        </p:nvPicPr>
        <p:blipFill>
          <a:blip r:embed="rId5"/>
          <a:stretch/>
        </p:blipFill>
        <p:spPr>
          <a:xfrm>
            <a:off x="5365800" y="4651200"/>
            <a:ext cx="2735280" cy="20908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Arial"/>
              </a:rPr>
              <a:t>Всеяд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ро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дрозд"/>
          <p:cNvPicPr/>
          <p:nvPr/>
        </p:nvPicPr>
        <p:blipFill>
          <a:blip r:embed="rId2"/>
          <a:stretch/>
        </p:blipFill>
        <p:spPr>
          <a:xfrm>
            <a:off x="2987640" y="1309680"/>
            <a:ext cx="3240000" cy="22636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3" name="Picture 6" descr="медведь"/>
          <p:cNvPicPr/>
          <p:nvPr/>
        </p:nvPicPr>
        <p:blipFill>
          <a:blip r:embed="rId3"/>
          <a:stretch/>
        </p:blipFill>
        <p:spPr>
          <a:xfrm>
            <a:off x="2290680" y="4221000"/>
            <a:ext cx="2857680" cy="1962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5364000" y="3789360"/>
            <a:ext cx="2367000" cy="2808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ищ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54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сова 1"/>
          <p:cNvPicPr/>
          <p:nvPr/>
        </p:nvPicPr>
        <p:blipFill>
          <a:blip r:embed="rId2"/>
          <a:stretch/>
        </p:blipFill>
        <p:spPr>
          <a:xfrm>
            <a:off x="6372360" y="2349360"/>
            <a:ext cx="2419200" cy="2880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9" name="Picture 7" descr="волк"/>
          <p:cNvPicPr/>
          <p:nvPr/>
        </p:nvPicPr>
        <p:blipFill>
          <a:blip r:embed="rId3"/>
          <a:stretch/>
        </p:blipFill>
        <p:spPr>
          <a:xfrm>
            <a:off x="2700360" y="1484280"/>
            <a:ext cx="3457440" cy="2343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0" name="Picture 8" descr="лиса"/>
          <p:cNvPicPr/>
          <p:nvPr/>
        </p:nvPicPr>
        <p:blipFill>
          <a:blip r:embed="rId4"/>
          <a:stretch/>
        </p:blipFill>
        <p:spPr>
          <a:xfrm>
            <a:off x="2627280" y="4005360"/>
            <a:ext cx="3529080" cy="24606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Organization Chart 16"/>
          <p:cNvGrpSpPr/>
          <p:nvPr/>
        </p:nvGrpSpPr>
        <p:grpSpPr>
          <a:xfrm>
            <a:off x="245880" y="444600"/>
            <a:ext cx="8286120" cy="5587920"/>
            <a:chOff x="245880" y="444600"/>
            <a:chExt cx="8286120" cy="5587920"/>
          </a:xfrm>
        </p:grpSpPr>
        <p:cxnSp>
          <p:nvCxnSpPr>
            <p:cNvPr id="83" name="_s1028"/>
            <p:cNvCxnSpPr>
              <a:stCxn id="84" idx="0"/>
              <a:endCxn id="85" idx="2"/>
            </p:cNvCxnSpPr>
            <p:nvPr/>
          </p:nvCxnSpPr>
          <p:spPr>
            <a:xfrm flipV="1" rot="16200000">
              <a:off x="3483000" y="2893680"/>
              <a:ext cx="3531960" cy="332280"/>
            </a:xfrm>
            <a:prstGeom prst="bentConnector3">
              <a:avLst>
                <a:gd name="adj1" fmla="val 318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1029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2966760" y="1226880"/>
              <a:ext cx="2050200" cy="2184120"/>
            </a:xfrm>
            <a:prstGeom prst="bentConnector3">
              <a:avLst>
                <a:gd name="adj1" fmla="val 54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1030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914920" y="-95760"/>
              <a:ext cx="779040" cy="3558600"/>
            </a:xfrm>
            <a:prstGeom prst="bentConnector3">
              <a:avLst>
                <a:gd name="adj1" fmla="val 14424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5" name="_s1031"/>
            <p:cNvSpPr/>
            <p:nvPr/>
          </p:nvSpPr>
          <p:spPr>
            <a:xfrm>
              <a:off x="2986200" y="444600"/>
              <a:ext cx="4191480" cy="84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Arial"/>
                </a:rPr>
                <a:t>цепь питания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2"/>
            <p:cNvSpPr/>
            <p:nvPr/>
          </p:nvSpPr>
          <p:spPr>
            <a:xfrm>
              <a:off x="245880" y="2073240"/>
              <a:ext cx="2559600" cy="70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3"/>
            <p:cNvSpPr/>
            <p:nvPr/>
          </p:nvSpPr>
          <p:spPr>
            <a:xfrm>
              <a:off x="811440" y="3344400"/>
              <a:ext cx="417384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ительнояд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2298960" y="4826160"/>
              <a:ext cx="6233040" cy="120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асекомоядные или хищ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очему цепь питания начинается с раст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пи питания в дубовом ле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ора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рое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Листья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гусе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белк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сой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б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 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393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3860640"/>
            <a:ext cx="1042920" cy="155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8:31:51Z</dcterms:created>
  <dc:creator>student</dc:creator>
  <dc:description/>
  <dc:language>en-US</dc:language>
  <cp:lastModifiedBy>Коля</cp:lastModifiedBy>
  <dcterms:modified xsi:type="dcterms:W3CDTF">2013-05-23T19:20:27Z</dcterms:modified>
  <cp:revision>44</cp:revision>
  <dc:subject/>
  <dc:title>Животные наших лесов</dc:title>
</cp:coreProperties>
</file>