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A782-C4A1-42E3-AF7E-862904EE10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75DC-3A0C-4883-9013-112310FCB58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5F78-20F4-4B81-A50D-0E255833035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7391-18FA-40DB-9E15-CF12BFD0377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E34-5D3B-450A-BC50-D0446533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31B-2751-45FE-B61B-C62BAA82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758-5DBF-489D-98D2-6D085264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F7F-0A43-472D-A731-5244B6C5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C584-C284-4EA8-9C6F-884FE8FB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C03F-1DB1-468D-8DFB-D94DAD26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03BD-B798-4943-A9D6-A2C07F06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AED8-3926-4E5D-ACEA-FEC95B76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9BA1-3568-488C-B5A3-AA4D7F06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FE98-E6BE-4020-8F3D-D4B4BB5B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2629-4ECF-4A1B-B15E-79CE0287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FC1-5D7D-4071-8401-965B4D4A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67D6-9B0A-4491-A9D5-BE51BAB6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0405-6AFA-4C71-B789-9BA6524B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8729-68F8-4C5D-A0BF-C1C1657C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307D-EA69-463E-9296-5A88898C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4891-9BB1-454A-A96B-49250854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900-130B-48E5-9479-441E9011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41E-680C-4F4B-AB71-1BD96510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E0C-FE2B-484B-A474-4A4D8E74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BE2-DE59-469C-84A2-10272B14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01E-AC52-4EDB-9670-81310DC4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8DD-F71D-41A1-B196-AE587830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B196-8CBD-4DF9-AC68-89FB2531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DB29-86DE-4028-BA53-F9A11ACA5D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033F-74E8-4FDC-82D5-EC07471C3CF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етербургское измерение инноваций в системе образова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лексеев С.В.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ректор по научной работе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.п.н., профессо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новации!!!???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Инноваци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новшество, обладающее рядом признаков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гностичн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 «взглянуть в завтра»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стребованн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 «сегодня и завтра»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ффективн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 «дает эффект», может быть даже системный эффект !!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з проекта Закона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ая деятельно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а на совершенствование научно-педагогического, учебно-методического, организационного, правового, финансово-экономического, кадрового, материально-технического обеспечения системы образования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осуществляется  в форме реализаци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ых проектов (програм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рганизациями, осуществляющими образовательную деятельность, и иными организациями, действующими в сфере образования, вне зависимости от их организационно-правовой формы, типа, вида, ведомственной принадлежности, а также их объединениями в рамках предписаний действующего законодательства об образовани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ализации инновационного проекта (программы) должно быть обеспечено соблюдение прав и законных интересов участников образовательного процесса, предоставление образования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и качество которого не может быть ниже требова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становленных федеральным государственным образовательным стандартом, или федеральных государственных требова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новации: кто…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ьшинству людей, чтобы добиться успеха, надо следовать правилам. Инноваторы добиваются успеха, нарушая прави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ив Возняк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ин из создателей компани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ppl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новации : сколько…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ще никогда  в истории инновации не обещали так много, так многим и так быстр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лл Гейтс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здатель компани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новации : как…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новации лучше начинать с небольшого пилотного проекта, требующего поначалу немного финансов и людей, экспериментируя на небольшом рын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итер Друкер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мериканский теоретик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 каком измерении идет речь ??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мирное измерение качества образовани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вропейское измерение качества образовани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йское измерение качества образования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тербургское измерение качества образовани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Инновации отличают лидера от догоняющего ( Стив Джобс,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Apple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новационная школ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курентноспособ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школа- лиде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комфорт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собственно инновационна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 Н.А.Заиченко, 20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етербургское измерение: личность (индивидуальность) школьни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петентности ( ключевые, предметны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ульту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итание и социализ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курентноспособ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товность к непрерывному образованию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етербургское измерение : личность (индивидуальность) педагог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* Х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Всероссийский Интернет – педсовет проходит под девизом Пяти степеней учителя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лич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профессиона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ученик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исследовател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граждани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*Петербургский вектор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«человек  культур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«человек  наук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 как петербуржец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ортрет современного педагога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(по данным Международного института развития, 2010г.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Владеет интерактивными методами обучения  и технологией модераци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. Владеет ИКТ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. Владеет технологией проектирования урок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. Умеет управлять мотивацие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 Занимает активную жизненную позицию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. Открыт к инновациям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7. Постоянно учи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. Самостоятельны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9. Партнер для своих учеников и коллег 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0.Целеустремленны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новационные программы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кануне принятия Нового Закона «Об образовании»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модернизации - программа достижения нового качества российского образования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зидентская инициатива «Наша новая школ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 6 направлений) – программа достижения нового качества жизни и школьников, и педагогов, и родителей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атегическая программа развития образования – 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едеральные государственные образовательные стандарты (по всем ступеням непрерывного образования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атегия развития Петербургской школы (9 направлений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етербургское измерение : личности (индивидуальности) родителе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тель – учени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тель - педаг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тель - психо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тель- менедж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тель –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техно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етербургское измерение : образовательная среда школ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доровьесозидающ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опас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форт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ициирующая творчество («неспокойная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сыщен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родо- и культуросообразна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етербургское измерение : образовательный процесс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бор содержания , обеспечивающего достижения предметных, метапредметных и личностных образовательных результат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тимальное сочетание традиционных и инновационных технологий, командных и индивидуальных форм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минирование интерактивных, деятельностных методов обуч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тимальное сочетание урочных и внеурочных форм обучения , аудиторного и внеаудиторного образов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оритеты самостоятельной работы школьников и самообразования педагогов, самооценки достигнутых результатов школьниками и педагогами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2438280" y="304920"/>
            <a:ext cx="4267440" cy="6095880"/>
          </a:xfrm>
          <a:prstGeom prst="ellipse">
            <a:avLst/>
          </a:prstGeom>
          <a:solidFill>
            <a:srgbClr val="ffcf01">
              <a:alpha val="50000"/>
            </a:srgbClr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060800" y="380880"/>
            <a:ext cx="296064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вивающее обуче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250600" y="811080"/>
            <a:ext cx="279288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блемное обуче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956920" y="1241280"/>
            <a:ext cx="287352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мастерск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048360" y="1671480"/>
            <a:ext cx="286704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лективную систему обучения (КСО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019920" y="2376360"/>
            <a:ext cx="289548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решения изобретательских задач (ТРИЗ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6019920" y="3355920"/>
            <a:ext cx="289548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следования в обучен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019920" y="4060800"/>
            <a:ext cx="289548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екты в обучен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6019920" y="4765680"/>
            <a:ext cx="289548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«дебаты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562720" y="5195880"/>
            <a:ext cx="335268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модульного  обуч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788000" y="6021360"/>
            <a:ext cx="319536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екционно-семинарско-зачетную систему обуч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547640" y="6021360"/>
            <a:ext cx="320040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 развития «критического мышления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50920" y="4941720"/>
            <a:ext cx="441936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гровые технологии: ролевые, деловые  и другие   видов обучающих иг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228600" y="3603600"/>
            <a:ext cx="2666880" cy="11912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учение в сотрудничестве (командная, групповая работа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228600" y="2592360"/>
            <a:ext cx="266688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-коммуникационные технолог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228600" y="1854360"/>
            <a:ext cx="266688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доровьесберегающие технолог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228600" y="1117440"/>
            <a:ext cx="309240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стему   инновационной оценки «портфолио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380880" y="380880"/>
            <a:ext cx="335304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дистанционного обучения  и др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20"/>
          <p:cNvSpPr txBox="1"/>
          <p:nvPr/>
        </p:nvSpPr>
        <p:spPr>
          <a:xfrm>
            <a:off x="3048120" y="2133720"/>
            <a:ext cx="30430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81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К числу</a:t>
            </a:r>
            <a:endParaRPr b="1" lang="en-US" sz="1800" spc="1" strike="noStrike">
              <a:ln w="12600">
                <a:solidFill>
                  <a:srgbClr val="ffcc81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81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современных</a:t>
            </a:r>
            <a:endParaRPr b="1" lang="en-US" sz="1800" spc="1" strike="noStrike">
              <a:ln w="12600">
                <a:solidFill>
                  <a:srgbClr val="ffcc81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81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образовательных</a:t>
            </a:r>
            <a:endParaRPr b="1" lang="en-US" sz="1800" spc="1" strike="noStrike">
              <a:ln w="12600">
                <a:solidFill>
                  <a:srgbClr val="ffcc81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81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технологий</a:t>
            </a:r>
            <a:endParaRPr b="1" lang="en-US" sz="1800" spc="1" strike="noStrike">
              <a:ln w="12600">
                <a:solidFill>
                  <a:srgbClr val="ffcc81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81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сегодня относят:</a:t>
            </a:r>
            <a:endParaRPr b="1" lang="en-US" sz="1800" spc="1" strike="noStrike">
              <a:ln w="12600">
                <a:solidFill>
                  <a:srgbClr val="ffcc81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75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25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0"/>
                            </p:stCondLst>
                            <p:childTnLst>
                              <p:par>
                                <p:cTn id="6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75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25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 также технологии 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делир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нозир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ейс- технолог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текстного обуч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хнология ситуационных зада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амообраз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спитатель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флексив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ниторинговые технолог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хнологии модерации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Тенденции современного оценивания (по Г.С.Ковалево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ть то, что значимо, а не что легче замерить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ть понимание, осмысление, объяснение, установление причинно- следственных связей, а не конкретные знания, рутинные умения и алгоритмы деятельности (?!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ть то , что знают учащиеся, и  то что они не знают («знание о  знании»  и «знание о незнании»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влекать учащихся к оценке своих результатов и результатов своих одноклассников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влекать учителей в процесс разработки системы внешнего контроля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пользовать многообразие и разнообразие методов и форм оценки, включая и тестовый метод- ЕГЭ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ачество жизни -2007/08 (ООН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а         ИРЧП         СОПЖ               ВВП            Образование           Здравоохр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сландия           0,968              81,5                36510                    8,1                             8,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рвегия           0,968              79,8                41420                     7,7                             8,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встралия        0,962               80,9                31794                     4,7                             6,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нада               0,961              80,3                33375                     5,2                             6,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Ирландия          0,959             78,4                 38505                     4,8                             5,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Швеция            0, 956            80,5                 32525                     7,4                             7,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Финляндия     0,952             78,9                 32153                    6,5                             5,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США                0,952             77,9                 41890                    5,9                             6,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Великобр.       0,946             79,0                  33238                    5,4                             7,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Германия        0,935             79,1                 29461                    4,6                              8,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.Белорусь         0,804             68,7                   7918                    6,0                              4,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.Россия             0,802             65,0                  10849                    3,6                              3,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.Казахстан       0,794             65,9                   6632                    2,3                               2,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.Украина         0,788              67,7                  6848                    6,4                                3,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Информатизация общества – качество жизни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трана.                                     Сотовые   телеф.        Пользов.Интернет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 1тыс.                                   на 1 ты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.Исландия                                             1024                                    869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.Норвегия                                             1028                                    73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3.Австралия                                              906                                    698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4.Канада                                                    514                                    5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5.Ирландия                                            1012                                     27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.Швеция                                                  935                                     76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7.Швейцария                                            921                                    49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8.Япония                                                   742                                    66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9.Нидерланды                                         970                                     73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0.Франция                                              789                                    4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2.США                                                      680                                    6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6.Великобритания                               1088                                    47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2.Германия                                              960                                   45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7.Россия                                                   838                                   15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Качество жизни в школе как минимодели государства……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чество жизни 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разова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 цели, результаты, процессы, технологии, образовательная среда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доровь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школьников и педагогов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эконом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«цена» образования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витие региональной системы оценки качества общего и дополнительного образования в Санкт-Петербурге (2008-2010гг.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тистические индикаторы качества образования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лов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труктура Проекта Нового Закона «Об образовании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. Общие полож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2. Система образования  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3.Организации, осуществляющие образовательную деятельно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лава 4. Обучающиеся, их родители и иные законные представите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лава 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дагогические, руководящие и иные работники организаций, осуществляющих образовательную деяте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6. Основания возникновения, изменения и прекращения прав и обязанностей, связанных с получением образ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7.  Общие правила организации образовательного процесса и реализации образовательных програм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независимых экзам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участия в конкурсных мероприятия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певаемость и отс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 воспитательной рабо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СЛОВИЯ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педагогического сост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педагогов О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среда О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ая база О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е обеспеч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форт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рабо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ВЛЕНИЕ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ярность  образовательного учрежд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связ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ачеств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витие региональной системы оценки качества общего и дополнительного образования в Санкт-Петербурге (2008-2010гг.)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 педагогические индикаторы качества образов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дминистративно-управленче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правление состоя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правление развитие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ганизация сетевого взаимодейств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дагогиче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онно- педагогиче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ая деяте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тельный проце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ение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циологиче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соответствия образовательных услуг социальному запрос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социализации де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социально- психологического клима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социокультурной ситу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инновацион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деятельность учител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ение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Качество здоровьесберегающей деятель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ояние здоровья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нутришкольная среда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инфраструктура школы, готовность педколлектива к здоровьесберегающей деятельности,  учебная нагрузка учащихся, режим дня, образ жизни школьников, питание, здоровьесберегающие мероприятия, уровень наркогенности среды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тратегия  развития Петербургской школы…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Доступность качест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Воспитание. Неформальное образова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Дошкольни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Здоровье в школ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Кадровый капит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Равные и раз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Открытая шко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Профессия и карье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Эффективная шко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асибо за внимание …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3" descr="C:\Documents and Settings\123.123321-A30EB9C9\Local Settings\Temporary Internet Files\Content.IE5\ZQ39597R\MC900346643[1].wmf"/>
          <p:cNvPicPr/>
          <p:nvPr/>
        </p:nvPicPr>
        <p:blipFill>
          <a:blip r:embed="rId1"/>
          <a:stretch/>
        </p:blipFill>
        <p:spPr>
          <a:xfrm>
            <a:off x="3143160" y="706320"/>
            <a:ext cx="33433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труктура Проекта Нового Закона «Об образовании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8. Государственное регулирование и управление в сфере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9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регламентация образовательной деятельности, контроль и оценка качества образов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0. Экономическая деятельность в сфере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1. Дошкольное образо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2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образо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3. Профессиональное образо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4. Среднее профессиональное образо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5. Высшее образо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6. Дополнительное образова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7. Дополнительное профессиональное образование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труктура Проекта Нового Закона «Об образовании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ва 18. Особенности реализации некоторых видов образовательных программ и получения образования отдельными категориями обучающихс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ва 19. Международная деятельность в сфере образова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ва 20. Переходные и заключительные поло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з проекта Закона 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чество образован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комплексная характеристика образования, выражающая степень его соответствия федеральным государственным образовательным стандартам (федеральным государственным требованиям) и (или) потребностям заказчика образовательных услуг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семирный день качества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1 ноября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–Всемирный день качества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 Quality Da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-ежегодное мероприятие,проводимое во многих странах мира во второй четверг ноября. Инициатором учреждения этого дня является Европейская организация качества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uropean Organization for Qualit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мирный день качества был утвержден в 1990году. Спустя шесть лет Европейская организация качества объявила Европейскую неделю качества (неделя, в которую попадает этот второй ноябрьский четверг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нятие «качество» тесно связано с тем, что называется благами современной цивилизации, качеством жизни- а это : состояние окружающей среды, здоровье людей, психологический комфорт, экономическое состояние и качество образов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Конкурс качества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«Сделано в Санкт-Петербурге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08год- 65 / 47-первый/24-второй/ 6- победит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09год-100 /52-первый/14-второй/ 10- победит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10год-120 /37-первый/10-второй /7 -победит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C:\Documents and Settings\123.123321-A30EB9C9\Local Settings\Temporary Internet Files\Content.IE5\EPNSDGZI\MC900198790[1].wmf"/>
          <p:cNvPicPr/>
          <p:nvPr/>
        </p:nvPicPr>
        <p:blipFill>
          <a:blip r:embed="rId1"/>
          <a:stretch/>
        </p:blipFill>
        <p:spPr>
          <a:xfrm>
            <a:off x="3857760" y="3571920"/>
            <a:ext cx="2076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нципы Болонского процесса…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ном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вер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местим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би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крыт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влека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21:17:43Z</dcterms:created>
  <dc:creator>123321</dc:creator>
  <dc:description/>
  <dc:language>en-US</dc:language>
  <cp:lastModifiedBy>123321</cp:lastModifiedBy>
  <dcterms:modified xsi:type="dcterms:W3CDTF">2010-11-07T18:55:09Z</dcterms:modified>
  <cp:revision>112</cp:revision>
  <dc:subject/>
  <dc:title>Петербургское измерение инноваций в системе образования</dc:title>
</cp:coreProperties>
</file>