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55C00-05A2-4FC9-A35D-13DE01300CA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44961-4AE7-4D9B-B6E8-6999C98E11D2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5F4CE-EC4E-4066-8686-2DBF5688CCC0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24C2D-AF1E-4598-9E6F-D4FD1DBA44BD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8B41-5E81-4FF6-8BE8-D891273CE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2C0E-385E-45A3-9779-F4E27AEB6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1885-876B-4BDE-9468-E91192DD6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E8B5-F9FD-40B4-8B7A-B45802282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FF83B-1961-420C-887C-F43AC89D8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14438-A396-4F13-B12E-A015CC877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50EFB-384A-4C86-81E0-C5F4B1116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4B9E1-09E6-4E46-BA12-742836EBF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25C34-8931-426A-B84A-BB3ADECE4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6F19C-DC10-460B-8562-D9B430C69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F28CA-9381-4025-B1CC-4BEFB664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E860-A0FB-4485-A6C5-5539E216F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98B44-9E36-4582-9F65-5AE83DE91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D9B0F-677F-46E4-BB8A-8789DC22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AF342-05EA-42DD-A2ED-BBDC5B3A9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B9C0B-DAB7-40EF-940E-EDC43AE4C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A6A77-7125-4E3C-969F-DDE4A2AF2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5646-0A79-46CD-ADE4-9F5C1F2A7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281E-429E-48DA-BDEF-FDF1FCD2D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AF29-891A-4530-B5D3-72CEDBC57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9FAD-DF5E-4B14-B5F9-CE7F31770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FD4D-B386-4F8A-91B6-C5374C4F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3E00-DAE6-4660-A39F-DE98AD80B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C7AE-68E6-400D-B7C4-9790C778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84352-49D5-44EA-A084-37B9E4711D4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A0D1C-9A77-44C2-AE39-0CF1A3D504A4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Петербургское измерение инноваций в системе образовани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лексеев С.В.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ректор по научной работе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.п.н., профессо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Инновации!!!???.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Инновация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– новшество, обладающее рядом признаков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Прогностичностью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( «взглянуть в завтра»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стребованностью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( «сегодня и завтра»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Эффективностью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( «дает эффект», может быть даже системный эффект !!!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Из проекта Закона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новационная деятельность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ентирована на совершенствование научно-педагогического, учебно-методического, организационного, правового, финансово-экономического, кадрового, материально-технического обеспечения системы образования Российской Федерации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осуществляется  в форме реализации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новационных проектов (программ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организациями, осуществляющими образовательную деятельность, и иными организациями, действующими в сфере образования, вне зависимости от их организационно-правовой формы, типа, вида, ведомственной принадлежности, а также их объединениями в рамках предписаний действующего законодательства об образовании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реализации инновационного проекта (программы) должно быть обеспечено соблюдение прав и законных интересов участников образовательного процесса, предоставление образования,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ень и качество которого не может быть ниже требований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установленных федеральным государственным образовательным стандартом, или федеральных государственных требований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Инновации: кто…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ольшинству людей, чтобы добиться успеха, надо следовать правилам. Инноваторы добиваются успеха, нарушая правил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тив Возняк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дин из создателей компани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pple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Инновации : сколько…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ще никогда  в истории инновации не обещали так много, так многим и так быстро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илл Гейтс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здатель компании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croso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Инновации : как…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нновации лучше начинать с небольшого пилотного проекта, требующего поначалу немного финансов и людей, экспериментируя на небольшом рынк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итер Друкер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мериканский теоретик менеджмент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О каком измерении идет речь ???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семирное измерение качества образования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вропейское измерение качества образования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оссийское измерение качества образования…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етербургское измерение качества образования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Инновации отличают лидера от догоняющего ( Стив Джобс,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Apple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нновационная школа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нкурентноспособ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школа- лиде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комфорт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собственно инновационная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 Н.А.Заиченко, 201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Петербургское измерение: личность (индивидуальность) школьник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омпетентности ( ключевые, предметные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ультур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оспитание и социализац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онкурентноспособнос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отовность к непрерывному образованию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Петербургское измерение : личность (индивидуальность) педагог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* Х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Всероссийский Интернет – педсовет проходит под девизом Пяти степеней учителя 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-учитель как личност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-учитель как профессиона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-учитель как ученик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-учитель как исследовател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-учитель как гражданин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    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*Петербургский вектор 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    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-учитель как «человек  культуры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   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-учитель как «человек  науки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   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-учитель  как петербуржец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Портрет современного педагога 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(по данным Международного института развития, 2010г.)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1. Владеет интерактивными методами обучения  и технологией модерации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2. Владеет ИКТ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3. Владеет технологией проектирования урока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4. Умеет управлять мотивацией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5. Занимает активную жизненную позицию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6. Открыт к инновациям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7. Постоянно учится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8. Самостоятельный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9. Партнер для своих учеников и коллег  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10.Целеустремленный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Инновационные программы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акануне принятия Нового Закона «Об образовании» 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грамма модернизации - программа достижения нового качества российского образования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езидентская инициатива «Наша новая школа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( 6 направлений) – программа достижения нового качества жизни и школьников, и педагогов, и родителей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тратегическая программа развития образования – 20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Федеральные государственные образовательные стандарты (по всем ступеням непрерывного образования…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тратегия развития Петербургской школы (9 направлений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Петербургское измерение : личности (индивидуальности) родителей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одитель – учени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одитель - педаго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одитель - психоло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одитель- менедже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одитель –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 техноло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Петербургское измерение : образовательная среда школы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доровьесозидающа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езопасна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омфортна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нициирующая творчество («неспокойная»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сыщенна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родо- и культуросообразная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Петербургское измерение : образовательный процесс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тбор содержания , обеспечивающего достижения предметных, метапредметных и личностных образовательных результатов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птимальное сочетание традиционных и инновационных технологий, командных и индивидуальных форм учебной деятельности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оминирование интерактивных, деятельностных методов обучения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птимальное сочетание урочных и внеурочных форм обучения , аудиторного и внеаудиторного образования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иоритеты самостоятельной работы школьников и самообразования педагогов, самооценки достигнутых результатов школьниками и педагогами…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Oval 2"/>
          <p:cNvSpPr/>
          <p:nvPr/>
        </p:nvSpPr>
        <p:spPr>
          <a:xfrm>
            <a:off x="2438280" y="304920"/>
            <a:ext cx="4267440" cy="6095880"/>
          </a:xfrm>
          <a:prstGeom prst="ellipse">
            <a:avLst/>
          </a:prstGeom>
          <a:solidFill>
            <a:srgbClr val="ffcf01">
              <a:alpha val="50000"/>
            </a:srgbClr>
          </a:solidFill>
          <a:ln cap="rnd" w="3816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4060800" y="380880"/>
            <a:ext cx="2960640" cy="36828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азвивающее обучение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5250600" y="811080"/>
            <a:ext cx="2792880" cy="36828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облемное обучение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5956920" y="1241280"/>
            <a:ext cx="2873520" cy="36828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ехнологию мастерских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6048360" y="1671480"/>
            <a:ext cx="2867040" cy="64260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оллективную систему обучения (КСО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6019920" y="2376360"/>
            <a:ext cx="2895480" cy="9169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ехнологию решения изобретательских задач (ТРИЗ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6019920" y="3355920"/>
            <a:ext cx="2895480" cy="64260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сследования в обучении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6019920" y="4060800"/>
            <a:ext cx="2895480" cy="36828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оекты в обучении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Rectangle 10"/>
          <p:cNvSpPr/>
          <p:nvPr/>
        </p:nvSpPr>
        <p:spPr>
          <a:xfrm>
            <a:off x="6019920" y="4765680"/>
            <a:ext cx="2895480" cy="36828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ехнологию «дебаты»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5562720" y="5195880"/>
            <a:ext cx="3352680" cy="64260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ехнологию модульного  обучен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4788000" y="6021360"/>
            <a:ext cx="3195360" cy="9169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лекционно-семинарско-зачетную систему обучен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Rectangle 13"/>
          <p:cNvSpPr/>
          <p:nvPr/>
        </p:nvSpPr>
        <p:spPr>
          <a:xfrm>
            <a:off x="1547640" y="6021360"/>
            <a:ext cx="3200400" cy="9169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ехнологию  развития «критического мышления»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Rectangle 14"/>
          <p:cNvSpPr/>
          <p:nvPr/>
        </p:nvSpPr>
        <p:spPr>
          <a:xfrm>
            <a:off x="250920" y="4941720"/>
            <a:ext cx="4419360" cy="9169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гровые технологии: ролевые, деловые  и другие   видов обучающих игр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Rectangle 15"/>
          <p:cNvSpPr/>
          <p:nvPr/>
        </p:nvSpPr>
        <p:spPr>
          <a:xfrm>
            <a:off x="228600" y="3603600"/>
            <a:ext cx="2666880" cy="119124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учение в сотрудничестве (командная, групповая работа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Rectangle 16"/>
          <p:cNvSpPr/>
          <p:nvPr/>
        </p:nvSpPr>
        <p:spPr>
          <a:xfrm>
            <a:off x="228600" y="2592360"/>
            <a:ext cx="2666880" cy="9169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нформационно-коммуникационные технологии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Rectangle 17"/>
          <p:cNvSpPr/>
          <p:nvPr/>
        </p:nvSpPr>
        <p:spPr>
          <a:xfrm>
            <a:off x="228600" y="1854360"/>
            <a:ext cx="2666880" cy="64260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здоровьесберегающие технологи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Rectangle 18"/>
          <p:cNvSpPr/>
          <p:nvPr/>
        </p:nvSpPr>
        <p:spPr>
          <a:xfrm>
            <a:off x="228600" y="1117440"/>
            <a:ext cx="3092400" cy="9169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истему   инновационной оценки «портфолио»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Rectangle 19"/>
          <p:cNvSpPr/>
          <p:nvPr/>
        </p:nvSpPr>
        <p:spPr>
          <a:xfrm>
            <a:off x="380880" y="380880"/>
            <a:ext cx="3353040" cy="9169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ехнологию дистанционного обучения  и др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WordArt 20"/>
          <p:cNvSpPr txBox="1"/>
          <p:nvPr/>
        </p:nvSpPr>
        <p:spPr>
          <a:xfrm>
            <a:off x="3048120" y="2133720"/>
            <a:ext cx="304308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cc81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"/>
              </a:rPr>
              <a:t>К числу</a:t>
            </a:r>
            <a:endParaRPr b="1" lang="en-US" sz="1800" spc="1" strike="noStrike">
              <a:ln w="12600">
                <a:solidFill>
                  <a:srgbClr val="ffcc81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cc81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"/>
              </a:rPr>
              <a:t>современных</a:t>
            </a:r>
            <a:endParaRPr b="1" lang="en-US" sz="1800" spc="1" strike="noStrike">
              <a:ln w="12600">
                <a:solidFill>
                  <a:srgbClr val="ffcc81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cc81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"/>
              </a:rPr>
              <a:t>образовательных</a:t>
            </a:r>
            <a:endParaRPr b="1" lang="en-US" sz="1800" spc="1" strike="noStrike">
              <a:ln w="12600">
                <a:solidFill>
                  <a:srgbClr val="ffcc81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cc81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"/>
              </a:rPr>
              <a:t>технологий</a:t>
            </a:r>
            <a:endParaRPr b="1" lang="en-US" sz="1800" spc="1" strike="noStrike">
              <a:ln w="12600">
                <a:solidFill>
                  <a:srgbClr val="ffcc81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cc81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"/>
              </a:rPr>
              <a:t>сегодня относят:</a:t>
            </a:r>
            <a:endParaRPr b="1" lang="en-US" sz="1800" spc="1" strike="noStrike">
              <a:ln w="12600">
                <a:solidFill>
                  <a:srgbClr val="ffcc81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7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2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5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75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25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5000"/>
                            </p:stCondLst>
                            <p:childTnLst>
                              <p:par>
                                <p:cTn id="45" nodeType="after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7500"/>
                            </p:stCondLst>
                            <p:childTnLst>
                              <p:par>
                                <p:cTn id="49" nodeType="after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0"/>
                            </p:stCondLst>
                            <p:childTnLst>
                              <p:par>
                                <p:cTn id="53" nodeType="after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2500"/>
                            </p:stCondLst>
                            <p:childTnLst>
                              <p:par>
                                <p:cTn id="57" nodeType="after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5000"/>
                            </p:stCondLst>
                            <p:childTnLst>
                              <p:par>
                                <p:cTn id="61" nodeType="after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7500"/>
                            </p:stCondLst>
                            <p:childTnLst>
                              <p:par>
                                <p:cTn id="65" nodeType="after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0000"/>
                            </p:stCondLst>
                            <p:childTnLst>
                              <p:par>
                                <p:cTn id="69" nodeType="after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2500"/>
                            </p:stCondLst>
                            <p:childTnLst>
                              <p:par>
                                <p:cTn id="73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А также технологии …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оделирован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гнозирован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ейс- технологи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нтекстного обучен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ехнология ситуационных задач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амообразован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оспитательны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ефлексивны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ониторинговые технолог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ехнологии модерации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Тенденции современного оценивания (по Г.С.Ковалевой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ценивать то, что значимо, а не что легче замерить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ценивать понимание, осмысление, объяснение, установление причинно- следственных связей, а не конкретные знания, рутинные умения и алгоритмы деятельности (?!)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ценивать то , что знают учащиеся, и  то что они не знают («знание о  знании»  и «знание о незнании»)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ивлекать учащихся к оценке своих результатов и результатов своих одноклассников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овлекать учителей в процесс разработки системы внешнего контроля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спользовать многообразие и разнообразие методов и форм оценки, включая и тестовый метод- ЕГЭ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Качество жизни -2007/08 (ООН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на         ИРЧП         СОПЖ               ВВП            Образование           Здравоохран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Исландия           0,968              81,5                36510                    8,1                             8,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Норвегия           0,968              79,8                41420                     7,7                             8,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Австралия        0,962               80,9                31794                     4,7                             6,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Канада               0,961              80,3                33375                     5,2                             6,8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Ирландия          0,959             78,4                 38505                     4,8                             5,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Швеция            0, 956            80,5                 32525                     7,4                             7,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Финляндия     0,952             78,9                 32153                    6,5                             5,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США                0,952             77,9                 41890                    5,9                             6,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Великобр.       0,946             79,0                  33238                    5,4                             7,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.Германия        0,935             79,1                 29461                    4,6                              8,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.Белорусь         0,804             68,7                   7918                    6,0                              4,6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.Россия             0,802             65,0                  10849                    3,6                              3,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.Казахстан       0,794             65,9                   6632                    2,3                               2,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.Украина         0,788              67,7                  6848                    6,4                                3,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Информатизация общества – качество жизни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трана.                                     Сотовые   телеф.        Пользов.Интернета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на 1тыс.                                   на 1 тыс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1.Исландия                                             1024                                    869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2.Норвегия                                             1028                                    73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3.Австралия                                              906                                    698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4.Канада                                                    514                                    52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5.Ирландия                                            1012                                     276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6.Швеция                                                  935                                     76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7.Швейцария                                            921                                    498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8.Япония                                                   742                                    668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9.Нидерланды                                         970                                     73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10.Франция                                              789                                    43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12.США                                                      680                                    63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16.Великобритания                               1088                                    47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22.Германия                                              960                                   45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67.Россия                                                   838                                   15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Качество жизни в школе как минимодели государства……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чество жизни 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образовани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( цели, результаты, процессы, технологии, образовательная среда)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здоровь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(школьников и педагогов)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экономик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(«цена» образования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Развитие региональной системы оценки качества общего и дополнительного образования в Санкт-Петербурге (2008-2010гг.)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татистические индикаторы качества образования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езультат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слов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правле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Структура Проекта Нового Закона «Об образовании»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а 1. Общие положен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а 2. Система образования  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а3.Организации, осуществляющие образовательную деятельность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Глава 4. Обучающиеся, их родители и иные законные представител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Глава 5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дагогические, руководящие и иные работники организаций, осуществляющих образовательную деятель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а 6. Основания возникновения, изменения и прекращения прав и обязанностей, связанных с получением образован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а 7.  Общие правила организации образовательного процесса и реализации образовательных программ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d0d0d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ЕЗУЛЬТАТЫ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независимых экзамен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ь участия в конкурсных мероприятия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иже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ускник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спеваемость и отсе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народные исследова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ивность воспитательной работ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УСЛОВИЯ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истика педагогического состав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ижения педагогов О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ая среда О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ьная база О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тан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ое обеспечен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опасност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фортност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жим работ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УПРАВЛЕНИЕ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ые программ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улярность  образовательного учрежде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ые связ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О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ачество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Развитие региональной системы оценки качества общего и дополнительного образования в Санкт-Петербурге (2008-2010гг.)</a:t>
            </a:r>
            <a:br>
              <a:rPr sz="2000"/>
            </a:b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о- педагогические индикаторы качества образования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Административно-управленческ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управление состоян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управление развитие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рганизация сетевого взаимодейств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едагогическ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рганизационно- педагогическ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чебная деятельност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спитательный процес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одолжение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оциологическ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ь соответствия образовательных услуг социальному запрос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ень социализации дете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а социально- психологического климат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а социокультурной ситуац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ние инновационной деятельно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ая деятельность учителе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одолжение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4. Качество здоровьесберегающей деятельност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стояние здоровья учащихс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нутришкольная среда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(инфраструктура школы, готовность педколлектива к здоровьесберегающей деятельности,  учебная нагрузка учащихся, режим дня, образ жизни школьников, питание, здоровьесберегающие мероприятия, уровень наркогенности среды…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Стратегия  развития Петербургской школы…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Доступность качеств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Воспитание. Неформальное образовани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Дошкольник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Здоровье в школ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Кадровый капита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Равные и разны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Открытая школ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Профессия и карьер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Эффективная школ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Спасибо за внимание …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7" name="Picture 3" descr="C:\Documents and Settings\123.123321-A30EB9C9\Local Settings\Temporary Internet Files\Content.IE5\ZQ39597R\MC900346643[1].wmf"/>
          <p:cNvPicPr/>
          <p:nvPr/>
        </p:nvPicPr>
        <p:blipFill>
          <a:blip r:embed="rId1"/>
          <a:stretch/>
        </p:blipFill>
        <p:spPr>
          <a:xfrm>
            <a:off x="3143160" y="706320"/>
            <a:ext cx="3343320" cy="42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Структура Проекта Нового Закона «Об образовании»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а 8. Государственное регулирование и управление в сфере образован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а 9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ая регламентация образовательной деятельности, контроль и оценка качества образования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а 10. Экономическая деятельность в сфере образования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а 11. Дошкольное образова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а 12.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е образова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а 13. Профессиональное образова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а 14. Среднее профессиональное образова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а 15. Высшее образова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а 16. Дополнительное образование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а 17. Дополнительное профессиональное образование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Структура Проекта Нового Закона «Об образовании»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лава 18. Особенности реализации некоторых видов образовательных программ и получения образования отдельными категориями обучающихся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лава 19. Международная деятельность в сфере образования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лава 20. Переходные и заключительные положе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Из проекта Закона …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Качество образования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комплексная характеристика образования, выражающая степень его соответствия федеральным государственным образовательным стандартам (федеральным государственным требованиям) и (или) потребностям заказчика образовательных услуг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семирный день качества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11 ноября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–Всемирный день качества 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orld Quality Day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)-ежегодное мероприятие,проводимое во многих странах мира во второй четверг ноября. Инициатором учреждения этого дня является Европейская организация качества 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uropean Organization for Quality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семирный день качества был утвержден в 1990году. Спустя шесть лет Европейская организация качества объявила Европейскую неделю качества (неделя, в которую попадает этот второй ноябрьский четверг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нятие «качество» тесно связано с тем, что называется благами современной цивилизации, качеством жизни- а это : состояние окружающей среды, здоровье людей, психологический комфорт, экономическое состояние и качество образовани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Конкурс качества 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«Сделано в Санкт-Петербурге»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008год- 65 / 47-первый/24-второй/ 6- победител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009год-100 /52-первый/14-второй/ 10- победител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010год-120 /37-первый/10-второй /7 -победител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Picture 4" descr="C:\Documents and Settings\123.123321-A30EB9C9\Local Settings\Temporary Internet Files\Content.IE5\EPNSDGZI\MC900198790[1].wmf"/>
          <p:cNvPicPr/>
          <p:nvPr/>
        </p:nvPicPr>
        <p:blipFill>
          <a:blip r:embed="rId1"/>
          <a:stretch/>
        </p:blipFill>
        <p:spPr>
          <a:xfrm>
            <a:off x="3857760" y="3571920"/>
            <a:ext cx="207648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ринципы Болонского процесса…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втономно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тветственно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ачеств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овер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вместимо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обильно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ткрыто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влекательно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8T21:17:43Z</dcterms:created>
  <dc:creator>123321</dc:creator>
  <dc:description/>
  <dc:language>en-US</dc:language>
  <cp:lastModifiedBy>123321</cp:lastModifiedBy>
  <dcterms:modified xsi:type="dcterms:W3CDTF">2010-11-07T18:55:09Z</dcterms:modified>
  <cp:revision>112</cp:revision>
  <dc:subject/>
  <dc:title>Петербургское измерение инноваций в системе образования</dc:title>
</cp:coreProperties>
</file>