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C4D-864A-44E5-9CCB-9ABCA5F70C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7048-FA39-41F3-BA67-8214454E959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6B97-07DD-48D2-B6A7-ABC07C7FAB1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2F04-3EEB-4CCD-BE62-694D883E466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F8C-749A-420B-B8A1-3418AD53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C55-455E-4027-AA26-D190104F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242-CE38-4EE9-841B-04854F58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020-96CD-47CF-A237-40EC15A3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ED1C-5EDE-4732-B613-E2EFE024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3487-9447-42CE-B457-32421AAA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DA40-6A93-4698-A72E-8E880E0D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4E6-19A8-4F2F-B5AB-4D619782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3D65-3DD8-4ECA-9817-61331BB4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1496-8CFC-49B2-8E37-55F727FD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CE01-326D-4368-BF21-1CF71373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17C-EAD3-4981-87AA-CBB3FC1E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39D9-B0E1-465C-BC98-80D365E2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2B8D-9BA3-4A17-84DB-80436064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181C-A8BF-494C-87D9-DD9039BC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2D63-43D2-4AC5-BF1A-B0CB34BA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F939-2A14-4A5C-98BE-1682954B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BC4-2CD5-4C01-92BA-FF001C9F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D31-EC27-4BAF-B8ED-4299FDA4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982-B4C8-4B39-A15B-875B119D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75E-715B-42BA-8915-12CBE0B8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82E-8C29-4013-9B9C-289EBBA3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DB5-233C-461A-B933-D327B352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745-CCE4-4014-872B-B7ED89A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4747-5381-481E-B333-C577710A0B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6B0E-D23C-4177-A554-0CA2CE296E5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етербургское измерение инноваций в системе образ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ексеев С.В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ректор по научной работ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.п.н., професс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новации!!!???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Инноваци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новшество, обладающее рядом признаков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гностичн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 «взглянуть в завтра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стребованн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 «сегодня и завтра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ффективн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 «дает эффект», может быть даже системный эффект !!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 проекта Закона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ая деятельн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совершенствование научно-педагогического, учебно-методического, организационного, правового, финансово-экономического, кадрового, материально-технического обеспечения системы образования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существляется  в форме реализа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х проектов (програм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рганизациями, осуществляющими образовательную деятельность, и иными организациями, действующими в сфере образования, вне зависимости от их организационно-правовой формы, типа, вида, ведомственной принадлежности, а также их объединениями в рамках предписаний действующего законодательства об образовани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инновационного проекта (программы) должно быть обеспечено соблюдение прав и законных интересов участников образовательного процесса, предоставление образования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и качество которого не может быть ниже треб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ановленных федеральным государственным образовательным стандартом, или федеральных государственных требова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новации: кто…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инству людей, чтобы добиться успеха, надо следовать правилам. Инноваторы добиваются успеха, нарушая прави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ив Возняк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ин из создателей компан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l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новации : сколько…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ще никогда  в истории инновации не обещали так много, так многим и так быстр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лл Гейтс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здатель компани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новации : как…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новации лучше начинать с небольшого пилотного проекта, требующего поначалу немного финансов и людей, экспериментируя на небольшом рын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итер Друкер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мериканский теоретик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 каком измерении идет речь ??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мирное измерение качества образов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вропейское измерение качества образов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ое измерение качества образования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тербургское измерение качества образов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Инновации отличают лидера от догоняющего ( Стив Джобс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pple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новационная школ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курентноспособ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школа- лиде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комфорт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собственно инновационна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 Н.А.Заиченко,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: личность (индивидуальность) шк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петентности ( ключевые, предметны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ль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ание и социализ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курентноспособ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товность к непрерывному образовани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 : личность (индивидуальность) педагог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* Х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Всероссийский Интернет – педсовет проходит под девизом Пяти степеней учителя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лич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профессиона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учени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исследовател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граждани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*Петербургский вектор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«человек  культур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«человек  нау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 как петербуржец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ортрет современного педагога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по данным Международного института развития, 2010г.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Владеет интерактивными методами обучения  и технологией модерац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 Владеет ИКТ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 Владеет технологией проектирования урок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 Умеет управлять мотивацие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Занимает активную жизненную позици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Открыт к инновациям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Постоянно учи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Самостоятельны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9. Партнер для своих учеников и коллег 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0.Целеустремлен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новационные программы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кануне принятия Нового Закона «Об образовании»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модернизации - программа достижения нового качества российского образования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зидентская инициатива «Наша новая школ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 6 направлений) – программа достижения нового качества жизни и школьников, и педагогов, и родителей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атегическая программа развития образования –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едеральные государственные образовательные стандарты (по всем ступеням непрерывного образования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атегия развития Петербургской школы (9 направлений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 : личности (индивидуальности) родителе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– уче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- педаг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- психо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- менедж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техно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 : образовательная среда школ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оровьесозидающ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опас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форт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ициирующая творчество («неспокойная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сыщен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родо- и культуросообразна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етербургское измерение : образовательный процесс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бор содержания , обеспечивающего достижения предметных, метапредметных и личностных образовательных результат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тимальное сочетание традиционных и инновационных технологий, командных и индивидуальных форм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инирование интерактивных, деятельностных методов обуч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тимальное сочетание урочных и внеурочных форм обучения , аудиторного и внеаудитор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оритеты самостоятельной работы школьников и самообразования педагогов, самооценки достигнутых результатов школьниками и педагогами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2438280" y="304920"/>
            <a:ext cx="4267440" cy="6095880"/>
          </a:xfrm>
          <a:prstGeom prst="ellipse">
            <a:avLst/>
          </a:prstGeom>
          <a:solidFill>
            <a:srgbClr val="ffcf01">
              <a:alpha val="50000"/>
            </a:srgbClr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060800" y="380880"/>
            <a:ext cx="29606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вающее обуче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250600" y="811080"/>
            <a:ext cx="279288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ное обуче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956920" y="1241280"/>
            <a:ext cx="287352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мастерс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048360" y="1671480"/>
            <a:ext cx="28670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лективную систему обучения (КС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019920" y="2376360"/>
            <a:ext cx="289548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решения изобретательских задач (ТРИЗ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19920" y="3355920"/>
            <a:ext cx="28954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следования в обучен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019920" y="4060800"/>
            <a:ext cx="289548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екты в обучен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6019920" y="4765680"/>
            <a:ext cx="289548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«дебаты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562720" y="5195880"/>
            <a:ext cx="33526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модульного  обуч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788000" y="6021360"/>
            <a:ext cx="319536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кционно-семинарско-зачетную систему обуч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547640" y="6021360"/>
            <a:ext cx="320040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 развития «критического мышления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0920" y="4941720"/>
            <a:ext cx="441936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овые технологии: ролевые, деловые  и другие   видов обучающих иг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228600" y="3603600"/>
            <a:ext cx="2666880" cy="11912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учение в сотрудничестве (командная, групповая работ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228600" y="2592360"/>
            <a:ext cx="266688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-коммуникационные технолог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228600" y="1854360"/>
            <a:ext cx="26668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доровье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28600" y="1117440"/>
            <a:ext cx="309240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у   инновационной оценки «портфолио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380880" y="380880"/>
            <a:ext cx="335304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дистанционного обучения  и д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20"/>
          <p:cNvSpPr txBox="1"/>
          <p:nvPr/>
        </p:nvSpPr>
        <p:spPr>
          <a:xfrm>
            <a:off x="3048120" y="2133720"/>
            <a:ext cx="3043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К числу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овременных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образовательных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технологий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егодня относят: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5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5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25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 также технологии 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р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нозир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ейс- технолог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текстного обуч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хнология ситуационных зада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амо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флексив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ниторинговые технолог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хнологии модерации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енденции современного оценивания (по Г.С.Ковалево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ть то, что значимо, а не что легче замерить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ть понимание, осмысление, объяснение, установление причинно- следственных связей, а не конкретные знания, рутинные умения и алгоритмы деятельности (?!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ть то , что знают учащиеся, и  то что они не знают («знание о  знании»  и «знание о незнании»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лекать учащихся к оценке своих результатов и результатов своих одноклассников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влекать учителей в процесс разработки системы внешнего контроля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овать многообразие и разнообразие методов и форм оценки, включая и тестовый метод- ЕГЭ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ачество жизни -2007/08 (ООН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         ИРЧП         СОПЖ               ВВП            Образование           Здравоохр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сландия           0,968              81,5                36510                    8,1                             8,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рвегия           0,968              79,8                41420                     7,7                             8,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встралия        0,962               80,9                31794                     4,7                             6,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нада               0,961              80,3                33375                     5,2                             6,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Ирландия          0,959             78,4                 38505                     4,8                             5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Швеция            0, 956            80,5                 32525                     7,4                             7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Финляндия     0,952             78,9                 32153                    6,5                             5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США                0,952             77,9                 41890                    5,9                             6,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Великобр.       0,946             79,0                  33238                    5,4                             7,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Германия        0,935             79,1                 29461                    4,6                              8,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.Белорусь         0,804             68,7                   7918                    6,0                              4,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.Россия             0,802             65,0                  10849                    3,6                              3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.Казахстан       0,794             65,9                   6632                    2,3                               2,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.Украина         0,788              67,7                  6848                    6,4                                3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нформатизация общества – качество жизн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рана.                                     Сотовые   телеф.        Пользов.Интерне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1тыс.                                   на 1 ты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.Исландия                                             1024                                    869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Норвегия                                             1028                                    73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Австралия                                              906                                    698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4.Канада                                                    514                                    5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5.Ирландия                                            1012                                     27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.Швеция                                                  935                                     76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7.Швейцария                                            921                                    49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8.Япония                                                   742                                    66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9.Нидерланды                                         970                                     73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0.Франция                                              789                                    4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2.США                                                      680                                    6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.Великобритания                               1088                                    47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2.Германия                                              960                                   45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7.Россия                                                   838                                   15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ачество жизни в школе как минимодели государства……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чество жизни 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раз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 цели, результаты, процессы, технологии, образовательная сред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школьников и педагогов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«цена» образования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тие региональной системы оценки качества общего и дополнительного образования в Санкт-Петербурге (2008-2010гг.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тистические индикаторы качества образования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лов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труктура Проекта Нового Закона «Об образовании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. Общие поло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. Система образования  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3.Организации, осуществляющие образовательную деятель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лава 4. Обучающиеся, их родители и иные законные представит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лава 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ические, руководящие и иные работники организаций, осуществляющих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6. Основания возникновения, изменения и прекращения прав и обязанностей, связанных с получением 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7.  Общие правила организации образовательного процесса и реализации образовательных програм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независимых экзам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участия в конкурсных мероприятия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певаемость и отс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воспитательной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СЛОВИЯ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педагогического сост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педагогов 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среда 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ая база 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е обеспе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форт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ВЛЕНИ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рность  образовательного учреж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связ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ачеств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тие региональной системы оценки качества общего и дополнительного образования в Санкт-Петербурге (2008-2010гг.)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 педагогические индикаторы качества образ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дминистративно-управлен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вление состоя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вление развити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я сетевого взаимодейств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дагог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онно- педагог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ая дея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тельный проце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ени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циолог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соответствия образовательных услуг социальному запрос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социализации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социально- психологического клим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социокультурной ситу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иннова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деятельность уч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ени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Качество здоровьесберегающей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яние здоровья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нутришкольная среда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нфраструктура школы, готовность педколлектива к здоровьесберегающей деятельности,  учебная нагрузка учащихся, режим дня, образ жизни школьников, питание, здоровьесберегающие мероприятия, уровень наркогенности среды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тратегия  развития Петербургской школы…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Доступность каче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Воспитание. Неформальное образов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Дошкольн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Здоровье в школ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Кадровый капит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Равные и раз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Открытая 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Профессия и карье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Эффективная 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асибо за внимание …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3" descr="C:\Documents and Settings\123.123321-A30EB9C9\Local Settings\Temporary Internet Files\Content.IE5\ZQ39597R\MC900346643[1].wmf"/>
          <p:cNvPicPr/>
          <p:nvPr/>
        </p:nvPicPr>
        <p:blipFill>
          <a:blip r:embed="rId1"/>
          <a:stretch/>
        </p:blipFill>
        <p:spPr>
          <a:xfrm>
            <a:off x="3143160" y="706320"/>
            <a:ext cx="33433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труктура Проекта Нового Закона «Об образовани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8. Государственное регулирование и управление в сфере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9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регламентация образовательной деятельности, контроль и оценка качества образо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0. Экономическая деятельность в сфере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1. Дошкольно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3. Профессионально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4. Среднее профессионально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5. Высше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6. Дополнительное образова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7. Дополнительное профессиональное образование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труктура Проекта Нового Закона «Об образовани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ва 18. Особенности реализации некоторых видов образовательных программ и получения образования отдельными категориями обучающихс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ва 19. Международная деятельность в сфере образова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ва 20. Переходные и заключительные поло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 проекта Закона 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чество образова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характеристика образования, выражающая степень его соответствия федеральным государственным образовательным стандартам (федеральным государственным требованиям) и (или) потребностям заказчика образовательных услу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мирный день качества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1 ноября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Всемирный день качества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 Quality Da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-ежегодное мероприятие,проводимое во многих странах мира во второй четверг ноября. Инициатором учреждения этого дня является Европейская организация качества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ropean Organization for Qualit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мирный день качества был утвержден в 1990году. Спустя шесть лет Европейская организация качества объявила Европейскую неделю качества (неделя, в которую попадает этот второй ноябрьский четверг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нятие «качество» тесно связано с тем, что называется благами современной цивилизации, качеством жизни- а это : состояние окружающей среды, здоровье людей, психологический комфорт, экономическое состояние и качество образов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Конкурс качества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«Сделано в Санкт-Петербурге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08год- 65 / 47-первый/24-второй/ 6- победи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09год-100 /52-первый/14-второй/ 10- победи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10год-120 /37-первый/10-второй /7 -победи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C:\Documents and Settings\123.123321-A30EB9C9\Local Settings\Temporary Internet Files\Content.IE5\EPNSDGZI\MC900198790[1].wmf"/>
          <p:cNvPicPr/>
          <p:nvPr/>
        </p:nvPicPr>
        <p:blipFill>
          <a:blip r:embed="rId1"/>
          <a:stretch/>
        </p:blipFill>
        <p:spPr>
          <a:xfrm>
            <a:off x="3857760" y="3571920"/>
            <a:ext cx="2076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нципы Болонского процесса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ном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вер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им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би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крыт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влека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17:43Z</dcterms:created>
  <dc:creator>123321</dc:creator>
  <dc:description/>
  <dc:language>en-US</dc:language>
  <cp:lastModifiedBy>123321</cp:lastModifiedBy>
  <dcterms:modified xsi:type="dcterms:W3CDTF">2010-11-07T18:55:09Z</dcterms:modified>
  <cp:revision>112</cp:revision>
  <dc:subject/>
  <dc:title>Петербургское измерение инноваций в системе образования</dc:title>
</cp:coreProperties>
</file>