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579-6508-440F-B9CB-4E0EF43D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899-6D5B-4E41-8A38-E10288D3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1D7-5E66-4F72-B48A-4A975A87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298-A6E1-42CC-9CD3-6C79B864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65F-A385-41F0-AB49-BBDC0D62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AB0-BE5A-4272-9BED-53FCD18B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DED-E24B-4305-8C29-3FF4B5F1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3EE-17D3-4D9D-9C02-3220BA4A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8D4-AF86-45E3-BD15-9740D786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0ED-926A-4ECE-B340-BCE540E5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188-597A-426C-BE7D-C68AF816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346-E8A9-475B-94F2-FBE38C26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09CD-5E87-435F-A69B-EAB61017B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71680" y="357120"/>
            <a:ext cx="781812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ружность в аксонометр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13"/>
          <p:cNvGrpSpPr/>
          <p:nvPr/>
        </p:nvGrpSpPr>
        <p:grpSpPr>
          <a:xfrm>
            <a:off x="1500120" y="2428920"/>
            <a:ext cx="1366920" cy="1366920"/>
            <a:chOff x="1500120" y="2428920"/>
            <a:chExt cx="1366920" cy="1366920"/>
          </a:xfrm>
        </p:grpSpPr>
        <p:sp>
          <p:nvSpPr>
            <p:cNvPr id="43" name="Oval 7"/>
            <p:cNvSpPr/>
            <p:nvPr/>
          </p:nvSpPr>
          <p:spPr>
            <a:xfrm>
              <a:off x="1500120" y="2428920"/>
              <a:ext cx="1150920" cy="115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9"/>
            <p:cNvSpPr/>
            <p:nvPr/>
          </p:nvSpPr>
          <p:spPr>
            <a:xfrm>
              <a:off x="2003400" y="2932200"/>
              <a:ext cx="863640" cy="86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Oval 12"/>
          <p:cNvSpPr/>
          <p:nvPr/>
        </p:nvSpPr>
        <p:spPr>
          <a:xfrm rot="18988200">
            <a:off x="5935680" y="3094200"/>
            <a:ext cx="230328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8" descr=""/>
          <p:cNvPicPr/>
          <p:nvPr/>
        </p:nvPicPr>
        <p:blipFill>
          <a:blip r:embed="rId1"/>
          <a:stretch/>
        </p:blipFill>
        <p:spPr>
          <a:xfrm>
            <a:off x="1133640" y="4383000"/>
            <a:ext cx="73339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4384800" y="1960560"/>
            <a:ext cx="0" cy="26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971640" y="333360"/>
            <a:ext cx="7495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ая диметрическая проекц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 flipH="1">
            <a:off x="1332000" y="465300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140360" y="12682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50920" y="4437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4356000" y="4653000"/>
            <a:ext cx="223200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804000" y="5950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3"/>
          <p:cNvSpPr/>
          <p:nvPr/>
        </p:nvSpPr>
        <p:spPr>
          <a:xfrm>
            <a:off x="2124000" y="2276640"/>
            <a:ext cx="180036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2124000" y="2276640"/>
            <a:ext cx="17985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611280" y="134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1116000" y="50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932360" y="184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796000" y="32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2556000" y="5229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5"/>
          <p:cNvSpPr txBox="1"/>
          <p:nvPr/>
        </p:nvSpPr>
        <p:spPr>
          <a:xfrm>
            <a:off x="1619280" y="33336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ометрическая проекц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4427640" y="1413000"/>
            <a:ext cx="0" cy="32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50072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>
            <a:off x="899640" y="4653000"/>
            <a:ext cx="35276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95280" y="5734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427640" y="4653000"/>
            <a:ext cx="316872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7667640" y="595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 rot="1980600">
            <a:off x="2987280" y="2997000"/>
            <a:ext cx="936720" cy="1944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 rot="19726800">
            <a:off x="5003280" y="3068280"/>
            <a:ext cx="936720" cy="194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 rot="5400000">
            <a:off x="3852000" y="4653720"/>
            <a:ext cx="936720" cy="194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324000" y="189000"/>
            <a:ext cx="84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троение овала в горизонтальной плоскости прое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Oval 7"/>
          <p:cNvSpPr/>
          <p:nvPr/>
        </p:nvSpPr>
        <p:spPr>
          <a:xfrm>
            <a:off x="3059280" y="2276640"/>
            <a:ext cx="2590560" cy="2590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1187280" y="5589720"/>
            <a:ext cx="586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ружность делим на 6 част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Picture 6" descr="4"/>
          <p:cNvPicPr/>
          <p:nvPr/>
        </p:nvPicPr>
        <p:blipFill>
          <a:blip r:embed="rId1"/>
          <a:stretch/>
        </p:blipFill>
        <p:spPr>
          <a:xfrm>
            <a:off x="2195640" y="1773360"/>
            <a:ext cx="4344840" cy="3260520"/>
          </a:xfrm>
          <a:prstGeom prst="rect">
            <a:avLst/>
          </a:prstGeom>
          <a:ln w="0">
            <a:noFill/>
          </a:ln>
        </p:spPr>
      </p:pic>
      <p:sp>
        <p:nvSpPr>
          <p:cNvPr id="75" name="WordArt 9"/>
          <p:cNvSpPr txBox="1"/>
          <p:nvPr/>
        </p:nvSpPr>
        <p:spPr>
          <a:xfrm>
            <a:off x="250920" y="981000"/>
            <a:ext cx="8281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точек пересечения оси Z и окружности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им вспомогательные радиусы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3203280" y="2276640"/>
            <a:ext cx="1152360" cy="1944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356000" y="2276640"/>
            <a:ext cx="1079640" cy="1944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V="1">
            <a:off x="4356000" y="2997000"/>
            <a:ext cx="1079640" cy="1871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 flipV="1">
            <a:off x="3203280" y="2997000"/>
            <a:ext cx="1152360" cy="1871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6"/>
          <p:cNvPicPr/>
          <p:nvPr/>
        </p:nvPicPr>
        <p:blipFill>
          <a:blip r:embed="rId2"/>
          <a:stretch/>
        </p:blipFill>
        <p:spPr>
          <a:xfrm>
            <a:off x="2411280" y="1773360"/>
            <a:ext cx="4032360" cy="3270240"/>
          </a:xfrm>
          <a:prstGeom prst="rect">
            <a:avLst/>
          </a:prstGeom>
          <a:ln w="0">
            <a:noFill/>
          </a:ln>
        </p:spPr>
      </p:pic>
      <p:sp>
        <p:nvSpPr>
          <p:cNvPr id="81" name="WordArt 16"/>
          <p:cNvSpPr txBox="1"/>
          <p:nvPr/>
        </p:nvSpPr>
        <p:spPr>
          <a:xfrm>
            <a:off x="2050920" y="5877000"/>
            <a:ext cx="535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им большие дуги овал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17" descr="5"/>
          <p:cNvPicPr/>
          <p:nvPr/>
        </p:nvPicPr>
        <p:blipFill>
          <a:blip r:embed="rId3"/>
          <a:stretch/>
        </p:blipFill>
        <p:spPr>
          <a:xfrm>
            <a:off x="2484360" y="1773360"/>
            <a:ext cx="4032360" cy="3270240"/>
          </a:xfrm>
          <a:prstGeom prst="rect">
            <a:avLst/>
          </a:prstGeom>
          <a:ln w="0">
            <a:noFill/>
          </a:ln>
        </p:spPr>
      </p:pic>
      <p:sp>
        <p:nvSpPr>
          <p:cNvPr id="83" name="WordArt 18"/>
          <p:cNvSpPr txBox="1"/>
          <p:nvPr/>
        </p:nvSpPr>
        <p:spPr>
          <a:xfrm>
            <a:off x="1908000" y="981000"/>
            <a:ext cx="488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им малые дуги овал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324000" y="189000"/>
            <a:ext cx="84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троение овала в фронтальной плоскости прое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Picture 6" descr="2"/>
          <p:cNvPicPr/>
          <p:nvPr/>
        </p:nvPicPr>
        <p:blipFill>
          <a:blip r:embed="rId1"/>
          <a:stretch/>
        </p:blipFill>
        <p:spPr>
          <a:xfrm>
            <a:off x="1547640" y="981000"/>
            <a:ext cx="5348520" cy="4307040"/>
          </a:xfrm>
          <a:prstGeom prst="rect">
            <a:avLst/>
          </a:prstGeom>
          <a:ln w="0">
            <a:noFill/>
          </a:ln>
        </p:spPr>
      </p:pic>
      <p:sp>
        <p:nvSpPr>
          <p:cNvPr id="86" name="WordArt 7"/>
          <p:cNvSpPr txBox="1"/>
          <p:nvPr/>
        </p:nvSpPr>
        <p:spPr>
          <a:xfrm>
            <a:off x="395280" y="5373720"/>
            <a:ext cx="36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ая ось Y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2195640" y="6334200"/>
            <a:ext cx="671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а перпендикулярна плоскости V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 flipV="1">
            <a:off x="5003640" y="2924280"/>
            <a:ext cx="720720" cy="1225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H="1">
            <a:off x="4284360" y="4149720"/>
            <a:ext cx="1439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4284720" y="3357720"/>
            <a:ext cx="1439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4284720" y="3357720"/>
            <a:ext cx="718920" cy="122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 flipH="1" flipV="1">
            <a:off x="2843280" y="1700280"/>
            <a:ext cx="720720" cy="1224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 flipH="1">
            <a:off x="2050560" y="2924280"/>
            <a:ext cx="1513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2124000" y="213372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2124000" y="2133720"/>
            <a:ext cx="719280" cy="1224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8"/>
          <p:cNvSpPr/>
          <p:nvPr/>
        </p:nvSpPr>
        <p:spPr>
          <a:xfrm rot="2001600">
            <a:off x="2195640" y="1557000"/>
            <a:ext cx="1179360" cy="19843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 rot="2001600">
            <a:off x="4427640" y="2781000"/>
            <a:ext cx="1179360" cy="19843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3348000" y="1700280"/>
            <a:ext cx="2232000" cy="1224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/>
          <p:cNvSpPr/>
          <p:nvPr/>
        </p:nvSpPr>
        <p:spPr>
          <a:xfrm>
            <a:off x="2235240" y="3381480"/>
            <a:ext cx="2265480" cy="127152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24000" y="189000"/>
            <a:ext cx="84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троение овала в профильной плоскости прое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1" name="Picture 5" descr="3"/>
          <p:cNvPicPr/>
          <p:nvPr/>
        </p:nvPicPr>
        <p:blipFill>
          <a:blip r:embed="rId1"/>
          <a:stretch/>
        </p:blipFill>
        <p:spPr>
          <a:xfrm>
            <a:off x="2124000" y="1125360"/>
            <a:ext cx="4668840" cy="39895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6"/>
          <p:cNvSpPr txBox="1"/>
          <p:nvPr/>
        </p:nvSpPr>
        <p:spPr>
          <a:xfrm>
            <a:off x="395280" y="5373720"/>
            <a:ext cx="36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ая ось 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2195640" y="6334200"/>
            <a:ext cx="671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а перпендикулярна плоскости W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Line 9"/>
          <p:cNvSpPr/>
          <p:nvPr/>
        </p:nvSpPr>
        <p:spPr>
          <a:xfrm flipV="1">
            <a:off x="2771640" y="2923920"/>
            <a:ext cx="64800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2771640" y="4005360"/>
            <a:ext cx="1295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2843280" y="3284640"/>
            <a:ext cx="1224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3419280" y="3284640"/>
            <a:ext cx="64764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 flipV="1">
            <a:off x="4716360" y="1844640"/>
            <a:ext cx="64764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4716360" y="2852640"/>
            <a:ext cx="1224000" cy="7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4788000" y="2205000"/>
            <a:ext cx="1224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 flipH="1">
            <a:off x="5364000" y="2205000"/>
            <a:ext cx="648000" cy="1079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9"/>
          <p:cNvSpPr/>
          <p:nvPr/>
        </p:nvSpPr>
        <p:spPr>
          <a:xfrm rot="19641000">
            <a:off x="2842920" y="2781000"/>
            <a:ext cx="1179360" cy="17557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0"/>
          <p:cNvSpPr/>
          <p:nvPr/>
        </p:nvSpPr>
        <p:spPr>
          <a:xfrm rot="19641000">
            <a:off x="4788000" y="1628640"/>
            <a:ext cx="1179360" cy="17560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1"/>
          <p:cNvSpPr/>
          <p:nvPr/>
        </p:nvSpPr>
        <p:spPr>
          <a:xfrm>
            <a:off x="2916360" y="1727280"/>
            <a:ext cx="2033640" cy="119700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3851280" y="3251160"/>
            <a:ext cx="2013120" cy="118584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8:23:16Z</dcterms:created>
  <dc:creator>User</dc:creator>
  <dc:description/>
  <dc:language>en-US</dc:language>
  <cp:lastModifiedBy>школа 76</cp:lastModifiedBy>
  <dcterms:modified xsi:type="dcterms:W3CDTF">2010-01-15T18:46:19Z</dcterms:modified>
  <cp:revision>5</cp:revision>
  <dc:subject/>
  <dc:title>Окружность в аксонометрии</dc:title>
</cp:coreProperties>
</file>