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4C5-1883-44E7-A8F5-9EDA5EB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AFE-D0F2-44E6-AEC4-659D141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427-7D5D-4E41-9BB2-68522550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2F2-D73A-4529-846B-76532797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1FD-0727-4FC9-BBE3-6C9BE61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CAC-3B61-436F-9E6E-BA791F74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168-AE12-41E1-B8C9-BF706F1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790-CBED-46FC-890D-1625B98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BB9-0424-425B-AAA2-5D86DF4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587-DEF1-47DB-9590-37F0CA5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C54-8B04-46EF-9377-847D9BD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980-F04B-480C-BC7F-9EF54A8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D28-726D-474D-995E-F171B49AF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357120"/>
            <a:ext cx="781812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в аксонометр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1500120" y="2428920"/>
            <a:ext cx="1366920" cy="1366920"/>
            <a:chOff x="1500120" y="2428920"/>
            <a:chExt cx="1366920" cy="1366920"/>
          </a:xfrm>
        </p:grpSpPr>
        <p:sp>
          <p:nvSpPr>
            <p:cNvPr id="43" name="Oval 7"/>
            <p:cNvSpPr/>
            <p:nvPr/>
          </p:nvSpPr>
          <p:spPr>
            <a:xfrm>
              <a:off x="1500120" y="2428920"/>
              <a:ext cx="1150920" cy="11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9"/>
            <p:cNvSpPr/>
            <p:nvPr/>
          </p:nvSpPr>
          <p:spPr>
            <a:xfrm>
              <a:off x="2003400" y="2932200"/>
              <a:ext cx="86364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12"/>
          <p:cNvSpPr/>
          <p:nvPr/>
        </p:nvSpPr>
        <p:spPr>
          <a:xfrm rot="18988200">
            <a:off x="5935680" y="3094200"/>
            <a:ext cx="2303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1133640" y="4383000"/>
            <a:ext cx="73339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4384800" y="196056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971640" y="333360"/>
            <a:ext cx="7495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ая ди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332000" y="465300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140360" y="1268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50920" y="4437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356000" y="4653000"/>
            <a:ext cx="22320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80400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2124000" y="2276640"/>
            <a:ext cx="1800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124000" y="2276640"/>
            <a:ext cx="17985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128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932360" y="184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79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556000" y="5229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1619280" y="33336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27640" y="1413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0072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899640" y="4653000"/>
            <a:ext cx="35276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573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427640" y="4653000"/>
            <a:ext cx="3168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667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 rot="1980600">
            <a:off x="2987280" y="2997000"/>
            <a:ext cx="936720" cy="1944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 rot="19726800">
            <a:off x="5003280" y="306828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 rot="5400000">
            <a:off x="3852000" y="465372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гориз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3059280" y="2276640"/>
            <a:ext cx="2590560" cy="25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1187280" y="5589720"/>
            <a:ext cx="586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делим на 6 част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6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4344840" cy="326052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50920" y="981000"/>
            <a:ext cx="82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точек пересечения оси Z и окружности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вспомогательные радиусы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3203280" y="2276640"/>
            <a:ext cx="115236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356000" y="2276640"/>
            <a:ext cx="107964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4356000" y="2997000"/>
            <a:ext cx="107964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 flipV="1">
            <a:off x="3203280" y="2997000"/>
            <a:ext cx="115236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6"/>
          <p:cNvPicPr/>
          <p:nvPr/>
        </p:nvPicPr>
        <p:blipFill>
          <a:blip r:embed="rId2"/>
          <a:stretch/>
        </p:blipFill>
        <p:spPr>
          <a:xfrm>
            <a:off x="241128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6"/>
          <p:cNvSpPr txBox="1"/>
          <p:nvPr/>
        </p:nvSpPr>
        <p:spPr>
          <a:xfrm>
            <a:off x="2050920" y="5877000"/>
            <a:ext cx="535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больши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17" descr="5"/>
          <p:cNvPicPr/>
          <p:nvPr/>
        </p:nvPicPr>
        <p:blipFill>
          <a:blip r:embed="rId3"/>
          <a:stretch/>
        </p:blipFill>
        <p:spPr>
          <a:xfrm>
            <a:off x="248436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8"/>
          <p:cNvSpPr txBox="1"/>
          <p:nvPr/>
        </p:nvSpPr>
        <p:spPr>
          <a:xfrm>
            <a:off x="1908000" y="981000"/>
            <a:ext cx="48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малы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фр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1547640" y="981000"/>
            <a:ext cx="5348520" cy="4307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 flipV="1">
            <a:off x="5003640" y="2924280"/>
            <a:ext cx="720720" cy="1225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>
            <a:off x="4284360" y="414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284720" y="3357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284720" y="3357720"/>
            <a:ext cx="718920" cy="122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 flipV="1">
            <a:off x="2843280" y="1700280"/>
            <a:ext cx="72072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2050560" y="292428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2124000" y="213372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124000" y="2133720"/>
            <a:ext cx="71928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 rot="2001600">
            <a:off x="2195640" y="1557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 rot="2001600">
            <a:off x="4427640" y="2781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3348000" y="1700280"/>
            <a:ext cx="2232000" cy="122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2235240" y="3381480"/>
            <a:ext cx="2265480" cy="12715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профи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1"/>
          <a:stretch/>
        </p:blipFill>
        <p:spPr>
          <a:xfrm>
            <a:off x="2124000" y="1125360"/>
            <a:ext cx="4668840" cy="39895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W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771640" y="2923920"/>
            <a:ext cx="648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771640" y="400536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2843280" y="328464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3419280" y="3284640"/>
            <a:ext cx="64764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4716360" y="1844640"/>
            <a:ext cx="647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716360" y="2852640"/>
            <a:ext cx="122400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4788000" y="220500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>
            <a:off x="5364000" y="2205000"/>
            <a:ext cx="648000" cy="107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 rot="19641000">
            <a:off x="2842920" y="2781000"/>
            <a:ext cx="1179360" cy="1755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 rot="19641000">
            <a:off x="4788000" y="1628640"/>
            <a:ext cx="1179360" cy="1756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"/>
          <p:cNvSpPr/>
          <p:nvPr/>
        </p:nvSpPr>
        <p:spPr>
          <a:xfrm>
            <a:off x="2916360" y="1727280"/>
            <a:ext cx="2033640" cy="119700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3851280" y="3251160"/>
            <a:ext cx="2013120" cy="118584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8:23:16Z</dcterms:created>
  <dc:creator>User</dc:creator>
  <dc:description/>
  <dc:language>en-US</dc:language>
  <cp:lastModifiedBy>школа 76</cp:lastModifiedBy>
  <dcterms:modified xsi:type="dcterms:W3CDTF">2010-01-15T18:46:19Z</dcterms:modified>
  <cp:revision>5</cp:revision>
  <dc:subject/>
  <dc:title>Окружность в аксонометрии</dc:title>
</cp:coreProperties>
</file>