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7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332-E291-4B57-9CC1-85EE278D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A056-4195-4B61-A87E-3D1F75BD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C65-6436-4E42-A848-C2367413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280-C1BA-480A-A221-6A01411D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4EE-76A2-41A8-A2C2-5C9EF3BE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FE4-7CFA-481C-8048-7D3C7DD2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B8E-A229-4B57-8847-B119C8D5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4DC-5938-4007-80A8-E87BD94E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FFD-694F-48B7-A8EA-B5007373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7D8-3C3C-45D3-B6C4-9856CBAD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701-6E0B-425B-9A50-94EA3631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4ED-A691-4091-B900-7F8ECA51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AE21-8736-4FE1-98C7-C20393ADE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arina.tv/snow" TargetMode="External"/><Relationship Id="rId3" Type="http://schemas.openxmlformats.org/officeDocument/2006/relationships/hyperlink" Target="http://www.darina.tv/granatka" TargetMode="External"/><Relationship Id="rId4" Type="http://schemas.openxmlformats.org/officeDocument/2006/relationships/hyperlink" Target="http://www.darina.tv/medok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88;&#1072;&#1085;&#1094;&#1091;&#1079;&#1089;&#1082;&#1080;&#1081;_&#1103;&#1079;&#1099;&#1082;" TargetMode="External"/><Relationship Id="rId3" Type="http://schemas.openxmlformats.org/officeDocument/2006/relationships/hyperlink" Target="http://ru.wikipedia.org/wiki/&#1053;&#1080;&#1090;&#1100;" TargetMode="External"/><Relationship Id="rId4" Type="http://schemas.openxmlformats.org/officeDocument/2006/relationships/hyperlink" Target="http://ru.wikipedia.org/wiki/&#1059;&#1082;&#1088;&#1072;&#1096;&#1077;&#1085;&#1080;&#1077;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1052280"/>
            <a:ext cx="5761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66"/>
                </a:solidFill>
                <a:latin typeface="Arial Black"/>
              </a:rPr>
              <a:t>Отделка издел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932360" y="3357720"/>
            <a:ext cx="3987720" cy="3324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81080" y="0"/>
            <a:ext cx="43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Шитьё – это полоска тонкой белой хлопчатобумажной ткани с вышивкой и вырезанными обработанными отверст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Выпускается шитьё в виде края ( с зубцами), прошивок и полотен, применяют для отделки блузок, платьев, бел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Ширина шитья зависит от его ви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95640" y="620640"/>
            <a:ext cx="5111640" cy="520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195640" y="620640"/>
            <a:ext cx="5113080" cy="5256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195640" y="620640"/>
            <a:ext cx="5113080" cy="525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195640" y="620640"/>
            <a:ext cx="5113080" cy="5256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Кружево — воздушная, тонкая ткань из тонких ниточек, сплетенных в рисунки. Кружево украшает нашу одежду и многие вещи домашнего обихода. Плетут их как вручную, так и машин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627280" y="765000"/>
            <a:ext cx="4249800" cy="5185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56000" y="765000"/>
            <a:ext cx="4321080" cy="5185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56000" y="765000"/>
            <a:ext cx="4321080" cy="5185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2484360" y="765000"/>
            <a:ext cx="4421160" cy="5256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2484360" y="765000"/>
            <a:ext cx="4392720" cy="525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2484360" y="765000"/>
            <a:ext cx="4464000" cy="5256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2484360" y="765000"/>
            <a:ext cx="4464000" cy="5256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Бисер</a:t>
            </a:r>
            <a:r>
              <a:rPr b="1" lang="en-US" sz="2800" spc="-1" strike="noStrike">
                <a:solidFill>
                  <a:srgbClr val="660033"/>
                </a:solidFill>
                <a:latin typeface="Arial Black"/>
              </a:rPr>
              <a:t> — мелкие круглые и многогранные бусинки из прозрачного или цветного стекла или металла с отверстиями для низания. Бисер предназначен для вышивания на предметах быта и женской одежде.</a:t>
            </a:r>
            <a:br>
              <a:rPr sz="2800"/>
            </a:br>
            <a:r>
              <a:rPr b="1" lang="en-US" sz="2800" spc="-1" strike="noStrike">
                <a:solidFill>
                  <a:srgbClr val="660033"/>
                </a:solidFill>
                <a:latin typeface="Arial Black"/>
              </a:rPr>
              <a:t>бисер  делают из кости, рогов, бивней, металла, ракушек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жемчужин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 Black"/>
              </a:rPr>
              <a:t>, кораллов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драгоценных камней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 Black"/>
              </a:rPr>
              <a:t>, окаменевшей смолы деревьев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 Black"/>
                <a:hlinkClick r:id="rId4"/>
              </a:rPr>
              <a:t>(янтарь)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 Black"/>
              </a:rPr>
              <a:t>, синтетических материалов, дерева, керамики, волокна, бумаги, зерен персидской сирени и других раст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4608720" cy="504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95640" y="765000"/>
            <a:ext cx="4608360" cy="504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14640" y="765000"/>
            <a:ext cx="4762440" cy="504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050920" y="765000"/>
            <a:ext cx="4897440" cy="5045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2050920" y="765000"/>
            <a:ext cx="5257800" cy="4988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2050920" y="765000"/>
            <a:ext cx="5257800" cy="504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2050920" y="765000"/>
            <a:ext cx="5257800" cy="504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2124000" y="765000"/>
            <a:ext cx="5112000" cy="504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Пайе́тка 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фр.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 </a:t>
            </a:r>
            <a:r>
              <a:rPr b="0" i="1" lang="fr-FR" sz="2800" spc="-1" strike="noStrike">
                <a:solidFill>
                  <a:srgbClr val="660033"/>
                </a:solidFill>
                <a:latin typeface="Arial Black"/>
              </a:rPr>
              <a:t>Paillette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 — «золотая песчинка, золотинка») — блёстка, плоская чешуйка из блестящего материала, обычно круглой или многогранной формы и с отверстием для продевания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нитки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. Пайетка может иметь различную окраску. Используется как элемент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4"/>
              </a:rPr>
              <a:t>украшения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 или             дизайна           одежды, плетёных изделий, изделий из бис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43280" y="98100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843280" y="98100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843280" y="98100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843280" y="98100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2771640" y="981000"/>
            <a:ext cx="4248360" cy="489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2771640" y="981000"/>
            <a:ext cx="4248360" cy="489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 Black"/>
              </a:rPr>
              <a:t>Отделка служит дополнением и украшением внешнего вида издел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218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 Black"/>
              </a:rPr>
              <a:t>Для отделки любого изделия используют различные отделочные материал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Л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Тес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Су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Шить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Бис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Пай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Круж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 Black"/>
              </a:rPr>
              <a:t>Варианты отделки издел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1859040" cy="1858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8000" y="3284640"/>
            <a:ext cx="2549880" cy="191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284720" y="433692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Аппликация"/>
          <p:cNvPicPr/>
          <p:nvPr/>
        </p:nvPicPr>
        <p:blipFill>
          <a:blip r:embed="rId5"/>
          <a:stretch/>
        </p:blipFill>
        <p:spPr>
          <a:xfrm>
            <a:off x="6659640" y="2637000"/>
            <a:ext cx="207144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0661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 Black"/>
              </a:rPr>
              <a:t>Ленты – это полоски ткани небольшой ширины, применяемых для отделки швейных изделий. Они могут быть шелковыми(атласные шелковые ленты), хлопчатобумажными, капроновыми и др.,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55640" y="3645000"/>
          <a:ext cx="741672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3645000"/>
                    <a:ext cx="7416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755640" y="4941720"/>
          <a:ext cx="7416720" cy="105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4941720"/>
                    <a:ext cx="741672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Тесьма – представляет собой плетёную или вязаную одноцветную или пёструю полоску разной шир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По структуре тесьма может быть плотной с ровной гладкой поверхностью, плотной с рельефными рисунками, ажурн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404640"/>
          <a:ext cx="8497800" cy="93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04640"/>
                    <a:ext cx="84978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95280" y="2852640"/>
          <a:ext cx="8424720" cy="10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2852640"/>
                    <a:ext cx="8424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24000" y="1557360"/>
          <a:ext cx="8569080" cy="93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557360"/>
                    <a:ext cx="85690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95280" y="4292640"/>
          <a:ext cx="8424720" cy="100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4292640"/>
                    <a:ext cx="8424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Сутаж – это отделочный шнур, состоящий из двух прядей хлопчатобумажной пряжи, оплетённых вискозными ни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В центре сутажа есть углубление, по которому он намётывается (или настрачивается на изделие или на деталь изде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Сутажом можно отделать издел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Он эластичен, поэтому его используют  для вышивания сложных рисунко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35280" y="907920"/>
            <a:ext cx="5270400" cy="5689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908000" y="907920"/>
            <a:ext cx="5301000" cy="5689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908000" y="907920"/>
            <a:ext cx="5437440" cy="5761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835280" y="907920"/>
            <a:ext cx="5560920" cy="576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4:48:09Z</dcterms:created>
  <dc:creator>Игорь</dc:creator>
  <dc:description/>
  <dc:language>en-US</dc:language>
  <cp:lastModifiedBy>Игорь</cp:lastModifiedBy>
  <dcterms:modified xsi:type="dcterms:W3CDTF">2013-12-15T13:18:42Z</dcterms:modified>
  <cp:revision>10</cp:revision>
  <dc:subject/>
  <dc:title>Отделка изделия</dc:title>
</cp:coreProperties>
</file>