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7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937-5728-4B3A-915E-4821A21E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E8C-4AF6-4D9C-961D-D19910CA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3A2-4F0B-4E42-85D6-D9B1B27A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FC2-2E18-481D-82E2-D6FDA500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607-EDAE-40F5-B1F9-4066C1AB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097-5C41-4DF1-91DD-AB2B14D5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A16-CA37-4805-B099-F1D77C36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B11-F0C3-4ECA-A493-0EA0C201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A12-8333-40E7-BDCA-0DC3A092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42C-3525-49DC-BDFE-B3E86A6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F37-CADC-4278-9104-806D8FC6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9B2-7023-431A-B2A1-74AA452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46E-C973-4204-B527-4EBB8C420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rina.tv/snow" TargetMode="External"/><Relationship Id="rId3" Type="http://schemas.openxmlformats.org/officeDocument/2006/relationships/hyperlink" Target="http://www.darina.tv/granatka" TargetMode="External"/><Relationship Id="rId4" Type="http://schemas.openxmlformats.org/officeDocument/2006/relationships/hyperlink" Target="http://www.darina.tv/medok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8;&#1072;&#1085;&#1094;&#1091;&#1079;&#1089;&#1082;&#1080;&#1081;_&#1103;&#1079;&#1099;&#1082;" TargetMode="External"/><Relationship Id="rId3" Type="http://schemas.openxmlformats.org/officeDocument/2006/relationships/hyperlink" Target="http://ru.wikipedia.org/wiki/&#1053;&#1080;&#1090;&#1100;" TargetMode="External"/><Relationship Id="rId4" Type="http://schemas.openxmlformats.org/officeDocument/2006/relationships/hyperlink" Target="http://ru.wikipedia.org/wiki/&#1059;&#1082;&#1088;&#1072;&#1096;&#1077;&#1085;&#1080;&#1077;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1052280"/>
            <a:ext cx="5761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Arial Black"/>
              </a:rPr>
              <a:t>Отделка издел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3987720" cy="332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43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Шитьё – это полоска тонкой белой хлопчатобумажной ткани с вышивкой и вырезанными обработанными отверс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Выпускается шитьё в виде края ( с зубцами), прошивок и полотен, применяют для отделки блузок, платьев, бе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Ширина шитья зависит от его в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5111640" cy="520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95640" y="620640"/>
            <a:ext cx="5113080" cy="5256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Кружево — воздушная, тонкая ткань из тонких ниточек, сплетенных в рисунки. Кружево украшает нашу одежду и многие вещи домашнего обихода. Плетут их как вручную, так и машин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27280" y="765000"/>
            <a:ext cx="4249800" cy="5185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56000" y="765000"/>
            <a:ext cx="4321080" cy="5185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56000" y="765000"/>
            <a:ext cx="4321080" cy="518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484360" y="765000"/>
            <a:ext cx="4421160" cy="525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484360" y="765000"/>
            <a:ext cx="4392720" cy="525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484360" y="765000"/>
            <a:ext cx="4464000" cy="525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2484360" y="765000"/>
            <a:ext cx="4464000" cy="525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Бисер</a:t>
            </a:r>
            <a:r>
              <a:rPr b="1" lang="en-US" sz="2800" spc="-1" strike="noStrike">
                <a:solidFill>
                  <a:srgbClr val="660033"/>
                </a:solidFill>
                <a:latin typeface="Arial Black"/>
              </a:rPr>
              <a:t> — мелкие круглые и многогранные бусинки из прозрачного или цветного стекла или металла с отверстиями для низания. Бисер предназначен для вышивания на предметах быта и женской одежде.</a:t>
            </a: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 Black"/>
              </a:rPr>
              <a:t>бисер  делают из кости, рогов, бивней, металла, ракушек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жемчужин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кораллов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драгоценных камней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окаменевшей смолы деревьев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(янтарь)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Arial Black"/>
              </a:rPr>
              <a:t>, синтетических материалов, дерева, керамики, волокна, бумаги, зерен персидской сирени и других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608720" cy="504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95640" y="765000"/>
            <a:ext cx="4608360" cy="504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14640" y="765000"/>
            <a:ext cx="4762440" cy="504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050920" y="765000"/>
            <a:ext cx="4897440" cy="5045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050920" y="765000"/>
            <a:ext cx="5257800" cy="4988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050920" y="765000"/>
            <a:ext cx="5257800" cy="504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2050920" y="765000"/>
            <a:ext cx="5257800" cy="504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2124000" y="765000"/>
            <a:ext cx="5112000" cy="504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айе́тка 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фр.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</a:t>
            </a:r>
            <a:r>
              <a:rPr b="0" i="1" lang="fr-FR" sz="2800" spc="-1" strike="noStrike">
                <a:solidFill>
                  <a:srgbClr val="660033"/>
                </a:solidFill>
                <a:latin typeface="Arial Black"/>
              </a:rPr>
              <a:t>Paillette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— «золотая песчинка, золотинка») — блёстка, плоская чешуйка из блестящего материала, обычно круглой или многогранной формы и с отверстием для продевания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нитки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. Пайетка может иметь различную окраску. Используется как элемент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украшения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 или             дизайна           одежды, плетёных изделий, изделий из бис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843280" y="98100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771640" y="981000"/>
            <a:ext cx="4248360" cy="489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771640" y="981000"/>
            <a:ext cx="4248360" cy="489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 Black"/>
              </a:rPr>
              <a:t>Отделка служит дополнением и украшением внешнего вида изде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218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 Black"/>
              </a:rPr>
              <a:t>Для отделки любого изделия используют различные отделочные материал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Л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Те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Су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Шит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Бис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Пай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Black"/>
              </a:rPr>
              <a:t>Круж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 Black"/>
              </a:rPr>
              <a:t>Варианты отделки издел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1859040" cy="185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2549880" cy="191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284720" y="43369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Аппликация"/>
          <p:cNvPicPr/>
          <p:nvPr/>
        </p:nvPicPr>
        <p:blipFill>
          <a:blip r:embed="rId5"/>
          <a:stretch/>
        </p:blipFill>
        <p:spPr>
          <a:xfrm>
            <a:off x="6659640" y="2637000"/>
            <a:ext cx="20714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066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 Black"/>
              </a:rPr>
              <a:t>Ленты – это полоски ткани небольшой ширины, применяемых для отделки швейных изделий. Они могут быть шелковыми(атласные шелковые ленты), хлопчатобумажными, капроновыми и др.,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3645000"/>
          <a:ext cx="741672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45000"/>
                    <a:ext cx="7416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55640" y="4941720"/>
          <a:ext cx="7416720" cy="105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4941720"/>
                    <a:ext cx="74167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Тесьма – представляет собой плетёную или вязаную одноцветную или пёструю полоску разной шир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По структуре тесьма может быть плотной с ровной гладкой поверхностью, плотной с рельефными рисунками, ажур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404640"/>
          <a:ext cx="849780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04640"/>
                    <a:ext cx="8497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95280" y="2852640"/>
          <a:ext cx="842472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852640"/>
                    <a:ext cx="8424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4000" y="1557360"/>
          <a:ext cx="856908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557360"/>
                    <a:ext cx="85690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95280" y="4292640"/>
          <a:ext cx="842472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4292640"/>
                    <a:ext cx="8424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Сутаж – это отделочный шнур, состоящий из двух прядей хлопчатобумажной пряжи, оплетённых вискозными ни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В центре сутажа есть углубление, по которому он намётывается (или настрачивается на изделие или на деталь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Сутажом можно отделать изде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 Black"/>
              </a:rPr>
              <a:t>Он эластичен, поэтому его используют  для вышивания сложных рисунк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270400" cy="568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5301000" cy="568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908000" y="907920"/>
            <a:ext cx="5437440" cy="576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835280" y="907920"/>
            <a:ext cx="5560920" cy="5761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61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4:48:09Z</dcterms:created>
  <dc:creator>Игорь</dc:creator>
  <dc:description/>
  <dc:language>en-US</dc:language>
  <cp:lastModifiedBy>Игорь</cp:lastModifiedBy>
  <dcterms:modified xsi:type="dcterms:W3CDTF">2013-12-15T13:18:42Z</dcterms:modified>
  <cp:revision>10</cp:revision>
  <dc:subject/>
  <dc:title>Отделка изделия</dc:title>
</cp:coreProperties>
</file>