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27.png" ContentType="image/png"/>
  <Override PartName="/ppt/media/image24.wmf" ContentType="image/x-wmf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9.jpeg" ContentType="image/jpeg"/>
  <Override PartName="/ppt/media/image22.jpeg" ContentType="image/jpeg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83400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12FC-F266-423D-9144-36BC213D0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2A13-4CA4-45FA-9C8F-2FF5E1F7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45DC-C91F-41EF-9364-00D160159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643C-20AC-43CD-8C83-C89EEED17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69F7-E8C1-43E1-A909-2513C8371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0F83-2459-4D90-A8E5-BCAD0BB4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6D861-F9AF-4C76-8793-B8976D10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E45E-17F8-4FF9-B3E1-A9F0D3B6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4EE5-8812-4015-9479-52150958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27CF-3822-4A7B-9B70-90F28D81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6B79-A1C1-4BCE-B225-DCCCFCC3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B839-E126-42CD-B170-445DF9CA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0DB2-8F34-4820-B1D0-91A27219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19EA-E162-49BE-9316-1297BB80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3568-2211-4C40-BF57-4372AE51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7B1B-1D24-48FF-9463-77309CB59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A2C12-DF2D-4048-9792-A3CFAFFD6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3D882-4263-4F1D-B9B9-19DA9238A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662A0-9BD5-4043-9398-71138193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9C951-61CF-47DD-A82A-9F3CA5CF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F54FB-7598-4D34-83AC-B6EAD52D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CD901-AFA4-4823-BB8A-2ED28E32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6488-1822-44B9-BA14-C5044105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DDF16-FD53-4FB1-810D-543F1C04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F4F43-426C-4AB5-9302-63C79348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7A901-A03B-4543-BF74-C7189CEC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D6709-F0EA-413C-9458-BEF51E6C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319EF-61A7-41E3-A50F-44AADB10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5CA58-9611-43DC-9A1E-838D3ABCE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A704F-DACB-46DB-922C-3DAEDB459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FC30-FDDE-48CB-8360-75CF8B04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4FCD-64BB-40FA-B440-F70999C0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4D09-6007-4426-AD66-D3EC9740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7550-008E-49DB-8DB2-4BFD5E1A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9F40-BE01-43E4-B42C-3C0F267A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D9C4-8B9B-4CA4-A88E-8AAFE642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6A27-4ED0-410A-97B0-9809BACA707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6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845D-43B7-40E8-A9F0-D86D3BF3A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94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5CF4-768E-405F-A60F-AE1A2991D39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5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5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G:\ПРЕЗЕНТАЦИЯ\1318364986_262687639_1----.jpg"/>
          <p:cNvPicPr/>
          <p:nvPr/>
        </p:nvPicPr>
        <p:blipFill>
          <a:blip r:embed="rId1"/>
          <a:stretch/>
        </p:blipFill>
        <p:spPr>
          <a:xfrm>
            <a:off x="209520" y="0"/>
            <a:ext cx="8934480" cy="68706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2771640" y="2349360"/>
            <a:ext cx="328644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Garamond"/>
              </a:rPr>
              <a:t>Орех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4114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Arial"/>
              </a:rPr>
              <a:t>Орехи. Фундук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795640" y="2060640"/>
            <a:ext cx="307188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65f3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рех овальной или круглой формы достигает 2 см в длину в твердой коричневой скорлупе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65f3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основном фундук используют в десертах, выпечке и конфетах и в других кулинарных издел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65f3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лагаем жареный дроблёный фундук любого калибр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5" descr="G:\ПРЕЗЕНТАЦИЯ\lazd_riesutai.jpg"/>
          <p:cNvPicPr/>
          <p:nvPr/>
        </p:nvPicPr>
        <p:blipFill>
          <a:blip r:embed="rId1"/>
          <a:stretch/>
        </p:blipFill>
        <p:spPr>
          <a:xfrm>
            <a:off x="250920" y="3886200"/>
            <a:ext cx="3960720" cy="29718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3132000" y="1700280"/>
            <a:ext cx="2509920" cy="16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Фундук очищен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уше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/11, 11/13, 13/15, 15/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ешок 40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зербайдж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684360" y="1773360"/>
            <a:ext cx="2509560" cy="16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ундук жаре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робле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-2, 2-4 м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фрокороб 12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AB-M"/>
          <p:cNvPicPr/>
          <p:nvPr/>
        </p:nvPicPr>
        <p:blipFill>
          <a:blip r:embed="rId2"/>
          <a:stretch/>
        </p:blipFill>
        <p:spPr>
          <a:xfrm>
            <a:off x="5076720" y="549360"/>
            <a:ext cx="34704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46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Arial"/>
              </a:rPr>
              <a:t>Орехи. </a:t>
            </a:r>
            <a:br>
              <a:rPr sz="2600"/>
            </a:br>
            <a:r>
              <a:rPr b="0" lang="en-US" sz="2600" spc="-1" strike="noStrike">
                <a:solidFill>
                  <a:srgbClr val="999900"/>
                </a:solidFill>
                <a:latin typeface="Arial"/>
              </a:rPr>
              <a:t>Арахис и миндаль </a:t>
            </a:r>
            <a:br>
              <a:rPr sz="2600"/>
            </a:br>
            <a:r>
              <a:rPr b="0" lang="en-US" sz="2600" spc="-1" strike="noStrike">
                <a:solidFill>
                  <a:srgbClr val="999900"/>
                </a:solidFill>
                <a:latin typeface="Arial"/>
              </a:rPr>
              <a:t>в скорлупе</a:t>
            </a:r>
            <a:endParaRPr b="0" lang="en-US" sz="2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03" name="Picture 11" descr="G:\ПРЕЗЕНТАЦИЯ\x_223c7d3a.jpg"/>
          <p:cNvPicPr/>
          <p:nvPr/>
        </p:nvPicPr>
        <p:blipFill>
          <a:blip r:embed="rId1"/>
          <a:stretch/>
        </p:blipFill>
        <p:spPr>
          <a:xfrm>
            <a:off x="4427640" y="3716280"/>
            <a:ext cx="2879640" cy="198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4" name="Picture 13" descr="G:\ПРЕЗЕНТАЦИЯ\nphoto1319637063.jpg"/>
          <p:cNvPicPr/>
          <p:nvPr/>
        </p:nvPicPr>
        <p:blipFill>
          <a:blip r:embed="rId2"/>
          <a:stretch/>
        </p:blipFill>
        <p:spPr>
          <a:xfrm>
            <a:off x="1187280" y="2276640"/>
            <a:ext cx="3600720" cy="197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5" name="Picture 6" descr="AB-M"/>
          <p:cNvPicPr/>
          <p:nvPr/>
        </p:nvPicPr>
        <p:blipFill>
          <a:blip r:embed="rId3"/>
          <a:stretch/>
        </p:blipFill>
        <p:spPr>
          <a:xfrm>
            <a:off x="5076720" y="549360"/>
            <a:ext cx="34704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Arial"/>
              </a:rPr>
              <a:t>Орехи. </a:t>
            </a:r>
            <a:br>
              <a:rPr sz="2800"/>
            </a:br>
            <a:r>
              <a:rPr b="0" lang="en-US" sz="2800" spc="-1" strike="noStrike">
                <a:solidFill>
                  <a:srgbClr val="999900"/>
                </a:solidFill>
                <a:latin typeface="Arial"/>
              </a:rPr>
              <a:t>Миндаль и фундук </a:t>
            </a:r>
            <a:br>
              <a:rPr sz="2800"/>
            </a:br>
            <a:r>
              <a:rPr b="0" lang="en-US" sz="2800" spc="-1" strike="noStrike">
                <a:solidFill>
                  <a:srgbClr val="999900"/>
                </a:solidFill>
                <a:latin typeface="Arial"/>
              </a:rPr>
              <a:t>в шоколадной глазур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07" name="Picture 6" descr="G:\ПРЕЗЕНТАЦИЯ\ed98652a8134.jpg"/>
          <p:cNvPicPr/>
          <p:nvPr/>
        </p:nvPicPr>
        <p:blipFill>
          <a:blip r:embed="rId1"/>
          <a:stretch/>
        </p:blipFill>
        <p:spPr>
          <a:xfrm>
            <a:off x="4427640" y="2637000"/>
            <a:ext cx="3960720" cy="239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8" name="Picture 6" descr="AB-M"/>
          <p:cNvPicPr/>
          <p:nvPr/>
        </p:nvPicPr>
        <p:blipFill>
          <a:blip r:embed="rId2"/>
          <a:stretch/>
        </p:blipFill>
        <p:spPr>
          <a:xfrm>
            <a:off x="5076720" y="549360"/>
            <a:ext cx="3470400" cy="819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611280" y="2637000"/>
            <a:ext cx="3600360" cy="240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5" descr="sunflower-seeds-600"/>
          <p:cNvPicPr/>
          <p:nvPr/>
        </p:nvPicPr>
        <p:blipFill>
          <a:blip r:embed="rId1"/>
          <a:srcRect l="0" t="0" r="5722" b="0"/>
          <a:stretch/>
        </p:blipFill>
        <p:spPr>
          <a:xfrm>
            <a:off x="5003640" y="1989000"/>
            <a:ext cx="2808360" cy="198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1" name="Picture 14" descr="pumpkin-seeds"/>
          <p:cNvPicPr/>
          <p:nvPr/>
        </p:nvPicPr>
        <p:blipFill>
          <a:blip r:embed="rId2"/>
          <a:stretch/>
        </p:blipFill>
        <p:spPr>
          <a:xfrm>
            <a:off x="1620720" y="1989000"/>
            <a:ext cx="2664000" cy="197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5120" y="404280"/>
            <a:ext cx="5114880" cy="104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Arial"/>
              </a:rPr>
              <a:t>Семечки. </a:t>
            </a:r>
            <a:br>
              <a:rPr sz="2800"/>
            </a:br>
            <a:r>
              <a:rPr b="0" lang="en-US" sz="2800" spc="-1" strike="noStrike">
                <a:solidFill>
                  <a:srgbClr val="999900"/>
                </a:solidFill>
                <a:latin typeface="Arial"/>
              </a:rPr>
              <a:t>Семена подсолнечника</a:t>
            </a:r>
            <a:br>
              <a:rPr sz="2800"/>
            </a:br>
            <a:r>
              <a:rPr b="0" lang="en-US" sz="2800" spc="-1" strike="noStrike">
                <a:solidFill>
                  <a:srgbClr val="999900"/>
                </a:solidFill>
                <a:latin typeface="Arial"/>
              </a:rPr>
              <a:t> и тыквенные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13" name="Picture 6" descr="AB-M"/>
          <p:cNvPicPr/>
          <p:nvPr/>
        </p:nvPicPr>
        <p:blipFill>
          <a:blip r:embed="rId3"/>
          <a:stretch/>
        </p:blipFill>
        <p:spPr>
          <a:xfrm>
            <a:off x="5076720" y="549360"/>
            <a:ext cx="3470400" cy="819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3060720" y="4237200"/>
            <a:ext cx="3095640" cy="156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8" descr="G:\ПРЕЗЕНТАЦИЯ\Копия almond_oil_sweet.jpg"/>
          <p:cNvPicPr/>
          <p:nvPr/>
        </p:nvPicPr>
        <p:blipFill>
          <a:blip r:embed="rId1"/>
          <a:stretch/>
        </p:blipFill>
        <p:spPr>
          <a:xfrm>
            <a:off x="7667640" y="5589720"/>
            <a:ext cx="1135080" cy="7585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17575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Arial"/>
              </a:rPr>
              <a:t>Орех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42" name="Picture 5" descr="G:\ПРЕЗЕНТАЦИЯ\ef929f0857fc.jpg"/>
          <p:cNvPicPr/>
          <p:nvPr/>
        </p:nvPicPr>
        <p:blipFill>
          <a:blip r:embed="rId2"/>
          <a:srcRect l="0" t="2751" r="0" b="13909"/>
          <a:stretch/>
        </p:blipFill>
        <p:spPr>
          <a:xfrm>
            <a:off x="1187280" y="1916280"/>
            <a:ext cx="2592720" cy="21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3" name="Picture 6" descr="G:\ПРЕЗЕНТАЦИЯ\almond_oil_sweet.jpg"/>
          <p:cNvPicPr/>
          <p:nvPr/>
        </p:nvPicPr>
        <p:blipFill>
          <a:blip r:embed="rId3"/>
          <a:srcRect l="4565" t="0" r="0" b="0"/>
          <a:stretch/>
        </p:blipFill>
        <p:spPr>
          <a:xfrm>
            <a:off x="4932360" y="1916280"/>
            <a:ext cx="3024360" cy="212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4" name="Rectangle 3"/>
          <p:cNvSpPr/>
          <p:nvPr/>
        </p:nvSpPr>
        <p:spPr>
          <a:xfrm>
            <a:off x="395280" y="4437000"/>
            <a:ext cx="8229600" cy="21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f65f3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ирокий ассортимент орехов высокого качества по лучшим ценам включает в себя самые популярные позиции, среди которых калифорнийская фисташка премиального качества и грецкий орех – одна из фирменных позиций ассортимента компании  «Суперфуд Украин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65f3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ехи богаты витаминами и широко используются в кулинарии по всему мир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65f3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е орехи - богатый источник белка, витамина В, витамина Е и минералов - кальция, железа, магния и кал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AB-M"/>
          <p:cNvPicPr/>
          <p:nvPr/>
        </p:nvPicPr>
        <p:blipFill>
          <a:blip r:embed="rId4"/>
          <a:stretch/>
        </p:blipFill>
        <p:spPr>
          <a:xfrm>
            <a:off x="5076720" y="549360"/>
            <a:ext cx="34704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900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Arial"/>
              </a:rPr>
              <a:t>Орехи. Грецкий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62080" y="1781280"/>
            <a:ext cx="410976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65f3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рецкий орех высшего и первого сортов – фирменные позиции компании «Суперфуд Украина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65f3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рецкий орех производства компании «Суперфуд Украина» - это очень крупный орех премиального качества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65f3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ш грецкий орех производится на современном высокотехнологичном оборудовании, проходит тщательную машинную сортировку и калибровку, а так же фумигацию. С июля поставляется в вакуумной упаковке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4" descr="G:\ПРЕЗЕНТАЦИЯ\photoshop-cs5-sharpen-03.jpg"/>
          <p:cNvPicPr/>
          <p:nvPr/>
        </p:nvPicPr>
        <p:blipFill>
          <a:blip r:embed="rId1"/>
          <a:stretch/>
        </p:blipFill>
        <p:spPr>
          <a:xfrm>
            <a:off x="5364000" y="4140360"/>
            <a:ext cx="3311640" cy="209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9" name="Picture 13" descr="up8"/>
          <p:cNvPicPr/>
          <p:nvPr/>
        </p:nvPicPr>
        <p:blipFill>
          <a:blip r:embed="rId2"/>
          <a:stretch/>
        </p:blipFill>
        <p:spPr>
          <a:xfrm>
            <a:off x="4861080" y="1773360"/>
            <a:ext cx="3527280" cy="25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0" name="AutoShape 14"/>
          <p:cNvSpPr/>
          <p:nvPr/>
        </p:nvSpPr>
        <p:spPr>
          <a:xfrm>
            <a:off x="6732720" y="0"/>
            <a:ext cx="2411280" cy="620640"/>
          </a:xfrm>
          <a:prstGeom prst="horizontalScroll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Фирменная пози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AB-M"/>
          <p:cNvPicPr/>
          <p:nvPr/>
        </p:nvPicPr>
        <p:blipFill>
          <a:blip r:embed="rId3"/>
          <a:stretch/>
        </p:blipFill>
        <p:spPr>
          <a:xfrm>
            <a:off x="5076720" y="549360"/>
            <a:ext cx="34704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900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Arial"/>
              </a:rPr>
              <a:t>Орехи. Грецкий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684360" y="1773360"/>
            <a:ext cx="2017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рецкий оре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с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100% половино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фрокороб 9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кра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3203640" y="4149720"/>
            <a:ext cx="1871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рецкий оре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ый со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20% половино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фрокороб 10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кра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G:\ПРЕЗЕНТАЦИЯ\Копия 20100526-nuts-500.jpg"/>
          <p:cNvPicPr/>
          <p:nvPr/>
        </p:nvPicPr>
        <p:blipFill>
          <a:blip r:embed="rId1"/>
          <a:srcRect l="12428" t="0" r="0" b="0"/>
          <a:stretch/>
        </p:blipFill>
        <p:spPr>
          <a:xfrm>
            <a:off x="6066000" y="4076640"/>
            <a:ext cx="2538360" cy="201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6" name="Rectangle 3"/>
          <p:cNvSpPr/>
          <p:nvPr/>
        </p:nvSpPr>
        <p:spPr>
          <a:xfrm>
            <a:off x="3203640" y="1773360"/>
            <a:ext cx="20890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рецкий оре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ший сорт, Г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85% половино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фрокороб 9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кра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755640" y="4145040"/>
            <a:ext cx="18734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рецкий оре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ший со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50% половино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фрокороб 10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кра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0" descr="oryeh6"/>
          <p:cNvPicPr/>
          <p:nvPr/>
        </p:nvPicPr>
        <p:blipFill>
          <a:blip r:embed="rId2"/>
          <a:stretch/>
        </p:blipFill>
        <p:spPr>
          <a:xfrm>
            <a:off x="6084720" y="1844640"/>
            <a:ext cx="2519640" cy="197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9" name="AutoShape 23"/>
          <p:cNvSpPr/>
          <p:nvPr/>
        </p:nvSpPr>
        <p:spPr>
          <a:xfrm>
            <a:off x="6227640" y="0"/>
            <a:ext cx="2916360" cy="549360"/>
          </a:xfrm>
          <a:prstGeom prst="horizont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ремиальное каче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AB-M"/>
          <p:cNvPicPr/>
          <p:nvPr/>
        </p:nvPicPr>
        <p:blipFill>
          <a:blip r:embed="rId3"/>
          <a:stretch/>
        </p:blipFill>
        <p:spPr>
          <a:xfrm>
            <a:off x="5076720" y="549360"/>
            <a:ext cx="34704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57120" y="1500120"/>
            <a:ext cx="832032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65f3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едлагаем калифорнийскую фисташку премиального качества и иранскую фисташку в фирменном брендированом гофрокороб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Заголовок 1"/>
          <p:cNvSpPr/>
          <p:nvPr/>
        </p:nvSpPr>
        <p:spPr>
          <a:xfrm>
            <a:off x="428760" y="285840"/>
            <a:ext cx="39718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Arial"/>
              </a:rPr>
              <a:t>Орехи. Фиста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одержимое 2"/>
          <p:cNvSpPr/>
          <p:nvPr/>
        </p:nvSpPr>
        <p:spPr>
          <a:xfrm>
            <a:off x="539640" y="2852640"/>
            <a:ext cx="453564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f65f3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ямые контракты с поставщикам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65f3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влекательная це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65f3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сокое качество фисташ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65f3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абильные поставки в необходимом объёме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859280" y="4508640"/>
            <a:ext cx="2305080" cy="1331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AB-M"/>
          <p:cNvPicPr/>
          <p:nvPr/>
        </p:nvPicPr>
        <p:blipFill>
          <a:blip r:embed="rId2"/>
          <a:stretch/>
        </p:blipFill>
        <p:spPr>
          <a:xfrm>
            <a:off x="5076720" y="549360"/>
            <a:ext cx="3470400" cy="819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FISTASHKA4"/>
          <p:cNvPicPr/>
          <p:nvPr/>
        </p:nvPicPr>
        <p:blipFill>
          <a:blip r:embed="rId3"/>
          <a:stretch/>
        </p:blipFill>
        <p:spPr>
          <a:xfrm>
            <a:off x="5292720" y="2492280"/>
            <a:ext cx="3600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G:\ПРЕЗЕНТАЦИЯ\menu_pistachios.jpg"/>
          <p:cNvPicPr/>
          <p:nvPr/>
        </p:nvPicPr>
        <p:blipFill>
          <a:blip r:embed="rId1"/>
          <a:stretch/>
        </p:blipFill>
        <p:spPr>
          <a:xfrm>
            <a:off x="684360" y="1700280"/>
            <a:ext cx="4033800" cy="2566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8" name="Picture 20" descr="G:\ПРЕЗЕНТАЦИЯ\pistachios-recall.jpg"/>
          <p:cNvPicPr/>
          <p:nvPr/>
        </p:nvPicPr>
        <p:blipFill>
          <a:blip r:embed="rId2"/>
          <a:stretch/>
        </p:blipFill>
        <p:spPr>
          <a:xfrm>
            <a:off x="4500720" y="3981600"/>
            <a:ext cx="4248000" cy="24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9" name="Rectangle 3"/>
          <p:cNvSpPr/>
          <p:nvPr/>
        </p:nvSpPr>
        <p:spPr>
          <a:xfrm>
            <a:off x="684360" y="4508640"/>
            <a:ext cx="22860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сташка жаре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ле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8/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фрокороб 12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р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6607080" y="2147760"/>
            <a:ext cx="22860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сташка жаре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ле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1/2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фрокороб 12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Ш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971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Arial"/>
              </a:rPr>
              <a:t>Орехи. Фисташка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2" name="AutoShape 10"/>
          <p:cNvSpPr/>
          <p:nvPr/>
        </p:nvSpPr>
        <p:spPr>
          <a:xfrm>
            <a:off x="6227640" y="0"/>
            <a:ext cx="2916360" cy="549360"/>
          </a:xfrm>
          <a:prstGeom prst="horizont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ремиальное ка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AB-M"/>
          <p:cNvPicPr/>
          <p:nvPr/>
        </p:nvPicPr>
        <p:blipFill>
          <a:blip r:embed="rId3"/>
          <a:stretch/>
        </p:blipFill>
        <p:spPr>
          <a:xfrm>
            <a:off x="5076720" y="549360"/>
            <a:ext cx="34704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1860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Arial"/>
              </a:rPr>
              <a:t>Орехи. Арахис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1512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65f3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рахис широко используют в кондитерском производстве. Арахисовое масло используется в кулинарии для приготовления маргарина.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емена арахиса содержат высококачественное жирное масло, употребляемое в консервной, маргариновой, мыловаренной и других отраслях промышлен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8" descr="G:\ПРЕЗЕНТАЦИЯ\0_60552_afa62537_XL.jpg"/>
          <p:cNvPicPr/>
          <p:nvPr/>
        </p:nvPicPr>
        <p:blipFill>
          <a:blip r:embed="rId1"/>
          <a:stretch/>
        </p:blipFill>
        <p:spPr>
          <a:xfrm>
            <a:off x="1403280" y="3500280"/>
            <a:ext cx="4176720" cy="238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7" name="Содержимое 2"/>
          <p:cNvSpPr/>
          <p:nvPr/>
        </p:nvSpPr>
        <p:spPr>
          <a:xfrm>
            <a:off x="6084720" y="3357720"/>
            <a:ext cx="2786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f65f3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лагаем арахис стабильно высокого каче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65f3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ндивидуальный подход в работе с клиен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AB-M"/>
          <p:cNvPicPr/>
          <p:nvPr/>
        </p:nvPicPr>
        <p:blipFill>
          <a:blip r:embed="rId2"/>
          <a:stretch/>
        </p:blipFill>
        <p:spPr>
          <a:xfrm>
            <a:off x="5076720" y="549360"/>
            <a:ext cx="34704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G:\ПРЕЗЕНТАЦИЯ\ARAHIS_5-8.jpg"/>
          <p:cNvPicPr/>
          <p:nvPr/>
        </p:nvPicPr>
        <p:blipFill>
          <a:blip r:embed="rId1"/>
          <a:stretch/>
        </p:blipFill>
        <p:spPr>
          <a:xfrm>
            <a:off x="6443640" y="1989000"/>
            <a:ext cx="1944720" cy="1881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1860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Arial"/>
              </a:rPr>
              <a:t>Орехи. Арахис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81" name="Picture 4" descr="G:\ПРЕЗЕНТАЦИЯ\2166485_6.jpg"/>
          <p:cNvPicPr/>
          <p:nvPr/>
        </p:nvPicPr>
        <p:blipFill>
          <a:blip r:embed="rId2"/>
          <a:stretch/>
        </p:blipFill>
        <p:spPr>
          <a:xfrm>
            <a:off x="826920" y="1989000"/>
            <a:ext cx="1944720" cy="188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2" name="Rectangle 3"/>
          <p:cNvSpPr/>
          <p:nvPr/>
        </p:nvSpPr>
        <p:spPr>
          <a:xfrm>
            <a:off x="250920" y="4606920"/>
            <a:ext cx="2017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рах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ешок 25 кг и 50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нд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ргент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6410160" y="4581360"/>
            <a:ext cx="25545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рахис жаре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роблё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мер 2-4 мм, 3-5 м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куумная упаковк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фрокороб 10 кг и 15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4284720" y="4581360"/>
            <a:ext cx="20160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рахи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ланширова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5/3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ешок 25 и 50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ита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6" descr="Копия 0_60552_afa62537_XL"/>
          <p:cNvPicPr/>
          <p:nvPr/>
        </p:nvPicPr>
        <p:blipFill>
          <a:blip r:embed="rId3"/>
          <a:stretch/>
        </p:blipFill>
        <p:spPr>
          <a:xfrm>
            <a:off x="3635280" y="1989000"/>
            <a:ext cx="1944720" cy="189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6" name="Rectangle 3"/>
          <p:cNvSpPr/>
          <p:nvPr/>
        </p:nvSpPr>
        <p:spPr>
          <a:xfrm>
            <a:off x="2268360" y="4581360"/>
            <a:ext cx="20163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рахи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5/3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ешок 25 кг и 50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ита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6" descr="AB-M"/>
          <p:cNvPicPr/>
          <p:nvPr/>
        </p:nvPicPr>
        <p:blipFill>
          <a:blip r:embed="rId4"/>
          <a:stretch/>
        </p:blipFill>
        <p:spPr>
          <a:xfrm>
            <a:off x="5076720" y="549360"/>
            <a:ext cx="34704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47184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Arial"/>
              </a:rPr>
              <a:t>Орехи. Миндаль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2421000"/>
            <a:ext cx="3328920" cy="33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65f3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индаль - наиболее широко выращиваемый в мире орех, поскольку и в кулинарии он используются больше всего. Миндаль используют так же для миндальных масел и экстрактов, которые используются в разных блюдах для ароматизации. Также это основной ингредиент марципан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6397560" y="4705200"/>
            <a:ext cx="266076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индаль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ласти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беленные с кант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беленные без ка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фрокороб 10 кг, 12,5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6402240" y="1557360"/>
            <a:ext cx="24624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инда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7/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фрокороб 22кг и 68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ifornia, Carmel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Ш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9" descr="G:\ПРЕЗЕНТАЦИЯ\071f870f732e.jpg"/>
          <p:cNvPicPr/>
          <p:nvPr/>
        </p:nvPicPr>
        <p:blipFill>
          <a:blip r:embed="rId1"/>
          <a:stretch/>
        </p:blipFill>
        <p:spPr>
          <a:xfrm>
            <a:off x="3708360" y="4076640"/>
            <a:ext cx="2678040" cy="246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3" name="Picture 10" descr="G:\ПРЕЗЕНТАЦИЯ\1244496088_top-10-appetite-suppressants_1.jpg"/>
          <p:cNvPicPr/>
          <p:nvPr/>
        </p:nvPicPr>
        <p:blipFill>
          <a:blip r:embed="rId2"/>
          <a:stretch/>
        </p:blipFill>
        <p:spPr>
          <a:xfrm>
            <a:off x="3708360" y="1557360"/>
            <a:ext cx="2643120" cy="226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4" name="Rectangle 3"/>
          <p:cNvSpPr/>
          <p:nvPr/>
        </p:nvSpPr>
        <p:spPr>
          <a:xfrm>
            <a:off x="6377040" y="3259080"/>
            <a:ext cx="25002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Ядро абрикосо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сточ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фрокороб 17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джикист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AB-M"/>
          <p:cNvPicPr/>
          <p:nvPr/>
        </p:nvPicPr>
        <p:blipFill>
          <a:blip r:embed="rId3"/>
          <a:stretch/>
        </p:blipFill>
        <p:spPr>
          <a:xfrm>
            <a:off x="5076720" y="549360"/>
            <a:ext cx="34704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5T14:24:45Z</dcterms:created>
  <dc:creator>averina</dc:creator>
  <dc:description/>
  <dc:language>en-US</dc:language>
  <cp:lastModifiedBy>elfimov</cp:lastModifiedBy>
  <dcterms:modified xsi:type="dcterms:W3CDTF">2012-05-04T05:27:25Z</dcterms:modified>
  <cp:revision>940</cp:revision>
  <dc:subject/>
  <dc:title>Слайд 1</dc:title>
</cp:coreProperties>
</file>