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7.png" ContentType="image/png"/>
  <Override PartName="/ppt/media/image2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3400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A27-B782-43EC-9B23-5162ADC5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7C45-21C7-4E00-9B3E-39732FA3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D5A7-FB5B-43D0-A5F1-1127AF04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75E-0523-40E0-9E57-C13F45C0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AD1E-0CBA-4F38-936E-70283CBA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592A-8772-4E32-98A4-22B27EB6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4381-EB28-4A36-83AB-FB510B55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E0D4-BFE3-4725-9B19-6E0D707D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3BD0-6AE9-4BF5-B196-22B5B4B1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6B44-048C-4E3B-B193-AAAC7066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A2CE-3FBE-4E32-84BC-9B701662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4A8-7A07-43F2-87B4-7192B00A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ED4D-8C72-4C04-B7A2-99C04014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0694-8674-4397-B5F6-BB5443BF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145A-06BC-4C1E-8ACC-61179250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8FF4-461A-4427-B3CF-361F7DE3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90AF-1EC4-481D-878D-B1615A68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AA9DE-EACD-4FB6-80EA-B659788A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0B1FB-5958-4D4E-B137-23E8B3B0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6A930-0C4A-440C-9291-5F3D958F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36D87-B090-4C5E-860D-F4FD77EE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F072C-1BD0-41E5-B609-03DA2F7F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3165-923C-463F-B7E9-6F7E8C91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DDB56-BD12-4FCF-8881-AFABB590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511F0-0ABD-4848-B779-2436DBE8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EC2E8-2288-4153-A6BA-FE5B5B39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9A724-228E-409C-9A0B-FDEC77BC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68071-54BC-41B4-AA24-2F4F8E4E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2F280-0776-430B-B16C-D72CD515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E02F6-7288-48BE-AAEA-9F3FEF3C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D753-F6F4-4E22-9274-0B60F9E5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E114-18A3-41B2-9CC6-895BE154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3E5A-90AF-4314-A904-DC4407CB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356-AC84-4F40-88F8-4FDAFF65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DDDB-7564-430E-83DB-68127AF3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39E-C7ED-429D-8FB2-A569FC10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AC65-E319-4A8B-9C4B-753C3E791D7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6184-FC95-4098-975C-2F84CBE34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94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D3B9-9957-47BF-B717-46319B3B1C7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5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G:\ПРЕЗЕНТАЦИЯ\1318364986_262687639_1----.jpg"/>
          <p:cNvPicPr/>
          <p:nvPr/>
        </p:nvPicPr>
        <p:blipFill>
          <a:blip r:embed="rId1"/>
          <a:stretch/>
        </p:blipFill>
        <p:spPr>
          <a:xfrm>
            <a:off x="209520" y="0"/>
            <a:ext cx="8934480" cy="68706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2771640" y="2349360"/>
            <a:ext cx="328644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Garamond"/>
              </a:rPr>
              <a:t>Орех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4114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Фундук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795640" y="2060640"/>
            <a:ext cx="30718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рех овальной или круглой формы достигает 2 см в длину в твердой коричневой скорлуп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основном фундук используют в десертах, выпечке и конфетах и в других кулинарных издел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лагаем жареный дроблёный фундук любого калибр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5" descr="G:\ПРЕЗЕНТАЦИЯ\lazd_riesutai.jpg"/>
          <p:cNvPicPr/>
          <p:nvPr/>
        </p:nvPicPr>
        <p:blipFill>
          <a:blip r:embed="rId1"/>
          <a:stretch/>
        </p:blipFill>
        <p:spPr>
          <a:xfrm>
            <a:off x="250920" y="3886200"/>
            <a:ext cx="3960720" cy="29718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3132000" y="1700280"/>
            <a:ext cx="250992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ундук очищен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уше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/11, 11/13, 13/15, 15/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шок 40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зербайдж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84360" y="1773360"/>
            <a:ext cx="25095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ундук жаре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обле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-2, 2-4 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2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AB-M"/>
          <p:cNvPicPr/>
          <p:nvPr/>
        </p:nvPicPr>
        <p:blipFill>
          <a:blip r:embed="rId2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46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Arial"/>
              </a:rPr>
              <a:t>Орехи. </a:t>
            </a:r>
            <a:br>
              <a:rPr sz="2600"/>
            </a:br>
            <a:r>
              <a:rPr b="0" lang="en-US" sz="2600" spc="-1" strike="noStrike">
                <a:solidFill>
                  <a:srgbClr val="999900"/>
                </a:solidFill>
                <a:latin typeface="Arial"/>
              </a:rPr>
              <a:t>Арахис и миндаль </a:t>
            </a:r>
            <a:br>
              <a:rPr sz="2600"/>
            </a:br>
            <a:r>
              <a:rPr b="0" lang="en-US" sz="2600" spc="-1" strike="noStrike">
                <a:solidFill>
                  <a:srgbClr val="999900"/>
                </a:solidFill>
                <a:latin typeface="Arial"/>
              </a:rPr>
              <a:t>в скорлупе</a:t>
            </a:r>
            <a:endParaRPr b="0" lang="en-US" sz="2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03" name="Picture 11" descr="G:\ПРЕЗЕНТАЦИЯ\x_223c7d3a.jpg"/>
          <p:cNvPicPr/>
          <p:nvPr/>
        </p:nvPicPr>
        <p:blipFill>
          <a:blip r:embed="rId1"/>
          <a:stretch/>
        </p:blipFill>
        <p:spPr>
          <a:xfrm>
            <a:off x="4427640" y="3716280"/>
            <a:ext cx="2879640" cy="19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4" name="Picture 13" descr="G:\ПРЕЗЕНТАЦИЯ\nphoto1319637063.jpg"/>
          <p:cNvPicPr/>
          <p:nvPr/>
        </p:nvPicPr>
        <p:blipFill>
          <a:blip r:embed="rId2"/>
          <a:stretch/>
        </p:blipFill>
        <p:spPr>
          <a:xfrm>
            <a:off x="1187280" y="2276640"/>
            <a:ext cx="360072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5" name="Picture 6" descr="AB-M"/>
          <p:cNvPicPr/>
          <p:nvPr/>
        </p:nvPicPr>
        <p:blipFill>
          <a:blip r:embed="rId3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Орехи. </a:t>
            </a:r>
            <a:br>
              <a:rPr sz="2800"/>
            </a:b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Миндаль и фундук </a:t>
            </a:r>
            <a:br>
              <a:rPr sz="2800"/>
            </a:b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в шоколадной глазур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07" name="Picture 6" descr="G:\ПРЕЗЕНТАЦИЯ\ed98652a8134.jpg"/>
          <p:cNvPicPr/>
          <p:nvPr/>
        </p:nvPicPr>
        <p:blipFill>
          <a:blip r:embed="rId1"/>
          <a:stretch/>
        </p:blipFill>
        <p:spPr>
          <a:xfrm>
            <a:off x="4427640" y="2637000"/>
            <a:ext cx="3960720" cy="239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Picture 6" descr="AB-M"/>
          <p:cNvPicPr/>
          <p:nvPr/>
        </p:nvPicPr>
        <p:blipFill>
          <a:blip r:embed="rId2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611280" y="2637000"/>
            <a:ext cx="3600360" cy="24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5" descr="sunflower-seeds-600"/>
          <p:cNvPicPr/>
          <p:nvPr/>
        </p:nvPicPr>
        <p:blipFill>
          <a:blip r:embed="rId1"/>
          <a:srcRect l="0" t="0" r="5722" b="0"/>
          <a:stretch/>
        </p:blipFill>
        <p:spPr>
          <a:xfrm>
            <a:off x="5003640" y="1989000"/>
            <a:ext cx="2808360" cy="198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Picture 14" descr="pumpkin-seeds"/>
          <p:cNvPicPr/>
          <p:nvPr/>
        </p:nvPicPr>
        <p:blipFill>
          <a:blip r:embed="rId2"/>
          <a:stretch/>
        </p:blipFill>
        <p:spPr>
          <a:xfrm>
            <a:off x="1620720" y="1989000"/>
            <a:ext cx="2664000" cy="19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5120" y="404280"/>
            <a:ext cx="5114880" cy="104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Семечки. </a:t>
            </a:r>
            <a:br>
              <a:rPr sz="2800"/>
            </a:b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Семена подсолнечника</a:t>
            </a:r>
            <a:br>
              <a:rPr sz="2800"/>
            </a:b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 и тыквенные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13" name="Picture 6" descr="AB-M"/>
          <p:cNvPicPr/>
          <p:nvPr/>
        </p:nvPicPr>
        <p:blipFill>
          <a:blip r:embed="rId3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3060720" y="4237200"/>
            <a:ext cx="3095640" cy="156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8" descr="G:\ПРЕЗЕНТАЦИЯ\Копия almond_oil_sweet.jpg"/>
          <p:cNvPicPr/>
          <p:nvPr/>
        </p:nvPicPr>
        <p:blipFill>
          <a:blip r:embed="rId1"/>
          <a:stretch/>
        </p:blipFill>
        <p:spPr>
          <a:xfrm>
            <a:off x="7667640" y="5589720"/>
            <a:ext cx="1135080" cy="7585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1757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2" name="Picture 5" descr="G:\ПРЕЗЕНТАЦИЯ\ef929f0857fc.jpg"/>
          <p:cNvPicPr/>
          <p:nvPr/>
        </p:nvPicPr>
        <p:blipFill>
          <a:blip r:embed="rId2"/>
          <a:srcRect l="0" t="2751" r="0" b="13909"/>
          <a:stretch/>
        </p:blipFill>
        <p:spPr>
          <a:xfrm>
            <a:off x="1187280" y="1916280"/>
            <a:ext cx="2592720" cy="21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Picture 6" descr="G:\ПРЕЗЕНТАЦИЯ\almond_oil_sweet.jpg"/>
          <p:cNvPicPr/>
          <p:nvPr/>
        </p:nvPicPr>
        <p:blipFill>
          <a:blip r:embed="rId3"/>
          <a:srcRect l="4565" t="0" r="0" b="0"/>
          <a:stretch/>
        </p:blipFill>
        <p:spPr>
          <a:xfrm>
            <a:off x="4932360" y="1916280"/>
            <a:ext cx="3024360" cy="212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Rectangle 3"/>
          <p:cNvSpPr/>
          <p:nvPr/>
        </p:nvSpPr>
        <p:spPr>
          <a:xfrm>
            <a:off x="395280" y="4437000"/>
            <a:ext cx="822960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рокий ассортимент орехов высокого качества по лучшим ценам включает в себя самые популярные позиции, среди которых калифорнийская фисташка премиального качества и грецкий орех – одна из фирменных позиций ассортимента компании  «Суперфуд Украин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ехи богаты витаминами и широко используются в кулинарии по всему ми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орехи - богатый источник белка, витамина В, витамина Е и минералов - кальция, железа, магния и кал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AB-M"/>
          <p:cNvPicPr/>
          <p:nvPr/>
        </p:nvPicPr>
        <p:blipFill>
          <a:blip r:embed="rId4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00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Грецкий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2080" y="1781280"/>
            <a:ext cx="410976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ецкий орех высшего и первого сортов – фирменные позиции компании «Суперфуд Украина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ецкий орех производства компании «Суперфуд Украина» - это очень крупный орех премиального качеств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ш грецкий орех производится на современном высокотехнологичном оборудовании, проходит тщательную машинную сортировку и калибровку, а так же фумигацию. С июля поставляется в вакуумной упаковк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4" descr="G:\ПРЕЗЕНТАЦИЯ\photoshop-cs5-sharpen-03.jpg"/>
          <p:cNvPicPr/>
          <p:nvPr/>
        </p:nvPicPr>
        <p:blipFill>
          <a:blip r:embed="rId1"/>
          <a:stretch/>
        </p:blipFill>
        <p:spPr>
          <a:xfrm>
            <a:off x="5364000" y="4140360"/>
            <a:ext cx="3311640" cy="209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9" name="Picture 13" descr="up8"/>
          <p:cNvPicPr/>
          <p:nvPr/>
        </p:nvPicPr>
        <p:blipFill>
          <a:blip r:embed="rId2"/>
          <a:stretch/>
        </p:blipFill>
        <p:spPr>
          <a:xfrm>
            <a:off x="4861080" y="1773360"/>
            <a:ext cx="3527280" cy="25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0" name="AutoShape 14"/>
          <p:cNvSpPr/>
          <p:nvPr/>
        </p:nvSpPr>
        <p:spPr>
          <a:xfrm>
            <a:off x="6732720" y="0"/>
            <a:ext cx="2411280" cy="62064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ирменная поз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AB-M"/>
          <p:cNvPicPr/>
          <p:nvPr/>
        </p:nvPicPr>
        <p:blipFill>
          <a:blip r:embed="rId3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00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Грецкий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84360" y="1773360"/>
            <a:ext cx="2017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ецкий оре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с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00% половино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9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203640" y="4149720"/>
            <a:ext cx="1871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ецкий оре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й с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20% половино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0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G:\ПРЕЗЕНТАЦИЯ\Копия 20100526-nuts-500.jpg"/>
          <p:cNvPicPr/>
          <p:nvPr/>
        </p:nvPicPr>
        <p:blipFill>
          <a:blip r:embed="rId1"/>
          <a:srcRect l="12428" t="0" r="0" b="0"/>
          <a:stretch/>
        </p:blipFill>
        <p:spPr>
          <a:xfrm>
            <a:off x="6066000" y="4076640"/>
            <a:ext cx="2538360" cy="201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Rectangle 3"/>
          <p:cNvSpPr/>
          <p:nvPr/>
        </p:nvSpPr>
        <p:spPr>
          <a:xfrm>
            <a:off x="3203640" y="1773360"/>
            <a:ext cx="2089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ецкий оре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ший сорт, Г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85% половино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9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755640" y="4145040"/>
            <a:ext cx="1873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ецкий оре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ший с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50% половино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0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oryeh6"/>
          <p:cNvPicPr/>
          <p:nvPr/>
        </p:nvPicPr>
        <p:blipFill>
          <a:blip r:embed="rId2"/>
          <a:stretch/>
        </p:blipFill>
        <p:spPr>
          <a:xfrm>
            <a:off x="6084720" y="1844640"/>
            <a:ext cx="2519640" cy="197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AutoShape 23"/>
          <p:cNvSpPr/>
          <p:nvPr/>
        </p:nvSpPr>
        <p:spPr>
          <a:xfrm>
            <a:off x="6227640" y="0"/>
            <a:ext cx="2916360" cy="54936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емиальное кач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AB-M"/>
          <p:cNvPicPr/>
          <p:nvPr/>
        </p:nvPicPr>
        <p:blipFill>
          <a:blip r:embed="rId3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57120" y="1500120"/>
            <a:ext cx="83203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едлагаем калифорнийскую фисташку премиального качества и иранскую фисташку в фирменном брендированом гофрокороб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Заголовок 1"/>
          <p:cNvSpPr/>
          <p:nvPr/>
        </p:nvSpPr>
        <p:spPr>
          <a:xfrm>
            <a:off x="428760" y="285840"/>
            <a:ext cx="39718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Фиста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одержимое 2"/>
          <p:cNvSpPr/>
          <p:nvPr/>
        </p:nvSpPr>
        <p:spPr>
          <a:xfrm>
            <a:off x="539640" y="2852640"/>
            <a:ext cx="453564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ые контракты с поставщикам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влекательная це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окое качество фисташ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бильные поставки в необходимом объём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59280" y="4508640"/>
            <a:ext cx="2305080" cy="1331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AB-M"/>
          <p:cNvPicPr/>
          <p:nvPr/>
        </p:nvPicPr>
        <p:blipFill>
          <a:blip r:embed="rId2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FISTASHKA4"/>
          <p:cNvPicPr/>
          <p:nvPr/>
        </p:nvPicPr>
        <p:blipFill>
          <a:blip r:embed="rId3"/>
          <a:stretch/>
        </p:blipFill>
        <p:spPr>
          <a:xfrm>
            <a:off x="5292720" y="2492280"/>
            <a:ext cx="3600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G:\ПРЕЗЕНТАЦИЯ\menu_pistachios.jpg"/>
          <p:cNvPicPr/>
          <p:nvPr/>
        </p:nvPicPr>
        <p:blipFill>
          <a:blip r:embed="rId1"/>
          <a:stretch/>
        </p:blipFill>
        <p:spPr>
          <a:xfrm>
            <a:off x="684360" y="1700280"/>
            <a:ext cx="4033800" cy="256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8" name="Picture 20" descr="G:\ПРЕЗЕНТАЦИЯ\pistachios-recall.jpg"/>
          <p:cNvPicPr/>
          <p:nvPr/>
        </p:nvPicPr>
        <p:blipFill>
          <a:blip r:embed="rId2"/>
          <a:stretch/>
        </p:blipFill>
        <p:spPr>
          <a:xfrm>
            <a:off x="4500720" y="3981600"/>
            <a:ext cx="4248000" cy="24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Rectangle 3"/>
          <p:cNvSpPr/>
          <p:nvPr/>
        </p:nvSpPr>
        <p:spPr>
          <a:xfrm>
            <a:off x="684360" y="4508640"/>
            <a:ext cx="2286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сташка жаре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е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8/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2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р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607080" y="2147760"/>
            <a:ext cx="2286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сташка жаре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е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1/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2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71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Фисташк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6227640" y="0"/>
            <a:ext cx="2916360" cy="54936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емиальное ка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AB-M"/>
          <p:cNvPicPr/>
          <p:nvPr/>
        </p:nvPicPr>
        <p:blipFill>
          <a:blip r:embed="rId3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186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Арахис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151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рахис широко используют в кондитерском производстве. Арахисовое масло используется в кулинарии для приготовления маргарина.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емена арахиса содержат высококачественное жирное масло, употребляемое в консервной, маргариновой, мыловаренной и других отраслях промышлен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8" descr="G:\ПРЕЗЕНТАЦИЯ\0_60552_afa62537_XL.jpg"/>
          <p:cNvPicPr/>
          <p:nvPr/>
        </p:nvPicPr>
        <p:blipFill>
          <a:blip r:embed="rId1"/>
          <a:stretch/>
        </p:blipFill>
        <p:spPr>
          <a:xfrm>
            <a:off x="1403280" y="3500280"/>
            <a:ext cx="4176720" cy="238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Содержимое 2"/>
          <p:cNvSpPr/>
          <p:nvPr/>
        </p:nvSpPr>
        <p:spPr>
          <a:xfrm>
            <a:off x="6084720" y="3357720"/>
            <a:ext cx="2786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лагаем арахис стабильно высокого кач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дивидуальный подход в работе с клиен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AB-M"/>
          <p:cNvPicPr/>
          <p:nvPr/>
        </p:nvPicPr>
        <p:blipFill>
          <a:blip r:embed="rId2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G:\ПРЕЗЕНТАЦИЯ\ARAHIS_5-8.jpg"/>
          <p:cNvPicPr/>
          <p:nvPr/>
        </p:nvPicPr>
        <p:blipFill>
          <a:blip r:embed="rId1"/>
          <a:stretch/>
        </p:blipFill>
        <p:spPr>
          <a:xfrm>
            <a:off x="6443640" y="1989000"/>
            <a:ext cx="1944720" cy="1881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186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Арахис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81" name="Picture 4" descr="G:\ПРЕЗЕНТАЦИЯ\2166485_6.jpg"/>
          <p:cNvPicPr/>
          <p:nvPr/>
        </p:nvPicPr>
        <p:blipFill>
          <a:blip r:embed="rId2"/>
          <a:stretch/>
        </p:blipFill>
        <p:spPr>
          <a:xfrm>
            <a:off x="826920" y="1989000"/>
            <a:ext cx="1944720" cy="188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2" name="Rectangle 3"/>
          <p:cNvSpPr/>
          <p:nvPr/>
        </p:nvSpPr>
        <p:spPr>
          <a:xfrm>
            <a:off x="250920" y="4606920"/>
            <a:ext cx="2017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рах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шок 25 кг и 50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рген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6410160" y="4581360"/>
            <a:ext cx="25545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ахис жаре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облё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 2-4 мм, 3-5 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куумная упаков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0 кг и 15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4284720" y="4581360"/>
            <a:ext cx="20160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рахи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ланширов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5/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шок 25 и 50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6" descr="Копия 0_60552_afa62537_XL"/>
          <p:cNvPicPr/>
          <p:nvPr/>
        </p:nvPicPr>
        <p:blipFill>
          <a:blip r:embed="rId3"/>
          <a:stretch/>
        </p:blipFill>
        <p:spPr>
          <a:xfrm>
            <a:off x="3635280" y="1989000"/>
            <a:ext cx="1944720" cy="189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Rectangle 3"/>
          <p:cNvSpPr/>
          <p:nvPr/>
        </p:nvSpPr>
        <p:spPr>
          <a:xfrm>
            <a:off x="2268360" y="4581360"/>
            <a:ext cx="2016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рахи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5/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шок 25 кг и 50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AB-M"/>
          <p:cNvPicPr/>
          <p:nvPr/>
        </p:nvPicPr>
        <p:blipFill>
          <a:blip r:embed="rId4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47184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Миндаль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3328920" cy="33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индаль - наиболее широко выращиваемый в мире орех, поскольку и в кулинарии он используются больше всего. Миндаль используют так же для миндальных масел и экстрактов, которые используются в разных блюдах для ароматизации. Также это основной ингредиент марципа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6397560" y="4705200"/>
            <a:ext cx="266076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нда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сти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беленные с кан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беленные без ка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0 кг, 12,5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402240" y="1557360"/>
            <a:ext cx="24624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нд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7/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22кг и 68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ifornia, Carme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G:\ПРЕЗЕНТАЦИЯ\071f870f732e.jpg"/>
          <p:cNvPicPr/>
          <p:nvPr/>
        </p:nvPicPr>
        <p:blipFill>
          <a:blip r:embed="rId1"/>
          <a:stretch/>
        </p:blipFill>
        <p:spPr>
          <a:xfrm>
            <a:off x="3708360" y="4076640"/>
            <a:ext cx="2678040" cy="246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3" name="Picture 10" descr="G:\ПРЕЗЕНТАЦИЯ\1244496088_top-10-appetite-suppressants_1.jpg"/>
          <p:cNvPicPr/>
          <p:nvPr/>
        </p:nvPicPr>
        <p:blipFill>
          <a:blip r:embed="rId2"/>
          <a:stretch/>
        </p:blipFill>
        <p:spPr>
          <a:xfrm>
            <a:off x="3708360" y="1557360"/>
            <a:ext cx="2643120" cy="226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Rectangle 3"/>
          <p:cNvSpPr/>
          <p:nvPr/>
        </p:nvSpPr>
        <p:spPr>
          <a:xfrm>
            <a:off x="6377040" y="3259080"/>
            <a:ext cx="25002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дро абрикос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ст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7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джики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AB-M"/>
          <p:cNvPicPr/>
          <p:nvPr/>
        </p:nvPicPr>
        <p:blipFill>
          <a:blip r:embed="rId3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14:24:45Z</dcterms:created>
  <dc:creator>averina</dc:creator>
  <dc:description/>
  <dc:language>en-US</dc:language>
  <cp:lastModifiedBy>elfimov</cp:lastModifiedBy>
  <dcterms:modified xsi:type="dcterms:W3CDTF">2012-05-04T05:27:25Z</dcterms:modified>
  <cp:revision>940</cp:revision>
  <dc:subject/>
  <dc:title>Слайд 1</dc:title>
</cp:coreProperties>
</file>