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jpeg" ContentType="image/jpeg"/>
  <Override PartName="/ppt/media/image27.png" ContentType="image/png"/>
  <Override PartName="/ppt/media/image24.wmf" ContentType="image/x-wmf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4.jpeg" ContentType="image/jpeg"/>
  <Override PartName="/ppt/media/image9.jpeg" ContentType="image/jpeg"/>
  <Override PartName="/ppt/media/image22.jpeg" ContentType="image/jpeg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83400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33B6-723C-40A6-9963-AAA9273E2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79E2-8B21-415D-9455-98C3F423B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03ED-00D2-47CB-9475-8729E3C7E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59E5-64B6-4485-AA0D-BA4F9A6E3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CEC11-8452-4063-903D-9F8EF587E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BD299-371E-4CCE-BE4F-53012B602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5ED7C-58E7-4391-AEC1-BAC850178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FE465-4A36-42CB-B566-A729CEDC8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EA6FE-136A-47E3-9F9E-2ED1DB9BA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91C57-7288-495F-8BC5-C943B7B01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D0D82-F236-4DE5-B2C3-F71EBDD7A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C3C3-13CC-484E-A4A0-F0CF1115C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DBDC9-631F-4F9D-9EDA-9AF808152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07BC3-1322-417C-845A-D8800FE9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6A75A-374F-4665-AF12-15DA7D160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5EB85-F6F8-45B2-A237-09B2B71DF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BC6E1-5748-4858-ADD2-A3E7D2350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359AB-B61B-41EB-B044-955EBA07A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0AC28-7AC4-4302-BB4B-597682712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00E46-3A5E-4267-B4AE-F412105D6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59553-4EBB-4CF0-BD68-EF5A70A76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6F419-D53E-4770-B284-F9622C0B3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9E97-C3B1-402C-A5B3-82ABA4F7F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C82B4-481F-46DC-B5F0-856219886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B4B09-C06B-486C-AC41-F2045C9FF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1134F-FE81-43E1-8085-35D7790BF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2B2BD-56DA-4B25-874A-9CD1FE33C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C6626-8EA5-4DA6-9436-B53FD5BBC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AD3DB-8E8C-4C87-AFAB-D6C5AF226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DFA60-714D-466F-B599-AC77246A9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DBB9-9CBB-42DB-9583-2D4D56793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CAD3-02EF-4146-BFDF-244F23863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97BB-DB07-499D-ABDC-2A6EBFF21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AD20-87BF-458A-B69E-EAD3DBD0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F525-40B2-4267-9AB7-BA09CC04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8663-CFD5-44FB-A68E-ED2CC59F9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FAFF2-6DCB-47E5-ADDD-F5A9195F17E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6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D99CD-02D1-48B9-98C1-0BB906FBBC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94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B1E30-C127-4639-A290-A64C71FE3CC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5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5.jpe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G:\ПРЕЗЕНТАЦИЯ\1318364986_262687639_1----.jpg"/>
          <p:cNvPicPr/>
          <p:nvPr/>
        </p:nvPicPr>
        <p:blipFill>
          <a:blip r:embed="rId1"/>
          <a:stretch/>
        </p:blipFill>
        <p:spPr>
          <a:xfrm>
            <a:off x="209520" y="0"/>
            <a:ext cx="8934480" cy="68706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3"/>
          <p:cNvSpPr/>
          <p:nvPr/>
        </p:nvSpPr>
        <p:spPr>
          <a:xfrm>
            <a:off x="2771640" y="2349360"/>
            <a:ext cx="3286440" cy="14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ffff"/>
                </a:solidFill>
                <a:latin typeface="Garamond"/>
              </a:rPr>
              <a:t>Орех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4114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00"/>
                </a:solidFill>
                <a:latin typeface="Arial"/>
              </a:rPr>
              <a:t>Орехи. Фундук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795640" y="2060640"/>
            <a:ext cx="3071880" cy="36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f65f3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рех овальной или круглой формы достигает 2 см в длину в твердой коричневой скорлупе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f65f3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 основном фундук используют в десертах, выпечке и конфетах и в других кулинарных изделиях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f65f3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едлагаем жареный дроблёный фундук любого калибр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8" name="Picture 5" descr="G:\ПРЕЗЕНТАЦИЯ\lazd_riesutai.jpg"/>
          <p:cNvPicPr/>
          <p:nvPr/>
        </p:nvPicPr>
        <p:blipFill>
          <a:blip r:embed="rId1"/>
          <a:stretch/>
        </p:blipFill>
        <p:spPr>
          <a:xfrm>
            <a:off x="250920" y="3886200"/>
            <a:ext cx="3960720" cy="297180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3"/>
          <p:cNvSpPr/>
          <p:nvPr/>
        </p:nvSpPr>
        <p:spPr>
          <a:xfrm>
            <a:off x="3132000" y="1700280"/>
            <a:ext cx="2509920" cy="16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Фундук очищенны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уше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/11, 11/13, 13/15, 15/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ешок 40 к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зербайдж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684360" y="1773360"/>
            <a:ext cx="2509560" cy="16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ундук жаре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робле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0-2, 2-4 м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фрокороб 12 к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6" descr="AB-M"/>
          <p:cNvPicPr/>
          <p:nvPr/>
        </p:nvPicPr>
        <p:blipFill>
          <a:blip r:embed="rId2"/>
          <a:stretch/>
        </p:blipFill>
        <p:spPr>
          <a:xfrm>
            <a:off x="5076720" y="549360"/>
            <a:ext cx="347040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468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Arial"/>
              </a:rPr>
              <a:t>Орехи. </a:t>
            </a:r>
            <a:br>
              <a:rPr sz="2600"/>
            </a:br>
            <a:r>
              <a:rPr b="0" lang="en-US" sz="2600" spc="-1" strike="noStrike">
                <a:solidFill>
                  <a:srgbClr val="999900"/>
                </a:solidFill>
                <a:latin typeface="Arial"/>
              </a:rPr>
              <a:t>Арахис и миндаль </a:t>
            </a:r>
            <a:br>
              <a:rPr sz="2600"/>
            </a:br>
            <a:r>
              <a:rPr b="0" lang="en-US" sz="2600" spc="-1" strike="noStrike">
                <a:solidFill>
                  <a:srgbClr val="999900"/>
                </a:solidFill>
                <a:latin typeface="Arial"/>
              </a:rPr>
              <a:t>в скорлупе</a:t>
            </a:r>
            <a:endParaRPr b="0" lang="en-US" sz="26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203" name="Picture 11" descr="G:\ПРЕЗЕНТАЦИЯ\x_223c7d3a.jpg"/>
          <p:cNvPicPr/>
          <p:nvPr/>
        </p:nvPicPr>
        <p:blipFill>
          <a:blip r:embed="rId1"/>
          <a:stretch/>
        </p:blipFill>
        <p:spPr>
          <a:xfrm>
            <a:off x="4427640" y="3716280"/>
            <a:ext cx="2879640" cy="1986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4" name="Picture 13" descr="G:\ПРЕЗЕНТАЦИЯ\nphoto1319637063.jpg"/>
          <p:cNvPicPr/>
          <p:nvPr/>
        </p:nvPicPr>
        <p:blipFill>
          <a:blip r:embed="rId2"/>
          <a:stretch/>
        </p:blipFill>
        <p:spPr>
          <a:xfrm>
            <a:off x="1187280" y="2276640"/>
            <a:ext cx="3600720" cy="197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5" name="Picture 6" descr="AB-M"/>
          <p:cNvPicPr/>
          <p:nvPr/>
        </p:nvPicPr>
        <p:blipFill>
          <a:blip r:embed="rId3"/>
          <a:stretch/>
        </p:blipFill>
        <p:spPr>
          <a:xfrm>
            <a:off x="5076720" y="549360"/>
            <a:ext cx="347040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50920" y="277920"/>
            <a:ext cx="864216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00"/>
                </a:solidFill>
                <a:latin typeface="Arial"/>
              </a:rPr>
              <a:t>Орехи. </a:t>
            </a:r>
            <a:br>
              <a:rPr sz="2800"/>
            </a:br>
            <a:r>
              <a:rPr b="0" lang="en-US" sz="2800" spc="-1" strike="noStrike">
                <a:solidFill>
                  <a:srgbClr val="999900"/>
                </a:solidFill>
                <a:latin typeface="Arial"/>
              </a:rPr>
              <a:t>Миндаль и фундук </a:t>
            </a:r>
            <a:br>
              <a:rPr sz="2800"/>
            </a:br>
            <a:r>
              <a:rPr b="0" lang="en-US" sz="2800" spc="-1" strike="noStrike">
                <a:solidFill>
                  <a:srgbClr val="999900"/>
                </a:solidFill>
                <a:latin typeface="Arial"/>
              </a:rPr>
              <a:t>в шоколадной глазури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207" name="Picture 6" descr="G:\ПРЕЗЕНТАЦИЯ\ed98652a8134.jpg"/>
          <p:cNvPicPr/>
          <p:nvPr/>
        </p:nvPicPr>
        <p:blipFill>
          <a:blip r:embed="rId1"/>
          <a:stretch/>
        </p:blipFill>
        <p:spPr>
          <a:xfrm>
            <a:off x="4427640" y="2637000"/>
            <a:ext cx="3960720" cy="2392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8" name="Picture 6" descr="AB-M"/>
          <p:cNvPicPr/>
          <p:nvPr/>
        </p:nvPicPr>
        <p:blipFill>
          <a:blip r:embed="rId2"/>
          <a:stretch/>
        </p:blipFill>
        <p:spPr>
          <a:xfrm>
            <a:off x="5076720" y="549360"/>
            <a:ext cx="3470400" cy="8190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611280" y="2637000"/>
            <a:ext cx="3600360" cy="2400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15" descr="sunflower-seeds-600"/>
          <p:cNvPicPr/>
          <p:nvPr/>
        </p:nvPicPr>
        <p:blipFill>
          <a:blip r:embed="rId1"/>
          <a:srcRect l="0" t="0" r="5722" b="0"/>
          <a:stretch/>
        </p:blipFill>
        <p:spPr>
          <a:xfrm>
            <a:off x="5003640" y="1989000"/>
            <a:ext cx="2808360" cy="1984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1" name="Picture 14" descr="pumpkin-seeds"/>
          <p:cNvPicPr/>
          <p:nvPr/>
        </p:nvPicPr>
        <p:blipFill>
          <a:blip r:embed="rId2"/>
          <a:stretch/>
        </p:blipFill>
        <p:spPr>
          <a:xfrm>
            <a:off x="1620720" y="1989000"/>
            <a:ext cx="2664000" cy="197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5120" y="404280"/>
            <a:ext cx="5114880" cy="104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00"/>
                </a:solidFill>
                <a:latin typeface="Arial"/>
              </a:rPr>
              <a:t>Семечки. </a:t>
            </a:r>
            <a:br>
              <a:rPr sz="2800"/>
            </a:br>
            <a:r>
              <a:rPr b="0" lang="en-US" sz="2800" spc="-1" strike="noStrike">
                <a:solidFill>
                  <a:srgbClr val="999900"/>
                </a:solidFill>
                <a:latin typeface="Arial"/>
              </a:rPr>
              <a:t>Семена подсолнечника</a:t>
            </a:r>
            <a:br>
              <a:rPr sz="2800"/>
            </a:br>
            <a:r>
              <a:rPr b="0" lang="en-US" sz="2800" spc="-1" strike="noStrike">
                <a:solidFill>
                  <a:srgbClr val="999900"/>
                </a:solidFill>
                <a:latin typeface="Arial"/>
              </a:rPr>
              <a:t> и тыквенные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213" name="Picture 6" descr="AB-M"/>
          <p:cNvPicPr/>
          <p:nvPr/>
        </p:nvPicPr>
        <p:blipFill>
          <a:blip r:embed="rId3"/>
          <a:stretch/>
        </p:blipFill>
        <p:spPr>
          <a:xfrm>
            <a:off x="5076720" y="549360"/>
            <a:ext cx="3470400" cy="8190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3060720" y="4237200"/>
            <a:ext cx="3095640" cy="1568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8" descr="G:\ПРЕЗЕНТАЦИЯ\Копия almond_oil_sweet.jpg"/>
          <p:cNvPicPr/>
          <p:nvPr/>
        </p:nvPicPr>
        <p:blipFill>
          <a:blip r:embed="rId1"/>
          <a:stretch/>
        </p:blipFill>
        <p:spPr>
          <a:xfrm>
            <a:off x="7667640" y="5589720"/>
            <a:ext cx="1135080" cy="75852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175752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00"/>
                </a:solidFill>
                <a:latin typeface="Arial"/>
              </a:rPr>
              <a:t>Орехи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42" name="Picture 5" descr="G:\ПРЕЗЕНТАЦИЯ\ef929f0857fc.jpg"/>
          <p:cNvPicPr/>
          <p:nvPr/>
        </p:nvPicPr>
        <p:blipFill>
          <a:blip r:embed="rId2"/>
          <a:srcRect l="0" t="2751" r="0" b="13909"/>
          <a:stretch/>
        </p:blipFill>
        <p:spPr>
          <a:xfrm>
            <a:off x="1187280" y="1916280"/>
            <a:ext cx="2592720" cy="216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3" name="Picture 6" descr="G:\ПРЕЗЕНТАЦИЯ\almond_oil_sweet.jpg"/>
          <p:cNvPicPr/>
          <p:nvPr/>
        </p:nvPicPr>
        <p:blipFill>
          <a:blip r:embed="rId3"/>
          <a:srcRect l="4565" t="0" r="0" b="0"/>
          <a:stretch/>
        </p:blipFill>
        <p:spPr>
          <a:xfrm>
            <a:off x="4932360" y="1916280"/>
            <a:ext cx="3024360" cy="2125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4" name="Rectangle 3"/>
          <p:cNvSpPr/>
          <p:nvPr/>
        </p:nvSpPr>
        <p:spPr>
          <a:xfrm>
            <a:off x="395280" y="4437000"/>
            <a:ext cx="8229600" cy="21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f65f3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Широкий ассортимент орехов высокого качества по лучшим ценам включает в себя самые популярные позиции, среди которых калифорнийская фисташка премиального качества и грецкий орех – одна из фирменных позиций ассортимента компании  «Суперфуд Украин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65f3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рехи богаты витаминами и широко используются в кулинарии по всему мир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65f3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се орехи - богатый источник белка, витамина В, витамина Е и минералов - кальция, железа, магния и кал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AB-M"/>
          <p:cNvPicPr/>
          <p:nvPr/>
        </p:nvPicPr>
        <p:blipFill>
          <a:blip r:embed="rId4"/>
          <a:stretch/>
        </p:blipFill>
        <p:spPr>
          <a:xfrm>
            <a:off x="5076720" y="549360"/>
            <a:ext cx="347040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3900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00"/>
                </a:solidFill>
                <a:latin typeface="Arial"/>
              </a:rPr>
              <a:t>Орехи. Грецкий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62080" y="1781280"/>
            <a:ext cx="410976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65f3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рецкий орех высшего и первого сортов – фирменные позиции компании «Суперфуд Украина»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65f3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рецкий орех производства компании «Суперфуд Украина» - это очень крупный орех премиального качества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65f3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ш грецкий орех производится на современном высокотехнологичном оборудовании, проходит тщательную машинную сортировку и калибровку, а так же фумигацию. С июля поставляется в вакуумной упаковке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Picture 4" descr="G:\ПРЕЗЕНТАЦИЯ\photoshop-cs5-sharpen-03.jpg"/>
          <p:cNvPicPr/>
          <p:nvPr/>
        </p:nvPicPr>
        <p:blipFill>
          <a:blip r:embed="rId1"/>
          <a:stretch/>
        </p:blipFill>
        <p:spPr>
          <a:xfrm>
            <a:off x="5364000" y="4140360"/>
            <a:ext cx="3311640" cy="2097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9" name="Picture 13" descr="up8"/>
          <p:cNvPicPr/>
          <p:nvPr/>
        </p:nvPicPr>
        <p:blipFill>
          <a:blip r:embed="rId2"/>
          <a:stretch/>
        </p:blipFill>
        <p:spPr>
          <a:xfrm>
            <a:off x="4861080" y="1773360"/>
            <a:ext cx="3527280" cy="250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0" name="AutoShape 14"/>
          <p:cNvSpPr/>
          <p:nvPr/>
        </p:nvSpPr>
        <p:spPr>
          <a:xfrm>
            <a:off x="6732720" y="0"/>
            <a:ext cx="2411280" cy="620640"/>
          </a:xfrm>
          <a:prstGeom prst="horizontalScroll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Фирменная пози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AB-M"/>
          <p:cNvPicPr/>
          <p:nvPr/>
        </p:nvPicPr>
        <p:blipFill>
          <a:blip r:embed="rId3"/>
          <a:stretch/>
        </p:blipFill>
        <p:spPr>
          <a:xfrm>
            <a:off x="5076720" y="549360"/>
            <a:ext cx="347040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3900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00"/>
                </a:solidFill>
                <a:latin typeface="Arial"/>
              </a:rPr>
              <a:t>Орехи. Грецкий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684360" y="1773360"/>
            <a:ext cx="2017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рецкий оре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кст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100% половинок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фрокороб 9 к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кра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3203640" y="4149720"/>
            <a:ext cx="187164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рецкий оре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ый сор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20% половинок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фрокороб 10 к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кра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G:\ПРЕЗЕНТАЦИЯ\Копия 20100526-nuts-500.jpg"/>
          <p:cNvPicPr/>
          <p:nvPr/>
        </p:nvPicPr>
        <p:blipFill>
          <a:blip r:embed="rId1"/>
          <a:srcRect l="12428" t="0" r="0" b="0"/>
          <a:stretch/>
        </p:blipFill>
        <p:spPr>
          <a:xfrm>
            <a:off x="6066000" y="4076640"/>
            <a:ext cx="2538360" cy="2011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6" name="Rectangle 3"/>
          <p:cNvSpPr/>
          <p:nvPr/>
        </p:nvSpPr>
        <p:spPr>
          <a:xfrm>
            <a:off x="3203640" y="1773360"/>
            <a:ext cx="208908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рецкий оре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сший сорт, ГОС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85% половинок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фрокороб 9 к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кра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755640" y="4145040"/>
            <a:ext cx="187344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рецкий оре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сший сор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50% половинок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фрокороб 10 к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кра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0" descr="oryeh6"/>
          <p:cNvPicPr/>
          <p:nvPr/>
        </p:nvPicPr>
        <p:blipFill>
          <a:blip r:embed="rId2"/>
          <a:stretch/>
        </p:blipFill>
        <p:spPr>
          <a:xfrm>
            <a:off x="6084720" y="1844640"/>
            <a:ext cx="2519640" cy="197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9" name="AutoShape 23"/>
          <p:cNvSpPr/>
          <p:nvPr/>
        </p:nvSpPr>
        <p:spPr>
          <a:xfrm>
            <a:off x="6227640" y="0"/>
            <a:ext cx="2916360" cy="549360"/>
          </a:xfrm>
          <a:prstGeom prst="horizontalScrol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Премиальное каче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6" descr="AB-M"/>
          <p:cNvPicPr/>
          <p:nvPr/>
        </p:nvPicPr>
        <p:blipFill>
          <a:blip r:embed="rId3"/>
          <a:stretch/>
        </p:blipFill>
        <p:spPr>
          <a:xfrm>
            <a:off x="5076720" y="549360"/>
            <a:ext cx="347040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357120" y="1500120"/>
            <a:ext cx="832032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65f3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едлагаем калифорнийскую фисташку премиального качества и иранскую фисташку в фирменном брендированом гофрокороб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Заголовок 1"/>
          <p:cNvSpPr/>
          <p:nvPr/>
        </p:nvSpPr>
        <p:spPr>
          <a:xfrm>
            <a:off x="428760" y="285840"/>
            <a:ext cx="397188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00"/>
                </a:solidFill>
                <a:latin typeface="Arial"/>
              </a:rPr>
              <a:t>Орехи. Фиста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одержимое 2"/>
          <p:cNvSpPr/>
          <p:nvPr/>
        </p:nvSpPr>
        <p:spPr>
          <a:xfrm>
            <a:off x="539640" y="2852640"/>
            <a:ext cx="4535640" cy="23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f65f3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ямые контракты с поставщикам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65f3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влекательная це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65f3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сокое качество фисташ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65f3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табильные поставки в необходимом объёме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859280" y="4508640"/>
            <a:ext cx="2305080" cy="13316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AB-M"/>
          <p:cNvPicPr/>
          <p:nvPr/>
        </p:nvPicPr>
        <p:blipFill>
          <a:blip r:embed="rId2"/>
          <a:stretch/>
        </p:blipFill>
        <p:spPr>
          <a:xfrm>
            <a:off x="5076720" y="549360"/>
            <a:ext cx="3470400" cy="819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2" descr="FISTASHKA4"/>
          <p:cNvPicPr/>
          <p:nvPr/>
        </p:nvPicPr>
        <p:blipFill>
          <a:blip r:embed="rId3"/>
          <a:stretch/>
        </p:blipFill>
        <p:spPr>
          <a:xfrm>
            <a:off x="5292720" y="2492280"/>
            <a:ext cx="36003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G:\ПРЕЗЕНТАЦИЯ\menu_pistachios.jpg"/>
          <p:cNvPicPr/>
          <p:nvPr/>
        </p:nvPicPr>
        <p:blipFill>
          <a:blip r:embed="rId1"/>
          <a:stretch/>
        </p:blipFill>
        <p:spPr>
          <a:xfrm>
            <a:off x="684360" y="1700280"/>
            <a:ext cx="4033800" cy="2566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8" name="Picture 20" descr="G:\ПРЕЗЕНТАЦИЯ\pistachios-recall.jpg"/>
          <p:cNvPicPr/>
          <p:nvPr/>
        </p:nvPicPr>
        <p:blipFill>
          <a:blip r:embed="rId2"/>
          <a:stretch/>
        </p:blipFill>
        <p:spPr>
          <a:xfrm>
            <a:off x="4500720" y="3981600"/>
            <a:ext cx="4248000" cy="2485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9" name="Rectangle 3"/>
          <p:cNvSpPr/>
          <p:nvPr/>
        </p:nvSpPr>
        <p:spPr>
          <a:xfrm>
            <a:off x="684360" y="4508640"/>
            <a:ext cx="228600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исташка жаре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ле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8/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фрокороб 12 к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р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6607080" y="2147760"/>
            <a:ext cx="228600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исташка жаре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ле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1/2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фрокороб 12 к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Ш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39718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00"/>
                </a:solidFill>
                <a:latin typeface="Arial"/>
              </a:rPr>
              <a:t>Орехи. Фисташка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2" name="AutoShape 10"/>
          <p:cNvSpPr/>
          <p:nvPr/>
        </p:nvSpPr>
        <p:spPr>
          <a:xfrm>
            <a:off x="6227640" y="0"/>
            <a:ext cx="2916360" cy="549360"/>
          </a:xfrm>
          <a:prstGeom prst="horizontalScrol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Премиальное кач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6" descr="AB-M"/>
          <p:cNvPicPr/>
          <p:nvPr/>
        </p:nvPicPr>
        <p:blipFill>
          <a:blip r:embed="rId3"/>
          <a:stretch/>
        </p:blipFill>
        <p:spPr>
          <a:xfrm>
            <a:off x="5076720" y="549360"/>
            <a:ext cx="347040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31860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00"/>
                </a:solidFill>
                <a:latin typeface="Arial"/>
              </a:rPr>
              <a:t>Орехи. Арахис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11512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65f3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Арахис широко используют в кондитерском производстве. Арахисовое масло используется в кулинарии для приготовления маргарина.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емена арахиса содержат высококачественное жирное масло, употребляемое в консервной, маргариновой, мыловаренной и других отраслях промышленност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Picture 8" descr="G:\ПРЕЗЕНТАЦИЯ\0_60552_afa62537_XL.jpg"/>
          <p:cNvPicPr/>
          <p:nvPr/>
        </p:nvPicPr>
        <p:blipFill>
          <a:blip r:embed="rId1"/>
          <a:stretch/>
        </p:blipFill>
        <p:spPr>
          <a:xfrm>
            <a:off x="1403280" y="3500280"/>
            <a:ext cx="4176720" cy="2387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7" name="Содержимое 2"/>
          <p:cNvSpPr/>
          <p:nvPr/>
        </p:nvSpPr>
        <p:spPr>
          <a:xfrm>
            <a:off x="6084720" y="3357720"/>
            <a:ext cx="2786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f65f3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едлагаем арахис стабильно высокого каче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65f3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ндивидуальный подход в работе с клиент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6" descr="AB-M"/>
          <p:cNvPicPr/>
          <p:nvPr/>
        </p:nvPicPr>
        <p:blipFill>
          <a:blip r:embed="rId2"/>
          <a:stretch/>
        </p:blipFill>
        <p:spPr>
          <a:xfrm>
            <a:off x="5076720" y="549360"/>
            <a:ext cx="347040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G:\ПРЕЗЕНТАЦИЯ\ARAHIS_5-8.jpg"/>
          <p:cNvPicPr/>
          <p:nvPr/>
        </p:nvPicPr>
        <p:blipFill>
          <a:blip r:embed="rId1"/>
          <a:stretch/>
        </p:blipFill>
        <p:spPr>
          <a:xfrm>
            <a:off x="6443640" y="1989000"/>
            <a:ext cx="1944720" cy="1881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31860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00"/>
                </a:solidFill>
                <a:latin typeface="Arial"/>
              </a:rPr>
              <a:t>Орехи. Арахис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81" name="Picture 4" descr="G:\ПРЕЗЕНТАЦИЯ\2166485_6.jpg"/>
          <p:cNvPicPr/>
          <p:nvPr/>
        </p:nvPicPr>
        <p:blipFill>
          <a:blip r:embed="rId2"/>
          <a:stretch/>
        </p:blipFill>
        <p:spPr>
          <a:xfrm>
            <a:off x="826920" y="1989000"/>
            <a:ext cx="1944720" cy="1882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2" name="Rectangle 3"/>
          <p:cNvSpPr/>
          <p:nvPr/>
        </p:nvSpPr>
        <p:spPr>
          <a:xfrm>
            <a:off x="250920" y="4606920"/>
            <a:ext cx="2017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Арахи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ешок 25 кг и 50 к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нд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ргент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6410160" y="4581360"/>
            <a:ext cx="255456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рахис жаре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роблё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мер 2-4 мм, 3-5 м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акуумная упаковк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фрокороб 10 кг и 15 к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осс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4284720" y="4581360"/>
            <a:ext cx="20160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Арахи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бланширован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5/3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ешок 25 и 50 к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ита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6" descr="Копия 0_60552_afa62537_XL"/>
          <p:cNvPicPr/>
          <p:nvPr/>
        </p:nvPicPr>
        <p:blipFill>
          <a:blip r:embed="rId3"/>
          <a:stretch/>
        </p:blipFill>
        <p:spPr>
          <a:xfrm>
            <a:off x="3635280" y="1989000"/>
            <a:ext cx="1944720" cy="1893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6" name="Rectangle 3"/>
          <p:cNvSpPr/>
          <p:nvPr/>
        </p:nvSpPr>
        <p:spPr>
          <a:xfrm>
            <a:off x="2268360" y="4581360"/>
            <a:ext cx="20163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Арахи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5/3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ешок 25 кг и 50 к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ита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6" descr="AB-M"/>
          <p:cNvPicPr/>
          <p:nvPr/>
        </p:nvPicPr>
        <p:blipFill>
          <a:blip r:embed="rId4"/>
          <a:stretch/>
        </p:blipFill>
        <p:spPr>
          <a:xfrm>
            <a:off x="5076720" y="549360"/>
            <a:ext cx="347040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347184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00"/>
                </a:solidFill>
                <a:latin typeface="Arial"/>
              </a:rPr>
              <a:t>Орехи. Миндаль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4920" y="2421000"/>
            <a:ext cx="3328920" cy="33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65f3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индаль - наиболее широко выращиваемый в мире орех, поскольку и в кулинарии он используются больше всего. Миндаль используют так же для миндальных масел и экстрактов, которые используются в разных блюдах для ароматизации. Также это основной ингредиент марципан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6397560" y="4705200"/>
            <a:ext cx="2660760" cy="20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индальн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ластин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беленные с кант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беленные без кан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фрокороб 10 кг, 12,5 к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п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6402240" y="1557360"/>
            <a:ext cx="24624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инда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7/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фрокороб 22кг и 68 к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ifornia, Carmel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Ш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9" descr="G:\ПРЕЗЕНТАЦИЯ\071f870f732e.jpg"/>
          <p:cNvPicPr/>
          <p:nvPr/>
        </p:nvPicPr>
        <p:blipFill>
          <a:blip r:embed="rId1"/>
          <a:stretch/>
        </p:blipFill>
        <p:spPr>
          <a:xfrm>
            <a:off x="3708360" y="4076640"/>
            <a:ext cx="2678040" cy="246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3" name="Picture 10" descr="G:\ПРЕЗЕНТАЦИЯ\1244496088_top-10-appetite-suppressants_1.jpg"/>
          <p:cNvPicPr/>
          <p:nvPr/>
        </p:nvPicPr>
        <p:blipFill>
          <a:blip r:embed="rId2"/>
          <a:stretch/>
        </p:blipFill>
        <p:spPr>
          <a:xfrm>
            <a:off x="3708360" y="1557360"/>
            <a:ext cx="2643120" cy="226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4" name="Rectangle 3"/>
          <p:cNvSpPr/>
          <p:nvPr/>
        </p:nvSpPr>
        <p:spPr>
          <a:xfrm>
            <a:off x="6377040" y="3259080"/>
            <a:ext cx="25002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Ядро абрикосов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сточ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фрокороб 17 к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джикист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6" descr="AB-M"/>
          <p:cNvPicPr/>
          <p:nvPr/>
        </p:nvPicPr>
        <p:blipFill>
          <a:blip r:embed="rId3"/>
          <a:stretch/>
        </p:blipFill>
        <p:spPr>
          <a:xfrm>
            <a:off x="5076720" y="549360"/>
            <a:ext cx="347040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5T14:24:45Z</dcterms:created>
  <dc:creator>averina</dc:creator>
  <dc:description/>
  <dc:language>en-US</dc:language>
  <cp:lastModifiedBy>elfimov</cp:lastModifiedBy>
  <dcterms:modified xsi:type="dcterms:W3CDTF">2012-05-04T05:27:25Z</dcterms:modified>
  <cp:revision>940</cp:revision>
  <dc:subject/>
  <dc:title>Слайд 1</dc:title>
</cp:coreProperties>
</file>