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21C-6F13-45C0-A640-B46C8A3D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588-BFC2-4E28-A2DF-FAE93F4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F13-3BB2-4E90-B7DD-48C10644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147-42DD-4ED8-9A21-AAA53560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DA6-F8CA-42A2-9C96-A042C2EE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C17-6A15-4319-B31C-8D4F061A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01D-53CE-4DB3-8475-55C68320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081-8644-4567-9C11-015D038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5AB-2499-4F4A-AF56-0D2493D7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850-EF7B-4AF0-986F-FD62FB1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4EB-1DB9-4896-A17B-112C1A47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F42-3BEA-45E8-9D1A-3D265B6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751A-AC75-4D4D-B845-3420E3558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7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Олимпийские игры в Гре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йникова Альбина Равилевна, учитель истории МОУ «Переб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вариант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вариант- какие правила существовали в Олимпийских иг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вариант- кроме пятиборья какие еще виды соревнований бы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5»- написать мини-сочинение от имени участника соревн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4»- принести дополнительный материал об олимпийских играх (люб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3»- стр. 203, вопросы1,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комить с историей Олимпий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21975" r="0" b="4535"/>
          <a:stretch/>
        </p:blipFill>
        <p:spPr>
          <a:xfrm>
            <a:off x="-187200" y="417600"/>
            <a:ext cx="9516960" cy="6021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572000" y="4508640"/>
            <a:ext cx="86364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 rot="19983600">
            <a:off x="4067280" y="4365360"/>
            <a:ext cx="13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мп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проводились Олимпийские игр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сть какого бога устраивались Олимпийские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бъявлялось в Греции во время проведения Олимпийских иг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е Олимпийские игры состоялись в 776 году до н.э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3780" t="5793" r="9132" b="65583"/>
          <a:stretch/>
        </p:blipFill>
        <p:spPr>
          <a:xfrm>
            <a:off x="900000" y="1600200"/>
            <a:ext cx="770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13780" t="64867" r="8213" b="4740"/>
          <a:stretch/>
        </p:blipFill>
        <p:spPr>
          <a:xfrm>
            <a:off x="684360" y="1628640"/>
            <a:ext cx="799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2628" t="64147" r="9825" b="5012"/>
          <a:stretch/>
        </p:blipFill>
        <p:spPr>
          <a:xfrm>
            <a:off x="395280" y="1165320"/>
            <a:ext cx="417672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rcRect l="21213" t="65920" r="19351" b="12110"/>
          <a:stretch/>
        </p:blipFill>
        <p:spPr>
          <a:xfrm>
            <a:off x="4859280" y="1125360"/>
            <a:ext cx="428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гун Тисандр пробежал за час 19 км. Это очень хороший результат и для современного бегуна-спортс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61533" t="6217" r="21077" b="57318"/>
          <a:stretch/>
        </p:blipFill>
        <p:spPr>
          <a:xfrm>
            <a:off x="372960" y="333360"/>
            <a:ext cx="3622680" cy="590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572000" y="1628640"/>
            <a:ext cx="41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ителя Олимпийских игр называли      олимпионик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ногократным победителям ставили памят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28:13Z</dcterms:created>
  <dc:creator>Ученик</dc:creator>
  <dc:description/>
  <dc:language>en-US</dc:language>
  <cp:lastModifiedBy>ZooM</cp:lastModifiedBy>
  <dcterms:modified xsi:type="dcterms:W3CDTF">2013-12-03T20:39:22Z</dcterms:modified>
  <cp:revision>7</cp:revision>
  <dc:subject/>
  <dc:title>5 класс</dc:title>
</cp:coreProperties>
</file>