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A609-8C04-4877-975D-8F3E57B13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3E48-1AFA-4625-89FF-FCA217B26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5B58-6542-418C-8673-421FA2B50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27D6-086A-4CB1-B65A-C99801B33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B7B2-0A57-4DCE-88A6-EA869CE22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CFFD-EFF4-491F-8B3F-C9C396155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61F1-6519-4950-975E-5C7664FEC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EEB8-E7A6-4D76-9428-DA6E79277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8DCD-2EF8-47FE-9613-1FD6BAFB0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0185-7D39-4596-AE2B-B6E17A61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E31E-D806-4478-8765-CBF2A2EC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479E-3849-4BE6-85BF-5174BEF92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A566C-24D2-4076-9FE3-686D9D7BDB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254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5 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707920"/>
            <a:ext cx="64008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ма урока: Олимпийские игры в Грец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йникова Альбина Равилевна, учитель истории МОУ «Переборская ООШ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бота по варианта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вариант- какие правила существовали в Олимпийских игра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2 вариант- кроме пятиборья какие еще виды соревнований бы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5»- написать мини-сочинение от имени участника соревнован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4»- принести дополнительный материал об олимпийских играх (любой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3»- стр. 203, вопросы1,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Ь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знакомить с историей Олимпийских игр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rcRect l="0" t="21975" r="0" b="4535"/>
          <a:stretch/>
        </p:blipFill>
        <p:spPr>
          <a:xfrm>
            <a:off x="-187200" y="417600"/>
            <a:ext cx="9516960" cy="60213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3"/>
          <p:cNvSpPr/>
          <p:nvPr/>
        </p:nvSpPr>
        <p:spPr>
          <a:xfrm>
            <a:off x="4572000" y="4508640"/>
            <a:ext cx="863640" cy="25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4"/>
          <p:cNvSpPr txBox="1"/>
          <p:nvPr/>
        </p:nvSpPr>
        <p:spPr>
          <a:xfrm rot="19983600">
            <a:off x="4067280" y="4365360"/>
            <a:ext cx="1368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лимпия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гда проводились Олимпийские игры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честь какого бога устраивались Олимпийские игр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объявлялось в Греции во время проведения Олимпийских игр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ервые Олимпийские игры состоялись в 776 году до н.э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rcRect l="13780" t="5793" r="9132" b="65583"/>
          <a:stretch/>
        </p:blipFill>
        <p:spPr>
          <a:xfrm>
            <a:off x="900000" y="1600200"/>
            <a:ext cx="7704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rcRect l="13780" t="64867" r="8213" b="4740"/>
          <a:stretch/>
        </p:blipFill>
        <p:spPr>
          <a:xfrm>
            <a:off x="684360" y="1628640"/>
            <a:ext cx="7991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rcRect l="12628" t="64147" r="9825" b="5012"/>
          <a:stretch/>
        </p:blipFill>
        <p:spPr>
          <a:xfrm>
            <a:off x="395280" y="1165320"/>
            <a:ext cx="4176720" cy="4525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"/>
          <p:cNvPicPr/>
          <p:nvPr/>
        </p:nvPicPr>
        <p:blipFill>
          <a:blip r:embed="rId2"/>
          <a:srcRect l="21213" t="65920" r="19351" b="12110"/>
          <a:stretch/>
        </p:blipFill>
        <p:spPr>
          <a:xfrm>
            <a:off x="4859280" y="1125360"/>
            <a:ext cx="428472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егун Тисандр пробежал за час 19 км. Это очень хороший результат и для современного бегуна-спортсме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rcRect l="61533" t="6217" r="21077" b="57318"/>
          <a:stretch/>
        </p:blipFill>
        <p:spPr>
          <a:xfrm>
            <a:off x="372960" y="333360"/>
            <a:ext cx="3622680" cy="59040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5"/>
          <p:cNvSpPr/>
          <p:nvPr/>
        </p:nvSpPr>
        <p:spPr>
          <a:xfrm>
            <a:off x="4572000" y="1628640"/>
            <a:ext cx="4176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бедителя Олимпийских игр называли      олимпиоником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ногократным победителям ставили памятни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3T20:28:13Z</dcterms:created>
  <dc:creator>Ученик</dc:creator>
  <dc:description/>
  <dc:language>en-US</dc:language>
  <cp:lastModifiedBy>ZooM</cp:lastModifiedBy>
  <dcterms:modified xsi:type="dcterms:W3CDTF">2013-12-03T20:39:22Z</dcterms:modified>
  <cp:revision>7</cp:revision>
  <dc:subject/>
  <dc:title>5 класс</dc:title>
</cp:coreProperties>
</file>