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A52-4DE2-4444-AF70-7BB4F166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694-7A36-43E6-8553-806E80A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10F-E28F-4618-B2DA-6CA76061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98D-0980-445C-A2E7-FBEC1AD2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592-58BF-425A-A767-4457E082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C34-E689-42EB-B43C-E50E2551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175-038E-4B94-AFED-CC2F06DC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D88-2ECB-4B11-A5BB-534E00BB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716-D52A-4320-8BA9-7E74AB3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F7C-AC2D-4DAA-9A1E-1744EE8A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2E5-6C01-4DD8-975E-0711957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1CF-691E-432E-9C7D-7CA9B34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9B8F-CEC4-4BFF-9A56-6C03485D5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7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Олимпийские игры в Гр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никова Альбина Равилевна, учитель истории МОУ «Перебор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вариант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вариант- какие правила существовали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- кроме пятиборья какие еще виды соревнований бы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5»- написать мини-сочинение от имени участника соревн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4»- принести дополнительный материал об олимпийских играх (люб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3»- стр. 203, вопросы1,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комить с историей Олимпий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21975" r="0" b="4535"/>
          <a:stretch/>
        </p:blipFill>
        <p:spPr>
          <a:xfrm>
            <a:off x="-187200" y="417600"/>
            <a:ext cx="9516960" cy="6021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572000" y="4508640"/>
            <a:ext cx="86364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 rot="19983600">
            <a:off x="4067280" y="4365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мп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проводились Олимпийские иг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сть какого бога устраивались Олимпийски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бъявлялось в Греции во время проведения Олимпийских иг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Олимпийские игры состоялись в 776 году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13780" t="5793" r="9132" b="65583"/>
          <a:stretch/>
        </p:blipFill>
        <p:spPr>
          <a:xfrm>
            <a:off x="900000" y="1600200"/>
            <a:ext cx="770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13780" t="64867" r="8213" b="4740"/>
          <a:stretch/>
        </p:blipFill>
        <p:spPr>
          <a:xfrm>
            <a:off x="684360" y="1628640"/>
            <a:ext cx="799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2628" t="64147" r="9825" b="5012"/>
          <a:stretch/>
        </p:blipFill>
        <p:spPr>
          <a:xfrm>
            <a:off x="395280" y="1165320"/>
            <a:ext cx="417672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rcRect l="21213" t="65920" r="19351" b="12110"/>
          <a:stretch/>
        </p:blipFill>
        <p:spPr>
          <a:xfrm>
            <a:off x="4859280" y="1125360"/>
            <a:ext cx="428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гун Тисандр пробежал за час 19 км. Это очень хороший результат и для современного бегуна-спортс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61533" t="6217" r="21077" b="57318"/>
          <a:stretch/>
        </p:blipFill>
        <p:spPr>
          <a:xfrm>
            <a:off x="372960" y="333360"/>
            <a:ext cx="3622680" cy="590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572000" y="162864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ителя Олимпийских игр называли      олимпионик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ократным победителям ставили памят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28:13Z</dcterms:created>
  <dc:creator>Ученик</dc:creator>
  <dc:description/>
  <dc:language>en-US</dc:language>
  <cp:lastModifiedBy>ZooM</cp:lastModifiedBy>
  <dcterms:modified xsi:type="dcterms:W3CDTF">2013-12-03T20:39:22Z</dcterms:modified>
  <cp:revision>7</cp:revision>
  <dc:subject/>
  <dc:title>5 класс</dc:title>
</cp:coreProperties>
</file>