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290-84F0-4484-97A9-38E62A37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3D8-99D8-4B73-8701-59C25B1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F7F-63FE-4D1F-A57B-85944427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BD5-0512-4908-A27A-6C04FD2C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0E78-0586-42D7-A387-734C077C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5609-62DE-4272-B2E3-1895FA75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0832-91D3-4D3A-86CD-DF81E2CA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654-DC1E-4BBB-8DD3-4D9DC26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F86-D788-4502-B233-24AD792B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E2CA-DAE0-4AC6-9466-4965402C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EED-01EB-458C-910D-6CCCF9B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19A-EC5A-48D9-86C9-6B67C28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A5D1-9AE6-469F-B7B5-909C633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31D7-2138-4E45-A0BE-4EF8FEF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EF07-F973-422B-9062-9869B8C1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B5E-BE81-4AD4-AE2F-5398527E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9B92-8C32-430B-8F8C-7CB8338E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69CC-21F8-4ACF-B6F4-3753146F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CB7E-2031-487F-AB44-6078763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373F-353F-4CF3-8AA3-2003B614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70D2-47B1-4069-B7D2-F15E2C5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BB52-C414-42B2-9641-26409B09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47E-24B2-42F3-B668-E5D4B900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4944-5047-4046-ACCC-25FA7265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4830-164F-433A-AD36-494D510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405F-DA84-4057-83CF-0689BAF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0007-A1BF-4D2F-BED8-E3A90A2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676F-1DD7-43B2-9CDF-94DDD09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FBFA-2198-4D63-9160-E62C4A18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3B6E-817F-45E8-90AC-49B649D4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EB36-7FE4-4D8F-8098-0BB3FC54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7697-4833-4524-AE8A-7FDE4AD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9C70-B691-4896-82E4-C8AB39C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5B7-0B23-4B4E-B630-05802D4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13F6-29F9-4544-9F2D-0B070EBB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AF89-F630-43BA-BC79-AC7DAF7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C207-3D8B-475E-8B96-A4275DE7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8123-65DB-493F-AEFD-71B50A41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34B5-A3AF-482A-9D34-4FAA88A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5CAD-ED81-4138-A3AA-63FFF381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C615-AA9B-4654-836B-257814F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5FF3D-3DFE-4193-9BA5-1D0690E6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48A0-D5A4-424E-AB48-62DA1CE7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8524-E3B9-445B-822F-C9FE265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FF0-264F-411A-AC9A-3B413ED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4272-805E-4003-AD08-135CDBA2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79A2-CE0C-4005-A4B9-21934368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C348-AB31-4C53-95B8-0C257CEC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71B5-B7C7-4AA3-B94B-4C77219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CD81-D22E-4BB8-BE4A-EA03D610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88D90-B129-48B2-B0B6-CFC4E69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CDA45-325F-4FDC-AAB2-AB55FF6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0B6B-47E0-4E10-9040-D4D3033C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021E-91A5-43F3-9090-57345C1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45D7-D8CF-4AC8-8382-0A1DAB4D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E79-A873-4719-BECC-D5B5480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4011-C07D-4C33-8253-69E1A07B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B66D-59E3-4C9D-B5A6-0C966241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3316-9E39-4A8F-B920-810F765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86B47-4A78-477F-AD40-79BA00C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C88D-EB90-4A5E-910B-7AC47FE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BB17E-7D40-4D92-97B9-FBE7CE8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3D79-FF0D-483C-A807-F2221338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7AEDD-7335-446A-BF0D-9FDA532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8D6F-4683-4F85-AC3A-596AB97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2A1B-DEF3-4F22-932E-F75660A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6CF-15C2-4C3A-8157-1A59257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4D97-B4A6-41CB-803D-32260ADD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85D69-81A4-4230-B251-75F9B571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06DC3-2230-483B-90C2-DD5A1AC9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E4A62-297F-42A1-9782-41C3BB6E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B9660-E139-4803-A3AE-FF6CFEA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3EB3-77BA-4D72-8F6F-789033DE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268CB-AB37-4C3E-BCC5-18668211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6853-DD8E-405B-BCA3-8D211C1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FE594-BFBF-4BF7-9E5D-9881008E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8B81-C7E5-4B5F-A26A-7FD06C0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4C5-44AC-422A-A4D7-5833D89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5B79-8779-4E78-961D-3D6E39D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6CA9F-D78B-47A0-B51B-88CB7AC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7E7A-E826-432A-9C71-6AEAE6B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74A88-DD30-40CA-A24A-7547E94F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7423-F6F3-4F09-89C0-8C137B1C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09C-6271-4DC2-86E4-3094765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2CBB-0713-43D8-B8AF-7B1413484B22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85800" y="-360"/>
            <a:ext cx="8001000" cy="7950600"/>
            <a:chOff x="685800" y="-360"/>
            <a:chExt cx="8001000" cy="7950600"/>
          </a:xfrm>
        </p:grpSpPr>
        <p:sp>
          <p:nvSpPr>
            <p:cNvPr id="74" name="Pie 7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/>
              <a:ahLst/>
              <a:rect l="l" t="t" r="r" b="b"/>
              <a:pathLst>
                <a:path w="2171701" h="2171700">
                  <a:moveTo>
                    <a:pt x="2171701" y="1085850"/>
                  </a:moveTo>
                  <a:cubicBezTo>
                    <a:pt x="2171701" y="1685548"/>
                    <a:pt x="1685549" y="2171700"/>
                    <a:pt x="1085850" y="2171700"/>
                  </a:cubicBezTo>
                  <a:cubicBezTo>
                    <a:pt x="486151" y="2171700"/>
                    <a:pt x="-1" y="1685548"/>
                    <a:pt x="-1" y="1085850"/>
                  </a:cubicBezTo>
                  <a:lnTo>
                    <a:pt x="1085851" y="1085850"/>
                  </a:lnTo>
                  <a:lnTo>
                    <a:pt x="2171701" y="1085850"/>
                  </a:lnTo>
                  <a:close/>
                </a:path>
              </a:pathLst>
            </a:cu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-360"/>
              <a:ext cx="8001000" cy="6856200"/>
              <a:chOff x="685800" y="-360"/>
              <a:chExt cx="8001000" cy="685620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685800" y="587988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5181120"/>
                <a:ext cx="914400" cy="914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11"/>
              <p:cNvSpPr/>
              <p:nvPr/>
            </p:nvSpPr>
            <p:spPr>
              <a:xfrm>
                <a:off x="838080" y="5790960"/>
                <a:ext cx="457200" cy="4568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2"/>
              <p:cNvSpPr/>
              <p:nvPr/>
            </p:nvSpPr>
            <p:spPr>
              <a:xfrm>
                <a:off x="2361960" y="5943240"/>
                <a:ext cx="761760" cy="76176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1676160" y="5625720"/>
                <a:ext cx="457200" cy="4568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1981080" y="533376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1942920" y="55623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2361960" y="5028840"/>
                <a:ext cx="761760" cy="76176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009960" y="441936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2971800" y="46479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3314520" y="47239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3619440" y="502884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21"/>
              <p:cNvSpPr/>
              <p:nvPr/>
            </p:nvSpPr>
            <p:spPr>
              <a:xfrm>
                <a:off x="1384200" y="548604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2"/>
              <p:cNvSpPr/>
              <p:nvPr/>
            </p:nvSpPr>
            <p:spPr>
              <a:xfrm>
                <a:off x="3505320" y="525744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23"/>
              <p:cNvSpPr/>
              <p:nvPr/>
            </p:nvSpPr>
            <p:spPr>
              <a:xfrm>
                <a:off x="1295280" y="566388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24"/>
              <p:cNvSpPr/>
              <p:nvPr/>
            </p:nvSpPr>
            <p:spPr>
              <a:xfrm>
                <a:off x="1447560" y="55116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25"/>
              <p:cNvSpPr/>
              <p:nvPr/>
            </p:nvSpPr>
            <p:spPr>
              <a:xfrm>
                <a:off x="1600200" y="548604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26"/>
              <p:cNvSpPr/>
              <p:nvPr/>
            </p:nvSpPr>
            <p:spPr>
              <a:xfrm>
                <a:off x="3352680" y="594324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 flipV="1">
                <a:off x="5486400" y="-72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28"/>
              <p:cNvSpPr/>
              <p:nvPr/>
            </p:nvSpPr>
            <p:spPr>
              <a:xfrm flipV="1">
                <a:off x="7391520" y="759600"/>
                <a:ext cx="914400" cy="914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29"/>
              <p:cNvSpPr/>
              <p:nvPr/>
            </p:nvSpPr>
            <p:spPr>
              <a:xfrm flipV="1">
                <a:off x="5638680" y="60696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31"/>
              <p:cNvSpPr/>
              <p:nvPr/>
            </p:nvSpPr>
            <p:spPr>
              <a:xfrm flipV="1">
                <a:off x="6477120" y="77220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3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3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34"/>
              <p:cNvSpPr/>
              <p:nvPr/>
            </p:nvSpPr>
            <p:spPr>
              <a:xfrm flipV="1">
                <a:off x="7162920" y="106488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 flipV="1">
                <a:off x="7810560" y="208008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37"/>
              <p:cNvSpPr/>
              <p:nvPr/>
            </p:nvSpPr>
            <p:spPr>
              <a:xfrm flipV="1">
                <a:off x="8115480" y="19285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38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39"/>
              <p:cNvSpPr/>
              <p:nvPr/>
            </p:nvSpPr>
            <p:spPr>
              <a:xfrm flipV="1">
                <a:off x="6184800" y="124272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0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41"/>
              <p:cNvSpPr/>
              <p:nvPr/>
            </p:nvSpPr>
            <p:spPr>
              <a:xfrm flipV="1">
                <a:off x="6096240" y="106488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42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43"/>
              <p:cNvSpPr/>
              <p:nvPr/>
            </p:nvSpPr>
            <p:spPr>
              <a:xfrm flipV="1">
                <a:off x="6400800" y="124272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44"/>
              <p:cNvSpPr/>
              <p:nvPr/>
            </p:nvSpPr>
            <p:spPr>
              <a:xfrm flipV="1">
                <a:off x="8153640" y="3783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45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59BA-3D23-42A6-8F8E-A0D0367A033A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157" name="Oval 7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0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168" name="Oval 22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5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6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C22D-47A0-4706-B06A-46742EAA18AE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214" name="Oval 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7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9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24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1C7F-ADC8-42ED-9660-8F217C7C7E93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270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83AB-8626-4D31-A89B-D655BC3315CD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326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1B16-A8EF-47E2-8320-097138C9B985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382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8072-A7C1-4060-B05D-7C9DA9FA64BE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3" descr="образы романсов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1" descr=""/>
          <p:cNvPicPr/>
          <p:nvPr/>
        </p:nvPicPr>
        <p:blipFill>
          <a:blip r:embed="rId2"/>
          <a:stretch/>
        </p:blipFill>
        <p:spPr>
          <a:xfrm>
            <a:off x="969840" y="0"/>
            <a:ext cx="7088400" cy="14684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001760" y="3202560"/>
            <a:ext cx="3134160" cy="12394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2665407e2f76d0b_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4" descr=""/>
          <p:cNvPicPr/>
          <p:nvPr/>
        </p:nvPicPr>
        <p:blipFill>
          <a:blip r:embed="rId2"/>
          <a:stretch/>
        </p:blipFill>
        <p:spPr>
          <a:xfrm>
            <a:off x="-176040" y="2762280"/>
            <a:ext cx="9491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Рисунок 4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71" name="Заголовок 1" descr=""/>
          <p:cNvPicPr/>
          <p:nvPr/>
        </p:nvPicPr>
        <p:blipFill>
          <a:blip r:embed="rId2"/>
          <a:stretch/>
        </p:blipFill>
        <p:spPr>
          <a:xfrm>
            <a:off x="1450800" y="609480"/>
            <a:ext cx="6626520" cy="11462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"/>
          <p:cNvSpPr/>
          <p:nvPr/>
        </p:nvSpPr>
        <p:spPr>
          <a:xfrm>
            <a:off x="5275800" y="184464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музыкой нежной, лету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ова облекаются вдруг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0" y="2852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Погружаясь в мир чарующих созвучий, талантливый исполнитель роман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овно сливается  с образом лирического  героя, передаёт тончайш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художественные оттенки произведения. Воображение слушателя начин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«откликаться» на поэтически одухотворённое чувств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запечатлённое композитором и поэтом. Вот почему шедевры русского романс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устанавливают незримые связи  между композитором, исполнителем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ушателем и оказывают целительное, благотворное воздействие на душу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"/>
          <p:cNvSpPr/>
          <p:nvPr/>
        </p:nvSpPr>
        <p:spPr>
          <a:xfrm>
            <a:off x="1187280" y="1503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Романса голос узнаю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 самом дальнем расстоянье: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тою и мысленно пою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мне приятно с ним слиянье. 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всех я вспоминаю вас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Друзей и родственников дальних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Уже ушедших и печальны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помнил мне о вас – роман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К глазам я подношу плат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Который мне не помог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только воздуха г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Мне умереть не позволя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О том, что я отстал от в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в этой жизни затерялся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помнил старый мне роман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Романс, который оборва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omic Sans MS"/>
              </a:rPr>
              <a:t>В.Семи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Прямоугольник 2" descr=""/>
          <p:cNvPicPr/>
          <p:nvPr/>
        </p:nvPicPr>
        <p:blipFill>
          <a:blip r:embed="rId2"/>
          <a:stretch/>
        </p:blipFill>
        <p:spPr>
          <a:xfrm>
            <a:off x="-469800" y="5370480"/>
            <a:ext cx="7095960" cy="2309760"/>
          </a:xfrm>
          <a:prstGeom prst="rect">
            <a:avLst/>
          </a:prstGeom>
          <a:ln w="0">
            <a:noFill/>
          </a:ln>
        </p:spPr>
      </p:pic>
      <p:pic>
        <p:nvPicPr>
          <p:cNvPr id="477" name="10 - М. Глинка. Жаворонок..mp3" descr=""/>
          <p:cNvPicPr/>
          <p:nvPr/>
        </p:nvPicPr>
        <p:blipFill>
          <a:blip r:embed="rId3"/>
          <a:stretch/>
        </p:blipFill>
        <p:spPr>
          <a:xfrm>
            <a:off x="6323040" y="62229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5861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9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79" name="Текст 4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09480" y="1195560"/>
            <a:ext cx="2225880" cy="1719000"/>
          </a:xfrm>
          <a:prstGeom prst="rect">
            <a:avLst/>
          </a:prstGeom>
          <a:ln w="0">
            <a:noFill/>
          </a:ln>
        </p:spPr>
      </p:pic>
      <p:pic>
        <p:nvPicPr>
          <p:cNvPr id="480" name="Заголовок 3" descr=""/>
          <p:cNvPicPr/>
          <p:nvPr/>
        </p:nvPicPr>
        <p:blipFill>
          <a:blip r:embed="rId3"/>
          <a:stretch/>
        </p:blipFill>
        <p:spPr>
          <a:xfrm>
            <a:off x="1189080" y="189000"/>
            <a:ext cx="7083360" cy="1468440"/>
          </a:xfrm>
          <a:prstGeom prst="rect">
            <a:avLst/>
          </a:prstGeom>
          <a:ln w="0">
            <a:noFill/>
          </a:ln>
        </p:spPr>
      </p:pic>
      <p:pic>
        <p:nvPicPr>
          <p:cNvPr id="481" name="Текст 4" descr=""/>
          <p:cNvPicPr/>
          <p:nvPr/>
        </p:nvPicPr>
        <p:blipFill>
          <a:blip r:embed="rId4"/>
          <a:stretch/>
        </p:blipFill>
        <p:spPr>
          <a:xfrm>
            <a:off x="1981080" y="2779560"/>
            <a:ext cx="2225880" cy="1719360"/>
          </a:xfrm>
          <a:prstGeom prst="rect">
            <a:avLst/>
          </a:prstGeom>
          <a:ln w="0">
            <a:noFill/>
          </a:ln>
        </p:spPr>
      </p:pic>
      <p:pic>
        <p:nvPicPr>
          <p:cNvPr id="482" name="Текст 4" descr=""/>
          <p:cNvPicPr/>
          <p:nvPr/>
        </p:nvPicPr>
        <p:blipFill>
          <a:blip r:embed="rId5"/>
          <a:stretch/>
        </p:blipFill>
        <p:spPr>
          <a:xfrm>
            <a:off x="3780000" y="1554120"/>
            <a:ext cx="2224080" cy="1719360"/>
          </a:xfrm>
          <a:prstGeom prst="rect">
            <a:avLst/>
          </a:prstGeom>
          <a:ln w="0">
            <a:noFill/>
          </a:ln>
        </p:spPr>
      </p:pic>
      <p:pic>
        <p:nvPicPr>
          <p:cNvPr id="483" name="Текст 4" descr=""/>
          <p:cNvPicPr/>
          <p:nvPr/>
        </p:nvPicPr>
        <p:blipFill>
          <a:blip r:embed="rId6"/>
          <a:stretch/>
        </p:blipFill>
        <p:spPr>
          <a:xfrm>
            <a:off x="5578560" y="2779560"/>
            <a:ext cx="2224080" cy="1719360"/>
          </a:xfrm>
          <a:prstGeom prst="rect">
            <a:avLst/>
          </a:prstGeom>
          <a:ln w="0">
            <a:noFill/>
          </a:ln>
        </p:spPr>
      </p:pic>
      <p:pic>
        <p:nvPicPr>
          <p:cNvPr id="484" name="Текст 4" descr=""/>
          <p:cNvPicPr/>
          <p:nvPr/>
        </p:nvPicPr>
        <p:blipFill>
          <a:blip r:embed="rId7"/>
          <a:stretch/>
        </p:blipFill>
        <p:spPr>
          <a:xfrm>
            <a:off x="6918480" y="1268280"/>
            <a:ext cx="22255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Текст 1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328760" y="1341360"/>
            <a:ext cx="1908000" cy="190188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2" descr=""/>
          <p:cNvPicPr/>
          <p:nvPr/>
        </p:nvPicPr>
        <p:blipFill>
          <a:blip r:embed="rId3"/>
          <a:stretch/>
        </p:blipFill>
        <p:spPr>
          <a:xfrm>
            <a:off x="969840" y="189000"/>
            <a:ext cx="7088400" cy="1468440"/>
          </a:xfrm>
          <a:prstGeom prst="rect">
            <a:avLst/>
          </a:prstGeom>
          <a:ln w="0">
            <a:noFill/>
          </a:ln>
        </p:spPr>
      </p:pic>
      <p:pic>
        <p:nvPicPr>
          <p:cNvPr id="443" name="Текст 1" descr=""/>
          <p:cNvPicPr/>
          <p:nvPr/>
        </p:nvPicPr>
        <p:blipFill>
          <a:blip r:embed="rId4"/>
          <a:stretch/>
        </p:blipFill>
        <p:spPr>
          <a:xfrm>
            <a:off x="5578560" y="1341360"/>
            <a:ext cx="1908000" cy="1901880"/>
          </a:xfrm>
          <a:prstGeom prst="rect">
            <a:avLst/>
          </a:prstGeom>
          <a:ln w="0">
            <a:noFill/>
          </a:ln>
        </p:spPr>
      </p:pic>
      <p:pic>
        <p:nvPicPr>
          <p:cNvPr id="444" name="Текст 1" descr=""/>
          <p:cNvPicPr/>
          <p:nvPr/>
        </p:nvPicPr>
        <p:blipFill>
          <a:blip r:embed="rId5"/>
          <a:stretch/>
        </p:blipFill>
        <p:spPr>
          <a:xfrm>
            <a:off x="3419640" y="2567160"/>
            <a:ext cx="20793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46" name="Заголовок 3" descr="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48" name="Заголовок 1" descr=""/>
          <p:cNvPicPr/>
          <p:nvPr/>
        </p:nvPicPr>
        <p:blipFill>
          <a:blip r:embed="rId2"/>
          <a:stretch/>
        </p:blipFill>
        <p:spPr>
          <a:xfrm>
            <a:off x="1328760" y="0"/>
            <a:ext cx="6632640" cy="483408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" descr=""/>
          <p:cNvPicPr/>
          <p:nvPr/>
        </p:nvPicPr>
        <p:blipFill>
          <a:blip r:embed="rId3"/>
          <a:stretch/>
        </p:blipFill>
        <p:spPr>
          <a:xfrm>
            <a:off x="-85680" y="5840280"/>
            <a:ext cx="6394320" cy="1176480"/>
          </a:xfrm>
          <a:prstGeom prst="rect">
            <a:avLst/>
          </a:prstGeom>
          <a:ln w="0">
            <a:noFill/>
          </a:ln>
        </p:spPr>
      </p:pic>
      <p:pic>
        <p:nvPicPr>
          <p:cNvPr id="450" name="02 - П. Булахов - Гори, гори, моя звезда.mp3" descr=""/>
          <p:cNvPicPr/>
          <p:nvPr/>
        </p:nvPicPr>
        <p:blipFill>
          <a:blip r:embed="rId4"/>
          <a:stretch/>
        </p:blipFill>
        <p:spPr>
          <a:xfrm>
            <a:off x="6443640" y="6294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0963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Рисунок 4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2" name="Заголовок 1" descr=""/>
          <p:cNvPicPr/>
          <p:nvPr/>
        </p:nvPicPr>
        <p:blipFill>
          <a:blip r:embed="rId2"/>
          <a:stretch/>
        </p:blipFill>
        <p:spPr>
          <a:xfrm>
            <a:off x="1547640" y="262080"/>
            <a:ext cx="6626520" cy="519408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2" descr=""/>
          <p:cNvPicPr/>
          <p:nvPr/>
        </p:nvPicPr>
        <p:blipFill>
          <a:blip r:embed="rId3"/>
          <a:stretch/>
        </p:blipFill>
        <p:spPr>
          <a:xfrm>
            <a:off x="-182520" y="5956200"/>
            <a:ext cx="9144000" cy="1060560"/>
          </a:xfrm>
          <a:prstGeom prst="rect">
            <a:avLst/>
          </a:prstGeom>
          <a:ln w="0">
            <a:noFill/>
          </a:ln>
        </p:spPr>
      </p:pic>
      <p:pic>
        <p:nvPicPr>
          <p:cNvPr id="454" name="07 - М. Глинка - Я помню чудное мгновенье.mp3" descr=""/>
          <p:cNvPicPr/>
          <p:nvPr/>
        </p:nvPicPr>
        <p:blipFill>
          <a:blip r:embed="rId4"/>
          <a:stretch/>
        </p:blipFill>
        <p:spPr>
          <a:xfrm>
            <a:off x="8353440" y="627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08844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2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1695600" y="-390600"/>
            <a:ext cx="66261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Рисунок 7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8" name="Заголовок 4" descr=""/>
          <p:cNvPicPr/>
          <p:nvPr/>
        </p:nvPicPr>
        <p:blipFill>
          <a:blip r:embed="rId2"/>
          <a:stretch/>
        </p:blipFill>
        <p:spPr>
          <a:xfrm>
            <a:off x="1450800" y="609480"/>
            <a:ext cx="6626520" cy="11462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6"/>
          <p:cNvSpPr/>
          <p:nvPr/>
        </p:nvSpPr>
        <p:spPr>
          <a:xfrm>
            <a:off x="1403280" y="206064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Знакомые звуки, чудесные звук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О, сколько вам силы да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Прошедшее счастье, прошедшие музы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И радость свидания, и слёзы разлук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Вам все воскресить сужд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mic Sans MS"/>
              </a:rPr>
              <a:t>А.Плеще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2"/>
          <a:stretch/>
        </p:blipFill>
        <p:spPr>
          <a:xfrm>
            <a:off x="1116000" y="0"/>
            <a:ext cx="6411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7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1835280" y="0"/>
            <a:ext cx="6632280" cy="21938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" descr="Александр Егорович Варламов.jpg"/>
          <p:cNvPicPr/>
          <p:nvPr/>
        </p:nvPicPr>
        <p:blipFill>
          <a:blip r:embed="rId3"/>
          <a:stretch/>
        </p:blipFill>
        <p:spPr>
          <a:xfrm>
            <a:off x="250920" y="2133720"/>
            <a:ext cx="1904760" cy="24001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4"/>
          <p:cNvSpPr/>
          <p:nvPr/>
        </p:nvSpPr>
        <p:spPr>
          <a:xfrm>
            <a:off x="25092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А.Е.Варла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Прямоугольник 5" descr=""/>
          <p:cNvPicPr/>
          <p:nvPr/>
        </p:nvPicPr>
        <p:blipFill>
          <a:blip r:embed="rId4"/>
          <a:stretch/>
        </p:blipFill>
        <p:spPr>
          <a:xfrm>
            <a:off x="176040" y="4919760"/>
            <a:ext cx="5615280" cy="2084400"/>
          </a:xfrm>
          <a:prstGeom prst="rect">
            <a:avLst/>
          </a:prstGeom>
          <a:ln w="0">
            <a:noFill/>
          </a:ln>
        </p:spPr>
      </p:pic>
      <p:pic>
        <p:nvPicPr>
          <p:cNvPr id="467" name="05 - А. Варламов - Красный сарафан.mp3" descr=""/>
          <p:cNvPicPr/>
          <p:nvPr/>
        </p:nvPicPr>
        <p:blipFill>
          <a:blip r:embed="rId5"/>
          <a:stretch/>
        </p:blipFill>
        <p:spPr>
          <a:xfrm>
            <a:off x="5764320" y="621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25010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4:49:22Z</dcterms:created>
  <dc:creator>admin</dc:creator>
  <dc:description/>
  <dc:language>en-US</dc:language>
  <cp:lastModifiedBy>днс</cp:lastModifiedBy>
  <dcterms:modified xsi:type="dcterms:W3CDTF">2012-09-18T15:41:31Z</dcterms:modified>
  <cp:revision>36</cp:revision>
  <dc:subject/>
  <dc:title>Образы романсов и песен русских композиторов</dc:title>
</cp:coreProperties>
</file>