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ABA-894C-4A3F-A06C-59AD5A30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8AF-006E-44D0-A1A2-087BE087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28A-ECDE-40B8-A070-FF365A3C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629-EB6C-4F05-B8C7-2839F3DD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90BC-2CEB-432E-8D8F-3D6CA26D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0AE1-91F2-435F-8F45-6F59CE1B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ADD1-256A-40B7-9411-E4C7F2F5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C1F9-E091-45E3-88AD-1E93C7E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C03B-381F-4F49-848B-698F6949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EB4B-617D-439A-A8E3-AEF5F414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9147-76AF-4620-936F-340D0FED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1F1-8883-49CC-86F3-29A79FB4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0C8B-CB37-4088-B99D-B5846F5B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64C7-BF69-4344-8780-869614A1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95C-12F1-4F1D-A7A8-71B81BDD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40FD-F1D6-4831-AF5C-BD24F33F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7A64-E9AB-4BDA-86AC-81DC01EF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D3AE-ACD4-43EE-9E3A-A9E197DA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A446C-ACA4-46AC-B225-6635CA68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A96AD-E0B4-47A2-9F0A-5FFF6A5D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3876-643B-4306-BA22-53DA6F4C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F17B-2B96-44D0-AEBF-7579C695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3A9-5986-4E19-B19C-11912983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4EFB-1156-4CAB-A297-01E5012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0300-8164-4600-A394-D7941839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951F-3A8A-4B2D-AB76-BF4C7A11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BBC5-3F37-4CAB-99E3-DC5A55CE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4643-F62F-4840-961E-F846DBF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BA65-389F-465C-8F97-1E148D0F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12974-DDC1-4CBE-B302-1F27423F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44F5-E05C-472D-867E-4F104738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7F40-5A0A-4150-B18A-D0136830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CA227-6856-4126-B6DA-8B7449EC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DC7-CF39-4AC9-8FA0-5ECF01D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C6B6-71A1-49C4-AF44-A88EC17C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9A8BA-2CF4-45AD-9502-F5957F96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36B8-7CDA-492B-A857-BAF72E6E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3C0FE-546F-4EED-A327-2C4B59D9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AA81-F54F-4243-9915-8D07D2D4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E1100-0985-4F39-8D9D-B18113FF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77F5-5B2E-4DB4-9065-0F6377CB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E02B-0151-49FE-BA59-380F3769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F93D-AEAB-4F56-894E-9059C627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51E0-198D-4A82-B57F-829402E3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9F7-003C-4EEB-8762-01620ED6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F7E2-573C-40EF-A43C-EDB30ED0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BFD9F-6EB0-43FC-9A05-C1E028A2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672F3-ACE3-41A4-8DAF-FC00EDC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85CC-0602-48FC-9F9C-FDC844AD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7996F-B566-422B-90CE-27874F71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A0D64-378A-455A-A6E6-8E8ACDA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C0246-7984-428C-9A77-C15B7F1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A2463-913A-4AE4-9380-69D8DBA2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C0440-0E93-4ABE-8E02-CA5479A4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3D55-BBF9-45D8-A1A4-4663F019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18D-DE95-4868-9F4E-851DCD2F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03E4D-9BAB-493E-A603-52514D26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1CE5B-20B5-4787-8D85-9E9CF9FC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19F7-1711-4798-9BD6-F089D705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5D196-5AC6-4A4B-8458-90DE4360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7001-06B3-4390-BD97-DA25E54B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679E5-E8E7-4E0C-ADA6-6BA44F1D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9E450-E5EC-4C9C-98F8-96826580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9E094-1E08-490F-B0F4-2ABB60AE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A960E-02F7-4129-A2F5-4878F347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EFE62-82EE-41A2-88F0-A92DC5E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614-E8DC-48FB-9DB2-E11B63C3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0D387-EC60-49E9-AFB1-D3A976F0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15DBF-8742-4EE3-A390-BFA29CB9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B472-C9C2-496E-A35E-EC7D6D5D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5446-72E5-4212-8818-A37B9151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FBCDE-305C-4BAB-9ABC-FA06177B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44EA5-7BAA-41E3-97BF-300202B8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D5D4E-70E5-4774-9B3B-1831461A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8421-4751-47FD-9826-A0C2EC32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F985-B1C6-48BD-875C-F180AC9B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9EE24-D859-4B21-93CF-0635432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A6F-91F8-4081-A4B4-9E9B3272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27FBE-6578-4FBF-8BBA-4E2715CB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2A143-0170-4889-8B33-061DF382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D7E83-1D2F-4E47-91A5-BF308C85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FD897-725C-4952-8B85-CD8006CC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3DB86-1A6D-41EB-84C7-38E4ABE8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2EB-2C8F-44AC-AF5F-8228012C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5DE7-54D0-42FD-84B7-967340C4F43E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6"/>
          <p:cNvGrpSpPr/>
          <p:nvPr/>
        </p:nvGrpSpPr>
        <p:grpSpPr>
          <a:xfrm>
            <a:off x="685800" y="-360"/>
            <a:ext cx="8001000" cy="7950600"/>
            <a:chOff x="685800" y="-360"/>
            <a:chExt cx="8001000" cy="7950600"/>
          </a:xfrm>
        </p:grpSpPr>
        <p:sp>
          <p:nvSpPr>
            <p:cNvPr id="74" name="Pie 7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/>
              <a:ahLst/>
              <a:rect l="l" t="t" r="r" b="b"/>
              <a:pathLst>
                <a:path w="2171701" h="2171700">
                  <a:moveTo>
                    <a:pt x="2171701" y="1085850"/>
                  </a:moveTo>
                  <a:cubicBezTo>
                    <a:pt x="2171701" y="1685548"/>
                    <a:pt x="1685549" y="2171700"/>
                    <a:pt x="1085850" y="2171700"/>
                  </a:cubicBezTo>
                  <a:cubicBezTo>
                    <a:pt x="486151" y="2171700"/>
                    <a:pt x="-1" y="1685548"/>
                    <a:pt x="-1" y="1085850"/>
                  </a:cubicBezTo>
                  <a:lnTo>
                    <a:pt x="1085851" y="1085850"/>
                  </a:lnTo>
                  <a:lnTo>
                    <a:pt x="2171701" y="1085850"/>
                  </a:lnTo>
                  <a:close/>
                </a:path>
              </a:pathLst>
            </a:cu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-360"/>
              <a:ext cx="8001000" cy="6856200"/>
              <a:chOff x="685800" y="-360"/>
              <a:chExt cx="8001000" cy="6856200"/>
            </a:xfrm>
          </p:grpSpPr>
          <p:sp>
            <p:nvSpPr>
              <p:cNvPr id="76" name="Freeform 9"/>
              <p:cNvSpPr/>
              <p:nvPr/>
            </p:nvSpPr>
            <p:spPr>
              <a:xfrm>
                <a:off x="685800" y="5879880"/>
                <a:ext cx="1143000" cy="97596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Oval 10"/>
              <p:cNvSpPr/>
              <p:nvPr/>
            </p:nvSpPr>
            <p:spPr>
              <a:xfrm>
                <a:off x="2590560" y="5181120"/>
                <a:ext cx="914400" cy="9140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Oval 11"/>
              <p:cNvSpPr/>
              <p:nvPr/>
            </p:nvSpPr>
            <p:spPr>
              <a:xfrm>
                <a:off x="838080" y="5790960"/>
                <a:ext cx="457200" cy="4568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2"/>
              <p:cNvSpPr/>
              <p:nvPr/>
            </p:nvSpPr>
            <p:spPr>
              <a:xfrm>
                <a:off x="2361960" y="5943240"/>
                <a:ext cx="761760" cy="76176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1676160" y="5625720"/>
                <a:ext cx="457200" cy="4568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1981080" y="533376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1942920" y="556236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2361960" y="5028840"/>
                <a:ext cx="761760" cy="76176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009960" y="4419360"/>
                <a:ext cx="355320" cy="3553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2971800" y="464796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3314520" y="472392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3619440" y="502884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21"/>
              <p:cNvSpPr/>
              <p:nvPr/>
            </p:nvSpPr>
            <p:spPr>
              <a:xfrm>
                <a:off x="1384200" y="548604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22"/>
              <p:cNvSpPr/>
              <p:nvPr/>
            </p:nvSpPr>
            <p:spPr>
              <a:xfrm>
                <a:off x="3505320" y="525744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23"/>
              <p:cNvSpPr/>
              <p:nvPr/>
            </p:nvSpPr>
            <p:spPr>
              <a:xfrm>
                <a:off x="1295280" y="566388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24"/>
              <p:cNvSpPr/>
              <p:nvPr/>
            </p:nvSpPr>
            <p:spPr>
              <a:xfrm>
                <a:off x="1447560" y="551160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25"/>
              <p:cNvSpPr/>
              <p:nvPr/>
            </p:nvSpPr>
            <p:spPr>
              <a:xfrm>
                <a:off x="1600200" y="548604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Oval 26"/>
              <p:cNvSpPr/>
              <p:nvPr/>
            </p:nvSpPr>
            <p:spPr>
              <a:xfrm>
                <a:off x="3352680" y="594324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27"/>
              <p:cNvSpPr/>
              <p:nvPr/>
            </p:nvSpPr>
            <p:spPr>
              <a:xfrm flipV="1">
                <a:off x="5486400" y="-720"/>
                <a:ext cx="1143000" cy="97596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28"/>
              <p:cNvSpPr/>
              <p:nvPr/>
            </p:nvSpPr>
            <p:spPr>
              <a:xfrm flipV="1">
                <a:off x="7391520" y="759600"/>
                <a:ext cx="914400" cy="914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29"/>
              <p:cNvSpPr/>
              <p:nvPr/>
            </p:nvSpPr>
            <p:spPr>
              <a:xfrm flipV="1">
                <a:off x="5638680" y="60696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30"/>
              <p:cNvSpPr/>
              <p:nvPr/>
            </p:nvSpPr>
            <p:spPr>
              <a:xfrm flipV="1">
                <a:off x="7162920" y="1501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31"/>
              <p:cNvSpPr/>
              <p:nvPr/>
            </p:nvSpPr>
            <p:spPr>
              <a:xfrm flipV="1">
                <a:off x="6477120" y="77220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32"/>
              <p:cNvSpPr/>
              <p:nvPr/>
            </p:nvSpPr>
            <p:spPr>
              <a:xfrm flipV="1">
                <a:off x="6782040" y="1166040"/>
                <a:ext cx="355320" cy="3553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33"/>
              <p:cNvSpPr/>
              <p:nvPr/>
            </p:nvSpPr>
            <p:spPr>
              <a:xfrm flipV="1">
                <a:off x="6743880" y="861120"/>
                <a:ext cx="431640" cy="4316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34"/>
              <p:cNvSpPr/>
              <p:nvPr/>
            </p:nvSpPr>
            <p:spPr>
              <a:xfrm flipV="1">
                <a:off x="7162920" y="106488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35"/>
              <p:cNvSpPr/>
              <p:nvPr/>
            </p:nvSpPr>
            <p:spPr>
              <a:xfrm flipV="1">
                <a:off x="7810560" y="2080080"/>
                <a:ext cx="355320" cy="3553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36"/>
              <p:cNvSpPr/>
              <p:nvPr/>
            </p:nvSpPr>
            <p:spPr>
              <a:xfrm flipV="1">
                <a:off x="7772400" y="1775520"/>
                <a:ext cx="431640" cy="4316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37"/>
              <p:cNvSpPr/>
              <p:nvPr/>
            </p:nvSpPr>
            <p:spPr>
              <a:xfrm flipV="1">
                <a:off x="8115480" y="192852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38"/>
              <p:cNvSpPr/>
              <p:nvPr/>
            </p:nvSpPr>
            <p:spPr>
              <a:xfrm flipV="1">
                <a:off x="8420400" y="162396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39"/>
              <p:cNvSpPr/>
              <p:nvPr/>
            </p:nvSpPr>
            <p:spPr>
              <a:xfrm flipV="1">
                <a:off x="6184800" y="124272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40"/>
              <p:cNvSpPr/>
              <p:nvPr/>
            </p:nvSpPr>
            <p:spPr>
              <a:xfrm flipV="1">
                <a:off x="8305920" y="1395360"/>
                <a:ext cx="203040" cy="20304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41"/>
              <p:cNvSpPr/>
              <p:nvPr/>
            </p:nvSpPr>
            <p:spPr>
              <a:xfrm flipV="1">
                <a:off x="6096240" y="106488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42"/>
              <p:cNvSpPr/>
              <p:nvPr/>
            </p:nvSpPr>
            <p:spPr>
              <a:xfrm flipV="1">
                <a:off x="6248520" y="1217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43"/>
              <p:cNvSpPr/>
              <p:nvPr/>
            </p:nvSpPr>
            <p:spPr>
              <a:xfrm flipV="1">
                <a:off x="6400800" y="1242720"/>
                <a:ext cx="126720" cy="126720"/>
              </a:xfrm>
              <a:prstGeom prst="ellipse">
                <a:avLst/>
              </a:prstGeom>
              <a:solidFill>
                <a:srgbClr val="eeece1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44"/>
              <p:cNvSpPr/>
              <p:nvPr/>
            </p:nvSpPr>
            <p:spPr>
              <a:xfrm flipV="1">
                <a:off x="8153640" y="3783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ab5e4">
                      <a:alpha val="60000"/>
                    </a:srgbClr>
                  </a:gs>
                  <a:gs pos="100000">
                    <a:srgbClr val="e1e8f5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Oval 45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46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47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F3E5-173E-4384-9E93-7A6532189CFF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6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157" name="Oval 7"/>
            <p:cNvSpPr/>
            <p:nvPr/>
          </p:nvSpPr>
          <p:spPr>
            <a:xfrm>
              <a:off x="624996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8"/>
            <p:cNvSpPr/>
            <p:nvPr/>
          </p:nvSpPr>
          <p:spPr>
            <a:xfrm>
              <a:off x="5513040" y="5048280"/>
              <a:ext cx="1103400" cy="11030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>
              <a:off x="624996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615780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1"/>
            <p:cNvSpPr/>
            <p:nvPr/>
          </p:nvSpPr>
          <p:spPr>
            <a:xfrm>
              <a:off x="5697360" y="2133720"/>
              <a:ext cx="1839960" cy="1839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5"/>
            <p:cNvSpPr/>
            <p:nvPr/>
          </p:nvSpPr>
          <p:spPr>
            <a:xfrm>
              <a:off x="707724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"/>
            <p:cNvSpPr/>
            <p:nvPr/>
          </p:nvSpPr>
          <p:spPr>
            <a:xfrm>
              <a:off x="4806720" y="4710240"/>
              <a:ext cx="30780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8"/>
            <p:cNvSpPr/>
            <p:nvPr/>
          </p:nvSpPr>
          <p:spPr>
            <a:xfrm>
              <a:off x="459252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496080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0"/>
            <p:cNvSpPr/>
            <p:nvPr/>
          </p:nvSpPr>
          <p:spPr>
            <a:xfrm>
              <a:off x="5329080" y="47102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32"/>
          <p:cNvGrpSpPr/>
          <p:nvPr/>
        </p:nvGrpSpPr>
        <p:grpSpPr>
          <a:xfrm>
            <a:off x="609480" y="990360"/>
            <a:ext cx="1179720" cy="1357560"/>
            <a:chOff x="609480" y="990360"/>
            <a:chExt cx="1179720" cy="1357560"/>
          </a:xfrm>
        </p:grpSpPr>
        <p:sp>
          <p:nvSpPr>
            <p:cNvPr id="168" name="Oval 22"/>
            <p:cNvSpPr/>
            <p:nvPr/>
          </p:nvSpPr>
          <p:spPr>
            <a:xfrm>
              <a:off x="898200" y="1457280"/>
              <a:ext cx="891000" cy="8906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5"/>
            <p:cNvSpPr/>
            <p:nvPr/>
          </p:nvSpPr>
          <p:spPr>
            <a:xfrm flipV="1">
              <a:off x="647280" y="1294560"/>
              <a:ext cx="355680" cy="355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6"/>
            <p:cNvSpPr/>
            <p:nvPr/>
          </p:nvSpPr>
          <p:spPr>
            <a:xfrm flipV="1">
              <a:off x="609480" y="990000"/>
              <a:ext cx="432000" cy="4316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7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3148-B8BE-4D74-A74A-60AF2F920EDB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214" name="Oval 9"/>
            <p:cNvSpPr/>
            <p:nvPr/>
          </p:nvSpPr>
          <p:spPr>
            <a:xfrm>
              <a:off x="4695840" y="5048280"/>
              <a:ext cx="110484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7066080" y="457200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1"/>
            <p:cNvSpPr/>
            <p:nvPr/>
          </p:nvSpPr>
          <p:spPr>
            <a:xfrm>
              <a:off x="5340240" y="48960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2"/>
            <p:cNvSpPr/>
            <p:nvPr/>
          </p:nvSpPr>
          <p:spPr>
            <a:xfrm>
              <a:off x="6694560" y="3048120"/>
              <a:ext cx="1839960" cy="18414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3"/>
            <p:cNvSpPr/>
            <p:nvPr/>
          </p:nvSpPr>
          <p:spPr>
            <a:xfrm>
              <a:off x="791712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4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5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7"/>
            <p:cNvSpPr/>
            <p:nvPr/>
          </p:nvSpPr>
          <p:spPr>
            <a:xfrm>
              <a:off x="6551640" y="5121360"/>
              <a:ext cx="30780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9"/>
            <p:cNvSpPr/>
            <p:nvPr/>
          </p:nvSpPr>
          <p:spPr>
            <a:xfrm>
              <a:off x="6781680" y="556272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6705720" y="5181840"/>
              <a:ext cx="306360" cy="3078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7074000" y="512136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Oval 24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25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eee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ab5e4">
                  <a:alpha val="60000"/>
                </a:srgbClr>
              </a:gs>
              <a:gs pos="100000">
                <a:srgbClr val="e1e8f5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8418-8E04-4293-A460-9C928A961F7D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270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2933-B9B8-4234-A183-5220CA86963F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326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BC96-BF87-4528-A6EB-6FEC3E6D22BC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407b"/>
            </a:gs>
            <a:gs pos="100000">
              <a:srgbClr val="7caeec"/>
            </a:gs>
          </a:gsLst>
          <a:lin ang="7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382" name="Oval 7"/>
            <p:cNvSpPr/>
            <p:nvPr/>
          </p:nvSpPr>
          <p:spPr>
            <a:xfrm>
              <a:off x="5432400" y="2502000"/>
              <a:ext cx="2208240" cy="220824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4695480" y="5048280"/>
              <a:ext cx="1103400" cy="110484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5432400" y="4341960"/>
              <a:ext cx="858600" cy="85860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5340240" y="48942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4879800" y="2133720"/>
              <a:ext cx="1839960" cy="18399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2"/>
            <p:cNvSpPr/>
            <p:nvPr/>
          </p:nvSpPr>
          <p:spPr>
            <a:xfrm>
              <a:off x="7916760" y="2133720"/>
              <a:ext cx="858600" cy="8586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"/>
            <p:cNvSpPr/>
            <p:nvPr/>
          </p:nvSpPr>
          <p:spPr>
            <a:xfrm>
              <a:off x="7824960" y="26859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4"/>
            <p:cNvSpPr/>
            <p:nvPr/>
          </p:nvSpPr>
          <p:spPr>
            <a:xfrm>
              <a:off x="8653680" y="2870280"/>
              <a:ext cx="490320" cy="49032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5"/>
            <p:cNvSpPr/>
            <p:nvPr/>
          </p:nvSpPr>
          <p:spPr>
            <a:xfrm>
              <a:off x="6259320" y="58150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6"/>
            <p:cNvSpPr/>
            <p:nvPr/>
          </p:nvSpPr>
          <p:spPr>
            <a:xfrm>
              <a:off x="3989160" y="4710240"/>
              <a:ext cx="30780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7"/>
            <p:cNvSpPr/>
            <p:nvPr/>
          </p:nvSpPr>
          <p:spPr>
            <a:xfrm>
              <a:off x="5983200" y="6367680"/>
              <a:ext cx="492120" cy="49032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8"/>
            <p:cNvSpPr/>
            <p:nvPr/>
          </p:nvSpPr>
          <p:spPr>
            <a:xfrm>
              <a:off x="3774960" y="5140440"/>
              <a:ext cx="306360" cy="30636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9"/>
            <p:cNvSpPr/>
            <p:nvPr/>
          </p:nvSpPr>
          <p:spPr>
            <a:xfrm>
              <a:off x="4143240" y="4772160"/>
              <a:ext cx="306360" cy="306360"/>
            </a:xfrm>
            <a:prstGeom prst="ellipse">
              <a:avLst/>
            </a:prstGeom>
            <a:gradFill rotWithShape="0">
              <a:gsLst>
                <a:gs pos="0">
                  <a:srgbClr val="9ab5e4">
                    <a:alpha val="60000"/>
                  </a:srgbClr>
                </a:gs>
                <a:gs pos="100000">
                  <a:srgbClr val="e1e8f5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20"/>
            <p:cNvSpPr/>
            <p:nvPr/>
          </p:nvSpPr>
          <p:spPr>
            <a:xfrm>
              <a:off x="4511520" y="4710240"/>
              <a:ext cx="306360" cy="307800"/>
            </a:xfrm>
            <a:prstGeom prst="ellipse">
              <a:avLst/>
            </a:prstGeom>
            <a:solidFill>
              <a:srgbClr val="eeece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CB66-D5F9-44ED-A6B6-97D79A359694}" type="slidenum">
              <a:rPr b="0" lang="ru-RU" sz="11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3" descr="образы романсов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Заголовок 1" descr=""/>
          <p:cNvPicPr/>
          <p:nvPr/>
        </p:nvPicPr>
        <p:blipFill>
          <a:blip r:embed="rId2"/>
          <a:stretch/>
        </p:blipFill>
        <p:spPr>
          <a:xfrm>
            <a:off x="969840" y="0"/>
            <a:ext cx="7088400" cy="14684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001760" y="3202560"/>
            <a:ext cx="3134160" cy="1239480"/>
          </a:xfrm>
          <a:prstGeom prst="rect">
            <a:avLst/>
          </a:prstGeom>
          <a:solidFill>
            <a:srgbClr val="eeece1">
              <a:alpha val="20000"/>
            </a:srgbClr>
          </a:solidFill>
          <a:ln w="0">
            <a:noFill/>
          </a:ln>
        </p:spPr>
        <p:txBody>
          <a:bodyPr lIns="45720" rIns="4572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c2665407e2f76d0b_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9" name="Прямоугольник 4" descr=""/>
          <p:cNvPicPr/>
          <p:nvPr/>
        </p:nvPicPr>
        <p:blipFill>
          <a:blip r:embed="rId2"/>
          <a:stretch/>
        </p:blipFill>
        <p:spPr>
          <a:xfrm>
            <a:off x="-176040" y="2762280"/>
            <a:ext cx="9491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Рисунок 4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471" name="Заголовок 1" descr=""/>
          <p:cNvPicPr/>
          <p:nvPr/>
        </p:nvPicPr>
        <p:blipFill>
          <a:blip r:embed="rId2"/>
          <a:stretch/>
        </p:blipFill>
        <p:spPr>
          <a:xfrm>
            <a:off x="1450800" y="609480"/>
            <a:ext cx="6626520" cy="11462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2"/>
          <p:cNvSpPr/>
          <p:nvPr/>
        </p:nvSpPr>
        <p:spPr>
          <a:xfrm>
            <a:off x="5275800" y="1844640"/>
            <a:ext cx="33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музыкой нежной, летуч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лова облекаются вдруг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0" y="28526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Погружаясь в мир чарующих созвучий, талантливый исполнитель роман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ловно сливается  с образом лирического  героя, передаёт тончайш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художественные оттенки произведения. Воображение слушателя начин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«откликаться» на поэтически одухотворённое чувств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запечатлённое композитором и поэтом. Вот почему шедевры русского романс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устанавливают незримые связи  между композитором, исполнителем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лушателем и оказывают целительное, благотворное воздействие на душу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1"/>
          <p:cNvSpPr/>
          <p:nvPr/>
        </p:nvSpPr>
        <p:spPr>
          <a:xfrm>
            <a:off x="1187280" y="150336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Романса голос узнаю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а самом дальнем расстоянье: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Стою и мысленно пою,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мне приятно с ним слиянье. 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всех я вспоминаю вас,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Друзей и родственников дальних,</a:t>
            </a:r>
            <a:br>
              <a:rPr sz="1800"/>
            </a:b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Уже ушедших и печальны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апомнил мне о вас – романс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К глазам я подношу плат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Который мне не помог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только воздуха гло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Мне умереть не позволя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О том, что я отстал от в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И в этой жизни затерялся,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апомнил старый мне романс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Романс, который оборва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omic Sans MS"/>
              </a:rPr>
              <a:t>В.Семи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Прямоугольник 2" descr=""/>
          <p:cNvPicPr/>
          <p:nvPr/>
        </p:nvPicPr>
        <p:blipFill>
          <a:blip r:embed="rId2"/>
          <a:stretch/>
        </p:blipFill>
        <p:spPr>
          <a:xfrm>
            <a:off x="-469800" y="5370480"/>
            <a:ext cx="7095960" cy="2309760"/>
          </a:xfrm>
          <a:prstGeom prst="rect">
            <a:avLst/>
          </a:prstGeom>
          <a:ln w="0">
            <a:noFill/>
          </a:ln>
        </p:spPr>
      </p:pic>
      <p:pic>
        <p:nvPicPr>
          <p:cNvPr id="477" name="10 - М. Глинка. Жаворонок..mp3" descr=""/>
          <p:cNvPicPr/>
          <p:nvPr/>
        </p:nvPicPr>
        <p:blipFill>
          <a:blip r:embed="rId3"/>
          <a:stretch/>
        </p:blipFill>
        <p:spPr>
          <a:xfrm>
            <a:off x="6323040" y="62229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5861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9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pic>
        <p:nvPicPr>
          <p:cNvPr id="479" name="Текст 4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609480" y="1195560"/>
            <a:ext cx="2225880" cy="1719000"/>
          </a:xfrm>
          <a:prstGeom prst="rect">
            <a:avLst/>
          </a:prstGeom>
          <a:ln w="0">
            <a:noFill/>
          </a:ln>
        </p:spPr>
      </p:pic>
      <p:pic>
        <p:nvPicPr>
          <p:cNvPr id="480" name="Заголовок 3" descr=""/>
          <p:cNvPicPr/>
          <p:nvPr/>
        </p:nvPicPr>
        <p:blipFill>
          <a:blip r:embed="rId3"/>
          <a:stretch/>
        </p:blipFill>
        <p:spPr>
          <a:xfrm>
            <a:off x="1189080" y="189000"/>
            <a:ext cx="7083360" cy="1468440"/>
          </a:xfrm>
          <a:prstGeom prst="rect">
            <a:avLst/>
          </a:prstGeom>
          <a:ln w="0">
            <a:noFill/>
          </a:ln>
        </p:spPr>
      </p:pic>
      <p:pic>
        <p:nvPicPr>
          <p:cNvPr id="481" name="Текст 4" descr=""/>
          <p:cNvPicPr/>
          <p:nvPr/>
        </p:nvPicPr>
        <p:blipFill>
          <a:blip r:embed="rId4"/>
          <a:stretch/>
        </p:blipFill>
        <p:spPr>
          <a:xfrm>
            <a:off x="1981080" y="2779560"/>
            <a:ext cx="2225880" cy="1719360"/>
          </a:xfrm>
          <a:prstGeom prst="rect">
            <a:avLst/>
          </a:prstGeom>
          <a:ln w="0">
            <a:noFill/>
          </a:ln>
        </p:spPr>
      </p:pic>
      <p:pic>
        <p:nvPicPr>
          <p:cNvPr id="482" name="Текст 4" descr=""/>
          <p:cNvPicPr/>
          <p:nvPr/>
        </p:nvPicPr>
        <p:blipFill>
          <a:blip r:embed="rId5"/>
          <a:stretch/>
        </p:blipFill>
        <p:spPr>
          <a:xfrm>
            <a:off x="3780000" y="1554120"/>
            <a:ext cx="2224080" cy="1719360"/>
          </a:xfrm>
          <a:prstGeom prst="rect">
            <a:avLst/>
          </a:prstGeom>
          <a:ln w="0">
            <a:noFill/>
          </a:ln>
        </p:spPr>
      </p:pic>
      <p:pic>
        <p:nvPicPr>
          <p:cNvPr id="483" name="Текст 4" descr=""/>
          <p:cNvPicPr/>
          <p:nvPr/>
        </p:nvPicPr>
        <p:blipFill>
          <a:blip r:embed="rId6"/>
          <a:stretch/>
        </p:blipFill>
        <p:spPr>
          <a:xfrm>
            <a:off x="5578560" y="2779560"/>
            <a:ext cx="2224080" cy="1719360"/>
          </a:xfrm>
          <a:prstGeom prst="rect">
            <a:avLst/>
          </a:prstGeom>
          <a:ln w="0">
            <a:noFill/>
          </a:ln>
        </p:spPr>
      </p:pic>
      <p:pic>
        <p:nvPicPr>
          <p:cNvPr id="484" name="Текст 4" descr=""/>
          <p:cNvPicPr/>
          <p:nvPr/>
        </p:nvPicPr>
        <p:blipFill>
          <a:blip r:embed="rId7"/>
          <a:stretch/>
        </p:blipFill>
        <p:spPr>
          <a:xfrm>
            <a:off x="6918480" y="1268280"/>
            <a:ext cx="22255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pic>
        <p:nvPicPr>
          <p:cNvPr id="441" name="Текст 1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328760" y="1341360"/>
            <a:ext cx="1908000" cy="1901880"/>
          </a:xfrm>
          <a:prstGeom prst="rect">
            <a:avLst/>
          </a:prstGeom>
          <a:ln w="0">
            <a:noFill/>
          </a:ln>
        </p:spPr>
      </p:pic>
      <p:pic>
        <p:nvPicPr>
          <p:cNvPr id="442" name="Заголовок 2" descr=""/>
          <p:cNvPicPr/>
          <p:nvPr/>
        </p:nvPicPr>
        <p:blipFill>
          <a:blip r:embed="rId3"/>
          <a:stretch/>
        </p:blipFill>
        <p:spPr>
          <a:xfrm>
            <a:off x="969840" y="189000"/>
            <a:ext cx="7088400" cy="1468440"/>
          </a:xfrm>
          <a:prstGeom prst="rect">
            <a:avLst/>
          </a:prstGeom>
          <a:ln w="0">
            <a:noFill/>
          </a:ln>
        </p:spPr>
      </p:pic>
      <p:pic>
        <p:nvPicPr>
          <p:cNvPr id="443" name="Текст 1" descr=""/>
          <p:cNvPicPr/>
          <p:nvPr/>
        </p:nvPicPr>
        <p:blipFill>
          <a:blip r:embed="rId4"/>
          <a:stretch/>
        </p:blipFill>
        <p:spPr>
          <a:xfrm>
            <a:off x="5578560" y="1341360"/>
            <a:ext cx="1908000" cy="1901880"/>
          </a:xfrm>
          <a:prstGeom prst="rect">
            <a:avLst/>
          </a:prstGeom>
          <a:ln w="0">
            <a:noFill/>
          </a:ln>
        </p:spPr>
      </p:pic>
      <p:pic>
        <p:nvPicPr>
          <p:cNvPr id="444" name="Текст 1" descr=""/>
          <p:cNvPicPr/>
          <p:nvPr/>
        </p:nvPicPr>
        <p:blipFill>
          <a:blip r:embed="rId5"/>
          <a:stretch/>
        </p:blipFill>
        <p:spPr>
          <a:xfrm>
            <a:off x="3419640" y="2567160"/>
            <a:ext cx="20793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46" name="Заголовок 3" descr=""/>
          <p:cNvPicPr/>
          <p:nvPr/>
        </p:nvPicPr>
        <p:blipFill>
          <a:blip r:embed="rId2"/>
          <a:stretch/>
        </p:blipFill>
        <p:spPr>
          <a:xfrm>
            <a:off x="0" y="274680"/>
            <a:ext cx="914400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Рисунок 5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48" name="Заголовок 1" descr=""/>
          <p:cNvPicPr/>
          <p:nvPr/>
        </p:nvPicPr>
        <p:blipFill>
          <a:blip r:embed="rId2"/>
          <a:stretch/>
        </p:blipFill>
        <p:spPr>
          <a:xfrm>
            <a:off x="1328760" y="0"/>
            <a:ext cx="6632640" cy="483408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2" descr=""/>
          <p:cNvPicPr/>
          <p:nvPr/>
        </p:nvPicPr>
        <p:blipFill>
          <a:blip r:embed="rId3"/>
          <a:stretch/>
        </p:blipFill>
        <p:spPr>
          <a:xfrm>
            <a:off x="-85680" y="5840280"/>
            <a:ext cx="6394320" cy="1176480"/>
          </a:xfrm>
          <a:prstGeom prst="rect">
            <a:avLst/>
          </a:prstGeom>
          <a:ln w="0">
            <a:noFill/>
          </a:ln>
        </p:spPr>
      </p:pic>
      <p:pic>
        <p:nvPicPr>
          <p:cNvPr id="450" name="02 - П. Булахов - Гори, гори, моя звезда.mp3" descr=""/>
          <p:cNvPicPr/>
          <p:nvPr/>
        </p:nvPicPr>
        <p:blipFill>
          <a:blip r:embed="rId4"/>
          <a:stretch/>
        </p:blipFill>
        <p:spPr>
          <a:xfrm>
            <a:off x="6443640" y="6294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70963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Рисунок 4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52" name="Заголовок 1" descr=""/>
          <p:cNvPicPr/>
          <p:nvPr/>
        </p:nvPicPr>
        <p:blipFill>
          <a:blip r:embed="rId2"/>
          <a:stretch/>
        </p:blipFill>
        <p:spPr>
          <a:xfrm>
            <a:off x="1547640" y="262080"/>
            <a:ext cx="6626520" cy="519408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2" descr=""/>
          <p:cNvPicPr/>
          <p:nvPr/>
        </p:nvPicPr>
        <p:blipFill>
          <a:blip r:embed="rId3"/>
          <a:stretch/>
        </p:blipFill>
        <p:spPr>
          <a:xfrm>
            <a:off x="-182520" y="5956200"/>
            <a:ext cx="9144000" cy="1060560"/>
          </a:xfrm>
          <a:prstGeom prst="rect">
            <a:avLst/>
          </a:prstGeom>
          <a:ln w="0">
            <a:noFill/>
          </a:ln>
        </p:spPr>
      </p:pic>
      <p:pic>
        <p:nvPicPr>
          <p:cNvPr id="454" name="07 - М. Глинка - Я помню чудное мгновенье.mp3" descr=""/>
          <p:cNvPicPr/>
          <p:nvPr/>
        </p:nvPicPr>
        <p:blipFill>
          <a:blip r:embed="rId4"/>
          <a:stretch/>
        </p:blipFill>
        <p:spPr>
          <a:xfrm>
            <a:off x="8353440" y="6272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08844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2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1695600" y="-390600"/>
            <a:ext cx="66261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Рисунок 7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1520"/>
          </a:xfrm>
          <a:prstGeom prst="rect">
            <a:avLst/>
          </a:prstGeom>
          <a:ln w="0">
            <a:noFill/>
          </a:ln>
        </p:spPr>
      </p:pic>
      <p:pic>
        <p:nvPicPr>
          <p:cNvPr id="458" name="Заголовок 4" descr=""/>
          <p:cNvPicPr/>
          <p:nvPr/>
        </p:nvPicPr>
        <p:blipFill>
          <a:blip r:embed="rId2"/>
          <a:stretch/>
        </p:blipFill>
        <p:spPr>
          <a:xfrm>
            <a:off x="1450800" y="609480"/>
            <a:ext cx="6626520" cy="1146240"/>
          </a:xfrm>
          <a:prstGeom prst="rect">
            <a:avLst/>
          </a:prstGeom>
          <a:ln w="0">
            <a:noFill/>
          </a:ln>
        </p:spPr>
      </p:pic>
      <p:sp>
        <p:nvSpPr>
          <p:cNvPr id="459" name="TextBox 6"/>
          <p:cNvSpPr/>
          <p:nvPr/>
        </p:nvSpPr>
        <p:spPr>
          <a:xfrm>
            <a:off x="1403280" y="2060640"/>
            <a:ext cx="648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Знакомые звуки, чудесные звук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О, сколько вам силы да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Прошедшее счастье, прошедшие музы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И радость свидания, и слёзы разлук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omic Sans MS"/>
              </a:rPr>
              <a:t>Вам все воскресить сужд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omic Sans MS"/>
              </a:rPr>
              <a:t>А.Плеще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шаблон для разделов.jpg"/>
          <p:cNvPicPr/>
          <p:nvPr/>
        </p:nvPicPr>
        <p:blipFill>
          <a:blip r:embed="rId1"/>
          <a:stretch/>
        </p:blipFill>
        <p:spPr>
          <a:xfrm>
            <a:off x="-9360" y="0"/>
            <a:ext cx="9162720" cy="685800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2"/>
          <a:stretch/>
        </p:blipFill>
        <p:spPr>
          <a:xfrm>
            <a:off x="1116000" y="0"/>
            <a:ext cx="6411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7" descr="шаблон для разделов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463" name="Заголовок 1" descr=""/>
          <p:cNvPicPr/>
          <p:nvPr/>
        </p:nvPicPr>
        <p:blipFill>
          <a:blip r:embed="rId2"/>
          <a:stretch/>
        </p:blipFill>
        <p:spPr>
          <a:xfrm>
            <a:off x="1835280" y="0"/>
            <a:ext cx="6632280" cy="219384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2" descr="Александр Егорович Варламов.jpg"/>
          <p:cNvPicPr/>
          <p:nvPr/>
        </p:nvPicPr>
        <p:blipFill>
          <a:blip r:embed="rId3"/>
          <a:stretch/>
        </p:blipFill>
        <p:spPr>
          <a:xfrm>
            <a:off x="250920" y="2133720"/>
            <a:ext cx="1904760" cy="2400120"/>
          </a:xfrm>
          <a:prstGeom prst="rect">
            <a:avLst/>
          </a:prstGeom>
          <a:ln w="0">
            <a:noFill/>
          </a:ln>
        </p:spPr>
      </p:pic>
      <p:sp>
        <p:nvSpPr>
          <p:cNvPr id="465" name="TextBox 4"/>
          <p:cNvSpPr/>
          <p:nvPr/>
        </p:nvSpPr>
        <p:spPr>
          <a:xfrm>
            <a:off x="250920" y="458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mic Sans MS"/>
              </a:rPr>
              <a:t>А.Е.Варла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Прямоугольник 5" descr=""/>
          <p:cNvPicPr/>
          <p:nvPr/>
        </p:nvPicPr>
        <p:blipFill>
          <a:blip r:embed="rId4"/>
          <a:stretch/>
        </p:blipFill>
        <p:spPr>
          <a:xfrm>
            <a:off x="176040" y="4919760"/>
            <a:ext cx="5615280" cy="2084400"/>
          </a:xfrm>
          <a:prstGeom prst="rect">
            <a:avLst/>
          </a:prstGeom>
          <a:ln w="0">
            <a:noFill/>
          </a:ln>
        </p:spPr>
      </p:pic>
      <p:pic>
        <p:nvPicPr>
          <p:cNvPr id="467" name="05 - А. Варламов - Красный сарафан.mp3" descr=""/>
          <p:cNvPicPr/>
          <p:nvPr/>
        </p:nvPicPr>
        <p:blipFill>
          <a:blip r:embed="rId5"/>
          <a:stretch/>
        </p:blipFill>
        <p:spPr>
          <a:xfrm>
            <a:off x="5764320" y="621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25010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4:49:22Z</dcterms:created>
  <dc:creator>admin</dc:creator>
  <dc:description/>
  <dc:language>en-US</dc:language>
  <cp:lastModifiedBy>днс</cp:lastModifiedBy>
  <dcterms:modified xsi:type="dcterms:W3CDTF">2012-09-18T15:41:31Z</dcterms:modified>
  <cp:revision>36</cp:revision>
  <dc:subject/>
  <dc:title>Образы романсов и песен русских композиторов</dc:title>
</cp:coreProperties>
</file>