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1F0-4192-4730-AA26-D69835A0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4C8-3806-4272-91F3-0BE143A7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736-93A0-4781-8125-079C2DB0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78A-6F8C-4B28-A48F-38968CC1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2B5D-48D5-4533-AE90-D708C0F7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C06E-E4FA-4CFD-ABC2-3A4B101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7821-5EA8-4127-8D2E-74BCD27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BBF-FE2B-4F81-913A-52A0C52E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7F3-32EC-411D-87BB-ED15A058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C570-9D65-4C04-BFFA-F632250B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8E1C-2DB4-4414-AD25-F182139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32C-4A3C-42D6-93CB-4BF1D54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E45-C2EA-42DB-A4F2-DCE80C1C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8D1B-EFE0-4D6D-9A41-DF5EF2C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E723-02A4-436E-B4A2-A5A069E5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149-581C-4B16-8980-AD7D5197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88F-3131-4BA7-AA31-12290922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153E-FDDB-46DE-850B-806E8E0E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09869-ECBA-42C9-818E-0246B0F3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7255-ADE1-477E-B424-B9CF1C4B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5F28-0043-4FD2-814B-5164C29A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F8A0-42AA-41EE-9BDF-40962124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B06-F68E-4073-9614-C69A33D1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5BFF-4122-4FBD-B87D-C86E65F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E657-2054-4CA3-9053-6CFBED4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7D8E-B2BC-482E-BD84-A2C3863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B215-7F4A-4E01-89E8-C5848F5B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8A4A-677B-4AB6-9D72-7E6F4FA9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13EF-CEA8-453A-A4E1-4DF802D4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DDE4-6804-4D96-8D0B-9CF3332B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E1D5-0D10-47F9-B1B4-E3DAE155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8F64-C572-4E11-AB2D-155B6896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8F82-315E-4A11-9333-23EFD32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6E2-E357-4A08-B14A-0C73BFC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6B77-14B8-43A1-9959-9D7540D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DDFE8-76B2-494C-A8F0-0C4A2730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C5FC-6DB4-43F1-B572-F1775150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3F21-678D-470B-BD90-4D0E1DBA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AAF3-4FB0-49DB-99B2-00C292A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B654-0F26-4BFC-AEAB-C948F27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68A1-DC9F-4389-BE27-4C3F83FF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85B3-69D4-4B16-8774-F3B170C8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E76A-FFB5-49DD-BFE1-D8108A74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6297-BF95-417A-A4CE-ED8CFE5B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FF0-90DC-4BDA-854D-30BDA4E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89CC-7714-40D8-987C-4D602A4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7AF9-65AE-4094-B963-1DE4B2A3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C6C1-8E64-4B96-BC00-B8EBD17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E940-D6B8-4BDD-97DE-490ACD65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6FD1D-80F8-493E-A557-5B7A026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299FF-3A57-475A-B90C-6445F29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9A20-6C47-4921-8D1D-D45B9CBA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97696-937D-4694-978B-B341772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0973-E059-435B-8595-2C7AEB0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F961-15D0-4090-93C9-36A8A4A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0D7-A495-4067-A289-D84F4370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0781-50E8-418B-BBC6-998F2223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2CA76-1CCA-4DD4-81A3-DCA6C71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4F10C-F33C-4941-B0DD-31EBC79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6863F-0FCC-44A6-B55A-E019D53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B42E-A87B-4702-BEDB-1F780AE6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C09D-9F6E-4FB8-B1E6-C9294B2A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CB6A3-4A1F-43F8-9963-99EA41D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83FA-ECE1-4D69-AD8E-693E980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319C3-4FAD-48C8-A1C8-121E6353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0C81-4248-4623-9BF6-6487FD1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DFC-B5F6-42B7-8AC5-661581C7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6D5EF-24A6-4EDD-9082-4455C0B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7935-EDDA-474D-BEB9-9C36C79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DCFF0-EAD7-4C8E-BE55-996EFEFB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3F11A-5ED3-42E1-8840-B56FE363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B392-4A62-4A82-9F16-27FFAA9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F682-576A-4AA9-886B-B2B50402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1CBDD-25B7-4304-BE9D-F4CBBEF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43C7-50EB-4C0E-A545-A84293FB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6117-A3E5-4BF4-A3F4-42BF979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138B7-D1B7-4214-9F42-80EF1E6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64F-5D07-4F60-8BE7-9B81C93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EE94-7E1D-4911-88B7-51F6C83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7B34-5719-41BC-AD15-BF18AC0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99946-6225-42B6-A0F1-7857546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844C-4D53-45E3-8261-AE68EFFB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0AE76-3D9A-4351-971B-37F13AA0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067-0819-4943-8FA4-E42A92A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A882-AB98-4F7D-B9D6-846ABEC785EB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-360"/>
            <a:ext cx="8001000" cy="7950600"/>
            <a:chOff x="685800" y="-360"/>
            <a:chExt cx="8001000" cy="795060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/>
              <a:ahLst/>
              <a:rect l="l" t="t" r="r" b="b"/>
              <a:pathLst>
                <a:path w="2171701" h="2171700">
                  <a:moveTo>
                    <a:pt x="2171701" y="1085850"/>
                  </a:moveTo>
                  <a:cubicBezTo>
                    <a:pt x="2171701" y="1685548"/>
                    <a:pt x="1685549" y="2171700"/>
                    <a:pt x="1085850" y="2171700"/>
                  </a:cubicBezTo>
                  <a:cubicBezTo>
                    <a:pt x="486151" y="2171700"/>
                    <a:pt x="-1" y="1685548"/>
                    <a:pt x="-1" y="1085850"/>
                  </a:cubicBezTo>
                  <a:lnTo>
                    <a:pt x="1085851" y="1085850"/>
                  </a:lnTo>
                  <a:lnTo>
                    <a:pt x="2171701" y="1085850"/>
                  </a:lnTo>
                  <a:close/>
                </a:path>
              </a:pathLst>
            </a:cu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-360"/>
              <a:ext cx="8001000" cy="6856200"/>
              <a:chOff x="685800" y="-360"/>
              <a:chExt cx="8001000" cy="685620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7988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120"/>
                <a:ext cx="914400" cy="914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096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2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572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376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3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88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36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79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39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88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74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388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6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2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-72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696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88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8008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5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88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3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DCB-B19C-40C0-930C-B1E915F5D9E8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157" name="Oval 7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168" name="Oval 22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6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1BC4-D618-4901-9F55-982371EBAECD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214" name="Oval 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7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9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CDDE-638E-4574-8B28-0C2768A15841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270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7E1-F04D-4DBF-B332-3720C3873764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26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A220-495F-4821-B3AE-9920FFFBEA98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82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BCF-2A77-405D-A616-F914BCB785F8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3" descr="образы романсо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1" descr=""/>
          <p:cNvPicPr/>
          <p:nvPr/>
        </p:nvPicPr>
        <p:blipFill>
          <a:blip r:embed="rId2"/>
          <a:stretch/>
        </p:blipFill>
        <p:spPr>
          <a:xfrm>
            <a:off x="969840" y="0"/>
            <a:ext cx="7088400" cy="14684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001760" y="3202560"/>
            <a:ext cx="3134160" cy="12394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2665407e2f76d0b_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4" descr=""/>
          <p:cNvPicPr/>
          <p:nvPr/>
        </p:nvPicPr>
        <p:blipFill>
          <a:blip r:embed="rId2"/>
          <a:stretch/>
        </p:blipFill>
        <p:spPr>
          <a:xfrm>
            <a:off x="-176040" y="2762280"/>
            <a:ext cx="9491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5275800" y="184464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узыкой нежной, лету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а облекаются вдруг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0" y="2852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Погружаясь в мир чарующих созвучий, талантливый исполнитель роман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но сливается  с образом лирического  героя, передаёт тончайш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художественные оттенки произведения. Воображение слушателя начин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«откликаться» на поэтически одухотворённое чувств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запечатлённое композитором и поэтом. Вот почему шедевры русского романс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станавливают незримые связи  между композитором, исполнителем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ушателем и оказывают целительное, благотворное воздействие на душу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"/>
          <p:cNvSpPr/>
          <p:nvPr/>
        </p:nvSpPr>
        <p:spPr>
          <a:xfrm>
            <a:off x="1187280" y="1503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а голос узнаю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 самом дальнем расстоянье: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тою и мысленно пою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не приятно с ним слиянье. 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сех я вспоминаю вас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Друзей и родственников дальних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же ушедших и печальны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мне о вас – роман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 глазам я подношу пл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оторый мне не помог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только воздуха г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Мне умереть не позволя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О том, что я отстал от в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 этой жизни затерялся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старый мне роман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, который обор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omic Sans MS"/>
              </a:rPr>
              <a:t>В.Семи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Прямоугольник 2" descr=""/>
          <p:cNvPicPr/>
          <p:nvPr/>
        </p:nvPicPr>
        <p:blipFill>
          <a:blip r:embed="rId2"/>
          <a:stretch/>
        </p:blipFill>
        <p:spPr>
          <a:xfrm>
            <a:off x="-469800" y="5370480"/>
            <a:ext cx="7095960" cy="2309760"/>
          </a:xfrm>
          <a:prstGeom prst="rect">
            <a:avLst/>
          </a:prstGeom>
          <a:ln w="0">
            <a:noFill/>
          </a:ln>
        </p:spPr>
      </p:pic>
      <p:pic>
        <p:nvPicPr>
          <p:cNvPr id="477" name="10 - М. Глинка. Жаворонок..mp3" descr=""/>
          <p:cNvPicPr/>
          <p:nvPr/>
        </p:nvPicPr>
        <p:blipFill>
          <a:blip r:embed="rId3"/>
          <a:stretch/>
        </p:blipFill>
        <p:spPr>
          <a:xfrm>
            <a:off x="6323040" y="62229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5861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9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79" name="Текст 4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09480" y="1195560"/>
            <a:ext cx="2225880" cy="171900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3" descr=""/>
          <p:cNvPicPr/>
          <p:nvPr/>
        </p:nvPicPr>
        <p:blipFill>
          <a:blip r:embed="rId3"/>
          <a:stretch/>
        </p:blipFill>
        <p:spPr>
          <a:xfrm>
            <a:off x="1189080" y="189000"/>
            <a:ext cx="7083360" cy="1468440"/>
          </a:xfrm>
          <a:prstGeom prst="rect">
            <a:avLst/>
          </a:prstGeom>
          <a:ln w="0">
            <a:noFill/>
          </a:ln>
        </p:spPr>
      </p:pic>
      <p:pic>
        <p:nvPicPr>
          <p:cNvPr id="481" name="Текст 4" descr=""/>
          <p:cNvPicPr/>
          <p:nvPr/>
        </p:nvPicPr>
        <p:blipFill>
          <a:blip r:embed="rId4"/>
          <a:stretch/>
        </p:blipFill>
        <p:spPr>
          <a:xfrm>
            <a:off x="1981080" y="2779560"/>
            <a:ext cx="2225880" cy="1719360"/>
          </a:xfrm>
          <a:prstGeom prst="rect">
            <a:avLst/>
          </a:prstGeom>
          <a:ln w="0">
            <a:noFill/>
          </a:ln>
        </p:spPr>
      </p:pic>
      <p:pic>
        <p:nvPicPr>
          <p:cNvPr id="482" name="Текст 4" descr=""/>
          <p:cNvPicPr/>
          <p:nvPr/>
        </p:nvPicPr>
        <p:blipFill>
          <a:blip r:embed="rId5"/>
          <a:stretch/>
        </p:blipFill>
        <p:spPr>
          <a:xfrm>
            <a:off x="3780000" y="155412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3" name="Текст 4" descr=""/>
          <p:cNvPicPr/>
          <p:nvPr/>
        </p:nvPicPr>
        <p:blipFill>
          <a:blip r:embed="rId6"/>
          <a:stretch/>
        </p:blipFill>
        <p:spPr>
          <a:xfrm>
            <a:off x="5578560" y="277956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4" name="Текст 4" descr=""/>
          <p:cNvPicPr/>
          <p:nvPr/>
        </p:nvPicPr>
        <p:blipFill>
          <a:blip r:embed="rId7"/>
          <a:stretch/>
        </p:blipFill>
        <p:spPr>
          <a:xfrm>
            <a:off x="6918480" y="1268280"/>
            <a:ext cx="22255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Текст 1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3287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2" descr=""/>
          <p:cNvPicPr/>
          <p:nvPr/>
        </p:nvPicPr>
        <p:blipFill>
          <a:blip r:embed="rId3"/>
          <a:stretch/>
        </p:blipFill>
        <p:spPr>
          <a:xfrm>
            <a:off x="969840" y="189000"/>
            <a:ext cx="7088400" cy="1468440"/>
          </a:xfrm>
          <a:prstGeom prst="rect">
            <a:avLst/>
          </a:prstGeom>
          <a:ln w="0">
            <a:noFill/>
          </a:ln>
        </p:spPr>
      </p:pic>
      <p:pic>
        <p:nvPicPr>
          <p:cNvPr id="443" name="Текст 1" descr=""/>
          <p:cNvPicPr/>
          <p:nvPr/>
        </p:nvPicPr>
        <p:blipFill>
          <a:blip r:embed="rId4"/>
          <a:stretch/>
        </p:blipFill>
        <p:spPr>
          <a:xfrm>
            <a:off x="55785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4" name="Текст 1" descr=""/>
          <p:cNvPicPr/>
          <p:nvPr/>
        </p:nvPicPr>
        <p:blipFill>
          <a:blip r:embed="rId5"/>
          <a:stretch/>
        </p:blipFill>
        <p:spPr>
          <a:xfrm>
            <a:off x="3419640" y="2567160"/>
            <a:ext cx="20793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6" name="Заголовок 3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8" name="Заголовок 1" descr=""/>
          <p:cNvPicPr/>
          <p:nvPr/>
        </p:nvPicPr>
        <p:blipFill>
          <a:blip r:embed="rId2"/>
          <a:stretch/>
        </p:blipFill>
        <p:spPr>
          <a:xfrm>
            <a:off x="1328760" y="0"/>
            <a:ext cx="6632640" cy="483408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" descr=""/>
          <p:cNvPicPr/>
          <p:nvPr/>
        </p:nvPicPr>
        <p:blipFill>
          <a:blip r:embed="rId3"/>
          <a:stretch/>
        </p:blipFill>
        <p:spPr>
          <a:xfrm>
            <a:off x="-85680" y="5840280"/>
            <a:ext cx="6394320" cy="1176480"/>
          </a:xfrm>
          <a:prstGeom prst="rect">
            <a:avLst/>
          </a:prstGeom>
          <a:ln w="0">
            <a:noFill/>
          </a:ln>
        </p:spPr>
      </p:pic>
      <p:pic>
        <p:nvPicPr>
          <p:cNvPr id="450" name="02 - П. Булахов - Гори, гори, моя звезда.mp3" descr=""/>
          <p:cNvPicPr/>
          <p:nvPr/>
        </p:nvPicPr>
        <p:blipFill>
          <a:blip r:embed="rId4"/>
          <a:stretch/>
        </p:blipFill>
        <p:spPr>
          <a:xfrm>
            <a:off x="6443640" y="629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0963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2" name="Заголовок 1" descr=""/>
          <p:cNvPicPr/>
          <p:nvPr/>
        </p:nvPicPr>
        <p:blipFill>
          <a:blip r:embed="rId2"/>
          <a:stretch/>
        </p:blipFill>
        <p:spPr>
          <a:xfrm>
            <a:off x="1547640" y="262080"/>
            <a:ext cx="6626520" cy="519408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2" descr=""/>
          <p:cNvPicPr/>
          <p:nvPr/>
        </p:nvPicPr>
        <p:blipFill>
          <a:blip r:embed="rId3"/>
          <a:stretch/>
        </p:blipFill>
        <p:spPr>
          <a:xfrm>
            <a:off x="-182520" y="5956200"/>
            <a:ext cx="9144000" cy="1060560"/>
          </a:xfrm>
          <a:prstGeom prst="rect">
            <a:avLst/>
          </a:prstGeom>
          <a:ln w="0">
            <a:noFill/>
          </a:ln>
        </p:spPr>
      </p:pic>
      <p:pic>
        <p:nvPicPr>
          <p:cNvPr id="454" name="07 - М. Глинка - Я помню чудное мгновенье.mp3" descr=""/>
          <p:cNvPicPr/>
          <p:nvPr/>
        </p:nvPicPr>
        <p:blipFill>
          <a:blip r:embed="rId4"/>
          <a:stretch/>
        </p:blipFill>
        <p:spPr>
          <a:xfrm>
            <a:off x="8353440" y="627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08844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1695600" y="-390600"/>
            <a:ext cx="66261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8" name="Заголовок 4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6"/>
          <p:cNvSpPr/>
          <p:nvPr/>
        </p:nvSpPr>
        <p:spPr>
          <a:xfrm>
            <a:off x="1403280" y="206064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Знакомые звуки, чудесные зву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О, сколько вам силы да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Прошедшее счастье, прошедшие музы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И радость свидания, и слёзы разлук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Вам все воскресить сужд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mic Sans MS"/>
              </a:rPr>
              <a:t>А.Плеще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1116000" y="0"/>
            <a:ext cx="6411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835280" y="0"/>
            <a:ext cx="6632280" cy="21938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" descr="Александр Егорович Варламов.jpg"/>
          <p:cNvPicPr/>
          <p:nvPr/>
        </p:nvPicPr>
        <p:blipFill>
          <a:blip r:embed="rId3"/>
          <a:stretch/>
        </p:blipFill>
        <p:spPr>
          <a:xfrm>
            <a:off x="250920" y="2133720"/>
            <a:ext cx="1904760" cy="24001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4"/>
          <p:cNvSpPr/>
          <p:nvPr/>
        </p:nvSpPr>
        <p:spPr>
          <a:xfrm>
            <a:off x="25092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А.Е.Варла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Прямоугольник 5" descr=""/>
          <p:cNvPicPr/>
          <p:nvPr/>
        </p:nvPicPr>
        <p:blipFill>
          <a:blip r:embed="rId4"/>
          <a:stretch/>
        </p:blipFill>
        <p:spPr>
          <a:xfrm>
            <a:off x="176040" y="4919760"/>
            <a:ext cx="5615280" cy="2084400"/>
          </a:xfrm>
          <a:prstGeom prst="rect">
            <a:avLst/>
          </a:prstGeom>
          <a:ln w="0">
            <a:noFill/>
          </a:ln>
        </p:spPr>
      </p:pic>
      <p:pic>
        <p:nvPicPr>
          <p:cNvPr id="467" name="05 - А. Варламов - Красный сарафан.mp3" descr=""/>
          <p:cNvPicPr/>
          <p:nvPr/>
        </p:nvPicPr>
        <p:blipFill>
          <a:blip r:embed="rId5"/>
          <a:stretch/>
        </p:blipFill>
        <p:spPr>
          <a:xfrm>
            <a:off x="5764320" y="621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25010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4:49:22Z</dcterms:created>
  <dc:creator>admin</dc:creator>
  <dc:description/>
  <dc:language>en-US</dc:language>
  <cp:lastModifiedBy>днс</cp:lastModifiedBy>
  <dcterms:modified xsi:type="dcterms:W3CDTF">2012-09-18T15:41:31Z</dcterms:modified>
  <cp:revision>36</cp:revision>
  <dc:subject/>
  <dc:title>Образы романсов и песен русских композиторов</dc:title>
</cp:coreProperties>
</file>