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4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C7A-D2D2-4A25-BE1E-70626576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D7D-C0FC-4AA5-8D87-410A386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127-DE31-4351-A9C6-7F403F3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ED6-F23F-47AA-A426-2A79F214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AB49-47D4-47C4-8394-F4D1DFAD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A56-7553-4ED3-A92C-3D32379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BF6B-9072-40DA-9CF3-276015A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5D39-6325-4DC2-B511-A96479A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9CC-3A24-4F40-9E41-8E9490E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F2DA-E5C1-4335-81F7-79970A5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9F9-A721-41C2-912C-F3876EC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86A-65A7-40E8-8178-9B74721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380-16AF-4D46-A4A8-AC3E31F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40CC-B287-408A-B1D0-B4ECEB60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61A-1144-4FF0-81C9-C810AE84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52EE-F2D3-407F-B2FF-92555F62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4B8-EBD3-4C42-B664-C5F558E5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353-DEF7-45AA-9529-8341AEB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FD1-79FD-4B54-9607-FB7EB81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F5A-B063-4D64-AD15-1797E69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E74-4056-4DB9-9ABB-80D4B50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5D0-FF47-4C3E-9025-E59A576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A7C-929D-4C14-9E64-A1EC202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469-1B55-499E-BB73-8F0C2E3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6F8-3502-4C23-9649-9285A6A389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4223-32F6-40FC-890F-1C1C3127D7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www.lgz.ru/archives/html_arch/lg162000/curent/img/para.jpg" TargetMode="External"/><Relationship Id="rId20" Type="http://schemas.openxmlformats.org/officeDocument/2006/relationships/image" Target="../media/image2.jpeg"/><Relationship Id="rId21" Type="http://schemas.openxmlformats.org/officeDocument/2006/relationships/hyperlink" Target="http://petrozavodsk.rfn.ru/p/m_2334.jpg" TargetMode="External"/><Relationship Id="rId22" Type="http://schemas.openxmlformats.org/officeDocument/2006/relationships/image" Target="../media/image3.jpeg"/><Relationship Id="rId23" Type="http://schemas.openxmlformats.org/officeDocument/2006/relationships/hyperlink" Target="http://www.portal-konakovo.ru/konakovo/history/kuznecovo/byt_krest.jpg" TargetMode="External"/><Relationship Id="rId24" Type="http://schemas.openxmlformats.org/officeDocument/2006/relationships/image" Target="../media/image4.jpeg"/><Relationship Id="rId25" Type="http://schemas.openxmlformats.org/officeDocument/2006/relationships/hyperlink" Target="http://s45.radikal.ru/i110/1002/18/7678baa74685.jpg" TargetMode="External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ruscenter.ru/i/kalen/foto/oct/kluev.jpg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onegaonline.ru/alboom/jpeg/207429696.jpg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img-fotki.yandex.ru/get/23/balashutka2007.1/0_94c2_752a54d9_XL" TargetMode="External"/><Relationship Id="rId30" Type="http://schemas.openxmlformats.org/officeDocument/2006/relationships/image" Target="../media/image37.jpeg"/><Relationship Id="rId3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hyperlink" Target="http://www.stihi.ru/pics/2009/10/22/4854.jpg" TargetMode="External"/><Relationship Id="rId26" Type="http://schemas.openxmlformats.org/officeDocument/2006/relationships/image" Target="../media/image18.jpeg"/><Relationship Id="rId27" Type="http://schemas.openxmlformats.org/officeDocument/2006/relationships/image" Target="../media/image38.jpeg"/><Relationship Id="rId28" Type="http://schemas.openxmlformats.org/officeDocument/2006/relationships/hyperlink" Target="http://chegepe999.svet999.ru/content/planet_log/protavvakum.jpg" TargetMode="External"/><Relationship Id="rId29" Type="http://schemas.openxmlformats.org/officeDocument/2006/relationships/image" Target="../media/image39.jpeg"/><Relationship Id="rId3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ve4fun.ru/pictures/img_11709891_44_4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sskayaizba.com/d/58676/d/0151.jpg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ladatur.ru/images/tropa/tropa_922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www.klychkov-sa.ru/images/photos/photo_15.jpg" TargetMode="External"/><Relationship Id="rId18" Type="http://schemas.openxmlformats.org/officeDocument/2006/relationships/image" Target="../media/image19.jpeg"/><Relationship Id="rId19" Type="http://schemas.openxmlformats.org/officeDocument/2006/relationships/hyperlink" Target="http://az.lib.ru/k/klychkow_s_a/.photo1.jpg" TargetMode="External"/><Relationship Id="rId20" Type="http://schemas.openxmlformats.org/officeDocument/2006/relationships/image" Target="../media/image44.jpe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hyperlink" Target="http://www.profiplot.ru/images/lb/b/bb/b75b.jpg" TargetMode="External"/><Relationship Id="rId12" Type="http://schemas.openxmlformats.org/officeDocument/2006/relationships/image" Target="../media/image31.jpeg"/><Relationship Id="rId13" Type="http://schemas.openxmlformats.org/officeDocument/2006/relationships/image" Target="../media/image45.jpe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3.png"/><Relationship Id="rId17" Type="http://schemas.openxmlformats.org/officeDocument/2006/relationships/hyperlink" Target="http://content.foto.mail.ru/mail/om6161/_blogs/i-1773.jpg" TargetMode="External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dic.academic.ru/pictures/enc_biography/m_23842.jpg" TargetMode="External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hyperlink" Target="http://img0.liveinternet.ru/images/attach/c/1/49/414/49414401_Nikitin_.jpg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ilya.gorod.tomsk.ru/uploads/2657/1238984817/surikovivzakh.jpg" TargetMode="External"/><Relationship Id="rId22" Type="http://schemas.openxmlformats.org/officeDocument/2006/relationships/image" Target="../media/image8.jpeg"/><Relationship Id="rId23" Type="http://schemas.openxmlformats.org/officeDocument/2006/relationships/image" Target="../media/image9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hyperlink" Target="http://upload.wikimedia.org/wikipedia/commons/c/c1/Maximov_Sick_Husband.jpg" TargetMode="External"/><Relationship Id="rId26" Type="http://schemas.openxmlformats.org/officeDocument/2006/relationships/image" Target="../media/image11.jpeg"/><Relationship Id="rId27" Type="http://schemas.openxmlformats.org/officeDocument/2006/relationships/hyperlink" Target="http://gubkin.info/uploads/posts/2010-03/1269880103_istina_o_zerne_4.jpg" TargetMode="External"/><Relationship Id="rId28" Type="http://schemas.openxmlformats.org/officeDocument/2006/relationships/image" Target="../media/image12.jpeg"/><Relationship Id="rId29" Type="http://schemas.openxmlformats.org/officeDocument/2006/relationships/hyperlink" Target="http://img-fotki.yandex.ru/get/3100/vvs-virgo.54/0_19391_7c947bd2_XL" TargetMode="External"/><Relationship Id="rId30" Type="http://schemas.openxmlformats.org/officeDocument/2006/relationships/image" Target="../media/image13.jpeg"/><Relationship Id="rId3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hyperlink" Target="http://www.newizv.ru/images/photos/big/20090227192853_1b.jpg" TargetMode="External"/><Relationship Id="rId16" Type="http://schemas.openxmlformats.org/officeDocument/2006/relationships/image" Target="../media/image15.jpeg"/><Relationship Id="rId17" Type="http://schemas.openxmlformats.org/officeDocument/2006/relationships/hyperlink" Target="http://nk-poety.narod.ru/images/gallery/022_b.gif" TargetMode="External"/><Relationship Id="rId18" Type="http://schemas.openxmlformats.org/officeDocument/2006/relationships/image" Target="../media/image16.png"/><Relationship Id="rId19" Type="http://schemas.openxmlformats.org/officeDocument/2006/relationships/hyperlink" Target="http://img0.liveinternet.ru/images/attach/b/2/1/346/1346725_esenin.jpg" TargetMode="External"/><Relationship Id="rId20" Type="http://schemas.openxmlformats.org/officeDocument/2006/relationships/image" Target="../media/image17.jpeg"/><Relationship Id="rId21" Type="http://schemas.openxmlformats.org/officeDocument/2006/relationships/hyperlink" Target="http://www.stihi.ru/pics/2009/10/22/4854.jpg" TargetMode="External"/><Relationship Id="rId22" Type="http://schemas.openxmlformats.org/officeDocument/2006/relationships/image" Target="../media/image18.jpeg"/><Relationship Id="rId23" Type="http://schemas.openxmlformats.org/officeDocument/2006/relationships/hyperlink" Target="http://www.klychkov-sa.ru/images/photos/photo_15.jpg" TargetMode="External"/><Relationship Id="rId24" Type="http://schemas.openxmlformats.org/officeDocument/2006/relationships/image" Target="../media/image19.jpeg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hyperlink" Target="http://sob.ru/upimg/issue/2204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dic.academic.ru/pictures/wiki/files/51/300px-belarus-smfal-stove.jpg" TargetMode="Externa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hyperlink" Target="http://www.koms2.iv-edu.ru/sait%20muzeja/images/PC113151.JPG" TargetMode="External"/><Relationship Id="rId16" Type="http://schemas.openxmlformats.org/officeDocument/2006/relationships/image" Target="../media/image24.jpeg"/><Relationship Id="rId17" Type="http://schemas.openxmlformats.org/officeDocument/2006/relationships/hyperlink" Target="http://img-fotki.yandex.ru/get/3005/evahist.12/0_1c3c6_3df715bb_XL" TargetMode="External"/><Relationship Id="rId18" Type="http://schemas.openxmlformats.org/officeDocument/2006/relationships/image" Target="../media/image25.jpeg"/><Relationship Id="rId19" Type="http://schemas.openxmlformats.org/officeDocument/2006/relationships/hyperlink" Target="http://live4fun.ru/pictures/img_11709891_44_4.jpg" TargetMode="External"/><Relationship Id="rId20" Type="http://schemas.openxmlformats.org/officeDocument/2006/relationships/image" Target="../media/image26.jpe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hyperlink" Target="http://img-fotki.yandex.ru/get/26/vakula87.8/0_ffe9_aef9377e_XL" TargetMode="External"/><Relationship Id="rId24" Type="http://schemas.openxmlformats.org/officeDocument/2006/relationships/image" Target="../media/image28.jpeg"/><Relationship Id="rId25" Type="http://schemas.openxmlformats.org/officeDocument/2006/relationships/hyperlink" Target="http://static.eva.ru/eva/220001-230000/222825/photoalbum/3496714.jpg" TargetMode="External"/><Relationship Id="rId26" Type="http://schemas.openxmlformats.org/officeDocument/2006/relationships/image" Target="../media/image29.jpeg"/><Relationship Id="rId27" Type="http://schemas.openxmlformats.org/officeDocument/2006/relationships/hyperlink" Target="http://img-fotki.yandex.ru/get/30/ashatan222007.f/0_16e8f_b36d21c8_XL" TargetMode="External"/><Relationship Id="rId28" Type="http://schemas.openxmlformats.org/officeDocument/2006/relationships/image" Target="../media/image30.jpeg"/><Relationship Id="rId29" Type="http://schemas.openxmlformats.org/officeDocument/2006/relationships/hyperlink" Target="http://www.profiplot.ru/images/lb/b/bb/b75b.jpg" TargetMode="External"/><Relationship Id="rId30" Type="http://schemas.openxmlformats.org/officeDocument/2006/relationships/image" Target="../media/image31.jpe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9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04920" y="9144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Картинка 25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19720" y="1752480"/>
            <a:ext cx="16477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42 из 71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67080" y="4343400"/>
            <a:ext cx="2133720" cy="169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36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15240" y="2362320"/>
            <a:ext cx="222876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12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0" y="30481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41148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Картинка 3 из 43839"/>
          <p:cNvPicPr/>
          <p:nvPr/>
        </p:nvPicPr>
        <p:blipFill>
          <a:blip r:embed="rId15"/>
          <a:srcRect l="0" t="0" r="9285" b="0"/>
          <a:stretch/>
        </p:blipFill>
        <p:spPr>
          <a:xfrm>
            <a:off x="0" y="1981080"/>
            <a:ext cx="2058840" cy="3276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666880" y="106668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Группа «Крас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Картинка 6 из 71"/>
          <p:cNvPicPr/>
          <p:nvPr/>
        </p:nvPicPr>
        <p:blipFill>
          <a:blip r:embed="rId16"/>
          <a:srcRect l="10485" t="-5812" r="9176" b="0"/>
          <a:stretch/>
        </p:blipFill>
        <p:spPr>
          <a:xfrm>
            <a:off x="2209680" y="1828800"/>
            <a:ext cx="2071800" cy="3276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743200" y="54864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Картинка 5 из 40"/>
          <p:cNvPicPr/>
          <p:nvPr/>
        </p:nvPicPr>
        <p:blipFill>
          <a:blip r:embed="rId17"/>
          <a:srcRect l="23811" t="0" r="0" b="0"/>
          <a:stretch/>
        </p:blipFill>
        <p:spPr>
          <a:xfrm>
            <a:off x="4419720" y="2057400"/>
            <a:ext cx="1773000" cy="3124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0" y="5410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.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541008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.Ре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Картинка 50 из 13874"/>
          <p:cNvPicPr/>
          <p:nvPr/>
        </p:nvPicPr>
        <p:blipFill>
          <a:blip r:embed="rId18"/>
          <a:srcRect l="12638" t="1992" r="21142" b="0"/>
          <a:stretch/>
        </p:blipFill>
        <p:spPr>
          <a:xfrm>
            <a:off x="6595920" y="2057400"/>
            <a:ext cx="254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41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1080" y="4572360"/>
            <a:ext cx="419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леденелыми губ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 росомашьими тропами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бормотал: "Святая Рус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бе и каторжной молюсь!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Картинка 48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04920" y="1523880"/>
            <a:ext cx="2481120" cy="3076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Картинка 64 из 65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486400" y="1523880"/>
            <a:ext cx="365760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Картинка 58 из 657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43400" y="4095720"/>
            <a:ext cx="3681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8390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0" y="3425760"/>
            <a:ext cx="7920" cy="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10320" y="1445400"/>
            <a:ext cx="533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Когда сложу свою вязан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Сосновых слов, медвежьих дум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«К костру готовьтесь спозаранку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ремел мой прадед Авваку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Картинка 6 из 71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57200" y="1600200"/>
            <a:ext cx="3300480" cy="3962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(1884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В.С. Щербаков. Поэт Николай Клюев. 1930"/>
          <p:cNvPicPr/>
          <p:nvPr/>
        </p:nvPicPr>
        <p:blipFill>
          <a:blip r:embed="rId27"/>
          <a:stretch/>
        </p:blipFill>
        <p:spPr>
          <a:xfrm>
            <a:off x="4648320" y="3429000"/>
            <a:ext cx="2438280" cy="2373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Картинка 17 из 3000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7137360" y="3429000"/>
            <a:ext cx="2006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4760"/>
            <a:ext cx="4611600" cy="74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гда осыпаются лип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раскосый и рыжий зак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кличет хозяйка «цып, цыпы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Осенних зобастых куря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грядках лысато и пуст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довеет в полях борозд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Лишь пузом упругим капуст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ак баба обновкой, горд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на воронья губернь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Ущербные листья — гро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огда предстают непомерне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Глухие проселки душ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Мерещится странником голос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д вьюгой, без верной клю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сердце в слезах раскололо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Дуплистой ветлой у рек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енастье и косит, и губи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На кляче ребрастой верх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 в дедовском кондовом сруб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Беда покумилась с кот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Кошачье, «мяу», в половица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ростужена старая печ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В былое ли внуку укрытьс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Иль в новое мышкой утечь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ам лета грозовые кон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Тучны золотые овсы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Согреть бы, как душу, ладон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Пожаром девичьей ко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Картинка 33 из 64000">
            <a:hlinkClick r:id="rId1"/>
          </p:cNvPr>
          <p:cNvPicPr/>
          <p:nvPr/>
        </p:nvPicPr>
        <p:blipFill>
          <a:blip r:embed="rId2"/>
          <a:srcRect l="3005" t="4397" r="5443" b="5494"/>
          <a:stretch/>
        </p:blipFill>
        <p:spPr>
          <a:xfrm>
            <a:off x="4343400" y="35053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Картинка 2 из 20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52280"/>
            <a:ext cx="4295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-380880" y="-148680"/>
            <a:ext cx="579096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т кудрявых стружек тянет смоль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Духовит, как улей, белый сруб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ый плотник тешет кол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 слова медлителен и скуп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ёпел паз, захватисты кок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утолоб тесовый шоломо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удут рябью писаны подзор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лудянкой выпестрен конё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стене, как зернь, пройдут зарубки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укрест, лапки, крапица, ряд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Чтоб избе-молодке в красной щубк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Явь и сонь мерещились - легк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репкогруд строитель-тайновид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еред ним щепа как письмена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Запоет резная пава с крылец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Брызнет ярь с наличника окн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когда очёсками куде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ад избой взлохматится дымок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каз пойдет о красном древодел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о лесам, на запад и вост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Картинка 135 из 2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1160" y="0"/>
            <a:ext cx="3552840" cy="2666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Картинка 2 из 2098">
            <a:hlinkClick r:id="rId3"/>
          </p:cNvPr>
          <p:cNvPicPr/>
          <p:nvPr/>
        </p:nvPicPr>
        <p:blipFill>
          <a:blip r:embed="rId4"/>
          <a:srcRect l="0" t="2109" r="47935" b="24209"/>
          <a:stretch/>
        </p:blipFill>
        <p:spPr>
          <a:xfrm>
            <a:off x="4724280" y="2666880"/>
            <a:ext cx="3951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12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0" name="" descr="Картинка 5 из 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523880" y="2133720"/>
            <a:ext cx="2838600" cy="380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914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Клычков (Лешенков) Сергей Антонович (1889-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Картинка 2 из 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181480" y="2133720"/>
            <a:ext cx="236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431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0" y="989280"/>
            <a:ext cx="495288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...Жевать с серьезностью кус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януть большою ложкой тюр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покойно слушая ба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бирающейся за ночь бур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хорошо, когда в семь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де сын — жених, а дочь — невес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Уж не хватает на скам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д старою божницей места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гда, избыв судьбу, как вс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е в диво встретить смерть под веч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Как жницу в молодом ов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 серпом, закинутым на плеч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19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Картинка 78 из 54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609480"/>
            <a:ext cx="4495680" cy="321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3"/>
          <a:stretch/>
        </p:blipFill>
        <p:spPr>
          <a:xfrm>
            <a:off x="6675480" y="3352680"/>
            <a:ext cx="2468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6045120"/>
            <a:ext cx="9143640" cy="812880"/>
            <a:chOff x="0" y="6045120"/>
            <a:chExt cx="9143640" cy="81288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1122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23259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4"/>
            <a:stretch/>
          </p:blipFill>
          <p:spPr>
            <a:xfrm>
              <a:off x="344916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5"/>
            <a:stretch/>
          </p:blipFill>
          <p:spPr>
            <a:xfrm>
              <a:off x="457164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6"/>
            <a:stretch/>
          </p:blipFill>
          <p:spPr>
            <a:xfrm>
              <a:off x="56944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7"/>
            <a:stretch/>
          </p:blipFill>
          <p:spPr>
            <a:xfrm>
              <a:off x="681768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8"/>
            <a:stretch/>
          </p:blipFill>
          <p:spPr>
            <a:xfrm>
              <a:off x="7940520" y="604512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360" y="0"/>
            <a:ext cx="9143640" cy="812880"/>
            <a:chOff x="360" y="0"/>
            <a:chExt cx="9143640" cy="812880"/>
          </a:xfrm>
        </p:grpSpPr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794088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6818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56149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449172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336924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22464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112320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360" y="0"/>
              <a:ext cx="120312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228600" y="291600"/>
            <a:ext cx="449568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.Клыч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умрак сизый на дозо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стороже у воро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Только в утренние з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оловей в саду поё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 на посвист соловьи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шь спадёт туман сед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таённою троп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Ходит Лада за вод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а ходу скрипит ведерц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А в саду роса блес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о чём у тайной двер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ердце девичье грустит?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озабыв о коромы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И не сняв его с пл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Смотрит Лада, как пови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Листья, плача и шепча!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191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Картинка 5 из 1031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038480" y="1295280"/>
            <a:ext cx="51055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-762120" y="1417680"/>
            <a:ext cx="9677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от потому я Русь и слав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в срок готов приять и сне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лупый смех, и злую трав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гибели лихую весть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Клыч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762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1523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3048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6"/>
            <a:stretch/>
          </p:blipFill>
          <p:spPr>
            <a:xfrm>
              <a:off x="3809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7"/>
            <a:stretch/>
          </p:blipFill>
          <p:spPr>
            <a:xfrm>
              <a:off x="4572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8"/>
            <a:stretch/>
          </p:blipFill>
          <p:spPr>
            <a:xfrm>
              <a:off x="5334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9"/>
            <a:stretch/>
          </p:blipFill>
          <p:spPr>
            <a:xfrm>
              <a:off x="6095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0"/>
            <a:stretch/>
          </p:blipFill>
          <p:spPr>
            <a:xfrm>
              <a:off x="685800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1"/>
            <a:stretch/>
          </p:blipFill>
          <p:spPr>
            <a:xfrm>
              <a:off x="7620120" y="60958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2"/>
            <a:stretch/>
          </p:blipFill>
          <p:spPr>
            <a:xfrm>
              <a:off x="8381880" y="6095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0" y="-360"/>
            <a:ext cx="9144000" cy="762120"/>
            <a:chOff x="0" y="-360"/>
            <a:chExt cx="9144000" cy="762120"/>
          </a:xfrm>
        </p:grpSpPr>
        <p:pic>
          <p:nvPicPr>
            <p:cNvPr id="475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81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620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858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6095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334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572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809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3048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28600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52388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762120" y="-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-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в русской литер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Картинка 371 из 54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" y="167652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Некр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05740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ому на Руси жить хорош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Крестьянские де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Дере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Несжатая поло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В полном разгаре страда деревенская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937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естьянская те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 русской литературе 19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132600"/>
            <a:ext cx="9143640" cy="725400"/>
            <a:chOff x="0" y="6132600"/>
            <a:chExt cx="9143640" cy="725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245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20491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740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40989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512352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6148440" y="613260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717336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8119440" y="613260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360" y="-360"/>
            <a:ext cx="9143640" cy="725400"/>
            <a:chOff x="360" y="-360"/>
            <a:chExt cx="9143640" cy="725400"/>
          </a:xfrm>
        </p:grpSpPr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811944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70952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60703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50454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40208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299592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1971000" y="-360"/>
              <a:ext cx="102456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94644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60" y="-360"/>
              <a:ext cx="1024200" cy="7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Картинка 1 из 2802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1905120"/>
            <a:ext cx="220176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40080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Саввич Ник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Картинка 1 из 42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429000" y="20574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4864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ван Захарович 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3"/>
          <a:stretch/>
        </p:blipFill>
        <p:spPr>
          <a:xfrm>
            <a:off x="228600" y="19051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5410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ей Васильевич Коль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о всё, что грязного есть в жизни самой б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 горе, и разгул, кровавый пот труд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орок и плач нужды, оборванной и бледн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Я видел вкруг себя с младенческих год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Ник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600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362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31240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38862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7"/>
            <a:stretch/>
          </p:blipFill>
          <p:spPr>
            <a:xfrm>
              <a:off x="46483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5486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6248520" y="601992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701028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1"/>
            <a:stretch/>
          </p:blipFill>
          <p:spPr>
            <a:xfrm>
              <a:off x="77724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2"/>
            <a:stretch/>
          </p:blipFill>
          <p:spPr>
            <a:xfrm>
              <a:off x="8335800" y="601992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17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83358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7497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6735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5973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52117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44496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36878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2849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2087640" y="0"/>
              <a:ext cx="807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132552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3"/>
            <a:stretch/>
          </p:blipFill>
          <p:spPr>
            <a:xfrm rot="10800000">
              <a:off x="56340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4"/>
            <a:stretch/>
          </p:blipFill>
          <p:spPr>
            <a:xfrm rot="10800000">
              <a:off x="0" y="0"/>
              <a:ext cx="8082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380880" y="4114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Эх ты, доля, эх ты, дол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Доля бедня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 ты, безотрад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Тяжела, горь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И.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Картинка 183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505320" y="2209680"/>
            <a:ext cx="3809880" cy="303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176 из 540">
            <a:hlinkClick r:id="rId27"/>
          </p:cNvPr>
          <p:cNvPicPr/>
          <p:nvPr/>
        </p:nvPicPr>
        <p:blipFill>
          <a:blip r:embed="rId28"/>
          <a:srcRect l="9529" t="622" r="3309" b="26956"/>
          <a:stretch/>
        </p:blipFill>
        <p:spPr>
          <a:xfrm>
            <a:off x="5638680" y="4103640"/>
            <a:ext cx="3505320" cy="2754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Картинка 112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1523880"/>
            <a:ext cx="30481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113520"/>
            <a:ext cx="9143640" cy="744480"/>
            <a:chOff x="0" y="6113520"/>
            <a:chExt cx="9143640" cy="744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2840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265716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3907440" y="611352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52362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656460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>
              <a:off x="7815240" y="611352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60" y="0"/>
            <a:ext cx="9143640" cy="744480"/>
            <a:chOff x="360" y="0"/>
            <a:chExt cx="9143640" cy="744480"/>
          </a:xfrm>
        </p:grpSpPr>
        <p:pic>
          <p:nvPicPr>
            <p:cNvPr id="205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156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48684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15844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07800" y="0"/>
              <a:ext cx="13287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5794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25100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360" y="0"/>
              <a:ext cx="1328400" cy="7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Картинка 12 из 5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09880" y="1295280"/>
            <a:ext cx="1667160" cy="2676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14800" y="457200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Пётр Васильевич Оре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2 из 135">
            <a:hlinkClick r:id="rId17"/>
          </p:cNvPr>
          <p:cNvPicPr/>
          <p:nvPr/>
        </p:nvPicPr>
        <p:blipFill>
          <a:blip r:embed="rId18"/>
          <a:srcRect l="13607" t="6466" r="13103" b="18157"/>
          <a:stretch/>
        </p:blipFill>
        <p:spPr>
          <a:xfrm>
            <a:off x="0" y="1295280"/>
            <a:ext cx="1905120" cy="2667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-304920" y="457200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Александр Васильевич Ширяеве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7-192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3 из 43839">
            <a:hlinkClick r:id="rId19"/>
          </p:cNvPr>
          <p:cNvPicPr/>
          <p:nvPr/>
        </p:nvPicPr>
        <p:blipFill>
          <a:blip r:embed="rId20"/>
          <a:srcRect l="0" t="0" r="9285" b="0"/>
          <a:stretch/>
        </p:blipFill>
        <p:spPr>
          <a:xfrm>
            <a:off x="1981080" y="1295280"/>
            <a:ext cx="1676520" cy="2667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685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овокрестьянская поэзия     ( начало 20 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495680"/>
            <a:ext cx="1904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лександрович 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95-19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Картинка 6 из 71">
            <a:hlinkClick r:id="rId21"/>
          </p:cNvPr>
          <p:cNvPicPr/>
          <p:nvPr/>
        </p:nvPicPr>
        <p:blipFill>
          <a:blip r:embed="rId22"/>
          <a:srcRect l="10485" t="-5812" r="9176" b="0"/>
          <a:stretch/>
        </p:blipFill>
        <p:spPr>
          <a:xfrm>
            <a:off x="5638680" y="1219320"/>
            <a:ext cx="1752840" cy="27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867280" y="4495680"/>
            <a:ext cx="1447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Николай Алексеевич Клю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(1884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Картинка 5 из 40">
            <a:hlinkClick r:id="rId23"/>
          </p:cNvPr>
          <p:cNvPicPr/>
          <p:nvPr/>
        </p:nvPicPr>
        <p:blipFill>
          <a:blip r:embed="rId24"/>
          <a:srcRect l="23811" t="0" r="0" b="0"/>
          <a:stretch/>
        </p:blipFill>
        <p:spPr>
          <a:xfrm>
            <a:off x="7543800" y="129528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0120" y="4419720"/>
            <a:ext cx="1523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ергей Антонович Клы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(1889-19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3880" y="-533520"/>
          <a:ext cx="8001000" cy="720900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.Есенин. В ха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ахнет рыхлыми драченами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порога в дежке квас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печурками точеным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раканы лезут в паз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ьется сажа над заслонкою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печке нитки попелиц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на лавке за солонкою 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елуха сырых яиц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ть с ухватами не сладится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гибается низко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арый кот к махотке крадетс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парное молоко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вохчут куры беспокойн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 оглоблями сохи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 дворе обедню стройную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евают петух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 в окне на сени скатые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 пугливой шумоты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 углов щенки кудлаты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ползают в хому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0" y="-1295280"/>
            <a:ext cx="685800" cy="9144000"/>
            <a:chOff x="0" y="-1295280"/>
            <a:chExt cx="685800" cy="9144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-437760" y="67248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-437760" y="5276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-437760" y="375300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438120" y="2228760"/>
              <a:ext cx="1562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-437760" y="704880"/>
              <a:ext cx="1562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437760" y="-857160"/>
              <a:ext cx="15620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" descr="Картинка 178 из 5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Картинка 122 из 5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36840" y="2286000"/>
            <a:ext cx="341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6126120"/>
            <a:ext cx="9144000" cy="731880"/>
            <a:chOff x="0" y="6126120"/>
            <a:chExt cx="9144000" cy="7318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130644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261288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3919680" y="612612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5224320" y="612612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6477120" y="612612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7837560" y="612612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0" y="-360"/>
            <a:ext cx="9144000" cy="731880"/>
            <a:chOff x="0" y="-360"/>
            <a:chExt cx="9144000" cy="731880"/>
          </a:xfrm>
        </p:grpSpPr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783756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653112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522432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3919680" y="-360"/>
              <a:ext cx="1304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2612880" y="-360"/>
              <a:ext cx="1306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306440" y="-360"/>
              <a:ext cx="13604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0" y="-360"/>
              <a:ext cx="130644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" descr="Картинка 228 из 54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95680" y="152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259 из 54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0880" y="838080"/>
            <a:ext cx="3886200" cy="518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33 из 64000">
            <a:hlinkClick r:id="rId19"/>
          </p:cNvPr>
          <p:cNvPicPr/>
          <p:nvPr/>
        </p:nvPicPr>
        <p:blipFill>
          <a:blip r:embed="rId20"/>
          <a:srcRect l="3005" t="4397" r="5443" b="5494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11440" y="2173320"/>
            <a:ext cx="516888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6765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25146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33526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41911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50292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8"/>
            <a:stretch/>
          </p:blipFill>
          <p:spPr>
            <a:xfrm>
              <a:off x="5867280" y="60199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67057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754380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1"/>
            <a:stretch/>
          </p:blipFill>
          <p:spPr>
            <a:xfrm>
              <a:off x="8305920" y="601992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3059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74674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4"/>
            <a:stretch/>
          </p:blipFill>
          <p:spPr>
            <a:xfrm rot="10800000">
              <a:off x="66294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5"/>
            <a:stretch/>
          </p:blipFill>
          <p:spPr>
            <a:xfrm rot="10800000">
              <a:off x="57913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6"/>
            <a:stretch/>
          </p:blipFill>
          <p:spPr>
            <a:xfrm rot="10800000">
              <a:off x="49528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7"/>
            <a:stretch/>
          </p:blipFill>
          <p:spPr>
            <a:xfrm rot="10800000">
              <a:off x="41148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8"/>
            <a:stretch/>
          </p:blipFill>
          <p:spPr>
            <a:xfrm rot="10800000">
              <a:off x="32767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9"/>
            <a:stretch/>
          </p:blipFill>
          <p:spPr>
            <a:xfrm rot="10800000">
              <a:off x="2438280" y="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0"/>
            <a:stretch/>
          </p:blipFill>
          <p:spPr>
            <a:xfrm rot="10800000">
              <a:off x="160020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1"/>
            <a:stretch/>
          </p:blipFill>
          <p:spPr>
            <a:xfrm rot="10800000">
              <a:off x="76212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2"/>
            <a:stretch/>
          </p:blipFill>
          <p:spPr>
            <a:xfrm rot="10800000">
              <a:off x="0" y="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0" y="7621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Картинка 245 из 540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0" y="3352680"/>
            <a:ext cx="3962520" cy="2973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Картинка 337 из 540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858000" y="914400"/>
            <a:ext cx="2111400" cy="502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Картинка 274 из 3210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114800" y="17524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Картинка 78 из 540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0" y="380880"/>
            <a:ext cx="40622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6143760"/>
            <a:ext cx="9143640" cy="714240"/>
            <a:chOff x="0" y="6143760"/>
            <a:chExt cx="9143640" cy="7142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84044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602748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421416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4012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 rot="16200000">
              <a:off x="588600" y="55548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360" y="0"/>
            <a:ext cx="9143640" cy="714240"/>
            <a:chOff x="360" y="0"/>
            <a:chExt cx="9143640" cy="714240"/>
          </a:xfrm>
        </p:grpSpPr>
        <p:pic>
          <p:nvPicPr>
            <p:cNvPr id="292" name="" descr=""/>
            <p:cNvPicPr/>
            <p:nvPr/>
          </p:nvPicPr>
          <p:blipFill>
            <a:blip r:embed="rId6"/>
            <a:stretch/>
          </p:blipFill>
          <p:spPr>
            <a:xfrm rot="5400000">
              <a:off x="58896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"/>
            <a:stretch/>
          </p:blipFill>
          <p:spPr>
            <a:xfrm rot="5400000">
              <a:off x="240192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21524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60282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7840800" y="-588600"/>
              <a:ext cx="71424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3429000" y="2819520"/>
            <a:ext cx="5486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90720"/>
            <a:ext cx="86104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Гордость за многовековую богатую национальную культуру, за народ как хранитель духовных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оэтизация крестьянского б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Адекватное изображение народной жизни  с учётом особенностей местного быта, говора,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Продолжение фольклорных тради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7T22:4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