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4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8CB-1AEF-4837-BB26-564AD16C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2C9-6F6A-46D4-ADD9-A9FEEB7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631-5572-486E-8D32-70E92161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13E-61C5-4AA3-963B-A750086F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CF14-63D4-48F9-9BB3-6B896A95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A375-945A-4F4F-92B6-FEFB08F8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436D-597A-48AE-9126-281AE7DD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9D2F-CD4A-4DE5-BCE8-BFFC645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742A-7D2A-478A-9CDE-22E9282C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8EB0-069E-4498-A41E-04D204E5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7948-2CD3-4944-B924-C6A2C88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0E6-1FEB-4791-9D06-1236F31B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A245-DA31-4506-A922-76B0CA2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65AA-5B61-4785-9EEE-7ACED13C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9A3A-EB3A-4474-8551-ACC12930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D867-E567-4260-AB67-759BD85A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C25E-92D0-4797-8AB4-6E4EBEC0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70C-49EF-45A8-A2DC-54925C33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668-A582-40F0-8FD9-8CBBEF71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C03-CD8B-4105-A1BF-DB819A08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88E-C64C-47BA-A97A-48490006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E92-CE6E-432F-9AB5-2DFCF12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4B8-5129-43BB-844D-C075AB48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E7C-0A10-4606-973B-2388B062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1C16-3FB3-4804-8D63-67E85D730E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8003-EBEE-4F96-8FE1-54D26C9548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hyperlink" Target="http://www.lgz.ru/archives/html_arch/lg162000/curent/img/para.jpg" TargetMode="External"/><Relationship Id="rId20" Type="http://schemas.openxmlformats.org/officeDocument/2006/relationships/image" Target="../media/image2.jpeg"/><Relationship Id="rId21" Type="http://schemas.openxmlformats.org/officeDocument/2006/relationships/hyperlink" Target="http://petrozavodsk.rfn.ru/p/m_2334.jpg" TargetMode="External"/><Relationship Id="rId22" Type="http://schemas.openxmlformats.org/officeDocument/2006/relationships/image" Target="../media/image3.jpeg"/><Relationship Id="rId23" Type="http://schemas.openxmlformats.org/officeDocument/2006/relationships/hyperlink" Target="http://www.portal-konakovo.ru/konakovo/history/kuznecovo/byt_krest.jpg" TargetMode="External"/><Relationship Id="rId24" Type="http://schemas.openxmlformats.org/officeDocument/2006/relationships/image" Target="../media/image4.jpeg"/><Relationship Id="rId25" Type="http://schemas.openxmlformats.org/officeDocument/2006/relationships/hyperlink" Target="http://s45.radikal.ru/i110/1002/18/7678baa74685.jpg" TargetMode="External"/><Relationship Id="rId26" Type="http://schemas.openxmlformats.org/officeDocument/2006/relationships/image" Target="../media/image5.jpeg"/><Relationship Id="rId2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hyperlink" Target="http://www.ruscenter.ru/i/kalen/foto/oct/kluev.jpg" TargetMode="External"/><Relationship Id="rId26" Type="http://schemas.openxmlformats.org/officeDocument/2006/relationships/image" Target="../media/image35.jpeg"/><Relationship Id="rId27" Type="http://schemas.openxmlformats.org/officeDocument/2006/relationships/hyperlink" Target="http://www.onegaonline.ru/alboom/jpeg/207429696.jpg" TargetMode="External"/><Relationship Id="rId28" Type="http://schemas.openxmlformats.org/officeDocument/2006/relationships/image" Target="../media/image36.jpeg"/><Relationship Id="rId29" Type="http://schemas.openxmlformats.org/officeDocument/2006/relationships/hyperlink" Target="http://img-fotki.yandex.ru/get/23/balashutka2007.1/0_94c2_752a54d9_XL" TargetMode="External"/><Relationship Id="rId30" Type="http://schemas.openxmlformats.org/officeDocument/2006/relationships/image" Target="../media/image37.jpeg"/><Relationship Id="rId3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hyperlink" Target="http://www.stihi.ru/pics/2009/10/22/4854.jpg" TargetMode="External"/><Relationship Id="rId26" Type="http://schemas.openxmlformats.org/officeDocument/2006/relationships/image" Target="../media/image18.jpeg"/><Relationship Id="rId27" Type="http://schemas.openxmlformats.org/officeDocument/2006/relationships/image" Target="../media/image38.jpeg"/><Relationship Id="rId28" Type="http://schemas.openxmlformats.org/officeDocument/2006/relationships/hyperlink" Target="http://chegepe999.svet999.ru/content/planet_log/protavvakum.jpg" TargetMode="External"/><Relationship Id="rId29" Type="http://schemas.openxmlformats.org/officeDocument/2006/relationships/image" Target="../media/image39.jpeg"/><Relationship Id="rId3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ive4fun.ru/pictures/img_11709891_44_4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ladatur.ru/images/tropa/tropa_922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sskayaizba.com/d/58676/d/0151.jpg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www.ladatur.ru/images/tropa/tropa_922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3.png"/><Relationship Id="rId17" Type="http://schemas.openxmlformats.org/officeDocument/2006/relationships/hyperlink" Target="http://www.klychkov-sa.ru/images/photos/photo_15.jpg" TargetMode="External"/><Relationship Id="rId18" Type="http://schemas.openxmlformats.org/officeDocument/2006/relationships/image" Target="../media/image19.jpeg"/><Relationship Id="rId19" Type="http://schemas.openxmlformats.org/officeDocument/2006/relationships/hyperlink" Target="http://az.lib.ru/k/klychkow_s_a/.photo1.jpg" TargetMode="External"/><Relationship Id="rId20" Type="http://schemas.openxmlformats.org/officeDocument/2006/relationships/image" Target="../media/image44.jpeg"/><Relationship Id="rId2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hyperlink" Target="http://www.profiplot.ru/images/lb/b/bb/b75b.jpg" TargetMode="External"/><Relationship Id="rId12" Type="http://schemas.openxmlformats.org/officeDocument/2006/relationships/image" Target="../media/image31.jpeg"/><Relationship Id="rId13" Type="http://schemas.openxmlformats.org/officeDocument/2006/relationships/image" Target="../media/image45.jpeg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3.png"/><Relationship Id="rId17" Type="http://schemas.openxmlformats.org/officeDocument/2006/relationships/hyperlink" Target="http://content.foto.mail.ru/mail/om6161/_blogs/i-1773.jpg" TargetMode="External"/><Relationship Id="rId18" Type="http://schemas.openxmlformats.org/officeDocument/2006/relationships/image" Target="../media/image46.jpeg"/><Relationship Id="rId1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hyperlink" Target="http://dic.academic.ru/pictures/enc_biography/m_23842.jpg" TargetMode="External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hyperlink" Target="http://img0.liveinternet.ru/images/attach/c/1/49/414/49414401_Nikitin_.jpg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ilya.gorod.tomsk.ru/uploads/2657/1238984817/surikovivzakh.jpg" TargetMode="External"/><Relationship Id="rId22" Type="http://schemas.openxmlformats.org/officeDocument/2006/relationships/image" Target="../media/image8.jpeg"/><Relationship Id="rId23" Type="http://schemas.openxmlformats.org/officeDocument/2006/relationships/image" Target="../media/image9.jpeg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hyperlink" Target="http://upload.wikimedia.org/wikipedia/commons/c/c1/Maximov_Sick_Husband.jpg" TargetMode="External"/><Relationship Id="rId26" Type="http://schemas.openxmlformats.org/officeDocument/2006/relationships/image" Target="../media/image11.jpeg"/><Relationship Id="rId27" Type="http://schemas.openxmlformats.org/officeDocument/2006/relationships/hyperlink" Target="http://gubkin.info/uploads/posts/2010-03/1269880103_istina_o_zerne_4.jpg" TargetMode="External"/><Relationship Id="rId28" Type="http://schemas.openxmlformats.org/officeDocument/2006/relationships/image" Target="../media/image12.jpeg"/><Relationship Id="rId29" Type="http://schemas.openxmlformats.org/officeDocument/2006/relationships/hyperlink" Target="http://img-fotki.yandex.ru/get/3100/vvs-virgo.54/0_19391_7c947bd2_XL" TargetMode="External"/><Relationship Id="rId30" Type="http://schemas.openxmlformats.org/officeDocument/2006/relationships/image" Target="../media/image13.jpeg"/><Relationship Id="rId3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hyperlink" Target="http://www.newizv.ru/images/photos/big/20090227192853_1b.jpg" TargetMode="External"/><Relationship Id="rId16" Type="http://schemas.openxmlformats.org/officeDocument/2006/relationships/image" Target="../media/image15.jpeg"/><Relationship Id="rId17" Type="http://schemas.openxmlformats.org/officeDocument/2006/relationships/hyperlink" Target="http://nk-poety.narod.ru/images/gallery/022_b.gif" TargetMode="External"/><Relationship Id="rId18" Type="http://schemas.openxmlformats.org/officeDocument/2006/relationships/image" Target="../media/image16.png"/><Relationship Id="rId19" Type="http://schemas.openxmlformats.org/officeDocument/2006/relationships/hyperlink" Target="http://img0.liveinternet.ru/images/attach/b/2/1/346/1346725_esenin.jpg" TargetMode="External"/><Relationship Id="rId20" Type="http://schemas.openxmlformats.org/officeDocument/2006/relationships/image" Target="../media/image17.jpeg"/><Relationship Id="rId21" Type="http://schemas.openxmlformats.org/officeDocument/2006/relationships/hyperlink" Target="http://www.stihi.ru/pics/2009/10/22/4854.jpg" TargetMode="External"/><Relationship Id="rId22" Type="http://schemas.openxmlformats.org/officeDocument/2006/relationships/image" Target="../media/image18.jpeg"/><Relationship Id="rId23" Type="http://schemas.openxmlformats.org/officeDocument/2006/relationships/hyperlink" Target="http://www.klychkov-sa.ru/images/photos/photo_15.jpg" TargetMode="External"/><Relationship Id="rId24" Type="http://schemas.openxmlformats.org/officeDocument/2006/relationships/image" Target="../media/image19.jpeg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hyperlink" Target="http://sob.ru/upimg/issue/2204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dic.academic.ru/pictures/wiki/files/51/300px-belarus-smfal-stove.jpg" TargetMode="Externa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hyperlink" Target="http://www.koms2.iv-edu.ru/sait%20muzeja/images/PC113151.JPG" TargetMode="External"/><Relationship Id="rId16" Type="http://schemas.openxmlformats.org/officeDocument/2006/relationships/image" Target="../media/image24.jpeg"/><Relationship Id="rId17" Type="http://schemas.openxmlformats.org/officeDocument/2006/relationships/hyperlink" Target="http://img-fotki.yandex.ru/get/3005/evahist.12/0_1c3c6_3df715bb_XL" TargetMode="External"/><Relationship Id="rId18" Type="http://schemas.openxmlformats.org/officeDocument/2006/relationships/image" Target="../media/image25.jpeg"/><Relationship Id="rId19" Type="http://schemas.openxmlformats.org/officeDocument/2006/relationships/hyperlink" Target="http://live4fun.ru/pictures/img_11709891_44_4.jpg" TargetMode="External"/><Relationship Id="rId20" Type="http://schemas.openxmlformats.org/officeDocument/2006/relationships/image" Target="../media/image26.jpeg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hyperlink" Target="http://img-fotki.yandex.ru/get/26/vakula87.8/0_ffe9_aef9377e_XL" TargetMode="External"/><Relationship Id="rId24" Type="http://schemas.openxmlformats.org/officeDocument/2006/relationships/image" Target="../media/image28.jpeg"/><Relationship Id="rId25" Type="http://schemas.openxmlformats.org/officeDocument/2006/relationships/hyperlink" Target="http://static.eva.ru/eva/220001-230000/222825/photoalbum/3496714.jpg" TargetMode="External"/><Relationship Id="rId26" Type="http://schemas.openxmlformats.org/officeDocument/2006/relationships/image" Target="../media/image29.jpeg"/><Relationship Id="rId27" Type="http://schemas.openxmlformats.org/officeDocument/2006/relationships/hyperlink" Target="http://img-fotki.yandex.ru/get/30/ashatan222007.f/0_16e8f_b36d21c8_XL" TargetMode="External"/><Relationship Id="rId28" Type="http://schemas.openxmlformats.org/officeDocument/2006/relationships/image" Target="../media/image30.jpeg"/><Relationship Id="rId29" Type="http://schemas.openxmlformats.org/officeDocument/2006/relationships/hyperlink" Target="http://www.profiplot.ru/images/lb/b/bb/b75b.jpg" TargetMode="External"/><Relationship Id="rId30" Type="http://schemas.openxmlformats.org/officeDocument/2006/relationships/image" Target="../media/image31.jpeg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6132600"/>
            <a:ext cx="9143640" cy="725400"/>
            <a:chOff x="0" y="6132600"/>
            <a:chExt cx="9143640" cy="7254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10245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20491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30740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40989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51235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7"/>
            <a:stretch/>
          </p:blipFill>
          <p:spPr>
            <a:xfrm>
              <a:off x="61484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8"/>
            <a:stretch/>
          </p:blipFill>
          <p:spPr>
            <a:xfrm>
              <a:off x="71733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9"/>
            <a:stretch/>
          </p:blipFill>
          <p:spPr>
            <a:xfrm>
              <a:off x="811944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360" y="-360"/>
            <a:ext cx="9143640" cy="725400"/>
            <a:chOff x="360" y="-360"/>
            <a:chExt cx="9143640" cy="725400"/>
          </a:xfrm>
        </p:grpSpPr>
        <p:pic>
          <p:nvPicPr>
            <p:cNvPr id="9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811944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70952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703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50454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40208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29959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19710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9464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6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04920" y="91440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Arial"/>
              </a:rPr>
              <a:t>Новокрестьянская поэз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Картинка 25 из 4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419720" y="1752480"/>
            <a:ext cx="164772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42 из 71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267080" y="4343400"/>
            <a:ext cx="2133720" cy="169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36 из 540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915240" y="2362320"/>
            <a:ext cx="2228760" cy="3809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123 из 540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0" y="30481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6113520"/>
            <a:ext cx="9143640" cy="744480"/>
            <a:chOff x="0" y="6113520"/>
            <a:chExt cx="9143640" cy="74448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132840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265716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390744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5"/>
            <a:stretch/>
          </p:blipFill>
          <p:spPr>
            <a:xfrm>
              <a:off x="52362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6"/>
            <a:stretch/>
          </p:blipFill>
          <p:spPr>
            <a:xfrm>
              <a:off x="65646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7"/>
            <a:stretch/>
          </p:blipFill>
          <p:spPr>
            <a:xfrm>
              <a:off x="781524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360" y="0"/>
            <a:ext cx="9143640" cy="744480"/>
            <a:chOff x="360" y="0"/>
            <a:chExt cx="9143640" cy="744480"/>
          </a:xfrm>
        </p:grpSpPr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78156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48684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515844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90780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25794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2510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36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411480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Картинка 3 из 43839"/>
          <p:cNvPicPr/>
          <p:nvPr/>
        </p:nvPicPr>
        <p:blipFill>
          <a:blip r:embed="rId15"/>
          <a:srcRect l="0" t="0" r="9285" b="0"/>
          <a:stretch/>
        </p:blipFill>
        <p:spPr>
          <a:xfrm>
            <a:off x="0" y="1981080"/>
            <a:ext cx="2058840" cy="3276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666880" y="1066680"/>
            <a:ext cx="4343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Группа «Крас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Картинка 6 из 71"/>
          <p:cNvPicPr/>
          <p:nvPr/>
        </p:nvPicPr>
        <p:blipFill>
          <a:blip r:embed="rId16"/>
          <a:srcRect l="10485" t="-5812" r="9176" b="0"/>
          <a:stretch/>
        </p:blipFill>
        <p:spPr>
          <a:xfrm>
            <a:off x="2209680" y="1828800"/>
            <a:ext cx="2071800" cy="32767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743200" y="54864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. Клю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Картинка 5 из 40"/>
          <p:cNvPicPr/>
          <p:nvPr/>
        </p:nvPicPr>
        <p:blipFill>
          <a:blip r:embed="rId17"/>
          <a:srcRect l="23811" t="0" r="0" b="0"/>
          <a:stretch/>
        </p:blipFill>
        <p:spPr>
          <a:xfrm>
            <a:off x="4419720" y="2057400"/>
            <a:ext cx="1773000" cy="31240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572000" y="54100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. Клыч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541008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.Ре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Картинка 50 из 13874"/>
          <p:cNvPicPr/>
          <p:nvPr/>
        </p:nvPicPr>
        <p:blipFill>
          <a:blip r:embed="rId18"/>
          <a:srcRect l="12638" t="1992" r="21142" b="0"/>
          <a:stretch/>
        </p:blipFill>
        <p:spPr>
          <a:xfrm>
            <a:off x="6595920" y="2057400"/>
            <a:ext cx="2548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8390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762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3"/>
            <a:stretch/>
          </p:blipFill>
          <p:spPr>
            <a:xfrm>
              <a:off x="1523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3048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6"/>
            <a:stretch/>
          </p:blipFill>
          <p:spPr>
            <a:xfrm>
              <a:off x="3809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7"/>
            <a:stretch/>
          </p:blipFill>
          <p:spPr>
            <a:xfrm>
              <a:off x="4572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5334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6095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0"/>
            <a:stretch/>
          </p:blipFill>
          <p:spPr>
            <a:xfrm>
              <a:off x="6858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1"/>
            <a:stretch/>
          </p:blipFill>
          <p:spPr>
            <a:xfrm>
              <a:off x="7620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2"/>
            <a:stretch/>
          </p:blipFill>
          <p:spPr>
            <a:xfrm>
              <a:off x="8381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0" y="-360"/>
            <a:ext cx="9144000" cy="762120"/>
            <a:chOff x="0" y="-360"/>
            <a:chExt cx="9144000" cy="762120"/>
          </a:xfrm>
        </p:grpSpPr>
        <p:pic>
          <p:nvPicPr>
            <p:cNvPr id="341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81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620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858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6095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334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572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809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3048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286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523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762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1080" y="4572360"/>
            <a:ext cx="419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леденелыми губами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д росомашьими тропами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 бормотал: "Святая Рус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бе и каторжной молюсь!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425760"/>
            <a:ext cx="7920" cy="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38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Клюев(1884-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Картинка 48 из 71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04920" y="1523880"/>
            <a:ext cx="2481120" cy="30765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Картинка 64 из 657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486400" y="1523880"/>
            <a:ext cx="365760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Картинка 58 из 657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343400" y="4095720"/>
            <a:ext cx="3681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8390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762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1523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5"/>
            <a:stretch/>
          </p:blipFill>
          <p:spPr>
            <a:xfrm>
              <a:off x="3048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6"/>
            <a:stretch/>
          </p:blipFill>
          <p:spPr>
            <a:xfrm>
              <a:off x="3809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7"/>
            <a:stretch/>
          </p:blipFill>
          <p:spPr>
            <a:xfrm>
              <a:off x="4572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8"/>
            <a:stretch/>
          </p:blipFill>
          <p:spPr>
            <a:xfrm>
              <a:off x="5334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9"/>
            <a:stretch/>
          </p:blipFill>
          <p:spPr>
            <a:xfrm>
              <a:off x="6095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0"/>
            <a:stretch/>
          </p:blipFill>
          <p:spPr>
            <a:xfrm>
              <a:off x="6858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1"/>
            <a:stretch/>
          </p:blipFill>
          <p:spPr>
            <a:xfrm>
              <a:off x="7620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8381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0" y="-360"/>
            <a:ext cx="9144000" cy="762120"/>
            <a:chOff x="0" y="-360"/>
            <a:chExt cx="9144000" cy="762120"/>
          </a:xfrm>
        </p:grpSpPr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81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620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858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6095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334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572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809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3048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286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523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762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/>
          <p:cNvSpPr/>
          <p:nvPr/>
        </p:nvSpPr>
        <p:spPr>
          <a:xfrm>
            <a:off x="0" y="3425760"/>
            <a:ext cx="7920" cy="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10320" y="1445400"/>
            <a:ext cx="533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Когда сложу свою вязанку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Сосновых слов, медвежьих дум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«К костру готовьтесь спозаранку»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Гремел мой прадед Авваку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Картинка 6 из 71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57200" y="1600200"/>
            <a:ext cx="3300480" cy="3962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0" y="838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Клюев(1884-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В.С. Щербаков. Поэт Николай Клюев. 1930"/>
          <p:cNvPicPr/>
          <p:nvPr/>
        </p:nvPicPr>
        <p:blipFill>
          <a:blip r:embed="rId27"/>
          <a:stretch/>
        </p:blipFill>
        <p:spPr>
          <a:xfrm>
            <a:off x="4648320" y="3429000"/>
            <a:ext cx="2438280" cy="2373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Картинка 17 из 3000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7137360" y="3429000"/>
            <a:ext cx="2006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4760"/>
            <a:ext cx="4611600" cy="74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огда осыпаются лип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 раскосый и рыжий зака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 кличет хозяйка «цып, цыпы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Осенних зобастых куря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а грядках лысато и пусто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довеет в полях борозда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Лишь пузом упругим капуста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 баба обновкой, горд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енастна воронья губернь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Ущербные листья — грош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огда предстают непомерне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Глухие проселки душ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Мерещится странником голос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од вьюгой, без верной клюки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 сердце в слезах раскололос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Дуплистой ветлой у рек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енастье и косит, и губи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а кляче ребрастой верхо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 в дедовском кондовом сруб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Беда покумилась с кото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ошачье, «мяу», в половица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ростужена старая печь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 былое ли внуку укрытьс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ль в новое мышкой утечь?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ам лета грозовые кони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учны золотые овсы.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Согреть бы, как душу, ладон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ожаром девичьей ко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Картинка 33 из 64000">
            <a:hlinkClick r:id="rId1"/>
          </p:cNvPr>
          <p:cNvPicPr/>
          <p:nvPr/>
        </p:nvPicPr>
        <p:blipFill>
          <a:blip r:embed="rId2"/>
          <a:srcRect l="3005" t="4397" r="5443" b="5494"/>
          <a:stretch/>
        </p:blipFill>
        <p:spPr>
          <a:xfrm>
            <a:off x="4343400" y="35053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Картинка 2 из 20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52280"/>
            <a:ext cx="4295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-380880" y="-148680"/>
            <a:ext cx="579096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От кудрявых стружек тянет смолью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Духовит, как улей, белый сруб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репкогрудый плотник тешет кол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На слова медлителен и скуп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Тёпел паз, захватисты кокор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рутолоб тесовый шоломо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Будут рябью писаны подзор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 лудянкой выпестрен конёк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о стене, как зернь, пройдут зарубки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укрест, лапки, крапица, ряд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Чтоб избе-молодке в красной щубк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Явь и сонь мерещились - легк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репкогруд строитель-тайновидец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еред ним щепа как письмена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Запоет резная пава с крылец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Брызнет ярь с наличника окн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 когда очёсками куде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Над избой взлохматится дымок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каз пойдет о красном древодел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о лесам, на запад и вост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Картинка 135 из 20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91160" y="0"/>
            <a:ext cx="3552840" cy="26668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Картинка 2 из 2098">
            <a:hlinkClick r:id="rId3"/>
          </p:cNvPr>
          <p:cNvPicPr/>
          <p:nvPr/>
        </p:nvPicPr>
        <p:blipFill>
          <a:blip r:embed="rId4"/>
          <a:srcRect l="0" t="2109" r="47935" b="24209"/>
          <a:stretch/>
        </p:blipFill>
        <p:spPr>
          <a:xfrm>
            <a:off x="4724280" y="2666880"/>
            <a:ext cx="3951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0" y="6045120"/>
            <a:ext cx="9143640" cy="812880"/>
            <a:chOff x="0" y="6045120"/>
            <a:chExt cx="9143640" cy="81288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1122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23259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4"/>
            <a:stretch/>
          </p:blipFill>
          <p:spPr>
            <a:xfrm>
              <a:off x="34491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5"/>
            <a:stretch/>
          </p:blipFill>
          <p:spPr>
            <a:xfrm>
              <a:off x="457164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6"/>
            <a:stretch/>
          </p:blipFill>
          <p:spPr>
            <a:xfrm>
              <a:off x="5694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7"/>
            <a:stretch/>
          </p:blipFill>
          <p:spPr>
            <a:xfrm>
              <a:off x="68176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8"/>
            <a:stretch/>
          </p:blipFill>
          <p:spPr>
            <a:xfrm>
              <a:off x="794052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"/>
          <p:cNvGrpSpPr/>
          <p:nvPr/>
        </p:nvGrpSpPr>
        <p:grpSpPr>
          <a:xfrm>
            <a:off x="360" y="0"/>
            <a:ext cx="9143640" cy="812880"/>
            <a:chOff x="360" y="0"/>
            <a:chExt cx="9143640" cy="812880"/>
          </a:xfrm>
        </p:grpSpPr>
        <p:pic>
          <p:nvPicPr>
            <p:cNvPr id="412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794088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6818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56149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44917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336924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2246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11232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36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0" name="" descr="Картинка 5 из 4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523880" y="2133720"/>
            <a:ext cx="2838600" cy="380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914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Клычков (Лешенков) Сергей Антонович (1889-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Картинка 2 из 4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181480" y="2133720"/>
            <a:ext cx="2360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6143760"/>
            <a:ext cx="9143640" cy="714240"/>
            <a:chOff x="0" y="6143760"/>
            <a:chExt cx="9143640" cy="71424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784044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602748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421416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4012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5886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"/>
          <p:cNvGrpSpPr/>
          <p:nvPr/>
        </p:nvGrpSpPr>
        <p:grpSpPr>
          <a:xfrm>
            <a:off x="360" y="0"/>
            <a:ext cx="9143640" cy="714240"/>
            <a:chOff x="360" y="0"/>
            <a:chExt cx="9143640" cy="714240"/>
          </a:xfrm>
        </p:grpSpPr>
        <p:pic>
          <p:nvPicPr>
            <p:cNvPr id="431" name="" descr=""/>
            <p:cNvPicPr/>
            <p:nvPr/>
          </p:nvPicPr>
          <p:blipFill>
            <a:blip r:embed="rId6"/>
            <a:stretch/>
          </p:blipFill>
          <p:spPr>
            <a:xfrm rot="5400000">
              <a:off x="58896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7"/>
            <a:stretch/>
          </p:blipFill>
          <p:spPr>
            <a:xfrm rot="5400000">
              <a:off x="240192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8"/>
            <a:stretch/>
          </p:blipFill>
          <p:spPr>
            <a:xfrm rot="5400000">
              <a:off x="421524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9"/>
            <a:stretch/>
          </p:blipFill>
          <p:spPr>
            <a:xfrm rot="5400000">
              <a:off x="60282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78408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"/>
          <p:cNvSpPr/>
          <p:nvPr/>
        </p:nvSpPr>
        <p:spPr>
          <a:xfrm>
            <a:off x="0" y="989280"/>
            <a:ext cx="495288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.Клыч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...Жевать с серьезностью кусо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Тянуть большою ложкой тюр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покойно слушая ба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бирающейся за ночь бури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Как хорошо, когда в семь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Где сын — жених, а дочь — невес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Уж не хватает на скам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од старою божницей места..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Тогда, избыв судьбу, как вс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е в диво встретить смерть под вече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Как жницу в молодом ов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 серпом, закинутым на плеч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19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Картинка 78 из 54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8320" y="609480"/>
            <a:ext cx="4495680" cy="321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3"/>
          <a:stretch/>
        </p:blipFill>
        <p:spPr>
          <a:xfrm>
            <a:off x="6675480" y="3352680"/>
            <a:ext cx="2468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0" y="6045120"/>
            <a:ext cx="9143640" cy="812880"/>
            <a:chOff x="0" y="6045120"/>
            <a:chExt cx="9143640" cy="81288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122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23259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4"/>
            <a:stretch/>
          </p:blipFill>
          <p:spPr>
            <a:xfrm>
              <a:off x="34491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5"/>
            <a:stretch/>
          </p:blipFill>
          <p:spPr>
            <a:xfrm>
              <a:off x="457164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6"/>
            <a:stretch/>
          </p:blipFill>
          <p:spPr>
            <a:xfrm>
              <a:off x="5694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7"/>
            <a:stretch/>
          </p:blipFill>
          <p:spPr>
            <a:xfrm>
              <a:off x="68176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8"/>
            <a:stretch/>
          </p:blipFill>
          <p:spPr>
            <a:xfrm>
              <a:off x="794052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"/>
          <p:cNvGrpSpPr/>
          <p:nvPr/>
        </p:nvGrpSpPr>
        <p:grpSpPr>
          <a:xfrm>
            <a:off x="360" y="0"/>
            <a:ext cx="9143640" cy="812880"/>
            <a:chOff x="360" y="0"/>
            <a:chExt cx="9143640" cy="812880"/>
          </a:xfrm>
        </p:grpSpPr>
        <p:pic>
          <p:nvPicPr>
            <p:cNvPr id="450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794088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6818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56149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44917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336924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2246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11232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36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"/>
          <p:cNvSpPr/>
          <p:nvPr/>
        </p:nvSpPr>
        <p:spPr>
          <a:xfrm>
            <a:off x="228600" y="291600"/>
            <a:ext cx="4495680" cy="57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.Клыч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умрак сизый на дозор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а стороже у воро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Только в утренние з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оловей в саду поё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И  на посвист соловьи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Лишь спадёт туман сед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отаённою троп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Ходит Лада за водо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а ходу скрипит ведерц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А в саду роса блест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И о чём у тайной двер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ердце девичье грустит?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озабыв о коромыс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И не сняв его с плеч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мотрит Лада, как пови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Листья, плача и шепча!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1913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Картинка 5 из 1031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038480" y="1295280"/>
            <a:ext cx="51055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-762120" y="1417680"/>
            <a:ext cx="96775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от потому я Русь и славл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в срок готов приять и сне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глупый смех, и злую травл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гибели лихую весть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Клыч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pic>
          <p:nvPicPr>
            <p:cNvPr id="462" name="" descr=""/>
            <p:cNvPicPr/>
            <p:nvPr/>
          </p:nvPicPr>
          <p:blipFill>
            <a:blip r:embed="rId1"/>
            <a:stretch/>
          </p:blipFill>
          <p:spPr>
            <a:xfrm>
              <a:off x="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762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1523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5"/>
            <a:stretch/>
          </p:blipFill>
          <p:spPr>
            <a:xfrm>
              <a:off x="3048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6"/>
            <a:stretch/>
          </p:blipFill>
          <p:spPr>
            <a:xfrm>
              <a:off x="3809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7"/>
            <a:stretch/>
          </p:blipFill>
          <p:spPr>
            <a:xfrm>
              <a:off x="4572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8"/>
            <a:stretch/>
          </p:blipFill>
          <p:spPr>
            <a:xfrm>
              <a:off x="5334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9"/>
            <a:stretch/>
          </p:blipFill>
          <p:spPr>
            <a:xfrm>
              <a:off x="6095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10"/>
            <a:stretch/>
          </p:blipFill>
          <p:spPr>
            <a:xfrm>
              <a:off x="6858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11"/>
            <a:stretch/>
          </p:blipFill>
          <p:spPr>
            <a:xfrm>
              <a:off x="7620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12"/>
            <a:stretch/>
          </p:blipFill>
          <p:spPr>
            <a:xfrm>
              <a:off x="8381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0" y="-360"/>
            <a:ext cx="9144000" cy="762120"/>
            <a:chOff x="0" y="-360"/>
            <a:chExt cx="9144000" cy="762120"/>
          </a:xfrm>
        </p:grpSpPr>
        <p:pic>
          <p:nvPicPr>
            <p:cNvPr id="475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81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620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858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6095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334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572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809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3048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286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523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762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рестьянская тема в русской литерат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6132600"/>
            <a:ext cx="9143640" cy="725400"/>
            <a:chOff x="0" y="6132600"/>
            <a:chExt cx="9143640" cy="725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0245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0491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30740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40989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51235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61484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8"/>
            <a:stretch/>
          </p:blipFill>
          <p:spPr>
            <a:xfrm>
              <a:off x="71733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9"/>
            <a:stretch/>
          </p:blipFill>
          <p:spPr>
            <a:xfrm>
              <a:off x="811944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360" y="-360"/>
            <a:ext cx="9143640" cy="725400"/>
            <a:chOff x="360" y="-360"/>
            <a:chExt cx="9143640" cy="725400"/>
          </a:xfrm>
        </p:grpSpPr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811944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70952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703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50454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40208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29959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19710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9464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6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" descr="Картинка 371 из 54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" y="1676520"/>
            <a:ext cx="3429000" cy="380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Некра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05740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Кому на Руси жить хорош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Крестьянские де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Деревн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Несжатая поло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В полном разгаре страда деревенская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228960" y="838080"/>
            <a:ext cx="937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рестьянская те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 русской литературе 19 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6132600"/>
            <a:ext cx="9143640" cy="725400"/>
            <a:chOff x="0" y="6132600"/>
            <a:chExt cx="9143640" cy="725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0245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20491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0740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40989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51235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61484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71733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811944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360" y="-360"/>
            <a:ext cx="9143640" cy="725400"/>
            <a:chOff x="360" y="-360"/>
            <a:chExt cx="9143640" cy="725400"/>
          </a:xfrm>
        </p:grpSpPr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811944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70952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703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50454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40208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29959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19710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9464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6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Картинка 1 из 2802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05720" y="1905120"/>
            <a:ext cx="2201760" cy="3581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400800" y="5638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ван Саввич Ники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Картинка 1 из 42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429000" y="20574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4864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Иван Захарович Сур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3"/>
          <a:stretch/>
        </p:blipFill>
        <p:spPr>
          <a:xfrm>
            <a:off x="228600" y="19051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5410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Алексей Васильевич Кольц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67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о всё, что грязного есть в жизни самой бедн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 горе, и разгул, кровавый пот труд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орок и плач нужды, оборванной и бледн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Я видел вкруг себя с младенческих годов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Ник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6019920"/>
            <a:ext cx="9144000" cy="838080"/>
            <a:chOff x="0" y="6019920"/>
            <a:chExt cx="9144000" cy="83808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83808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16002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2362320" y="601992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312408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38862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7"/>
            <a:stretch/>
          </p:blipFill>
          <p:spPr>
            <a:xfrm>
              <a:off x="4648320" y="601992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8"/>
            <a:stretch/>
          </p:blipFill>
          <p:spPr>
            <a:xfrm>
              <a:off x="54864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6248520" y="601992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0"/>
            <a:stretch/>
          </p:blipFill>
          <p:spPr>
            <a:xfrm>
              <a:off x="701028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1"/>
            <a:stretch/>
          </p:blipFill>
          <p:spPr>
            <a:xfrm>
              <a:off x="77724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2"/>
            <a:stretch/>
          </p:blipFill>
          <p:spPr>
            <a:xfrm>
              <a:off x="83358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pic>
          <p:nvPicPr>
            <p:cNvPr id="179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358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49772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7356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5973840" y="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21172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4496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687840" y="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28494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087640" y="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32552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5634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/>
          <p:nvPr/>
        </p:nvSpPr>
        <p:spPr>
          <a:xfrm>
            <a:off x="380880" y="4114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Эх ты, доля, эх ты, дол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Доля бедня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Тяжела ты, безотрад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Тяжела, горь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И.Сур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Картинка 183 из 540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505320" y="2209680"/>
            <a:ext cx="3809880" cy="3030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176 из 540">
            <a:hlinkClick r:id="rId27"/>
          </p:cNvPr>
          <p:cNvPicPr/>
          <p:nvPr/>
        </p:nvPicPr>
        <p:blipFill>
          <a:blip r:embed="rId28"/>
          <a:srcRect l="9529" t="622" r="3309" b="26956"/>
          <a:stretch/>
        </p:blipFill>
        <p:spPr>
          <a:xfrm>
            <a:off x="5638680" y="4103640"/>
            <a:ext cx="3505320" cy="2754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Картинка 112 из 540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0" y="1523880"/>
            <a:ext cx="30481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113520"/>
            <a:ext cx="9143640" cy="744480"/>
            <a:chOff x="0" y="6113520"/>
            <a:chExt cx="9143640" cy="7444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132840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265716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>
              <a:off x="390744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>
              <a:off x="52362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65646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>
              <a:off x="781524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360" y="0"/>
            <a:ext cx="9143640" cy="744480"/>
            <a:chOff x="360" y="0"/>
            <a:chExt cx="9143640" cy="744480"/>
          </a:xfrm>
        </p:grpSpPr>
        <p:pic>
          <p:nvPicPr>
            <p:cNvPr id="205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78156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48684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515844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90780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25794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2510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36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Картинка 12 из 59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09880" y="1295280"/>
            <a:ext cx="1667160" cy="2676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14800" y="4572000"/>
            <a:ext cx="1600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Пётр Васильевич Оре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(1887-193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Картинка 2 из 135">
            <a:hlinkClick r:id="rId17"/>
          </p:cNvPr>
          <p:cNvPicPr/>
          <p:nvPr/>
        </p:nvPicPr>
        <p:blipFill>
          <a:blip r:embed="rId18"/>
          <a:srcRect l="13607" t="6466" r="13103" b="18157"/>
          <a:stretch/>
        </p:blipFill>
        <p:spPr>
          <a:xfrm>
            <a:off x="0" y="1295280"/>
            <a:ext cx="1905120" cy="2667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-304920" y="457200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Александр Васильевич Ширяеве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(1887-192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Картинка 3 из 43839">
            <a:hlinkClick r:id="rId19"/>
          </p:cNvPr>
          <p:cNvPicPr/>
          <p:nvPr/>
        </p:nvPicPr>
        <p:blipFill>
          <a:blip r:embed="rId20"/>
          <a:srcRect l="0" t="0" r="9285" b="0"/>
          <a:stretch/>
        </p:blipFill>
        <p:spPr>
          <a:xfrm>
            <a:off x="1981080" y="1295280"/>
            <a:ext cx="1676520" cy="2667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685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овокрестьянская поэзия     ( начало 20 ве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4495680"/>
            <a:ext cx="1904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Сергей Александрович 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(1895-192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Картинка 6 из 71">
            <a:hlinkClick r:id="rId21"/>
          </p:cNvPr>
          <p:cNvPicPr/>
          <p:nvPr/>
        </p:nvPicPr>
        <p:blipFill>
          <a:blip r:embed="rId22"/>
          <a:srcRect l="10485" t="-5812" r="9176" b="0"/>
          <a:stretch/>
        </p:blipFill>
        <p:spPr>
          <a:xfrm>
            <a:off x="5638680" y="1219320"/>
            <a:ext cx="1752840" cy="2771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867280" y="4495680"/>
            <a:ext cx="1447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Клю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(1884-19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Картинка 5 из 40">
            <a:hlinkClick r:id="rId23"/>
          </p:cNvPr>
          <p:cNvPicPr/>
          <p:nvPr/>
        </p:nvPicPr>
        <p:blipFill>
          <a:blip r:embed="rId24"/>
          <a:srcRect l="23811" t="0" r="0" b="0"/>
          <a:stretch/>
        </p:blipFill>
        <p:spPr>
          <a:xfrm>
            <a:off x="7543800" y="1295280"/>
            <a:ext cx="1600200" cy="2819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0120" y="4419720"/>
            <a:ext cx="1523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ергей Антонович Клыч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(1889-19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23880" y="-533520"/>
          <a:ext cx="8001000" cy="720900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.Есенин. В ха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ахнет рыхлыми драченами;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 порога в дежке квас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д печурками точеным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раканы лезут в паз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ьется сажа над заслонкою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печке нитки попелиц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 на лавке за солонкою 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Шелуха сырых яиц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ть с ухватами не сладится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гибается низко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арый кот к махотке крадетс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 парное молоко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вохчут куры беспокойны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д оглоблями сохи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 дворе обедню стройную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певают петухи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 в окне на сени скатые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 пугливой шумоты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з углов щенки кудлаты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ползают в хомут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5" name=""/>
          <p:cNvGrpSpPr/>
          <p:nvPr/>
        </p:nvGrpSpPr>
        <p:grpSpPr>
          <a:xfrm>
            <a:off x="0" y="-1295280"/>
            <a:ext cx="685800" cy="9144000"/>
            <a:chOff x="0" y="-1295280"/>
            <a:chExt cx="685800" cy="9144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-437760" y="672480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-437760" y="527688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-437760" y="375300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-438120" y="2228760"/>
              <a:ext cx="1562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-437760" y="70488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437760" y="-857160"/>
              <a:ext cx="156204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" descr="Картинка 178 из 5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Картинка 122 из 54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36840" y="2286000"/>
            <a:ext cx="341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6126120"/>
            <a:ext cx="9144000" cy="731880"/>
            <a:chOff x="0" y="6126120"/>
            <a:chExt cx="9144000" cy="7318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0" y="612612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1306440" y="612612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2612880" y="612612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3919680" y="6126120"/>
              <a:ext cx="1304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5"/>
            <a:stretch/>
          </p:blipFill>
          <p:spPr>
            <a:xfrm>
              <a:off x="5224320" y="612612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6"/>
            <a:stretch/>
          </p:blipFill>
          <p:spPr>
            <a:xfrm>
              <a:off x="6477120" y="6126120"/>
              <a:ext cx="1360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7837560" y="6126120"/>
              <a:ext cx="1306440" cy="7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0" y="-360"/>
            <a:ext cx="9144000" cy="731880"/>
            <a:chOff x="0" y="-360"/>
            <a:chExt cx="9144000" cy="731880"/>
          </a:xfrm>
        </p:grpSpPr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7837560" y="-36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531120" y="-36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5224320" y="-36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919680" y="-360"/>
              <a:ext cx="1304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2612880" y="-36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306440" y="-360"/>
              <a:ext cx="1360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0" y="-360"/>
              <a:ext cx="1306440" cy="73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" descr="Картинка 228 из 54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95680" y="1522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Картинка 259 из 54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0880" y="838080"/>
            <a:ext cx="3886200" cy="5181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Картинка 33 из 64000">
            <a:hlinkClick r:id="rId19"/>
          </p:cNvPr>
          <p:cNvPicPr/>
          <p:nvPr/>
        </p:nvPicPr>
        <p:blipFill>
          <a:blip r:embed="rId20"/>
          <a:srcRect l="3005" t="4397" r="5443" b="5494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511440" y="2173320"/>
            <a:ext cx="516888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6019920"/>
            <a:ext cx="9144000" cy="838080"/>
            <a:chOff x="0" y="6019920"/>
            <a:chExt cx="9144000" cy="8380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838080" y="60199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16765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251460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3352680" y="60199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6"/>
            <a:stretch/>
          </p:blipFill>
          <p:spPr>
            <a:xfrm>
              <a:off x="41911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7"/>
            <a:stretch/>
          </p:blipFill>
          <p:spPr>
            <a:xfrm>
              <a:off x="502920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8"/>
            <a:stretch/>
          </p:blipFill>
          <p:spPr>
            <a:xfrm>
              <a:off x="5867280" y="60199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67057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754380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1"/>
            <a:stretch/>
          </p:blipFill>
          <p:spPr>
            <a:xfrm>
              <a:off x="83059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3059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7467480" y="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662940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57913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4952880" y="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411480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2767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2438280" y="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160020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7621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0" y="76212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Картинка 245 из 540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0" y="3352680"/>
            <a:ext cx="3962520" cy="2973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Картинка 337 из 540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858000" y="914400"/>
            <a:ext cx="2111400" cy="502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Картинка 274 из 3210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114800" y="175248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Картинка 78 из 540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0" y="380880"/>
            <a:ext cx="40622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6143760"/>
            <a:ext cx="9143640" cy="714240"/>
            <a:chOff x="0" y="6143760"/>
            <a:chExt cx="9143640" cy="71424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784044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602748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421416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4012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5886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"/>
          <p:cNvGrpSpPr/>
          <p:nvPr/>
        </p:nvGrpSpPr>
        <p:grpSpPr>
          <a:xfrm>
            <a:off x="360" y="0"/>
            <a:ext cx="9143640" cy="714240"/>
            <a:chOff x="360" y="0"/>
            <a:chExt cx="9143640" cy="714240"/>
          </a:xfrm>
        </p:grpSpPr>
        <p:pic>
          <p:nvPicPr>
            <p:cNvPr id="292" name="" descr=""/>
            <p:cNvPicPr/>
            <p:nvPr/>
          </p:nvPicPr>
          <p:blipFill>
            <a:blip r:embed="rId6"/>
            <a:stretch/>
          </p:blipFill>
          <p:spPr>
            <a:xfrm rot="5400000">
              <a:off x="58896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"/>
            <a:stretch/>
          </p:blipFill>
          <p:spPr>
            <a:xfrm rot="5400000">
              <a:off x="240192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8"/>
            <a:stretch/>
          </p:blipFill>
          <p:spPr>
            <a:xfrm rot="5400000">
              <a:off x="421524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9"/>
            <a:stretch/>
          </p:blipFill>
          <p:spPr>
            <a:xfrm rot="5400000">
              <a:off x="60282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78408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3429000" y="2819520"/>
            <a:ext cx="5486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990720"/>
            <a:ext cx="86104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Гордость за многовековую богатую национальную культуру, за народ как хранитель духовных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Поэтизация крестьянского б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Адекватное изображение народной жизни  с учётом особенностей местного быта, говора, фольклорных тради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Продолжение фольклорных тради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17T22:44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