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DD9-3D0E-4EE8-9630-EAF48446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328-E79E-4E03-B0CC-75049CB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67B-07A0-4510-B83B-89605EC5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E08-63F6-4C2B-94FD-BFF6D7D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974-4D24-46D1-A3E2-186A7FAB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3D81-8CF5-402E-A9E1-F261FB9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7E0-4B22-4FB0-B827-FFC97A3D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013-33AD-4DF5-BF86-B171B19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3B9-5450-4337-83CD-5A7F60D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64A-9CEE-4450-A4B4-0379F3D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F12-E883-4447-B275-A136720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3D0-2333-4A75-B9E2-F2ABDBE0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D1C-9935-47A5-BAC5-EE91AD1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2ECA-E862-41E2-8551-6C9AC1B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DC3-4CBC-4A78-9CC2-82677EB0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6A7F-54BF-4F56-905F-4540B80D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0AB-A30F-48E0-90CF-5A1D1209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DBE-D6D6-41F1-B6FB-85853BFB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ACB-5DCB-4DBE-88F0-3DD3D4D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491-DF81-4F67-BD42-BD696B9A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12E-0D5D-449A-86AE-D73ACFB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AB8-BBB4-49E8-B67C-E5F2A83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FF6-196E-43AD-A34C-ACD47556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E35-7E29-4D9B-9BA6-DBBD1E2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DD2-9CB2-4848-B357-45B7436B0D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58AA-C274-4E92-B3B6-D186EA6B87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2997360"/>
            <a:ext cx="77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«Мир детей в пространстве взрослых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выражать свое мнение при решении в семье любого вопроса, затрагивающего его интере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ражает свое мнение о том, с кем из родителей, расторга­ющих брак в суде, он хотел бы проживать после раз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свое усыновление или передачу в приемную семью, либо восстановление родительских прав своих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изменение имени или фамил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заключать мелкие бытов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посещать шк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жить и воспитываться в семье, знать своих ро­дителей, получать от них защиту своих прав и законных интере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имя, отчество и фамил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обретает право на гражда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ретий раунд «Литературно-правовая викторин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ли право такой мальчик, как Том Сойер, дружи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таким мальчиком, как Гекльберри Фин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ли Маугли, живущий в лесу вместе с дикими зверями, ребенком, имеющим равные прав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угли не умеет говорить человеческим языком. Он может лишь издавать нечленораздельные, с точки зрения людей, звуки. Имеют ли право люди,  поймавшие его в лесу, запе­реть его в клетке и обращаться с ним, как с животны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екун всемирно известного Гарри Поттера перехватыва­ет и читает письма, адресованные мальчику. Какую ста­тью Конвенции он нарушае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 Яга уносит братца Иванушку от сестрицы Аленуш­ки за тридевять земель в тридесятое ц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«Счастье всего ми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е стоит одной слез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 щеке невинного ребен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ервый раунд «Разминк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ститу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ормы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а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клар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вен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вобода сове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скримин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ноци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онаруш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торой раунд «Правовой статус ребен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 рож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5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тановится полностью дееспособным (совершеннолетним) и может своими действиями приобретать любые пра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первоначальной постановке на воинский учет (вы­дается приписное свидетельств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Несет уголовную ответственность за любые преступл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административной ответственности за правонару­шения в любом порядке (через комиссию по делам несовершеннолет­них), за некоторые правонарушения (например, хулиганство) несет административную  ответственность в общем поряд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самостоятельного заключения трудового договора (контракта); сохраняется ряд льгот по трудовому праву (сокращенная рабочая неделя - 36 ча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обучаться вождению автомобиля на дорогах в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сутствии инструкт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мопедом при езде на дорог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членом кооператива, акционерного об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объявлен, в установленном законом порядке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лностью дееспособным (эмансипация), если работает по трудово­му договору или занимается трудовой деятель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получение пасп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вступление в брак с разрешения органов местного самоуправления при наличии уважительных прич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поступить на работу с согласия профсоюзного органа предпри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исключен из школы за нар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имущественной ответственности по заключенным сделкам, а также за причинение имущественного вр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уголовной ответственности за некоторые преступления (убийство, разбой, кража, вымогательств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молодежны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велосипедом по дорог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пускается поступление на работу (на легкий труд не более 4 часов в день) с согласия одного из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носить вклады в кредитные учреждения (банки) и распоряжаться 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осуществлять права автора, охраняя результат своей интеллектуа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распоряжаться самостоятельно своим заработком, стипендией, иными доход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, с согласия родителей, совершать люб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ыбирать себе место жительства (с согласия родителе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письменное согласие для выхода из гражданства РФ вместе с роди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м субъекта Федерации было разрешено вступлени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брак в виде исключения с учетом особых обстоятельств (при этом наступает полная дееспособнос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детски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быть заслушанным в ходе любого судебного или административного разбиратель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8:29:50Z</dcterms:created>
  <dc:creator>User</dc:creator>
  <dc:description/>
  <dc:language>en-US</dc:language>
  <cp:lastModifiedBy>User</cp:lastModifiedBy>
  <dcterms:modified xsi:type="dcterms:W3CDTF">2008-11-20T10:01:52Z</dcterms:modified>
  <cp:revision>3</cp:revision>
  <dc:subject/>
  <dc:title>Викторина</dc:title>
</cp:coreProperties>
</file>