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775-C043-41E5-87BB-6024663C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640-21BD-4AC4-9FAB-26B09A45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457-D725-4BF8-9EE5-86BCB62F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B2A-7F0F-4D6C-84E1-53667D35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EFE0-825D-4B2C-AC05-56657F30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6106-8AF6-4FBE-8AE5-7F51F9DE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C1F9-0726-4707-983E-8C9A3AC6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49E3-6077-4B49-9D2B-BF6CC169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449A-E41A-4489-8428-1FA6D854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005F-D2E0-415D-A82A-0993DD25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A510-67A4-4493-9F23-BADE44A2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F3C-C767-475F-A8B7-CD994588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0623-F6FF-4319-A239-B7453F2E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0BF7-DF73-4D40-B335-0921F117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6232-8EEC-40C6-82AF-0F486FEC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4D68-407B-4DDC-B541-050313C7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287E-0B30-423F-B2BF-8AC394A0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A49-0678-428A-BD52-937AF006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43E-3EAD-4737-8868-8B2E4179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6F9-D69B-4A1C-9057-1DFFB0A7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2CD-38F2-4AF1-B37E-031A3EF0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DBA-D635-4526-A6B8-C873DD48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C91-2A39-4B96-A655-646C5AC3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FFE-4217-4568-8D76-77F6506B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2A87-0197-4CF3-B8E4-874FD3B103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C5FF-99F3-462A-BCCF-AF16F748F4A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Викторина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640" y="2997360"/>
            <a:ext cx="7704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«Мир детей в пространстве взрослых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 выражать свое мнение при решении в семье любого вопроса, затрагивающего его интерес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ыражает свое мнение о том, с кем из родителей, расторга­ющих брак в суде, он хотел бы проживать после раз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ает согласие на свое усыновление или передачу в приемную семью, либо восстановление родительских прав своих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ает согласие на изменение имени или фамил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 заключать мелкие бытовые сдел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 посещать шко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жить и воспитываться в семье, знать своих ро­дителей, получать от них защиту своих прав и законных интерес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на имя, отчество и фамил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обретает право на граждан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Третий раунд «Литературно-правовая викторин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ачеха с утра до ночи заставляет Золушку трудиться. Несчастной девочке запрещено участвовать в играх и забавах ее сестер. Какая статья Конвенции была бы нарушена, если бы подобное происходило в наши дн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ли право такой мальчик, как Том Сойер, дружит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таким мальчиком, как Гекльберри Финн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вляется ли Маугли, живущий в лесу вместе с дикими зверями, ребенком, имеющим равные прав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угли не умеет говорить человеческим языком. Он может лишь издавать нечленораздельные, с точки зрения людей, звуки. Имеют ли право люди,  поймавшие его в лесу, запе­реть его в клетке и обращаться с ним, как с животным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екун всемирно известного Гарри Поттера перехватыва­ет и читает письма, адресованные мальчику. Какую ста­тью Конвенции он нарушае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ба Яга уносит братца Иванушку от сестрицы Аленуш­ки за тридевять земель в тридесятое царств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«Счастье всего мир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не стоит одной слезы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на щеке невинного ребенк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Ф.М.Достое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ервый раунд «Разминка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нститу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ормы пра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ава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еклара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нвен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вобода сове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искримина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еноцид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авонаруш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Второй раунд «Правовой статус ребенк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 рожд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0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4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5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6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7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8 л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3" marL="1594440" indent="-346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Становится полностью дееспособным (совершеннолетним) и может своими действиями приобретать любые прав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-346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Подлежит первоначальной постановке на воинский учет (вы­дается приписное свидетельство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-346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Несет уголовную ответственность за любые преступлени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-346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Подлежит административной ответственности за правонару­шения в любом порядке (через комиссию по делам несовершеннолет­них), за некоторые правонарушения (например, хулиганство) несет административную  ответственность в общем порядк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самостоятельного заключения трудового договора (контракта); сохраняется ряд льгот по трудовому праву (сокращенная рабочая неделя - 36 часов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обучаться вождению автомобиля на дорогах в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сутствии инструкт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управлять мопедом при езде на дорог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быть членом кооператива, акционерного общ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быть объявлен, в установленном законом порядке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лностью дееспособным (эмансипация), если работает по трудово­му договору или занимается трудовой деятель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на получение пасп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на вступление в брак с разрешения органов местного самоуправления при наличии уважительных прич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поступить на работу с согласия профсоюзного органа предприят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быть исключен из школы за наруш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длежит имущественной ответственности по заключенным сделкам, а также за причинение имущественного вре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длежит уголовной ответственности за некоторые преступления (убийство, разбой, кража, вымогательство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вступать в молодежные общественные объеди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управлять велосипедом по дорог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опускается поступление на работу (на легкий труд не более 4 часов в день) с согласия одного из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вносить вклады в кредитные учреждения (банки) и распоряжаться и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осуществлять права автора, охраняя результат своей интеллектуаль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 распоряжаться самостоятельно своим заработком, стипендией, иными доход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, с согласия родителей, совершать любые сдел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выбирать себе место жительства (с согласия родителей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ает письменное согласие для выхода из гражданства РФ вместе с родител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коном субъекта Федерации было разрешено вступление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брак в виде исключения с учетом особых обстоятельств (при этом наступает полная дееспособность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вступать в детские общественные объеди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 быть заслушанным в ходе любого судебного или административного разбиратель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8:29:50Z</dcterms:created>
  <dc:creator>User</dc:creator>
  <dc:description/>
  <dc:language>en-US</dc:language>
  <cp:lastModifiedBy>User</cp:lastModifiedBy>
  <dcterms:modified xsi:type="dcterms:W3CDTF">2008-11-20T10:01:52Z</dcterms:modified>
  <cp:revision>3</cp:revision>
  <dc:subject/>
  <dc:title>Викторина</dc:title>
</cp:coreProperties>
</file>