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5EA-663F-43FE-9F41-CC841D92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BA6-A1FD-4D7F-ABC1-CC1072C0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34B-25A3-4EB7-8B25-1A53B20C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5CF-12A0-4DFE-820B-94BC2124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B7DD-86FB-413A-B6D6-8E7D8F8A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C670-09EB-4463-A0BE-4328DE23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B1C-713E-4397-B0DA-A360A344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30D-B762-40B2-A382-341B0A5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621-48E4-473E-9661-1834115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AD62-192B-4948-A4D9-6341ACDA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A874-5978-4295-9F30-B63216E9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537-0ABC-4DD4-946C-20B8FB1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0191-22EC-454D-8AF9-FBDF9A6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504C-A5D4-4B57-AAFF-8C60655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7E21-A0F5-48D3-821A-0B0FB94F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ECD-E6A5-48B6-9AA3-3F365A9C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9D0-2577-4683-9E4D-63048824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AD9-FC70-4CBA-A3E6-73BDF49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C31-9DDE-42B2-8ABA-8F741AF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2E6-B6A0-4C83-9F70-40E03C3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F56-637F-4B2B-907D-8E81E799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8B0-95A4-47E1-A2CD-2397A8D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25D-65FF-4566-AACC-3BDCDC2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6A9-0C89-40BB-BB06-D76B352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D8B-AE51-4372-BDE3-F57A18A84A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3D7-6E59-4314-8CF0-975E74F17C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2997360"/>
            <a:ext cx="77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«Мир детей в пространстве взрослых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выражать свое мнение при решении в семье любого вопроса, затрагивающего его интере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ражает свое мнение о том, с кем из родителей, расторга­ющих брак в суде, он хотел бы проживать после раз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согласие на свое усыновление или передачу в приемную семью, либо восстановление родительских прав своих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согласие на изменение имени или фамил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заключать мелкие бытовые сд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посещать шк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жить и воспитываться в семье, знать своих ро­дителей, получать от них защиту своих прав и законных интере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имя, отчество и фамил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обретает право на гражда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ретий раунд «Литературно-правовая викторин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ли право такой мальчик, как Том Сойер, дружи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таким мальчиком, как Гекльберри Финн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ли Маугли, живущий в лесу вместе с дикими зверями, ребенком, имеющим равные прав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угли не умеет говорить человеческим языком. Он может лишь издавать нечленораздельные, с точки зрения людей, звуки. Имеют ли право люди,  поймавшие его в лесу, запе­реть его в клетке и обращаться с ним, как с животны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екун всемирно известного Гарри Поттера перехватыва­ет и читает письма, адресованные мальчику. Какую ста­тью Конвенции он нарушае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ба Яга уносит братца Иванушку от сестрицы Аленуш­ки за тридевять земель в тридесятое ц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«Счастье всего мир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е стоит одной слез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а щеке невинного ребенк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ервый раунд «Разминк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ститу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ормы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ва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клар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вен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вобода сове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скримин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еноци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авонаруш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торой раунд «Правовой статус ребен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 рожд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4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5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6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 л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 л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тановится полностью дееспособным (совершеннолетним) и может своими действиями приобретать любые прав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одлежит первоначальной постановке на воинский учет (вы­дается приписное свидетельств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Несет уголовную ответственность за любые преступл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94440" indent="-34632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одлежит административной ответственности за правонару­шения в любом порядке (через комиссию по делам несовершеннолет­них), за некоторые правонарушения (например, хулиганство) несет административную  ответственность в общем порядк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самостоятельного заключения трудового договора (контракта); сохраняется ряд льгот по трудовому праву (сокращенная рабочая неделя - 36 ча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обучаться вождению автомобиля на дорогах в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сутствии инструкт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управлять мопедом при езде на дорог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членом кооператива, акционерного общ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объявлен, в установленном законом порядке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лностью дееспособным (эмансипация), если работает по трудово­му договору или занимается трудовой деятель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получение пасп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на вступление в брак с разрешения органов местного самоуправления при наличии уважительных прич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поступить на работу с согласия профсоюзного органа предпри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быть исключен из школы за нар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лежит имущественной ответственности по заключенным сделкам, а также за причинение имущественного вр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лежит уголовной ответственности за некоторые преступления (убийство, разбой, кража, вымогательств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ступать в молодежные общественные объед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ет право управлять велосипедом по дорог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пускается поступление на работу (на легкий труд не более 4 часов в день) с согласия одного из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носить вклады в кредитные учреждения (банки) и распоряжаться 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осуществлять права автора, охраняя результат своей интеллектуа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распоряжаться самостоятельно своим заработком, стипендией, иными доход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, с согласия родителей, совершать любые сд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ыбирать себе место жительства (с согласия родителе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ет письменное согласие для выхода из гражданства РФ вместе с роди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ом субъекта Федерации было разрешено вступлени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брак в виде исключения с учетом особых обстоятельств (при этом наступает полная дееспособнос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жет вступать в детские общественные объед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праве быть заслушанным в ходе любого судебного или административного разбиратель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8:29:50Z</dcterms:created>
  <dc:creator>User</dc:creator>
  <dc:description/>
  <dc:language>en-US</dc:language>
  <cp:lastModifiedBy>User</cp:lastModifiedBy>
  <dcterms:modified xsi:type="dcterms:W3CDTF">2008-11-20T10:01:52Z</dcterms:modified>
  <cp:revision>3</cp:revision>
  <dc:subject/>
  <dc:title>Викторина</dc:title>
</cp:coreProperties>
</file>