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9D0-4B40-4CA8-856A-016D768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F1E-46E9-4312-9FAA-2323C3B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454-C564-482C-B0DC-EF31C4E0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F0E-CB03-49DF-8AB8-6669867E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1CA8-5CD7-4FAB-A82E-220CFEDC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FF6B-1B8A-472B-AEDE-6CAC50E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AC1-A666-463F-AACF-5E6F60C6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D135-44D3-4B2F-9444-AB3528F1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F0E-E2A9-4EEC-A570-382A3336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196-387A-4AF4-B7F4-8ECBEAAA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871-2F19-4085-BD49-B9EF054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6DA-27CE-4026-85AB-CB6C7A6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2FB-11D0-43E6-A4B2-D87D36F1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B363-67FC-4E1F-BCC3-CEBC36B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238-B83C-4CDF-A124-2F0FCB8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F822-2F59-4FFD-9539-6AF39F37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3E17-DC8A-403E-BBB1-9F80B7B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8CE-E595-4DEB-9387-5CF68C8D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405-49F4-41D8-9F5F-29B0F7BF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FFE-11A4-4315-83FF-0ECFCAE8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E04-7996-478E-A388-22A5852D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078-DD1B-4E38-A436-ABD7C34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A58-650B-423B-A724-6D1003F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E0D-EDC0-4F02-AC1C-B72C9F3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DBE-7185-4816-9E97-BEED3491AC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B0B5-6D21-44AA-A87A-C5DC483634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 Уткина Ольга Иван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62280" y="3166920"/>
            <a:ext cx="568152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развития памя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Метод графической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Смысловые ассоци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ТЕКА- продаёт лекарство Айболит, а в « Оптике» - очки, похожие на букву 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- погоду наблюдают по год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Метод звуковых ассоциац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ав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я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л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о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В слове спряталось друг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ЕНКИ: валенки у Ле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РКАЕТ:  в новом платье сверкает Вер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ИЗОНТ: гори, зонт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багаж писать, друзь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конечно, с буквой «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ем, что салют всег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шем только с буквой «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нетические ассоциаци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скулус) – мышо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русское слово муску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графические ассоци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DDL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л)- лу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вучное ПАДАЛ. Вспоминаю, как в детстве, во время иг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мяч несколько раз падал в луж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ota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ковь созвучное ему КАР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ету погрузили морковью. Чувствую вкус моркови и скрип кар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2-06T10:11:5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