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4238-5E0B-4C3F-9539-B6F80EB4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FD93-0B1D-43D0-BBA1-44C5E4DD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B5D5-8774-4FFB-B421-96BC2346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AF86-4255-4E60-82B5-67B864F0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EBE1-7D70-45F8-99C6-68C91E3F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88D6-661F-4426-BE5E-739CFF79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2968-A783-4DAD-9881-7FAAA4DD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497F-A2A7-437E-A35C-C05B075E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DFA2-1313-425C-9F9F-5D4EF321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AE04-DB98-4550-B596-8024E569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386F-D25D-461C-A9BF-F4BE88AB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DB38-FBBA-4337-A661-0A477A7B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C307-E00D-4738-BC12-3906E4B1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CE5D-017C-475E-BBF9-50CE82FB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BF1E-F981-4AC6-BEA4-C862F552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9169-601E-43B0-8F3B-B28074D6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1885-9AE8-4EDB-8956-385713CA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25C5-02C8-4EDB-8DE2-41BF7854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6BE-8B8B-42CA-980F-58D6D42A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2429-6A90-414A-81CF-01974387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438A-A5C9-4DA8-9697-A91BA3B9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E073-AE27-4CAA-BD35-94104183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0263-8568-4B5D-9E77-4FF54CA9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DB34-2219-438D-B0A7-8A0E4FD8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C203-5B5B-4A91-BC11-F8A1935F71E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4465-3D15-4112-961D-582499D4E60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полнила Уткина Ольга Ивано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62280" y="3166920"/>
            <a:ext cx="5681520" cy="14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тоды развития памят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. Метод графической ассоциац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БЛОК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РОЗ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. Смысловые ассоциац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ТЕКА- продаёт лекарство Айболит, а в « Оптике» - очки, похожие на букву 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ГОДА- погоду наблюдают по года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04920" y="-305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. Метод звуковых ассоциац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завт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ра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ра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у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Д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вня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д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 в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д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вн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Ло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та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ло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ула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ло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4. В слове спряталось друг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ЛЕНКИ: валенки у Лен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РКАЕТ:  в новом платье сверкает Вер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ИЗОНТ: гори, зонт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багаж писать, друзь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у, конечно, с буквой «а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ем, что салют всегд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шем только с буквой «а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нетические ассоциаци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ulu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скулус) – мышон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вучное русское слово мускул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графические ассоци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DDLE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дл)- луж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вучное ПАДАЛ. Вспоминаю, как в детстве, во время игр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мяч несколько раз падал в лужу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0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ota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рковь созвучное ему КАРЕ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рету погрузили морковью. Чувствую вкус моркови и скрип каре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12-06T10:11:50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