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F28-5B90-4532-AC3C-7AA8DA7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E44-36D2-4944-B862-186AD23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FC2-856E-425F-BE0B-59E8AD6F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F19-089F-4482-99C7-86C953AC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A9B-C540-4B29-B05D-B93E5C35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327-934F-4479-9124-95234D5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4038-BB5D-4F01-9795-644BF38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CED-A19C-4084-B9B0-C9BFE24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41F-1DAB-480F-8CDB-0DB312D2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1A4-5A17-4823-AB19-89501EA3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2A2B-CD9B-4850-817F-9422C97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885-B849-4A0D-A70F-DD265DDD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29F-772A-460D-9B3C-2A73229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6C32-8596-4789-82E3-267A523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B78A-7BB9-4575-B041-5500EA0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F6A-DD0C-4EF2-9E69-DB53209A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3F2F-2373-4098-80C7-03AB8E58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E13-53D8-4D35-B720-00EEA003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E9D-BE70-49C8-9EF9-CA257BB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67C-99A7-491C-AEF6-44DDD37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DA7-203F-439E-8D4F-1EA00F1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964-AD21-4E6A-9A2B-06F769F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BCE-45FD-419A-95D1-A117535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308-9308-424A-8740-3CC7118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691-E893-488A-8FD6-7768C5220B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1FB-6FF0-4C33-B26A-E7BB749DF4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 Уткина Ольга Иван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62280" y="3166920"/>
            <a:ext cx="568152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развития памя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Метод графической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Смысловые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ТЕКА- продаёт лекарство Айболит, а в « Оптике» - очки, похожие на букву 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- погоду наблюдают по год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Метод звуковых ассоциац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ав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я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л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В слове спряталось друг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ЕНКИ: валенки у Ле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РКАЕТ:  в новом платье сверкает Вер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ИЗОНТ: гори, зонт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багаж писать, друзь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конечно, с буквой «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ем, что салют всег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шем только с буквой «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нетические ассоциаци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скулус) – мышо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русское слово муску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графические ассоци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DDL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л)- лу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ПАДАЛ. Вспоминаю, как в детстве, во время иг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мяч несколько раз падал в луж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ota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ковь созвучное ему КАР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ету погрузили морковью. Чувствую вкус моркови и скрип кар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2-06T10:11:5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