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ABB-FD1F-4D47-9930-60AC0D1C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8A2-2D5E-4D65-9E7B-4F57A7E3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636-0582-44C8-8D15-DC140AB6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539-5295-44F8-82F0-75F45FA9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0A9C-1DE6-4796-AC2F-9EB8CCB0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6FE2-37D7-4F31-98F5-6EEE3AD3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69AF-A046-437E-9B6C-28ADB957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69E5-F256-4042-AC0C-4FC969E6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412F-F364-40B9-98F2-2D76EF4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D22E-0BDD-487B-B362-68A0E1C3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EE09-F882-42A9-9E1F-C2C31A5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BCE-7778-46B9-9366-3AE0DD09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8653-669D-4581-97CC-AD9D102B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90CF-017E-4D6C-9777-16DB70FA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A6DC-EA48-44CB-88FB-0AB009D2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091C-64D7-45C8-8F3E-9499C28B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4A2A-209E-45FB-9527-F2636B5D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0F73-6F98-405F-A27F-B16D72D2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2400-619E-4107-9411-600E82C7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D097-0665-47F4-8989-A579D533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B5DB8-7D95-497F-8DB2-B5D2E2EB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4047-0789-433F-92F8-114E2CFE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1A7-3661-4B8B-AFA8-94B41282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FC99-82A5-48EA-B18F-C541204C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6E40-71CD-43D4-9798-791BF52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F8F2-7695-48FC-AC9E-3DBE2C91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BA13C-B707-431B-9E42-583FAC9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E7769-7006-4181-8755-6C225375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E283-E4A0-42F2-A760-5B2A0943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C9AC-DC90-481D-9A8E-D553851D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F3927-F045-4539-B308-CFB3F597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B0540-209D-42F9-90A1-29928C83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75E2-5D61-4EDB-A16D-0E0796EC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D1F-D201-4D6E-AB40-6BD441C9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5518-ECBB-4793-916C-8FEC68F3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20CA-3905-4E97-A246-48519119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B1F1-3050-45C3-B3AB-BE45F5A2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E161B-8889-499A-959E-E927232B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53316-181F-42FA-A6B7-77194C49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0E10-83A8-4CFC-803F-1CC2E772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341A-80D9-4CF6-AC88-424914A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8B4C1-26EE-4D9A-AA4F-0B119180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CF852-E63F-4382-8576-3E4D0D87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88F9-A60D-499F-A211-D20B6D5F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9E5-3D91-4B2B-AF8C-FD6503FB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50C0-2726-4840-8237-9E184D82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95E8-BEEB-43C0-B06E-CE03B95F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F5CF-EBF0-4483-83D0-458E306A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6B9F-73C2-449C-B671-33721D0F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6440-94F5-4787-AE12-C14972E9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F948-3B38-4A48-A444-42FE4C8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1B36-5CB9-4CDF-AEDC-9F58CFE2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CACD-C5FF-4419-836F-72FB5E0A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56EC9-7C89-4658-B5DB-4451F509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E1BC-C70D-4DC7-8851-47739911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C0F-CA53-424D-B165-BBF5F7BD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B612-C8AB-4D53-B037-19E745B7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E0620-74D0-467D-B38B-F71B5190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5B269-C17E-429D-A196-21560757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EE915-B548-4957-A94D-82D44F2A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C05AE-71EF-4AA0-91D9-17821417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7E35-692B-4560-B2F4-86CCB46D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2B2D-8E78-4F8B-8A0D-94304E4B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7C3CC-3E67-45BE-BA74-5E461FF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70859-208D-4434-8265-8E893A3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EE27-381E-4E25-8B8F-2E2C5070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BAB-418D-45B0-AF8B-C339685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0B7FF-9786-49AC-9EFE-44D7209C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C92B8-27A7-4877-8EA2-C6AE361B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FDEB5-C2B9-4AFB-9E83-2A11A97F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989CE-DCE1-4659-827E-FB8EBA94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36C4C-CE6D-411A-89B8-253A1817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317CB-DBC6-4CAD-8F91-2F0AFB38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470D9-650E-4332-9B74-8BC1CEC6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CF49-68A8-4333-8715-D4EF003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C9D7D-00E1-4A8F-A156-114FF3E3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9D5CE-534A-4E7C-AE85-93DE11C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ABF-70B8-460D-892E-7AF7AC5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D1CAD-5744-4AAD-9A25-F97A7246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0542F-DC9B-4601-A618-74934938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C2476-96BA-439A-BD85-C9C6BD6D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331C5-8F4B-4F33-96D4-3B2C7219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7F5B-B77F-48A7-8853-7E4568FD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6B8-9AE5-4907-842C-DE23B132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13AC-F06C-447B-A31C-FABE75B5E71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273-1528-4D3A-9C0F-8847D605796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95CE-CDFB-4166-8F8D-007328029FF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CEDE-515B-4E32-89EB-8B36758ECA4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AA2D-C531-423F-9757-94A76822DE2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AAF5-5729-499D-A0E4-24618FD79B6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46D1-7D14-4092-A6B9-8A749ED0208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3" descr="z49qt8nm5ozestwa1catsgtd9khwan5r_2.jpg"/>
          <p:cNvPicPr/>
          <p:nvPr/>
        </p:nvPicPr>
        <p:blipFill>
          <a:blip r:embed="rId1"/>
          <a:stretch/>
        </p:blipFill>
        <p:spPr>
          <a:xfrm>
            <a:off x="0" y="0"/>
            <a:ext cx="9578880" cy="7184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3857760" y="21420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5786280" y="51436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ца 10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в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пова Елена Серге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928800" y="157176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Прямоугольник 7" descr=""/>
          <p:cNvPicPr/>
          <p:nvPr/>
        </p:nvPicPr>
        <p:blipFill>
          <a:blip r:embed="rId2"/>
          <a:stretch/>
        </p:blipFill>
        <p:spPr>
          <a:xfrm>
            <a:off x="1249200" y="2603520"/>
            <a:ext cx="7407360" cy="19447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8"/>
          <p:cNvSpPr/>
          <p:nvPr/>
        </p:nvSpPr>
        <p:spPr>
          <a:xfrm>
            <a:off x="2000160" y="9288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ллектуальный марафон по геомет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4" descr="geometry_wa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Содержимое 3" descr="s030304.jpg"/>
          <p:cNvPicPr/>
          <p:nvPr/>
        </p:nvPicPr>
        <p:blipFill>
          <a:blip r:embed="rId2"/>
          <a:stretch/>
        </p:blipFill>
        <p:spPr>
          <a:xfrm>
            <a:off x="928800" y="1214280"/>
            <a:ext cx="73641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5" descr="85128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Содержимое 3" descr="s030303.jpg"/>
          <p:cNvPicPr/>
          <p:nvPr/>
        </p:nvPicPr>
        <p:blipFill>
          <a:blip r:embed="rId2"/>
          <a:stretch/>
        </p:blipFill>
        <p:spPr>
          <a:xfrm>
            <a:off x="714240" y="1214280"/>
            <a:ext cx="784728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4" descr="Природная геометрия фрактало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Содержимое 3" descr="s030302.jpg"/>
          <p:cNvPicPr/>
          <p:nvPr/>
        </p:nvPicPr>
        <p:blipFill>
          <a:blip r:embed="rId2"/>
          <a:stretch/>
        </p:blipFill>
        <p:spPr>
          <a:xfrm>
            <a:off x="928800" y="1571760"/>
            <a:ext cx="7219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428760" y="500040"/>
            <a:ext cx="8215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Две прямые в пространстве называются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перпендикулярными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 (взаимно перпендикулярными), если угол между ними равен 90</a:t>
            </a:r>
            <a:r>
              <a:rPr b="0" i="1" lang="ru-RU" sz="25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Блок-схема: данные 8"/>
          <p:cNvSpPr/>
          <p:nvPr/>
        </p:nvSpPr>
        <p:spPr>
          <a:xfrm>
            <a:off x="1714680" y="2786040"/>
            <a:ext cx="5286240" cy="2357640"/>
          </a:xfrm>
          <a:prstGeom prst="flowChartInputOutput">
            <a:avLst/>
          </a:prstGeom>
          <a:solidFill>
            <a:srgbClr val="ff33cc">
              <a:alpha val="35000"/>
            </a:srgbClr>
          </a:solidFill>
          <a:ln w="25560">
            <a:solidFill>
              <a:srgbClr val="ff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0"/>
          <p:cNvSpPr/>
          <p:nvPr/>
        </p:nvSpPr>
        <p:spPr>
          <a:xfrm flipV="1">
            <a:off x="2714760" y="3071520"/>
            <a:ext cx="78552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2"/>
          <p:cNvSpPr/>
          <p:nvPr/>
        </p:nvSpPr>
        <p:spPr>
          <a:xfrm>
            <a:off x="2714760" y="3286080"/>
            <a:ext cx="32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15"/>
          <p:cNvSpPr/>
          <p:nvPr/>
        </p:nvSpPr>
        <p:spPr>
          <a:xfrm>
            <a:off x="3286080" y="350028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22"/>
          <p:cNvSpPr/>
          <p:nvPr/>
        </p:nvSpPr>
        <p:spPr>
          <a:xfrm flipV="1">
            <a:off x="3571920" y="3285720"/>
            <a:ext cx="7128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27"/>
          <p:cNvSpPr/>
          <p:nvPr/>
        </p:nvSpPr>
        <p:spPr>
          <a:xfrm>
            <a:off x="2500200" y="2428920"/>
            <a:ext cx="43578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8"/>
          <p:cNvSpPr/>
          <p:nvPr/>
        </p:nvSpPr>
        <p:spPr>
          <a:xfrm>
            <a:off x="228600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0"/>
          <p:cNvSpPr/>
          <p:nvPr/>
        </p:nvSpPr>
        <p:spPr>
          <a:xfrm>
            <a:off x="5286240" y="2714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1"/>
          <p:cNvSpPr/>
          <p:nvPr/>
        </p:nvSpPr>
        <p:spPr>
          <a:xfrm>
            <a:off x="6286680" y="17859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"/>
          <p:cNvSpPr/>
          <p:nvPr/>
        </p:nvSpPr>
        <p:spPr>
          <a:xfrm>
            <a:off x="214200" y="542916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ересекаются, а 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крещи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7" descr="geometry.jpg"/>
          <p:cNvPicPr/>
          <p:nvPr/>
        </p:nvPicPr>
        <p:blipFill>
          <a:blip r:embed="rId1">
            <a:lum bright="64000"/>
          </a:blip>
          <a:stretch/>
        </p:blipFill>
        <p:spPr>
          <a:xfrm>
            <a:off x="285840" y="214200"/>
            <a:ext cx="8286840" cy="63500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5"/>
          <p:cNvSpPr/>
          <p:nvPr/>
        </p:nvSpPr>
        <p:spPr>
          <a:xfrm>
            <a:off x="1143000" y="3286080"/>
            <a:ext cx="70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ямая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пендикулярной к плоскост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если она перпендикулярна к любой прямой, лежащей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-212760"/>
            <a:ext cx="83455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Блок-схема: данные 3"/>
          <p:cNvSpPr/>
          <p:nvPr/>
        </p:nvSpPr>
        <p:spPr>
          <a:xfrm>
            <a:off x="928800" y="2500200"/>
            <a:ext cx="7215120" cy="2857680"/>
          </a:xfrm>
          <a:prstGeom prst="flowChartInputOutput">
            <a:avLst/>
          </a:prstGeom>
          <a:solidFill>
            <a:srgbClr val="3891a7">
              <a:alpha val="3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7"/>
          <p:cNvSpPr/>
          <p:nvPr/>
        </p:nvSpPr>
        <p:spPr>
          <a:xfrm>
            <a:off x="4500720" y="3714840"/>
            <a:ext cx="0" cy="1571400"/>
          </a:xfrm>
          <a:prstGeom prst="line">
            <a:avLst/>
          </a:prstGeom>
          <a:ln w="507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9"/>
          <p:cNvSpPr/>
          <p:nvPr/>
        </p:nvSpPr>
        <p:spPr>
          <a:xfrm>
            <a:off x="4500720" y="5357880"/>
            <a:ext cx="0" cy="8571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21"/>
          <p:cNvSpPr/>
          <p:nvPr/>
        </p:nvSpPr>
        <p:spPr>
          <a:xfrm>
            <a:off x="5500080" y="2714760"/>
            <a:ext cx="57132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23"/>
          <p:cNvSpPr/>
          <p:nvPr/>
        </p:nvSpPr>
        <p:spPr>
          <a:xfrm>
            <a:off x="3714840" y="478620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5"/>
          <p:cNvSpPr/>
          <p:nvPr/>
        </p:nvSpPr>
        <p:spPr>
          <a:xfrm flipH="1">
            <a:off x="6571800" y="2786040"/>
            <a:ext cx="7858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7"/>
          <p:cNvSpPr/>
          <p:nvPr/>
        </p:nvSpPr>
        <p:spPr>
          <a:xfrm>
            <a:off x="2214720" y="3429000"/>
            <a:ext cx="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1"/>
          <p:cNvSpPr/>
          <p:nvPr/>
        </p:nvSpPr>
        <p:spPr>
          <a:xfrm>
            <a:off x="4500720" y="7858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2"/>
          <p:cNvSpPr/>
          <p:nvPr/>
        </p:nvSpPr>
        <p:spPr>
          <a:xfrm>
            <a:off x="2500200" y="25718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11"/>
          <p:cNvSpPr/>
          <p:nvPr/>
        </p:nvSpPr>
        <p:spPr>
          <a:xfrm>
            <a:off x="3214800" y="3143160"/>
            <a:ext cx="32860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13"/>
          <p:cNvSpPr/>
          <p:nvPr/>
        </p:nvSpPr>
        <p:spPr>
          <a:xfrm flipV="1">
            <a:off x="2428920" y="2714760"/>
            <a:ext cx="378612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6"/>
          <p:cNvSpPr/>
          <p:nvPr/>
        </p:nvSpPr>
        <p:spPr>
          <a:xfrm flipH="1">
            <a:off x="2999880" y="3714840"/>
            <a:ext cx="328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5"/>
          <p:cNvSpPr/>
          <p:nvPr/>
        </p:nvSpPr>
        <p:spPr>
          <a:xfrm flipH="1" flipV="1">
            <a:off x="4428720" y="857160"/>
            <a:ext cx="71640" cy="2857680"/>
          </a:xfrm>
          <a:prstGeom prst="line">
            <a:avLst/>
          </a:prstGeom>
          <a:ln w="50760">
            <a:solidFill>
              <a:srgbClr val="00206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428760" y="35712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О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одна из двух параллельных прямых перпендикулярна  плоскости, то и другая прямая перпендикулярна к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Блок-схема: данные 4"/>
          <p:cNvSpPr/>
          <p:nvPr/>
        </p:nvSpPr>
        <p:spPr>
          <a:xfrm>
            <a:off x="2071800" y="4071960"/>
            <a:ext cx="4857480" cy="1928880"/>
          </a:xfrm>
          <a:prstGeom prst="flowChartInputOutput">
            <a:avLst/>
          </a:prstGeom>
          <a:solidFill>
            <a:srgbClr val="ffff00">
              <a:alpha val="79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6"/>
          <p:cNvSpPr/>
          <p:nvPr/>
        </p:nvSpPr>
        <p:spPr>
          <a:xfrm>
            <a:off x="400068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7"/>
          <p:cNvSpPr/>
          <p:nvPr/>
        </p:nvSpPr>
        <p:spPr>
          <a:xfrm>
            <a:off x="521496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9"/>
          <p:cNvSpPr/>
          <p:nvPr/>
        </p:nvSpPr>
        <p:spPr>
          <a:xfrm flipV="1">
            <a:off x="2786040" y="5214600"/>
            <a:ext cx="1714680" cy="50004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4071960" y="25002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5357880" y="2500200"/>
            <a:ext cx="78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2786040" y="5000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5143680" y="5286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2" descr="16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-4680"/>
            <a:ext cx="9139320" cy="707688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4" descr=""/>
          <p:cNvPicPr/>
          <p:nvPr/>
        </p:nvPicPr>
        <p:blipFill>
          <a:blip r:embed="rId2"/>
          <a:stretch/>
        </p:blipFill>
        <p:spPr>
          <a:xfrm>
            <a:off x="749160" y="689040"/>
            <a:ext cx="755964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" descr="10155-1.jpg"/>
          <p:cNvPicPr/>
          <p:nvPr/>
        </p:nvPicPr>
        <p:blipFill>
          <a:blip r:embed="rId1"/>
          <a:srcRect l="0" t="0" r="0" b="8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5" descr=""/>
          <p:cNvPicPr/>
          <p:nvPr/>
        </p:nvPicPr>
        <p:blipFill>
          <a:blip r:embed="rId2"/>
          <a:stretch/>
        </p:blipFill>
        <p:spPr>
          <a:xfrm>
            <a:off x="560520" y="1859040"/>
            <a:ext cx="82422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345499707_690e9067f3.jpg"/>
          <p:cNvPicPr/>
          <p:nvPr/>
        </p:nvPicPr>
        <p:blipFill>
          <a:blip r:embed="rId1"/>
          <a:stretch/>
        </p:blipFill>
        <p:spPr>
          <a:xfrm>
            <a:off x="-3960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ая соединительная линия 5"/>
          <p:cNvSpPr/>
          <p:nvPr/>
        </p:nvSpPr>
        <p:spPr>
          <a:xfrm>
            <a:off x="5286240" y="1000080"/>
            <a:ext cx="192240" cy="5072040"/>
          </a:xfrm>
          <a:prstGeom prst="line">
            <a:avLst/>
          </a:prstGeom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Равнобедренный треугольник 14"/>
          <p:cNvSpPr/>
          <p:nvPr/>
        </p:nvSpPr>
        <p:spPr>
          <a:xfrm>
            <a:off x="1643040" y="6072120"/>
            <a:ext cx="7500960" cy="785880"/>
          </a:xfrm>
          <a:prstGeom prst="triangle">
            <a:avLst>
              <a:gd name="adj" fmla="val 51125"/>
            </a:avLst>
          </a:prstGeom>
          <a:solidFill>
            <a:srgbClr val="7030a0">
              <a:alpha val="70000"/>
            </a:srgbClr>
          </a:solidFill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Содержимое 3" descr="квадратные капли.jpg"/>
          <p:cNvPicPr/>
          <p:nvPr/>
        </p:nvPicPr>
        <p:blipFill>
          <a:blip r:embed="rId1"/>
          <a:srcRect l="0" t="0" r="1417" b="2520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4" descr=""/>
          <p:cNvPicPr/>
          <p:nvPr/>
        </p:nvPicPr>
        <p:blipFill>
          <a:blip r:embed="rId2"/>
          <a:stretch/>
        </p:blipFill>
        <p:spPr>
          <a:xfrm>
            <a:off x="933480" y="2352600"/>
            <a:ext cx="7467480" cy="2835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"/>
          <p:cNvSpPr/>
          <p:nvPr/>
        </p:nvSpPr>
        <p:spPr>
          <a:xfrm>
            <a:off x="714240" y="214200"/>
            <a:ext cx="8072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Если прямая перпендикулярна к двум пересекающимся прямым, лежавшим в плоскости, то она перпендикулярна к этой плоск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357120" y="150012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им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ая перпендикулярна к прямы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ежавши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пересекающимся в точк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араллелограмм 6"/>
          <p:cNvSpPr/>
          <p:nvPr/>
        </p:nvSpPr>
        <p:spPr>
          <a:xfrm>
            <a:off x="2714760" y="3143160"/>
            <a:ext cx="3714480" cy="1928880"/>
          </a:xfrm>
          <a:prstGeom prst="parallelogram">
            <a:avLst>
              <a:gd name="adj" fmla="val 24999"/>
            </a:avLst>
          </a:prstGeom>
          <a:solidFill>
            <a:srgbClr val="ffff00">
              <a:alpha val="5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8"/>
          <p:cNvSpPr/>
          <p:nvPr/>
        </p:nvSpPr>
        <p:spPr>
          <a:xfrm flipV="1">
            <a:off x="5357880" y="2762280"/>
            <a:ext cx="0" cy="1309680"/>
          </a:xfrm>
          <a:prstGeom prst="line">
            <a:avLst/>
          </a:prstGeom>
          <a:ln w="255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0"/>
          <p:cNvSpPr/>
          <p:nvPr/>
        </p:nvSpPr>
        <p:spPr>
          <a:xfrm>
            <a:off x="5357880" y="4000680"/>
            <a:ext cx="0" cy="107136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2"/>
          <p:cNvSpPr/>
          <p:nvPr/>
        </p:nvSpPr>
        <p:spPr>
          <a:xfrm>
            <a:off x="5357880" y="5072040"/>
            <a:ext cx="0" cy="2858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4"/>
          <p:cNvSpPr/>
          <p:nvPr/>
        </p:nvSpPr>
        <p:spPr>
          <a:xfrm flipV="1">
            <a:off x="3143160" y="3499920"/>
            <a:ext cx="1857600" cy="1071720"/>
          </a:xfrm>
          <a:prstGeom prst="line">
            <a:avLst/>
          </a:prstGeom>
          <a:ln w="2556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7"/>
          <p:cNvSpPr/>
          <p:nvPr/>
        </p:nvSpPr>
        <p:spPr>
          <a:xfrm>
            <a:off x="3571920" y="3786120"/>
            <a:ext cx="13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9"/>
          <p:cNvSpPr/>
          <p:nvPr/>
        </p:nvSpPr>
        <p:spPr>
          <a:xfrm>
            <a:off x="3500280" y="4143240"/>
            <a:ext cx="50040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5"/>
          <p:cNvSpPr/>
          <p:nvPr/>
        </p:nvSpPr>
        <p:spPr>
          <a:xfrm>
            <a:off x="5357880" y="2500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7"/>
          <p:cNvSpPr/>
          <p:nvPr/>
        </p:nvSpPr>
        <p:spPr>
          <a:xfrm>
            <a:off x="4286160" y="307188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8"/>
          <p:cNvSpPr/>
          <p:nvPr/>
        </p:nvSpPr>
        <p:spPr>
          <a:xfrm>
            <a:off x="3429000" y="3286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9"/>
          <p:cNvSpPr/>
          <p:nvPr/>
        </p:nvSpPr>
        <p:spPr>
          <a:xfrm>
            <a:off x="421488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0"/>
          <p:cNvSpPr/>
          <p:nvPr/>
        </p:nvSpPr>
        <p:spPr>
          <a:xfrm>
            <a:off x="4572000" y="4429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2"/>
          <p:cNvSpPr/>
          <p:nvPr/>
        </p:nvSpPr>
        <p:spPr>
          <a:xfrm>
            <a:off x="3857760" y="4214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3"/>
          <p:cNvSpPr/>
          <p:nvPr/>
        </p:nvSpPr>
        <p:spPr>
          <a:xfrm>
            <a:off x="4143240" y="37861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4"/>
          <p:cNvSpPr/>
          <p:nvPr/>
        </p:nvSpPr>
        <p:spPr>
          <a:xfrm>
            <a:off x="395280" y="5589720"/>
            <a:ext cx="83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ажем, чт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пендикуляр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Для этого нужно доказать, что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пендикулярна к произвольн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357120" y="642960"/>
            <a:ext cx="3857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отрим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араллельную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если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в качеств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ьмем саму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357120" y="3143160"/>
            <a:ext cx="3929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им на прямо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, чтобы точ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ла серединой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 проведе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, пересекающую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енно в точках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м считать, для определенности, что точ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жит 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44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51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79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86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"/>
          <p:cNvSpPr/>
          <p:nvPr/>
        </p:nvSpPr>
        <p:spPr>
          <a:xfrm>
            <a:off x="142920" y="214200"/>
            <a:ext cx="44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рединные перпендикуляры к отрез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 = В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 = B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Q = ∆BPQ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ем сторонам. Поэтом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Q 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142920" y="1928880"/>
            <a:ext cx="435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равны по двум сторонам и углу между ним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сторон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= B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о это означает, что треугольни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 его медиа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ысотой, т. е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 ка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║ 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лемме о перпендикулярности двух параллельных прямых к третей). Итак,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люб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 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516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523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0"/>
          <p:cNvSpPr/>
          <p:nvPr/>
        </p:nvSpPr>
        <p:spPr>
          <a:xfrm>
            <a:off x="500040" y="1285920"/>
            <a:ext cx="35006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теперь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раллельную прямой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упомянутой лемм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по доказанному в первом случа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ДОКАЗ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9" name="Рисунок 3" descr="9694791-very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ая соединительная линия 5"/>
          <p:cNvSpPr/>
          <p:nvPr/>
        </p:nvSpPr>
        <p:spPr>
          <a:xfrm>
            <a:off x="2857680" y="2428920"/>
            <a:ext cx="0" cy="350028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9"/>
          <p:cNvSpPr/>
          <p:nvPr/>
        </p:nvSpPr>
        <p:spPr>
          <a:xfrm flipH="1" flipV="1">
            <a:off x="285840" y="5357520"/>
            <a:ext cx="2571840" cy="57132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1"/>
          <p:cNvSpPr/>
          <p:nvPr/>
        </p:nvSpPr>
        <p:spPr>
          <a:xfrm flipV="1">
            <a:off x="2928960" y="5286240"/>
            <a:ext cx="5929200" cy="64296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11512189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ая соединительная линия 5"/>
          <p:cNvSpPr/>
          <p:nvPr/>
        </p:nvSpPr>
        <p:spPr>
          <a:xfrm>
            <a:off x="3286080" y="2286000"/>
            <a:ext cx="0" cy="414324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0"/>
          <p:cNvSpPr/>
          <p:nvPr/>
        </p:nvSpPr>
        <p:spPr>
          <a:xfrm>
            <a:off x="535788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14"/>
          <p:cNvSpPr/>
          <p:nvPr/>
        </p:nvSpPr>
        <p:spPr>
          <a:xfrm>
            <a:off x="714384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6"/>
          <p:cNvSpPr/>
          <p:nvPr/>
        </p:nvSpPr>
        <p:spPr>
          <a:xfrm>
            <a:off x="285840" y="6357960"/>
            <a:ext cx="8858160" cy="14292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eskiz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ая соединительная линия 5"/>
          <p:cNvSpPr/>
          <p:nvPr/>
        </p:nvSpPr>
        <p:spPr>
          <a:xfrm>
            <a:off x="5500800" y="1643040"/>
            <a:ext cx="71280" cy="4714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7"/>
          <p:cNvSpPr/>
          <p:nvPr/>
        </p:nvSpPr>
        <p:spPr>
          <a:xfrm flipV="1">
            <a:off x="5572080" y="5928840"/>
            <a:ext cx="2714760" cy="42876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9"/>
          <p:cNvSpPr/>
          <p:nvPr/>
        </p:nvSpPr>
        <p:spPr>
          <a:xfrm flipH="1" flipV="1">
            <a:off x="4357440" y="6214680"/>
            <a:ext cx="1214280" cy="142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6-____________________________________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707220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ая соединительная линия 5"/>
          <p:cNvSpPr/>
          <p:nvPr/>
        </p:nvSpPr>
        <p:spPr>
          <a:xfrm>
            <a:off x="4000680" y="1143000"/>
            <a:ext cx="0" cy="49291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7"/>
          <p:cNvSpPr/>
          <p:nvPr/>
        </p:nvSpPr>
        <p:spPr>
          <a:xfrm flipV="1">
            <a:off x="4000680" y="5357880"/>
            <a:ext cx="3071520" cy="71424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 flipV="1">
            <a:off x="2928600" y="5928840"/>
            <a:ext cx="1071720" cy="1429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Содержимое 3" descr="5c5df997753137333f9d05584b6603a1_big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18"/>
          <p:cNvSpPr/>
          <p:nvPr/>
        </p:nvSpPr>
        <p:spPr>
          <a:xfrm flipH="1">
            <a:off x="428760" y="785880"/>
            <a:ext cx="71280" cy="507204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0"/>
          <p:cNvSpPr/>
          <p:nvPr/>
        </p:nvSpPr>
        <p:spPr>
          <a:xfrm>
            <a:off x="8572680" y="857160"/>
            <a:ext cx="0" cy="500076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2"/>
          <p:cNvSpPr/>
          <p:nvPr/>
        </p:nvSpPr>
        <p:spPr>
          <a:xfrm>
            <a:off x="428760" y="5857920"/>
            <a:ext cx="8215200" cy="7128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Содержимое 6" descr="39ba73f2df448040b38fdc962dcf2dd6.jpg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700092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7" descr=""/>
          <p:cNvPicPr/>
          <p:nvPr/>
        </p:nvPicPr>
        <p:blipFill>
          <a:blip r:embed="rId2"/>
          <a:stretch/>
        </p:blipFill>
        <p:spPr>
          <a:xfrm>
            <a:off x="566640" y="2712960"/>
            <a:ext cx="79614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7" descr="geometry-on-chalkboard-seamless-vector-wallpaper--thumb389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Содержимое 3" descr="s030301.jpg"/>
          <p:cNvPicPr/>
          <p:nvPr/>
        </p:nvPicPr>
        <p:blipFill>
          <a:blip r:embed="rId2"/>
          <a:stretch/>
        </p:blipFill>
        <p:spPr>
          <a:xfrm>
            <a:off x="428760" y="642960"/>
            <a:ext cx="8429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45:06Z</dcterms:created>
  <dc:creator>Юлия</dc:creator>
  <dc:description/>
  <dc:language>en-US</dc:language>
  <cp:lastModifiedBy>Юлия</cp:lastModifiedBy>
  <dcterms:modified xsi:type="dcterms:W3CDTF">2010-04-16T03:37:13Z</dcterms:modified>
  <cp:revision>48</cp:revision>
  <dc:subject/>
  <dc:title>Слайд 1</dc:title>
</cp:coreProperties>
</file>