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CEC0-C72F-4C93-9EA7-4D976FC5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7F6E-384F-4B01-8871-470D52FF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0D8E-3356-4147-A818-0BF46DBA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E3CC-1141-41D2-B9C8-AA638B40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20F1-623F-4FB6-ACDB-D6E7CF12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791F-55BB-4326-805C-D0350FE6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2860-9EF7-4A5A-849E-ADB3BF48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19AF-B49C-4B64-9805-77D84086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F596-945C-46FA-BE08-D5203DFA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DC00-AEB1-46BF-B6D1-48DE0170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3C7B-7749-4463-9256-F7EE1E0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1CB2-44F5-4281-A91A-45FEE6B1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2A00-4DB3-480B-B20B-71D9A58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BFAB-8C50-4664-A51D-4D2D23A5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CF1C-8ADB-438A-9E32-D6DBD629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0FCC-ED38-4E1A-8D79-7ED47880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540C-C1A0-45AD-8A4D-782794B4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51E0-5B6E-43F7-87A7-2F8853B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DA25-A056-4D80-942F-09914C91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E2F6D-13A7-4F0D-9529-BE21AB86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046E-03F8-4AAE-AA29-7EFD8C40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5AA10-597D-4D3D-AE9C-C037C94A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968D7-0902-4507-AAEC-D4D90B67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61FD-FBD8-451A-BFD6-7890CC6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5D05-DF6D-43CE-BFAC-355F4247A9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EB7C-855D-47C6-8770-BE9C30E300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79280" y="1687680"/>
            <a:ext cx="7164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ирование профессиональных  компетенций выпускн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высше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9280" y="5044680"/>
            <a:ext cx="896472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государственный технический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827600" y="1506600"/>
          <a:ext cx="4284720" cy="4727520"/>
        </p:xfrm>
        <a:graphic>
          <a:graphicData uri="http://schemas.openxmlformats.org/drawingml/2006/table">
            <a:tbl>
              <a:tblPr/>
              <a:tblGrid>
                <a:gridCol w="403200"/>
                <a:gridCol w="590400"/>
                <a:gridCol w="3291120"/>
              </a:tblGrid>
              <a:tr h="334800"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альные 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в социальной сфере и в познавательной и профессиональной деятельности элементарные навыки работы с компьюте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к письменной и устной коммуникации на родном язы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знание второго язы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организационно-управленческие навыки в профессиональной  и социа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 работы с информацией из различных источ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е знания в области информатики и современных информационны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 использования  программных средств и навыки работы в компьютерных сетях, умение составлять базы данных и использовать Интернет-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345960" y="1495440"/>
          <a:ext cx="4329360" cy="4530600"/>
        </p:xfrm>
        <a:graphic>
          <a:graphicData uri="http://schemas.openxmlformats.org/drawingml/2006/table">
            <a:tbl>
              <a:tblPr/>
              <a:tblGrid>
                <a:gridCol w="303480"/>
                <a:gridCol w="703080"/>
                <a:gridCol w="3322800"/>
              </a:tblGrid>
              <a:tr h="274320"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научные 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в познавательной и профессиональной деятельности базовые знания в области математики и естественных нау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приобретать новые знания, используя современные образовательные и информационные технолог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ирать,  обрабатывать и интерпретировать с использованием современных информационных технологий данные, необходимые для формирования суждений по соответствующим социальным, научным и этическим пробле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К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порождать новые иде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совершенствовать и развивать свой интеллектуальный и общекультурный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К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и готовность к активному общению в научной, производственной и общекультур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Rectangle 92"/>
          <p:cNvSpPr/>
          <p:nvPr/>
        </p:nvSpPr>
        <p:spPr>
          <a:xfrm>
            <a:off x="484200" y="696960"/>
            <a:ext cx="8686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держание компетенций в стандар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322200" y="1038240"/>
          <a:ext cx="3784680" cy="4873680"/>
        </p:xfrm>
        <a:graphic>
          <a:graphicData uri="http://schemas.openxmlformats.org/drawingml/2006/table">
            <a:tbl>
              <a:tblPr/>
              <a:tblGrid>
                <a:gridCol w="390600"/>
                <a:gridCol w="642960"/>
                <a:gridCol w="2751120"/>
              </a:tblGrid>
              <a:tr h="4572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личностные и общекультурные 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выстраивать и реализовывать перспективные линии интеллектуального, культурного, нравственного, физического и профессионального саморазвития и самосовершенств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ойчивость в достижении ц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критически переосмысливать накопленный опы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еран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К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ботать самостоятельно и в коллективе, руководить и подчиня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ессион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научно-исследовательск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эксплуатировать современную аппаратуру и оборудование для научных исследований в соответствии с профилем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321080" y="1038240"/>
          <a:ext cx="4576680" cy="5692680"/>
        </p:xfrm>
        <a:graphic>
          <a:graphicData uri="http://schemas.openxmlformats.org/drawingml/2006/table">
            <a:tbl>
              <a:tblPr/>
              <a:tblGrid>
                <a:gridCol w="425520"/>
                <a:gridCol w="606600"/>
                <a:gridCol w="354456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УПК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самостоятельно ставить конкретные задачи научных исследований в соответствии с профилем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роект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понимать принципы составления проектов производственных и конструкторских работ (в соответствии с профилиз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пользоваться нормативными документами (в соответствии с профилизацией) и научно-производств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УП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 составлять проекты научно-исследовательских и научно-производственных раб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УПК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a3494"/>
                          </a:solidFill>
                          <a:latin typeface="Times New Roman"/>
                          <a:ea typeface="Times New Roman"/>
                        </a:rPr>
                        <a:t>Способность и готовность к проектированию комплексных научно-исследовательских и научно-производственных исследований в соответствии с нормативными документами по профилю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о-специализированные 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специализированные знания фундаментальных разделов естественных наук (в соответствии с профилиз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использовать компьютер на уровне пользователя и информационные технологии для решения специализированных задач (в соответствии с профилиз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320760" y="5902200"/>
          <a:ext cx="3784680" cy="822600"/>
        </p:xfrm>
        <a:graphic>
          <a:graphicData uri="http://schemas.openxmlformats.org/drawingml/2006/table">
            <a:tbl>
              <a:tblPr/>
              <a:tblGrid>
                <a:gridCol w="390600"/>
                <a:gridCol w="644400"/>
                <a:gridCol w="27496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научно-технических отчетов, обзоров, аналитических карт, пояснительных записок (в соответствии с профилизаци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Rectangle 393"/>
          <p:cNvSpPr/>
          <p:nvPr/>
        </p:nvSpPr>
        <p:spPr>
          <a:xfrm>
            <a:off x="304920" y="341280"/>
            <a:ext cx="8686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держание компетенций в стандар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етентностная модель выпускн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оект третьего поколения ФГОС ВП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27920" y="1409760"/>
            <a:ext cx="3126600" cy="36828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омпетенции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442520" y="2200320"/>
            <a:ext cx="1977480" cy="36828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Универс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686480" y="2200320"/>
            <a:ext cx="2423880" cy="36828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1840" y="3065400"/>
            <a:ext cx="1819080" cy="6426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Общенау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145600" y="3065400"/>
            <a:ext cx="2001960" cy="6426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нструмента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390920" y="3065400"/>
            <a:ext cx="1733760" cy="6426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Общепроф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476400" y="3065400"/>
            <a:ext cx="2500200" cy="6426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рофильно-специ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лиз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611360" y="4097160"/>
            <a:ext cx="1689120" cy="146556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личностны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и общеку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ту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637000" y="1795320"/>
            <a:ext cx="1450800" cy="40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782640" y="2585880"/>
            <a:ext cx="123336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2016000" y="2585880"/>
            <a:ext cx="130500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2016000" y="2585880"/>
            <a:ext cx="0" cy="155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4073400" y="1795320"/>
            <a:ext cx="1471680" cy="40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6024600" y="2585880"/>
            <a:ext cx="147168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 flipH="1">
            <a:off x="4791240" y="2585880"/>
            <a:ext cx="123336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9"/>
          <p:cNvGrpSpPr/>
          <p:nvPr/>
        </p:nvGrpSpPr>
        <p:grpSpPr>
          <a:xfrm>
            <a:off x="136440" y="3726000"/>
            <a:ext cx="8605800" cy="2896920"/>
            <a:chOff x="136440" y="3726000"/>
            <a:chExt cx="8605800" cy="2896920"/>
          </a:xfrm>
        </p:grpSpPr>
        <p:sp>
          <p:nvSpPr>
            <p:cNvPr id="125" name="Text Box 21"/>
            <p:cNvSpPr/>
            <p:nvPr/>
          </p:nvSpPr>
          <p:spPr>
            <a:xfrm>
              <a:off x="3792600" y="4670280"/>
              <a:ext cx="627120" cy="94644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И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И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И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136440" y="4670280"/>
              <a:ext cx="1265400" cy="137268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Н1    УН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Н2       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Н3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УН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…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Н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k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3"/>
            <p:cNvSpPr/>
            <p:nvPr/>
          </p:nvSpPr>
          <p:spPr>
            <a:xfrm>
              <a:off x="7432560" y="4668840"/>
              <a:ext cx="1309680" cy="73332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С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1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УПС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…        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С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w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УПС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4"/>
            <p:cNvSpPr/>
            <p:nvPr/>
          </p:nvSpPr>
          <p:spPr>
            <a:xfrm>
              <a:off x="2319480" y="5889600"/>
              <a:ext cx="529920" cy="73332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Л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Л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6"/>
            <p:cNvSpPr/>
            <p:nvPr/>
          </p:nvSpPr>
          <p:spPr>
            <a:xfrm>
              <a:off x="798480" y="3726000"/>
              <a:ext cx="1800" cy="94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7"/>
            <p:cNvSpPr/>
            <p:nvPr/>
          </p:nvSpPr>
          <p:spPr>
            <a:xfrm>
              <a:off x="7848720" y="3726000"/>
              <a:ext cx="1440" cy="94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3321000" y="3726000"/>
              <a:ext cx="782640" cy="9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 flipH="1">
              <a:off x="2550960" y="5580000"/>
              <a:ext cx="504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5353200" y="4670280"/>
              <a:ext cx="1446120" cy="946440"/>
            </a:xfrm>
            <a:prstGeom prst="rect">
              <a:avLst/>
            </a:prstGeom>
            <a:solidFill>
              <a:srgbClr val="cf51a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П1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УОП1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П2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УОП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…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 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ОП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z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УОП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4"/>
            <p:cNvSpPr/>
            <p:nvPr/>
          </p:nvSpPr>
          <p:spPr>
            <a:xfrm>
              <a:off x="5353200" y="3726000"/>
              <a:ext cx="368280" cy="94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29052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17360" y="1168560"/>
            <a:ext cx="90266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3494"/>
                </a:solidFill>
                <a:latin typeface="Arial"/>
              </a:rPr>
              <a:t>Компетентность</a:t>
            </a:r>
            <a:r>
              <a:rPr b="0" lang="ru-RU" sz="2400" spc="-1" strike="noStrike">
                <a:solidFill>
                  <a:srgbClr val="a505b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пособность и готовность индивидуума применять на практике приобретенные зн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у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3494"/>
                </a:solidFill>
                <a:latin typeface="Arial"/>
              </a:rPr>
              <a:t>Компетентность специалиста</a:t>
            </a:r>
            <a:r>
              <a:rPr b="0" lang="ru-RU" sz="2400" spc="-1" strike="noStrike">
                <a:solidFill>
                  <a:srgbClr val="a505b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и готовность осуществлять деятельность в определенных профессиональных условиях, интегрированная характеристика личности, одной из составляющих которой является профессиональная квал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3494"/>
                </a:solidFill>
                <a:latin typeface="Arial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означение образовательного результата, выражающегося в подготовленности выпускника к реальному владению методами, средствами деятельности, обладанию такой формы сочетания знаний, умений и навыков, которая позволяет достигать поставленн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a3494"/>
                </a:solidFill>
                <a:latin typeface="Arial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знания в действии»</a:t>
            </a:r>
            <a:r>
              <a:rPr b="0" lang="ru-RU" sz="2400" spc="-1" strike="noStrike">
                <a:solidFill>
                  <a:srgbClr val="ba349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0" y="5829480"/>
            <a:ext cx="9144000" cy="764280"/>
            <a:chOff x="0" y="5829480"/>
            <a:chExt cx="9144000" cy="764280"/>
          </a:xfrm>
        </p:grpSpPr>
        <p:sp>
          <p:nvSpPr>
            <p:cNvPr id="138" name="Text Box 8"/>
            <p:cNvSpPr/>
            <p:nvPr/>
          </p:nvSpPr>
          <p:spPr>
            <a:xfrm>
              <a:off x="0" y="5829480"/>
              <a:ext cx="91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ba3494"/>
                  </a:solidFill>
                  <a:latin typeface="Arial"/>
                </a:rPr>
                <a:t>Компетенция = знания + умения + навыки + опыт</a:t>
              </a:r>
              <a:r>
                <a:rPr b="1" lang="ru-RU" sz="2000" spc="-1" strike="noStrike">
                  <a:solidFill>
                    <a:srgbClr val="ba3494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ba3494"/>
                  </a:solidFill>
                  <a:latin typeface="Arial"/>
                </a:rPr>
                <a:t>деятельност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1774800" y="6334200"/>
              <a:ext cx="5195880" cy="144360"/>
            </a:xfrm>
            <a:prstGeom prst="rightArrow">
              <a:avLst>
                <a:gd name="adj1" fmla="val 50000"/>
                <a:gd name="adj2" fmla="val 89981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7058880" y="6189840"/>
              <a:ext cx="8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рем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1365120" y="1482840"/>
            <a:ext cx="6329520" cy="2363760"/>
          </a:xfrm>
          <a:prstGeom prst="rect">
            <a:avLst/>
          </a:prstGeom>
          <a:solidFill>
            <a:srgbClr val="9c06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632960" y="1476360"/>
            <a:ext cx="58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омпетентность – мотивированная способность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готовность действовать в определен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1785960" y="2228760"/>
            <a:ext cx="5503680" cy="1617840"/>
          </a:xfrm>
          <a:prstGeom prst="rect">
            <a:avLst/>
          </a:prstGeom>
          <a:solidFill>
            <a:srgbClr val="d76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633680" y="2246400"/>
            <a:ext cx="58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бор компетенций - актуальное, мотивиров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ое знание и понимание как действ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2624040" y="2878200"/>
            <a:ext cx="3886200" cy="968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Квалификационны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знания, ум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выки, ц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144360" y="4473720"/>
            <a:ext cx="3279960" cy="2208240"/>
            <a:chOff x="144360" y="4473720"/>
            <a:chExt cx="3279960" cy="2208240"/>
          </a:xfrm>
        </p:grpSpPr>
        <p:sp>
          <p:nvSpPr>
            <p:cNvPr id="147" name="Rectangle 13"/>
            <p:cNvSpPr/>
            <p:nvPr/>
          </p:nvSpPr>
          <p:spPr>
            <a:xfrm>
              <a:off x="144360" y="4473720"/>
              <a:ext cx="3279960" cy="2208240"/>
            </a:xfrm>
            <a:prstGeom prst="rect">
              <a:avLst/>
            </a:prstGeom>
            <a:solidFill>
              <a:srgbClr val="d76f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4"/>
            <p:cNvSpPr/>
            <p:nvPr/>
          </p:nvSpPr>
          <p:spPr>
            <a:xfrm rot="16200000">
              <a:off x="-156960" y="5511600"/>
              <a:ext cx="1484280" cy="566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омпонент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5"/>
            <p:cNvSpPr/>
            <p:nvPr/>
          </p:nvSpPr>
          <p:spPr>
            <a:xfrm rot="16200000">
              <a:off x="668160" y="5511600"/>
              <a:ext cx="1484280" cy="566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омпонент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 rot="16200000">
              <a:off x="2195280" y="5500440"/>
              <a:ext cx="1484280" cy="566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омпонент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7"/>
            <p:cNvSpPr/>
            <p:nvPr/>
          </p:nvSpPr>
          <p:spPr>
            <a:xfrm>
              <a:off x="933120" y="4537080"/>
              <a:ext cx="170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омпетен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922400" y="560556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9"/>
          <p:cNvGrpSpPr/>
          <p:nvPr/>
        </p:nvGrpSpPr>
        <p:grpSpPr>
          <a:xfrm>
            <a:off x="5564160" y="4729320"/>
            <a:ext cx="3422520" cy="1812960"/>
            <a:chOff x="5564160" y="4729320"/>
            <a:chExt cx="3422520" cy="1812960"/>
          </a:xfrm>
        </p:grpSpPr>
        <p:sp>
          <p:nvSpPr>
            <p:cNvPr id="154" name="Rectangle 20"/>
            <p:cNvSpPr/>
            <p:nvPr/>
          </p:nvSpPr>
          <p:spPr>
            <a:xfrm>
              <a:off x="5564160" y="4729320"/>
              <a:ext cx="3378240" cy="1728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1"/>
            <p:cNvSpPr/>
            <p:nvPr/>
          </p:nvSpPr>
          <p:spPr>
            <a:xfrm>
              <a:off x="5587920" y="4802400"/>
              <a:ext cx="3398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Формирование компетенций на осно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деятельностных 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личностно-ориентиров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технолог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22"/>
          <p:cNvSpPr/>
          <p:nvPr/>
        </p:nvSpPr>
        <p:spPr>
          <a:xfrm>
            <a:off x="3473280" y="4954680"/>
            <a:ext cx="1984680" cy="635040"/>
          </a:xfrm>
          <a:prstGeom prst="leftArrow">
            <a:avLst>
              <a:gd name="adj1" fmla="val 50000"/>
              <a:gd name="adj2" fmla="val 7813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>
            <a:off x="3473280" y="5668920"/>
            <a:ext cx="1984680" cy="635040"/>
          </a:xfrm>
          <a:prstGeom prst="leftArrow">
            <a:avLst>
              <a:gd name="adj1" fmla="val 50000"/>
              <a:gd name="adj2" fmla="val 78132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Те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0" y="214200"/>
            <a:ext cx="89438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и структура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57200" y="457200"/>
            <a:ext cx="82296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перечня компетен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1279440"/>
            <a:ext cx="8229600" cy="54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Составление списка основных работод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Формирование вузом перечня компетенций по данному направлению подготовки специалистов на основ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40044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стандартов прошлого поко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40044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опыта преподавательского сост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40044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рекомендаций экспер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40044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отзывов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Оформление анк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Рассылка анкеты и сбор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Анализ результатов, выявление важнейших компетенций, отмеченных большинством работод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Выделение ядра компетенций и выбор направлений целев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24"/>
          <p:cNvSpPr/>
          <p:nvPr/>
        </p:nvSpPr>
        <p:spPr>
          <a:xfrm flipH="1">
            <a:off x="1036800" y="4003560"/>
            <a:ext cx="76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77760" y="461880"/>
            <a:ext cx="935496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выявления компетенций специал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35"/>
          <p:cNvGrpSpPr/>
          <p:nvPr/>
        </p:nvGrpSpPr>
        <p:grpSpPr>
          <a:xfrm>
            <a:off x="4419720" y="2751120"/>
            <a:ext cx="3967200" cy="1928880"/>
            <a:chOff x="4419720" y="2751120"/>
            <a:chExt cx="3967200" cy="1928880"/>
          </a:xfrm>
        </p:grpSpPr>
        <p:grpSp>
          <p:nvGrpSpPr>
            <p:cNvPr id="164" name="Group 134"/>
            <p:cNvGrpSpPr/>
            <p:nvPr/>
          </p:nvGrpSpPr>
          <p:grpSpPr>
            <a:xfrm>
              <a:off x="5172120" y="3147840"/>
              <a:ext cx="3214800" cy="1276200"/>
              <a:chOff x="5172120" y="3147840"/>
              <a:chExt cx="3214800" cy="1276200"/>
            </a:xfrm>
          </p:grpSpPr>
          <p:grpSp>
            <p:nvGrpSpPr>
              <p:cNvPr id="165" name="Group 118"/>
              <p:cNvGrpSpPr/>
              <p:nvPr/>
            </p:nvGrpSpPr>
            <p:grpSpPr>
              <a:xfrm>
                <a:off x="5172120" y="3147840"/>
                <a:ext cx="2895120" cy="1276200"/>
                <a:chOff x="5172120" y="3147840"/>
                <a:chExt cx="2895120" cy="1276200"/>
              </a:xfrm>
            </p:grpSpPr>
            <p:sp>
              <p:nvSpPr>
                <p:cNvPr id="166" name="Freeform 94"/>
                <p:cNvSpPr/>
                <p:nvPr/>
              </p:nvSpPr>
              <p:spPr>
                <a:xfrm>
                  <a:off x="5172120" y="3147840"/>
                  <a:ext cx="2895120" cy="576360"/>
                </a:xfrm>
                <a:custGeom>
                  <a:avLst/>
                  <a:gdLst>
                    <a:gd name="textAreaLeft" fmla="*/ 0 w 2895120"/>
                    <a:gd name="textAreaRight" fmla="*/ 2895480 w 2895120"/>
                    <a:gd name="textAreaTop" fmla="*/ 0 h 576360"/>
                    <a:gd name="textAreaBottom" fmla="*/ 576720 h 576360"/>
                  </a:gdLst>
                  <a:ahLst/>
                  <a:rect l="textAreaLeft" t="textAreaTop" r="textAreaRight" b="textAreaBottom"/>
                  <a:pathLst>
                    <a:path w="3138" h="906">
                      <a:moveTo>
                        <a:pt x="0" y="0"/>
                      </a:moveTo>
                      <a:lnTo>
                        <a:pt x="1590" y="906"/>
                      </a:lnTo>
                      <a:lnTo>
                        <a:pt x="3138" y="906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95"/>
                <p:cNvSpPr/>
                <p:nvPr/>
              </p:nvSpPr>
              <p:spPr>
                <a:xfrm>
                  <a:off x="5192280" y="3724200"/>
                  <a:ext cx="1446480" cy="699840"/>
                </a:xfrm>
                <a:custGeom>
                  <a:avLst/>
                  <a:gdLst>
                    <a:gd name="textAreaLeft" fmla="*/ 0 w 1446480"/>
                    <a:gd name="textAreaRight" fmla="*/ 1446480 w 1446480"/>
                    <a:gd name="textAreaTop" fmla="*/ 0 h 699840"/>
                    <a:gd name="textAreaBottom" fmla="*/ 700200 h 699840"/>
                  </a:gdLst>
                  <a:ahLst/>
                  <a:rect l="textAreaLeft" t="textAreaTop" r="textAreaRight" b="textAreaBottom"/>
                  <a:pathLst>
                    <a:path w="1566" h="1104">
                      <a:moveTo>
                        <a:pt x="0" y="1104"/>
                      </a:moveTo>
                      <a:lnTo>
                        <a:pt x="15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98"/>
              <p:cNvSpPr/>
              <p:nvPr/>
            </p:nvSpPr>
            <p:spPr>
              <a:xfrm>
                <a:off x="6672240" y="3394080"/>
                <a:ext cx="171468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Целевая подготов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Oval 76"/>
            <p:cNvSpPr/>
            <p:nvPr/>
          </p:nvSpPr>
          <p:spPr>
            <a:xfrm>
              <a:off x="4419720" y="3830760"/>
              <a:ext cx="86508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77"/>
            <p:cNvSpPr/>
            <p:nvPr/>
          </p:nvSpPr>
          <p:spPr>
            <a:xfrm>
              <a:off x="4424400" y="2751120"/>
              <a:ext cx="747720" cy="74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29"/>
          <p:cNvGrpSpPr/>
          <p:nvPr/>
        </p:nvGrpSpPr>
        <p:grpSpPr>
          <a:xfrm>
            <a:off x="2950920" y="2509560"/>
            <a:ext cx="2405160" cy="2473560"/>
            <a:chOff x="2950920" y="2509560"/>
            <a:chExt cx="2405160" cy="2473560"/>
          </a:xfrm>
        </p:grpSpPr>
        <p:sp>
          <p:nvSpPr>
            <p:cNvPr id="172" name="Text Box 80"/>
            <p:cNvSpPr/>
            <p:nvPr/>
          </p:nvSpPr>
          <p:spPr>
            <a:xfrm>
              <a:off x="3292560" y="4243320"/>
              <a:ext cx="625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Arial"/>
                </a:rPr>
                <a:t>Р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1"/>
            <p:cNvSpPr/>
            <p:nvPr/>
          </p:nvSpPr>
          <p:spPr>
            <a:xfrm>
              <a:off x="4664160" y="2855880"/>
              <a:ext cx="62532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Arial"/>
                </a:rPr>
                <a:t>Р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2"/>
            <p:cNvSpPr/>
            <p:nvPr/>
          </p:nvSpPr>
          <p:spPr>
            <a:xfrm>
              <a:off x="3316320" y="2776680"/>
              <a:ext cx="603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9"/>
            <p:cNvSpPr/>
            <p:nvPr/>
          </p:nvSpPr>
          <p:spPr>
            <a:xfrm flipH="1" flipV="1">
              <a:off x="2950920" y="2543040"/>
              <a:ext cx="34596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90"/>
            <p:cNvSpPr/>
            <p:nvPr/>
          </p:nvSpPr>
          <p:spPr>
            <a:xfrm>
              <a:off x="3166920" y="4043520"/>
              <a:ext cx="747720" cy="723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1"/>
            <p:cNvSpPr/>
            <p:nvPr/>
          </p:nvSpPr>
          <p:spPr>
            <a:xfrm flipV="1">
              <a:off x="4976640" y="2509560"/>
              <a:ext cx="37944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2"/>
            <p:cNvSpPr/>
            <p:nvPr/>
          </p:nvSpPr>
          <p:spPr>
            <a:xfrm>
              <a:off x="4419720" y="2760840"/>
              <a:ext cx="747720" cy="723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7"/>
            <p:cNvSpPr/>
            <p:nvPr/>
          </p:nvSpPr>
          <p:spPr>
            <a:xfrm>
              <a:off x="3193920" y="2693880"/>
              <a:ext cx="747720" cy="723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9"/>
            <p:cNvSpPr/>
            <p:nvPr/>
          </p:nvSpPr>
          <p:spPr>
            <a:xfrm flipV="1">
              <a:off x="3084480" y="4721040"/>
              <a:ext cx="249120" cy="2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0"/>
            <p:cNvSpPr/>
            <p:nvPr/>
          </p:nvSpPr>
          <p:spPr>
            <a:xfrm flipH="1" flipV="1">
              <a:off x="5040000" y="4640400"/>
              <a:ext cx="24300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28"/>
            <p:cNvGrpSpPr/>
            <p:nvPr/>
          </p:nvGrpSpPr>
          <p:grpSpPr>
            <a:xfrm>
              <a:off x="4419720" y="3851280"/>
              <a:ext cx="884160" cy="1017720"/>
              <a:chOff x="4419720" y="3851280"/>
              <a:chExt cx="884160" cy="1017720"/>
            </a:xfrm>
          </p:grpSpPr>
          <p:sp>
            <p:nvSpPr>
              <p:cNvPr id="183" name="Oval 104"/>
              <p:cNvSpPr/>
              <p:nvPr/>
            </p:nvSpPr>
            <p:spPr>
              <a:xfrm>
                <a:off x="4419720" y="3851280"/>
                <a:ext cx="865080" cy="824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05"/>
              <p:cNvSpPr/>
              <p:nvPr/>
            </p:nvSpPr>
            <p:spPr>
              <a:xfrm>
                <a:off x="4632480" y="4222800"/>
                <a:ext cx="671400" cy="6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r>
                  <a:rPr b="1" lang="ru-RU" sz="2000" spc="-1" strike="noStrike" baseline="-25000">
                    <a:solidFill>
                      <a:srgbClr val="000000"/>
                    </a:solidFill>
                    <a:latin typeface="Arial"/>
                  </a:rPr>
                  <a:t>Р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Line 106"/>
          <p:cNvSpPr/>
          <p:nvPr/>
        </p:nvSpPr>
        <p:spPr>
          <a:xfrm flipH="1">
            <a:off x="1034640" y="1631880"/>
            <a:ext cx="3240" cy="432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7"/>
          <p:cNvGrpSpPr/>
          <p:nvPr/>
        </p:nvGrpSpPr>
        <p:grpSpPr>
          <a:xfrm>
            <a:off x="1038240" y="1631520"/>
            <a:ext cx="5064120" cy="4319640"/>
            <a:chOff x="1038240" y="1631520"/>
            <a:chExt cx="5064120" cy="4319640"/>
          </a:xfrm>
        </p:grpSpPr>
        <p:grpSp>
          <p:nvGrpSpPr>
            <p:cNvPr id="187" name="Group 117"/>
            <p:cNvGrpSpPr/>
            <p:nvPr/>
          </p:nvGrpSpPr>
          <p:grpSpPr>
            <a:xfrm>
              <a:off x="1038240" y="1631520"/>
              <a:ext cx="4154040" cy="426600"/>
              <a:chOff x="1038240" y="1631520"/>
              <a:chExt cx="4154040" cy="426600"/>
            </a:xfrm>
          </p:grpSpPr>
          <p:sp>
            <p:nvSpPr>
              <p:cNvPr id="188" name="Line 107"/>
              <p:cNvSpPr/>
              <p:nvPr/>
            </p:nvSpPr>
            <p:spPr>
              <a:xfrm>
                <a:off x="1038240" y="1631880"/>
                <a:ext cx="41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11"/>
              <p:cNvSpPr/>
              <p:nvPr/>
            </p:nvSpPr>
            <p:spPr>
              <a:xfrm flipV="1">
                <a:off x="5192280" y="163152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12"/>
              <p:cNvSpPr/>
              <p:nvPr/>
            </p:nvSpPr>
            <p:spPr>
              <a:xfrm flipV="1">
                <a:off x="2581560" y="163152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14"/>
              <p:cNvSpPr/>
              <p:nvPr/>
            </p:nvSpPr>
            <p:spPr>
              <a:xfrm flipV="1">
                <a:off x="3906720" y="163152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 Box 83"/>
            <p:cNvSpPr/>
            <p:nvPr/>
          </p:nvSpPr>
          <p:spPr>
            <a:xfrm>
              <a:off x="4384800" y="2058840"/>
              <a:ext cx="1717560" cy="473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одатель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84"/>
            <p:cNvSpPr/>
            <p:nvPr/>
          </p:nvSpPr>
          <p:spPr>
            <a:xfrm>
              <a:off x="2414520" y="4979880"/>
              <a:ext cx="1700280" cy="540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одатель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02"/>
            <p:cNvSpPr/>
            <p:nvPr/>
          </p:nvSpPr>
          <p:spPr>
            <a:xfrm>
              <a:off x="1803240" y="2058840"/>
              <a:ext cx="1679760" cy="473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одатель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03"/>
            <p:cNvSpPr/>
            <p:nvPr/>
          </p:nvSpPr>
          <p:spPr>
            <a:xfrm>
              <a:off x="4253040" y="4979880"/>
              <a:ext cx="1790640" cy="540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одатель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16"/>
            <p:cNvGrpSpPr/>
            <p:nvPr/>
          </p:nvGrpSpPr>
          <p:grpSpPr>
            <a:xfrm>
              <a:off x="1038240" y="5519880"/>
              <a:ext cx="4154040" cy="431280"/>
              <a:chOff x="1038240" y="5519880"/>
              <a:chExt cx="4154040" cy="431280"/>
            </a:xfrm>
          </p:grpSpPr>
          <p:sp>
            <p:nvSpPr>
              <p:cNvPr id="197" name="Line 108"/>
              <p:cNvSpPr/>
              <p:nvPr/>
            </p:nvSpPr>
            <p:spPr>
              <a:xfrm>
                <a:off x="1038240" y="5951160"/>
                <a:ext cx="41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09"/>
              <p:cNvSpPr/>
              <p:nvPr/>
            </p:nvSpPr>
            <p:spPr>
              <a:xfrm flipV="1">
                <a:off x="5192280" y="5519880"/>
                <a:ext cx="0" cy="43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10"/>
              <p:cNvSpPr/>
              <p:nvPr/>
            </p:nvSpPr>
            <p:spPr>
              <a:xfrm flipV="1">
                <a:off x="3305520" y="5519880"/>
                <a:ext cx="0" cy="43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115"/>
            <p:cNvSpPr/>
            <p:nvPr/>
          </p:nvSpPr>
          <p:spPr>
            <a:xfrm>
              <a:off x="3581280" y="2058840"/>
              <a:ext cx="612720" cy="473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b38f6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3"/>
          <p:cNvGrpSpPr/>
          <p:nvPr/>
        </p:nvGrpSpPr>
        <p:grpSpPr>
          <a:xfrm>
            <a:off x="3368520" y="2847960"/>
            <a:ext cx="4870440" cy="1600200"/>
            <a:chOff x="3368520" y="2847960"/>
            <a:chExt cx="4870440" cy="1600200"/>
          </a:xfrm>
        </p:grpSpPr>
        <p:sp>
          <p:nvSpPr>
            <p:cNvPr id="202" name="Text Box 96"/>
            <p:cNvSpPr/>
            <p:nvPr/>
          </p:nvSpPr>
          <p:spPr>
            <a:xfrm>
              <a:off x="5961240" y="2847960"/>
              <a:ext cx="2277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щее  яд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78"/>
            <p:cNvSpPr/>
            <p:nvPr/>
          </p:nvSpPr>
          <p:spPr>
            <a:xfrm>
              <a:off x="3368520" y="3060720"/>
              <a:ext cx="1798920" cy="1387440"/>
            </a:xfrm>
            <a:prstGeom prst="ellipse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21"/>
            <p:cNvGrpSpPr/>
            <p:nvPr/>
          </p:nvGrpSpPr>
          <p:grpSpPr>
            <a:xfrm>
              <a:off x="5029200" y="3178080"/>
              <a:ext cx="2743200" cy="557280"/>
              <a:chOff x="5029200" y="3178080"/>
              <a:chExt cx="2743200" cy="557280"/>
            </a:xfrm>
          </p:grpSpPr>
          <p:sp>
            <p:nvSpPr>
              <p:cNvPr id="205" name="Line 119"/>
              <p:cNvSpPr/>
              <p:nvPr/>
            </p:nvSpPr>
            <p:spPr>
              <a:xfrm flipV="1">
                <a:off x="5029200" y="3178080"/>
                <a:ext cx="1305000" cy="55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20"/>
              <p:cNvSpPr/>
              <p:nvPr/>
            </p:nvSpPr>
            <p:spPr>
              <a:xfrm>
                <a:off x="6334200" y="3178080"/>
                <a:ext cx="1438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123"/>
          <p:cNvGrpSpPr/>
          <p:nvPr/>
        </p:nvGrpSpPr>
        <p:grpSpPr>
          <a:xfrm>
            <a:off x="1193760" y="3281400"/>
            <a:ext cx="3500640" cy="884160"/>
            <a:chOff x="1193760" y="3281400"/>
            <a:chExt cx="3500640" cy="884160"/>
          </a:xfrm>
        </p:grpSpPr>
        <p:sp>
          <p:nvSpPr>
            <p:cNvPr id="208" name="Text Box 79"/>
            <p:cNvSpPr/>
            <p:nvPr/>
          </p:nvSpPr>
          <p:spPr>
            <a:xfrm>
              <a:off x="3795840" y="3730680"/>
              <a:ext cx="898560" cy="350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1600" spc="-1" strike="noStrike" baseline="-25000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85"/>
            <p:cNvSpPr/>
            <p:nvPr/>
          </p:nvSpPr>
          <p:spPr>
            <a:xfrm>
              <a:off x="1193760" y="3303720"/>
              <a:ext cx="2070000" cy="40464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995c7a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нобрнауки Р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6"/>
            <p:cNvSpPr/>
            <p:nvPr/>
          </p:nvSpPr>
          <p:spPr>
            <a:xfrm>
              <a:off x="1797120" y="3830760"/>
              <a:ext cx="1369800" cy="33480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995c7a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7"/>
            <p:cNvSpPr/>
            <p:nvPr/>
          </p:nvSpPr>
          <p:spPr>
            <a:xfrm>
              <a:off x="3166920" y="3967200"/>
              <a:ext cx="62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8"/>
            <p:cNvSpPr/>
            <p:nvPr/>
          </p:nvSpPr>
          <p:spPr>
            <a:xfrm>
              <a:off x="3281400" y="3517920"/>
              <a:ext cx="51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01"/>
            <p:cNvSpPr/>
            <p:nvPr/>
          </p:nvSpPr>
          <p:spPr>
            <a:xfrm>
              <a:off x="3795840" y="3281400"/>
              <a:ext cx="898560" cy="449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44313"/>
                  </a:srgbClr>
                </a:gs>
                <a:gs pos="100000">
                  <a:srgbClr val="272727">
                    <a:alpha val="56078"/>
                  </a:srgbClr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ru-RU" sz="1600" spc="-1" strike="noStrike" baseline="-25000">
                  <a:solidFill>
                    <a:srgbClr val="000000"/>
                  </a:solidFill>
                  <a:latin typeface="Arial"/>
                </a:rPr>
                <a:t>ФГ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5"/>
          <p:cNvGrpSpPr/>
          <p:nvPr/>
        </p:nvGrpSpPr>
        <p:grpSpPr>
          <a:xfrm>
            <a:off x="1749600" y="3000240"/>
            <a:ext cx="5600520" cy="3857760"/>
            <a:chOff x="1749600" y="3000240"/>
            <a:chExt cx="5600520" cy="3857760"/>
          </a:xfrm>
        </p:grpSpPr>
        <p:sp>
          <p:nvSpPr>
            <p:cNvPr id="215" name="Rectangle 36"/>
            <p:cNvSpPr/>
            <p:nvPr/>
          </p:nvSpPr>
          <p:spPr>
            <a:xfrm>
              <a:off x="1749600" y="3000240"/>
              <a:ext cx="5600520" cy="3800520"/>
            </a:xfrm>
            <a:prstGeom prst="rect">
              <a:avLst/>
            </a:prstGeom>
            <a:solidFill>
              <a:srgbClr val="ffcc99">
                <a:alpha val="5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7"/>
            <p:cNvSpPr/>
            <p:nvPr/>
          </p:nvSpPr>
          <p:spPr>
            <a:xfrm>
              <a:off x="4611240" y="3120840"/>
              <a:ext cx="609480" cy="5014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8"/>
            <p:cNvSpPr/>
            <p:nvPr/>
          </p:nvSpPr>
          <p:spPr>
            <a:xfrm flipV="1">
              <a:off x="4900680" y="3622320"/>
              <a:ext cx="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9"/>
            <p:cNvSpPr/>
            <p:nvPr/>
          </p:nvSpPr>
          <p:spPr>
            <a:xfrm flipV="1">
              <a:off x="4295520" y="3622320"/>
              <a:ext cx="43812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40"/>
            <p:cNvSpPr/>
            <p:nvPr/>
          </p:nvSpPr>
          <p:spPr>
            <a:xfrm>
              <a:off x="5968440" y="3127680"/>
              <a:ext cx="608040" cy="5022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5290560" y="3127680"/>
              <a:ext cx="608040" cy="5022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3789000" y="3127680"/>
              <a:ext cx="609480" cy="5022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4128480" y="4116960"/>
              <a:ext cx="37332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4684680" y="4116960"/>
              <a:ext cx="37404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3579840" y="4116960"/>
              <a:ext cx="37332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 flipV="1">
              <a:off x="4609080" y="493848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47"/>
            <p:cNvSpPr/>
            <p:nvPr/>
          </p:nvSpPr>
          <p:spPr>
            <a:xfrm flipH="1">
              <a:off x="3785400" y="4938840"/>
              <a:ext cx="111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V="1">
              <a:off x="3785760" y="46497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9"/>
            <p:cNvSpPr/>
            <p:nvPr/>
          </p:nvSpPr>
          <p:spPr>
            <a:xfrm flipV="1">
              <a:off x="4905720" y="46497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0"/>
            <p:cNvSpPr/>
            <p:nvPr/>
          </p:nvSpPr>
          <p:spPr>
            <a:xfrm flipV="1">
              <a:off x="4326480" y="46497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1"/>
            <p:cNvSpPr/>
            <p:nvPr/>
          </p:nvSpPr>
          <p:spPr>
            <a:xfrm>
              <a:off x="3785040" y="5196600"/>
              <a:ext cx="1165680" cy="86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2"/>
            <p:cNvSpPr/>
            <p:nvPr/>
          </p:nvSpPr>
          <p:spPr>
            <a:xfrm>
              <a:off x="2124720" y="5196600"/>
              <a:ext cx="1500120" cy="86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3"/>
            <p:cNvSpPr/>
            <p:nvPr/>
          </p:nvSpPr>
          <p:spPr>
            <a:xfrm>
              <a:off x="2254320" y="5257080"/>
              <a:ext cx="372600" cy="532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4"/>
            <p:cNvSpPr/>
            <p:nvPr/>
          </p:nvSpPr>
          <p:spPr>
            <a:xfrm>
              <a:off x="2718360" y="5257080"/>
              <a:ext cx="374040" cy="532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55"/>
            <p:cNvSpPr/>
            <p:nvPr/>
          </p:nvSpPr>
          <p:spPr>
            <a:xfrm>
              <a:off x="3205800" y="5257080"/>
              <a:ext cx="373320" cy="532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6"/>
            <p:cNvSpPr/>
            <p:nvPr/>
          </p:nvSpPr>
          <p:spPr>
            <a:xfrm>
              <a:off x="1880280" y="5067720"/>
              <a:ext cx="3215160" cy="13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57"/>
            <p:cNvSpPr/>
            <p:nvPr/>
          </p:nvSpPr>
          <p:spPr>
            <a:xfrm>
              <a:off x="3809880" y="5814720"/>
              <a:ext cx="692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8"/>
            <p:cNvSpPr/>
            <p:nvPr/>
          </p:nvSpPr>
          <p:spPr>
            <a:xfrm>
              <a:off x="2140560" y="5784120"/>
              <a:ext cx="69336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ФГО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9"/>
            <p:cNvSpPr/>
            <p:nvPr/>
          </p:nvSpPr>
          <p:spPr>
            <a:xfrm>
              <a:off x="2577240" y="6153840"/>
              <a:ext cx="24660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Лекции и практические зан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0"/>
            <p:cNvSpPr/>
            <p:nvPr/>
          </p:nvSpPr>
          <p:spPr>
            <a:xfrm>
              <a:off x="5249160" y="5081760"/>
              <a:ext cx="1728720" cy="13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1"/>
            <p:cNvSpPr/>
            <p:nvPr/>
          </p:nvSpPr>
          <p:spPr>
            <a:xfrm>
              <a:off x="5431320" y="5271120"/>
              <a:ext cx="373680" cy="532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62"/>
            <p:cNvSpPr/>
            <p:nvPr/>
          </p:nvSpPr>
          <p:spPr>
            <a:xfrm>
              <a:off x="5896800" y="5271120"/>
              <a:ext cx="372600" cy="532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63"/>
            <p:cNvSpPr/>
            <p:nvPr/>
          </p:nvSpPr>
          <p:spPr>
            <a:xfrm>
              <a:off x="6384600" y="5271120"/>
              <a:ext cx="373680" cy="532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64"/>
            <p:cNvSpPr/>
            <p:nvPr/>
          </p:nvSpPr>
          <p:spPr>
            <a:xfrm flipV="1">
              <a:off x="6143040" y="3629880"/>
              <a:ext cx="0" cy="16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5"/>
            <p:cNvSpPr/>
            <p:nvPr/>
          </p:nvSpPr>
          <p:spPr>
            <a:xfrm flipH="1" flipV="1">
              <a:off x="5081760" y="3623040"/>
              <a:ext cx="538920" cy="164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6"/>
            <p:cNvSpPr/>
            <p:nvPr/>
          </p:nvSpPr>
          <p:spPr>
            <a:xfrm>
              <a:off x="5289840" y="6154560"/>
              <a:ext cx="16074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иды 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67"/>
            <p:cNvSpPr/>
            <p:nvPr/>
          </p:nvSpPr>
          <p:spPr>
            <a:xfrm>
              <a:off x="3280320" y="6515280"/>
              <a:ext cx="22856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разовательный процес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68"/>
            <p:cNvSpPr/>
            <p:nvPr/>
          </p:nvSpPr>
          <p:spPr>
            <a:xfrm>
              <a:off x="3899160" y="5257080"/>
              <a:ext cx="373320" cy="532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69"/>
            <p:cNvGrpSpPr/>
            <p:nvPr/>
          </p:nvGrpSpPr>
          <p:grpSpPr>
            <a:xfrm>
              <a:off x="4455360" y="5264640"/>
              <a:ext cx="508680" cy="532800"/>
              <a:chOff x="4455360" y="5264640"/>
              <a:chExt cx="508680" cy="532800"/>
            </a:xfrm>
          </p:grpSpPr>
          <p:sp>
            <p:nvSpPr>
              <p:cNvPr id="249" name="Text Box 70"/>
              <p:cNvSpPr/>
              <p:nvPr/>
            </p:nvSpPr>
            <p:spPr>
              <a:xfrm>
                <a:off x="4455360" y="5264640"/>
                <a:ext cx="373320" cy="532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71"/>
              <p:cNvSpPr/>
              <p:nvPr/>
            </p:nvSpPr>
            <p:spPr>
              <a:xfrm>
                <a:off x="4460760" y="5465880"/>
                <a:ext cx="5032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Arial"/>
                  </a:rPr>
                  <a:t>Д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77"/>
          <p:cNvGrpSpPr/>
          <p:nvPr/>
        </p:nvGrpSpPr>
        <p:grpSpPr>
          <a:xfrm>
            <a:off x="1757520" y="628560"/>
            <a:ext cx="5600520" cy="2243160"/>
            <a:chOff x="1757520" y="628560"/>
            <a:chExt cx="5600520" cy="2243160"/>
          </a:xfrm>
        </p:grpSpPr>
        <p:sp>
          <p:nvSpPr>
            <p:cNvPr id="252" name="Rectangle 8"/>
            <p:cNvSpPr/>
            <p:nvPr/>
          </p:nvSpPr>
          <p:spPr>
            <a:xfrm>
              <a:off x="1757520" y="628560"/>
              <a:ext cx="5600520" cy="2243160"/>
            </a:xfrm>
            <a:prstGeom prst="rect">
              <a:avLst/>
            </a:prstGeom>
            <a:solidFill>
              <a:srgbClr val="ffb9dc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3860640" y="1116000"/>
              <a:ext cx="30402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0"/>
            <p:cNvSpPr/>
            <p:nvPr/>
          </p:nvSpPr>
          <p:spPr>
            <a:xfrm>
              <a:off x="399096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1"/>
            <p:cNvSpPr/>
            <p:nvPr/>
          </p:nvSpPr>
          <p:spPr>
            <a:xfrm>
              <a:off x="445608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2"/>
            <p:cNvSpPr/>
            <p:nvPr/>
          </p:nvSpPr>
          <p:spPr>
            <a:xfrm>
              <a:off x="3860640" y="1116000"/>
              <a:ext cx="693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3"/>
            <p:cNvSpPr/>
            <p:nvPr/>
          </p:nvSpPr>
          <p:spPr>
            <a:xfrm>
              <a:off x="494352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2200320" y="1116000"/>
              <a:ext cx="150156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5"/>
            <p:cNvSpPr/>
            <p:nvPr/>
          </p:nvSpPr>
          <p:spPr>
            <a:xfrm>
              <a:off x="2330280" y="1406520"/>
              <a:ext cx="37332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6"/>
            <p:cNvSpPr/>
            <p:nvPr/>
          </p:nvSpPr>
          <p:spPr>
            <a:xfrm>
              <a:off x="279576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2200320" y="1116000"/>
              <a:ext cx="693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ФГО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3282840" y="1406520"/>
              <a:ext cx="37332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5430960" y="1406520"/>
              <a:ext cx="3729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0720" y="1584360"/>
              <a:ext cx="5032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4394160" y="1581120"/>
              <a:ext cx="503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732120" y="2365200"/>
              <a:ext cx="37332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918040" y="1406520"/>
              <a:ext cx="37332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6443640" y="1406520"/>
              <a:ext cx="374760" cy="531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4334040" y="2365200"/>
              <a:ext cx="396720" cy="40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5583240" y="2365200"/>
              <a:ext cx="326880" cy="37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7"/>
            <p:cNvSpPr/>
            <p:nvPr/>
          </p:nvSpPr>
          <p:spPr>
            <a:xfrm>
              <a:off x="4965840" y="2365200"/>
              <a:ext cx="388800" cy="38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8"/>
            <p:cNvSpPr/>
            <p:nvPr/>
          </p:nvSpPr>
          <p:spPr>
            <a:xfrm>
              <a:off x="5607000" y="194616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 flipH="1">
              <a:off x="3930480" y="2160720"/>
              <a:ext cx="18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0"/>
            <p:cNvSpPr/>
            <p:nvPr/>
          </p:nvSpPr>
          <p:spPr>
            <a:xfrm>
              <a:off x="5797440" y="2160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1"/>
            <p:cNvSpPr/>
            <p:nvPr/>
          </p:nvSpPr>
          <p:spPr>
            <a:xfrm>
              <a:off x="5172120" y="2160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>
              <a:off x="4524480" y="2160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>
              <a:off x="3930480" y="2160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4"/>
            <p:cNvSpPr/>
            <p:nvPr/>
          </p:nvSpPr>
          <p:spPr>
            <a:xfrm>
              <a:off x="3514680" y="657360"/>
              <a:ext cx="2286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Цели обуч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9" name="Object 74"/>
            <p:cNvGraphicFramePr/>
            <p:nvPr/>
          </p:nvGraphicFramePr>
          <p:xfrm>
            <a:off x="3807000" y="2460600"/>
            <a:ext cx="190440" cy="241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0" name="Object 7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7000" y="2460600"/>
                      <a:ext cx="19044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5"/>
            <p:cNvGraphicFramePr/>
            <p:nvPr/>
          </p:nvGraphicFramePr>
          <p:xfrm>
            <a:off x="4424400" y="2449440"/>
            <a:ext cx="203040" cy="24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2" name="Object 7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24400" y="2449440"/>
                      <a:ext cx="20304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76"/>
            <p:cNvGraphicFramePr/>
            <p:nvPr/>
          </p:nvGraphicFramePr>
          <p:xfrm>
            <a:off x="5632560" y="2449440"/>
            <a:ext cx="241200" cy="24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4" name="Object 7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32560" y="2449440"/>
                      <a:ext cx="24120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Group 78"/>
          <p:cNvGrpSpPr/>
          <p:nvPr/>
        </p:nvGrpSpPr>
        <p:grpSpPr>
          <a:xfrm>
            <a:off x="5059440" y="2742840"/>
            <a:ext cx="1298520" cy="384120"/>
            <a:chOff x="5059440" y="2742840"/>
            <a:chExt cx="1298520" cy="384120"/>
          </a:xfrm>
        </p:grpSpPr>
        <p:sp>
          <p:nvSpPr>
            <p:cNvPr id="286" name="Line 72"/>
            <p:cNvSpPr/>
            <p:nvPr/>
          </p:nvSpPr>
          <p:spPr>
            <a:xfrm flipH="1" flipV="1">
              <a:off x="5808600" y="2742840"/>
              <a:ext cx="54936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73"/>
            <p:cNvSpPr/>
            <p:nvPr/>
          </p:nvSpPr>
          <p:spPr>
            <a:xfrm flipV="1">
              <a:off x="5059440" y="2755440"/>
              <a:ext cx="5983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69960" y="49320"/>
            <a:ext cx="8609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ирование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2"/>
          <p:cNvSpPr/>
          <p:nvPr/>
        </p:nvSpPr>
        <p:spPr>
          <a:xfrm>
            <a:off x="4851360" y="18201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0" y="1563840"/>
            <a:ext cx="80964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5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8"/>
          <p:cNvSpPr/>
          <p:nvPr/>
        </p:nvSpPr>
        <p:spPr>
          <a:xfrm>
            <a:off x="0" y="1563840"/>
            <a:ext cx="69840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0" y="1563840"/>
            <a:ext cx="80964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3"/>
          <p:cNvSpPr/>
          <p:nvPr/>
        </p:nvSpPr>
        <p:spPr>
          <a:xfrm>
            <a:off x="0" y="1563840"/>
            <a:ext cx="80964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5"/>
          <p:cNvSpPr/>
          <p:nvPr/>
        </p:nvSpPr>
        <p:spPr>
          <a:xfrm>
            <a:off x="0" y="1563840"/>
            <a:ext cx="80964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0"/>
          <p:cNvSpPr/>
          <p:nvPr/>
        </p:nvSpPr>
        <p:spPr>
          <a:xfrm>
            <a:off x="0" y="1563840"/>
            <a:ext cx="698400" cy="360"/>
          </a:xfrm>
          <a:prstGeom prst="rect">
            <a:avLst/>
          </a:prstGeom>
          <a:solidFill>
            <a:srgbClr val="ffa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047600" y="2033640"/>
          <a:ext cx="6865920" cy="3241800"/>
        </p:xfrm>
        <a:graphic>
          <a:graphicData uri="http://schemas.openxmlformats.org/drawingml/2006/table">
            <a:tbl>
              <a:tblPr/>
              <a:tblGrid>
                <a:gridCol w="2622600"/>
                <a:gridCol w="933480"/>
                <a:gridCol w="935280"/>
                <a:gridCol w="784080"/>
                <a:gridCol w="784080"/>
                <a:gridCol w="806400"/>
              </a:tblGrid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моду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компетенции и компон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  <a:tr h="59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  <a:tr h="59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  <a:tr h="59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  <a:tr h="605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d5"/>
                    </a:solidFill>
                  </a:tcPr>
                </a:tc>
              </a:tr>
            </a:tbl>
          </a:graphicData>
        </a:graphic>
      </p:graphicFrame>
      <p:grpSp>
        <p:nvGrpSpPr>
          <p:cNvPr id="299" name="Group 247"/>
          <p:cNvGrpSpPr/>
          <p:nvPr/>
        </p:nvGrpSpPr>
        <p:grpSpPr>
          <a:xfrm>
            <a:off x="1275120" y="5568840"/>
            <a:ext cx="6928920" cy="626760"/>
            <a:chOff x="1275120" y="5568840"/>
            <a:chExt cx="6928920" cy="626760"/>
          </a:xfrm>
        </p:grpSpPr>
        <p:graphicFrame>
          <p:nvGraphicFramePr>
            <p:cNvPr id="300" name="Object 4"/>
            <p:cNvGraphicFramePr/>
            <p:nvPr/>
          </p:nvGraphicFramePr>
          <p:xfrm>
            <a:off x="1506600" y="5568840"/>
            <a:ext cx="397080" cy="501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6600" y="5568840"/>
                      <a:ext cx="39708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Rectangle 240"/>
            <p:cNvSpPr/>
            <p:nvPr/>
          </p:nvSpPr>
          <p:spPr>
            <a:xfrm>
              <a:off x="1275120" y="564300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41"/>
            <p:cNvSpPr/>
            <p:nvPr/>
          </p:nvSpPr>
          <p:spPr>
            <a:xfrm>
              <a:off x="1830600" y="5614920"/>
              <a:ext cx="637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онента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ой компетенции, формируемая при прохожде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j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ого учебного моду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4" name="Object 5"/>
          <p:cNvGraphicFramePr/>
          <p:nvPr/>
        </p:nvGraphicFramePr>
        <p:xfrm>
          <a:off x="7337520" y="4719600"/>
          <a:ext cx="33948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37520" y="4719600"/>
                    <a:ext cx="339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6"/>
          <p:cNvGraphicFramePr/>
          <p:nvPr/>
        </p:nvGraphicFramePr>
        <p:xfrm>
          <a:off x="3948120" y="4708440"/>
          <a:ext cx="36972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48120" y="4708440"/>
                    <a:ext cx="36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4940280" y="3459240"/>
          <a:ext cx="287280" cy="33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40280" y="3459240"/>
                    <a:ext cx="28728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"/>
          <p:cNvGraphicFramePr/>
          <p:nvPr/>
        </p:nvGraphicFramePr>
        <p:xfrm>
          <a:off x="4014720" y="3470400"/>
          <a:ext cx="2952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14720" y="3470400"/>
                    <a:ext cx="295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1"/>
          <p:cNvGraphicFramePr/>
          <p:nvPr/>
        </p:nvGraphicFramePr>
        <p:xfrm>
          <a:off x="3913200" y="2867040"/>
          <a:ext cx="25092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13200" y="2867040"/>
                    <a:ext cx="2509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0"/>
          <p:cNvGraphicFramePr/>
          <p:nvPr/>
        </p:nvGraphicFramePr>
        <p:xfrm>
          <a:off x="5808600" y="2890800"/>
          <a:ext cx="250920" cy="34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08600" y="2890800"/>
                    <a:ext cx="250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9"/>
          <p:cNvGraphicFramePr/>
          <p:nvPr/>
        </p:nvGraphicFramePr>
        <p:xfrm>
          <a:off x="7369200" y="2890800"/>
          <a:ext cx="297000" cy="37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69200" y="2890800"/>
                    <a:ext cx="2970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457200"/>
            <a:ext cx="86868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и между компонентами компетенций и учебными моду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87"/>
          <p:cNvGrpSpPr/>
          <p:nvPr/>
        </p:nvGrpSpPr>
        <p:grpSpPr>
          <a:xfrm>
            <a:off x="1714680" y="995400"/>
            <a:ext cx="5627520" cy="5862600"/>
            <a:chOff x="1714680" y="995400"/>
            <a:chExt cx="5627520" cy="5862600"/>
          </a:xfrm>
        </p:grpSpPr>
        <p:sp>
          <p:nvSpPr>
            <p:cNvPr id="320" name="Line 7"/>
            <p:cNvSpPr/>
            <p:nvPr/>
          </p:nvSpPr>
          <p:spPr>
            <a:xfrm>
              <a:off x="3749760" y="995400"/>
              <a:ext cx="0" cy="5791320"/>
            </a:xfrm>
            <a:prstGeom prst="line">
              <a:avLst/>
            </a:prstGeom>
            <a:ln w="28440">
              <a:solidFill>
                <a:srgbClr val="b94b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8"/>
            <p:cNvSpPr/>
            <p:nvPr/>
          </p:nvSpPr>
          <p:spPr>
            <a:xfrm>
              <a:off x="6518160" y="1071720"/>
              <a:ext cx="0" cy="5715000"/>
            </a:xfrm>
            <a:prstGeom prst="line">
              <a:avLst/>
            </a:prstGeom>
            <a:ln w="28440">
              <a:solidFill>
                <a:srgbClr val="b94b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"/>
            <p:cNvSpPr/>
            <p:nvPr/>
          </p:nvSpPr>
          <p:spPr>
            <a:xfrm>
              <a:off x="1903320" y="4772160"/>
              <a:ext cx="4799160" cy="974520"/>
            </a:xfrm>
            <a:custGeom>
              <a:avLst/>
              <a:gdLst>
                <a:gd name="textAreaLeft" fmla="*/ 0 w 4799160"/>
                <a:gd name="textAreaRight" fmla="*/ 4799520 w 479916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7557" h="1536">
                  <a:moveTo>
                    <a:pt x="0" y="746"/>
                  </a:moveTo>
                  <a:lnTo>
                    <a:pt x="7557" y="0"/>
                  </a:lnTo>
                  <a:lnTo>
                    <a:pt x="7557" y="1536"/>
                  </a:lnTo>
                  <a:lnTo>
                    <a:pt x="0" y="760"/>
                  </a:lnTo>
                  <a:lnTo>
                    <a:pt x="0" y="746"/>
                  </a:lnTo>
                  <a:close/>
                </a:path>
              </a:pathLst>
            </a:custGeom>
            <a:gradFill rotWithShape="0">
              <a:gsLst>
                <a:gs pos="0">
                  <a:srgbClr val="cb83a7"/>
                </a:gs>
                <a:gs pos="100000">
                  <a:srgbClr val="5e3d4d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1906560" y="5249880"/>
              <a:ext cx="523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3876840" y="5014800"/>
              <a:ext cx="3465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Формирования компетенции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2"/>
            <p:cNvSpPr/>
            <p:nvPr/>
          </p:nvSpPr>
          <p:spPr>
            <a:xfrm>
              <a:off x="6864480" y="5035680"/>
              <a:ext cx="27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1714680" y="3851280"/>
              <a:ext cx="66024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4"/>
            <p:cNvSpPr/>
            <p:nvPr/>
          </p:nvSpPr>
          <p:spPr>
            <a:xfrm>
              <a:off x="3003480" y="3857760"/>
              <a:ext cx="66060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5707080" y="3887640"/>
              <a:ext cx="66024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6"/>
            <p:cNvSpPr/>
            <p:nvPr/>
          </p:nvSpPr>
          <p:spPr>
            <a:xfrm>
              <a:off x="1855800" y="1174680"/>
              <a:ext cx="66024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7"/>
            <p:cNvSpPr/>
            <p:nvPr/>
          </p:nvSpPr>
          <p:spPr>
            <a:xfrm>
              <a:off x="2627280" y="1835280"/>
              <a:ext cx="66060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4070520" y="1835280"/>
              <a:ext cx="66024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5402160" y="1611360"/>
              <a:ext cx="660600" cy="660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0"/>
            <p:cNvSpPr/>
            <p:nvPr/>
          </p:nvSpPr>
          <p:spPr>
            <a:xfrm>
              <a:off x="3807000" y="1031760"/>
              <a:ext cx="66024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2048040" y="5746680"/>
              <a:ext cx="66024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2444760" y="1692360"/>
              <a:ext cx="26352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3125880" y="2444760"/>
              <a:ext cx="2840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4543560" y="2470320"/>
              <a:ext cx="22860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4467240" y="636264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4467240" y="1413000"/>
              <a:ext cx="9748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859360" y="2257560"/>
              <a:ext cx="26352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8"/>
            <p:cNvSpPr/>
            <p:nvPr/>
          </p:nvSpPr>
          <p:spPr>
            <a:xfrm>
              <a:off x="4294080" y="3832200"/>
              <a:ext cx="660600" cy="660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29"/>
            <p:cNvSpPr/>
            <p:nvPr/>
          </p:nvSpPr>
          <p:spPr>
            <a:xfrm>
              <a:off x="3409920" y="4518000"/>
              <a:ext cx="255600" cy="5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0"/>
            <p:cNvSpPr/>
            <p:nvPr/>
          </p:nvSpPr>
          <p:spPr>
            <a:xfrm>
              <a:off x="6093000" y="4548240"/>
              <a:ext cx="20772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31"/>
            <p:cNvSpPr/>
            <p:nvPr/>
          </p:nvSpPr>
          <p:spPr>
            <a:xfrm>
              <a:off x="4730760" y="4487760"/>
              <a:ext cx="1634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 flipV="1">
              <a:off x="2352600" y="4189320"/>
              <a:ext cx="6368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33"/>
            <p:cNvSpPr/>
            <p:nvPr/>
          </p:nvSpPr>
          <p:spPr>
            <a:xfrm flipV="1">
              <a:off x="4105440" y="5533920"/>
              <a:ext cx="35064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34"/>
            <p:cNvSpPr/>
            <p:nvPr/>
          </p:nvSpPr>
          <p:spPr>
            <a:xfrm flipV="1">
              <a:off x="4772160" y="3476160"/>
              <a:ext cx="369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35"/>
            <p:cNvSpPr/>
            <p:nvPr/>
          </p:nvSpPr>
          <p:spPr>
            <a:xfrm flipV="1">
              <a:off x="6037200" y="3557160"/>
              <a:ext cx="33012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36"/>
            <p:cNvSpPr/>
            <p:nvPr/>
          </p:nvSpPr>
          <p:spPr>
            <a:xfrm flipV="1">
              <a:off x="5361120" y="5691240"/>
              <a:ext cx="56808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37"/>
            <p:cNvSpPr/>
            <p:nvPr/>
          </p:nvSpPr>
          <p:spPr>
            <a:xfrm flipV="1">
              <a:off x="3664080" y="4162320"/>
              <a:ext cx="63000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2708280" y="6148440"/>
              <a:ext cx="10987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39"/>
            <p:cNvSpPr/>
            <p:nvPr/>
          </p:nvSpPr>
          <p:spPr>
            <a:xfrm>
              <a:off x="3287880" y="2174760"/>
              <a:ext cx="78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40"/>
            <p:cNvSpPr/>
            <p:nvPr/>
          </p:nvSpPr>
          <p:spPr>
            <a:xfrm flipV="1">
              <a:off x="2678040" y="5403960"/>
              <a:ext cx="66852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41"/>
            <p:cNvSpPr/>
            <p:nvPr/>
          </p:nvSpPr>
          <p:spPr>
            <a:xfrm flipV="1">
              <a:off x="3316320" y="3354480"/>
              <a:ext cx="2635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886040" y="136692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2698920" y="199692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44"/>
            <p:cNvSpPr/>
            <p:nvPr/>
          </p:nvSpPr>
          <p:spPr>
            <a:xfrm>
              <a:off x="4162320" y="2028960"/>
              <a:ext cx="5079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45"/>
            <p:cNvSpPr/>
            <p:nvPr/>
          </p:nvSpPr>
          <p:spPr>
            <a:xfrm>
              <a:off x="3887640" y="1195560"/>
              <a:ext cx="5083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46"/>
            <p:cNvSpPr/>
            <p:nvPr/>
          </p:nvSpPr>
          <p:spPr>
            <a:xfrm>
              <a:off x="5483160" y="175428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7"/>
            <p:cNvSpPr/>
            <p:nvPr/>
          </p:nvSpPr>
          <p:spPr>
            <a:xfrm>
              <a:off x="1784520" y="401004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48"/>
            <p:cNvSpPr/>
            <p:nvPr/>
          </p:nvSpPr>
          <p:spPr>
            <a:xfrm>
              <a:off x="3075120" y="40194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9"/>
            <p:cNvSpPr/>
            <p:nvPr/>
          </p:nvSpPr>
          <p:spPr>
            <a:xfrm>
              <a:off x="4395960" y="401004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5838840" y="40608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2109960" y="5931000"/>
              <a:ext cx="558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52"/>
            <p:cNvGrpSpPr/>
            <p:nvPr/>
          </p:nvGrpSpPr>
          <p:grpSpPr>
            <a:xfrm>
              <a:off x="3795840" y="6058080"/>
              <a:ext cx="660240" cy="660240"/>
              <a:chOff x="3795840" y="6058080"/>
              <a:chExt cx="660240" cy="660240"/>
            </a:xfrm>
          </p:grpSpPr>
          <p:sp>
            <p:nvSpPr>
              <p:cNvPr id="366" name="Oval 53"/>
              <p:cNvSpPr/>
              <p:nvPr/>
            </p:nvSpPr>
            <p:spPr>
              <a:xfrm>
                <a:off x="3795840" y="6058080"/>
                <a:ext cx="660240" cy="6602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54"/>
              <p:cNvSpPr/>
              <p:nvPr/>
            </p:nvSpPr>
            <p:spPr>
              <a:xfrm>
                <a:off x="3851640" y="6246000"/>
                <a:ext cx="5788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М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55"/>
            <p:cNvGrpSpPr/>
            <p:nvPr/>
          </p:nvGrpSpPr>
          <p:grpSpPr>
            <a:xfrm>
              <a:off x="4938840" y="6016680"/>
              <a:ext cx="671040" cy="660240"/>
              <a:chOff x="4938840" y="6016680"/>
              <a:chExt cx="671040" cy="660240"/>
            </a:xfrm>
          </p:grpSpPr>
          <p:sp>
            <p:nvSpPr>
              <p:cNvPr id="369" name="Oval 56"/>
              <p:cNvSpPr/>
              <p:nvPr/>
            </p:nvSpPr>
            <p:spPr>
              <a:xfrm>
                <a:off x="4938840" y="6016680"/>
                <a:ext cx="661320" cy="6602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57"/>
              <p:cNvSpPr/>
              <p:nvPr/>
            </p:nvSpPr>
            <p:spPr>
              <a:xfrm>
                <a:off x="4969080" y="6189120"/>
                <a:ext cx="64080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М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58"/>
            <p:cNvSpPr/>
            <p:nvPr/>
          </p:nvSpPr>
          <p:spPr>
            <a:xfrm>
              <a:off x="2475000" y="1500120"/>
              <a:ext cx="5079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59"/>
            <p:cNvSpPr/>
            <p:nvPr/>
          </p:nvSpPr>
          <p:spPr>
            <a:xfrm>
              <a:off x="3146400" y="237348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60"/>
            <p:cNvSpPr/>
            <p:nvPr/>
          </p:nvSpPr>
          <p:spPr>
            <a:xfrm>
              <a:off x="3409920" y="190656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1"/>
            <p:cNvSpPr/>
            <p:nvPr/>
          </p:nvSpPr>
          <p:spPr>
            <a:xfrm>
              <a:off x="4518000" y="23526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62"/>
            <p:cNvSpPr/>
            <p:nvPr/>
          </p:nvSpPr>
          <p:spPr>
            <a:xfrm>
              <a:off x="4629240" y="12654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63"/>
            <p:cNvSpPr/>
            <p:nvPr/>
          </p:nvSpPr>
          <p:spPr>
            <a:xfrm>
              <a:off x="5919840" y="221148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64"/>
            <p:cNvSpPr/>
            <p:nvPr/>
          </p:nvSpPr>
          <p:spPr>
            <a:xfrm>
              <a:off x="2414520" y="38466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65"/>
            <p:cNvSpPr/>
            <p:nvPr/>
          </p:nvSpPr>
          <p:spPr>
            <a:xfrm>
              <a:off x="2948040" y="347040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66"/>
            <p:cNvSpPr/>
            <p:nvPr/>
          </p:nvSpPr>
          <p:spPr>
            <a:xfrm>
              <a:off x="3084480" y="454824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7"/>
            <p:cNvSpPr/>
            <p:nvPr/>
          </p:nvSpPr>
          <p:spPr>
            <a:xfrm>
              <a:off x="3705120" y="3887640"/>
              <a:ext cx="585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8"/>
            <p:cNvSpPr/>
            <p:nvPr/>
          </p:nvSpPr>
          <p:spPr>
            <a:xfrm>
              <a:off x="4843440" y="3583080"/>
              <a:ext cx="630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69"/>
            <p:cNvSpPr/>
            <p:nvPr/>
          </p:nvSpPr>
          <p:spPr>
            <a:xfrm>
              <a:off x="4680000" y="4375080"/>
              <a:ext cx="631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70"/>
            <p:cNvSpPr/>
            <p:nvPr/>
          </p:nvSpPr>
          <p:spPr>
            <a:xfrm>
              <a:off x="5695920" y="4497480"/>
              <a:ext cx="719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71"/>
            <p:cNvSpPr/>
            <p:nvPr/>
          </p:nvSpPr>
          <p:spPr>
            <a:xfrm>
              <a:off x="5707080" y="3552840"/>
              <a:ext cx="6634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72"/>
            <p:cNvSpPr/>
            <p:nvPr/>
          </p:nvSpPr>
          <p:spPr>
            <a:xfrm>
              <a:off x="2587680" y="5411880"/>
              <a:ext cx="685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73"/>
            <p:cNvSpPr/>
            <p:nvPr/>
          </p:nvSpPr>
          <p:spPr>
            <a:xfrm>
              <a:off x="2851200" y="59198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74"/>
            <p:cNvSpPr/>
            <p:nvPr/>
          </p:nvSpPr>
          <p:spPr>
            <a:xfrm>
              <a:off x="3851280" y="5624640"/>
              <a:ext cx="674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75"/>
            <p:cNvSpPr/>
            <p:nvPr/>
          </p:nvSpPr>
          <p:spPr>
            <a:xfrm>
              <a:off x="4425840" y="5975280"/>
              <a:ext cx="630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76"/>
            <p:cNvSpPr/>
            <p:nvPr/>
          </p:nvSpPr>
          <p:spPr>
            <a:xfrm>
              <a:off x="5533920" y="5878440"/>
              <a:ext cx="665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77"/>
            <p:cNvGrpSpPr/>
            <p:nvPr/>
          </p:nvGrpSpPr>
          <p:grpSpPr>
            <a:xfrm>
              <a:off x="1906560" y="2617920"/>
              <a:ext cx="5232600" cy="974520"/>
              <a:chOff x="1906560" y="2617920"/>
              <a:chExt cx="5232600" cy="974520"/>
            </a:xfrm>
          </p:grpSpPr>
          <p:sp>
            <p:nvSpPr>
              <p:cNvPr id="391" name="Freeform 78"/>
              <p:cNvSpPr/>
              <p:nvPr/>
            </p:nvSpPr>
            <p:spPr>
              <a:xfrm>
                <a:off x="1906560" y="2617920"/>
                <a:ext cx="4795560" cy="974520"/>
              </a:xfrm>
              <a:custGeom>
                <a:avLst/>
                <a:gdLst>
                  <a:gd name="textAreaLeft" fmla="*/ 0 w 4795560"/>
                  <a:gd name="textAreaRight" fmla="*/ 4795920 w 479556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7552" h="2096">
                    <a:moveTo>
                      <a:pt x="0" y="672"/>
                    </a:moveTo>
                    <a:lnTo>
                      <a:pt x="7552" y="0"/>
                    </a:lnTo>
                    <a:lnTo>
                      <a:pt x="7552" y="2096"/>
                    </a:lnTo>
                    <a:lnTo>
                      <a:pt x="0" y="1344"/>
                    </a:lnTo>
                    <a:lnTo>
                      <a:pt x="0" y="6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83a7"/>
                  </a:gs>
                  <a:gs pos="100000">
                    <a:srgbClr val="5e3d4d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79"/>
              <p:cNvSpPr/>
              <p:nvPr/>
            </p:nvSpPr>
            <p:spPr>
              <a:xfrm>
                <a:off x="1906560" y="3105000"/>
                <a:ext cx="523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80"/>
              <p:cNvSpPr/>
              <p:nvPr/>
            </p:nvSpPr>
            <p:spPr>
              <a:xfrm>
                <a:off x="3125520" y="2881800"/>
                <a:ext cx="346464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Формирования компетенции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81"/>
              <p:cNvSpPr/>
              <p:nvPr/>
            </p:nvSpPr>
            <p:spPr>
              <a:xfrm>
                <a:off x="6864840" y="2881800"/>
                <a:ext cx="27432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82"/>
            <p:cNvSpPr/>
            <p:nvPr/>
          </p:nvSpPr>
          <p:spPr>
            <a:xfrm>
              <a:off x="3327480" y="1030320"/>
              <a:ext cx="5079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Arial"/>
                </a:rPr>
                <a:t>Д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83"/>
            <p:cNvSpPr/>
            <p:nvPr/>
          </p:nvSpPr>
          <p:spPr>
            <a:xfrm>
              <a:off x="3278160" y="653256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Arial"/>
                </a:rPr>
                <a:t>Д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84"/>
            <p:cNvSpPr/>
            <p:nvPr/>
          </p:nvSpPr>
          <p:spPr>
            <a:xfrm>
              <a:off x="6039000" y="646272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Arial"/>
                </a:rPr>
                <a:t>Д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85"/>
            <p:cNvSpPr/>
            <p:nvPr/>
          </p:nvSpPr>
          <p:spPr>
            <a:xfrm>
              <a:off x="6060960" y="1017720"/>
              <a:ext cx="50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Arial"/>
                </a:rPr>
                <a:t>Д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 формирования компетен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3:00:57Z</dcterms:created>
  <dc:creator>lex</dc:creator>
  <dc:description/>
  <dc:language>en-US</dc:language>
  <cp:lastModifiedBy>Коля</cp:lastModifiedBy>
  <dcterms:modified xsi:type="dcterms:W3CDTF">2013-04-12T17:00:43Z</dcterms:modified>
  <cp:revision>34</cp:revision>
  <dc:subject/>
  <dc:title>Формирование профессионально-ориентированных компетенций при инновационных технологиях предметного обучения в высшей школе</dc:title>
</cp:coreProperties>
</file>