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0170-B59B-4499-9EE3-BD372202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C735-5709-430D-9F31-FE9B16D4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EF44-94F5-48FB-8F70-EF06A12F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8230-B9F5-4BCB-BE3B-F3EA773A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6ED2-9AE4-4039-8AEE-CFBCC067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4882-0984-4FEF-9B49-D7286FF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478B-71D3-4162-B83D-FA0626C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5124-8AC0-4699-B893-67835C5E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3BBD-D538-4D41-9908-DAD0C0C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B6EE-994B-4EA0-90FE-23233657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CFB8-C866-4B06-98F1-94019C4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70F2-A57C-4D82-AAED-65A509CA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0B7F-1847-4CAE-B4BA-84181C0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229B-DE5A-4163-A487-9991BB6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103D-B461-42DB-8632-D58D14D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7846-022B-4637-B6F4-6401F934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4298-60CA-433A-ADAD-FF96FDC9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2ED1-9EF2-4121-B728-89950C6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9A3A-221A-48E3-822F-9A6B54A0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A335-866A-4EF1-B827-4B13B944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47C3-5AD6-4359-BF76-D47E32A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BC1A-3484-4143-A676-22348ADF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8FB3-1C50-41E6-958E-6424BE1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2198-19E1-4BC7-AF19-0D4CA502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6707-2E0D-44C7-BD18-71BE01021E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81A4-8DDA-4787-ADD0-6A36880F12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280" y="1687680"/>
            <a:ext cx="7164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ирование профессиональных  компетенций выпускн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ысше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5044680"/>
            <a:ext cx="896472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государственный технически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827600" y="1506600"/>
          <a:ext cx="4284720" cy="4727520"/>
        </p:xfrm>
        <a:graphic>
          <a:graphicData uri="http://schemas.openxmlformats.org/drawingml/2006/table">
            <a:tbl>
              <a:tblPr/>
              <a:tblGrid>
                <a:gridCol w="403200"/>
                <a:gridCol w="590400"/>
                <a:gridCol w="3291120"/>
              </a:tblGrid>
              <a:tr h="33480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аль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в социальной сфере и в познавательной и профессиональной деятельности элементарные навыки работы с компьюте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письменной и устной коммуникации на родном язы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знание второго я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организационно-управленческие навыки в профессиональной  и соци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работы с информацией из различных источ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е знания в области информатики и современных информационны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использования  программных средств и навыки работы в компьютерных сетях, умение составлять базы данных и использовать Интернет-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45960" y="1495440"/>
          <a:ext cx="4329360" cy="4530600"/>
        </p:xfrm>
        <a:graphic>
          <a:graphicData uri="http://schemas.openxmlformats.org/drawingml/2006/table">
            <a:tbl>
              <a:tblPr/>
              <a:tblGrid>
                <a:gridCol w="303480"/>
                <a:gridCol w="703080"/>
                <a:gridCol w="3322800"/>
              </a:tblGrid>
              <a:tr h="27432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ауч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в познавательной и профессиональной деятельности базовые знания в области математики и естественных нау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риобретать новые знания, используя современные образовательные и информационные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ирать,  обрабатывать и интерпретировать с использованием современных информационных технологий данные, необходимые для формирования суждений по соответствующим социальным, научным и этическим пробле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порождать новые иде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совершенствовать и развивать свой интеллектуальный и общекультурны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и готовность к активному общению в научной, производственной и общекультур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92"/>
          <p:cNvSpPr/>
          <p:nvPr/>
        </p:nvSpPr>
        <p:spPr>
          <a:xfrm>
            <a:off x="484200" y="69696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держание компетенций в станд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22200" y="1038240"/>
          <a:ext cx="3784680" cy="4873680"/>
        </p:xfrm>
        <a:graphic>
          <a:graphicData uri="http://schemas.openxmlformats.org/drawingml/2006/table">
            <a:tbl>
              <a:tblPr/>
              <a:tblGrid>
                <a:gridCol w="390600"/>
                <a:gridCol w="642960"/>
                <a:gridCol w="2751120"/>
              </a:tblGrid>
              <a:tr h="4572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личностные и общекультур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выстраивать и реализовывать перспективные линии интеллектуального, культурного, нравственного, физического и профессионального саморазвития и самосовершенств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ойчивость в достижении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критически переосмысливать накопленный опы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амостоятельно и в коллективе, руководить и подчиня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ессио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научно-исследовательск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эксплуатировать современную аппаратуру и оборудование для научных исследований в соответствии с профиле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321080" y="1038240"/>
          <a:ext cx="4576680" cy="5692680"/>
        </p:xfrm>
        <a:graphic>
          <a:graphicData uri="http://schemas.openxmlformats.org/drawingml/2006/table">
            <a:tbl>
              <a:tblPr/>
              <a:tblGrid>
                <a:gridCol w="425520"/>
                <a:gridCol w="606600"/>
                <a:gridCol w="35445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самостоятельно ставить конкретные задачи научных исследований в соответствии с профиле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оект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онимать принципы составления проектов производственных и конструкторских работ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пользоваться нормативными документами (в соответствии с профилизацией) и научно-производств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 составлять проекты научно-исследовательских и научно-производственных раб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и готовность к проектированию комплексных научно-исследовательских и научно-производственных исследований в соответствии с нормативными документами по профилю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о-специализирован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специализированные знания фундаментальных разделов естественных наук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компьютер на уровне пользователя и информационные технологии для решения специализированных задач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20760" y="5902200"/>
          <a:ext cx="3784680" cy="822600"/>
        </p:xfrm>
        <a:graphic>
          <a:graphicData uri="http://schemas.openxmlformats.org/drawingml/2006/table">
            <a:tbl>
              <a:tblPr/>
              <a:tblGrid>
                <a:gridCol w="390600"/>
                <a:gridCol w="644400"/>
                <a:gridCol w="27496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научно-технических отчетов, обзоров, аналитических карт, пояснительных записок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Rectangle 393"/>
          <p:cNvSpPr/>
          <p:nvPr/>
        </p:nvSpPr>
        <p:spPr>
          <a:xfrm>
            <a:off x="304920" y="34128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держание компетенций в станд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етентностная модель выпускн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ект третьего поколения ФГОС ВП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27920" y="1409760"/>
            <a:ext cx="312660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мпетенции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42520" y="2200320"/>
            <a:ext cx="197748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686480" y="2200320"/>
            <a:ext cx="242388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1840" y="3065400"/>
            <a:ext cx="181908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бщена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145600" y="3065400"/>
            <a:ext cx="200196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нструмента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390920" y="3065400"/>
            <a:ext cx="173376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бщепроф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476400" y="3065400"/>
            <a:ext cx="250020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рофильно-специ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лиз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611360" y="4097160"/>
            <a:ext cx="1689120" cy="146556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личностны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общеку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637000" y="1795320"/>
            <a:ext cx="145080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782640" y="2585880"/>
            <a:ext cx="123336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016000" y="2585880"/>
            <a:ext cx="130500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2016000" y="258588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073400" y="1795320"/>
            <a:ext cx="147168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6024600" y="2585880"/>
            <a:ext cx="147168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4791240" y="2585880"/>
            <a:ext cx="123336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136440" y="3726000"/>
            <a:ext cx="8605800" cy="2896920"/>
            <a:chOff x="136440" y="3726000"/>
            <a:chExt cx="8605800" cy="2896920"/>
          </a:xfrm>
        </p:grpSpPr>
        <p:sp>
          <p:nvSpPr>
            <p:cNvPr id="125" name="Text Box 21"/>
            <p:cNvSpPr/>
            <p:nvPr/>
          </p:nvSpPr>
          <p:spPr>
            <a:xfrm>
              <a:off x="3792600" y="4670280"/>
              <a:ext cx="627120" cy="94644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136440" y="4670280"/>
              <a:ext cx="1265400" cy="137268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1    УН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2    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3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УН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…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k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7432560" y="4668840"/>
              <a:ext cx="1309680" cy="73332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1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П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     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w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У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2319480" y="5889600"/>
              <a:ext cx="529920" cy="73332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Л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Л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798480" y="3726000"/>
              <a:ext cx="180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>
              <a:off x="7848720" y="3726000"/>
              <a:ext cx="144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3321000" y="3726000"/>
              <a:ext cx="782640" cy="9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H="1">
              <a:off x="2550960" y="5580000"/>
              <a:ext cx="504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5353200" y="4670280"/>
              <a:ext cx="1446120" cy="94644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1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УОП1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2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ОП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z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ОП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>
              <a:off x="5353200" y="3726000"/>
              <a:ext cx="36828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2905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17360" y="1168560"/>
            <a:ext cx="90266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тность</a:t>
            </a:r>
            <a:r>
              <a:rPr b="0" lang="ru-RU" sz="2400" spc="-1" strike="noStrike">
                <a:solidFill>
                  <a:srgbClr val="a505b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пособность и готовность индивидуума применять на практике приобретенные зн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у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тность специалиста</a:t>
            </a:r>
            <a:r>
              <a:rPr b="0" lang="ru-RU" sz="2400" spc="-1" strike="noStrike">
                <a:solidFill>
                  <a:srgbClr val="a505b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и готовность осуществлять деятельность в определенных профессиональных условиях, интегрированная характеристика личности, одной из составляющих которой является профессиональная квал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означение образовательного результата, выражающегося в подготовленности выпускника к реальному владению методами, средствами деятельности, обладанию такой формы сочетания знаний, умений и навыков, которая позволяет достигать поставлен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знания в действии»</a:t>
            </a:r>
            <a:r>
              <a:rPr b="0" lang="ru-RU" sz="2400" spc="-1" strike="noStrike">
                <a:solidFill>
                  <a:srgbClr val="ba349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0" y="5829480"/>
            <a:ext cx="9144000" cy="764280"/>
            <a:chOff x="0" y="5829480"/>
            <a:chExt cx="9144000" cy="764280"/>
          </a:xfrm>
        </p:grpSpPr>
        <p:sp>
          <p:nvSpPr>
            <p:cNvPr id="138" name="Text Box 8"/>
            <p:cNvSpPr/>
            <p:nvPr/>
          </p:nvSpPr>
          <p:spPr>
            <a:xfrm>
              <a:off x="0" y="582948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ba3494"/>
                  </a:solidFill>
                  <a:latin typeface="Arial"/>
                </a:rPr>
                <a:t>Компетенция = знания + умения + навыки + опыт</a:t>
              </a:r>
              <a:r>
                <a:rPr b="1" lang="ru-RU" sz="2000" spc="-1" strike="noStrike">
                  <a:solidFill>
                    <a:srgbClr val="ba3494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ba3494"/>
                  </a:solidFill>
                  <a:latin typeface="Arial"/>
                </a:rPr>
                <a:t>деятельнос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1774800" y="6334200"/>
              <a:ext cx="5195880" cy="144360"/>
            </a:xfrm>
            <a:prstGeom prst="rightArrow">
              <a:avLst>
                <a:gd name="adj1" fmla="val 50000"/>
                <a:gd name="adj2" fmla="val 89981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7058880" y="618984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ре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1365120" y="1482840"/>
            <a:ext cx="6329520" cy="2363760"/>
          </a:xfrm>
          <a:prstGeom prst="rect">
            <a:avLst/>
          </a:prstGeom>
          <a:solidFill>
            <a:srgbClr val="9c06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32960" y="147636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мпетентность – мотивированная способнос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готовность действовать в определен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785960" y="2228760"/>
            <a:ext cx="5503680" cy="1617840"/>
          </a:xfrm>
          <a:prstGeom prst="rect">
            <a:avLst/>
          </a:prstGeom>
          <a:solidFill>
            <a:srgbClr val="d76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633680" y="2246400"/>
            <a:ext cx="58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бор компетенций - актуальное, мотивиров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ое знание и понимание как 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624040" y="2878200"/>
            <a:ext cx="3886200" cy="968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Квалификационны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знания, у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выки, 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144360" y="4473720"/>
            <a:ext cx="3279960" cy="2208240"/>
            <a:chOff x="144360" y="4473720"/>
            <a:chExt cx="3279960" cy="2208240"/>
          </a:xfrm>
        </p:grpSpPr>
        <p:sp>
          <p:nvSpPr>
            <p:cNvPr id="147" name="Rectangle 13"/>
            <p:cNvSpPr/>
            <p:nvPr/>
          </p:nvSpPr>
          <p:spPr>
            <a:xfrm>
              <a:off x="144360" y="4473720"/>
              <a:ext cx="3279960" cy="2208240"/>
            </a:xfrm>
            <a:prstGeom prst="rect">
              <a:avLst/>
            </a:prstGeom>
            <a:solidFill>
              <a:srgbClr val="d76f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 rot="16200000">
              <a:off x="-156960" y="551160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 rot="16200000">
              <a:off x="668160" y="551160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 rot="16200000">
              <a:off x="2195280" y="550044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>
              <a:off x="933120" y="4537080"/>
              <a:ext cx="170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ете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922400" y="56055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9"/>
          <p:cNvGrpSpPr/>
          <p:nvPr/>
        </p:nvGrpSpPr>
        <p:grpSpPr>
          <a:xfrm>
            <a:off x="5564160" y="4729320"/>
            <a:ext cx="3422520" cy="1812960"/>
            <a:chOff x="5564160" y="4729320"/>
            <a:chExt cx="3422520" cy="1812960"/>
          </a:xfrm>
        </p:grpSpPr>
        <p:sp>
          <p:nvSpPr>
            <p:cNvPr id="154" name="Rectangle 20"/>
            <p:cNvSpPr/>
            <p:nvPr/>
          </p:nvSpPr>
          <p:spPr>
            <a:xfrm>
              <a:off x="5564160" y="4729320"/>
              <a:ext cx="3378240" cy="1728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1"/>
            <p:cNvSpPr/>
            <p:nvPr/>
          </p:nvSpPr>
          <p:spPr>
            <a:xfrm>
              <a:off x="5587920" y="4802400"/>
              <a:ext cx="339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Формирование компетенций на осно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деятельностных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личностно-ориентиров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технолог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22"/>
          <p:cNvSpPr/>
          <p:nvPr/>
        </p:nvSpPr>
        <p:spPr>
          <a:xfrm>
            <a:off x="3473280" y="4954680"/>
            <a:ext cx="1984680" cy="635040"/>
          </a:xfrm>
          <a:prstGeom prst="leftArrow">
            <a:avLst>
              <a:gd name="adj1" fmla="val 50000"/>
              <a:gd name="adj2" fmla="val 7813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>
            <a:off x="3473280" y="5668920"/>
            <a:ext cx="1984680" cy="635040"/>
          </a:xfrm>
          <a:prstGeom prst="leftArrow">
            <a:avLst>
              <a:gd name="adj1" fmla="val 50000"/>
              <a:gd name="adj2" fmla="val 7813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Те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0" y="214200"/>
            <a:ext cx="89438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и структура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перечня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1279440"/>
            <a:ext cx="8229600" cy="54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Составление списка основных работо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Формирование вузом перечня компетенций по данному направлению подготовки специалистов на основ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стандартов прошлого поко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пыта преподавательского сост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екомендаций экспер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тзывов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формление ан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ассылка анкеты и сбор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Анализ результатов, выявление важнейших компетенций, отмеченных большинством работо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Выделение ядра компетенций и выбор направлений целев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24"/>
          <p:cNvSpPr/>
          <p:nvPr/>
        </p:nvSpPr>
        <p:spPr>
          <a:xfrm flipH="1">
            <a:off x="1036800" y="4003560"/>
            <a:ext cx="76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77760" y="461880"/>
            <a:ext cx="93549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выявления компетенций специа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35"/>
          <p:cNvGrpSpPr/>
          <p:nvPr/>
        </p:nvGrpSpPr>
        <p:grpSpPr>
          <a:xfrm>
            <a:off x="4419720" y="2751120"/>
            <a:ext cx="3967200" cy="1928880"/>
            <a:chOff x="4419720" y="2751120"/>
            <a:chExt cx="3967200" cy="1928880"/>
          </a:xfrm>
        </p:grpSpPr>
        <p:grpSp>
          <p:nvGrpSpPr>
            <p:cNvPr id="164" name="Group 134"/>
            <p:cNvGrpSpPr/>
            <p:nvPr/>
          </p:nvGrpSpPr>
          <p:grpSpPr>
            <a:xfrm>
              <a:off x="5172120" y="3147840"/>
              <a:ext cx="3214800" cy="1276200"/>
              <a:chOff x="5172120" y="3147840"/>
              <a:chExt cx="3214800" cy="1276200"/>
            </a:xfrm>
          </p:grpSpPr>
          <p:grpSp>
            <p:nvGrpSpPr>
              <p:cNvPr id="165" name="Group 118"/>
              <p:cNvGrpSpPr/>
              <p:nvPr/>
            </p:nvGrpSpPr>
            <p:grpSpPr>
              <a:xfrm>
                <a:off x="5172120" y="3147840"/>
                <a:ext cx="2895120" cy="1276200"/>
                <a:chOff x="5172120" y="3147840"/>
                <a:chExt cx="2895120" cy="1276200"/>
              </a:xfrm>
            </p:grpSpPr>
            <p:sp>
              <p:nvSpPr>
                <p:cNvPr id="166" name="Freeform 94"/>
                <p:cNvSpPr/>
                <p:nvPr/>
              </p:nvSpPr>
              <p:spPr>
                <a:xfrm>
                  <a:off x="5172120" y="3147840"/>
                  <a:ext cx="2895120" cy="576360"/>
                </a:xfrm>
                <a:custGeom>
                  <a:avLst/>
                  <a:gdLst>
                    <a:gd name="textAreaLeft" fmla="*/ 0 w 2895120"/>
                    <a:gd name="textAreaRight" fmla="*/ 2895480 w 2895120"/>
                    <a:gd name="textAreaTop" fmla="*/ 0 h 576360"/>
                    <a:gd name="textAreaBottom" fmla="*/ 576720 h 576360"/>
                  </a:gdLst>
                  <a:ahLst/>
                  <a:rect l="textAreaLeft" t="textAreaTop" r="textAreaRight" b="textAreaBottom"/>
                  <a:pathLst>
                    <a:path w="3138" h="906">
                      <a:moveTo>
                        <a:pt x="0" y="0"/>
                      </a:moveTo>
                      <a:lnTo>
                        <a:pt x="1590" y="906"/>
                      </a:lnTo>
                      <a:lnTo>
                        <a:pt x="3138" y="90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95"/>
                <p:cNvSpPr/>
                <p:nvPr/>
              </p:nvSpPr>
              <p:spPr>
                <a:xfrm>
                  <a:off x="5192280" y="3724200"/>
                  <a:ext cx="1446480" cy="699840"/>
                </a:xfrm>
                <a:custGeom>
                  <a:avLst/>
                  <a:gdLst>
                    <a:gd name="textAreaLeft" fmla="*/ 0 w 1446480"/>
                    <a:gd name="textAreaRight" fmla="*/ 1446480 w 1446480"/>
                    <a:gd name="textAreaTop" fmla="*/ 0 h 699840"/>
                    <a:gd name="textAreaBottom" fmla="*/ 700200 h 699840"/>
                  </a:gdLst>
                  <a:ahLst/>
                  <a:rect l="textAreaLeft" t="textAreaTop" r="textAreaRight" b="textAreaBottom"/>
                  <a:pathLst>
                    <a:path w="1566" h="1104">
                      <a:moveTo>
                        <a:pt x="0" y="1104"/>
                      </a:moveTo>
                      <a:lnTo>
                        <a:pt x="15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98"/>
              <p:cNvSpPr/>
              <p:nvPr/>
            </p:nvSpPr>
            <p:spPr>
              <a:xfrm>
                <a:off x="6672240" y="3394080"/>
                <a:ext cx="171468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евая подготов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Oval 76"/>
            <p:cNvSpPr/>
            <p:nvPr/>
          </p:nvSpPr>
          <p:spPr>
            <a:xfrm>
              <a:off x="4419720" y="3830760"/>
              <a:ext cx="86508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77"/>
            <p:cNvSpPr/>
            <p:nvPr/>
          </p:nvSpPr>
          <p:spPr>
            <a:xfrm>
              <a:off x="4424400" y="2751120"/>
              <a:ext cx="747720" cy="74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9"/>
          <p:cNvGrpSpPr/>
          <p:nvPr/>
        </p:nvGrpSpPr>
        <p:grpSpPr>
          <a:xfrm>
            <a:off x="2950920" y="2509560"/>
            <a:ext cx="2405160" cy="2473560"/>
            <a:chOff x="2950920" y="2509560"/>
            <a:chExt cx="2405160" cy="2473560"/>
          </a:xfrm>
        </p:grpSpPr>
        <p:sp>
          <p:nvSpPr>
            <p:cNvPr id="172" name="Text Box 80"/>
            <p:cNvSpPr/>
            <p:nvPr/>
          </p:nvSpPr>
          <p:spPr>
            <a:xfrm>
              <a:off x="3292560" y="4243320"/>
              <a:ext cx="625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1"/>
            <p:cNvSpPr/>
            <p:nvPr/>
          </p:nvSpPr>
          <p:spPr>
            <a:xfrm>
              <a:off x="4664160" y="2855880"/>
              <a:ext cx="6253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2"/>
            <p:cNvSpPr/>
            <p:nvPr/>
          </p:nvSpPr>
          <p:spPr>
            <a:xfrm>
              <a:off x="3316320" y="2776680"/>
              <a:ext cx="603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9"/>
            <p:cNvSpPr/>
            <p:nvPr/>
          </p:nvSpPr>
          <p:spPr>
            <a:xfrm flipH="1" flipV="1">
              <a:off x="2950920" y="2543040"/>
              <a:ext cx="34596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0"/>
            <p:cNvSpPr/>
            <p:nvPr/>
          </p:nvSpPr>
          <p:spPr>
            <a:xfrm>
              <a:off x="3166920" y="4043520"/>
              <a:ext cx="747720" cy="723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1"/>
            <p:cNvSpPr/>
            <p:nvPr/>
          </p:nvSpPr>
          <p:spPr>
            <a:xfrm flipV="1">
              <a:off x="4976640" y="2509560"/>
              <a:ext cx="37944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2"/>
            <p:cNvSpPr/>
            <p:nvPr/>
          </p:nvSpPr>
          <p:spPr>
            <a:xfrm>
              <a:off x="4419720" y="2760840"/>
              <a:ext cx="747720" cy="723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7"/>
            <p:cNvSpPr/>
            <p:nvPr/>
          </p:nvSpPr>
          <p:spPr>
            <a:xfrm>
              <a:off x="3193920" y="2693880"/>
              <a:ext cx="747720" cy="723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9"/>
            <p:cNvSpPr/>
            <p:nvPr/>
          </p:nvSpPr>
          <p:spPr>
            <a:xfrm flipV="1">
              <a:off x="3084480" y="4721040"/>
              <a:ext cx="24912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0"/>
            <p:cNvSpPr/>
            <p:nvPr/>
          </p:nvSpPr>
          <p:spPr>
            <a:xfrm flipH="1" flipV="1">
              <a:off x="5040000" y="4640400"/>
              <a:ext cx="24300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28"/>
            <p:cNvGrpSpPr/>
            <p:nvPr/>
          </p:nvGrpSpPr>
          <p:grpSpPr>
            <a:xfrm>
              <a:off x="4419720" y="3851280"/>
              <a:ext cx="884160" cy="1017720"/>
              <a:chOff x="4419720" y="3851280"/>
              <a:chExt cx="884160" cy="1017720"/>
            </a:xfrm>
          </p:grpSpPr>
          <p:sp>
            <p:nvSpPr>
              <p:cNvPr id="183" name="Oval 104"/>
              <p:cNvSpPr/>
              <p:nvPr/>
            </p:nvSpPr>
            <p:spPr>
              <a:xfrm>
                <a:off x="4419720" y="3851280"/>
                <a:ext cx="865080" cy="824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05"/>
              <p:cNvSpPr/>
              <p:nvPr/>
            </p:nvSpPr>
            <p:spPr>
              <a:xfrm>
                <a:off x="4632480" y="4222800"/>
                <a:ext cx="67140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Arial"/>
                  </a:rPr>
                  <a:t>Р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Line 106"/>
          <p:cNvSpPr/>
          <p:nvPr/>
        </p:nvSpPr>
        <p:spPr>
          <a:xfrm flipH="1">
            <a:off x="1034640" y="1631880"/>
            <a:ext cx="3240" cy="432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7"/>
          <p:cNvGrpSpPr/>
          <p:nvPr/>
        </p:nvGrpSpPr>
        <p:grpSpPr>
          <a:xfrm>
            <a:off x="1038240" y="1631520"/>
            <a:ext cx="5064120" cy="4319640"/>
            <a:chOff x="1038240" y="1631520"/>
            <a:chExt cx="5064120" cy="4319640"/>
          </a:xfrm>
        </p:grpSpPr>
        <p:grpSp>
          <p:nvGrpSpPr>
            <p:cNvPr id="187" name="Group 117"/>
            <p:cNvGrpSpPr/>
            <p:nvPr/>
          </p:nvGrpSpPr>
          <p:grpSpPr>
            <a:xfrm>
              <a:off x="1038240" y="1631520"/>
              <a:ext cx="4154040" cy="426600"/>
              <a:chOff x="1038240" y="1631520"/>
              <a:chExt cx="4154040" cy="426600"/>
            </a:xfrm>
          </p:grpSpPr>
          <p:sp>
            <p:nvSpPr>
              <p:cNvPr id="188" name="Line 107"/>
              <p:cNvSpPr/>
              <p:nvPr/>
            </p:nvSpPr>
            <p:spPr>
              <a:xfrm>
                <a:off x="1038240" y="1631880"/>
                <a:ext cx="41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11"/>
              <p:cNvSpPr/>
              <p:nvPr/>
            </p:nvSpPr>
            <p:spPr>
              <a:xfrm flipV="1">
                <a:off x="519228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12"/>
              <p:cNvSpPr/>
              <p:nvPr/>
            </p:nvSpPr>
            <p:spPr>
              <a:xfrm flipV="1">
                <a:off x="258156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14"/>
              <p:cNvSpPr/>
              <p:nvPr/>
            </p:nvSpPr>
            <p:spPr>
              <a:xfrm flipV="1">
                <a:off x="390672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83"/>
            <p:cNvSpPr/>
            <p:nvPr/>
          </p:nvSpPr>
          <p:spPr>
            <a:xfrm>
              <a:off x="4384800" y="2058840"/>
              <a:ext cx="171756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4"/>
            <p:cNvSpPr/>
            <p:nvPr/>
          </p:nvSpPr>
          <p:spPr>
            <a:xfrm>
              <a:off x="2414520" y="4979880"/>
              <a:ext cx="1700280" cy="540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2"/>
            <p:cNvSpPr/>
            <p:nvPr/>
          </p:nvSpPr>
          <p:spPr>
            <a:xfrm>
              <a:off x="1803240" y="2058840"/>
              <a:ext cx="167976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3"/>
            <p:cNvSpPr/>
            <p:nvPr/>
          </p:nvSpPr>
          <p:spPr>
            <a:xfrm>
              <a:off x="4253040" y="4979880"/>
              <a:ext cx="1790640" cy="540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16"/>
            <p:cNvGrpSpPr/>
            <p:nvPr/>
          </p:nvGrpSpPr>
          <p:grpSpPr>
            <a:xfrm>
              <a:off x="1038240" y="5519880"/>
              <a:ext cx="4154040" cy="431280"/>
              <a:chOff x="1038240" y="5519880"/>
              <a:chExt cx="4154040" cy="431280"/>
            </a:xfrm>
          </p:grpSpPr>
          <p:sp>
            <p:nvSpPr>
              <p:cNvPr id="197" name="Line 108"/>
              <p:cNvSpPr/>
              <p:nvPr/>
            </p:nvSpPr>
            <p:spPr>
              <a:xfrm>
                <a:off x="1038240" y="5951160"/>
                <a:ext cx="41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9"/>
              <p:cNvSpPr/>
              <p:nvPr/>
            </p:nvSpPr>
            <p:spPr>
              <a:xfrm flipV="1">
                <a:off x="5192280" y="5519880"/>
                <a:ext cx="0" cy="43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10"/>
              <p:cNvSpPr/>
              <p:nvPr/>
            </p:nvSpPr>
            <p:spPr>
              <a:xfrm flipV="1">
                <a:off x="3305520" y="5519880"/>
                <a:ext cx="0" cy="43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115"/>
            <p:cNvSpPr/>
            <p:nvPr/>
          </p:nvSpPr>
          <p:spPr>
            <a:xfrm>
              <a:off x="3581280" y="2058840"/>
              <a:ext cx="61272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3"/>
          <p:cNvGrpSpPr/>
          <p:nvPr/>
        </p:nvGrpSpPr>
        <p:grpSpPr>
          <a:xfrm>
            <a:off x="3368520" y="2847960"/>
            <a:ext cx="4870440" cy="1600200"/>
            <a:chOff x="3368520" y="2847960"/>
            <a:chExt cx="4870440" cy="1600200"/>
          </a:xfrm>
        </p:grpSpPr>
        <p:sp>
          <p:nvSpPr>
            <p:cNvPr id="202" name="Text Box 96"/>
            <p:cNvSpPr/>
            <p:nvPr/>
          </p:nvSpPr>
          <p:spPr>
            <a:xfrm>
              <a:off x="5961240" y="2847960"/>
              <a:ext cx="2277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ее  яд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78"/>
            <p:cNvSpPr/>
            <p:nvPr/>
          </p:nvSpPr>
          <p:spPr>
            <a:xfrm>
              <a:off x="3368520" y="3060720"/>
              <a:ext cx="1798920" cy="138744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21"/>
            <p:cNvGrpSpPr/>
            <p:nvPr/>
          </p:nvGrpSpPr>
          <p:grpSpPr>
            <a:xfrm>
              <a:off x="5029200" y="3178080"/>
              <a:ext cx="2743200" cy="557280"/>
              <a:chOff x="5029200" y="3178080"/>
              <a:chExt cx="2743200" cy="557280"/>
            </a:xfrm>
          </p:grpSpPr>
          <p:sp>
            <p:nvSpPr>
              <p:cNvPr id="205" name="Line 119"/>
              <p:cNvSpPr/>
              <p:nvPr/>
            </p:nvSpPr>
            <p:spPr>
              <a:xfrm flipV="1">
                <a:off x="5029200" y="3178080"/>
                <a:ext cx="130500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20"/>
              <p:cNvSpPr/>
              <p:nvPr/>
            </p:nvSpPr>
            <p:spPr>
              <a:xfrm>
                <a:off x="6334200" y="3178080"/>
                <a:ext cx="1438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123"/>
          <p:cNvGrpSpPr/>
          <p:nvPr/>
        </p:nvGrpSpPr>
        <p:grpSpPr>
          <a:xfrm>
            <a:off x="1193760" y="3281400"/>
            <a:ext cx="3500640" cy="884160"/>
            <a:chOff x="1193760" y="3281400"/>
            <a:chExt cx="3500640" cy="884160"/>
          </a:xfrm>
        </p:grpSpPr>
        <p:sp>
          <p:nvSpPr>
            <p:cNvPr id="208" name="Text Box 79"/>
            <p:cNvSpPr/>
            <p:nvPr/>
          </p:nvSpPr>
          <p:spPr>
            <a:xfrm>
              <a:off x="3795840" y="3730680"/>
              <a:ext cx="898560" cy="350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85"/>
            <p:cNvSpPr/>
            <p:nvPr/>
          </p:nvSpPr>
          <p:spPr>
            <a:xfrm>
              <a:off x="1193760" y="3303720"/>
              <a:ext cx="2070000" cy="40464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995c7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нобрнауки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6"/>
            <p:cNvSpPr/>
            <p:nvPr/>
          </p:nvSpPr>
          <p:spPr>
            <a:xfrm>
              <a:off x="1797120" y="3830760"/>
              <a:ext cx="1369800" cy="33480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995c7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7"/>
            <p:cNvSpPr/>
            <p:nvPr/>
          </p:nvSpPr>
          <p:spPr>
            <a:xfrm>
              <a:off x="3166920" y="3967200"/>
              <a:ext cx="62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>
              <a:off x="3281400" y="3517920"/>
              <a:ext cx="51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1"/>
            <p:cNvSpPr/>
            <p:nvPr/>
          </p:nvSpPr>
          <p:spPr>
            <a:xfrm>
              <a:off x="3795840" y="3281400"/>
              <a:ext cx="898560" cy="449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4313"/>
                  </a:srgbClr>
                </a:gs>
                <a:gs pos="100000">
                  <a:srgbClr val="272727">
                    <a:alpha val="5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5"/>
          <p:cNvGrpSpPr/>
          <p:nvPr/>
        </p:nvGrpSpPr>
        <p:grpSpPr>
          <a:xfrm>
            <a:off x="1749600" y="3000240"/>
            <a:ext cx="5600520" cy="3857760"/>
            <a:chOff x="1749600" y="3000240"/>
            <a:chExt cx="5600520" cy="3857760"/>
          </a:xfrm>
        </p:grpSpPr>
        <p:sp>
          <p:nvSpPr>
            <p:cNvPr id="215" name="Rectangle 36"/>
            <p:cNvSpPr/>
            <p:nvPr/>
          </p:nvSpPr>
          <p:spPr>
            <a:xfrm>
              <a:off x="1749600" y="3000240"/>
              <a:ext cx="5600520" cy="3800520"/>
            </a:xfrm>
            <a:prstGeom prst="rect">
              <a:avLst/>
            </a:prstGeom>
            <a:solidFill>
              <a:srgbClr val="ffcc99">
                <a:alpha val="5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7"/>
            <p:cNvSpPr/>
            <p:nvPr/>
          </p:nvSpPr>
          <p:spPr>
            <a:xfrm>
              <a:off x="4611240" y="3120840"/>
              <a:ext cx="609480" cy="5014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 flipV="1">
              <a:off x="4900680" y="3622320"/>
              <a:ext cx="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9"/>
            <p:cNvSpPr/>
            <p:nvPr/>
          </p:nvSpPr>
          <p:spPr>
            <a:xfrm flipV="1">
              <a:off x="4295520" y="3622320"/>
              <a:ext cx="4381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40"/>
            <p:cNvSpPr/>
            <p:nvPr/>
          </p:nvSpPr>
          <p:spPr>
            <a:xfrm>
              <a:off x="5968440" y="3127680"/>
              <a:ext cx="60804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5290560" y="3127680"/>
              <a:ext cx="60804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789000" y="3127680"/>
              <a:ext cx="60948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4128480" y="4116960"/>
              <a:ext cx="37332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4684680" y="4116960"/>
              <a:ext cx="3740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3579840" y="4116960"/>
              <a:ext cx="37332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 flipV="1">
              <a:off x="4609080" y="493848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7"/>
            <p:cNvSpPr/>
            <p:nvPr/>
          </p:nvSpPr>
          <p:spPr>
            <a:xfrm flipH="1">
              <a:off x="3785400" y="4938840"/>
              <a:ext cx="111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V="1">
              <a:off x="378576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9"/>
            <p:cNvSpPr/>
            <p:nvPr/>
          </p:nvSpPr>
          <p:spPr>
            <a:xfrm flipV="1">
              <a:off x="490572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0"/>
            <p:cNvSpPr/>
            <p:nvPr/>
          </p:nvSpPr>
          <p:spPr>
            <a:xfrm flipV="1">
              <a:off x="432648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1"/>
            <p:cNvSpPr/>
            <p:nvPr/>
          </p:nvSpPr>
          <p:spPr>
            <a:xfrm>
              <a:off x="3785040" y="5196600"/>
              <a:ext cx="1165680" cy="86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2"/>
            <p:cNvSpPr/>
            <p:nvPr/>
          </p:nvSpPr>
          <p:spPr>
            <a:xfrm>
              <a:off x="2124720" y="5196600"/>
              <a:ext cx="1500120" cy="86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3"/>
            <p:cNvSpPr/>
            <p:nvPr/>
          </p:nvSpPr>
          <p:spPr>
            <a:xfrm>
              <a:off x="2254320" y="5257080"/>
              <a:ext cx="37260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4"/>
            <p:cNvSpPr/>
            <p:nvPr/>
          </p:nvSpPr>
          <p:spPr>
            <a:xfrm>
              <a:off x="2718360" y="5257080"/>
              <a:ext cx="37404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5"/>
            <p:cNvSpPr/>
            <p:nvPr/>
          </p:nvSpPr>
          <p:spPr>
            <a:xfrm>
              <a:off x="3205800" y="5257080"/>
              <a:ext cx="37332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6"/>
            <p:cNvSpPr/>
            <p:nvPr/>
          </p:nvSpPr>
          <p:spPr>
            <a:xfrm>
              <a:off x="1880280" y="5067720"/>
              <a:ext cx="321516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7"/>
            <p:cNvSpPr/>
            <p:nvPr/>
          </p:nvSpPr>
          <p:spPr>
            <a:xfrm>
              <a:off x="3809880" y="5814720"/>
              <a:ext cx="692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8"/>
            <p:cNvSpPr/>
            <p:nvPr/>
          </p:nvSpPr>
          <p:spPr>
            <a:xfrm>
              <a:off x="2140560" y="5784120"/>
              <a:ext cx="6933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9"/>
            <p:cNvSpPr/>
            <p:nvPr/>
          </p:nvSpPr>
          <p:spPr>
            <a:xfrm>
              <a:off x="2577240" y="6153840"/>
              <a:ext cx="2466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Лекции и практические зан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0"/>
            <p:cNvSpPr/>
            <p:nvPr/>
          </p:nvSpPr>
          <p:spPr>
            <a:xfrm>
              <a:off x="5249160" y="5081760"/>
              <a:ext cx="172872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1"/>
            <p:cNvSpPr/>
            <p:nvPr/>
          </p:nvSpPr>
          <p:spPr>
            <a:xfrm>
              <a:off x="5431320" y="5271120"/>
              <a:ext cx="37368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2"/>
            <p:cNvSpPr/>
            <p:nvPr/>
          </p:nvSpPr>
          <p:spPr>
            <a:xfrm>
              <a:off x="5896800" y="5271120"/>
              <a:ext cx="37260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3"/>
            <p:cNvSpPr/>
            <p:nvPr/>
          </p:nvSpPr>
          <p:spPr>
            <a:xfrm>
              <a:off x="6384600" y="5271120"/>
              <a:ext cx="37368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4"/>
            <p:cNvSpPr/>
            <p:nvPr/>
          </p:nvSpPr>
          <p:spPr>
            <a:xfrm flipV="1">
              <a:off x="6143040" y="3629880"/>
              <a:ext cx="0" cy="16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 flipV="1">
              <a:off x="5081760" y="3623040"/>
              <a:ext cx="538920" cy="16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6"/>
            <p:cNvSpPr/>
            <p:nvPr/>
          </p:nvSpPr>
          <p:spPr>
            <a:xfrm>
              <a:off x="5289840" y="6154560"/>
              <a:ext cx="1607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иды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7"/>
            <p:cNvSpPr/>
            <p:nvPr/>
          </p:nvSpPr>
          <p:spPr>
            <a:xfrm>
              <a:off x="3280320" y="6515280"/>
              <a:ext cx="2285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разовательный проце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8"/>
            <p:cNvSpPr/>
            <p:nvPr/>
          </p:nvSpPr>
          <p:spPr>
            <a:xfrm>
              <a:off x="3899160" y="5257080"/>
              <a:ext cx="37332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69"/>
            <p:cNvGrpSpPr/>
            <p:nvPr/>
          </p:nvGrpSpPr>
          <p:grpSpPr>
            <a:xfrm>
              <a:off x="4455360" y="5264640"/>
              <a:ext cx="508680" cy="532800"/>
              <a:chOff x="4455360" y="5264640"/>
              <a:chExt cx="508680" cy="532800"/>
            </a:xfrm>
          </p:grpSpPr>
          <p:sp>
            <p:nvSpPr>
              <p:cNvPr id="249" name="Text Box 70"/>
              <p:cNvSpPr/>
              <p:nvPr/>
            </p:nvSpPr>
            <p:spPr>
              <a:xfrm>
                <a:off x="4455360" y="5264640"/>
                <a:ext cx="373320" cy="532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1"/>
              <p:cNvSpPr/>
              <p:nvPr/>
            </p:nvSpPr>
            <p:spPr>
              <a:xfrm>
                <a:off x="4460760" y="5465880"/>
                <a:ext cx="5032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77"/>
          <p:cNvGrpSpPr/>
          <p:nvPr/>
        </p:nvGrpSpPr>
        <p:grpSpPr>
          <a:xfrm>
            <a:off x="1757520" y="628560"/>
            <a:ext cx="5600520" cy="2243160"/>
            <a:chOff x="1757520" y="628560"/>
            <a:chExt cx="5600520" cy="2243160"/>
          </a:xfrm>
        </p:grpSpPr>
        <p:sp>
          <p:nvSpPr>
            <p:cNvPr id="252" name="Rectangle 8"/>
            <p:cNvSpPr/>
            <p:nvPr/>
          </p:nvSpPr>
          <p:spPr>
            <a:xfrm>
              <a:off x="1757520" y="628560"/>
              <a:ext cx="5600520" cy="2243160"/>
            </a:xfrm>
            <a:prstGeom prst="rect">
              <a:avLst/>
            </a:prstGeom>
            <a:solidFill>
              <a:srgbClr val="ffb9dc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3860640" y="1116000"/>
              <a:ext cx="30402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39909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1"/>
            <p:cNvSpPr/>
            <p:nvPr/>
          </p:nvSpPr>
          <p:spPr>
            <a:xfrm>
              <a:off x="445608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2"/>
            <p:cNvSpPr/>
            <p:nvPr/>
          </p:nvSpPr>
          <p:spPr>
            <a:xfrm>
              <a:off x="3860640" y="1116000"/>
              <a:ext cx="69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3"/>
            <p:cNvSpPr/>
            <p:nvPr/>
          </p:nvSpPr>
          <p:spPr>
            <a:xfrm>
              <a:off x="494352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2200320" y="1116000"/>
              <a:ext cx="150156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233028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"/>
            <p:cNvSpPr/>
            <p:nvPr/>
          </p:nvSpPr>
          <p:spPr>
            <a:xfrm>
              <a:off x="27957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2200320" y="1116000"/>
              <a:ext cx="69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328284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54309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0720" y="1584360"/>
              <a:ext cx="5032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4394160" y="1581120"/>
              <a:ext cx="503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732120" y="2365200"/>
              <a:ext cx="37332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91804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6443640" y="1406520"/>
              <a:ext cx="3747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4334040" y="2365200"/>
              <a:ext cx="396720" cy="40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5583240" y="2365200"/>
              <a:ext cx="326880" cy="37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7"/>
            <p:cNvSpPr/>
            <p:nvPr/>
          </p:nvSpPr>
          <p:spPr>
            <a:xfrm>
              <a:off x="4965840" y="2365200"/>
              <a:ext cx="38880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>
              <a:off x="5607000" y="194616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 flipH="1">
              <a:off x="3930480" y="2160720"/>
              <a:ext cx="18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579744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517212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>
              <a:off x="452448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393048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3514680" y="657360"/>
              <a:ext cx="228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Цели обу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Object 74"/>
            <p:cNvGraphicFramePr/>
            <p:nvPr/>
          </p:nvGraphicFramePr>
          <p:xfrm>
            <a:off x="3807000" y="2460600"/>
            <a:ext cx="190440" cy="24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Object 7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7000" y="2460600"/>
                      <a:ext cx="1904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5"/>
            <p:cNvGraphicFramePr/>
            <p:nvPr/>
          </p:nvGraphicFramePr>
          <p:xfrm>
            <a:off x="4424400" y="2449440"/>
            <a:ext cx="203040" cy="24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2" name="Object 7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4400" y="2449440"/>
                      <a:ext cx="2030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76"/>
            <p:cNvGraphicFramePr/>
            <p:nvPr/>
          </p:nvGraphicFramePr>
          <p:xfrm>
            <a:off x="5632560" y="2449440"/>
            <a:ext cx="241200" cy="24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4" name="Object 7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2560" y="2449440"/>
                      <a:ext cx="2412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Group 78"/>
          <p:cNvGrpSpPr/>
          <p:nvPr/>
        </p:nvGrpSpPr>
        <p:grpSpPr>
          <a:xfrm>
            <a:off x="5059440" y="2742840"/>
            <a:ext cx="1298520" cy="384120"/>
            <a:chOff x="5059440" y="2742840"/>
            <a:chExt cx="1298520" cy="384120"/>
          </a:xfrm>
        </p:grpSpPr>
        <p:sp>
          <p:nvSpPr>
            <p:cNvPr id="286" name="Line 72"/>
            <p:cNvSpPr/>
            <p:nvPr/>
          </p:nvSpPr>
          <p:spPr>
            <a:xfrm flipH="1" flipV="1">
              <a:off x="5808600" y="2742840"/>
              <a:ext cx="54936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73"/>
            <p:cNvSpPr/>
            <p:nvPr/>
          </p:nvSpPr>
          <p:spPr>
            <a:xfrm flipV="1">
              <a:off x="5059440" y="2755440"/>
              <a:ext cx="5983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9960" y="49320"/>
            <a:ext cx="8609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2"/>
          <p:cNvSpPr/>
          <p:nvPr/>
        </p:nvSpPr>
        <p:spPr>
          <a:xfrm>
            <a:off x="4851360" y="18201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0" y="1563840"/>
            <a:ext cx="6984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0"/>
          <p:cNvSpPr/>
          <p:nvPr/>
        </p:nvSpPr>
        <p:spPr>
          <a:xfrm>
            <a:off x="0" y="1563840"/>
            <a:ext cx="6984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47600" y="2033640"/>
          <a:ext cx="6865920" cy="3241800"/>
        </p:xfrm>
        <a:graphic>
          <a:graphicData uri="http://schemas.openxmlformats.org/drawingml/2006/table">
            <a:tbl>
              <a:tblPr/>
              <a:tblGrid>
                <a:gridCol w="2622600"/>
                <a:gridCol w="933480"/>
                <a:gridCol w="935280"/>
                <a:gridCol w="784080"/>
                <a:gridCol w="784080"/>
                <a:gridCol w="80640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моду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компетенции и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605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</a:tbl>
          </a:graphicData>
        </a:graphic>
      </p:graphicFrame>
      <p:grpSp>
        <p:nvGrpSpPr>
          <p:cNvPr id="299" name="Group 247"/>
          <p:cNvGrpSpPr/>
          <p:nvPr/>
        </p:nvGrpSpPr>
        <p:grpSpPr>
          <a:xfrm>
            <a:off x="1275120" y="5568840"/>
            <a:ext cx="6928920" cy="626760"/>
            <a:chOff x="1275120" y="5568840"/>
            <a:chExt cx="6928920" cy="626760"/>
          </a:xfrm>
        </p:grpSpPr>
        <p:graphicFrame>
          <p:nvGraphicFramePr>
            <p:cNvPr id="300" name="Object 4"/>
            <p:cNvGraphicFramePr/>
            <p:nvPr/>
          </p:nvGraphicFramePr>
          <p:xfrm>
            <a:off x="1506600" y="5568840"/>
            <a:ext cx="397080" cy="50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6600" y="5568840"/>
                      <a:ext cx="3970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Rectangle 240"/>
            <p:cNvSpPr/>
            <p:nvPr/>
          </p:nvSpPr>
          <p:spPr>
            <a:xfrm>
              <a:off x="1275120" y="56430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41"/>
            <p:cNvSpPr/>
            <p:nvPr/>
          </p:nvSpPr>
          <p:spPr>
            <a:xfrm>
              <a:off x="1830600" y="5614920"/>
              <a:ext cx="637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онента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ой компетенции, формируемая при прохожд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ого учебного моду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5"/>
          <p:cNvGraphicFramePr/>
          <p:nvPr/>
        </p:nvGraphicFramePr>
        <p:xfrm>
          <a:off x="7337520" y="4719600"/>
          <a:ext cx="33948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7520" y="4719600"/>
                    <a:ext cx="33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3948120" y="4708440"/>
          <a:ext cx="36972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8120" y="4708440"/>
                    <a:ext cx="36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4940280" y="3459240"/>
          <a:ext cx="287280" cy="33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40280" y="3459240"/>
                    <a:ext cx="28728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4014720" y="3470400"/>
          <a:ext cx="2952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4720" y="3470400"/>
                    <a:ext cx="295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1"/>
          <p:cNvGraphicFramePr/>
          <p:nvPr/>
        </p:nvGraphicFramePr>
        <p:xfrm>
          <a:off x="3913200" y="2867040"/>
          <a:ext cx="25092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13200" y="2867040"/>
                    <a:ext cx="250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0"/>
          <p:cNvGraphicFramePr/>
          <p:nvPr/>
        </p:nvGraphicFramePr>
        <p:xfrm>
          <a:off x="5808600" y="2890800"/>
          <a:ext cx="25092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08600" y="2890800"/>
                    <a:ext cx="250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9"/>
          <p:cNvGraphicFramePr/>
          <p:nvPr/>
        </p:nvGraphicFramePr>
        <p:xfrm>
          <a:off x="7369200" y="2890800"/>
          <a:ext cx="297000" cy="37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9200" y="2890800"/>
                    <a:ext cx="2970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457200"/>
            <a:ext cx="86868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и между компонентами компетенций и учебными моду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87"/>
          <p:cNvGrpSpPr/>
          <p:nvPr/>
        </p:nvGrpSpPr>
        <p:grpSpPr>
          <a:xfrm>
            <a:off x="1714680" y="995400"/>
            <a:ext cx="5627520" cy="5862600"/>
            <a:chOff x="1714680" y="995400"/>
            <a:chExt cx="5627520" cy="5862600"/>
          </a:xfrm>
        </p:grpSpPr>
        <p:sp>
          <p:nvSpPr>
            <p:cNvPr id="320" name="Line 7"/>
            <p:cNvSpPr/>
            <p:nvPr/>
          </p:nvSpPr>
          <p:spPr>
            <a:xfrm>
              <a:off x="3749760" y="995400"/>
              <a:ext cx="0" cy="5791320"/>
            </a:xfrm>
            <a:prstGeom prst="line">
              <a:avLst/>
            </a:prstGeom>
            <a:ln w="28440">
              <a:solidFill>
                <a:srgbClr val="b94b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8"/>
            <p:cNvSpPr/>
            <p:nvPr/>
          </p:nvSpPr>
          <p:spPr>
            <a:xfrm>
              <a:off x="6518160" y="1071720"/>
              <a:ext cx="0" cy="5715000"/>
            </a:xfrm>
            <a:prstGeom prst="line">
              <a:avLst/>
            </a:prstGeom>
            <a:ln w="28440">
              <a:solidFill>
                <a:srgbClr val="b94b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1903320" y="4772160"/>
              <a:ext cx="4799160" cy="974520"/>
            </a:xfrm>
            <a:custGeom>
              <a:avLst/>
              <a:gdLst>
                <a:gd name="textAreaLeft" fmla="*/ 0 w 4799160"/>
                <a:gd name="textAreaRight" fmla="*/ 4799520 w 47991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7557" h="1536">
                  <a:moveTo>
                    <a:pt x="0" y="746"/>
                  </a:moveTo>
                  <a:lnTo>
                    <a:pt x="7557" y="0"/>
                  </a:lnTo>
                  <a:lnTo>
                    <a:pt x="7557" y="1536"/>
                  </a:lnTo>
                  <a:lnTo>
                    <a:pt x="0" y="760"/>
                  </a:lnTo>
                  <a:lnTo>
                    <a:pt x="0" y="746"/>
                  </a:lnTo>
                  <a:close/>
                </a:path>
              </a:pathLst>
            </a:custGeom>
            <a:gradFill rotWithShape="0">
              <a:gsLst>
                <a:gs pos="0">
                  <a:srgbClr val="cb83a7"/>
                </a:gs>
                <a:gs pos="100000">
                  <a:srgbClr val="5e3d4d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1906560" y="5249880"/>
              <a:ext cx="523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3876840" y="5014800"/>
              <a:ext cx="3465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ормирования компетенци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"/>
            <p:cNvSpPr/>
            <p:nvPr/>
          </p:nvSpPr>
          <p:spPr>
            <a:xfrm>
              <a:off x="6864480" y="503568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1714680" y="3851280"/>
              <a:ext cx="66024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3003480" y="385776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5707080" y="388764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1855800" y="117468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2627280" y="183528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4070520" y="1835280"/>
              <a:ext cx="66024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5402160" y="161136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0"/>
            <p:cNvSpPr/>
            <p:nvPr/>
          </p:nvSpPr>
          <p:spPr>
            <a:xfrm>
              <a:off x="3807000" y="103176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2048040" y="574668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2444760" y="1692360"/>
              <a:ext cx="26352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3125880" y="2444760"/>
              <a:ext cx="28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4543560" y="2470320"/>
              <a:ext cx="2286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4467240" y="636264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4467240" y="1413000"/>
              <a:ext cx="9748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859360" y="2257560"/>
              <a:ext cx="263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8"/>
            <p:cNvSpPr/>
            <p:nvPr/>
          </p:nvSpPr>
          <p:spPr>
            <a:xfrm>
              <a:off x="4294080" y="3832200"/>
              <a:ext cx="66060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29"/>
            <p:cNvSpPr/>
            <p:nvPr/>
          </p:nvSpPr>
          <p:spPr>
            <a:xfrm>
              <a:off x="3409920" y="4518000"/>
              <a:ext cx="25560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6093000" y="4548240"/>
              <a:ext cx="20772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1"/>
            <p:cNvSpPr/>
            <p:nvPr/>
          </p:nvSpPr>
          <p:spPr>
            <a:xfrm>
              <a:off x="4730760" y="4487760"/>
              <a:ext cx="1634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V="1">
              <a:off x="2352600" y="4189320"/>
              <a:ext cx="6368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3"/>
            <p:cNvSpPr/>
            <p:nvPr/>
          </p:nvSpPr>
          <p:spPr>
            <a:xfrm flipV="1">
              <a:off x="4105440" y="5533920"/>
              <a:ext cx="3506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4"/>
            <p:cNvSpPr/>
            <p:nvPr/>
          </p:nvSpPr>
          <p:spPr>
            <a:xfrm flipV="1">
              <a:off x="4772160" y="3476160"/>
              <a:ext cx="369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5"/>
            <p:cNvSpPr/>
            <p:nvPr/>
          </p:nvSpPr>
          <p:spPr>
            <a:xfrm flipV="1">
              <a:off x="6037200" y="3557160"/>
              <a:ext cx="33012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6"/>
            <p:cNvSpPr/>
            <p:nvPr/>
          </p:nvSpPr>
          <p:spPr>
            <a:xfrm flipV="1">
              <a:off x="5361120" y="5691240"/>
              <a:ext cx="56808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7"/>
            <p:cNvSpPr/>
            <p:nvPr/>
          </p:nvSpPr>
          <p:spPr>
            <a:xfrm flipV="1">
              <a:off x="3664080" y="4162320"/>
              <a:ext cx="63000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2708280" y="6148440"/>
              <a:ext cx="10987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9"/>
            <p:cNvSpPr/>
            <p:nvPr/>
          </p:nvSpPr>
          <p:spPr>
            <a:xfrm>
              <a:off x="3287880" y="2174760"/>
              <a:ext cx="78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0"/>
            <p:cNvSpPr/>
            <p:nvPr/>
          </p:nvSpPr>
          <p:spPr>
            <a:xfrm flipV="1">
              <a:off x="2678040" y="5403960"/>
              <a:ext cx="66852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1"/>
            <p:cNvSpPr/>
            <p:nvPr/>
          </p:nvSpPr>
          <p:spPr>
            <a:xfrm flipV="1">
              <a:off x="3316320" y="3354480"/>
              <a:ext cx="2635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886040" y="13669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2698920" y="19969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4"/>
            <p:cNvSpPr/>
            <p:nvPr/>
          </p:nvSpPr>
          <p:spPr>
            <a:xfrm>
              <a:off x="4162320" y="2028960"/>
              <a:ext cx="5079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3887640" y="1195560"/>
              <a:ext cx="5083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6"/>
            <p:cNvSpPr/>
            <p:nvPr/>
          </p:nvSpPr>
          <p:spPr>
            <a:xfrm>
              <a:off x="5483160" y="17542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7"/>
            <p:cNvSpPr/>
            <p:nvPr/>
          </p:nvSpPr>
          <p:spPr>
            <a:xfrm>
              <a:off x="1784520" y="40100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8"/>
            <p:cNvSpPr/>
            <p:nvPr/>
          </p:nvSpPr>
          <p:spPr>
            <a:xfrm>
              <a:off x="3075120" y="4019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9"/>
            <p:cNvSpPr/>
            <p:nvPr/>
          </p:nvSpPr>
          <p:spPr>
            <a:xfrm>
              <a:off x="4395960" y="40100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5838840" y="40608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2109960" y="5931000"/>
              <a:ext cx="558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52"/>
            <p:cNvGrpSpPr/>
            <p:nvPr/>
          </p:nvGrpSpPr>
          <p:grpSpPr>
            <a:xfrm>
              <a:off x="3795840" y="6058080"/>
              <a:ext cx="660240" cy="660240"/>
              <a:chOff x="3795840" y="6058080"/>
              <a:chExt cx="660240" cy="660240"/>
            </a:xfrm>
          </p:grpSpPr>
          <p:sp>
            <p:nvSpPr>
              <p:cNvPr id="366" name="Oval 53"/>
              <p:cNvSpPr/>
              <p:nvPr/>
            </p:nvSpPr>
            <p:spPr>
              <a:xfrm>
                <a:off x="3795840" y="6058080"/>
                <a:ext cx="660240" cy="660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54"/>
              <p:cNvSpPr/>
              <p:nvPr/>
            </p:nvSpPr>
            <p:spPr>
              <a:xfrm>
                <a:off x="3851640" y="6246000"/>
                <a:ext cx="5788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55"/>
            <p:cNvGrpSpPr/>
            <p:nvPr/>
          </p:nvGrpSpPr>
          <p:grpSpPr>
            <a:xfrm>
              <a:off x="4938840" y="6016680"/>
              <a:ext cx="671040" cy="660240"/>
              <a:chOff x="4938840" y="6016680"/>
              <a:chExt cx="671040" cy="660240"/>
            </a:xfrm>
          </p:grpSpPr>
          <p:sp>
            <p:nvSpPr>
              <p:cNvPr id="369" name="Oval 56"/>
              <p:cNvSpPr/>
              <p:nvPr/>
            </p:nvSpPr>
            <p:spPr>
              <a:xfrm>
                <a:off x="4938840" y="6016680"/>
                <a:ext cx="661320" cy="660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57"/>
              <p:cNvSpPr/>
              <p:nvPr/>
            </p:nvSpPr>
            <p:spPr>
              <a:xfrm>
                <a:off x="4969080" y="6189120"/>
                <a:ext cx="6408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58"/>
            <p:cNvSpPr/>
            <p:nvPr/>
          </p:nvSpPr>
          <p:spPr>
            <a:xfrm>
              <a:off x="2475000" y="1500120"/>
              <a:ext cx="5079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59"/>
            <p:cNvSpPr/>
            <p:nvPr/>
          </p:nvSpPr>
          <p:spPr>
            <a:xfrm>
              <a:off x="3146400" y="23734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60"/>
            <p:cNvSpPr/>
            <p:nvPr/>
          </p:nvSpPr>
          <p:spPr>
            <a:xfrm>
              <a:off x="3409920" y="190656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1"/>
            <p:cNvSpPr/>
            <p:nvPr/>
          </p:nvSpPr>
          <p:spPr>
            <a:xfrm>
              <a:off x="4518000" y="23526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2"/>
            <p:cNvSpPr/>
            <p:nvPr/>
          </p:nvSpPr>
          <p:spPr>
            <a:xfrm>
              <a:off x="4629240" y="1265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3"/>
            <p:cNvSpPr/>
            <p:nvPr/>
          </p:nvSpPr>
          <p:spPr>
            <a:xfrm>
              <a:off x="5919840" y="22114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4"/>
            <p:cNvSpPr/>
            <p:nvPr/>
          </p:nvSpPr>
          <p:spPr>
            <a:xfrm>
              <a:off x="2414520" y="38466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5"/>
            <p:cNvSpPr/>
            <p:nvPr/>
          </p:nvSpPr>
          <p:spPr>
            <a:xfrm>
              <a:off x="2948040" y="3470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66"/>
            <p:cNvSpPr/>
            <p:nvPr/>
          </p:nvSpPr>
          <p:spPr>
            <a:xfrm>
              <a:off x="3084480" y="45482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7"/>
            <p:cNvSpPr/>
            <p:nvPr/>
          </p:nvSpPr>
          <p:spPr>
            <a:xfrm>
              <a:off x="3705120" y="3887640"/>
              <a:ext cx="585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8"/>
            <p:cNvSpPr/>
            <p:nvPr/>
          </p:nvSpPr>
          <p:spPr>
            <a:xfrm>
              <a:off x="4843440" y="3583080"/>
              <a:ext cx="630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69"/>
            <p:cNvSpPr/>
            <p:nvPr/>
          </p:nvSpPr>
          <p:spPr>
            <a:xfrm>
              <a:off x="4680000" y="4375080"/>
              <a:ext cx="631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70"/>
            <p:cNvSpPr/>
            <p:nvPr/>
          </p:nvSpPr>
          <p:spPr>
            <a:xfrm>
              <a:off x="5695920" y="4497480"/>
              <a:ext cx="719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1"/>
            <p:cNvSpPr/>
            <p:nvPr/>
          </p:nvSpPr>
          <p:spPr>
            <a:xfrm>
              <a:off x="5707080" y="3552840"/>
              <a:ext cx="6634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72"/>
            <p:cNvSpPr/>
            <p:nvPr/>
          </p:nvSpPr>
          <p:spPr>
            <a:xfrm>
              <a:off x="2587680" y="541188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3"/>
            <p:cNvSpPr/>
            <p:nvPr/>
          </p:nvSpPr>
          <p:spPr>
            <a:xfrm>
              <a:off x="2851200" y="59198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74"/>
            <p:cNvSpPr/>
            <p:nvPr/>
          </p:nvSpPr>
          <p:spPr>
            <a:xfrm>
              <a:off x="3851280" y="5624640"/>
              <a:ext cx="674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5"/>
            <p:cNvSpPr/>
            <p:nvPr/>
          </p:nvSpPr>
          <p:spPr>
            <a:xfrm>
              <a:off x="4425840" y="5975280"/>
              <a:ext cx="630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6"/>
            <p:cNvSpPr/>
            <p:nvPr/>
          </p:nvSpPr>
          <p:spPr>
            <a:xfrm>
              <a:off x="5533920" y="5878440"/>
              <a:ext cx="665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77"/>
            <p:cNvGrpSpPr/>
            <p:nvPr/>
          </p:nvGrpSpPr>
          <p:grpSpPr>
            <a:xfrm>
              <a:off x="1906560" y="2617920"/>
              <a:ext cx="5232600" cy="974520"/>
              <a:chOff x="1906560" y="2617920"/>
              <a:chExt cx="5232600" cy="974520"/>
            </a:xfrm>
          </p:grpSpPr>
          <p:sp>
            <p:nvSpPr>
              <p:cNvPr id="391" name="Freeform 78"/>
              <p:cNvSpPr/>
              <p:nvPr/>
            </p:nvSpPr>
            <p:spPr>
              <a:xfrm>
                <a:off x="1906560" y="2617920"/>
                <a:ext cx="4795560" cy="974520"/>
              </a:xfrm>
              <a:custGeom>
                <a:avLst/>
                <a:gdLst>
                  <a:gd name="textAreaLeft" fmla="*/ 0 w 4795560"/>
                  <a:gd name="textAreaRight" fmla="*/ 4795920 w 479556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7552" h="2096">
                    <a:moveTo>
                      <a:pt x="0" y="672"/>
                    </a:moveTo>
                    <a:lnTo>
                      <a:pt x="7552" y="0"/>
                    </a:lnTo>
                    <a:lnTo>
                      <a:pt x="7552" y="2096"/>
                    </a:lnTo>
                    <a:lnTo>
                      <a:pt x="0" y="1344"/>
                    </a:lnTo>
                    <a:lnTo>
                      <a:pt x="0" y="6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83a7"/>
                  </a:gs>
                  <a:gs pos="100000">
                    <a:srgbClr val="5e3d4d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79"/>
              <p:cNvSpPr/>
              <p:nvPr/>
            </p:nvSpPr>
            <p:spPr>
              <a:xfrm>
                <a:off x="1906560" y="3105000"/>
                <a:ext cx="523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80"/>
              <p:cNvSpPr/>
              <p:nvPr/>
            </p:nvSpPr>
            <p:spPr>
              <a:xfrm>
                <a:off x="3125520" y="2881800"/>
                <a:ext cx="3464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Формирования компетенции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81"/>
              <p:cNvSpPr/>
              <p:nvPr/>
            </p:nvSpPr>
            <p:spPr>
              <a:xfrm>
                <a:off x="6864840" y="2881800"/>
                <a:ext cx="274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82"/>
            <p:cNvSpPr/>
            <p:nvPr/>
          </p:nvSpPr>
          <p:spPr>
            <a:xfrm>
              <a:off x="3327480" y="1030320"/>
              <a:ext cx="5079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83"/>
            <p:cNvSpPr/>
            <p:nvPr/>
          </p:nvSpPr>
          <p:spPr>
            <a:xfrm>
              <a:off x="3278160" y="653256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4"/>
            <p:cNvSpPr/>
            <p:nvPr/>
          </p:nvSpPr>
          <p:spPr>
            <a:xfrm>
              <a:off x="6039000" y="64627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85"/>
            <p:cNvSpPr/>
            <p:nvPr/>
          </p:nvSpPr>
          <p:spPr>
            <a:xfrm>
              <a:off x="6060960" y="10177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рмирования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00:57Z</dcterms:created>
  <dc:creator>lex</dc:creator>
  <dc:description/>
  <dc:language>en-US</dc:language>
  <cp:lastModifiedBy>Коля</cp:lastModifiedBy>
  <dcterms:modified xsi:type="dcterms:W3CDTF">2013-04-12T17:00:43Z</dcterms:modified>
  <cp:revision>34</cp:revision>
  <dc:subject/>
  <dc:title>Формирование профессионально-ориентированных компетенций при инновационных технологиях предметного обучения в высшей школе</dc:title>
</cp:coreProperties>
</file>