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424-2D08-42A2-9147-766B2EBD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081-FEA5-4E0D-B47F-5E2650E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A82-D3A1-4F51-A2FF-BC8228D3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C38-B7BA-4804-833B-E33BEB1D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A741-EEEE-45F9-BF8D-13F6C885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F37-D441-446D-82AC-79AC911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AF1-9FF0-4A20-8709-0D6D0B19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0DF-07D4-43F3-A201-3902CF7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4742-A775-48D9-B982-1E8A286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96D-31AF-4E73-94C8-26E7E75E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F70-EDA0-48C7-830C-4C73DA5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076-90EA-4ABC-85A4-7AA592EC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07EB-2DD3-46A6-939E-5C757DB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4DEE-7A33-4195-A3C5-2786F85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45EC-455F-4356-927F-C42A347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C9A-A090-481A-8977-C4E07499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CCE8-C13E-430F-A19F-EDDC396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0AC-38EB-4B4C-AC8E-724347F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7C1-0820-4668-99B6-DA8A291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28D-4196-45D2-91FD-AF51584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A4C-10FA-48CF-85F5-DE0E22D6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3E2-EE33-4C62-86DC-945AFAB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9BB-7EC4-4632-A786-D21A3BB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61E-1F00-4B50-A179-07ED24A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DB6-FDEA-43C2-BF11-CE5AD257B6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D1C-8DF9-4343-8000-2B2EF68728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кета «Какой вы воспитатель?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втор: Парамонова Светлана Викторо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Руководитель ГМО учителей начальных классов, работающих по УМК «Гармония»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г.Усолье-Сибирское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3251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8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управлять своими потребностями, отрицательными эмоциями, получая при этом удовлетворение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48960" y="2625480"/>
            <a:ext cx="77032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9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сть ли у Вас цель жизни и программа для ее выполнения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86400" y="2586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читаете ли Вы себя счаст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06280" y="2630520"/>
            <a:ext cx="76928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асто ли Ваши друзья и близкие называют Вас человеком интеллигентным и воспитанны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ете ли Вы определить проблемы в развитии личности ребенка, помочь ему в их решен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обходимо суммировать баллы ответов и разделить на число 12, сравните полученный результат с расшифровкой  балло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балл – очень низкий уровень оцениваемого качества  или отсутствие 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балла – низк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 балла –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балла – чуть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баллов – средний уровен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 баллов – чуть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 баллов –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баллов –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 баллов –очень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 баллов – наивысш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5520" y="2815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асибо! Успехов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4319640"/>
            <a:ext cx="2362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сточ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arsawr.ucoz.ru/ucheba-vospitan/samodiagnostika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syktyvdin.edusite.ru/DswMedia/zolotuxinai-samoocenkagotovnostiuchitelyakvospitatel-noydeyatel-nosti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знакомьтес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 содержанием и обведите те оценки, которые соответствуют степени выраженности того или иного Вашего качеств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3720" y="2639880"/>
            <a:ext cx="7673760" cy="17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ерите ли Вы в цивилизованное будущее нашей страны, несмотря на трудности сегодняшнего дня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55627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юбят ли Вас дети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2738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но ли Вас назвать справед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слушать, не перебивая собеседника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39600" y="2539440"/>
            <a:ext cx="7722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принять точку зрения другого человека, если она не совпадает с Вашей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54000" y="2630520"/>
            <a:ext cx="76932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ладаете  ли Вы чувством юмора? Помогает ли оно Вам в затруднительной для Вас ситуац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58680" y="2482560"/>
            <a:ext cx="76838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сопереживать, сочувствовать другим людям, попавшим в сложную ситуацию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lzovatel</cp:lastModifiedBy>
  <dcterms:modified xsi:type="dcterms:W3CDTF">2011-12-24T13:41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