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0DC-8524-47C8-8C74-D0F127A7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32F-6090-42FA-B227-55C679D5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36C-C812-467F-867D-9B619EC2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5D8-36CB-4022-A9F7-00F3F567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C1DA-85FF-47F2-A65B-34401596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EA9B-71B2-4756-8DD4-E4276BBA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1563-DE39-41D4-BA45-1E43D397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3AAE-6D3E-4280-A905-C65C392F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CE94-F28E-441C-AA28-C19838BF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574E-A6C9-493D-9164-AD972225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4C38-89EA-4529-9E4C-2BFC4B8C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DC5-4C8B-4D26-9BCD-B73D77F3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1C9D-1993-4389-BF80-71A6779D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4F69-5328-468D-9820-9D75872A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3B87-55A8-447D-B060-8392D0D4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EF6B-7535-45F1-BBAF-C8DAC047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97E9-8B91-4088-9F64-AA9E1964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826-BF24-4358-A500-E2E1619D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985-2F68-4062-A816-0B056335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EB4-982C-48D3-AF9E-D76AEABE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BE5-E2CB-45E4-A590-6B0E6B09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974-657E-4C3F-8BA7-FDA05339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88F-5ECC-41AE-ACBE-41519150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FA7-1D9E-4DA1-9CF1-C16997B6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B68E-CA49-4915-8DBD-ADF2C9B3A9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CE7E-199B-4BCC-80EA-F18618B7A9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Анкета «Какой вы воспитатель?»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Автор: Парамонова Светлана Викторовна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Руководитель ГМО учителей начальных классов, работающих по УМК «Гармония»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г.Усолье-Сибирское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3251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82360" y="2711160"/>
            <a:ext cx="768348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8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меете ли Вы управлять своими потребностями, отрицательными эмоциями, получая при этом удовлетворение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5257800"/>
            <a:ext cx="7693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48960" y="2625480"/>
            <a:ext cx="77032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9.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Есть ли у Вас цель жизни и программа для ее выполнения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86400" y="2586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0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читаете ли Вы себя счастливым человеком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106280" y="2630520"/>
            <a:ext cx="769284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1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асто ли Ваши друзья и близкие называют Вас человеком интеллигентным и воспитанным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82360" y="2711160"/>
            <a:ext cx="768348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2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жете ли Вы определить проблемы в развитии личности ребенка, помочь ему в их решени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5257800"/>
            <a:ext cx="7693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Необходимо суммировать баллы ответов и разделить на число 12, сравните полученный результат с расшифровкой  баллов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 балл – очень низкий уровень оцениваемого качества  или отсутствие ег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 балла – низкий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 балла – ниже среднег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 балла – чуть ниже среднег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 баллов – средний уровень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 баллов – чуть выше среднего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 баллов – выше среднего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 баллов – высок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 баллов –очень высок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 баллов – наивысш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05520" y="2815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пасибо! Успехов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86600" y="3809880"/>
            <a:ext cx="1731960" cy="2514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14400" y="4319640"/>
            <a:ext cx="23623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сточн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starsawr.ucoz.ru/ucheba-vospitan/samodiagnostika.do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syktyvdin.edusite.ru/DswMedia/zolotuxinai-samoocenkagotovnostiuchitelyakvospitatel-noydeyatel-nosti.do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6520" y="3047760"/>
            <a:ext cx="7162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знакомьтесь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 содержанием и обведите те оценки, которые соответствуют степени выраженности того или иного Вашего качества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3720" y="2639880"/>
            <a:ext cx="7673760" cy="17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ерите ли Вы в цивилизованное будущее нашей страны, несмотря на трудности сегодняшнего дня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3000" y="55627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2662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юбят ли Вас дети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5257800"/>
            <a:ext cx="7693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2738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жно ли Вас назвать справедливым человеком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5257800"/>
            <a:ext cx="7693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2662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меете ли Вы слушать, не перебивая собеседника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39600" y="2539440"/>
            <a:ext cx="77220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ны ли Вы принять точку зрения другого человека, если она не совпадает с Вашей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533412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54000" y="2630520"/>
            <a:ext cx="76932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ладаете  ли Вы чувством юмора? Помогает ли оно Вам в затруднительной для Вас ситуаци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533412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58680" y="2482560"/>
            <a:ext cx="768384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7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ны ли Вы сопереживать, сочувствовать другим людям, попавшим в сложную ситуацию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olzovatel</cp:lastModifiedBy>
  <dcterms:modified xsi:type="dcterms:W3CDTF">2011-12-24T13:41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