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99A-D957-480A-8BDC-A334EEDE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B6E-6CCA-4761-AB99-ED0F2F44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616-E150-4795-98CD-4447423E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6EA-9ED5-4B7B-87CE-B245F902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5653-7E78-44AF-B2CF-63880AA6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C74D-2426-4B5C-8CAF-DD14C108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4A2D-013B-41B9-A0D8-9D972630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0798-C438-4F8A-8DE6-5D3D6EE6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0CC2-FF32-44E0-9820-57D1ACB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C3B6-3E6E-4C79-B92F-BE2DC90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93FD-716C-4526-9D01-0218E421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395-C14E-4020-941B-2BE3E085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A279-53FC-4046-85ED-7E1CCA46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39A4-45AB-4081-BBD7-C2EE3BC2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CC04-ED8E-4EA5-A4C8-5D783545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C642-B233-43D6-BD62-F0758332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8412-8DB6-4744-94DB-8402E20F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90B-ABB1-4DF0-B1F7-9E5342AA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383-605E-4499-885D-A31D2F3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761-DB88-4175-98FF-01682D5A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013-60CB-4A82-B1F7-EF33F37D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3C8-DD60-4886-9245-090AA2D8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081-93D0-4AA2-9ED6-348E3EA3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CA7-C9D5-4AF8-9450-B2EAB28B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6067-E7B4-4462-B480-273817FACF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44FF-BEBB-4D00-8BDC-E4035D3C7A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Анкета «Какой вы воспитатель?»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Автор: Парамонова Светлана Викторовн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Руководитель ГМО учителей начальных классов, работающих по УМК «Гармония»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г.Усолье-Сибирское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3251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82360" y="2711160"/>
            <a:ext cx="768348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8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меете ли Вы управлять своими потребностями, отрицательными эмоциями, получая при этом удовлетворение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48960" y="2625480"/>
            <a:ext cx="77032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9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Есть ли у Вас цель жизни и программа для ее выполнения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86400" y="2586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0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читаете ли Вы себя счастливым человеком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106280" y="2630520"/>
            <a:ext cx="769284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1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асто ли Ваши друзья и близкие называют Вас человеком интеллигентным и воспитанным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82360" y="2711160"/>
            <a:ext cx="768348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2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жете ли Вы определить проблемы в развитии личности ребенка, помочь ему в их решени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Необходимо суммировать баллы ответов и разделить на число 12, сравните полученный результат с расшифровкой  баллов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 балл – очень низкий уровень оцениваемого качества  или отсутствие ег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балла – низкий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 балла – ниже среднег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 балла – чуть ниже среднег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 баллов – средний уровень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 баллов – чуть выше среднего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 баллов – выше среднего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 баллов – высок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 баллов –очень высок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 баллов – наивысш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5520" y="2815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пасибо! Успехов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73196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14400" y="4319640"/>
            <a:ext cx="23623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сточн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starsawr.ucoz.ru/ucheba-vospitan/samodiagnostika.do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syktyvdin.edusite.ru/DswMedia/zolotuxinai-samoocenkagotovnostiuchitelyakvospitatel-noydeyatel-nosti.do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6520" y="3047760"/>
            <a:ext cx="7162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знакомьтесь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 содержанием и обведите те оценки, которые соответствуют степени выраженности того или иного Вашего качества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3720" y="2639880"/>
            <a:ext cx="7673760" cy="17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ерите ли Вы в цивилизованное будущее нашей страны, несмотря на трудности сегодняшнего дня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3000" y="55627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2662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юбят ли Вас дети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2738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жно ли Вас назвать справедливым человеком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5257800"/>
            <a:ext cx="7693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2662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меете ли Вы слушать, не перебивая собеседника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39600" y="2539440"/>
            <a:ext cx="77220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ны ли Вы принять точку зрения другого человека, если она не совпадает с Вашей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533412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54000" y="2630520"/>
            <a:ext cx="76932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ладаете  ли Вы чувством юмора? Помогает ли оно Вам в затруднительной для Вас ситуаци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533412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58680" y="2482560"/>
            <a:ext cx="768384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7.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ны ли Вы сопереживать, сочувствовать другим людям, попавшим в сложную ситуацию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6932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b45"/>
                </a:solidFill>
                <a:latin typeface="Arial"/>
              </a:rPr>
              <a:t>1 2 3 4 5 6 7 8 9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lzovatel</cp:lastModifiedBy>
  <dcterms:modified xsi:type="dcterms:W3CDTF">2011-12-24T13:41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