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02F-CE1B-406D-9D72-BE4D8AFC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198-A75A-4DFA-A10B-57A3BEC5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E62-02F5-4AA9-827D-69DD7F5F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8D2-4B08-4F09-8C71-C198001A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B11B-1D9F-436B-B9ED-5191285E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34AD-BE3A-4E5F-BDEB-70886A3A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2079-ECC4-440F-8BF3-B7EA8C7B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7E8F-3486-45A3-874A-C3B720CF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687B-5990-4924-86DB-DB0E687E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1A87-5004-48CC-AD0F-CD8D88D7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C4A4-078D-41E5-A691-E4D357F5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38DE-1BE5-4687-82F8-4D007C62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8F10-8B12-4C73-8F25-B3C86745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4A56-C729-42BA-84C8-679EA9B4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D666-044B-489A-A564-A270500B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5F5A-27F8-45B7-B2CB-7548E8E9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EC39-3941-4EA2-8A3C-161A5046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10E-CA09-4656-A08F-D85F1CB2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F97-F28C-467C-AE3C-2EA9CF63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80F-A206-4EDB-BA16-F9577DBA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418-BC41-4A05-9BAE-DDDA0CB3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6F4-F99C-4D59-BEE0-9A902CF8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42A-57A6-4D4A-B18C-86D8D63C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625-DF43-4181-8466-B9ACAAEB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C73C-8106-49BD-83A4-0E8AE8E8A1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D44F-45A9-453E-9873-12D5C3343D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330066"/>
                </a:solidFill>
                <a:uFillTx/>
                <a:latin typeface="Bookman Old Style"/>
              </a:rPr>
              <a:t>Групповые       технологии</a:t>
            </a: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Baskerville Old Face"/>
              </a:rPr>
              <a:t>1.Деление на группы.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Baskerville Old Face"/>
              </a:rPr>
              <a:t>2.Инструктаж о последовательности работы.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Baskerville Old Face"/>
              </a:rPr>
              <a:t>3.Раздача дидактического материала по группам.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Baskerville Old Face"/>
              </a:rPr>
              <a:t>4.Распределение ролей в группе.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Baskerville Old Face"/>
              </a:rPr>
              <a:t>5.Работа в группе.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Baskerville Old Face"/>
              </a:rPr>
              <a:t>Порядок работы в группе.</a:t>
            </a:r>
            <a:br>
              <a:rPr sz="6600"/>
            </a:br>
            <a:endParaRPr b="1" lang="en-US" sz="6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43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1.Знакомство с заданием (1мин.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2.Распределение заданий внутри группы (15-20сек.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3.Выполнение заданий (3-6мин.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4.Обсуждение результатов работы в группе (2-3мин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5.Ответы участников группы.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6.Оценка своей работы в личной карточке участника (20-30сек.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Baskerville Old Face"/>
              </a:rPr>
              <a:t>7.Общий вывод о групповой работе и достижении поставленной цели.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0066"/>
                </a:solidFill>
                <a:uFillTx/>
                <a:latin typeface="Baskerville Old Face"/>
              </a:rPr>
              <a:t>Функции учителя: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Baskerville Old Face"/>
              </a:rPr>
              <a:t>Контролирует ход работы в групп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99"/>
                </a:solidFill>
                <a:latin typeface="Baskerville Old Face"/>
              </a:rPr>
              <a:t>Отвечает на вопро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e9ce8"/>
                </a:solidFill>
                <a:latin typeface="Baskerville Old Face"/>
              </a:rPr>
              <a:t>Регулирует спо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8ec"/>
                </a:solidFill>
                <a:latin typeface="Baskerville Old Face"/>
              </a:rPr>
              <a:t>Помогает отдельным уч-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Baskerville Old Face"/>
              </a:rPr>
              <a:t>Следит за адекватностью поведения в групп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Baskerville Old Face"/>
              </a:rPr>
              <a:t>Принципы эффективного участия в групповой работ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Baskerville Old Face"/>
              </a:rPr>
              <a:t>Мы все здесь, чтобы помогать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Baskerville Old Face"/>
              </a:rPr>
              <a:t>Чтобы чему-то научиться, надо пойти на рис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Baskerville Old Face"/>
              </a:rPr>
              <a:t>Если у тебя возникают вопросы - ставь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Baskerville Old Face"/>
              </a:rPr>
              <a:t>Готовимся к тому, чтобы передать другим полученные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Baskerville Old Face"/>
              </a:rPr>
              <a:t>Будь учеником и экспе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14475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0066"/>
                </a:solidFill>
                <a:uFillTx/>
                <a:latin typeface="Baskerville Old Face"/>
              </a:rPr>
              <a:t>Предлагаю попробовать работу в группах!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66"/>
                </a:solidFill>
                <a:latin typeface="Bookman Old Style"/>
              </a:rPr>
              <a:t>Общественный контакт вызывает своеобразное возбуждение жизненной энергии людей, результат которого определяется не сложением, а умножением их усилий.</a:t>
            </a:r>
            <a:br>
              <a:rPr sz="4100"/>
            </a:br>
            <a:r>
              <a:rPr b="1" lang="en-US" sz="4100" spc="-1" strike="noStrike">
                <a:solidFill>
                  <a:srgbClr val="330066"/>
                </a:solidFill>
                <a:latin typeface="Bookman Old Style"/>
              </a:rPr>
              <a:t>                              </a:t>
            </a:r>
            <a:r>
              <a:rPr b="1" lang="en-US" sz="3300" spc="-1" strike="noStrike">
                <a:solidFill>
                  <a:srgbClr val="330066"/>
                </a:solidFill>
                <a:latin typeface="Bookman Old Style"/>
              </a:rPr>
              <a:t>К. Маркс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Bookman Old Style"/>
              </a:rPr>
              <a:t>К групповым способам обучения можно отнест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Классно-урочную организ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Лекционно-семинарскую 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Дидактически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Бригадно-лаборатор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Метод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Bookman Old Style"/>
              </a:rPr>
              <a:t>Метод Трам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1219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9999"/>
                </a:solidFill>
                <a:uFillTx/>
                <a:latin typeface="Bookman Old Style"/>
              </a:rPr>
              <a:t>Групповыми технологиями в практике называют следующие организации учебной работы в классе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45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Bookman Old Style"/>
              </a:rPr>
              <a:t>Группов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Bookman Old Style"/>
              </a:rPr>
              <a:t>Межгруппов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Групповые технологии как коллективная деятельность предполагает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Bookman Old Style"/>
              </a:rPr>
              <a:t>Взаимное обогащение уч-ся в групп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Bookman Old Style"/>
              </a:rPr>
              <a:t>Организацию совместных действий, ведущую к активизации учебно-познавательных процес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Bookman Old Style"/>
              </a:rPr>
              <a:t>Распределение начальных действий и операц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Bookman Old Style"/>
              </a:rPr>
              <a:t>Коммуникацию, общение, без которых невозможно распределение, обмен и взаимопоним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Bookman Old Style"/>
              </a:rPr>
              <a:t>Рефлексию, через которую устанавливается отношение участника к собственному действ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4114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Baskerville Old Face"/>
              </a:rPr>
              <a:t>Эта форма работы лучше, чем фронтальная, обеспечивает учёт индивидуальных особенностей учащихся, открывает больше возможностей для коллективной познавательной деятельности.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16765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330066"/>
                </a:solidFill>
                <a:uFillTx/>
                <a:latin typeface="Baskerville Old Face"/>
              </a:rPr>
              <a:t>Особенности групповой работы.</a:t>
            </a: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7543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99"/>
                </a:solidFill>
                <a:latin typeface="Baskerville Old Face"/>
              </a:rPr>
              <a:t>1.Класс делится на группы с учётом индивидуальных особенностей детей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9999"/>
                </a:solidFill>
                <a:latin typeface="Baskerville Old Face"/>
              </a:rPr>
              <a:t>2.Каждая группа получает своё задание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9999"/>
                </a:solidFill>
                <a:latin typeface="Baskerville Old Face"/>
              </a:rPr>
              <a:t>3.Задание составляется и выполняется так, чтобы оценить вклад каждого участника группы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9999"/>
                </a:solidFill>
                <a:latin typeface="Baskerville Old Face"/>
              </a:rPr>
              <a:t>4.Состав групп не постоянен, он меняется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9999"/>
                </a:solidFill>
                <a:latin typeface="Baskerville Old Face"/>
              </a:rPr>
              <a:t>5.Процесс групповой работы регламентируется во времени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7543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808080"/>
                </a:solidFill>
                <a:uFillTx/>
                <a:latin typeface="Baskerville Old Face"/>
              </a:rPr>
              <a:t>Технологический процесс групповой работы.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08-11-03T12:09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000000000000010250300207f7000400038000</vt:lpwstr>
  </property>
  <property fmtid="{D5CDD505-2E9C-101B-9397-08002B2CF9AE}" pid="3" name="Version">
    <vt:r8>1</vt:r8>
  </property>
</Properties>
</file>