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B22C-1B8E-48BC-9520-7D084B7B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59A8-19D0-405F-969C-510131B8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7260-3DB3-49CC-BC06-67242187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7B22-0379-489C-9F02-CAD40AE8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4261-8F6B-4206-AE26-A8AE02F3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4F1A-6E33-4CBC-9BF1-252178BF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67C5-EC85-4CD0-B3BF-6421B203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090C-B41E-4029-95B9-EA4E028C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EC06-F3D9-456C-B713-22E816A3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8CE9-BCDD-4FEB-8A57-468AD382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BDE8-1BFE-4A8C-87D2-6FE2B47D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F28C-5566-4F05-A3DA-726CEF9B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1021-608C-4F34-A4B3-5E8C067D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CF6A-F21D-4F29-B6CB-39CAB3B2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F26F-439F-4B87-ADE7-A9B1DACE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6AB9-7B72-434F-8E10-3C143022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204D-0445-4303-AB1A-9416C50A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B3F1-9040-47F7-9E3B-D051EE53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3B7-1A29-4F64-B7F9-6E84A43C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E824-CF83-4243-9904-CB15D514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0934-4743-41F3-A6C1-2DC838E8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40C-28C3-4861-91C6-EAF0DE2D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B048-E59D-4D1C-8422-C2255EDD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F929-D6A1-4204-BD4F-A7ACC488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6DE1-5AD9-487F-B75C-2F13A84D1A9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7A67-0993-48A1-B8EC-3ED232F784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330066"/>
                </a:solidFill>
                <a:uFillTx/>
                <a:latin typeface="Bookman Old Style"/>
              </a:rPr>
              <a:t>Групповые       технологии</a:t>
            </a:r>
            <a:endParaRPr b="1" lang="en-US" sz="7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543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Baskerville Old Face"/>
              </a:rPr>
              <a:t>1.Деление на группы.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Baskerville Old Face"/>
              </a:rPr>
              <a:t>2.Инструктаж о последовательности работы.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Baskerville Old Face"/>
              </a:rPr>
              <a:t>3.Раздача дидактического материала по группам.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Baskerville Old Face"/>
              </a:rPr>
              <a:t>4.Распределение ролей в группе.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Baskerville Old Face"/>
              </a:rPr>
              <a:t>5.Работа в группе.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14479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Baskerville Old Face"/>
              </a:rPr>
              <a:t>Порядок работы в группе.</a:t>
            </a:r>
            <a:br>
              <a:rPr sz="6600"/>
            </a:br>
            <a:endParaRPr b="1" lang="en-US" sz="6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543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Baskerville Old Face"/>
              </a:rPr>
              <a:t>1.Знакомство с заданием (1мин.)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Baskerville Old Face"/>
              </a:rPr>
              <a:t>2.Распределение заданий внутри группы (15-20сек.)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Baskerville Old Face"/>
              </a:rPr>
              <a:t>3.Выполнение заданий (3-6мин.)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Baskerville Old Face"/>
              </a:rPr>
              <a:t>4.Обсуждение результатов работы в группе (2-3мин)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Baskerville Old Face"/>
              </a:rPr>
              <a:t>5.Ответы участников группы.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Baskerville Old Face"/>
              </a:rPr>
              <a:t>6.Оценка своей работы в личной карточке участника (20-30сек.)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Baskerville Old Face"/>
              </a:rPr>
              <a:t>7.Общий вывод о групповой работе и достижении поставленной цели.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0066"/>
                </a:solidFill>
                <a:uFillTx/>
                <a:latin typeface="Baskerville Old Face"/>
              </a:rPr>
              <a:t>Функции учителя: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00"/>
                </a:solidFill>
                <a:latin typeface="Baskerville Old Face"/>
              </a:rPr>
              <a:t>Контролирует ход работы в групп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99"/>
                </a:solidFill>
                <a:latin typeface="Baskerville Old Face"/>
              </a:rPr>
              <a:t>Отвечает на вопрос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e9ce8"/>
                </a:solidFill>
                <a:latin typeface="Baskerville Old Face"/>
              </a:rPr>
              <a:t>Регулирует спо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d8ec"/>
                </a:solidFill>
                <a:latin typeface="Baskerville Old Face"/>
              </a:rPr>
              <a:t>Помогает отдельным уч-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Baskerville Old Face"/>
              </a:rPr>
              <a:t>Следит за адекватностью поведения в групп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Baskerville Old Face"/>
              </a:rPr>
              <a:t>Принципы эффективного участия в групповой работ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Baskerville Old Face"/>
              </a:rPr>
              <a:t>Мы все здесь, чтобы помогать друг д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Baskerville Old Face"/>
              </a:rPr>
              <a:t>Чтобы чему-то научиться, надо пойти на рис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Baskerville Old Face"/>
              </a:rPr>
              <a:t>Если у тебя возникают вопросы - ставь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Baskerville Old Face"/>
              </a:rPr>
              <a:t>Готовимся к тому, чтобы передать другим полученные 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Baskerville Old Face"/>
              </a:rPr>
              <a:t>Будь учеником и экспер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160" y="1447560"/>
            <a:ext cx="7543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330066"/>
                </a:solidFill>
                <a:uFillTx/>
                <a:latin typeface="Baskerville Old Face"/>
              </a:rPr>
              <a:t>Предлагаю попробовать работу в группах!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01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0066"/>
                </a:solidFill>
                <a:latin typeface="Bookman Old Style"/>
              </a:rPr>
              <a:t>Общественный контакт вызывает своеобразное возбуждение жизненной энергии людей, результат которого определяется не сложением, а умножением их усилий.</a:t>
            </a:r>
            <a:br>
              <a:rPr sz="4100"/>
            </a:br>
            <a:r>
              <a:rPr b="1" lang="en-US" sz="4100" spc="-1" strike="noStrike">
                <a:solidFill>
                  <a:srgbClr val="330066"/>
                </a:solidFill>
                <a:latin typeface="Bookman Old Style"/>
              </a:rPr>
              <a:t>                              </a:t>
            </a:r>
            <a:r>
              <a:rPr b="1" lang="en-US" sz="3300" spc="-1" strike="noStrike">
                <a:solidFill>
                  <a:srgbClr val="330066"/>
                </a:solidFill>
                <a:latin typeface="Bookman Old Style"/>
              </a:rPr>
              <a:t>К. Маркс</a:t>
            </a:r>
            <a:endParaRPr b="1" lang="en-US" sz="33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330066"/>
                </a:solidFill>
                <a:uFillTx/>
                <a:latin typeface="Bookman Old Style"/>
              </a:rPr>
              <a:t>К групповым способам обучения можно отнест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Bookman Old Style"/>
              </a:rPr>
              <a:t>Классно-урочную организ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Bookman Old Style"/>
              </a:rPr>
              <a:t>Лекционно-семинарскую сис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Bookman Old Style"/>
              </a:rPr>
              <a:t>Дидактически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Bookman Old Style"/>
              </a:rPr>
              <a:t>Бригадно-лабораторный мет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Bookman Old Style"/>
              </a:rPr>
              <a:t>Метод про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Bookman Old Style"/>
              </a:rPr>
              <a:t>Метод Трам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1219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9999"/>
                </a:solidFill>
                <a:uFillTx/>
                <a:latin typeface="Bookman Old Style"/>
              </a:rPr>
              <a:t>Групповыми технологиями в практике называют следующие организации учебной работы в классе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445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00"/>
                </a:solidFill>
                <a:latin typeface="Bookman Old Style"/>
              </a:rPr>
              <a:t>Группов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00"/>
                </a:solidFill>
                <a:latin typeface="Bookman Old Style"/>
              </a:rPr>
              <a:t>Межгруппов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Групповые технологии как коллективная деятельность предполагает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Bookman Old Style"/>
              </a:rPr>
              <a:t>Взаимное обогащение уч-ся в групп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Bookman Old Style"/>
              </a:rPr>
              <a:t>Организацию совместных действий, ведущую к активизации учебно-познавательных процес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Bookman Old Style"/>
              </a:rPr>
              <a:t>Распределение начальных действий и операц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Bookman Old Style"/>
              </a:rPr>
              <a:t>Коммуникацию, общение, без которых невозможно распределение, обмен и взаимопоним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Bookman Old Style"/>
              </a:rPr>
              <a:t>Рефлексию, через которую устанавливается отношение участника к собственному действ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4114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00"/>
                </a:solidFill>
                <a:latin typeface="Baskerville Old Face"/>
              </a:rPr>
              <a:t>Эта форма работы лучше, чем фронтальная, обеспечивает учёт индивидуальных особенностей учащихся, открывает больше возможностей для коллективной познавательной деятельности.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167652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330066"/>
                </a:solidFill>
                <a:uFillTx/>
                <a:latin typeface="Baskerville Old Face"/>
              </a:rPr>
              <a:t>Особенности групповой работы.</a:t>
            </a:r>
            <a:endParaRPr b="1" lang="en-US" sz="7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447920"/>
            <a:ext cx="7543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99"/>
                </a:solidFill>
                <a:latin typeface="Baskerville Old Face"/>
              </a:rPr>
              <a:t>1.Класс делится на группы с учётом индивидуальных особенностей детей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9999"/>
                </a:solidFill>
                <a:latin typeface="Baskerville Old Face"/>
              </a:rPr>
              <a:t>2.Каждая группа получает своё задание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9999"/>
                </a:solidFill>
                <a:latin typeface="Baskerville Old Face"/>
              </a:rPr>
              <a:t>3.Задание составляется и выполняется так, чтобы оценить вклад каждого участника группы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9999"/>
                </a:solidFill>
                <a:latin typeface="Baskerville Old Face"/>
              </a:rPr>
              <a:t>4.Состав групп не постоянен, он меняется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9999"/>
                </a:solidFill>
                <a:latin typeface="Baskerville Old Face"/>
              </a:rPr>
              <a:t>5.Процесс групповой работы регламентируется во времени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7543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808080"/>
                </a:solidFill>
                <a:uFillTx/>
                <a:latin typeface="Baskerville Old Face"/>
              </a:rPr>
              <a:t>Технологический процесс групповой работы.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08-11-03T12:09:3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000000000000010250300207f7000400038000</vt:lpwstr>
  </property>
  <property fmtid="{D5CDD505-2E9C-101B-9397-08002B2CF9AE}" pid="3" name="Version">
    <vt:r8>1</vt:r8>
  </property>
</Properties>
</file>