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56B-C542-4038-8F0D-D68039E3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1AC-109E-4746-9089-488E8E07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2A4-BBEB-41D5-83AF-BA1F3D0A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AAB-02D3-4124-B6AA-7675DA27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6CF4-D181-4240-94A7-9ACE46E3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3F13-5F84-4A46-AF45-A47886D5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8264-90D9-47FE-806F-4BEDD76F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AEFA-4508-4276-8C9C-757B7460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A97C-8BB0-478A-873A-309F11EA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1D5B-6D72-4F7D-91AB-1DD46A3C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20B-D749-40BC-B080-54403C7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A74-8101-4731-B582-29CAF23F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7C7F-5108-48F3-868F-5D6EDDAE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5ABB-BC86-47BD-8337-990A4475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4A41-48F7-4ED3-A04B-62024B60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B687-7DBE-4148-BF81-B06EF466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26C7-5966-42F5-916E-02679F81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54C-AC91-4FD2-A340-7616317C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E33-6A61-4B52-894F-4F8B4BAE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668-3974-496D-B84D-3659FE86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76D-FDBD-4CA8-BA80-CCCD57C5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172-A372-429E-8858-8416BE7A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294-F612-44A2-A35E-ABD29AD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F21-DD47-4755-8592-DD81BAB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6FAE-87C9-4C57-ABA9-967C74BC3F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9453-D7BE-4B0C-AF34-7CAAD45B30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0066"/>
                </a:solidFill>
                <a:uFillTx/>
                <a:latin typeface="Bookman Old Style"/>
              </a:rPr>
              <a:t>Групповые       технологии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1.Деление на группы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2.Инструктаж о последовательности работы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3.Раздача дидактического материала по группам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4.Распределение ролей в группе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5.Работа в группе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Baskerville Old Face"/>
              </a:rPr>
              <a:t>Порядок работы в группе.</a:t>
            </a:r>
            <a:br>
              <a:rPr sz="6600"/>
            </a:b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1.Знакомство с заданием (1мин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2.Распределение заданий внутри группы (15-20сек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3.Выполнение заданий (3-6мин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4.Обсуждение результатов работы в группе (2-3мин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5.Ответы участников группы.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6.Оценка своей работы в личной карточке участника (20-30сек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7.Общий вывод о групповой работе и достижении поставленной цели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Baskerville Old Face"/>
              </a:rPr>
              <a:t>Функции учителя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askerville Old Face"/>
              </a:rPr>
              <a:t>Контролирует ход работы в групп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99"/>
                </a:solidFill>
                <a:latin typeface="Baskerville Old Face"/>
              </a:rPr>
              <a:t>Отвечает на вопро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e9ce8"/>
                </a:solidFill>
                <a:latin typeface="Baskerville Old Face"/>
              </a:rPr>
              <a:t>Регулирует спо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8ec"/>
                </a:solidFill>
                <a:latin typeface="Baskerville Old Face"/>
              </a:rPr>
              <a:t>Помогает отдельным уч-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Baskerville Old Face"/>
              </a:rPr>
              <a:t>Следит за адекватностью поведения в групп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Baskerville Old Face"/>
              </a:rPr>
              <a:t>Принципы эффективного участия в групповой работ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Мы все здесь, чтобы помогать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Чтобы чему-то научиться, надо пойти на ри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Если у тебя возникают вопросы - став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Готовимся к тому, чтобы передать другим полученные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Будь учеником и экспе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0066"/>
                </a:solidFill>
                <a:uFillTx/>
                <a:latin typeface="Baskerville Old Face"/>
              </a:rPr>
              <a:t>Предлагаю попробовать работу в группах!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66"/>
                </a:solidFill>
                <a:latin typeface="Bookman Old Style"/>
              </a:rPr>
              <a:t>Общественный контакт вызывает своеобразное возбуждение жизненной энергии людей, результат которого определяется не сложением, а умножением их усилий.</a:t>
            </a:r>
            <a:br>
              <a:rPr sz="4100"/>
            </a:br>
            <a:r>
              <a:rPr b="1" lang="en-US" sz="4100" spc="-1" strike="noStrike">
                <a:solidFill>
                  <a:srgbClr val="330066"/>
                </a:solidFill>
                <a:latin typeface="Bookman Old Style"/>
              </a:rPr>
              <a:t>                              </a:t>
            </a:r>
            <a:r>
              <a:rPr b="1" lang="en-US" sz="3300" spc="-1" strike="noStrike">
                <a:solidFill>
                  <a:srgbClr val="330066"/>
                </a:solidFill>
                <a:latin typeface="Bookman Old Style"/>
              </a:rPr>
              <a:t>К. Маркс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Bookman Old Style"/>
              </a:rPr>
              <a:t>К групповым способам обучения можно отнест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Классно-урочную организ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Лекционно-семинарск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Бригадно-лаборатор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Метод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Метод Тра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9999"/>
                </a:solidFill>
                <a:uFillTx/>
                <a:latin typeface="Bookman Old Style"/>
              </a:rPr>
              <a:t>Групповыми технологиями в практике называют следующие организации учебной работы в классе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ookman Old Style"/>
              </a:rPr>
              <a:t>Групп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ookman Old Style"/>
              </a:rPr>
              <a:t>Межгрупп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Групповые технологии как коллективная деятельность предполагает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Взаимное обогащение уч-ся в груп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Организацию совместных действий, ведущую к активизации учебно-познавательных проце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Распределение начальных действий и опер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Коммуникацию, общение, без которых невозможно распределение, обмен и взаимопоним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Рефлексию, через которую устанавливается отношение участника к собственному действ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4114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askerville Old Face"/>
              </a:rPr>
              <a:t>Эта форма работы лучше, чем фронтальная, обеспечивает учёт индивидуальных особенностей учащихся, открывает больше возможностей для коллективной познавательной деятельности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0066"/>
                </a:solidFill>
                <a:uFillTx/>
                <a:latin typeface="Baskerville Old Face"/>
              </a:rPr>
              <a:t>Особенности групповой работы.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1.Класс делится на группы с учётом индивидуальных особенностей детей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2.Каждая группа получает своё задание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3.Задание составляется и выполняется так, чтобы оценить вклад каждого участника группы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4.Состав групп не постоянен, он меняется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5.Процесс групповой работы регламентируется во времен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808080"/>
                </a:solidFill>
                <a:uFillTx/>
                <a:latin typeface="Baskerville Old Face"/>
              </a:rPr>
              <a:t>Технологический процесс групповой работы.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8-11-03T12:09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00000000000010250300207f7000400038000</vt:lpwstr>
  </property>
  <property fmtid="{D5CDD505-2E9C-101B-9397-08002B2CF9AE}" pid="3" name="Version">
    <vt:r8>1</vt:r8>
  </property>
</Properties>
</file>