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1EC-73FE-490A-ACC2-A4DD4672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CC9-858A-4377-B542-F7E840C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C95-7B9C-4DFB-AEC8-636E7530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9C8-D3D6-4CCC-96C8-7F413096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5B0A-F76C-48ED-9BA4-BD2D333B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2A7B-2E99-455C-834E-CCDA4541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1CDB-6B26-4C9E-8BBD-ACFABA7C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8CB-6F11-40F2-A29D-B2CCC742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23BB-C298-4F1F-B75C-FC10E471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AF57-4FAA-4A55-B590-CE897E9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448-DCE0-4EBE-9E32-4ED4DA1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E8F-1020-4737-B51A-36654BFF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2066-DA14-4BCF-A765-13C53092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2EAB-7849-4BFF-A9DC-D8D2FD74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D6B2-D95E-4F2D-8504-9596DDC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0FFD-6061-4915-B3C5-8F8845F9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7C2A-759F-458B-BB47-68CC832C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28D-6BC1-406A-AC16-8DF7F69E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08-1B89-42B2-B1BD-2972321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EFF-B25E-4D46-80A0-1CA7E5E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5D4-1A09-4AB6-86C0-6E0DB40D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F67-BBFD-4C1F-980B-0002768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A83-6D93-4B66-9315-5656315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46D-0695-4558-8F00-393361F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D6E-05C5-4C0F-B79C-BF02761F5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A5C-AFB0-4457-BDEC-D5501664E4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2133720"/>
            <a:ext cx="813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е фигу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94040" y="5097600"/>
            <a:ext cx="619308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Взаимное расположение на плоск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20640"/>
            <a:ext cx="914400" cy="914400"/>
          </a:xfrm>
          <a:prstGeom prst="rect">
            <a:avLst/>
          </a:prstGeom>
          <a:solidFill>
            <a:srgbClr val="a6ebf4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836640"/>
            <a:ext cx="1214280" cy="1214280"/>
          </a:xfrm>
          <a:prstGeom prst="diamond">
            <a:avLst/>
          </a:prstGeom>
          <a:solidFill>
            <a:srgbClr val="ffcf01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2565360"/>
            <a:ext cx="194292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060640"/>
            <a:ext cx="914400" cy="914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350028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436572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040" y="333360"/>
            <a:ext cx="477864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одна точка общ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547000">
            <a:off x="6011640" y="980640"/>
            <a:ext cx="9144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4625400">
            <a:off x="7164000" y="1628280"/>
            <a:ext cx="91440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1520" y="3429000"/>
            <a:ext cx="260244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 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0000" y="22273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82120" y="1341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75560" y="41497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3280" y="4724280"/>
            <a:ext cx="4598640" cy="45972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a6ebf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, В и С – это точки ка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1557360"/>
            <a:ext cx="1779480" cy="120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2276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2565360"/>
            <a:ext cx="1728720" cy="2158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2205000"/>
            <a:ext cx="216072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789360"/>
            <a:ext cx="1214280" cy="2006640"/>
          </a:xfrm>
          <a:prstGeom prst="diamond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221000"/>
            <a:ext cx="177984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8800" y="5157720"/>
            <a:ext cx="422532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несколько общих т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708280"/>
            <a:ext cx="2160720" cy="18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284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2852640"/>
            <a:ext cx="2376360" cy="1511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62560" y="4437000"/>
            <a:ext cx="2881440" cy="165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5084640"/>
            <a:ext cx="1224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56720" y="5805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508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0400" y="765000"/>
            <a:ext cx="661356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на фигура находится внутри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все точки одной фигуры принад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м другой фигур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2060640"/>
            <a:ext cx="914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766600">
            <a:off x="1331640" y="620280"/>
            <a:ext cx="237636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1557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331800">
            <a:off x="6922800" y="1006200"/>
            <a:ext cx="1419480" cy="1368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05000">
            <a:off x="5796000" y="2852280"/>
            <a:ext cx="1214280" cy="2149560"/>
          </a:xfrm>
          <a:prstGeom prst="diamond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357720"/>
            <a:ext cx="1223640" cy="107928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280" y="5373720"/>
            <a:ext cx="700992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и не касаются,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ждая фигура отдельн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189000"/>
            <a:ext cx="367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052640"/>
            <a:ext cx="7704360" cy="1618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заимное расположение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еометрические фигуры могу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41720"/>
            <a:ext cx="2879640" cy="7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Пересек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221000"/>
            <a:ext cx="287964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2. К а с а т ь с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3141720"/>
            <a:ext cx="4918320" cy="703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3.  Находиться одна внутри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0200" y="4005360"/>
            <a:ext cx="5005800" cy="703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И не касаться, и не пересек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каждая фигура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842760" cy="698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157720"/>
            <a:ext cx="792000" cy="7700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805360"/>
            <a:ext cx="841320" cy="770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084640"/>
            <a:ext cx="79056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5373720"/>
            <a:ext cx="1081080" cy="1150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5589720"/>
            <a:ext cx="863640" cy="79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5805360"/>
            <a:ext cx="769680" cy="843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5157720"/>
            <a:ext cx="86328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94172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44600" y="630864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0824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896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1368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32000" y="18900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4240" y="1052640"/>
            <a:ext cx="58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ыбери нужное слово и запиши в тетр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700280"/>
            <a:ext cx="62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имеют одну общую точку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8520" y="2781360"/>
            <a:ext cx="767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не имеют общих точек, значит они располо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и не касаются, и не 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360" y="3933720"/>
            <a:ext cx="82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Все точки одной фигуры принадлежат точкам другой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начи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фигура находится внутри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3480" y="5578560"/>
            <a:ext cx="690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Фигуры имеют несколько общих точек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56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040" y="21747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К а с а ю т с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520" y="2948040"/>
            <a:ext cx="85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И не касаются, и не пересекаются, кажд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отдельн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760" y="3892680"/>
            <a:ext cx="58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3. Одна фигура внутри другой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7360" y="454176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4.  Пересек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42240" y="4221000"/>
            <a:ext cx="2022480" cy="208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71640" y="5805360"/>
            <a:ext cx="32403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 О Л О Д Ц 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476360" y="1341360"/>
            <a:ext cx="590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169704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7:53:25Z</dcterms:created>
  <dc:creator>Базинов Николай</dc:creator>
  <dc:description/>
  <dc:language>en-US</dc:language>
  <cp:lastModifiedBy>User</cp:lastModifiedBy>
  <dcterms:modified xsi:type="dcterms:W3CDTF">2008-02-08T20:07:04Z</dcterms:modified>
  <cp:revision>27</cp:revision>
  <dc:subject/>
  <dc:title>Слайд 1</dc:title>
</cp:coreProperties>
</file>