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D193-5C20-4C9F-867E-78E41D29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133A-FC03-460C-B766-05CC8D26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3469-DD3E-4E0A-8C9D-60C33DB7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5A5C-1A1E-454F-934F-F7153000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591B-5454-4CD3-B342-34D0070A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23B3-9A80-4ADB-9B73-72BC4E04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BE19-7C27-4431-8B5D-D3A1285B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B4DE-9FE8-4F08-B7B8-7D7EF37B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69A4-CD6E-4FCD-8794-D527D1C9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1F47-A535-4622-9758-04D0E969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B1AD-48E2-4650-830D-1A4BD7D1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082F-676C-493C-985C-7C2A5504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7EB4-A410-4279-9768-DDF10537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5D16-1879-4E4B-A3AD-E191857A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327A-E0E9-4989-BE6F-F32B8BEB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F47E-1C4F-44D3-87C1-86F82B67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1202-688F-44D3-BBA6-DEE01968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58E7-FF8F-4928-B138-3950997D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875A-F113-4160-BFEA-C40508A9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3A62-A502-413F-B16E-78F9A51F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B7BA-E38A-40EC-A0B9-357493F9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1101-67FC-44DB-AE30-53E27436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07ED-62DD-40F1-90F8-308803DE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D1D6-3C44-41DB-B175-0925EBC2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729B-C2FB-47B9-953E-BDA3937CB7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B954-4FD8-4686-9A62-BC058FDFF2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55640" y="2133720"/>
            <a:ext cx="81374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еометрические фигур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94040" y="5097600"/>
            <a:ext cx="6193080" cy="459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Взаимное расположение на плоск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68360" y="476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620640"/>
            <a:ext cx="914400" cy="914400"/>
          </a:xfrm>
          <a:prstGeom prst="rect">
            <a:avLst/>
          </a:prstGeom>
          <a:solidFill>
            <a:srgbClr val="a6ebf4"/>
          </a:solidFill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836640"/>
            <a:ext cx="1214280" cy="1214280"/>
          </a:xfrm>
          <a:prstGeom prst="diamond">
            <a:avLst/>
          </a:prstGeom>
          <a:solidFill>
            <a:srgbClr val="ffcf01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92360" y="2565360"/>
            <a:ext cx="1942920" cy="936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060640"/>
            <a:ext cx="914400" cy="9144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85080" y="3500280"/>
            <a:ext cx="914400" cy="9144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4365720"/>
            <a:ext cx="914400" cy="914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040" y="333360"/>
            <a:ext cx="4778640" cy="825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Фигуры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касаются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друг д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одна точка обща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0547000">
            <a:off x="6011640" y="980640"/>
            <a:ext cx="91440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4625400">
            <a:off x="7164000" y="1628280"/>
            <a:ext cx="914400" cy="9144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61520" y="3429000"/>
            <a:ext cx="2602440" cy="45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Точка кас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0000" y="222732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82120" y="134136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75560" y="414972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3280" y="4724280"/>
            <a:ext cx="4598640" cy="459720"/>
          </a:xfrm>
          <a:prstGeom prst="rect">
            <a:avLst/>
          </a:prstGeom>
          <a:gradFill rotWithShape="0">
            <a:gsLst>
              <a:gs pos="0">
                <a:srgbClr val="cc00ff"/>
              </a:gs>
              <a:gs pos="100000">
                <a:srgbClr val="a6ebf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А, В и С – это точки кас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619280" y="1557360"/>
            <a:ext cx="1779480" cy="1201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16360" y="227664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2565360"/>
            <a:ext cx="1728720" cy="2158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724360" y="2205000"/>
            <a:ext cx="2160720" cy="25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3789360"/>
            <a:ext cx="1214280" cy="2006640"/>
          </a:xfrm>
          <a:prstGeom prst="diamond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4221000"/>
            <a:ext cx="1779840" cy="9144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cccc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18800" y="5157720"/>
            <a:ext cx="4225320" cy="825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Фигуры пересек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несколько общих точ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2708280"/>
            <a:ext cx="2160720" cy="1871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3284640"/>
            <a:ext cx="914400" cy="9144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51280" y="2852640"/>
            <a:ext cx="2376360" cy="1511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3213000"/>
            <a:ext cx="9144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62560" y="4437000"/>
            <a:ext cx="2881440" cy="16560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32720" y="5084640"/>
            <a:ext cx="1224000" cy="7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956720" y="580536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59640" y="508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50400" y="765000"/>
            <a:ext cx="6613560" cy="1191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дна фигура находится внутри друг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все точки одной фигуры принадлеж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точкам другой фигуры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47640" y="2060640"/>
            <a:ext cx="914400" cy="914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0766600">
            <a:off x="1331640" y="620280"/>
            <a:ext cx="2376360" cy="936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28000" y="155736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6331800">
            <a:off x="6922800" y="1006200"/>
            <a:ext cx="1419480" cy="13687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20205000">
            <a:off x="5796000" y="2852280"/>
            <a:ext cx="1214280" cy="2149560"/>
          </a:xfrm>
          <a:prstGeom prst="diamond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00720" y="3357720"/>
            <a:ext cx="1223640" cy="1079280"/>
          </a:xfrm>
          <a:prstGeom prst="octagon">
            <a:avLst>
              <a:gd name="adj" fmla="val 2928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9280" y="5373720"/>
            <a:ext cx="7009920" cy="1191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Фигуры и не касаются, и не пересек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аждая фигура отдельно друг от д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Нет общих то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556000" y="189000"/>
            <a:ext cx="36716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помн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1052640"/>
            <a:ext cx="7704360" cy="16185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заимное расположение геометрических фиг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Геометрические фигуры могу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3141720"/>
            <a:ext cx="2879640" cy="74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Пересек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4221000"/>
            <a:ext cx="2879640" cy="39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Tahoma"/>
              </a:rPr>
              <a:t>2. К а с а т ь с 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95640" y="3141720"/>
            <a:ext cx="4918320" cy="7038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07932" dir="135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Tahoma"/>
              </a:rPr>
              <a:t>3.  Находиться одна внутри дру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0200" y="4005360"/>
            <a:ext cx="5005800" cy="7038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c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ahoma"/>
              </a:rPr>
              <a:t>И не касаться, и не пересекать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cc0066"/>
                </a:solidFill>
                <a:latin typeface="Tahoma"/>
              </a:rPr>
              <a:t>каждая фигура отд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5516640"/>
            <a:ext cx="842760" cy="698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5157720"/>
            <a:ext cx="792000" cy="7700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5805360"/>
            <a:ext cx="841320" cy="770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5084640"/>
            <a:ext cx="790560" cy="8431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5373720"/>
            <a:ext cx="1081080" cy="1150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6720" y="5589720"/>
            <a:ext cx="863640" cy="7920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93080" y="5805360"/>
            <a:ext cx="769680" cy="843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56720" y="5157720"/>
            <a:ext cx="863280" cy="8431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08000" y="4941720"/>
            <a:ext cx="0" cy="19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4869000"/>
            <a:ext cx="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88000" y="4869000"/>
            <a:ext cx="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44600" y="630864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08240" y="623736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68960" y="623736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13680" y="623736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132000" y="189000"/>
            <a:ext cx="374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с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54240" y="1052640"/>
            <a:ext cx="58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ыбери нужное слово и запиши в тетра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700280"/>
            <a:ext cx="623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Фигуры имеют одну общую точку, значит 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пересекают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кас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8520" y="2781360"/>
            <a:ext cx="767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Фигуры не имеют общих точек, значит они располож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одна внутри другой,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и не касаются, и не пересек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360" y="3933720"/>
            <a:ext cx="8295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Все точки одной фигуры принадлежат точкам другой фигур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значит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пересекают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одна фигура находится внутри друг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3480" y="5578560"/>
            <a:ext cx="690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 Фигуры имеют несколько общих точек, значит 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одна внутри друг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пересек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2556000" y="549360"/>
            <a:ext cx="46800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6040" y="2174760"/>
            <a:ext cx="30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. К а с а ю т с 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8520" y="2948040"/>
            <a:ext cx="85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00ff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ahoma"/>
              </a:rPr>
              <a:t>И не касаются, и не пересекаются, каждая фиг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Tahoma"/>
              </a:rPr>
              <a:t>отдельно друг от д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7760" y="3892680"/>
            <a:ext cx="58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3. Одна фигура внутри другой</a:t>
            </a:r>
            <a:r>
              <a:rPr b="1" lang="en-US" sz="2000" spc="-1" strike="noStrike">
                <a:solidFill>
                  <a:srgbClr val="0099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7360" y="4541760"/>
            <a:ext cx="34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Tahoma"/>
              </a:rPr>
              <a:t>4.  Пересека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942240" y="4221000"/>
            <a:ext cx="2022480" cy="2087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771640" y="5805360"/>
            <a:ext cx="324036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66ff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М О Л О Д Ц Ы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476360" y="1341360"/>
            <a:ext cx="590400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работу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843280" y="3429000"/>
            <a:ext cx="1697040" cy="2808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451640" y="4762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7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07:53:25Z</dcterms:created>
  <dc:creator>Базинов Николай</dc:creator>
  <dc:description/>
  <dc:language>en-US</dc:language>
  <cp:lastModifiedBy>User</cp:lastModifiedBy>
  <dcterms:modified xsi:type="dcterms:W3CDTF">2008-02-08T20:07:04Z</dcterms:modified>
  <cp:revision>27</cp:revision>
  <dc:subject/>
  <dc:title>Слайд 1</dc:title>
</cp:coreProperties>
</file>