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D334-9AA3-4F1B-8400-5901D6999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4025-68CB-41A6-B17E-646A3EC3A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E76F-BFA1-4EB7-8664-147C1D909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8B68-56B7-41EC-845E-B5DE93CB0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67793-90B1-47EA-AEF2-ECFC225C7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96B96-26A1-415F-B965-B2DCFB392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31464-5FA1-432F-A800-15AF15B13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AF9C4-0BA5-4499-9EE1-0F9E15E83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DAB63-276C-43F3-BFF9-CEC9ED5B4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7013F-DFD4-4789-B698-FA51DBDE3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79DBE-2707-4F6A-8F1F-BD47C35A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3090-854A-480A-967E-1E5CA4411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F2B42-CAAA-4091-AAD6-3D6BD283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89CF9-6D05-4283-BEB5-17259A27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8C0B6-4AD9-40C5-95E7-666BA2C6E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0D1C1-9BDA-44BB-B773-20856A694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AD5E2-3473-40E6-BF35-6C565DAE6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A7AA-9547-4D81-A390-832C7E516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6E57-CD9D-497B-A1A5-5FC464DCF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2FB7-C3B3-4774-9D41-FCD7A423B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88C2-BDE0-4E55-AC54-1A0A757EC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630C-ACCC-4796-A1FF-42747F9D0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090F-EE61-432B-850E-1B44D800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2A5D-65F7-4E28-8604-C3C8231AF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F0C68-B2F3-40F8-94F3-24F005BD3DA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EFBF6-7083-49B6-A3EE-C7B7C0E2475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755640" y="2133720"/>
            <a:ext cx="813744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еометрические фигур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94040" y="5097600"/>
            <a:ext cx="6193080" cy="4597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Взаимное расположение на плоскост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68360" y="47628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99ff"/>
          </a:solidFill>
          <a:ln w="284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12000" y="620640"/>
            <a:ext cx="914400" cy="914400"/>
          </a:xfrm>
          <a:prstGeom prst="rect">
            <a:avLst/>
          </a:prstGeom>
          <a:solidFill>
            <a:srgbClr val="a6ebf4"/>
          </a:solidFill>
          <a:ln w="284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140360" y="836640"/>
            <a:ext cx="1214280" cy="1214280"/>
          </a:xfrm>
          <a:prstGeom prst="diamond">
            <a:avLst/>
          </a:prstGeom>
          <a:solidFill>
            <a:srgbClr val="ffcf01"/>
          </a:solidFill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700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692360" y="2565360"/>
            <a:ext cx="1942920" cy="9367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2060640"/>
            <a:ext cx="914400" cy="9144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885080" y="3500280"/>
            <a:ext cx="914400" cy="91440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48360" y="4365720"/>
            <a:ext cx="914400" cy="9144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040" y="333360"/>
            <a:ext cx="4778640" cy="8254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Фигуры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касаются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друг дру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одна точка обща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20547000">
            <a:off x="6011640" y="980640"/>
            <a:ext cx="914400" cy="9144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4625400">
            <a:off x="7164000" y="1628280"/>
            <a:ext cx="914400" cy="91440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061520" y="3429000"/>
            <a:ext cx="2602440" cy="4597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07932" dir="189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Точка кас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0000" y="2227320"/>
            <a:ext cx="46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82120" y="1341360"/>
            <a:ext cx="45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75560" y="4149720"/>
            <a:ext cx="4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73280" y="4724280"/>
            <a:ext cx="4598640" cy="459720"/>
          </a:xfrm>
          <a:prstGeom prst="rect">
            <a:avLst/>
          </a:prstGeom>
          <a:gradFill rotWithShape="0">
            <a:gsLst>
              <a:gs pos="0">
                <a:srgbClr val="cc00ff"/>
              </a:gs>
              <a:gs pos="100000">
                <a:srgbClr val="a6ebf4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А, В и С – это точки кас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619280" y="1557360"/>
            <a:ext cx="1779480" cy="12016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916360" y="227664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443640" y="2565360"/>
            <a:ext cx="1728720" cy="215892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5724360" y="2205000"/>
            <a:ext cx="2160720" cy="2519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4000" y="3789360"/>
            <a:ext cx="1214280" cy="2006640"/>
          </a:xfrm>
          <a:prstGeom prst="diamond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00000" y="4221000"/>
            <a:ext cx="1779840" cy="9144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cccc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18800" y="5157720"/>
            <a:ext cx="4225320" cy="8254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Фигуры пересека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несколько общих точе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68360" y="2708280"/>
            <a:ext cx="2160720" cy="1871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58920" y="3284640"/>
            <a:ext cx="914400" cy="91440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51280" y="2852640"/>
            <a:ext cx="2376360" cy="1511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0" y="3213000"/>
            <a:ext cx="914400" cy="9144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262560" y="4437000"/>
            <a:ext cx="2881440" cy="165600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732720" y="5084640"/>
            <a:ext cx="1224000" cy="719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956720" y="580536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659640" y="508464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50400" y="765000"/>
            <a:ext cx="6613560" cy="11912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07932" dir="189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Одна фигура находится внутри друг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все точки одной фигуры принадлежа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точкам другой фигуры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547640" y="2060640"/>
            <a:ext cx="914400" cy="9144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20766600">
            <a:off x="1331640" y="620280"/>
            <a:ext cx="2376360" cy="936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028000" y="155736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6331800">
            <a:off x="6922800" y="1006200"/>
            <a:ext cx="1419480" cy="136872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20205000">
            <a:off x="5796000" y="2852280"/>
            <a:ext cx="1214280" cy="2149560"/>
          </a:xfrm>
          <a:prstGeom prst="diamond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00720" y="3357720"/>
            <a:ext cx="1223640" cy="1079280"/>
          </a:xfrm>
          <a:prstGeom prst="octagon">
            <a:avLst>
              <a:gd name="adj" fmla="val 2928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69280" y="5373720"/>
            <a:ext cx="7009920" cy="11912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07932" dir="189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Фигуры и не касаются, и не пересекаю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Каждая фигура отдельно друг от дру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Нет общих точ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2556000" y="189000"/>
            <a:ext cx="367164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помн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42920" y="1052640"/>
            <a:ext cx="7704360" cy="161856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ff99ff"/>
              </a:gs>
            </a:gsLst>
            <a:lin ang="5400000"/>
          </a:gradFill>
          <a:ln w="0">
            <a:noFill/>
          </a:ln>
          <a:effectLst>
            <a:outerShdw dist="107932" dir="135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Взаимное расположение геометрических фиг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Геометрические фигуры могу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0920" y="3141720"/>
            <a:ext cx="2879640" cy="7462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07932" dir="189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Пересекать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4221000"/>
            <a:ext cx="2879640" cy="398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07932" dir="189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ff"/>
                </a:solidFill>
                <a:latin typeface="Tahoma"/>
              </a:rPr>
              <a:t>2. К а с а т ь с 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11640" y="2637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95640" y="3141720"/>
            <a:ext cx="4918320" cy="7038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cc00"/>
                </a:solidFill>
                <a:latin typeface="Tahoma"/>
              </a:rPr>
              <a:t>3.  Находиться одна внутри друг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50200" y="4005360"/>
            <a:ext cx="5005800" cy="7038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07932" dir="189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cc0066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Tahoma"/>
              </a:rPr>
              <a:t>И не касаться, и не пересекатьс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Tahoma"/>
              </a:rPr>
              <a:t>     </a:t>
            </a:r>
            <a:r>
              <a:rPr b="1" lang="en-US" sz="2000" spc="-1" strike="noStrike">
                <a:solidFill>
                  <a:srgbClr val="cc0066"/>
                </a:solidFill>
                <a:latin typeface="Tahoma"/>
              </a:rPr>
              <a:t>каждая фигура отдель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0920" y="5516640"/>
            <a:ext cx="842760" cy="6984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4360" y="5157720"/>
            <a:ext cx="792000" cy="77004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4360" y="5805360"/>
            <a:ext cx="841320" cy="7700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3640" y="5084640"/>
            <a:ext cx="790560" cy="84312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5373720"/>
            <a:ext cx="1081080" cy="11509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76720" y="5589720"/>
            <a:ext cx="863640" cy="79200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093080" y="5805360"/>
            <a:ext cx="769680" cy="843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56720" y="5157720"/>
            <a:ext cx="863280" cy="84312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908000" y="4941720"/>
            <a:ext cx="0" cy="191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4869000"/>
            <a:ext cx="0" cy="19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588000" y="4869000"/>
            <a:ext cx="0" cy="19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344600" y="6308640"/>
            <a:ext cx="40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008240" y="6237360"/>
            <a:ext cx="40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168960" y="6237360"/>
            <a:ext cx="40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13680" y="6237360"/>
            <a:ext cx="40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132000" y="189000"/>
            <a:ext cx="3745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ст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54240" y="1052640"/>
            <a:ext cx="58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Выбери нужное слово и запиши в тетрад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79640" y="1700280"/>
            <a:ext cx="6232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Фигуры имеют одну общую точку, значит о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пересекаютс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касаю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68520" y="2781360"/>
            <a:ext cx="767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Фигуры не имеют общих точек, значит они расположе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одна внутри другой,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и не касаются, и не пересекаю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8360" y="3933720"/>
            <a:ext cx="8295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Все точки одной фигуры принадлежат точкам другой фигур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значит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он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пересекаютс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одна фигура находится внутри друг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63480" y="5578560"/>
            <a:ext cx="6904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. Фигуры имеют несколько общих точек, значит о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одна внутри друг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пересекаю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2556000" y="549360"/>
            <a:ext cx="468000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оверь себ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26040" y="2174760"/>
            <a:ext cx="307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1. К а с а ю т с 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8520" y="2948040"/>
            <a:ext cx="85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6600ff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ahoma"/>
              </a:rPr>
              <a:t>И не касаются, и не пересекаются, каждая фиг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6600ff"/>
                </a:solidFill>
                <a:latin typeface="Tahoma"/>
              </a:rPr>
              <a:t>отдельно друг от дру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27760" y="3892680"/>
            <a:ext cx="589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ahoma"/>
              </a:rPr>
              <a:t>3. Одна фигура внутри другой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67360" y="4541760"/>
            <a:ext cx="340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Tahoma"/>
              </a:rPr>
              <a:t>4.  Пересекаю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6942240" y="4221000"/>
            <a:ext cx="2022480" cy="20876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771640" y="5805360"/>
            <a:ext cx="3240360" cy="520560"/>
          </a:xfrm>
          <a:prstGeom prst="rect">
            <a:avLst/>
          </a:prstGeom>
          <a:blipFill rotWithShape="0">
            <a:blip r:embed="rId2"/>
            <a:srcRect/>
            <a:stretch/>
          </a:blipFill>
          <a:ln w="28440">
            <a:solidFill>
              <a:srgbClr val="0066ff"/>
            </a:solidFill>
            <a:miter/>
          </a:ln>
          <a:effectLst>
            <a:outerShdw dist="153753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М О Л О Д Ц Ы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1476360" y="1341360"/>
            <a:ext cx="5904000" cy="162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за работу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843280" y="3429000"/>
            <a:ext cx="1697040" cy="28083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7451640" y="47628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71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3T07:53:25Z</dcterms:created>
  <dc:creator>Базинов Николай</dc:creator>
  <dc:description/>
  <dc:language>en-US</dc:language>
  <cp:lastModifiedBy>User</cp:lastModifiedBy>
  <dcterms:modified xsi:type="dcterms:W3CDTF">2008-02-08T20:07:04Z</dcterms:modified>
  <cp:revision>27</cp:revision>
  <dc:subject/>
  <dc:title>Слайд 1</dc:title>
</cp:coreProperties>
</file>