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6F1-1E9D-42DC-BB2C-1D2DA5D1A5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формировать умение находить площади фигур с опорой на знание площади прямоугольника; развивать образное мышление, смека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ясняем способ решения задачи, устно проговариваем способ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6DB-44F0-4C25-A703-81585EAE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C35-F3E9-49F4-9BC3-9EF10D82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336-C6F1-4FFA-934C-5D303B0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D64-A5A0-40E5-AD79-8268D6A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08F-A5B1-4EF1-BC37-898FB695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3DA-038A-4FBF-ABAC-8695477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D56-B5C1-4238-B5C2-D256D51E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5E5-4DAA-44B8-A977-36C4FDD6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8AE-D4B2-426F-A6B1-AB2579AF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B6A-5BD8-4F8B-B4E6-9E6C6C2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827-BE5F-4E46-AFD4-7F102804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F14-C5F1-4846-90F9-E630613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7AF0-1705-42CD-A127-CD46C057C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etftrends.typepad.com/photos/uncategorized/2008/04/30/scissors_2.pn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240" y="2205000"/>
            <a:ext cx="666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ща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комбинирован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игу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268360" y="260280"/>
            <a:ext cx="4608360" cy="3816360"/>
            <a:chOff x="2268360" y="260280"/>
            <a:chExt cx="4608360" cy="3816360"/>
          </a:xfrm>
        </p:grpSpPr>
        <p:sp>
          <p:nvSpPr>
            <p:cNvPr id="384" name=""/>
            <p:cNvSpPr/>
            <p:nvPr/>
          </p:nvSpPr>
          <p:spPr>
            <a:xfrm>
              <a:off x="2268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4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072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9708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68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44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72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708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68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072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9708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68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44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2072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9708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7164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800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24360" y="155556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164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4800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24360" y="2205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164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4800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24360" y="285264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164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4800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24360" y="342900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68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4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072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708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8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44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2072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708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164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4800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24360" y="26028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164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4800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4360" y="909720"/>
              <a:ext cx="57636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00720" y="155556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00720" y="2205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0720" y="285264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0720" y="342900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00720" y="26028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00720" y="909720"/>
              <a:ext cx="576000" cy="647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266920" y="260280"/>
            <a:ext cx="4638600" cy="3799080"/>
          </a:xfrm>
          <a:custGeom>
            <a:avLst/>
            <a:gdLst/>
            <a:ahLst/>
            <a:rect l="l" t="t" r="r" b="b"/>
            <a:pathLst>
              <a:path w="2922" h="2393">
                <a:moveTo>
                  <a:pt x="2922" y="2393"/>
                </a:moveTo>
                <a:lnTo>
                  <a:pt x="0" y="1642"/>
                </a:lnTo>
                <a:lnTo>
                  <a:pt x="2192" y="0"/>
                </a:lnTo>
                <a:lnTo>
                  <a:pt x="2906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68360" y="260280"/>
            <a:ext cx="4608720" cy="3816360"/>
          </a:xfrm>
          <a:prstGeom prst="rect">
            <a:avLst/>
          </a:prstGeom>
          <a:solidFill>
            <a:srgbClr val="ffff00">
              <a:alpha val="58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414828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85840" y="407664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68360" y="2924280"/>
            <a:ext cx="4608720" cy="1152360"/>
          </a:xfrm>
          <a:prstGeom prst="rtTriangle">
            <a:avLst/>
          </a:prstGeom>
          <a:solidFill>
            <a:srgbClr val="ff99cc">
              <a:alpha val="5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479592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4760" y="472428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5445000"/>
            <a:ext cx="503280" cy="482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268360" y="259200"/>
            <a:ext cx="3456000" cy="2592360"/>
          </a:xfrm>
          <a:prstGeom prst="rtTriangle">
            <a:avLst/>
          </a:prstGeom>
          <a:solidFill>
            <a:srgbClr val="00ff00">
              <a:alpha val="1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84400" y="5373720"/>
            <a:ext cx="22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6093000"/>
            <a:ext cx="503280" cy="482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5795280" y="259560"/>
            <a:ext cx="1081080" cy="3816360"/>
          </a:xfrm>
          <a:prstGeom prst="rtTriangle">
            <a:avLst/>
          </a:prstGeom>
          <a:solidFill>
            <a:srgbClr val="66ffff">
              <a:alpha val="59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84760" y="6021360"/>
            <a:ext cx="20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003920" y="4508640"/>
            <a:ext cx="49982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48 – 8 – 12 – 6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14000" y="5300640"/>
            <a:ext cx="2570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8000"/>
                </a:solidFill>
                <a:latin typeface="Times New Roman"/>
              </a:rPr>
              <a:t>22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6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760" y="1484280"/>
            <a:ext cx="715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чертите прямоугольник со стор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9 см и 4 см. Вырежьте его. Затем разрежь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этот прямоугольник на 3 прямо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ак, чтобы из них можно было сост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95640" y="4005360"/>
            <a:ext cx="4176720" cy="21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rcRect l="18508" t="0" r="18508" b="-1877"/>
          <a:stretch/>
        </p:blipFill>
        <p:spPr>
          <a:xfrm rot="12824400">
            <a:off x="5866560" y="3499920"/>
            <a:ext cx="1514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348000" y="981000"/>
            <a:ext cx="475308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71640" y="981000"/>
            <a:ext cx="7129440" cy="3457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71640" y="981000"/>
            <a:ext cx="237636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71640" y="2709720"/>
            <a:ext cx="2376360" cy="172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980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9080" y="40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072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072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05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64292E-007 L 0.5198 0.25185 E">
                                      <p:cBhvr>
                                        <p:cTn id="403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4292E-007 L 0.2599 0.5037 E">
                                      <p:cBhvr>
                                        <p:cTn id="406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82979E-006 L 0.28594 0.84945 E">
                                      <p:cBhvr>
                                        <p:cTn id="414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9371E-006 L 0.24653 0.28307 E">
                                      <p:cBhvr>
                                        <p:cTn id="421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68360" y="47628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4840" y="2421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9280" y="2060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задумал число. Если к половине эт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авить четверть его, то получится 1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число я задум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8000" y="5516640"/>
            <a:ext cx="431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411280" y="4797360"/>
            <a:ext cx="5040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4653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4054680" y="2505600"/>
            <a:ext cx="457200" cy="374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702680" y="2649960"/>
            <a:ext cx="457200" cy="504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063" y="94"/>
                  <a:pt x="525" y="5080"/>
                  <a:pt x="525" y="10800"/>
                </a:cubicBezTo>
                <a:cubicBezTo>
                  <a:pt x="525" y="16520"/>
                  <a:pt x="11063" y="2150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24360" y="350028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0" y="5516640"/>
            <a:ext cx="8636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68360" y="4840200"/>
            <a:ext cx="1441800" cy="201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48428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доме 10 этажей одинак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соты. Во сколько раз лес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10 этаж длиннее, чем на 2-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63560" y="3505320"/>
            <a:ext cx="50832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62120" y="3317760"/>
            <a:ext cx="485640" cy="57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1148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74320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41136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8592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-325440"/>
            <a:ext cx="1299960" cy="7284960"/>
          </a:xfrm>
          <a:custGeom>
            <a:avLst/>
            <a:gdLst/>
            <a:ahLst/>
            <a:rect l="l" t="t" r="r" b="b"/>
            <a:pathLst>
              <a:path w="819" h="4589">
                <a:moveTo>
                  <a:pt x="0" y="4557"/>
                </a:moveTo>
                <a:cubicBezTo>
                  <a:pt x="22" y="4362"/>
                  <a:pt x="45" y="4168"/>
                  <a:pt x="48" y="3869"/>
                </a:cubicBezTo>
                <a:cubicBezTo>
                  <a:pt x="51" y="3570"/>
                  <a:pt x="21" y="3181"/>
                  <a:pt x="16" y="2765"/>
                </a:cubicBezTo>
                <a:cubicBezTo>
                  <a:pt x="11" y="2349"/>
                  <a:pt x="8" y="1704"/>
                  <a:pt x="16" y="1373"/>
                </a:cubicBezTo>
                <a:cubicBezTo>
                  <a:pt x="24" y="1042"/>
                  <a:pt x="64" y="989"/>
                  <a:pt x="64" y="781"/>
                </a:cubicBezTo>
                <a:cubicBezTo>
                  <a:pt x="64" y="573"/>
                  <a:pt x="13" y="250"/>
                  <a:pt x="16" y="125"/>
                </a:cubicBezTo>
                <a:cubicBezTo>
                  <a:pt x="19" y="0"/>
                  <a:pt x="27" y="48"/>
                  <a:pt x="80" y="29"/>
                </a:cubicBezTo>
                <a:cubicBezTo>
                  <a:pt x="133" y="10"/>
                  <a:pt x="243" y="13"/>
                  <a:pt x="336" y="13"/>
                </a:cubicBezTo>
                <a:cubicBezTo>
                  <a:pt x="429" y="13"/>
                  <a:pt x="584" y="16"/>
                  <a:pt x="640" y="29"/>
                </a:cubicBezTo>
                <a:cubicBezTo>
                  <a:pt x="696" y="42"/>
                  <a:pt x="667" y="41"/>
                  <a:pt x="672" y="93"/>
                </a:cubicBezTo>
                <a:cubicBezTo>
                  <a:pt x="677" y="145"/>
                  <a:pt x="656" y="201"/>
                  <a:pt x="672" y="341"/>
                </a:cubicBezTo>
                <a:cubicBezTo>
                  <a:pt x="688" y="481"/>
                  <a:pt x="760" y="648"/>
                  <a:pt x="768" y="933"/>
                </a:cubicBezTo>
                <a:cubicBezTo>
                  <a:pt x="776" y="1218"/>
                  <a:pt x="712" y="1588"/>
                  <a:pt x="720" y="2053"/>
                </a:cubicBezTo>
                <a:cubicBezTo>
                  <a:pt x="728" y="2518"/>
                  <a:pt x="813" y="3302"/>
                  <a:pt x="816" y="3725"/>
                </a:cubicBezTo>
                <a:cubicBezTo>
                  <a:pt x="819" y="4148"/>
                  <a:pt x="753" y="4409"/>
                  <a:pt x="736" y="4589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9880" y="553716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463200">
            <a:off x="1862280" y="6057720"/>
            <a:ext cx="377640" cy="70308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38360" y="1600200"/>
            <a:ext cx="507960" cy="1320840"/>
          </a:xfrm>
          <a:custGeom>
            <a:avLst/>
            <a:gdLst/>
            <a:ahLst/>
            <a:rect l="l" t="t" r="r" b="b"/>
            <a:pathLst>
              <a:path w="320" h="832">
                <a:moveTo>
                  <a:pt x="0" y="832"/>
                </a:moveTo>
                <a:lnTo>
                  <a:pt x="288" y="272"/>
                </a:lnTo>
                <a:lnTo>
                  <a:pt x="288" y="0"/>
                </a:lnTo>
                <a:lnTo>
                  <a:pt x="96" y="256"/>
                </a:lnTo>
                <a:lnTo>
                  <a:pt x="128" y="448"/>
                </a:lnTo>
                <a:lnTo>
                  <a:pt x="320" y="256"/>
                </a:lnTo>
                <a:lnTo>
                  <a:pt x="288" y="0"/>
                </a:lnTo>
                <a:lnTo>
                  <a:pt x="16" y="16"/>
                </a:lnTo>
                <a:lnTo>
                  <a:pt x="32" y="288"/>
                </a:lnTo>
                <a:lnTo>
                  <a:pt x="96" y="256"/>
                </a:lnTo>
                <a:lnTo>
                  <a:pt x="32" y="272"/>
                </a:lnTo>
                <a:lnTo>
                  <a:pt x="48" y="736"/>
                </a:lnTo>
                <a:lnTo>
                  <a:pt x="48" y="496"/>
                </a:lnTo>
                <a:lnTo>
                  <a:pt x="128" y="432"/>
                </a:lnTo>
                <a:lnTo>
                  <a:pt x="176" y="368"/>
                </a:lnTo>
                <a:lnTo>
                  <a:pt x="128" y="208"/>
                </a:lnTo>
                <a:lnTo>
                  <a:pt x="160" y="160"/>
                </a:lnTo>
                <a:lnTo>
                  <a:pt x="224" y="352"/>
                </a:lnTo>
                <a:lnTo>
                  <a:pt x="272" y="288"/>
                </a:lnTo>
                <a:lnTo>
                  <a:pt x="192" y="112"/>
                </a:lnTo>
                <a:lnTo>
                  <a:pt x="240" y="80"/>
                </a:lnTo>
                <a:lnTo>
                  <a:pt x="288" y="2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463200">
            <a:off x="1760040" y="2120400"/>
            <a:ext cx="37800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463200">
            <a:off x="1785960" y="4025520"/>
            <a:ext cx="377640" cy="703440"/>
          </a:xfrm>
          <a:custGeom>
            <a:avLst/>
            <a:gdLst/>
            <a:ahLst/>
            <a:rect l="l" t="t" r="r" b="b"/>
            <a:pathLst>
              <a:path w="366" h="667">
                <a:moveTo>
                  <a:pt x="291" y="168"/>
                </a:moveTo>
                <a:cubicBezTo>
                  <a:pt x="283" y="157"/>
                  <a:pt x="259" y="104"/>
                  <a:pt x="243" y="104"/>
                </a:cubicBezTo>
                <a:cubicBezTo>
                  <a:pt x="227" y="104"/>
                  <a:pt x="184" y="147"/>
                  <a:pt x="195" y="168"/>
                </a:cubicBezTo>
                <a:cubicBezTo>
                  <a:pt x="206" y="189"/>
                  <a:pt x="280" y="240"/>
                  <a:pt x="307" y="232"/>
                </a:cubicBezTo>
                <a:cubicBezTo>
                  <a:pt x="334" y="224"/>
                  <a:pt x="347" y="149"/>
                  <a:pt x="355" y="120"/>
                </a:cubicBezTo>
                <a:cubicBezTo>
                  <a:pt x="363" y="91"/>
                  <a:pt x="366" y="75"/>
                  <a:pt x="355" y="56"/>
                </a:cubicBezTo>
                <a:cubicBezTo>
                  <a:pt x="344" y="37"/>
                  <a:pt x="312" y="16"/>
                  <a:pt x="291" y="8"/>
                </a:cubicBezTo>
                <a:cubicBezTo>
                  <a:pt x="270" y="0"/>
                  <a:pt x="248" y="0"/>
                  <a:pt x="227" y="8"/>
                </a:cubicBezTo>
                <a:cubicBezTo>
                  <a:pt x="206" y="16"/>
                  <a:pt x="182" y="29"/>
                  <a:pt x="163" y="56"/>
                </a:cubicBezTo>
                <a:cubicBezTo>
                  <a:pt x="144" y="83"/>
                  <a:pt x="118" y="133"/>
                  <a:pt x="115" y="168"/>
                </a:cubicBezTo>
                <a:cubicBezTo>
                  <a:pt x="112" y="203"/>
                  <a:pt x="128" y="237"/>
                  <a:pt x="147" y="264"/>
                </a:cubicBezTo>
                <a:cubicBezTo>
                  <a:pt x="166" y="291"/>
                  <a:pt x="206" y="285"/>
                  <a:pt x="227" y="328"/>
                </a:cubicBezTo>
                <a:cubicBezTo>
                  <a:pt x="248" y="371"/>
                  <a:pt x="278" y="469"/>
                  <a:pt x="275" y="520"/>
                </a:cubicBezTo>
                <a:cubicBezTo>
                  <a:pt x="272" y="571"/>
                  <a:pt x="235" y="608"/>
                  <a:pt x="211" y="632"/>
                </a:cubicBezTo>
                <a:cubicBezTo>
                  <a:pt x="187" y="656"/>
                  <a:pt x="158" y="667"/>
                  <a:pt x="131" y="664"/>
                </a:cubicBezTo>
                <a:cubicBezTo>
                  <a:pt x="104" y="661"/>
                  <a:pt x="72" y="637"/>
                  <a:pt x="51" y="616"/>
                </a:cubicBezTo>
                <a:cubicBezTo>
                  <a:pt x="30" y="595"/>
                  <a:pt x="0" y="568"/>
                  <a:pt x="3" y="536"/>
                </a:cubicBezTo>
                <a:cubicBezTo>
                  <a:pt x="6" y="504"/>
                  <a:pt x="38" y="435"/>
                  <a:pt x="67" y="424"/>
                </a:cubicBezTo>
                <a:cubicBezTo>
                  <a:pt x="96" y="413"/>
                  <a:pt x="163" y="451"/>
                  <a:pt x="179" y="472"/>
                </a:cubicBezTo>
                <a:cubicBezTo>
                  <a:pt x="195" y="493"/>
                  <a:pt x="179" y="536"/>
                  <a:pt x="163" y="552"/>
                </a:cubicBezTo>
                <a:cubicBezTo>
                  <a:pt x="147" y="568"/>
                  <a:pt x="96" y="576"/>
                  <a:pt x="83" y="568"/>
                </a:cubicBezTo>
                <a:cubicBezTo>
                  <a:pt x="70" y="560"/>
                  <a:pt x="83" y="517"/>
                  <a:pt x="83" y="504"/>
                </a:cubicBez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" y="6194520"/>
            <a:ext cx="520560" cy="663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562720"/>
            <a:ext cx="444600" cy="612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01720" y="3556080"/>
            <a:ext cx="45720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0"/>
                </a:moveTo>
                <a:lnTo>
                  <a:pt x="0" y="240"/>
                </a:lnTo>
                <a:lnTo>
                  <a:pt x="64" y="224"/>
                </a:lnTo>
                <a:lnTo>
                  <a:pt x="96" y="384"/>
                </a:lnTo>
                <a:lnTo>
                  <a:pt x="144" y="352"/>
                </a:lnTo>
                <a:lnTo>
                  <a:pt x="80" y="176"/>
                </a:lnTo>
                <a:lnTo>
                  <a:pt x="160" y="112"/>
                </a:lnTo>
                <a:lnTo>
                  <a:pt x="208" y="320"/>
                </a:lnTo>
                <a:lnTo>
                  <a:pt x="256" y="256"/>
                </a:lnTo>
                <a:lnTo>
                  <a:pt x="208" y="64"/>
                </a:lnTo>
                <a:lnTo>
                  <a:pt x="288" y="192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9480" y="2743200"/>
            <a:ext cx="442800" cy="603360"/>
            <a:chOff x="609480" y="2743200"/>
            <a:chExt cx="442800" cy="603360"/>
          </a:xfrm>
        </p:grpSpPr>
        <p:sp>
          <p:nvSpPr>
            <p:cNvPr id="92" name=""/>
            <p:cNvSpPr/>
            <p:nvPr/>
          </p:nvSpPr>
          <p:spPr>
            <a:xfrm>
              <a:off x="64440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052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836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128600" y="2743200"/>
            <a:ext cx="442800" cy="603360"/>
            <a:chOff x="1128600" y="2743200"/>
            <a:chExt cx="442800" cy="603360"/>
          </a:xfrm>
        </p:grpSpPr>
        <p:sp>
          <p:nvSpPr>
            <p:cNvPr id="97" name=""/>
            <p:cNvSpPr/>
            <p:nvPr/>
          </p:nvSpPr>
          <p:spPr>
            <a:xfrm>
              <a:off x="1163520" y="28130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28600" y="27432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69640" y="29718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47480" y="28130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6440" y="3435480"/>
            <a:ext cx="442800" cy="603000"/>
            <a:chOff x="676440" y="3435480"/>
            <a:chExt cx="442800" cy="603000"/>
          </a:xfrm>
        </p:grpSpPr>
        <p:sp>
          <p:nvSpPr>
            <p:cNvPr id="102" name=""/>
            <p:cNvSpPr/>
            <p:nvPr/>
          </p:nvSpPr>
          <p:spPr>
            <a:xfrm>
              <a:off x="711360" y="350496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440" y="343548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7480" y="366372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5320" y="350496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95280" y="6134040"/>
            <a:ext cx="442800" cy="603360"/>
            <a:chOff x="1295280" y="6134040"/>
            <a:chExt cx="442800" cy="603360"/>
          </a:xfrm>
        </p:grpSpPr>
        <p:sp>
          <p:nvSpPr>
            <p:cNvPr id="107" name=""/>
            <p:cNvSpPr/>
            <p:nvPr/>
          </p:nvSpPr>
          <p:spPr>
            <a:xfrm>
              <a:off x="133020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528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632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1416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95280" y="5486400"/>
            <a:ext cx="442800" cy="603360"/>
            <a:chOff x="1295280" y="5486400"/>
            <a:chExt cx="442800" cy="603360"/>
          </a:xfrm>
        </p:grpSpPr>
        <p:sp>
          <p:nvSpPr>
            <p:cNvPr id="112" name=""/>
            <p:cNvSpPr/>
            <p:nvPr/>
          </p:nvSpPr>
          <p:spPr>
            <a:xfrm>
              <a:off x="133020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3632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1416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85800" y="6134040"/>
            <a:ext cx="442800" cy="603360"/>
            <a:chOff x="685800" y="6134040"/>
            <a:chExt cx="442800" cy="603360"/>
          </a:xfrm>
        </p:grpSpPr>
        <p:sp>
          <p:nvSpPr>
            <p:cNvPr id="117" name=""/>
            <p:cNvSpPr/>
            <p:nvPr/>
          </p:nvSpPr>
          <p:spPr>
            <a:xfrm>
              <a:off x="720720" y="620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613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6840" y="636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4680" y="620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1640" y="4800600"/>
            <a:ext cx="442800" cy="603360"/>
            <a:chOff x="701640" y="4800600"/>
            <a:chExt cx="442800" cy="603360"/>
          </a:xfrm>
        </p:grpSpPr>
        <p:sp>
          <p:nvSpPr>
            <p:cNvPr id="122" name=""/>
            <p:cNvSpPr/>
            <p:nvPr/>
          </p:nvSpPr>
          <p:spPr>
            <a:xfrm>
              <a:off x="73656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64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268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2052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20760" y="4800600"/>
            <a:ext cx="442800" cy="603360"/>
            <a:chOff x="1220760" y="4800600"/>
            <a:chExt cx="442800" cy="603360"/>
          </a:xfrm>
        </p:grpSpPr>
        <p:sp>
          <p:nvSpPr>
            <p:cNvPr id="127" name=""/>
            <p:cNvSpPr/>
            <p:nvPr/>
          </p:nvSpPr>
          <p:spPr>
            <a:xfrm>
              <a:off x="1255680" y="48704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20760" y="48006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61800" y="50292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39640" y="48704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85800" y="5486400"/>
            <a:ext cx="442800" cy="603360"/>
            <a:chOff x="685800" y="5486400"/>
            <a:chExt cx="442800" cy="603360"/>
          </a:xfrm>
        </p:grpSpPr>
        <p:sp>
          <p:nvSpPr>
            <p:cNvPr id="132" name=""/>
            <p:cNvSpPr/>
            <p:nvPr/>
          </p:nvSpPr>
          <p:spPr>
            <a:xfrm>
              <a:off x="720720" y="5556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5486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6840" y="5715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04680" y="5556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95560" y="3429000"/>
            <a:ext cx="442800" cy="603360"/>
            <a:chOff x="1195560" y="3429000"/>
            <a:chExt cx="442800" cy="603360"/>
          </a:xfrm>
        </p:grpSpPr>
        <p:sp>
          <p:nvSpPr>
            <p:cNvPr id="137" name=""/>
            <p:cNvSpPr/>
            <p:nvPr/>
          </p:nvSpPr>
          <p:spPr>
            <a:xfrm>
              <a:off x="1230480" y="34988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5560" y="34290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36600" y="36576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14440" y="34988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4440" y="4114800"/>
            <a:ext cx="442800" cy="603360"/>
            <a:chOff x="1144440" y="4114800"/>
            <a:chExt cx="442800" cy="603360"/>
          </a:xfrm>
        </p:grpSpPr>
        <p:sp>
          <p:nvSpPr>
            <p:cNvPr id="142" name=""/>
            <p:cNvSpPr/>
            <p:nvPr/>
          </p:nvSpPr>
          <p:spPr>
            <a:xfrm>
              <a:off x="117936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444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548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332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11280" y="4114800"/>
            <a:ext cx="442800" cy="603360"/>
            <a:chOff x="611280" y="4114800"/>
            <a:chExt cx="442800" cy="603360"/>
          </a:xfrm>
        </p:grpSpPr>
        <p:sp>
          <p:nvSpPr>
            <p:cNvPr id="147" name=""/>
            <p:cNvSpPr/>
            <p:nvPr/>
          </p:nvSpPr>
          <p:spPr>
            <a:xfrm>
              <a:off x="646200" y="41846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280" y="41148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320" y="43434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0160" y="41846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0" y="7621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9480" y="762120"/>
            <a:ext cx="442800" cy="603000"/>
            <a:chOff x="609480" y="762120"/>
            <a:chExt cx="442800" cy="603000"/>
          </a:xfrm>
        </p:grpSpPr>
        <p:sp>
          <p:nvSpPr>
            <p:cNvPr id="153" name=""/>
            <p:cNvSpPr/>
            <p:nvPr/>
          </p:nvSpPr>
          <p:spPr>
            <a:xfrm>
              <a:off x="64440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52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836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28600" y="762120"/>
            <a:ext cx="442800" cy="603000"/>
            <a:chOff x="1128600" y="762120"/>
            <a:chExt cx="442800" cy="603000"/>
          </a:xfrm>
        </p:grpSpPr>
        <p:sp>
          <p:nvSpPr>
            <p:cNvPr id="158" name=""/>
            <p:cNvSpPr/>
            <p:nvPr/>
          </p:nvSpPr>
          <p:spPr>
            <a:xfrm>
              <a:off x="1163520" y="8316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28600" y="7621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69640" y="9903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47480" y="8316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211608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640" y="2057400"/>
            <a:ext cx="442800" cy="603360"/>
            <a:chOff x="701640" y="2057400"/>
            <a:chExt cx="442800" cy="603360"/>
          </a:xfrm>
        </p:grpSpPr>
        <p:sp>
          <p:nvSpPr>
            <p:cNvPr id="164" name=""/>
            <p:cNvSpPr/>
            <p:nvPr/>
          </p:nvSpPr>
          <p:spPr>
            <a:xfrm>
              <a:off x="73656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64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68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2052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220760" y="2057400"/>
            <a:ext cx="442800" cy="603360"/>
            <a:chOff x="1220760" y="2057400"/>
            <a:chExt cx="442800" cy="603360"/>
          </a:xfrm>
        </p:grpSpPr>
        <p:sp>
          <p:nvSpPr>
            <p:cNvPr id="169" name=""/>
            <p:cNvSpPr/>
            <p:nvPr/>
          </p:nvSpPr>
          <p:spPr>
            <a:xfrm>
              <a:off x="1255680" y="212724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0760" y="205740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1800" y="228600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39640" y="212724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1447920"/>
            <a:ext cx="565200" cy="63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76440" y="1454040"/>
            <a:ext cx="442800" cy="603360"/>
            <a:chOff x="676440" y="1454040"/>
            <a:chExt cx="442800" cy="603360"/>
          </a:xfrm>
        </p:grpSpPr>
        <p:sp>
          <p:nvSpPr>
            <p:cNvPr id="175" name=""/>
            <p:cNvSpPr/>
            <p:nvPr/>
          </p:nvSpPr>
          <p:spPr>
            <a:xfrm>
              <a:off x="711360" y="152388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6440" y="145404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7480" y="168264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5320" y="152388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95560" y="1447920"/>
            <a:ext cx="442800" cy="603000"/>
            <a:chOff x="1195560" y="1447920"/>
            <a:chExt cx="442800" cy="603000"/>
          </a:xfrm>
        </p:grpSpPr>
        <p:sp>
          <p:nvSpPr>
            <p:cNvPr id="180" name=""/>
            <p:cNvSpPr/>
            <p:nvPr/>
          </p:nvSpPr>
          <p:spPr>
            <a:xfrm>
              <a:off x="1230480" y="151740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5560" y="144792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36600" y="167616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4440" y="151740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0"/>
            <a:ext cx="565200" cy="6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76440" y="23760"/>
            <a:ext cx="442800" cy="603360"/>
            <a:chOff x="676440" y="23760"/>
            <a:chExt cx="442800" cy="603360"/>
          </a:xfrm>
        </p:grpSpPr>
        <p:sp>
          <p:nvSpPr>
            <p:cNvPr id="186" name=""/>
            <p:cNvSpPr/>
            <p:nvPr/>
          </p:nvSpPr>
          <p:spPr>
            <a:xfrm>
              <a:off x="711360" y="93600"/>
              <a:ext cx="361800" cy="48924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6440" y="23760"/>
              <a:ext cx="442800" cy="60336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480" y="252360"/>
              <a:ext cx="355680" cy="180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5320" y="93600"/>
              <a:ext cx="1800" cy="48276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95560" y="17640"/>
            <a:ext cx="442800" cy="603000"/>
            <a:chOff x="1195560" y="17640"/>
            <a:chExt cx="442800" cy="603000"/>
          </a:xfrm>
        </p:grpSpPr>
        <p:sp>
          <p:nvSpPr>
            <p:cNvPr id="191" name=""/>
            <p:cNvSpPr/>
            <p:nvPr/>
          </p:nvSpPr>
          <p:spPr>
            <a:xfrm>
              <a:off x="1230480" y="87120"/>
              <a:ext cx="361800" cy="488880"/>
            </a:xfrm>
            <a:custGeom>
              <a:avLst/>
              <a:gdLst/>
              <a:ahLst/>
              <a:rect l="l" t="t" r="r" b="b"/>
              <a:pathLst>
                <a:path w="228" h="308">
                  <a:moveTo>
                    <a:pt x="4" y="0"/>
                  </a:moveTo>
                  <a:lnTo>
                    <a:pt x="228" y="0"/>
                  </a:lnTo>
                  <a:lnTo>
                    <a:pt x="228" y="300"/>
                  </a:lnTo>
                  <a:lnTo>
                    <a:pt x="0" y="308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5560" y="17640"/>
              <a:ext cx="442800" cy="603000"/>
            </a:xfrm>
            <a:custGeom>
              <a:avLst/>
              <a:gdLst/>
              <a:ahLst/>
              <a:rect l="l" t="t" r="r" b="b"/>
              <a:pathLst>
                <a:path w="452" h="636">
                  <a:moveTo>
                    <a:pt x="52" y="69"/>
                  </a:moveTo>
                  <a:lnTo>
                    <a:pt x="404" y="69"/>
                  </a:lnTo>
                  <a:lnTo>
                    <a:pt x="404" y="581"/>
                  </a:lnTo>
                  <a:lnTo>
                    <a:pt x="36" y="582"/>
                  </a:lnTo>
                  <a:lnTo>
                    <a:pt x="0" y="630"/>
                  </a:lnTo>
                  <a:lnTo>
                    <a:pt x="444" y="630"/>
                  </a:lnTo>
                  <a:lnTo>
                    <a:pt x="404" y="565"/>
                  </a:lnTo>
                  <a:lnTo>
                    <a:pt x="444" y="636"/>
                  </a:lnTo>
                  <a:lnTo>
                    <a:pt x="444" y="630"/>
                  </a:lnTo>
                  <a:lnTo>
                    <a:pt x="452" y="5"/>
                  </a:lnTo>
                  <a:lnTo>
                    <a:pt x="408" y="78"/>
                  </a:lnTo>
                  <a:lnTo>
                    <a:pt x="452" y="5"/>
                  </a:lnTo>
                  <a:lnTo>
                    <a:pt x="6" y="6"/>
                  </a:lnTo>
                  <a:lnTo>
                    <a:pt x="6" y="630"/>
                  </a:lnTo>
                  <a:lnTo>
                    <a:pt x="4" y="5"/>
                  </a:lnTo>
                  <a:lnTo>
                    <a:pt x="48" y="72"/>
                  </a:lnTo>
                  <a:lnTo>
                    <a:pt x="42" y="588"/>
                  </a:lnTo>
                  <a:lnTo>
                    <a:pt x="12" y="624"/>
                  </a:lnTo>
                  <a:lnTo>
                    <a:pt x="0" y="63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52" y="69"/>
                  </a:lnTo>
                  <a:close/>
                </a:path>
              </a:pathLst>
            </a:custGeom>
            <a:solidFill>
              <a:srgbClr val="ffcc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36600" y="245880"/>
              <a:ext cx="355680" cy="1440"/>
            </a:xfrm>
            <a:custGeom>
              <a:avLst/>
              <a:gdLst/>
              <a:ahLst/>
              <a:rect l="l" t="t" r="r" b="b"/>
              <a:pathLst>
                <a:path w="224" h="1">
                  <a:moveTo>
                    <a:pt x="0" y="0"/>
                  </a:moveTo>
                  <a:lnTo>
                    <a:pt x="2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4440" y="87120"/>
              <a:ext cx="1800" cy="482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0" y="0"/>
                  </a:moveTo>
                  <a:lnTo>
                    <a:pt x="0" y="3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796000" y="2708280"/>
            <a:ext cx="0" cy="39607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51640" y="6669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2708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6237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805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5373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94172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51640" y="4508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076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3645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3213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1440" y="2495520"/>
            <a:ext cx="537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4720" y="429264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653000"/>
            <a:ext cx="1079640" cy="1728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11640" y="4292640"/>
            <a:ext cx="30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97560" y="4572000"/>
            <a:ext cx="1055520" cy="166680"/>
          </a:xfrm>
          <a:custGeom>
            <a:avLst/>
            <a:gdLst/>
            <a:ahLst/>
            <a:rect l="l" t="t" r="r" b="b"/>
            <a:pathLst>
              <a:path w="665" h="105">
                <a:moveTo>
                  <a:pt x="0" y="0"/>
                </a:moveTo>
                <a:lnTo>
                  <a:pt x="665" y="105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84600" y="4649760"/>
            <a:ext cx="1108080" cy="1378080"/>
          </a:xfrm>
          <a:custGeom>
            <a:avLst/>
            <a:gdLst/>
            <a:ahLst/>
            <a:rect l="l" t="t" r="r" b="b"/>
            <a:pathLst>
              <a:path w="698" h="868">
                <a:moveTo>
                  <a:pt x="0" y="0"/>
                </a:moveTo>
                <a:lnTo>
                  <a:pt x="698" y="86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7560" y="4649760"/>
            <a:ext cx="1082520" cy="965160"/>
          </a:xfrm>
          <a:custGeom>
            <a:avLst/>
            <a:gdLst/>
            <a:ahLst/>
            <a:rect l="l" t="t" r="r" b="b"/>
            <a:pathLst>
              <a:path w="682" h="608">
                <a:moveTo>
                  <a:pt x="0" y="0"/>
                </a:moveTo>
                <a:lnTo>
                  <a:pt x="682" y="608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22760" y="4610160"/>
            <a:ext cx="1030320" cy="541440"/>
          </a:xfrm>
          <a:custGeom>
            <a:avLst/>
            <a:gdLst/>
            <a:ahLst/>
            <a:rect l="l" t="t" r="r" b="b"/>
            <a:pathLst>
              <a:path w="649" h="341">
                <a:moveTo>
                  <a:pt x="0" y="0"/>
                </a:moveTo>
                <a:lnTo>
                  <a:pt x="649" y="341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2360" y="3425760"/>
            <a:ext cx="990720" cy="1120680"/>
          </a:xfrm>
          <a:custGeom>
            <a:avLst/>
            <a:gdLst/>
            <a:ahLst/>
            <a:rect l="l" t="t" r="r" b="b"/>
            <a:pathLst>
              <a:path w="624" h="706">
                <a:moveTo>
                  <a:pt x="0" y="706"/>
                </a:moveTo>
                <a:lnTo>
                  <a:pt x="62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7160" y="3851280"/>
            <a:ext cx="1015920" cy="708120"/>
          </a:xfrm>
          <a:custGeom>
            <a:avLst/>
            <a:gdLst/>
            <a:ahLst/>
            <a:rect l="l" t="t" r="r" b="b"/>
            <a:pathLst>
              <a:path w="640" h="446">
                <a:moveTo>
                  <a:pt x="0" y="446"/>
                </a:moveTo>
                <a:lnTo>
                  <a:pt x="640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37160" y="4302000"/>
            <a:ext cx="1003320" cy="282600"/>
          </a:xfrm>
          <a:custGeom>
            <a:avLst/>
            <a:gdLst/>
            <a:ahLst/>
            <a:rect l="l" t="t" r="r" b="b"/>
            <a:pathLst>
              <a:path w="632" h="178">
                <a:moveTo>
                  <a:pt x="0" y="178"/>
                </a:moveTo>
                <a:lnTo>
                  <a:pt x="632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10160" y="2987640"/>
            <a:ext cx="1069920" cy="1558800"/>
          </a:xfrm>
          <a:custGeom>
            <a:avLst/>
            <a:gdLst/>
            <a:ahLst/>
            <a:rect l="l" t="t" r="r" b="b"/>
            <a:pathLst>
              <a:path w="674" h="982">
                <a:moveTo>
                  <a:pt x="0" y="982"/>
                </a:moveTo>
                <a:lnTo>
                  <a:pt x="674" y="0"/>
                </a:ln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43640" y="3860640"/>
            <a:ext cx="2305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9 раз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198900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писать число 100 пятью единиц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51280" y="299736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19280" y="4292640"/>
            <a:ext cx="60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11 - 11 = 100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3716280"/>
            <a:ext cx="3600720" cy="57780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40000" y="3716280"/>
            <a:ext cx="216000" cy="577800"/>
          </a:xfrm>
          <a:prstGeom prst="rect">
            <a:avLst/>
          </a:prstGeom>
          <a:solidFill>
            <a:srgbClr val="fc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411280" y="551628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012000" y="4292280"/>
            <a:ext cx="0" cy="18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908000" y="4292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8000" y="371628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092720" y="306864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11280" y="580536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25800" y="573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019640" y="5589720"/>
            <a:ext cx="93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371628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08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6544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3860640"/>
            <a:ext cx="2016360" cy="16351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920" y="476280"/>
            <a:ext cx="187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0680" y="155736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закрашенной фиг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ет ли здесь лишних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645000"/>
            <a:ext cx="3600360" cy="1368360"/>
          </a:xfrm>
          <a:prstGeom prst="rect">
            <a:avLst/>
          </a:prstGeom>
          <a:solidFill>
            <a:srgbClr val="fcff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45164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516720" y="3645000"/>
            <a:ext cx="151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43280" y="5013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90800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852640"/>
            <a:ext cx="504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97280" y="2441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3068640"/>
            <a:ext cx="0" cy="2521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5080" y="40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797360"/>
            <a:ext cx="360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508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3645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9080" y="414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3284640"/>
            <a:ext cx="2016000" cy="1635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373320 h 1635120"/>
              <a:gd name="textAreaBottom" fmla="*/ 1261800 h 163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800" y="155736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ова площадь заштрихованной ча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11280" y="3068640"/>
            <a:ext cx="5040360" cy="25210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11280" y="3068640"/>
            <a:ext cx="504036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08400" y="3090960"/>
            <a:ext cx="5010120" cy="2498760"/>
          </a:xfrm>
          <a:custGeom>
            <a:avLst/>
            <a:gdLst/>
            <a:ahLst/>
            <a:rect l="l" t="t" r="r" b="b"/>
            <a:pathLst>
              <a:path w="3156" h="1574">
                <a:moveTo>
                  <a:pt x="0" y="1574"/>
                </a:moveTo>
                <a:lnTo>
                  <a:pt x="3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3068640"/>
            <a:ext cx="71280" cy="2495520"/>
          </a:xfrm>
          <a:custGeom>
            <a:avLst/>
            <a:gdLst/>
            <a:ahLst/>
            <a:rect l="l" t="t" r="r" b="b"/>
            <a:pathLst>
              <a:path w="1" h="1599">
                <a:moveTo>
                  <a:pt x="0" y="0"/>
                </a:moveTo>
                <a:lnTo>
                  <a:pt x="0" y="159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2410560" y="3068640"/>
            <a:ext cx="2521080" cy="25210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3023280" y="3680640"/>
            <a:ext cx="1224000" cy="244800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908000" y="306864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41128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932360" y="249192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451640" y="256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5640" y="306864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2852640"/>
            <a:ext cx="252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2852640"/>
            <a:ext cx="2519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763640" y="4365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4292640"/>
            <a:ext cx="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 rot="16200000">
            <a:off x="3023280" y="2456640"/>
            <a:ext cx="1224000" cy="244800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580000" y="2420640"/>
            <a:ext cx="1224000" cy="2519280"/>
          </a:xfrm>
          <a:prstGeom prst="rtTriangle">
            <a:avLst/>
          </a:prstGeom>
          <a:blipFill rotWithShape="0">
            <a:blip r:embed="rId9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411280" y="3068640"/>
            <a:ext cx="2522160" cy="2521080"/>
            <a:chOff x="2411280" y="3068640"/>
            <a:chExt cx="2522160" cy="2521080"/>
          </a:xfrm>
        </p:grpSpPr>
        <p:sp>
          <p:nvSpPr>
            <p:cNvPr id="306" name=""/>
            <p:cNvSpPr/>
            <p:nvPr/>
          </p:nvSpPr>
          <p:spPr>
            <a:xfrm flipH="1">
              <a:off x="2773080" y="4077000"/>
              <a:ext cx="93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2412000" y="3068640"/>
              <a:ext cx="2521080" cy="252108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11280" y="4334040"/>
              <a:ext cx="2497320" cy="25560"/>
            </a:xfrm>
            <a:custGeom>
              <a:avLst/>
              <a:gdLst/>
              <a:ahLst/>
              <a:rect l="l" t="t" r="r" b="b"/>
              <a:pathLst>
                <a:path w="1573" h="16">
                  <a:moveTo>
                    <a:pt x="1573" y="0"/>
                  </a:moveTo>
                  <a:lnTo>
                    <a:pt x="0" y="1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H="1">
            <a:off x="1763640" y="5589720"/>
            <a:ext cx="9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9416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380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1800" y="24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93800" y="46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068640"/>
            <a:ext cx="2521080" cy="1297080"/>
          </a:xfrm>
          <a:prstGeom prst="rect">
            <a:avLst/>
          </a:prstGeom>
          <a:solidFill>
            <a:srgbClr val="ccffcc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90400" y="580536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20 :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3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8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9417E-006 L 0.27569 0.00532 E">
                                      <p:cBhvr>
                                        <p:cTn id="20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0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4320" y="1628640"/>
            <a:ext cx="674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Вычислить площадь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идумать способ вычисления площ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рямоугольного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8000" y="3429000"/>
            <a:ext cx="4464360" cy="2879640"/>
          </a:xfrm>
          <a:prstGeom prst="rtTriangl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0800000">
            <a:off x="1907640" y="3428640"/>
            <a:ext cx="4464360" cy="2879640"/>
          </a:xfrm>
          <a:prstGeom prst="rtTriangle">
            <a:avLst/>
          </a:prstGeom>
          <a:solidFill>
            <a:srgbClr val="ff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04360" y="462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108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19280" y="35002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0560" y="4022640"/>
            <a:ext cx="3658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b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680" y="1557360"/>
            <a:ext cx="636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йдите площадь треугольника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лощадь каждой клетки 1 см</a:t>
            </a:r>
            <a:r>
              <a:rPr b="1" lang="en-US" sz="2800" spc="-1" strike="noStrike" baseline="30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6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13200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0836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56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292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5928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5640" y="400356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8292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435640" y="4653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292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35640" y="530064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8292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5928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35640" y="587700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9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3200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0836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292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5928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270828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292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5928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35640" y="3357720"/>
            <a:ext cx="57636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2000" y="400356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4653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12000" y="530064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587700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270828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3357720"/>
            <a:ext cx="576000" cy="64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69920" y="2717640"/>
            <a:ext cx="4637160" cy="3799080"/>
          </a:xfrm>
          <a:custGeom>
            <a:avLst/>
            <a:gdLst/>
            <a:ahLst/>
            <a:rect l="l" t="t" r="r" b="b"/>
            <a:pathLst>
              <a:path w="2921" h="2393">
                <a:moveTo>
                  <a:pt x="2921" y="2393"/>
                </a:moveTo>
                <a:lnTo>
                  <a:pt x="0" y="1614"/>
                </a:lnTo>
                <a:lnTo>
                  <a:pt x="2191" y="0"/>
                </a:lnTo>
                <a:lnTo>
                  <a:pt x="2905" y="2393"/>
                </a:lnTo>
              </a:path>
            </a:pathLst>
          </a:custGeom>
          <a:solidFill>
            <a:srgbClr val="ccffff">
              <a:alpha val="46000"/>
            </a:srgbClr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6-13T12:04:33Z</dcterms:modified>
  <cp:revision>15</cp:revision>
  <dc:subject/>
  <dc:title>Слайд 1</dc:title>
</cp:coreProperties>
</file>