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836E-D7B6-47C5-AED5-7A85ECE298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Цель: формировать умение находить площади фигур с опорой на знание площади прямоугольника; развивать образное мышление, смекал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ясняем способ решения задачи, устно проговариваем способ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ясняем способ решения задачи, устно проговариваем способ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F27-4A46-4ED8-A1F4-7C2D9AF5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2B9-94DB-4B12-A908-C7A76866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B19-63C4-44DD-BFAF-F72214F9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AAB-3CE5-492F-90D7-4D5735F6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4FBD-BF4D-4E43-96F8-8480565C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2B4-848F-42C3-B2ED-21FC66F4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E5B-6C92-405A-94C1-BE7D63EA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746-C0BE-4599-881D-D424E478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822D-C821-4F07-86EB-B6614F1E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2D3-2531-4204-896D-9DD16EEE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F595-76D9-4F86-9238-32F26C10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74F-BFEA-446B-9A0F-F2F5E8E6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BA5B-F31B-4770-9811-309D251CF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etftrends.typepad.com/photos/uncategorized/2008/04/30/scissors_2.png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8900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ведение в геометр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651640" y="317520"/>
            <a:ext cx="3313080" cy="23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48000" y="551664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2feb4"/>
              </a:gs>
              <a:gs pos="50000">
                <a:srgbClr val="fefefe"/>
              </a:gs>
              <a:gs pos="100000">
                <a:srgbClr val="f2feb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КОУ СОШ №256 ГО ЗАТО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280" y="1386000"/>
            <a:ext cx="21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Занятие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240" y="2205000"/>
            <a:ext cx="6668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Площад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комбинированны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фигур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99436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2268360" y="260280"/>
            <a:ext cx="4608360" cy="3816360"/>
            <a:chOff x="2268360" y="260280"/>
            <a:chExt cx="4608360" cy="3816360"/>
          </a:xfrm>
        </p:grpSpPr>
        <p:sp>
          <p:nvSpPr>
            <p:cNvPr id="384" name=""/>
            <p:cNvSpPr/>
            <p:nvPr/>
          </p:nvSpPr>
          <p:spPr>
            <a:xfrm>
              <a:off x="2268360" y="155556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44720" y="155556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20720" y="155556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97080" y="155556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68360" y="2205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44720" y="220500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20720" y="2205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97080" y="2205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68360" y="285264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44720" y="285264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20720" y="285264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97080" y="285264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68360" y="3429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44720" y="342900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20720" y="3429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97080" y="3429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71640" y="155556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48000" y="155556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24360" y="155556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71640" y="2205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48000" y="2205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24360" y="2205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71640" y="285264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48000" y="285264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24360" y="285264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71640" y="3429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48000" y="3429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24360" y="3429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68360" y="26028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44720" y="26028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20720" y="26028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7080" y="26028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8360" y="90972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44720" y="90972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20720" y="90972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97080" y="90972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1640" y="26028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148000" y="26028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24360" y="26028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71640" y="90972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48000" y="90972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24360" y="90972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00720" y="155556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00720" y="220500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00720" y="285264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00720" y="342900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00720" y="26028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00720" y="90972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2266920" y="260280"/>
            <a:ext cx="4638600" cy="3799080"/>
          </a:xfrm>
          <a:custGeom>
            <a:avLst/>
            <a:gdLst/>
            <a:ahLst/>
            <a:rect l="l" t="t" r="r" b="b"/>
            <a:pathLst>
              <a:path w="2922" h="2393">
                <a:moveTo>
                  <a:pt x="2922" y="2393"/>
                </a:moveTo>
                <a:lnTo>
                  <a:pt x="0" y="1642"/>
                </a:lnTo>
                <a:lnTo>
                  <a:pt x="2192" y="0"/>
                </a:lnTo>
                <a:lnTo>
                  <a:pt x="2906" y="2393"/>
                </a:lnTo>
              </a:path>
            </a:pathLst>
          </a:custGeom>
          <a:solidFill>
            <a:srgbClr val="ccffff">
              <a:alpha val="46000"/>
            </a:srgbClr>
          </a:solidFill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68360" y="260280"/>
            <a:ext cx="4608720" cy="3816360"/>
          </a:xfrm>
          <a:prstGeom prst="rect">
            <a:avLst/>
          </a:prstGeom>
          <a:solidFill>
            <a:srgbClr val="ffff00">
              <a:alpha val="58000"/>
            </a:srgbClr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68360" y="4148280"/>
            <a:ext cx="503280" cy="482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85840" y="4076640"/>
            <a:ext cx="17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= 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68360" y="2924280"/>
            <a:ext cx="4608720" cy="1152360"/>
          </a:xfrm>
          <a:prstGeom prst="rtTriangle">
            <a:avLst/>
          </a:prstGeom>
          <a:solidFill>
            <a:srgbClr val="ff99cc">
              <a:alpha val="57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8360" y="4795920"/>
            <a:ext cx="503280" cy="482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184760" y="4724280"/>
            <a:ext cx="20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68360" y="5445000"/>
            <a:ext cx="503280" cy="482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268360" y="259200"/>
            <a:ext cx="3456000" cy="2592360"/>
          </a:xfrm>
          <a:prstGeom prst="rtTriangle">
            <a:avLst/>
          </a:prstGeom>
          <a:solidFill>
            <a:srgbClr val="00ff00">
              <a:alpha val="19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184400" y="5373720"/>
            <a:ext cx="22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8360" y="6093000"/>
            <a:ext cx="503280" cy="482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5795280" y="259560"/>
            <a:ext cx="1081080" cy="3816360"/>
          </a:xfrm>
          <a:prstGeom prst="rtTriangle">
            <a:avLst/>
          </a:prstGeom>
          <a:solidFill>
            <a:srgbClr val="66ffff">
              <a:alpha val="59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184760" y="6021360"/>
            <a:ext cx="20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003920" y="4508640"/>
            <a:ext cx="499824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48 – 8 – 12 – 6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014000" y="5300640"/>
            <a:ext cx="25700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i="1" lang="en-US" sz="5400" spc="-1" strike="noStrike" baseline="-25000">
                <a:solidFill>
                  <a:srgbClr val="008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5400" spc="-1" strike="noStrike">
                <a:solidFill>
                  <a:srgbClr val="008000"/>
                </a:solidFill>
                <a:latin typeface="Times New Roman"/>
              </a:rPr>
              <a:t> = </a:t>
            </a:r>
            <a:r>
              <a:rPr b="1" i="1" lang="ru-RU" sz="5400" spc="-1" strike="noStrike">
                <a:solidFill>
                  <a:srgbClr val="008000"/>
                </a:solidFill>
                <a:latin typeface="Times New Roman"/>
              </a:rPr>
              <a:t>22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8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6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0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43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1760" y="1484280"/>
            <a:ext cx="7154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ачертите прямоугольник со сторо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9 см и 4 см. Вырежьте его. Затем разрежь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этот прямоугольник на 3 прямо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так, чтобы из них можно было сост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452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95640" y="4005360"/>
            <a:ext cx="4176720" cy="21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3"/>
          <a:srcRect l="18508" t="0" r="18508" b="-1877"/>
          <a:stretch/>
        </p:blipFill>
        <p:spPr>
          <a:xfrm rot="12824400">
            <a:off x="5866560" y="3499920"/>
            <a:ext cx="1514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348000" y="981000"/>
            <a:ext cx="4753080" cy="3457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71640" y="981000"/>
            <a:ext cx="7129440" cy="3457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971640" y="981000"/>
            <a:ext cx="2376360" cy="172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71640" y="2709720"/>
            <a:ext cx="2376360" cy="172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509800" y="40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09080" y="40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0720" y="1700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4072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05080" y="6278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5.64292E-007 L 0.5198 0.25185 E">
                                      <p:cBhvr>
                                        <p:cTn id="403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64292E-007 L 0.2599 0.5037 E">
                                      <p:cBhvr>
                                        <p:cTn id="406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6000"/>
                            </p:stCondLst>
                            <p:childTnLst>
                              <p:par>
                                <p:cTn id="4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82979E-006 L 0.28594 0.84945 E">
                                      <p:cBhvr>
                                        <p:cTn id="414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79371E-006 L 0.24653 0.28307 E">
                                      <p:cBhvr>
                                        <p:cTn id="421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7192800" y="4221000"/>
            <a:ext cx="1951200" cy="26370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468360" y="47628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етодиче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вед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еометрию. 6 класс: планирование, консп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нятий / авт.-сост. И.В.Фотина. – Волгоград: Учитель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4840" y="2421000"/>
            <a:ext cx="81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tftrends.typepad.com/photos/uncategorized/2008/04/30/scissors_2.p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39280" y="206064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жниц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242100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 задумал число. Если к половине эт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бавить четверть его, то получится 1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ое число я задума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788000" y="5516640"/>
            <a:ext cx="4316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411280" y="4797360"/>
            <a:ext cx="5040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4653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51640" y="4653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2360" y="4653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4653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4653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4054680" y="2505600"/>
            <a:ext cx="457200" cy="374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063" y="94"/>
                  <a:pt x="525" y="5080"/>
                  <a:pt x="525" y="10800"/>
                </a:cubicBezTo>
                <a:cubicBezTo>
                  <a:pt x="525" y="16520"/>
                  <a:pt x="11063" y="215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4702680" y="2649960"/>
            <a:ext cx="457200" cy="504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063" y="94"/>
                  <a:pt x="525" y="5080"/>
                  <a:pt x="525" y="10800"/>
                </a:cubicBezTo>
                <a:cubicBezTo>
                  <a:pt x="525" y="16520"/>
                  <a:pt x="11063" y="215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24360" y="3500280"/>
            <a:ext cx="6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0" y="5516640"/>
            <a:ext cx="8636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4</a:t>
            </a:r>
            <a:endParaRPr b="1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68360" y="4840200"/>
            <a:ext cx="1441800" cy="2017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148428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доме 10 этажей одинак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соты. Во сколько раз лест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10 этаж длиннее, чем на 2-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63560" y="3505320"/>
            <a:ext cx="508320" cy="1320840"/>
          </a:xfrm>
          <a:custGeom>
            <a:avLst/>
            <a:gdLst/>
            <a:ahLst/>
            <a:rect l="l" t="t" r="r" b="b"/>
            <a:pathLst>
              <a:path w="320" h="832">
                <a:moveTo>
                  <a:pt x="0" y="832"/>
                </a:moveTo>
                <a:lnTo>
                  <a:pt x="288" y="272"/>
                </a:lnTo>
                <a:lnTo>
                  <a:pt x="288" y="0"/>
                </a:lnTo>
                <a:lnTo>
                  <a:pt x="96" y="256"/>
                </a:lnTo>
                <a:lnTo>
                  <a:pt x="128" y="448"/>
                </a:lnTo>
                <a:lnTo>
                  <a:pt x="320" y="256"/>
                </a:lnTo>
                <a:lnTo>
                  <a:pt x="288" y="0"/>
                </a:lnTo>
                <a:lnTo>
                  <a:pt x="16" y="16"/>
                </a:lnTo>
                <a:lnTo>
                  <a:pt x="32" y="288"/>
                </a:lnTo>
                <a:lnTo>
                  <a:pt x="96" y="256"/>
                </a:lnTo>
                <a:lnTo>
                  <a:pt x="32" y="272"/>
                </a:lnTo>
                <a:lnTo>
                  <a:pt x="48" y="736"/>
                </a:lnTo>
                <a:lnTo>
                  <a:pt x="48" y="496"/>
                </a:lnTo>
                <a:lnTo>
                  <a:pt x="128" y="432"/>
                </a:lnTo>
                <a:lnTo>
                  <a:pt x="176" y="368"/>
                </a:lnTo>
                <a:lnTo>
                  <a:pt x="128" y="208"/>
                </a:lnTo>
                <a:lnTo>
                  <a:pt x="160" y="160"/>
                </a:lnTo>
                <a:lnTo>
                  <a:pt x="224" y="352"/>
                </a:lnTo>
                <a:lnTo>
                  <a:pt x="272" y="288"/>
                </a:lnTo>
                <a:lnTo>
                  <a:pt x="192" y="112"/>
                </a:lnTo>
                <a:lnTo>
                  <a:pt x="240" y="80"/>
                </a:lnTo>
                <a:lnTo>
                  <a:pt x="288" y="256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62120" y="3317760"/>
            <a:ext cx="485640" cy="579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4114800"/>
            <a:ext cx="565200" cy="6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743200"/>
            <a:ext cx="565200" cy="6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411360"/>
            <a:ext cx="565200" cy="6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859280"/>
            <a:ext cx="565200" cy="6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-325440"/>
            <a:ext cx="1299960" cy="7284960"/>
          </a:xfrm>
          <a:custGeom>
            <a:avLst/>
            <a:gdLst/>
            <a:ahLst/>
            <a:rect l="l" t="t" r="r" b="b"/>
            <a:pathLst>
              <a:path w="819" h="4589">
                <a:moveTo>
                  <a:pt x="0" y="4557"/>
                </a:moveTo>
                <a:cubicBezTo>
                  <a:pt x="22" y="4362"/>
                  <a:pt x="45" y="4168"/>
                  <a:pt x="48" y="3869"/>
                </a:cubicBezTo>
                <a:cubicBezTo>
                  <a:pt x="51" y="3570"/>
                  <a:pt x="21" y="3181"/>
                  <a:pt x="16" y="2765"/>
                </a:cubicBezTo>
                <a:cubicBezTo>
                  <a:pt x="11" y="2349"/>
                  <a:pt x="8" y="1704"/>
                  <a:pt x="16" y="1373"/>
                </a:cubicBezTo>
                <a:cubicBezTo>
                  <a:pt x="24" y="1042"/>
                  <a:pt x="64" y="989"/>
                  <a:pt x="64" y="781"/>
                </a:cubicBezTo>
                <a:cubicBezTo>
                  <a:pt x="64" y="573"/>
                  <a:pt x="13" y="250"/>
                  <a:pt x="16" y="125"/>
                </a:cubicBezTo>
                <a:cubicBezTo>
                  <a:pt x="19" y="0"/>
                  <a:pt x="27" y="48"/>
                  <a:pt x="80" y="29"/>
                </a:cubicBezTo>
                <a:cubicBezTo>
                  <a:pt x="133" y="10"/>
                  <a:pt x="243" y="13"/>
                  <a:pt x="336" y="13"/>
                </a:cubicBezTo>
                <a:cubicBezTo>
                  <a:pt x="429" y="13"/>
                  <a:pt x="584" y="16"/>
                  <a:pt x="640" y="29"/>
                </a:cubicBezTo>
                <a:cubicBezTo>
                  <a:pt x="696" y="42"/>
                  <a:pt x="667" y="41"/>
                  <a:pt x="672" y="93"/>
                </a:cubicBezTo>
                <a:cubicBezTo>
                  <a:pt x="677" y="145"/>
                  <a:pt x="656" y="201"/>
                  <a:pt x="672" y="341"/>
                </a:cubicBezTo>
                <a:cubicBezTo>
                  <a:pt x="688" y="481"/>
                  <a:pt x="760" y="648"/>
                  <a:pt x="768" y="933"/>
                </a:cubicBezTo>
                <a:cubicBezTo>
                  <a:pt x="776" y="1218"/>
                  <a:pt x="712" y="1588"/>
                  <a:pt x="720" y="2053"/>
                </a:cubicBezTo>
                <a:cubicBezTo>
                  <a:pt x="728" y="2518"/>
                  <a:pt x="813" y="3302"/>
                  <a:pt x="816" y="3725"/>
                </a:cubicBezTo>
                <a:cubicBezTo>
                  <a:pt x="819" y="4148"/>
                  <a:pt x="753" y="4409"/>
                  <a:pt x="736" y="4589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9880" y="5537160"/>
            <a:ext cx="507960" cy="1320840"/>
          </a:xfrm>
          <a:custGeom>
            <a:avLst/>
            <a:gdLst/>
            <a:ahLst/>
            <a:rect l="l" t="t" r="r" b="b"/>
            <a:pathLst>
              <a:path w="320" h="832">
                <a:moveTo>
                  <a:pt x="0" y="832"/>
                </a:moveTo>
                <a:lnTo>
                  <a:pt x="288" y="272"/>
                </a:lnTo>
                <a:lnTo>
                  <a:pt x="288" y="0"/>
                </a:lnTo>
                <a:lnTo>
                  <a:pt x="96" y="256"/>
                </a:lnTo>
                <a:lnTo>
                  <a:pt x="128" y="448"/>
                </a:lnTo>
                <a:lnTo>
                  <a:pt x="320" y="256"/>
                </a:lnTo>
                <a:lnTo>
                  <a:pt x="288" y="0"/>
                </a:lnTo>
                <a:lnTo>
                  <a:pt x="16" y="16"/>
                </a:lnTo>
                <a:lnTo>
                  <a:pt x="32" y="288"/>
                </a:lnTo>
                <a:lnTo>
                  <a:pt x="96" y="256"/>
                </a:lnTo>
                <a:lnTo>
                  <a:pt x="32" y="272"/>
                </a:lnTo>
                <a:lnTo>
                  <a:pt x="48" y="736"/>
                </a:lnTo>
                <a:lnTo>
                  <a:pt x="48" y="496"/>
                </a:lnTo>
                <a:lnTo>
                  <a:pt x="128" y="432"/>
                </a:lnTo>
                <a:lnTo>
                  <a:pt x="176" y="368"/>
                </a:lnTo>
                <a:lnTo>
                  <a:pt x="128" y="208"/>
                </a:lnTo>
                <a:lnTo>
                  <a:pt x="160" y="160"/>
                </a:lnTo>
                <a:lnTo>
                  <a:pt x="224" y="352"/>
                </a:lnTo>
                <a:lnTo>
                  <a:pt x="272" y="288"/>
                </a:lnTo>
                <a:lnTo>
                  <a:pt x="192" y="112"/>
                </a:lnTo>
                <a:lnTo>
                  <a:pt x="240" y="80"/>
                </a:lnTo>
                <a:lnTo>
                  <a:pt x="288" y="256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463200">
            <a:off x="1862280" y="6057720"/>
            <a:ext cx="377640" cy="703080"/>
          </a:xfrm>
          <a:custGeom>
            <a:avLst/>
            <a:gdLst/>
            <a:ahLst/>
            <a:rect l="l" t="t" r="r" b="b"/>
            <a:pathLst>
              <a:path w="366" h="667">
                <a:moveTo>
                  <a:pt x="291" y="168"/>
                </a:moveTo>
                <a:cubicBezTo>
                  <a:pt x="283" y="157"/>
                  <a:pt x="259" y="104"/>
                  <a:pt x="243" y="104"/>
                </a:cubicBezTo>
                <a:cubicBezTo>
                  <a:pt x="227" y="104"/>
                  <a:pt x="184" y="147"/>
                  <a:pt x="195" y="168"/>
                </a:cubicBezTo>
                <a:cubicBezTo>
                  <a:pt x="206" y="189"/>
                  <a:pt x="280" y="240"/>
                  <a:pt x="307" y="232"/>
                </a:cubicBezTo>
                <a:cubicBezTo>
                  <a:pt x="334" y="224"/>
                  <a:pt x="347" y="149"/>
                  <a:pt x="355" y="120"/>
                </a:cubicBezTo>
                <a:cubicBezTo>
                  <a:pt x="363" y="91"/>
                  <a:pt x="366" y="75"/>
                  <a:pt x="355" y="56"/>
                </a:cubicBezTo>
                <a:cubicBezTo>
                  <a:pt x="344" y="37"/>
                  <a:pt x="312" y="16"/>
                  <a:pt x="291" y="8"/>
                </a:cubicBezTo>
                <a:cubicBezTo>
                  <a:pt x="270" y="0"/>
                  <a:pt x="248" y="0"/>
                  <a:pt x="227" y="8"/>
                </a:cubicBezTo>
                <a:cubicBezTo>
                  <a:pt x="206" y="16"/>
                  <a:pt x="182" y="29"/>
                  <a:pt x="163" y="56"/>
                </a:cubicBezTo>
                <a:cubicBezTo>
                  <a:pt x="144" y="83"/>
                  <a:pt x="118" y="133"/>
                  <a:pt x="115" y="168"/>
                </a:cubicBezTo>
                <a:cubicBezTo>
                  <a:pt x="112" y="203"/>
                  <a:pt x="128" y="237"/>
                  <a:pt x="147" y="264"/>
                </a:cubicBezTo>
                <a:cubicBezTo>
                  <a:pt x="166" y="291"/>
                  <a:pt x="206" y="285"/>
                  <a:pt x="227" y="328"/>
                </a:cubicBezTo>
                <a:cubicBezTo>
                  <a:pt x="248" y="371"/>
                  <a:pt x="278" y="469"/>
                  <a:pt x="275" y="520"/>
                </a:cubicBezTo>
                <a:cubicBezTo>
                  <a:pt x="272" y="571"/>
                  <a:pt x="235" y="608"/>
                  <a:pt x="211" y="632"/>
                </a:cubicBezTo>
                <a:cubicBezTo>
                  <a:pt x="187" y="656"/>
                  <a:pt x="158" y="667"/>
                  <a:pt x="131" y="664"/>
                </a:cubicBezTo>
                <a:cubicBezTo>
                  <a:pt x="104" y="661"/>
                  <a:pt x="72" y="637"/>
                  <a:pt x="51" y="616"/>
                </a:cubicBezTo>
                <a:cubicBezTo>
                  <a:pt x="30" y="595"/>
                  <a:pt x="0" y="568"/>
                  <a:pt x="3" y="536"/>
                </a:cubicBezTo>
                <a:cubicBezTo>
                  <a:pt x="6" y="504"/>
                  <a:pt x="38" y="435"/>
                  <a:pt x="67" y="424"/>
                </a:cubicBezTo>
                <a:cubicBezTo>
                  <a:pt x="96" y="413"/>
                  <a:pt x="163" y="451"/>
                  <a:pt x="179" y="472"/>
                </a:cubicBezTo>
                <a:cubicBezTo>
                  <a:pt x="195" y="493"/>
                  <a:pt x="179" y="536"/>
                  <a:pt x="163" y="552"/>
                </a:cubicBezTo>
                <a:cubicBezTo>
                  <a:pt x="147" y="568"/>
                  <a:pt x="96" y="576"/>
                  <a:pt x="83" y="568"/>
                </a:cubicBezTo>
                <a:cubicBezTo>
                  <a:pt x="70" y="560"/>
                  <a:pt x="83" y="517"/>
                  <a:pt x="83" y="504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38360" y="1600200"/>
            <a:ext cx="507960" cy="1320840"/>
          </a:xfrm>
          <a:custGeom>
            <a:avLst/>
            <a:gdLst/>
            <a:ahLst/>
            <a:rect l="l" t="t" r="r" b="b"/>
            <a:pathLst>
              <a:path w="320" h="832">
                <a:moveTo>
                  <a:pt x="0" y="832"/>
                </a:moveTo>
                <a:lnTo>
                  <a:pt x="288" y="272"/>
                </a:lnTo>
                <a:lnTo>
                  <a:pt x="288" y="0"/>
                </a:lnTo>
                <a:lnTo>
                  <a:pt x="96" y="256"/>
                </a:lnTo>
                <a:lnTo>
                  <a:pt x="128" y="448"/>
                </a:lnTo>
                <a:lnTo>
                  <a:pt x="320" y="256"/>
                </a:lnTo>
                <a:lnTo>
                  <a:pt x="288" y="0"/>
                </a:lnTo>
                <a:lnTo>
                  <a:pt x="16" y="16"/>
                </a:lnTo>
                <a:lnTo>
                  <a:pt x="32" y="288"/>
                </a:lnTo>
                <a:lnTo>
                  <a:pt x="96" y="256"/>
                </a:lnTo>
                <a:lnTo>
                  <a:pt x="32" y="272"/>
                </a:lnTo>
                <a:lnTo>
                  <a:pt x="48" y="736"/>
                </a:lnTo>
                <a:lnTo>
                  <a:pt x="48" y="496"/>
                </a:lnTo>
                <a:lnTo>
                  <a:pt x="128" y="432"/>
                </a:lnTo>
                <a:lnTo>
                  <a:pt x="176" y="368"/>
                </a:lnTo>
                <a:lnTo>
                  <a:pt x="128" y="208"/>
                </a:lnTo>
                <a:lnTo>
                  <a:pt x="160" y="160"/>
                </a:lnTo>
                <a:lnTo>
                  <a:pt x="224" y="352"/>
                </a:lnTo>
                <a:lnTo>
                  <a:pt x="272" y="288"/>
                </a:lnTo>
                <a:lnTo>
                  <a:pt x="192" y="112"/>
                </a:lnTo>
                <a:lnTo>
                  <a:pt x="240" y="80"/>
                </a:lnTo>
                <a:lnTo>
                  <a:pt x="288" y="256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463200">
            <a:off x="1760040" y="2120400"/>
            <a:ext cx="378000" cy="703440"/>
          </a:xfrm>
          <a:custGeom>
            <a:avLst/>
            <a:gdLst/>
            <a:ahLst/>
            <a:rect l="l" t="t" r="r" b="b"/>
            <a:pathLst>
              <a:path w="366" h="667">
                <a:moveTo>
                  <a:pt x="291" y="168"/>
                </a:moveTo>
                <a:cubicBezTo>
                  <a:pt x="283" y="157"/>
                  <a:pt x="259" y="104"/>
                  <a:pt x="243" y="104"/>
                </a:cubicBezTo>
                <a:cubicBezTo>
                  <a:pt x="227" y="104"/>
                  <a:pt x="184" y="147"/>
                  <a:pt x="195" y="168"/>
                </a:cubicBezTo>
                <a:cubicBezTo>
                  <a:pt x="206" y="189"/>
                  <a:pt x="280" y="240"/>
                  <a:pt x="307" y="232"/>
                </a:cubicBezTo>
                <a:cubicBezTo>
                  <a:pt x="334" y="224"/>
                  <a:pt x="347" y="149"/>
                  <a:pt x="355" y="120"/>
                </a:cubicBezTo>
                <a:cubicBezTo>
                  <a:pt x="363" y="91"/>
                  <a:pt x="366" y="75"/>
                  <a:pt x="355" y="56"/>
                </a:cubicBezTo>
                <a:cubicBezTo>
                  <a:pt x="344" y="37"/>
                  <a:pt x="312" y="16"/>
                  <a:pt x="291" y="8"/>
                </a:cubicBezTo>
                <a:cubicBezTo>
                  <a:pt x="270" y="0"/>
                  <a:pt x="248" y="0"/>
                  <a:pt x="227" y="8"/>
                </a:cubicBezTo>
                <a:cubicBezTo>
                  <a:pt x="206" y="16"/>
                  <a:pt x="182" y="29"/>
                  <a:pt x="163" y="56"/>
                </a:cubicBezTo>
                <a:cubicBezTo>
                  <a:pt x="144" y="83"/>
                  <a:pt x="118" y="133"/>
                  <a:pt x="115" y="168"/>
                </a:cubicBezTo>
                <a:cubicBezTo>
                  <a:pt x="112" y="203"/>
                  <a:pt x="128" y="237"/>
                  <a:pt x="147" y="264"/>
                </a:cubicBezTo>
                <a:cubicBezTo>
                  <a:pt x="166" y="291"/>
                  <a:pt x="206" y="285"/>
                  <a:pt x="227" y="328"/>
                </a:cubicBezTo>
                <a:cubicBezTo>
                  <a:pt x="248" y="371"/>
                  <a:pt x="278" y="469"/>
                  <a:pt x="275" y="520"/>
                </a:cubicBezTo>
                <a:cubicBezTo>
                  <a:pt x="272" y="571"/>
                  <a:pt x="235" y="608"/>
                  <a:pt x="211" y="632"/>
                </a:cubicBezTo>
                <a:cubicBezTo>
                  <a:pt x="187" y="656"/>
                  <a:pt x="158" y="667"/>
                  <a:pt x="131" y="664"/>
                </a:cubicBezTo>
                <a:cubicBezTo>
                  <a:pt x="104" y="661"/>
                  <a:pt x="72" y="637"/>
                  <a:pt x="51" y="616"/>
                </a:cubicBezTo>
                <a:cubicBezTo>
                  <a:pt x="30" y="595"/>
                  <a:pt x="0" y="568"/>
                  <a:pt x="3" y="536"/>
                </a:cubicBezTo>
                <a:cubicBezTo>
                  <a:pt x="6" y="504"/>
                  <a:pt x="38" y="435"/>
                  <a:pt x="67" y="424"/>
                </a:cubicBezTo>
                <a:cubicBezTo>
                  <a:pt x="96" y="413"/>
                  <a:pt x="163" y="451"/>
                  <a:pt x="179" y="472"/>
                </a:cubicBezTo>
                <a:cubicBezTo>
                  <a:pt x="195" y="493"/>
                  <a:pt x="179" y="536"/>
                  <a:pt x="163" y="552"/>
                </a:cubicBezTo>
                <a:cubicBezTo>
                  <a:pt x="147" y="568"/>
                  <a:pt x="96" y="576"/>
                  <a:pt x="83" y="568"/>
                </a:cubicBezTo>
                <a:cubicBezTo>
                  <a:pt x="70" y="560"/>
                  <a:pt x="83" y="517"/>
                  <a:pt x="83" y="504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463200">
            <a:off x="1785960" y="4025520"/>
            <a:ext cx="377640" cy="703440"/>
          </a:xfrm>
          <a:custGeom>
            <a:avLst/>
            <a:gdLst/>
            <a:ahLst/>
            <a:rect l="l" t="t" r="r" b="b"/>
            <a:pathLst>
              <a:path w="366" h="667">
                <a:moveTo>
                  <a:pt x="291" y="168"/>
                </a:moveTo>
                <a:cubicBezTo>
                  <a:pt x="283" y="157"/>
                  <a:pt x="259" y="104"/>
                  <a:pt x="243" y="104"/>
                </a:cubicBezTo>
                <a:cubicBezTo>
                  <a:pt x="227" y="104"/>
                  <a:pt x="184" y="147"/>
                  <a:pt x="195" y="168"/>
                </a:cubicBezTo>
                <a:cubicBezTo>
                  <a:pt x="206" y="189"/>
                  <a:pt x="280" y="240"/>
                  <a:pt x="307" y="232"/>
                </a:cubicBezTo>
                <a:cubicBezTo>
                  <a:pt x="334" y="224"/>
                  <a:pt x="347" y="149"/>
                  <a:pt x="355" y="120"/>
                </a:cubicBezTo>
                <a:cubicBezTo>
                  <a:pt x="363" y="91"/>
                  <a:pt x="366" y="75"/>
                  <a:pt x="355" y="56"/>
                </a:cubicBezTo>
                <a:cubicBezTo>
                  <a:pt x="344" y="37"/>
                  <a:pt x="312" y="16"/>
                  <a:pt x="291" y="8"/>
                </a:cubicBezTo>
                <a:cubicBezTo>
                  <a:pt x="270" y="0"/>
                  <a:pt x="248" y="0"/>
                  <a:pt x="227" y="8"/>
                </a:cubicBezTo>
                <a:cubicBezTo>
                  <a:pt x="206" y="16"/>
                  <a:pt x="182" y="29"/>
                  <a:pt x="163" y="56"/>
                </a:cubicBezTo>
                <a:cubicBezTo>
                  <a:pt x="144" y="83"/>
                  <a:pt x="118" y="133"/>
                  <a:pt x="115" y="168"/>
                </a:cubicBezTo>
                <a:cubicBezTo>
                  <a:pt x="112" y="203"/>
                  <a:pt x="128" y="237"/>
                  <a:pt x="147" y="264"/>
                </a:cubicBezTo>
                <a:cubicBezTo>
                  <a:pt x="166" y="291"/>
                  <a:pt x="206" y="285"/>
                  <a:pt x="227" y="328"/>
                </a:cubicBezTo>
                <a:cubicBezTo>
                  <a:pt x="248" y="371"/>
                  <a:pt x="278" y="469"/>
                  <a:pt x="275" y="520"/>
                </a:cubicBezTo>
                <a:cubicBezTo>
                  <a:pt x="272" y="571"/>
                  <a:pt x="235" y="608"/>
                  <a:pt x="211" y="632"/>
                </a:cubicBezTo>
                <a:cubicBezTo>
                  <a:pt x="187" y="656"/>
                  <a:pt x="158" y="667"/>
                  <a:pt x="131" y="664"/>
                </a:cubicBezTo>
                <a:cubicBezTo>
                  <a:pt x="104" y="661"/>
                  <a:pt x="72" y="637"/>
                  <a:pt x="51" y="616"/>
                </a:cubicBezTo>
                <a:cubicBezTo>
                  <a:pt x="30" y="595"/>
                  <a:pt x="0" y="568"/>
                  <a:pt x="3" y="536"/>
                </a:cubicBezTo>
                <a:cubicBezTo>
                  <a:pt x="6" y="504"/>
                  <a:pt x="38" y="435"/>
                  <a:pt x="67" y="424"/>
                </a:cubicBezTo>
                <a:cubicBezTo>
                  <a:pt x="96" y="413"/>
                  <a:pt x="163" y="451"/>
                  <a:pt x="179" y="472"/>
                </a:cubicBezTo>
                <a:cubicBezTo>
                  <a:pt x="195" y="493"/>
                  <a:pt x="179" y="536"/>
                  <a:pt x="163" y="552"/>
                </a:cubicBezTo>
                <a:cubicBezTo>
                  <a:pt x="147" y="568"/>
                  <a:pt x="96" y="576"/>
                  <a:pt x="83" y="568"/>
                </a:cubicBezTo>
                <a:cubicBezTo>
                  <a:pt x="70" y="560"/>
                  <a:pt x="83" y="517"/>
                  <a:pt x="83" y="504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" y="6194520"/>
            <a:ext cx="520560" cy="663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562720"/>
            <a:ext cx="444600" cy="61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01720" y="3556080"/>
            <a:ext cx="45720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lnTo>
                  <a:pt x="0" y="240"/>
                </a:lnTo>
                <a:lnTo>
                  <a:pt x="64" y="224"/>
                </a:lnTo>
                <a:lnTo>
                  <a:pt x="96" y="384"/>
                </a:lnTo>
                <a:lnTo>
                  <a:pt x="144" y="352"/>
                </a:lnTo>
                <a:lnTo>
                  <a:pt x="80" y="176"/>
                </a:lnTo>
                <a:lnTo>
                  <a:pt x="160" y="112"/>
                </a:lnTo>
                <a:lnTo>
                  <a:pt x="208" y="320"/>
                </a:lnTo>
                <a:lnTo>
                  <a:pt x="256" y="256"/>
                </a:lnTo>
                <a:lnTo>
                  <a:pt x="208" y="64"/>
                </a:lnTo>
                <a:lnTo>
                  <a:pt x="288" y="192"/>
                </a:ln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09480" y="2743200"/>
            <a:ext cx="442800" cy="603360"/>
            <a:chOff x="609480" y="2743200"/>
            <a:chExt cx="442800" cy="603360"/>
          </a:xfrm>
        </p:grpSpPr>
        <p:sp>
          <p:nvSpPr>
            <p:cNvPr id="92" name=""/>
            <p:cNvSpPr/>
            <p:nvPr/>
          </p:nvSpPr>
          <p:spPr>
            <a:xfrm>
              <a:off x="644400" y="28130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480" y="27432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0520" y="29718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8360" y="28130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128600" y="2743200"/>
            <a:ext cx="442800" cy="603360"/>
            <a:chOff x="1128600" y="2743200"/>
            <a:chExt cx="442800" cy="603360"/>
          </a:xfrm>
        </p:grpSpPr>
        <p:sp>
          <p:nvSpPr>
            <p:cNvPr id="97" name=""/>
            <p:cNvSpPr/>
            <p:nvPr/>
          </p:nvSpPr>
          <p:spPr>
            <a:xfrm>
              <a:off x="1163520" y="28130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28600" y="27432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69640" y="29718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47480" y="28130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76440" y="3435480"/>
            <a:ext cx="442800" cy="603000"/>
            <a:chOff x="676440" y="3435480"/>
            <a:chExt cx="442800" cy="603000"/>
          </a:xfrm>
        </p:grpSpPr>
        <p:sp>
          <p:nvSpPr>
            <p:cNvPr id="102" name=""/>
            <p:cNvSpPr/>
            <p:nvPr/>
          </p:nvSpPr>
          <p:spPr>
            <a:xfrm>
              <a:off x="711360" y="3504960"/>
              <a:ext cx="361800" cy="48888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6440" y="3435480"/>
              <a:ext cx="442800" cy="60300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7480" y="3663720"/>
              <a:ext cx="355680" cy="144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95320" y="3504960"/>
              <a:ext cx="1800" cy="48240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295280" y="6134040"/>
            <a:ext cx="442800" cy="603360"/>
            <a:chOff x="1295280" y="6134040"/>
            <a:chExt cx="442800" cy="603360"/>
          </a:xfrm>
        </p:grpSpPr>
        <p:sp>
          <p:nvSpPr>
            <p:cNvPr id="107" name=""/>
            <p:cNvSpPr/>
            <p:nvPr/>
          </p:nvSpPr>
          <p:spPr>
            <a:xfrm>
              <a:off x="1330200" y="620388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95280" y="613404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0066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6320" y="636264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14160" y="620388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95280" y="5486400"/>
            <a:ext cx="442800" cy="603360"/>
            <a:chOff x="1295280" y="5486400"/>
            <a:chExt cx="442800" cy="603360"/>
          </a:xfrm>
        </p:grpSpPr>
        <p:sp>
          <p:nvSpPr>
            <p:cNvPr id="112" name=""/>
            <p:cNvSpPr/>
            <p:nvPr/>
          </p:nvSpPr>
          <p:spPr>
            <a:xfrm>
              <a:off x="1330200" y="55562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5280" y="54864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36320" y="57150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14160" y="55562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85800" y="6134040"/>
            <a:ext cx="442800" cy="603360"/>
            <a:chOff x="685800" y="6134040"/>
            <a:chExt cx="442800" cy="603360"/>
          </a:xfrm>
        </p:grpSpPr>
        <p:sp>
          <p:nvSpPr>
            <p:cNvPr id="117" name=""/>
            <p:cNvSpPr/>
            <p:nvPr/>
          </p:nvSpPr>
          <p:spPr>
            <a:xfrm>
              <a:off x="720720" y="620388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5800" y="613404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6840" y="636264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4680" y="620388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01640" y="4800600"/>
            <a:ext cx="442800" cy="603360"/>
            <a:chOff x="701640" y="4800600"/>
            <a:chExt cx="442800" cy="603360"/>
          </a:xfrm>
        </p:grpSpPr>
        <p:sp>
          <p:nvSpPr>
            <p:cNvPr id="122" name=""/>
            <p:cNvSpPr/>
            <p:nvPr/>
          </p:nvSpPr>
          <p:spPr>
            <a:xfrm>
              <a:off x="736560" y="48704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1640" y="48006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2680" y="50292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20520" y="48704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220760" y="4800600"/>
            <a:ext cx="442800" cy="603360"/>
            <a:chOff x="1220760" y="4800600"/>
            <a:chExt cx="442800" cy="603360"/>
          </a:xfrm>
        </p:grpSpPr>
        <p:sp>
          <p:nvSpPr>
            <p:cNvPr id="127" name=""/>
            <p:cNvSpPr/>
            <p:nvPr/>
          </p:nvSpPr>
          <p:spPr>
            <a:xfrm>
              <a:off x="1255680" y="48704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20760" y="48006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61800" y="50292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39640" y="48704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85800" y="5486400"/>
            <a:ext cx="442800" cy="603360"/>
            <a:chOff x="685800" y="5486400"/>
            <a:chExt cx="442800" cy="603360"/>
          </a:xfrm>
        </p:grpSpPr>
        <p:sp>
          <p:nvSpPr>
            <p:cNvPr id="132" name=""/>
            <p:cNvSpPr/>
            <p:nvPr/>
          </p:nvSpPr>
          <p:spPr>
            <a:xfrm>
              <a:off x="720720" y="55562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54864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0066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6840" y="57150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04680" y="55562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195560" y="3429000"/>
            <a:ext cx="442800" cy="603360"/>
            <a:chOff x="1195560" y="3429000"/>
            <a:chExt cx="442800" cy="603360"/>
          </a:xfrm>
        </p:grpSpPr>
        <p:sp>
          <p:nvSpPr>
            <p:cNvPr id="137" name=""/>
            <p:cNvSpPr/>
            <p:nvPr/>
          </p:nvSpPr>
          <p:spPr>
            <a:xfrm>
              <a:off x="1230480" y="34988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95560" y="34290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36600" y="36576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14440" y="34988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4440" y="4114800"/>
            <a:ext cx="442800" cy="603360"/>
            <a:chOff x="1144440" y="4114800"/>
            <a:chExt cx="442800" cy="603360"/>
          </a:xfrm>
        </p:grpSpPr>
        <p:sp>
          <p:nvSpPr>
            <p:cNvPr id="142" name=""/>
            <p:cNvSpPr/>
            <p:nvPr/>
          </p:nvSpPr>
          <p:spPr>
            <a:xfrm>
              <a:off x="1179360" y="41846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44440" y="41148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85480" y="43434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63320" y="41846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11280" y="4114800"/>
            <a:ext cx="442800" cy="603360"/>
            <a:chOff x="611280" y="4114800"/>
            <a:chExt cx="442800" cy="603360"/>
          </a:xfrm>
        </p:grpSpPr>
        <p:sp>
          <p:nvSpPr>
            <p:cNvPr id="147" name=""/>
            <p:cNvSpPr/>
            <p:nvPr/>
          </p:nvSpPr>
          <p:spPr>
            <a:xfrm>
              <a:off x="646200" y="41846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1280" y="41148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2320" y="43434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0160" y="41846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0" y="762120"/>
            <a:ext cx="565200" cy="63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09480" y="762120"/>
            <a:ext cx="442800" cy="603000"/>
            <a:chOff x="609480" y="762120"/>
            <a:chExt cx="442800" cy="603000"/>
          </a:xfrm>
        </p:grpSpPr>
        <p:sp>
          <p:nvSpPr>
            <p:cNvPr id="153" name=""/>
            <p:cNvSpPr/>
            <p:nvPr/>
          </p:nvSpPr>
          <p:spPr>
            <a:xfrm>
              <a:off x="644400" y="831600"/>
              <a:ext cx="361800" cy="48888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480" y="762120"/>
              <a:ext cx="442800" cy="60300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520" y="990360"/>
              <a:ext cx="355680" cy="144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8360" y="831600"/>
              <a:ext cx="1800" cy="48240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128600" y="762120"/>
            <a:ext cx="442800" cy="603000"/>
            <a:chOff x="1128600" y="762120"/>
            <a:chExt cx="442800" cy="603000"/>
          </a:xfrm>
        </p:grpSpPr>
        <p:sp>
          <p:nvSpPr>
            <p:cNvPr id="158" name=""/>
            <p:cNvSpPr/>
            <p:nvPr/>
          </p:nvSpPr>
          <p:spPr>
            <a:xfrm>
              <a:off x="1163520" y="831600"/>
              <a:ext cx="361800" cy="48888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28600" y="762120"/>
              <a:ext cx="442800" cy="60300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69640" y="990360"/>
              <a:ext cx="355680" cy="144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47480" y="831600"/>
              <a:ext cx="1800" cy="48240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0" y="2116080"/>
            <a:ext cx="565200" cy="6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640" y="2057400"/>
            <a:ext cx="442800" cy="603360"/>
            <a:chOff x="701640" y="2057400"/>
            <a:chExt cx="442800" cy="603360"/>
          </a:xfrm>
        </p:grpSpPr>
        <p:sp>
          <p:nvSpPr>
            <p:cNvPr id="164" name=""/>
            <p:cNvSpPr/>
            <p:nvPr/>
          </p:nvSpPr>
          <p:spPr>
            <a:xfrm>
              <a:off x="736560" y="21272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1640" y="20574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2680" y="22860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20520" y="21272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220760" y="2057400"/>
            <a:ext cx="442800" cy="603360"/>
            <a:chOff x="1220760" y="2057400"/>
            <a:chExt cx="442800" cy="603360"/>
          </a:xfrm>
        </p:grpSpPr>
        <p:sp>
          <p:nvSpPr>
            <p:cNvPr id="169" name=""/>
            <p:cNvSpPr/>
            <p:nvPr/>
          </p:nvSpPr>
          <p:spPr>
            <a:xfrm>
              <a:off x="1255680" y="21272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20760" y="20574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61800" y="22860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39640" y="21272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1447920"/>
            <a:ext cx="565200" cy="63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76440" y="1454040"/>
            <a:ext cx="442800" cy="603360"/>
            <a:chOff x="676440" y="1454040"/>
            <a:chExt cx="442800" cy="603360"/>
          </a:xfrm>
        </p:grpSpPr>
        <p:sp>
          <p:nvSpPr>
            <p:cNvPr id="175" name=""/>
            <p:cNvSpPr/>
            <p:nvPr/>
          </p:nvSpPr>
          <p:spPr>
            <a:xfrm>
              <a:off x="711360" y="152388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6440" y="145404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7480" y="168264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95320" y="152388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195560" y="1447920"/>
            <a:ext cx="442800" cy="603000"/>
            <a:chOff x="1195560" y="1447920"/>
            <a:chExt cx="442800" cy="603000"/>
          </a:xfrm>
        </p:grpSpPr>
        <p:sp>
          <p:nvSpPr>
            <p:cNvPr id="180" name=""/>
            <p:cNvSpPr/>
            <p:nvPr/>
          </p:nvSpPr>
          <p:spPr>
            <a:xfrm>
              <a:off x="1230480" y="1517400"/>
              <a:ext cx="361800" cy="48888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5560" y="1447920"/>
              <a:ext cx="442800" cy="60300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36600" y="1676160"/>
              <a:ext cx="355680" cy="144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14440" y="1517400"/>
              <a:ext cx="1800" cy="48240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0"/>
            <a:ext cx="565200" cy="6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76440" y="23760"/>
            <a:ext cx="442800" cy="603360"/>
            <a:chOff x="676440" y="23760"/>
            <a:chExt cx="442800" cy="603360"/>
          </a:xfrm>
        </p:grpSpPr>
        <p:sp>
          <p:nvSpPr>
            <p:cNvPr id="186" name=""/>
            <p:cNvSpPr/>
            <p:nvPr/>
          </p:nvSpPr>
          <p:spPr>
            <a:xfrm>
              <a:off x="711360" y="9360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6440" y="2376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7480" y="25236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95320" y="9360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195560" y="17640"/>
            <a:ext cx="442800" cy="603000"/>
            <a:chOff x="1195560" y="17640"/>
            <a:chExt cx="442800" cy="603000"/>
          </a:xfrm>
        </p:grpSpPr>
        <p:sp>
          <p:nvSpPr>
            <p:cNvPr id="191" name=""/>
            <p:cNvSpPr/>
            <p:nvPr/>
          </p:nvSpPr>
          <p:spPr>
            <a:xfrm>
              <a:off x="1230480" y="87120"/>
              <a:ext cx="361800" cy="48888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95560" y="17640"/>
              <a:ext cx="442800" cy="60300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36600" y="245880"/>
              <a:ext cx="355680" cy="144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4440" y="87120"/>
              <a:ext cx="1800" cy="48240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796000" y="2708280"/>
            <a:ext cx="0" cy="39607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51640" y="6669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51640" y="2708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51640" y="623736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51640" y="580536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537372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51640" y="494172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51640" y="450864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51640" y="407664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51640" y="3645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51640" y="3213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1440" y="2495520"/>
            <a:ext cx="537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4720" y="429264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4653000"/>
            <a:ext cx="1079640" cy="172872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11640" y="4292640"/>
            <a:ext cx="30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97560" y="4572000"/>
            <a:ext cx="1055520" cy="166680"/>
          </a:xfrm>
          <a:custGeom>
            <a:avLst/>
            <a:gdLst/>
            <a:ahLst/>
            <a:rect l="l" t="t" r="r" b="b"/>
            <a:pathLst>
              <a:path w="665" h="105">
                <a:moveTo>
                  <a:pt x="0" y="0"/>
                </a:moveTo>
                <a:lnTo>
                  <a:pt x="665" y="105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84600" y="4649760"/>
            <a:ext cx="1108080" cy="1378080"/>
          </a:xfrm>
          <a:custGeom>
            <a:avLst/>
            <a:gdLst/>
            <a:ahLst/>
            <a:rect l="l" t="t" r="r" b="b"/>
            <a:pathLst>
              <a:path w="698" h="868">
                <a:moveTo>
                  <a:pt x="0" y="0"/>
                </a:moveTo>
                <a:lnTo>
                  <a:pt x="698" y="868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97560" y="4649760"/>
            <a:ext cx="1082520" cy="965160"/>
          </a:xfrm>
          <a:custGeom>
            <a:avLst/>
            <a:gdLst/>
            <a:ahLst/>
            <a:rect l="l" t="t" r="r" b="b"/>
            <a:pathLst>
              <a:path w="682" h="608">
                <a:moveTo>
                  <a:pt x="0" y="0"/>
                </a:moveTo>
                <a:lnTo>
                  <a:pt x="682" y="608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22760" y="4610160"/>
            <a:ext cx="1030320" cy="541440"/>
          </a:xfrm>
          <a:custGeom>
            <a:avLst/>
            <a:gdLst/>
            <a:ahLst/>
            <a:rect l="l" t="t" r="r" b="b"/>
            <a:pathLst>
              <a:path w="649" h="341">
                <a:moveTo>
                  <a:pt x="0" y="0"/>
                </a:moveTo>
                <a:lnTo>
                  <a:pt x="649" y="341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2360" y="3425760"/>
            <a:ext cx="990720" cy="1120680"/>
          </a:xfrm>
          <a:custGeom>
            <a:avLst/>
            <a:gdLst/>
            <a:ahLst/>
            <a:rect l="l" t="t" r="r" b="b"/>
            <a:pathLst>
              <a:path w="624" h="706">
                <a:moveTo>
                  <a:pt x="0" y="706"/>
                </a:moveTo>
                <a:lnTo>
                  <a:pt x="624" y="0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37160" y="3851280"/>
            <a:ext cx="1015920" cy="708120"/>
          </a:xfrm>
          <a:custGeom>
            <a:avLst/>
            <a:gdLst/>
            <a:ahLst/>
            <a:rect l="l" t="t" r="r" b="b"/>
            <a:pathLst>
              <a:path w="640" h="446">
                <a:moveTo>
                  <a:pt x="0" y="446"/>
                </a:moveTo>
                <a:lnTo>
                  <a:pt x="640" y="0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37160" y="4302000"/>
            <a:ext cx="1003320" cy="282600"/>
          </a:xfrm>
          <a:custGeom>
            <a:avLst/>
            <a:gdLst/>
            <a:ahLst/>
            <a:rect l="l" t="t" r="r" b="b"/>
            <a:pathLst>
              <a:path w="632" h="178">
                <a:moveTo>
                  <a:pt x="0" y="178"/>
                </a:moveTo>
                <a:lnTo>
                  <a:pt x="632" y="0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10160" y="2987640"/>
            <a:ext cx="1069920" cy="1558800"/>
          </a:xfrm>
          <a:custGeom>
            <a:avLst/>
            <a:gdLst/>
            <a:ahLst/>
            <a:rect l="l" t="t" r="r" b="b"/>
            <a:pathLst>
              <a:path w="674" h="982">
                <a:moveTo>
                  <a:pt x="0" y="982"/>
                </a:moveTo>
                <a:lnTo>
                  <a:pt x="674" y="0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443640" y="3860640"/>
            <a:ext cx="2305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 9 раз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92360" y="198900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написать число 100 пятью единиц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51280" y="2997360"/>
            <a:ext cx="158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00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619280" y="4292640"/>
            <a:ext cx="604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11 - 11 = 100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836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920" y="476280"/>
            <a:ext cx="1873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1-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0680" y="1557360"/>
            <a:ext cx="721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Вычислить площадь закрашенной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ет ли здесь лишних дан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411280" y="3068640"/>
            <a:ext cx="5040360" cy="25210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11280" y="3716280"/>
            <a:ext cx="3600720" cy="577800"/>
          </a:xfrm>
          <a:prstGeom prst="rect">
            <a:avLst/>
          </a:prstGeom>
          <a:solidFill>
            <a:srgbClr val="fcff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40000" y="3716280"/>
            <a:ext cx="216000" cy="577800"/>
          </a:xfrm>
          <a:prstGeom prst="rect">
            <a:avLst/>
          </a:prstGeom>
          <a:solidFill>
            <a:srgbClr val="fcf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411280" y="2565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7451640" y="249192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411280" y="551628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012000" y="4292280"/>
            <a:ext cx="0" cy="18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908000" y="429264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908000" y="371628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908000" y="558972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092720" y="3068640"/>
            <a:ext cx="93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11280" y="2852640"/>
            <a:ext cx="504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97280" y="2441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11280" y="5805360"/>
            <a:ext cx="360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25800" y="573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019640" y="5589720"/>
            <a:ext cx="93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67640" y="3068640"/>
            <a:ext cx="0" cy="2521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69080" y="414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95640" y="4292640"/>
            <a:ext cx="0" cy="1297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95640" y="3716280"/>
            <a:ext cx="0" cy="577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65080" y="465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6544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59280" y="3860640"/>
            <a:ext cx="2016360" cy="1635120"/>
          </a:xfrm>
          <a:custGeom>
            <a:avLst/>
            <a:gdLst>
              <a:gd name="textAreaLeft" fmla="*/ 460080 w 2016360"/>
              <a:gd name="textAreaRight" fmla="*/ 1556280 w 2016360"/>
              <a:gd name="textAreaTop" fmla="*/ 373320 h 1635120"/>
              <a:gd name="textAreaBottom" fmla="*/ 1261800 h 163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50920" y="476280"/>
            <a:ext cx="1873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1-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0680" y="1557360"/>
            <a:ext cx="721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Вычислить площадь закрашенной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ет ли здесь лишних дан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411280" y="3068640"/>
            <a:ext cx="5040360" cy="252108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3645000"/>
            <a:ext cx="3600360" cy="1368360"/>
          </a:xfrm>
          <a:prstGeom prst="rect">
            <a:avLst/>
          </a:prstGeom>
          <a:solidFill>
            <a:srgbClr val="fcff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411280" y="2565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7451640" y="249192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516720" y="364500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443280" y="5013360"/>
            <a:ext cx="158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908000" y="558972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908000" y="306864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11280" y="2852640"/>
            <a:ext cx="504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97280" y="2441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195640" y="3068640"/>
            <a:ext cx="0" cy="2521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5080" y="407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9280" y="4797360"/>
            <a:ext cx="360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5080" y="436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67640" y="364500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69080" y="414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40000" y="3284640"/>
            <a:ext cx="2016000" cy="1635120"/>
          </a:xfrm>
          <a:custGeom>
            <a:avLst/>
            <a:gdLst>
              <a:gd name="textAreaLeft" fmla="*/ 460080 w 2016000"/>
              <a:gd name="textAreaRight" fmla="*/ 1555920 w 2016000"/>
              <a:gd name="textAreaTop" fmla="*/ 373320 h 1635120"/>
              <a:gd name="textAreaBottom" fmla="*/ 1261800 h 163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6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1800" y="1557360"/>
            <a:ext cx="68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Какова площадь заштрихованной ча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11280" y="3068640"/>
            <a:ext cx="5040360" cy="25210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411280" y="3068640"/>
            <a:ext cx="5040360" cy="25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08400" y="3090960"/>
            <a:ext cx="5010120" cy="2498760"/>
          </a:xfrm>
          <a:custGeom>
            <a:avLst/>
            <a:gdLst/>
            <a:ahLst/>
            <a:rect l="l" t="t" r="r" b="b"/>
            <a:pathLst>
              <a:path w="3156" h="1574">
                <a:moveTo>
                  <a:pt x="0" y="1574"/>
                </a:moveTo>
                <a:lnTo>
                  <a:pt x="315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32360" y="3068640"/>
            <a:ext cx="71280" cy="2495520"/>
          </a:xfrm>
          <a:custGeom>
            <a:avLst/>
            <a:gdLst/>
            <a:ahLst/>
            <a:rect l="l" t="t" r="r" b="b"/>
            <a:pathLst>
              <a:path w="1" h="1599">
                <a:moveTo>
                  <a:pt x="0" y="0"/>
                </a:moveTo>
                <a:lnTo>
                  <a:pt x="0" y="159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5580000" y="2420640"/>
            <a:ext cx="1224000" cy="251928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2410560" y="3068640"/>
            <a:ext cx="2521080" cy="25210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2410560" y="3068640"/>
            <a:ext cx="2521080" cy="25210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3023280" y="3680640"/>
            <a:ext cx="1224000" cy="2448000"/>
          </a:xfrm>
          <a:prstGeom prst="rtTriangle">
            <a:avLst/>
          </a:prstGeom>
          <a:blipFill rotWithShape="0">
            <a:blip r:embed="rId6"/>
            <a:srcRect/>
            <a:tile tx="0" ty="0" sx="100000" sy="100000" algn="ctr"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 rot="16200000">
            <a:off x="3023280" y="2456640"/>
            <a:ext cx="1224000" cy="244800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908000" y="306864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411280" y="2565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932360" y="249192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451640" y="2565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5640" y="306864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11280" y="2852640"/>
            <a:ext cx="2521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32360" y="2852640"/>
            <a:ext cx="2519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763640" y="436572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95640" y="4292640"/>
            <a:ext cx="0" cy="1297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 rot="16200000">
            <a:off x="3023280" y="2456640"/>
            <a:ext cx="1224000" cy="2448000"/>
          </a:xfrm>
          <a:prstGeom prst="rtTriangle">
            <a:avLst/>
          </a:prstGeom>
          <a:blipFill rotWithShape="0">
            <a:blip r:embed="rId8"/>
            <a:srcRect/>
            <a:tile tx="0" ty="0" sx="100000" sy="100000" algn="ctr"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5580000" y="2420640"/>
            <a:ext cx="1224000" cy="2519280"/>
          </a:xfrm>
          <a:prstGeom prst="rtTriangle">
            <a:avLst/>
          </a:prstGeom>
          <a:blipFill rotWithShape="0">
            <a:blip r:embed="rId9"/>
            <a:srcRect/>
            <a:tile tx="0" ty="0" sx="100000" sy="100000" algn="ctr"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411280" y="3068640"/>
            <a:ext cx="2522160" cy="2521080"/>
            <a:chOff x="2411280" y="3068640"/>
            <a:chExt cx="2522160" cy="2521080"/>
          </a:xfrm>
        </p:grpSpPr>
        <p:sp>
          <p:nvSpPr>
            <p:cNvPr id="306" name=""/>
            <p:cNvSpPr/>
            <p:nvPr/>
          </p:nvSpPr>
          <p:spPr>
            <a:xfrm flipH="1">
              <a:off x="2773080" y="4077000"/>
              <a:ext cx="93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5400000">
              <a:off x="2412000" y="3068640"/>
              <a:ext cx="2521080" cy="2521080"/>
            </a:xfrm>
            <a:prstGeom prst="triangle">
              <a:avLst>
                <a:gd name="adj" fmla="val 50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11280" y="4334040"/>
              <a:ext cx="2497320" cy="25560"/>
            </a:xfrm>
            <a:custGeom>
              <a:avLst/>
              <a:gdLst/>
              <a:ahLst/>
              <a:rect l="l" t="t" r="r" b="b"/>
              <a:pathLst>
                <a:path w="1573" h="16">
                  <a:moveTo>
                    <a:pt x="1573" y="0"/>
                  </a:moveTo>
                  <a:lnTo>
                    <a:pt x="0" y="1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H="1">
            <a:off x="1763640" y="558972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94160" y="2421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93800" y="350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41800" y="2421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93800" y="465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1280" y="3068640"/>
            <a:ext cx="2521080" cy="1297080"/>
          </a:xfrm>
          <a:prstGeom prst="rect">
            <a:avLst/>
          </a:prstGeom>
          <a:solidFill>
            <a:srgbClr val="ccffcc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90400" y="580536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20 : 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= 3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18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18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9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29417E-006 L 0.27569 0.00532 E">
                                      <p:cBhvr>
                                        <p:cTn id="206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20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04320" y="1628640"/>
            <a:ext cx="674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Вычислить площадь тре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ридумать способ вычисления площ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рямоугольного тре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08000" y="3429000"/>
            <a:ext cx="4464360" cy="2879640"/>
          </a:xfrm>
          <a:prstGeom prst="rtTriangl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10800000">
            <a:off x="1907640" y="3428640"/>
            <a:ext cx="4464360" cy="2879640"/>
          </a:xfrm>
          <a:prstGeom prst="rtTriangle">
            <a:avLst/>
          </a:prstGeom>
          <a:solidFill>
            <a:srgbClr val="ffc9e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04360" y="4626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81080" y="6278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019280" y="350028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20560" y="4022640"/>
            <a:ext cx="3658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5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b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0680" y="1557360"/>
            <a:ext cx="636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айдите площадь треугольника, е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лощадь каждой клетки 1 см</a:t>
            </a:r>
            <a:r>
              <a:rPr b="1" lang="en-US" sz="2800" spc="-1" strike="noStrike" baseline="30000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79640" y="400356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0356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32000" y="400356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400356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79640" y="4653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56000" y="465300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132000" y="4653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08360" y="4653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79640" y="530064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56000" y="530064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2000" y="530064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530064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79640" y="5877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556000" y="587700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32000" y="5877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08360" y="5877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82920" y="400356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859280" y="400356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5640" y="400356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282920" y="4653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59280" y="4653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435640" y="4653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282920" y="530064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859280" y="530064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435640" y="530064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282920" y="5877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859280" y="5877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435640" y="5877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79640" y="270828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56000" y="270828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132000" y="270828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708360" y="270828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79640" y="335772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56000" y="335772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32000" y="335772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08360" y="335772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2920" y="270828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859280" y="270828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35640" y="270828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82920" y="335772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859280" y="335772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35640" y="335772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12000" y="400356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2000" y="465300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12000" y="530064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12000" y="587700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12000" y="270828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2000" y="335772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969920" y="2717640"/>
            <a:ext cx="4637160" cy="3799080"/>
          </a:xfrm>
          <a:custGeom>
            <a:avLst/>
            <a:gdLst/>
            <a:ahLst/>
            <a:rect l="l" t="t" r="r" b="b"/>
            <a:pathLst>
              <a:path w="2921" h="2393">
                <a:moveTo>
                  <a:pt x="2921" y="2393"/>
                </a:moveTo>
                <a:lnTo>
                  <a:pt x="0" y="1614"/>
                </a:lnTo>
                <a:lnTo>
                  <a:pt x="2191" y="0"/>
                </a:lnTo>
                <a:lnTo>
                  <a:pt x="2905" y="2393"/>
                </a:lnTo>
              </a:path>
            </a:pathLst>
          </a:custGeom>
          <a:solidFill>
            <a:srgbClr val="ccffff">
              <a:alpha val="46000"/>
            </a:srgbClr>
          </a:solidFill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44:27Z</dcterms:created>
  <dc:creator>Мама</dc:creator>
  <dc:description/>
  <dc:language>en-US</dc:language>
  <cp:lastModifiedBy>Мама</cp:lastModifiedBy>
  <dcterms:modified xsi:type="dcterms:W3CDTF">2013-06-13T12:04:33Z</dcterms:modified>
  <cp:revision>15</cp:revision>
  <dc:subject/>
  <dc:title>Слайд 1</dc:title>
</cp:coreProperties>
</file>