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5623-C010-4A21-B54E-9EC191E338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5D8-D62B-4C17-9992-B498C549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EB0-4845-4E34-A180-1449BF89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970-1D93-426E-B1DC-B8AD707E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4F5-434D-451A-9D9F-38011F96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47DA-6167-4D4A-BDFE-E061FF61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DF1-DDBE-4BD7-B60B-37C1695C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D5F2-A915-43B4-9675-9ACD958A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833-C2EA-4874-92D8-D43EA7DB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9A4-955B-440D-BAC3-62C9EE1D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B78-1366-4787-A82F-D5AD8174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92EA-B92E-4B3E-A3E5-B519C265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2D1-9EFA-4F00-BDF5-02EEF504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144A-C2B2-48F9-857C-74E175C76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text=&#1084;&#1103;&#1095;&amp;fp=2&amp;pos=62&amp;uinfo=ww-1263-wh-856-fw-1038-fh-598-pd-1&amp;rpt=simage&amp;img_url=http%3A%2F%2Fstatic.vmurmanske.ru%2Fserverdata%2Fnews_info%2F2010%2F12%2F07%2F768885%2FimgFull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yandex.ru/yandsearch?p=1&amp;text=&#1084;&#1072;&#1085;&#1080;&#1096;&#1082;&#1080;&amp;fp=1&amp;pos=56&amp;uinfo=ww-1263-wh-856-fw-1038-fh-598-pd-1&amp;rpt=simage&amp;img_url=http%3A%2F%2Fwww.fanshop.ru%2Fgoods_pictures%2FManishka-Umbro-green-d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685800" y="1095840"/>
            <a:ext cx="10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Футбол. Освоение техники приёма и передачи мяч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8800" y="1522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 – конспект урок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40640" y="536400"/>
            <a:ext cx="10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71040"/>
            <a:ext cx="90345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Тип урока -  Образовательно-тренировочной направлен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Цель: Развитие интереса к спортивным играм посредство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двигательного и коммуникативного опыта обучающихся в спортивно-игровой деятель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304920"/>
          <a:ext cx="9143640" cy="6503760"/>
        </p:xfrm>
        <a:graphic>
          <a:graphicData uri="http://schemas.openxmlformats.org/drawingml/2006/table">
            <a:tbl>
              <a:tblPr/>
              <a:tblGrid>
                <a:gridCol w="1752120"/>
                <a:gridCol w="1085400"/>
                <a:gridCol w="1108800"/>
                <a:gridCol w="1438200"/>
                <a:gridCol w="1181160"/>
                <a:gridCol w="1223280"/>
                <a:gridCol w="1354680"/>
              </a:tblGrid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ап «Домашнее задание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ясняет сущность домашнего за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оставляет выбор разноуровневых заданий с использованием учебника и дополнительных источников информаци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уровень – прочитать текст учебника, найти дополнительную информацию по тем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уровень (повышенный) – составить комплекс упражнений  с мячом для усвоения техники приема и передачи мя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стоятельно выбирают уровень для выполнения домашнего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лять актуализацию полученных знаний в соответствии с уровнем усво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ют дома с текс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ысловое чт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уют свои действия в соответствии с самооценк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декватно осуществлять самооце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89320" y="168120"/>
            <a:ext cx="747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ователь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Познакомить с понятием «спортивные игры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Формирование задатков и склонностей к спортивной игре футб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Освоить технику приёма и передачи мя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77240"/>
            <a:ext cx="9269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вающи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Формировать умения  обучающихся взаимодействовать со сверстниками  в игров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Развивать умение контролировать и давать оценку своим двигательным действ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питатель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ть умение проявлять дисциплинированность, ответственность, упорство в достижении поставленной ц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1560" y="152280"/>
            <a:ext cx="824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сто проведени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школьная площ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ремя урок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вентарь и оборудование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ячи футбольные, фишки, стойки, мани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133720"/>
            <a:ext cx="2641320" cy="2762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133720"/>
            <a:ext cx="2752560" cy="3371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8600" y="685800"/>
          <a:ext cx="8610480" cy="4647960"/>
        </p:xfrm>
        <a:graphic>
          <a:graphicData uri="http://schemas.openxmlformats.org/drawingml/2006/table">
            <a:tbl>
              <a:tblPr/>
              <a:tblGrid>
                <a:gridCol w="2012760"/>
                <a:gridCol w="2257560"/>
                <a:gridCol w="4340160"/>
              </a:tblGrid>
              <a:tr h="13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 Футбол. Освоение техники приёма и передачи мяч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 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витие интереса к спортивным играм и универсальных способностей посредством двигательного и коммуникативного опыта обучающихся в спортивно-игровой деятель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уемый                     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метные ум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9480" y="372960"/>
          <a:ext cx="7848720" cy="6103800"/>
        </p:xfrm>
        <a:graphic>
          <a:graphicData uri="http://schemas.openxmlformats.org/drawingml/2006/table">
            <a:tbl>
              <a:tblPr/>
              <a:tblGrid>
                <a:gridCol w="1835280"/>
                <a:gridCol w="2057400"/>
                <a:gridCol w="3956040"/>
              </a:tblGrid>
              <a:tr h="330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уемый                     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метные ум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обучение технике выполнения приема и передачи мяча стоя, в движении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 формирование умения выполнения нормативов физической подготовки по баскетбол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остные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 формирование положительного отношения к занятиям двигательной деятельностью для удовлетворения индивидуальных интересов и потребностей, достижения личностно значимых результатов в физическом совершенств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: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ние оценивать правильность выполнения учебной задачи,  собственные возможности её реш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владение основами самоконтроля, самооценки, принятия решений и осуществления осознанного выбора в учебной и познавательн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ые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ладения знаниями об индивидуальных особенностях физического развития и физической подготовки в соответствии с возрастным норматив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владение знаниями об особенностях индивидуального здоровья и о функциональных возможностях организма, способах профилактики перенапряжения средствами физической культу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тивные: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владение умением оценивать ситуацию и оперативно принимать решения, находить адекватные способы поведения и взаимодействия с партнерами во время учебной и игровой деятельност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ые пон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ика игры, приём мяча, передача мя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66680" y="380880"/>
          <a:ext cx="7007400" cy="5865840"/>
        </p:xfrm>
        <a:graphic>
          <a:graphicData uri="http://schemas.openxmlformats.org/drawingml/2006/table">
            <a:tbl>
              <a:tblPr/>
              <a:tblGrid>
                <a:gridCol w="2298960"/>
                <a:gridCol w="2444760"/>
                <a:gridCol w="22636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простран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предметные связ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сур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ология, 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ая,  групповая (в парах, тройках), фронтальна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1.Авторы: доктор педагогических наук В.И.Лях, кандидат педагогических наук А.А.Здане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Физическая культура 8-9 классы, Учебник для общеобразовательных учреждений под редакцией В.И.Ля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Рекомендовано Министерством образования и науки Российской Федерации, 6-е издание, Москва «Просвещение» 20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2. Авторы-составители: М.В. Видякин, В.И. Виненк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44444"/>
                          </a:solidFill>
                          <a:latin typeface="Times New Roman"/>
                          <a:ea typeface="Times New Roman"/>
                        </a:rPr>
                        <a:t>Физическая культура 8-9  классы, «Физкультура. Поурочные план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дательство «Учитель», Волгогра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63640" y="1512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ы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52560" y="2973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685800"/>
          <a:ext cx="8305920" cy="2481120"/>
        </p:xfrm>
        <a:graphic>
          <a:graphicData uri="http://schemas.openxmlformats.org/drawingml/2006/table">
            <a:tbl>
              <a:tblPr/>
              <a:tblGrid>
                <a:gridCol w="1447920"/>
                <a:gridCol w="1185840"/>
                <a:gridCol w="1030320"/>
                <a:gridCol w="1179360"/>
                <a:gridCol w="1030320"/>
                <a:gridCol w="1179360"/>
                <a:gridCol w="1252800"/>
              </a:tblGrid>
              <a:tr h="736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мые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способ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мые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способ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мые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мые способ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57200" y="3124080"/>
          <a:ext cx="8305920" cy="3389400"/>
        </p:xfrm>
        <a:graphic>
          <a:graphicData uri="http://schemas.openxmlformats.org/drawingml/2006/table">
            <a:tbl>
              <a:tblPr/>
              <a:tblGrid>
                <a:gridCol w="1461960"/>
                <a:gridCol w="1198800"/>
                <a:gridCol w="1041120"/>
                <a:gridCol w="1190880"/>
                <a:gridCol w="1044360"/>
                <a:gridCol w="1189080"/>
                <a:gridCol w="1179720"/>
              </a:tblGrid>
              <a:tr h="3654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й этап «Организационно-мотивационны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т план урока, организует беседу, которая помогает обучающимся сформулировать цели и задачи на у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ятся с планом, принимают участие в беседе, формулируют 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ть путь достижения цели, ставить познавательные зада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уют с учителем во время беседы, осуществляемой во фронтальном режи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ть собеседника, строить высказы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имают решения и осуществляют выбор в учебной и познавательной деятельност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планировать свою деятельность в соответствии с целевой установкой, высказывать мнения по существу полученного за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9144000" cy="4898880"/>
        </p:xfrm>
        <a:graphic>
          <a:graphicData uri="http://schemas.openxmlformats.org/drawingml/2006/table">
            <a:tbl>
              <a:tblPr/>
              <a:tblGrid>
                <a:gridCol w="1609560"/>
                <a:gridCol w="1317960"/>
                <a:gridCol w="1149120"/>
                <a:gridCol w="1311480"/>
                <a:gridCol w="1145880"/>
                <a:gridCol w="1312920"/>
                <a:gridCol w="1297080"/>
              </a:tblGrid>
              <a:tr h="11545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й этап «Осмыслени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еория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ганизует воспроизведение и коррекцию опорных знаний обучающихс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проведение проверки знаний по предупреждению травматизма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даёт первоначальные знания по игре в футб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актика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монстрация техники выполнения приема и передачи мяча стоя, в дви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ют на вопросы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повтор упражнений за учител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ть актуализацию полученных ранее знаний, основываясь, в том числе, и на жизненном опы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ют правильность выполнения учебной задачи,  собственные возможности её ре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ют речевые средства для выполнен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ят адекватные способы поведения и взаимодействия с партнерами во время учебной и игров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контроль правильности ответов на вопрос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контроль правильности выполнения упражн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ть самоконтроль, выявлять отклонения от этало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ть самоконтроль и самооцен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380880"/>
          <a:ext cx="8915400" cy="6442200"/>
        </p:xfrm>
        <a:graphic>
          <a:graphicData uri="http://schemas.openxmlformats.org/drawingml/2006/table">
            <a:tbl>
              <a:tblPr/>
              <a:tblGrid>
                <a:gridCol w="1735200"/>
                <a:gridCol w="1181160"/>
                <a:gridCol w="1015920"/>
                <a:gridCol w="1206360"/>
                <a:gridCol w="1033560"/>
                <a:gridCol w="1579680"/>
                <a:gridCol w="1163520"/>
              </a:tblGrid>
              <a:tr h="398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й этап «Рефлекси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6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ет вопросы по теоретической части уро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агает определить уровень своих достиже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 малоподвижную игру на 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чают на поставленные вопросы, играют в иг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ение комплексного анализа свое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ют на вопросы, играют в игру, обсуждают предложенные вопрос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кватные способы поведения и взаимодействия с партнерами во время учебной и игров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ют взаимоконтроль процесса выполнения заданий, прослушивают ответ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ют уровень собственн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го состояния на уро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имать и осуществлять учебную задачу, планировать свои действия, вносить необходимые коррективы в действие после его завершения на основе оценки и учёта сделанных ошиб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ть итоговый и пошаговый контроль по результату</a:t>
                      </a: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-893880" y="697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14:55:12Z</dcterms:created>
  <dc:creator>Глеб</dc:creator>
  <dc:description/>
  <dc:language>en-US</dc:language>
  <cp:lastModifiedBy>Глеб</cp:lastModifiedBy>
  <dcterms:modified xsi:type="dcterms:W3CDTF">2013-11-19T15:36:3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