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E2D-4ED9-4459-93D3-32B229407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BFD-E7D3-43ED-8366-C8004127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E27-2D82-4C4C-BAC1-A8A77EC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286-296B-424B-9106-9B0A55EA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CF7-E9BC-43BC-BA80-FC3BB909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B05-DE9D-4B57-9596-B43299D5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247-5B6B-4213-9954-A20481AA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9A0-F89A-404F-BAA9-B3E0CAC5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F5F-65FA-43DC-9694-B2497C37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F4F-68BA-4414-A7A8-4F12E48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833-326E-42AE-8B9C-9AA5C5DE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7F8-E825-4266-B9C3-8BD5A3D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FC7-15D9-42FB-8BAC-90F11B8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0580-D7FD-4A4A-A937-1D915837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4;&#1103;&#1095;&amp;fp=2&amp;pos=62&amp;uinfo=ww-1263-wh-856-fw-1038-fh-598-pd-1&amp;rpt=simage&amp;img_url=http%3A%2F%2Fstatic.vmurmanske.ru%2Fserverdata%2Fnews_info%2F2010%2F12%2F07%2F768885%2FimgFul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p=1&amp;text=&#1084;&#1072;&#1085;&#1080;&#1096;&#1082;&#1080;&amp;fp=1&amp;pos=56&amp;uinfo=ww-1263-wh-856-fw-1038-fh-598-pd-1&amp;rpt=simage&amp;img_url=http%3A%2F%2Fwww.fanshop.ru%2Fgoods_pictures%2FManishka-Umbro-green-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685800" y="1095840"/>
            <a:ext cx="10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Футбол. Освоение техники приёма и передачи мяч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8800" y="152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– конспект уро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0640" y="53640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71040"/>
            <a:ext cx="90345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Тип урока -  Образовательно-тренировочной направлен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Цель: Развитие интереса к спортивным играм посредств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вигательного и коммуникативного опыта обучающихся в спортивно-игров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04920"/>
          <a:ext cx="9143640" cy="6503760"/>
        </p:xfrm>
        <a:graphic>
          <a:graphicData uri="http://schemas.openxmlformats.org/drawingml/2006/table">
            <a:tbl>
              <a:tblPr/>
              <a:tblGrid>
                <a:gridCol w="1752120"/>
                <a:gridCol w="1085400"/>
                <a:gridCol w="1108800"/>
                <a:gridCol w="1438200"/>
                <a:gridCol w="1181160"/>
                <a:gridCol w="1223280"/>
                <a:gridCol w="13546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«Домашнее задан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сняет сущность домашнего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оставляет выбор разноуровневых заданий с использованием учебника и дополнительных источников информа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прочитать текст учебника, найти дополнительную информацию по т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(повышенный) – составить комплекс упражнений  с мячом для усвоения техники приема и передачи мя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 выбирают уровень для выполнения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ть актуализацию полученных знаний в соответствии с уровнем усво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ют дома с тек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ысловое 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ют свои действия в соответствии с самооцен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екватно осуществлять самооце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89320" y="168120"/>
            <a:ext cx="747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ознакомить с понятием «спортивные игр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Формирование задатков и склонностей к спортивной игре футб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Освоить технику приёма и передачи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7240"/>
            <a:ext cx="926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ва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Формировать умения  обучающихся взаимодействовать со сверстниками  в игров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Развивать умение контролировать и давать оценку своим двигательным дей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мение проявлять дисциплинированность, ответственность, упорство в достижении поставленной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1560" y="152280"/>
            <a:ext cx="824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 проведени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школьная площ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вентарь и оборудова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чи футбольные, фишки, стойки, м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641320" cy="276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133720"/>
            <a:ext cx="2752560" cy="337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685800"/>
          <a:ext cx="8610480" cy="4647960"/>
        </p:xfrm>
        <a:graphic>
          <a:graphicData uri="http://schemas.openxmlformats.org/drawingml/2006/table">
            <a:tbl>
              <a:tblPr/>
              <a:tblGrid>
                <a:gridCol w="2012760"/>
                <a:gridCol w="2257560"/>
                <a:gridCol w="4340160"/>
              </a:tblGrid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 Футбол. Освоение техники приёма и передачи мяч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интереса к спортивным играм и универсальных способностей посредством двигательного и коммуникативного опыта обучающихся в спортивно-игров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й                     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 у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372960"/>
          <a:ext cx="7848720" cy="6103800"/>
        </p:xfrm>
        <a:graphic>
          <a:graphicData uri="http://schemas.openxmlformats.org/drawingml/2006/table">
            <a:tbl>
              <a:tblPr/>
              <a:tblGrid>
                <a:gridCol w="1835280"/>
                <a:gridCol w="2057400"/>
                <a:gridCol w="3956040"/>
              </a:tblGrid>
              <a:tr h="33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й                    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 у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бучение технике выполнения приема и передачи мяча стоя, в движении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формирование умения выполнения нормативов физической подготовки по баскетбол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формирование положительного отношения к занятиям двигательной деятельностью для удовлетворения индивидуальных интересов и потребностей, достижения личностно значимых результатов в физическом соверше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е оценивать правильность выполнения учебной задачи,  собственные возможности её реш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владение основами самоконтроля, самооценки, принятия решений и осуществления осознанного выбора в учебной и познаватель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ладения знаниями об индивидуальных особенностях физического развития и физической подготовки в соответствии с возрастным норматив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ладение знаниями об особенностях индивидуального здоровья и о функциональных возможностях организма, способах профилактики перенапряжения средствами физической культ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: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владение умением оценивать ситуацию и оперативно принимать решения, находить адекватные способы поведения и взаимодействия с партнерами во время учебной и игровой деятельност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ика игры, приём мяча, передача мя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6680" y="380880"/>
          <a:ext cx="7007400" cy="5865840"/>
        </p:xfrm>
        <a:graphic>
          <a:graphicData uri="http://schemas.openxmlformats.org/drawingml/2006/table">
            <a:tbl>
              <a:tblPr/>
              <a:tblGrid>
                <a:gridCol w="2298960"/>
                <a:gridCol w="2444760"/>
                <a:gridCol w="2263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простр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предметные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,  групповая (в парах, тройках), фронтальн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1.Авторы: доктор педагогических наук В.И.Лях, кандидат педагогических наук А.А.Здан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Физическая культура 8-9 классы, Учебник для общеобразовательных учреждений под редакцией В.И.Ля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екомендовано Министерством образования и науки Российской Федерации, 6-е издание, Москва «Просвещение» 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2. Авторы-составители: М.В. Видякин, В.И. Виненк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Физическая культура 8-9  классы, «Физкультура. Поурочные пла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дательство «Учитель», Волгогр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63640" y="1512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52560" y="297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305920" cy="2481120"/>
        </p:xfrm>
        <a:graphic>
          <a:graphicData uri="http://schemas.openxmlformats.org/drawingml/2006/table">
            <a:tbl>
              <a:tblPr/>
              <a:tblGrid>
                <a:gridCol w="1447920"/>
                <a:gridCol w="1185840"/>
                <a:gridCol w="1030320"/>
                <a:gridCol w="1179360"/>
                <a:gridCol w="1030320"/>
                <a:gridCol w="1179360"/>
                <a:gridCol w="1252800"/>
              </a:tblGrid>
              <a:tr h="736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57200" y="3124080"/>
          <a:ext cx="8305920" cy="3389400"/>
        </p:xfrm>
        <a:graphic>
          <a:graphicData uri="http://schemas.openxmlformats.org/drawingml/2006/table">
            <a:tbl>
              <a:tblPr/>
              <a:tblGrid>
                <a:gridCol w="1461960"/>
                <a:gridCol w="1198800"/>
                <a:gridCol w="1041120"/>
                <a:gridCol w="1190880"/>
                <a:gridCol w="1044360"/>
                <a:gridCol w="1189080"/>
                <a:gridCol w="1179720"/>
              </a:tblGrid>
              <a:tr h="365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 этап «Организационно-мотивационны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план урока, организует беседу, которая помогает обучающимся сформулировать цели и задачи на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планом, принимают участие в беседе, формулируют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ть путь достижения цели, ставить познавательны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учителем во время беседы, осуществляемой во фронтальном режи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собеседника, строить высказ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ют решения и осуществляют выбор в учебной и познаватель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планировать свою деятельность в соответствии с целевой установкой, высказывать мнения по существу полученного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4898880"/>
        </p:xfrm>
        <a:graphic>
          <a:graphicData uri="http://schemas.openxmlformats.org/drawingml/2006/table">
            <a:tbl>
              <a:tblPr/>
              <a:tblGrid>
                <a:gridCol w="1609560"/>
                <a:gridCol w="1317960"/>
                <a:gridCol w="1149120"/>
                <a:gridCol w="1311480"/>
                <a:gridCol w="1145880"/>
                <a:gridCol w="1312920"/>
                <a:gridCol w="1297080"/>
              </a:tblGrid>
              <a:tr h="11545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 этап «Осмысл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ория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оспроизведение и коррекцию опорных знаний обучающих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ведение проверки знаний по предупреждению травматизма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аёт первоначальные знания по игре в футб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ктика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монстрация техники выполнения приема и передачи мяча стоя, в дви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повтор упражнений за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актуализацию полученных ранее знаний, основываясь, в том числе, и на жизненном опы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правильность выполнения учебной задачи,  собственные возможности её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 речевые средства для выполнен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 адекватные способы поведения и взаимодействия с партнерами во время учебной и игров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правильности ответов на вопро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правильности выполнения упражн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самоконтроль, выявлять отклонения от этал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самоконтроль и самооце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380880"/>
          <a:ext cx="8915400" cy="6442200"/>
        </p:xfrm>
        <a:graphic>
          <a:graphicData uri="http://schemas.openxmlformats.org/drawingml/2006/table">
            <a:tbl>
              <a:tblPr/>
              <a:tblGrid>
                <a:gridCol w="1735200"/>
                <a:gridCol w="1181160"/>
                <a:gridCol w="1015920"/>
                <a:gridCol w="1206360"/>
                <a:gridCol w="1033560"/>
                <a:gridCol w="1579680"/>
                <a:gridCol w="11635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 этап «Рефлекс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вопросы по теоретической части ур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определить уровень своих достиж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малоподвижную игру на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чают на поставленные вопросы, играют в иг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комплексного анализа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, играют в игру, обсуждают предложенные вопро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ые способы поведения и взаимодействия с партнерами во время учебной и игро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взаимоконтроль процесса выполнения заданий, прослушивают ответ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уровень собствен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го состояния на уро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ть и осуществлять учебную задачу, планировать свои действия, вносить необходимые коррективы в действие после его завершения на основе оценки и учёта сделанн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итоговый и пошаговый контроль по результату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89388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4:55:12Z</dcterms:created>
  <dc:creator>Глеб</dc:creator>
  <dc:description/>
  <dc:language>en-US</dc:language>
  <cp:lastModifiedBy>Глеб</cp:lastModifiedBy>
  <dcterms:modified xsi:type="dcterms:W3CDTF">2013-11-19T15:36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