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B0D-0C49-4ECD-B01A-94C9122B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AD1-C6DC-48E1-93FE-687BE3B9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3DC-5ACF-45F4-A122-8B8E9BBB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42D-FF9B-4054-A4CF-4ABA003E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CBA-AF64-4800-81F0-0B77DE4C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0EF0-62DA-4068-A937-87F7B0D6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2C7-9DC0-4932-AB42-F96DC874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7BB-D93B-4418-8CA0-A80F69B7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8E9-AFF9-4366-ADA2-A4357569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ECC-80F3-44D4-97FD-5D27A5AE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828-4728-4418-9573-4D8287D3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873-F988-4BA5-B42A-DC84E79A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790F-D942-482E-8E7E-4BF7F97DC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123920"/>
            <a:ext cx="784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ДВУМЕРНЫЙ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Demi Cond"/>
              <a:ea typeface="Franklin Gothic Demi C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 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СИМПЛЕК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Demi Cond"/>
              <a:ea typeface="Franklin Gothic Demi C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 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история его изучения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Demi Cond"/>
              <a:ea typeface="Franklin Gothic Demi Con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24360" y="189000"/>
            <a:ext cx="1811160" cy="201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18200" y="5013360"/>
            <a:ext cx="3925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еница 8 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СОШ № 29 г. Ставро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ИКИТИНА А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6560" y="260280"/>
            <a:ext cx="82108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 активно свойства треугольника исследовались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V – XVI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 из красивейших теорем того времени принадлежала Леонарду Эйле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«Середины сторон треугольника, основания его высот и середины отрезков высот от вершины до точки их пересечения лежат на одной окру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4076640"/>
            <a:ext cx="2305080" cy="2306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" y="6308640"/>
            <a:ext cx="432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66560" y="3428640"/>
            <a:ext cx="2881440" cy="28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3429000"/>
            <a:ext cx="1440000" cy="28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551664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627280" y="4797360"/>
            <a:ext cx="144000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906560" y="4868640"/>
            <a:ext cx="720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3429000"/>
            <a:ext cx="0" cy="28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6560" y="4581360"/>
            <a:ext cx="3456000" cy="172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627280" y="4149360"/>
            <a:ext cx="2160720" cy="2158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627280" y="4868640"/>
            <a:ext cx="720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6237360"/>
            <a:ext cx="1429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5589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472428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4508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40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4920" y="407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4797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551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5445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4920" y="4797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4560" y="5157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4920" y="6237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805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33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950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3284640"/>
            <a:ext cx="341964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Эта окружность получила название «окружности девяти точек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Ее центр оказался в середине отрезка, соединяющего точку пересечения высот с центром описанной окруж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1258920" y="1123560"/>
            <a:ext cx="79200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123920"/>
            <a:ext cx="144000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258920" y="2637000"/>
            <a:ext cx="223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3543000">
            <a:off x="1512360" y="2168640"/>
            <a:ext cx="2232000" cy="1873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817600">
            <a:off x="2383200" y="416520"/>
            <a:ext cx="2016000" cy="1722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7889000">
            <a:off x="162360" y="853200"/>
            <a:ext cx="1722240" cy="1400040"/>
          </a:xfrm>
          <a:prstGeom prst="triangle">
            <a:avLst>
              <a:gd name="adj" fmla="val 5085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116000" y="1483920"/>
            <a:ext cx="2087640" cy="144360"/>
          </a:xfrm>
          <a:prstGeom prst="line">
            <a:avLst/>
          </a:prstGeom>
          <a:ln w="38160">
            <a:solidFill>
              <a:srgbClr val="ff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1628640"/>
            <a:ext cx="1295280" cy="1800360"/>
          </a:xfrm>
          <a:prstGeom prst="line">
            <a:avLst/>
          </a:prstGeom>
          <a:ln w="38160">
            <a:solidFill>
              <a:srgbClr val="ff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1052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11280" y="1484280"/>
            <a:ext cx="792360" cy="1944720"/>
          </a:xfrm>
          <a:prstGeom prst="line">
            <a:avLst/>
          </a:prstGeom>
          <a:ln w="38160">
            <a:solidFill>
              <a:srgbClr val="ffd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62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3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258920" y="1052280"/>
            <a:ext cx="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1844640"/>
            <a:ext cx="216000" cy="7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55640" y="1844280"/>
            <a:ext cx="144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765000"/>
            <a:ext cx="7164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765000"/>
            <a:ext cx="7128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148428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55736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626920" y="1773360"/>
            <a:ext cx="144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26920" y="1700280"/>
            <a:ext cx="14436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2492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6920" y="2492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2492280"/>
            <a:ext cx="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3429000"/>
            <a:ext cx="21564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63640" y="3500280"/>
            <a:ext cx="21600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619280" y="3357720"/>
            <a:ext cx="216000" cy="14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16360" y="3357720"/>
            <a:ext cx="21564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3429000"/>
            <a:ext cx="21600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3284640"/>
            <a:ext cx="21600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565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1557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565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357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443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1413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260280"/>
            <a:ext cx="493236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мператор Франции Наполеон свободное время посвящал занятиям математикой. Ему приписывают такую красивую теор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«Если на сторонах треугольника во внешнюю сторону построить равносторонние треугольники, то их центры будут вершинами равностороннего треуголь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от треугольник называется внешним треугольником Наполеона. Аналогично строится и внутренний треугольник Наполе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256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7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24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1268280"/>
            <a:ext cx="50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123920"/>
            <a:ext cx="57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3429000"/>
            <a:ext cx="64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4653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62064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189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189000"/>
            <a:ext cx="889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громное количество работ по геометрии треугольника, проведенное 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V – XIX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ках, создало впечатление, что о треугольнике уже известно в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 удивительнее было открытие, сделанное американским математиком Ф. Мор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720" y="6093000"/>
            <a:ext cx="43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6720" y="2492280"/>
            <a:ext cx="2880000" cy="36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2492280"/>
            <a:ext cx="1441440" cy="36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96720" y="5084280"/>
            <a:ext cx="396108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96720" y="3933720"/>
            <a:ext cx="3456000" cy="215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1404720" y="4797000"/>
            <a:ext cx="33130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68000" y="3789000"/>
            <a:ext cx="2449800" cy="230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52720" y="2492280"/>
            <a:ext cx="1224000" cy="36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492280"/>
            <a:ext cx="0" cy="36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484360" y="4726080"/>
            <a:ext cx="792360" cy="71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989440" y="4726080"/>
            <a:ext cx="287280" cy="718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84360" y="4797360"/>
            <a:ext cx="505080" cy="64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5440" y="602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5080" y="2421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5080" y="6021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5080" y="4653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7800" y="5373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3080" y="47260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2276640"/>
            <a:ext cx="37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Если в треугольнике провести через вершины лучи, делящие углы на три равные части, то точки пересечения смежных трисектрис углов являются вершинами равностороннего треуголь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24000" y="1628640"/>
            <a:ext cx="8569080" cy="4751640"/>
          </a:xfrm>
          <a:prstGeom prst="rect">
            <a:avLst/>
          </a:prstGeom>
          <a:gradFill rotWithShape="0">
            <a:gsLst>
              <a:gs pos="0">
                <a:srgbClr val="cb1f50"/>
              </a:gs>
              <a:gs pos="100000">
                <a:srgbClr val="ffbd5d">
                  <a:alpha val="79215"/>
                </a:srgbClr>
              </a:gs>
            </a:gsLst>
            <a:lin ang="13500000"/>
          </a:gradFill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1628640"/>
            <a:ext cx="1440" cy="4751640"/>
          </a:xfrm>
          <a:prstGeom prst="line">
            <a:avLst/>
          </a:prstGeom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1628640"/>
            <a:ext cx="1800" cy="4680000"/>
          </a:xfrm>
          <a:prstGeom prst="line">
            <a:avLst/>
          </a:prstGeom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1628640"/>
            <a:ext cx="1440" cy="4751640"/>
          </a:xfrm>
          <a:prstGeom prst="line">
            <a:avLst/>
          </a:prstGeom>
          <a:ln w="76320">
            <a:solidFill>
              <a:srgbClr val="ffb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ТАПЫ РАЗВИТИЯ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1633680"/>
            <a:ext cx="207144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ЖДЕНИЕ МАТЕМАТИК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Первобытнообщинный строй, каменный век, рабовладельческий строй)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формление чувства геометрическ- ой фигуры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апирус Ахмеса (ок 2000 до н.э.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628640"/>
            <a:ext cx="214164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ЭЛЕМЕНТАРНОЙ МАТЕМАТИКИ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Разложение первобытного строя, зарождение классов, </a:t>
            </a:r>
            <a:r>
              <a:rPr b="1" i="1" lang="en-US" sz="1800" spc="-1" strike="noStrike">
                <a:solidFill>
                  <a:srgbClr val="4d1341"/>
                </a:solidFill>
                <a:latin typeface="Arial"/>
              </a:rPr>
              <a:t>VI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в до н.э.- </a:t>
            </a:r>
            <a:r>
              <a:rPr b="1" i="1" lang="en-US" sz="1800" spc="-1" strike="noStrike">
                <a:solidFill>
                  <a:srgbClr val="4d1341"/>
                </a:solidFill>
                <a:latin typeface="Arial"/>
              </a:rPr>
              <a:t>XVI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вв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войства плоских фигур, задачи на вычисления площадей и объемов, зарождение сферической геометри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628640"/>
            <a:ext cx="208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ДАНИЕ МАТЕМАТИКИ ПЕРЕМЕННЫХ ВЕЛИЧИН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Зарождение капитализма, образование США, Петровская эпоха в России , раннее новое время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алитическая геометрия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04000" y="1628640"/>
            <a:ext cx="194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СОВРЕМЕННАЯ МАТЕМАТИКА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(Развитие капитализма, Наполеоновская эпоха, империализм … </a:t>
            </a:r>
            <a:r>
              <a:rPr b="1" i="1" lang="en-US" sz="1800" spc="-1" strike="noStrike">
                <a:solidFill>
                  <a:srgbClr val="4d1341"/>
                </a:solidFill>
                <a:latin typeface="Arial"/>
              </a:rPr>
              <a:t>XX-XXI </a:t>
            </a:r>
            <a:r>
              <a:rPr b="1" i="1" lang="ru-RU" sz="1800" spc="-1" strike="noStrike">
                <a:solidFill>
                  <a:srgbClr val="4d1341"/>
                </a:solidFill>
                <a:latin typeface="Arial"/>
              </a:rPr>
              <a:t>вв)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просы  обоснования математики, математические модели, неевклидова геометри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1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результате проведенных исследований материалов по рассматриваемому вопросу я узнала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еугольник изучался на протяжении всего развития цивилизованного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Задачи для оттачивания ума» были интересны не только ученым математикам, но и любителям и, даже, некоторым известным «нематематика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еугольник и его свойства проявляются  во всех областях жизни человека: архитектуре, землемерии, астрономии, строительстве, химии, психологии, рекламе  и т.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итература, которой я пользовалас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нциклопедия для детей. Т.11. Математика. Главный редактор М.Д. Аксенова.- М:Аванта+,1999.-688с.: 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тематика: Школьная энциклопедия. Гл. ред. С. М. Никольский. – М.: Большая Российская энциклопедия; Дрофа, 1997. – 527 с.: 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ольшая Советская Энциклопедия. Главный редактор Б.А. Введенский, том 4, второе издание, государственное научное издательство «Большая советская энциклопедия», 667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333360"/>
            <a:ext cx="82818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 уроках геометрии в 7 классе мы изучали треугольник и его свойства. Небольшие исторические справки к изучаемому материалу показали, что знание об этой фигуре развивалось постепенно. Не мало ученых изучали треугольник, формулировали новые задачи, открывали свойства и создалось впечатление, что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d9ff"/>
                </a:solidFill>
                <a:latin typeface="Arial"/>
              </a:rPr>
              <a:t>изучение треугольника еще не завершено и возможны еще новые открытия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Многие факты остались за страницами школьного учебника и мы попытались приоткрыть некоторые та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2852640"/>
            <a:ext cx="89647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КТУАЛИЗАЦИЯ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ЧАЯ ГИПОТ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Ь МОЕГО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учить материалы и существующую литературу по данному вопро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нять роль этой геометрической фигуры в челове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здать исторический фон, соотнести материал изучаемый в школьном курсе с историей развития человечеств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2469960" cy="3568680"/>
          </a:xfrm>
          <a:prstGeom prst="rect">
            <a:avLst/>
          </a:prstGeom>
          <a:ln w="88920">
            <a:solidFill>
              <a:srgbClr val="93257b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9280" y="47628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я над проектом, я искала информацию в справочниках, энциклопедиях и в Интер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1700280"/>
            <a:ext cx="55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256536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которые факты показавшиеся мне удивительными отражены в моей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6560" y="404640"/>
            <a:ext cx="84981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имплекс» по латыни означает простейш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нульмерного пространства симплексом является точка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одномерного — отрезок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двумерного пространства симплекс — это треуголь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для трехмерного — тетраэ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492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5516640"/>
            <a:ext cx="433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54450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7856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13840" y="54450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97840" y="48690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51640" y="457992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0560" y="5516640"/>
            <a:ext cx="433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5840" y="5516640"/>
            <a:ext cx="4334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82920" y="551664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8560" y="551664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8170920" y="4939920"/>
            <a:ext cx="21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450200" y="494028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54450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420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78560" y="48690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551664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651280" y="493992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930920" y="494028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4500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3280" y="4653000"/>
            <a:ext cx="64764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451280" y="4653000"/>
            <a:ext cx="7164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3280" y="4653000"/>
            <a:ext cx="86364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6560" y="5805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                           B                                 C                                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341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реугольник – это простейшая фигура: три стороны и три вер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3284640"/>
            <a:ext cx="2735280" cy="2303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3284640"/>
            <a:ext cx="1512720" cy="2303280"/>
          </a:xfrm>
          <a:prstGeom prst="rtTriangl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588000" y="3067200"/>
            <a:ext cx="2016360" cy="252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88000" y="5587920"/>
            <a:ext cx="136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956720" y="3067200"/>
            <a:ext cx="647640" cy="252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836640"/>
            <a:ext cx="85694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менно в силу своей простоты треугольник явился основой многих измер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Землемер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ри своих вычислениях площадей земельных участков и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астроном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при нахождении расстояний до планет и звезд используют свойства треугольн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48360" y="5661000"/>
            <a:ext cx="576360" cy="792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189000"/>
            <a:ext cx="576000" cy="792000"/>
          </a:xfrm>
          <a:custGeom>
            <a:avLst/>
            <a:gdLst>
              <a:gd name="textAreaLeft" fmla="*/ 237240 w 576000"/>
              <a:gd name="textAreaRight" fmla="*/ 338760 w 57600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5084640"/>
            <a:ext cx="576360" cy="792360"/>
          </a:xfrm>
          <a:custGeom>
            <a:avLst/>
            <a:gdLst>
              <a:gd name="textAreaLeft" fmla="*/ 237240 w 576360"/>
              <a:gd name="textAreaRight" fmla="*/ 339120 w 576360"/>
              <a:gd name="textAreaTop" fmla="*/ 326160 h 792360"/>
              <a:gd name="textAreaBottom" fmla="*/ 4662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95" y="8895"/>
                </a:lnTo>
                <a:lnTo>
                  <a:pt x="10800" y="0"/>
                </a:lnTo>
                <a:lnTo>
                  <a:pt x="12705" y="8895"/>
                </a:lnTo>
                <a:lnTo>
                  <a:pt x="21600" y="10800"/>
                </a:lnTo>
                <a:lnTo>
                  <a:pt x="12705" y="12705"/>
                </a:lnTo>
                <a:lnTo>
                  <a:pt x="10800" y="21600"/>
                </a:lnTo>
                <a:lnTo>
                  <a:pt x="8895" y="1270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28000" y="5805360"/>
            <a:ext cx="431640" cy="576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4581360"/>
            <a:ext cx="792360" cy="1079640"/>
          </a:xfrm>
          <a:custGeom>
            <a:avLst/>
            <a:gdLst>
              <a:gd name="textAreaLeft" fmla="*/ 326520 w 792360"/>
              <a:gd name="textAreaRight" fmla="*/ 465840 w 79236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1844640"/>
            <a:ext cx="360360" cy="647640"/>
          </a:xfrm>
          <a:custGeom>
            <a:avLst/>
            <a:gdLst>
              <a:gd name="textAreaLeft" fmla="*/ 148320 w 360360"/>
              <a:gd name="textAreaRight" fmla="*/ 212040 w 360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373720"/>
            <a:ext cx="719280" cy="1079640"/>
          </a:xfrm>
          <a:custGeom>
            <a:avLst/>
            <a:gdLst>
              <a:gd name="textAreaLeft" fmla="*/ 296280 w 719280"/>
              <a:gd name="textAreaRight" fmla="*/ 423000 w 71928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333360"/>
            <a:ext cx="287280" cy="576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11" y="8911"/>
                </a:lnTo>
                <a:lnTo>
                  <a:pt x="10800" y="0"/>
                </a:lnTo>
                <a:lnTo>
                  <a:pt x="12689" y="8911"/>
                </a:lnTo>
                <a:lnTo>
                  <a:pt x="21600" y="10800"/>
                </a:lnTo>
                <a:lnTo>
                  <a:pt x="12689" y="12689"/>
                </a:lnTo>
                <a:lnTo>
                  <a:pt x="10800" y="21600"/>
                </a:lnTo>
                <a:lnTo>
                  <a:pt x="8911" y="12689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333360"/>
            <a:ext cx="718920" cy="1008000"/>
          </a:xfrm>
          <a:custGeom>
            <a:avLst/>
            <a:gdLst>
              <a:gd name="textAreaLeft" fmla="*/ 296280 w 718920"/>
              <a:gd name="textAreaRight" fmla="*/ 422640 w 718920"/>
              <a:gd name="textAreaTop" fmla="*/ 415440 h 1008000"/>
              <a:gd name="textAreaBottom" fmla="*/ 592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5229360"/>
            <a:ext cx="718920" cy="143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593280 h 1439640"/>
              <a:gd name="textAreaBottom" fmla="*/ 8463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4" y="8904"/>
                </a:lnTo>
                <a:lnTo>
                  <a:pt x="10800" y="0"/>
                </a:lnTo>
                <a:lnTo>
                  <a:pt x="12696" y="8904"/>
                </a:lnTo>
                <a:lnTo>
                  <a:pt x="21600" y="10800"/>
                </a:lnTo>
                <a:lnTo>
                  <a:pt x="12696" y="12696"/>
                </a:lnTo>
                <a:lnTo>
                  <a:pt x="10800" y="21600"/>
                </a:lnTo>
                <a:lnTo>
                  <a:pt x="8904" y="1269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d5d"/>
                                      </p:to>
                                    </p:animClr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d5d"/>
                                      </p:to>
                                    </p:animClr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set>
                                      <p:cBhvr>
                                        <p:cTn id="1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animClr clrSpc="rgb">
                                      <p:cBhvr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3d3f1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d1ff"/>
                                      </p:to>
                                    </p:animClr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1ff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4046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рез площадь треугольника выражается площадь любого многоугольника: достаточно разбить этот многоугольник на треугольники, вычислить их площади и сложить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84000" y="256536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4920" y="3573360"/>
            <a:ext cx="28908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869000"/>
            <a:ext cx="865080" cy="115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6021360"/>
            <a:ext cx="187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132000" y="5229360"/>
            <a:ext cx="180036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563640" y="4652640"/>
            <a:ext cx="1368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564000" y="2708280"/>
            <a:ext cx="720720" cy="19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332000" y="2565000"/>
            <a:ext cx="295272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132000" y="4653000"/>
            <a:ext cx="432000" cy="13698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332000" y="2565000"/>
            <a:ext cx="2232000" cy="2087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4000" y="3573000"/>
            <a:ext cx="2879640" cy="1079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5280" y="4653000"/>
            <a:ext cx="316872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60000" y="4653000"/>
            <a:ext cx="2303640" cy="136836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1844640"/>
            <a:ext cx="388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авда, верную формулу для площади треугольника удалось найти не сразу. В одном египетском папирус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000-летне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давности говорится, что площадь равнобедренного треугольника равна произведению половины основания на боковую сторону (а не на высот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6560" y="476280"/>
            <a:ext cx="835344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рез 2000 лет в Древней Греции изучение свойств треугольника ведется очень акти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ифаго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открывает свою теор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Герон Александрийски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находит формулу, выражающую площадь треугольника через его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новится известным, что биссектрисы, как медианы и высоты, пересекаются в одной точ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0:15:36Z</dcterms:created>
  <dc:creator>НАТАЛЬЯ</dc:creator>
  <dc:description/>
  <dc:language>en-US</dc:language>
  <cp:lastModifiedBy>НАТАЛЬЯ</cp:lastModifiedBy>
  <dcterms:modified xsi:type="dcterms:W3CDTF">2009-03-16T16:17:53Z</dcterms:modified>
  <cp:revision>32</cp:revision>
  <dc:subject/>
  <dc:title>Двумерный симплекс</dc:title>
</cp:coreProperties>
</file>