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10C-6DCD-4A34-9ABD-C80F90BD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CF3-959D-4C16-8738-B6E95E9B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A99-6A8E-46F3-BB2B-0E42B9D7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42A-1C75-4556-94E4-125916B9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872-8B0D-4D38-B9D4-F183673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998-3E3C-42A0-8190-B7869288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318-56B7-4EB6-965C-52D03A34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372-C129-4C1C-AA76-2808A4B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36A-6DB5-4BA6-823D-2982E6A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4F9-343A-4989-BA62-F6E0BCF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3A2-4068-4664-B4B2-09F8C4F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110-26BA-419D-9EBC-D136E36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B7A-5493-4E77-87E9-7153B413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2392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ДВУМЕРНЫ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СИМПЛЕК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история его изучения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8200" y="5013360"/>
            <a:ext cx="392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ница 8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СОШ № 29 г. Став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ИТИН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6560" y="260280"/>
            <a:ext cx="8210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активно свойства треугольника исследовались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V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 из красивейших теорем того времени принадлежала Леонарду Эйл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Середины сторон треугольника, основания его высот и середины отрезков высот от вершины до точки их пересечения лежат на одной окру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076640"/>
            <a:ext cx="2305080" cy="2306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6308640"/>
            <a:ext cx="43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6560" y="3428640"/>
            <a:ext cx="288144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3429000"/>
            <a:ext cx="144000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51664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27280" y="4797360"/>
            <a:ext cx="144000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90656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342900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560" y="4581360"/>
            <a:ext cx="3456000" cy="172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627280" y="4149360"/>
            <a:ext cx="2160720" cy="2158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2728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23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7242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492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7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551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5445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479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623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805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3284640"/>
            <a:ext cx="341964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Эта окружность получила название «окружности девяти точек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Ее центр оказался в середине отрезка, соединяющего точку пересечения высот с центром описанной окруж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258920" y="1123560"/>
            <a:ext cx="792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123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58920" y="263700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3543000">
            <a:off x="1512360" y="2168640"/>
            <a:ext cx="2232000" cy="1873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817600">
            <a:off x="2383200" y="416520"/>
            <a:ext cx="2016000" cy="1722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7889000">
            <a:off x="162360" y="853200"/>
            <a:ext cx="1722240" cy="1400040"/>
          </a:xfrm>
          <a:prstGeom prst="triangle">
            <a:avLst>
              <a:gd name="adj" fmla="val 5085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16000" y="1483920"/>
            <a:ext cx="2087640" cy="144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628640"/>
            <a:ext cx="1295280" cy="1800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05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11280" y="1484280"/>
            <a:ext cx="792360" cy="194472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62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3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58920" y="105228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844640"/>
            <a:ext cx="216000" cy="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55640" y="1844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765000"/>
            <a:ext cx="7164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765000"/>
            <a:ext cx="7128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48428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55736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177336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6920" y="1700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692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3429000"/>
            <a:ext cx="21564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3500280"/>
            <a:ext cx="21600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19280" y="3357720"/>
            <a:ext cx="216000" cy="14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357720"/>
            <a:ext cx="21564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342900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328464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155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565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141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60280"/>
            <a:ext cx="4932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ператор Франции Наполеон свободное время посвящал занятиям математикой. Ему приписывают такую красивую теор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Если на сторонах треугольника во внешнюю сторону построить равносторонние треугольники, то их центры будут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т треугольник называется внешним треугольником Наполеона. Аналогично строится и внутренний треугольник Наполе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56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7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2682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12392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429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653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20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189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89000"/>
            <a:ext cx="88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омное количество работ по геометрии треугольника, проведенное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, создало впечатление, что о треугольнике уже известно в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 удивительнее было открытие, сделанное американским математиком Ф. Мор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6093000"/>
            <a:ext cx="43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6720" y="2492280"/>
            <a:ext cx="288000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492280"/>
            <a:ext cx="144144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6720" y="5084280"/>
            <a:ext cx="396108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6720" y="3933720"/>
            <a:ext cx="345600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04720" y="4797000"/>
            <a:ext cx="3313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68000" y="3789000"/>
            <a:ext cx="244980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2720" y="2492280"/>
            <a:ext cx="122400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49228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484360" y="4726080"/>
            <a:ext cx="792360" cy="71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89440" y="4726080"/>
            <a:ext cx="28728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4797360"/>
            <a:ext cx="505080" cy="64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5440" y="602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5080" y="2421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5080" y="6021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5080" y="4653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78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4726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2276640"/>
            <a:ext cx="37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Если в треугольнике провести через вершины лучи, делящие углы на три равные части, то точки пересечения смежных трисектрис углов являются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1628640"/>
            <a:ext cx="8569080" cy="4751640"/>
          </a:xfrm>
          <a:prstGeom prst="rect">
            <a:avLst/>
          </a:prstGeom>
          <a:gradFill rotWithShape="0">
            <a:gsLst>
              <a:gs pos="0">
                <a:srgbClr val="cb1f50"/>
              </a:gs>
              <a:gs pos="100000">
                <a:srgbClr val="ffbd5d">
                  <a:alpha val="79215"/>
                </a:srgbClr>
              </a:gs>
            </a:gsLst>
            <a:lin ang="13500000"/>
          </a:gradFill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628640"/>
            <a:ext cx="1800" cy="468000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ТАПЫ РАЗВИТИЯ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633680"/>
            <a:ext cx="2071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 МАТЕМАТИ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Первобытнообщинный строй, каменный век, рабовладельческий строй)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формление чувства геометрическ- ой фигуры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пирус Ахмеса (ок 2000 до н.э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628640"/>
            <a:ext cx="2141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ЭЛЕМЕНТАРНОЙ МАТЕМАТИКИ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ложение первобытного строя, зарождение классов,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 до н.э.-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ойства плоских фигур, задачи на вычисления площадей и объемов, зарождение сферической геометри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28640"/>
            <a:ext cx="208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МАТЕМАТИКИ ПЕРЕМЕННЫХ ВЕЛИЧИН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Зарождение капитализма, образование США, Петровская эпоха в России , раннее новое время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итическая геометрия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1628640"/>
            <a:ext cx="19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СОВРЕМЕННАЯ МАТЕМАТИКА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витие капитализма, Наполеоновская эпоха, империализм …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X-XX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  обоснования математики, математические модели, неевклидова геометр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езультате проведенных исследований материалов по рассматриваемому вопросу я узнала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зучался на протяжении всего развития цивилизован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Задачи для оттачивания ума» были интересны не только ученым математикам, но и любителям и, даже, некоторым известным «нематематик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 его свойства проявляются  во всех областях жизни человека: архитектуре, землемерии, астрономии, строительстве, химии, психологии, рекламе  и т.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тература, которой я пользовала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нциклопедия для детей. Т.11. Математика. Главный редактор М.Д. Аксенова.- М:Аванта+,1999.-688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ематика: Школьная энциклопедия. Гл. ред. С. М. Никольский. – М.: Большая Российская энциклопедия; Дрофа, 1997. – 527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льшая Советская Энциклопедия. Главный редактор Б.А. Введенский, том 4, второе издание, государственное научное издательство «Большая советская энциклопедия», 667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33360"/>
            <a:ext cx="82818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уроках геометрии в 7 классе мы изучали треугольник и его свойства. Небольшие исторические справки к изучаемому материалу показали, что знание об этой фигуре развивалось постепенно. Не мало ученых изучали треугольник, формулировали новые задачи, открывали свойства и создалось впечатление, чт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d9ff"/>
                </a:solidFill>
                <a:latin typeface="Arial"/>
              </a:rPr>
              <a:t>изучение треугольника еще не завершено и возможны еще новые открыт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Многие факты остались за страницами школьного учебника и мы попытались приоткрыть некоторые та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852640"/>
            <a:ext cx="8964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ТУАЛИЗАЦИЯ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ЧАЯ ГИПО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МОЕГО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ить материалы и существующую литературу 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ь роль этой геометрической фигуры в челове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здать исторический фон, соотнести материал изучаемый в школьном курсе с историей развития человечеств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469960" cy="3568680"/>
          </a:xfrm>
          <a:prstGeom prst="rect">
            <a:avLst/>
          </a:prstGeom>
          <a:ln w="88920">
            <a:solidFill>
              <a:srgbClr val="93257b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476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я искала информацию в справочниках, энциклопедиях и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170028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256536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которые факты показавшиеся мне удивительными отражены в моей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6560" y="404640"/>
            <a:ext cx="8498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имплекс» по латыни означает простей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нульмерного пространства симплексом является точка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одномерного — отрезок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двумерного пространства симплекс — это треуголь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для трехмерного — тетраэ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492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7856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3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9784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45799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056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2920" y="5516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856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8170920" y="4939920"/>
            <a:ext cx="21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5020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420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651280" y="493992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3092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4653000"/>
            <a:ext cx="64764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451280" y="4653000"/>
            <a:ext cx="71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3280" y="465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6560" y="5805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                           B                                 C                               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341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угольник – это простейшая фигура: три стороны и три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284640"/>
            <a:ext cx="2735280" cy="2303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3284640"/>
            <a:ext cx="1512720" cy="230328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588000" y="3067200"/>
            <a:ext cx="201636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55879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956720" y="3067200"/>
            <a:ext cx="64764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836640"/>
            <a:ext cx="8569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нно в силу своей простоты треугольник явился основой многих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Землемер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своих вычислениях площадей земельных участков и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астроном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нахождении расстояний до планет и звезд используют свойства треуголь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5661000"/>
            <a:ext cx="576360" cy="792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89000"/>
            <a:ext cx="576000" cy="792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084640"/>
            <a:ext cx="576360" cy="792360"/>
          </a:xfrm>
          <a:custGeom>
            <a:avLst/>
            <a:gdLst>
              <a:gd name="textAreaLeft" fmla="*/ 237240 w 576360"/>
              <a:gd name="textAreaRight" fmla="*/ 339120 w 576360"/>
              <a:gd name="textAreaTop" fmla="*/ 326160 h 792360"/>
              <a:gd name="textAreaBottom" fmla="*/ 4662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28000" y="580536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4581360"/>
            <a:ext cx="792360" cy="1079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1844640"/>
            <a:ext cx="360360" cy="647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73720"/>
            <a:ext cx="719280" cy="1079640"/>
          </a:xfrm>
          <a:custGeom>
            <a:avLst/>
            <a:gdLst>
              <a:gd name="textAreaLeft" fmla="*/ 296280 w 719280"/>
              <a:gd name="textAreaRight" fmla="*/ 423000 w 71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333360"/>
            <a:ext cx="287280" cy="576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33360"/>
            <a:ext cx="718920" cy="1008000"/>
          </a:xfrm>
          <a:custGeom>
            <a:avLst/>
            <a:gdLst>
              <a:gd name="textAreaLeft" fmla="*/ 296280 w 718920"/>
              <a:gd name="textAreaRight" fmla="*/ 422640 w 71892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229360"/>
            <a:ext cx="718920" cy="143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593280 h 1439640"/>
              <a:gd name="textAreaBottom" fmla="*/ 8463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4" y="8904"/>
                </a:lnTo>
                <a:lnTo>
                  <a:pt x="10800" y="0"/>
                </a:lnTo>
                <a:lnTo>
                  <a:pt x="12696" y="8904"/>
                </a:lnTo>
                <a:lnTo>
                  <a:pt x="21600" y="10800"/>
                </a:lnTo>
                <a:lnTo>
                  <a:pt x="12696" y="12696"/>
                </a:lnTo>
                <a:lnTo>
                  <a:pt x="10800" y="21600"/>
                </a:lnTo>
                <a:lnTo>
                  <a:pt x="8904" y="1269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ез площадь треугольника выражается площадь любого многоугольника: достаточно разбить этот многоугольник на треугольники, вычислить их площади и сложи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4000" y="256536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4920" y="3573360"/>
            <a:ext cx="2890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6508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602136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32000" y="5229360"/>
            <a:ext cx="180036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563640" y="4652640"/>
            <a:ext cx="1368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64000" y="2708280"/>
            <a:ext cx="72072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332000" y="2565000"/>
            <a:ext cx="295272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32000" y="4653000"/>
            <a:ext cx="432000" cy="13698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2565000"/>
            <a:ext cx="2232000" cy="2087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4000" y="3573000"/>
            <a:ext cx="2879640" cy="1079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5280" y="4653000"/>
            <a:ext cx="316872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60000" y="4653000"/>
            <a:ext cx="2303640" cy="136836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вда, верную формулу для площади треугольника удалось найти не сразу. В одном египетском папирус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000-летн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давности говорится, что площадь равнобедренного треугольника равна произведению половины основания на боковую сторону (а не на высо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6560" y="476280"/>
            <a:ext cx="83534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рез 2000 лет в Древней Греции изучение свойств треугольника ведется очень ак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ткрывает свою теор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Герон Александрийски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ходит формулу, выражающую площадь треугольника через ег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новится известным, что биссектрисы, как медианы и высоты, пересекаются в одной то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15:36Z</dcterms:created>
  <dc:creator>НАТАЛЬЯ</dc:creator>
  <dc:description/>
  <dc:language>en-US</dc:language>
  <cp:lastModifiedBy>НАТАЛЬЯ</cp:lastModifiedBy>
  <dcterms:modified xsi:type="dcterms:W3CDTF">2009-03-16T16:17:53Z</dcterms:modified>
  <cp:revision>32</cp:revision>
  <dc:subject/>
  <dc:title>Двумерный симплекс</dc:title>
</cp:coreProperties>
</file>