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1FE-4175-4748-BF2A-ACA512AA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59D-FD31-480F-A135-A2F67BD1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A9C-533A-46B6-87D4-195EB7AE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F59-218A-42C9-8A72-E2D348AD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0AC-F927-4396-A1FD-D4A3C54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443-A5F6-4859-A77F-C27E9D41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649-2956-420E-B57A-4FB5719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3C3-2D01-4D64-A47E-8518CE08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B40-605C-45BA-A7B8-8CD0BE2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144-C8F1-4C44-A989-9005462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ED9-1D02-4F42-A003-FE85C87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DDC-667E-44B8-805B-E6639EB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BB7-7C33-41E2-ACE3-FB1ADFEDB4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лнова Елена Михайл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У СОШ №638 г.Зелено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Елена Михайловна Балнова"/>
          <p:cNvPicPr/>
          <p:nvPr/>
        </p:nvPicPr>
        <p:blipFill>
          <a:blip r:embed="rId1"/>
          <a:stretch/>
        </p:blipFill>
        <p:spPr>
          <a:xfrm>
            <a:off x="2987640" y="2681280"/>
            <a:ext cx="2808360" cy="3916440"/>
          </a:xfrm>
          <a:prstGeom prst="rect">
            <a:avLst/>
          </a:prstGeom>
          <a:ln w="1908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Сердце отдаю детям…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лова в качестве основополагающих в моей деятельности я взяла у великого мастера В.Сухомлин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j0301252"/>
          <p:cNvPicPr/>
          <p:nvPr/>
        </p:nvPicPr>
        <p:blipFill>
          <a:blip r:embed="rId1"/>
          <a:stretch/>
        </p:blipFill>
        <p:spPr>
          <a:xfrm>
            <a:off x="3132000" y="3357720"/>
            <a:ext cx="3024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ебёнок – главная ценность в обществ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готовый вариант"/>
          <p:cNvPicPr/>
          <p:nvPr/>
        </p:nvPicPr>
        <p:blipFill>
          <a:blip r:embed="rId1"/>
          <a:stretch/>
        </p:blipFill>
        <p:spPr>
          <a:xfrm>
            <a:off x="684360" y="1557360"/>
            <a:ext cx="7777080" cy="45529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й основной педагогический принцип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осторожно и бережно помочь ребенку раскрыться, вселить в него уверенность, дать почувствовать свою самоценность, независимо от конкретных успехов в учебной деятельности в данный, кратковреме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6630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зиция по отношению к ребёнку: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н –мой союзник, соавтор, принимающий и дающий, имеющий право на несогласие, сомнение и даже ошибку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3068280"/>
            <a:ext cx="854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SDC12092"/>
          <p:cNvPicPr/>
          <p:nvPr/>
        </p:nvPicPr>
        <p:blipFill>
          <a:blip r:embed="rId1"/>
          <a:stretch/>
        </p:blipFill>
        <p:spPr>
          <a:xfrm>
            <a:off x="611280" y="3068640"/>
            <a:ext cx="3744720" cy="247644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  <p:pic>
        <p:nvPicPr>
          <p:cNvPr id="55" name="Picture 5" descr="SDC12102"/>
          <p:cNvPicPr/>
          <p:nvPr/>
        </p:nvPicPr>
        <p:blipFill>
          <a:blip r:embed="rId2"/>
          <a:stretch/>
        </p:blipFill>
        <p:spPr>
          <a:xfrm>
            <a:off x="4932360" y="3068640"/>
            <a:ext cx="3706920" cy="2448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185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Большинству из нас запоминается не то, чему нас учат, а то, как нас учат» (Э.Севрус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2" descr="SDC12096"/>
          <p:cNvPicPr/>
          <p:nvPr/>
        </p:nvPicPr>
        <p:blipFill>
          <a:blip r:embed="rId1"/>
          <a:stretch/>
        </p:blipFill>
        <p:spPr>
          <a:xfrm>
            <a:off x="1979640" y="2852640"/>
            <a:ext cx="5545080" cy="36007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 связи с этим в школьную практику я ввожу нетрадиционные типы уроков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3112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фанта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оревн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ткрытых мыс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турн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дисп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пектак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он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грированный 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В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шебный конве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SDC12104"/>
          <p:cNvPicPr/>
          <p:nvPr/>
        </p:nvPicPr>
        <p:blipFill>
          <a:blip r:embed="rId1"/>
          <a:stretch/>
        </p:blipFill>
        <p:spPr>
          <a:xfrm>
            <a:off x="3995640" y="2205000"/>
            <a:ext cx="4842000" cy="3672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5:34:26Z</dcterms:created>
  <dc:creator>Admin</dc:creator>
  <dc:description/>
  <dc:language>en-US</dc:language>
  <cp:lastModifiedBy>1</cp:lastModifiedBy>
  <dcterms:modified xsi:type="dcterms:W3CDTF">2014-02-07T11:31:34Z</dcterms:modified>
  <cp:revision>12</cp:revision>
  <dc:subject/>
  <dc:title>Балнова Елена Михайловна</dc:title>
</cp:coreProperties>
</file>