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A3A1-AE75-4CCE-AEB8-BE39E9C3E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10B7-A9B2-4B3E-86DF-A7577FD3E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1D1D-C410-4EC3-AC37-36BFF0961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827D-BFFB-4DFD-A874-167E89571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0337-EF57-4B32-A1B0-FF54A2F52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B8E7-D600-4136-B295-C412DBD55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0535-DD6C-41D2-84D5-423B1A26B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0589-D70D-4905-B952-12626E885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CF45-F8A6-4607-9E1B-0C7502073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F901-881A-41A7-B5D2-89EC8A16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E67C-6134-4241-920E-A4B73ECE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DBB4-5239-48D4-8C90-54D58003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BF42A-8E0D-48C7-AAD5-E1485F61AC4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Балнова Елена Михайловн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47640" y="134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итель начальных класс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У СОШ №638 г.Зеленогра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4" descr="Елена Михайловна Балнова"/>
          <p:cNvPicPr/>
          <p:nvPr/>
        </p:nvPicPr>
        <p:blipFill>
          <a:blip r:embed="rId1"/>
          <a:stretch/>
        </p:blipFill>
        <p:spPr>
          <a:xfrm>
            <a:off x="2987640" y="2681280"/>
            <a:ext cx="2808360" cy="3916440"/>
          </a:xfrm>
          <a:prstGeom prst="rect">
            <a:avLst/>
          </a:prstGeom>
          <a:ln w="19080">
            <a:solidFill>
              <a:srgbClr val="0000a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«Сердце отдаю детям…»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и слова в качестве основополагающих в моей деятельности я взяла у великого мастера В.Сухомлинског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6" descr="j0301252"/>
          <p:cNvPicPr/>
          <p:nvPr/>
        </p:nvPicPr>
        <p:blipFill>
          <a:blip r:embed="rId1"/>
          <a:stretch/>
        </p:blipFill>
        <p:spPr>
          <a:xfrm>
            <a:off x="3132000" y="3357720"/>
            <a:ext cx="302436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Ребёнок – главная ценность в обществе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4" descr="готовый вариант"/>
          <p:cNvPicPr/>
          <p:nvPr/>
        </p:nvPicPr>
        <p:blipFill>
          <a:blip r:embed="rId1"/>
          <a:stretch/>
        </p:blipFill>
        <p:spPr>
          <a:xfrm>
            <a:off x="684360" y="1557360"/>
            <a:ext cx="7777080" cy="4552920"/>
          </a:xfrm>
          <a:prstGeom prst="rect">
            <a:avLst/>
          </a:prstGeom>
          <a:ln w="25560">
            <a:solidFill>
              <a:srgbClr val="0000a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Мой основной педагогический принцип 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2492280"/>
            <a:ext cx="6400800" cy="31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чень осторожно и бережно помочь ребенку раскрыться, вселить в него уверенность, дать почувствовать свою самоценность, независимо от конкретных успехов в учебной деятельности в данный, кратковременный момен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663040" cy="26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Позиция по отношению к ребёнку: </a:t>
            </a:r>
            <a:br>
              <a:rPr sz="4000"/>
            </a:b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он –мой союзник, соавтор, принимающий и дающий, имеющий право на несогласие, сомнение и даже ошибку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1680" y="3068280"/>
            <a:ext cx="854064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4" descr="SDC12092"/>
          <p:cNvPicPr/>
          <p:nvPr/>
        </p:nvPicPr>
        <p:blipFill>
          <a:blip r:embed="rId1"/>
          <a:stretch/>
        </p:blipFill>
        <p:spPr>
          <a:xfrm>
            <a:off x="611280" y="3068640"/>
            <a:ext cx="3744720" cy="2476440"/>
          </a:xfrm>
          <a:prstGeom prst="rect">
            <a:avLst/>
          </a:prstGeom>
          <a:ln w="25560">
            <a:solidFill>
              <a:srgbClr val="0000a4"/>
            </a:solidFill>
            <a:miter/>
          </a:ln>
        </p:spPr>
      </p:pic>
      <p:pic>
        <p:nvPicPr>
          <p:cNvPr id="55" name="Picture 5" descr="SDC12102"/>
          <p:cNvPicPr/>
          <p:nvPr/>
        </p:nvPicPr>
        <p:blipFill>
          <a:blip r:embed="rId2"/>
          <a:stretch/>
        </p:blipFill>
        <p:spPr>
          <a:xfrm>
            <a:off x="4932360" y="3068640"/>
            <a:ext cx="3706920" cy="2448000"/>
          </a:xfrm>
          <a:prstGeom prst="rect">
            <a:avLst/>
          </a:prstGeom>
          <a:ln w="25560">
            <a:solidFill>
              <a:srgbClr val="0000a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918560" cy="23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«Большинству из нас запоминается не то, чему нас учат, а то, как нас учат» (Э.Севрус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12" descr="SDC12096"/>
          <p:cNvPicPr/>
          <p:nvPr/>
        </p:nvPicPr>
        <p:blipFill>
          <a:blip r:embed="rId1"/>
          <a:stretch/>
        </p:blipFill>
        <p:spPr>
          <a:xfrm>
            <a:off x="1979640" y="2852640"/>
            <a:ext cx="5545080" cy="3600720"/>
          </a:xfrm>
          <a:prstGeom prst="rect">
            <a:avLst/>
          </a:prstGeom>
          <a:ln w="25560">
            <a:solidFill>
              <a:srgbClr val="0000a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8320" cy="168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В связи с этим в школьную практику я ввожу нетрадиционные типы уроков: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3311280" cy="42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7e7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рок-фантазиро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7e7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рок-соревно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7e7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рок открытых мыс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7e7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рок-турни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7e7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рок-диспу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7e7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рок творче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7e7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рок-спектак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7e7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рок-конкур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7e7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тегрированный ур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7e7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рок-иг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7e7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рок-сказ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7e7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рок-КВ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7e7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рок-путешеств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7e7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лшебный конвер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10" descr="SDC12104"/>
          <p:cNvPicPr/>
          <p:nvPr/>
        </p:nvPicPr>
        <p:blipFill>
          <a:blip r:embed="rId1"/>
          <a:stretch/>
        </p:blipFill>
        <p:spPr>
          <a:xfrm>
            <a:off x="3995640" y="2205000"/>
            <a:ext cx="4842000" cy="3672000"/>
          </a:xfrm>
          <a:prstGeom prst="rect">
            <a:avLst/>
          </a:prstGeom>
          <a:ln w="25560">
            <a:solidFill>
              <a:srgbClr val="0000a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9T05:34:26Z</dcterms:created>
  <dc:creator>Admin</dc:creator>
  <dc:description/>
  <dc:language>en-US</dc:language>
  <cp:lastModifiedBy>1</cp:lastModifiedBy>
  <dcterms:modified xsi:type="dcterms:W3CDTF">2014-02-07T11:31:34Z</dcterms:modified>
  <cp:revision>12</cp:revision>
  <dc:subject/>
  <dc:title>Балнова Елена Михайловна</dc:title>
</cp:coreProperties>
</file>