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050C-94C2-494D-9ECA-B339559A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391-D4E3-4321-8D15-559FDCEE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517-F197-4FA3-9AA6-A69AACB4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662A-CFE4-49EC-8356-A1EF59B8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141-36F7-490D-A3DA-20FA75C0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561-E555-4174-A702-DCE7F2D7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83D-F7ED-4D89-8CDF-0E9852D4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959-FF56-45F8-B666-476461D4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000-3E1F-4C4D-AADA-92EBBED2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FED-EB71-4228-A5B3-5F16D767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333-930A-4DFF-96D1-F6A989E9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27B-3FFC-4E45-AA8D-A8C0E720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0AF1-2996-4706-8745-2D33A53C09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алнова Елена Михайлов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134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У СОШ №638 г.Зеленогра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Елена Михайловна Балнова"/>
          <p:cNvPicPr/>
          <p:nvPr/>
        </p:nvPicPr>
        <p:blipFill>
          <a:blip r:embed="rId1"/>
          <a:stretch/>
        </p:blipFill>
        <p:spPr>
          <a:xfrm>
            <a:off x="2987640" y="2681280"/>
            <a:ext cx="2808360" cy="3916440"/>
          </a:xfrm>
          <a:prstGeom prst="rect">
            <a:avLst/>
          </a:prstGeom>
          <a:ln w="1908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«Сердце отдаю детям…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и слова в качестве основополагающих в моей деятельности я взяла у великого мастера В.Сухомлинск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6" descr="j0301252"/>
          <p:cNvPicPr/>
          <p:nvPr/>
        </p:nvPicPr>
        <p:blipFill>
          <a:blip r:embed="rId1"/>
          <a:stretch/>
        </p:blipFill>
        <p:spPr>
          <a:xfrm>
            <a:off x="3132000" y="3357720"/>
            <a:ext cx="30243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Ребёнок – главная ценность в обществ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готовый вариант"/>
          <p:cNvPicPr/>
          <p:nvPr/>
        </p:nvPicPr>
        <p:blipFill>
          <a:blip r:embed="rId1"/>
          <a:stretch/>
        </p:blipFill>
        <p:spPr>
          <a:xfrm>
            <a:off x="684360" y="1557360"/>
            <a:ext cx="7777080" cy="4552920"/>
          </a:xfrm>
          <a:prstGeom prst="rect">
            <a:avLst/>
          </a:prstGeom>
          <a:ln w="255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Мой основной педагогический принцип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чень осторожно и бережно помочь ребенку раскрыться, вселить в него уверенность, дать почувствовать свою самоценность, независимо от конкретных успехов в учебной деятельности в данный, кратковременный мом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663040" cy="26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зиция по отношению к ребёнку: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н –мой союзник, соавтор, принимающий и дающий, имеющий право на несогласие, сомнение и даже ошибку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3068280"/>
            <a:ext cx="85406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SDC12092"/>
          <p:cNvPicPr/>
          <p:nvPr/>
        </p:nvPicPr>
        <p:blipFill>
          <a:blip r:embed="rId1"/>
          <a:stretch/>
        </p:blipFill>
        <p:spPr>
          <a:xfrm>
            <a:off x="611280" y="3068640"/>
            <a:ext cx="3744720" cy="2476440"/>
          </a:xfrm>
          <a:prstGeom prst="rect">
            <a:avLst/>
          </a:prstGeom>
          <a:ln w="25560">
            <a:solidFill>
              <a:srgbClr val="0000a4"/>
            </a:solidFill>
            <a:miter/>
          </a:ln>
        </p:spPr>
      </p:pic>
      <p:pic>
        <p:nvPicPr>
          <p:cNvPr id="55" name="Picture 5" descr="SDC12102"/>
          <p:cNvPicPr/>
          <p:nvPr/>
        </p:nvPicPr>
        <p:blipFill>
          <a:blip r:embed="rId2"/>
          <a:stretch/>
        </p:blipFill>
        <p:spPr>
          <a:xfrm>
            <a:off x="4932360" y="3068640"/>
            <a:ext cx="3706920" cy="2448000"/>
          </a:xfrm>
          <a:prstGeom prst="rect">
            <a:avLst/>
          </a:prstGeom>
          <a:ln w="255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91856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«Большинству из нас запоминается не то, чему нас учат, а то, как нас учат» (Э.Севрус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12" descr="SDC12096"/>
          <p:cNvPicPr/>
          <p:nvPr/>
        </p:nvPicPr>
        <p:blipFill>
          <a:blip r:embed="rId1"/>
          <a:stretch/>
        </p:blipFill>
        <p:spPr>
          <a:xfrm>
            <a:off x="1979640" y="2852640"/>
            <a:ext cx="5545080" cy="3600720"/>
          </a:xfrm>
          <a:prstGeom prst="rect">
            <a:avLst/>
          </a:prstGeom>
          <a:ln w="255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832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В связи с этим в школьную практику я ввожу нетрадиционные типы уроков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33112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фантаз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соревн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открытых мыс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турн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дисп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твор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спектак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конку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грированный ур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и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сказ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КВ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-путешеств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7e7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лшебный конве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0" descr="SDC12104"/>
          <p:cNvPicPr/>
          <p:nvPr/>
        </p:nvPicPr>
        <p:blipFill>
          <a:blip r:embed="rId1"/>
          <a:stretch/>
        </p:blipFill>
        <p:spPr>
          <a:xfrm>
            <a:off x="3995640" y="2205000"/>
            <a:ext cx="4842000" cy="3672000"/>
          </a:xfrm>
          <a:prstGeom prst="rect">
            <a:avLst/>
          </a:prstGeom>
          <a:ln w="255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5:34:26Z</dcterms:created>
  <dc:creator>Admin</dc:creator>
  <dc:description/>
  <dc:language>en-US</dc:language>
  <cp:lastModifiedBy>1</cp:lastModifiedBy>
  <dcterms:modified xsi:type="dcterms:W3CDTF">2014-02-07T11:31:34Z</dcterms:modified>
  <cp:revision>12</cp:revision>
  <dc:subject/>
  <dc:title>Балнова Елена Михайловна</dc:title>
</cp:coreProperties>
</file>