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0D1-B231-4FBF-87CA-4E33A5D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16B-3ABF-4ADB-9B4D-F872B39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B1C-5809-443D-95BE-093B229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8AE-1D25-43F2-8274-D1B95167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8BB-EBBD-4874-91F3-9D9C4F7B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3B1C-8A8B-4F62-AD9E-9BBCF64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8918-2EAA-40C4-8DF6-00072D41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8EAF-9C26-47CA-B754-4C9FFF52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DF2C-CFF6-458A-BFF2-5D62930F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83C-2496-4BF3-9CEB-917DEB93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BF60-0BCF-4D1E-AAB0-6E536C7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D43-D3DB-43F8-B2A3-795020B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A7F3-5574-4F00-AEB4-672A425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334-063E-473B-A1BF-B4CC3D0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433-DD20-420D-9287-F52BCA2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A789-A597-4DBC-9A65-DC4A15C2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BF20-3F35-418B-9993-3FAD1215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F6B-4D62-4FC7-B5C9-49893872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70C-0A10-4196-9F19-03878CCA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A66-62C3-401E-B4BE-D7690179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ABD-1C77-46E5-8F74-B64908F3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BB7-6CCC-4374-A82B-5581072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6C2-2407-4249-8E3F-22196A6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350-C423-4CA2-B09D-0A128CA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961-39E6-4256-AC1E-0E3557102D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E30-8419-4D83-96D6-FAFCC7ECD1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Раздел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 1 «Аудирование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удиров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 форма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A09-90BC-4A71-8E04-60D4071576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Повышенный уровень</a:t>
            </a:r>
            <a:br>
              <a:rPr sz="40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А1 – А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нимание выборочной информ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с выбором от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True/ False/ Not stated)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62E-1757-45B3-8491-1D1A892193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Высокий уровень</a:t>
            </a:r>
            <a:br>
              <a:rPr sz="40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А8 – А1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ное понимание содержания услышанног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с множественным выбором отве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2BC-3C67-44C3-9F3C-4A7DEFC793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В1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олнении задания на установление соответствия некоторые экзаменуем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внимательно читают инструкцию к заданию и соответственно неправильно заносят ответы в бланк отве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Неверно определяют ключевые слова, соответствующие основной теме высказывания в микротекс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739-24BC-4A82-B45E-13A591B9F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А1-А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дании на выбор из трёх вариантов ответа 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rue/False/Not stated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екоторые экзаменуем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Ставят </a:t>
            </a:r>
            <a:r>
              <a:rPr b="1" lang="en-US" sz="2800" spc="-1" strike="noStrike">
                <a:solidFill>
                  <a:srgbClr val="f98d43"/>
                </a:solidFill>
                <a:latin typeface="Verdana"/>
              </a:rPr>
              <a:t>True/False</a:t>
            </a: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 исходя не из содержания текста, а из своего социального опыта, в то время как в тексте данной информации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D95-6C51-42AA-98DD-7350ABC25C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А</a:t>
            </a: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8</a:t>
            </a: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-А</a:t>
            </a: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1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олнении задания с выбором ответа некоторые экзаменуем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оотносят ключевые слова в вопросах и в аудиотек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Выбирают варианты ответов только потому, что эти же слова звучат в тексте и забывают о том, что верный ответ, как правило, выражен синоним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24F-D639-4B35-A83F-49691212EC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Методические рекомендац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ажно, чтоб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ачестве материала для подготовки к экзамену привлекались те же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жанры и тип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аутентичных текс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которые даются в контрольно-измерительных материал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сказывания собеседников в распространенных стандартных ситуациях повседнев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гматические (объя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блицистические (интервью, репортаж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FF7-482A-43AA-995C-617B0B7CE5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65952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Типы текстов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вы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ие высказывания информационно-прагматического характ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енны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1-А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еда или высказывание в стандартных ситуациях повседневного об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8-А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вью, развёрнутое тематическое высказывание, репорта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F7D-729E-48C2-9A98-A9F6C8E591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выполнении данного задания необходим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 Внимательно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читать инструкци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онять, что требуется сделать в зад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  Прочитать формулировку задания, т.е. утверждения, (высказывания, заголовки, подзаголовки)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-G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одчеркнуть в них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слов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 Как правило, они близки тематически, поэтому искать надо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различ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стараясь ответить на вопрос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«Чем высказывания отличаются друг от друг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3BC-8A52-4110-BC76-25FA573FAB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4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–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  Определив различия, следует подумать о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инонимах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головок, подзаголовок и т.д. формулирует главную мысль фрагмента, но излагает это другими словами, не копируя исходный аудиотек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   В данном задании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е требуется полног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нимания тек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здесь необходимо  умение понимать основное содержание по ключевым словам, не обращая внимания на слова, от которых не зависит общее понима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8BF-76ED-4431-A920-C4C3D802DD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 После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ервого прослуши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ледует отметить наиболее вероятные ответы, выделяя в звучащем тексте ключевые слова и соотнося с теми, что уже подчеркнуты  в утвержден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  Во время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торого прослуши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необходимо сконцентрировать внимание на той информации, которая была пропущена в первый раз или в правильности которой есть сомнения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а – проверить правильность первоначальных отве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1BD-A4D2-4007-AC79-4D8DDB550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1400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Федеральный компонент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государственного образовательного стандарта</a:t>
            </a: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результате изучения иностранного язык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базовом уровне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ученик должен 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тносительно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лно и точно понимат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ысказывания собеседника в распространенных стандартных ситуац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вседневного об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сновное содержани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различных аудио- и видеотекс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Извлекать необходимую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информацию из различных аудио- и видеотекстов: прагматических (объявления, прогноз погоды), публицистических (интервью, репортаж), соответствующей тематике данной ступени обучени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EB1-5A78-43D5-9C9C-FF2EB59B4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–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 Не следует оставлять ни одного вопроса без ответа, даже если нет полной уверенности в его прави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 Переносить ответы в Бланк ответов следует по окончании выполнения всего раздела «Аудирование»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комендуется руководствоваться инструкцией и образцом написания букв и циф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 Не следует забывать, что одно из утверждений является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лишним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3FB-1639-420B-8FEF-FE6480268C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-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При выполнении данного задания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еред прослушиванием записи внимательно прочитать текст инструкции и сами утвер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В этом задании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е надо пытаться определить правильный ответ д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слушивания тек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.к. ответ зависит исключительно от содержания текста. Общие знания и догадка в данном случае могут под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B85-5CE3-4F40-8A2C-4749896CF3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ледует также продумать,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ого род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формация потребуетс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пример, циф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ремя, имена собственные, какие-то детали), чтобы определить данное утверждение как верное, неверное или вообще в тексте не затронут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Необходимо учитывать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ницу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жду вариантом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Неверно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вариантом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ксте не сказано»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верное предложение содержит информацию, которая противоречит тексту, а  вариант «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тексте не сказан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 означает, что в тексте ничего не говорится по этому по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667-23F8-4A7A-92CE-901C4BA394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В заданиях такого тип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рядок приведенных утвержде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, как правило, соответствует тому порядку, в каком информация даётся в аудиозапис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прослушивании текста следует обратить внимание н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трицательные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, поскольку правильный ответ часто имеет форму утвердительного предложения, которое включает слово противоположное  по значению тому, что прозвучало в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944-4CF0-4CFB-96BF-1A0B137CD2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еред прослушиванием записи надо прочитать только вопросы в задании, без предложенных вариантов от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Но если вопрос состоит из одного или нескольких слов, не образующих полного предложения, рекомендуется прочитать вопросы вместе с предложенными вариантами от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Рекомендуется найти в  вопросах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слова и подобрать к ним синони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76D-83A8-44F3-8B19-624385A0EE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Когда прослушивание началось, следует прекратить чтение вопросов (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же если они не прочитаны до конц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 и сконцентрировать внимание на понимании аудио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Во всех заданиях на множественный выбор порядок вопросов соответствует тому порядку, в каком информация появляется в текст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Во время первого прослушивания надо отметить возможные варианты от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E46-ED70-4FEF-81D0-0423EE06C3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 При выборе ответа надо руководствоваться только той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формацией, которая дается в тексте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а не тем , что вы сами знаете и или думаете по данному вопросу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 И правильные и неправильные варианты могут включать слова и выражения из текста аудиозаписи. Надо обращать внимание не столько на слова, сколько н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нтекст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FB0-7D80-4182-B515-EB465897ED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 Следует быть осторожным с теми вариантами ответа, в которых встречаются те же слова и фразы, что звучат в записи. Часто это неверные варианты. Информация не всегда передаётся одними и теми же словами. Как правило, для этого используются синони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.   Правильный ответ не всегда включает всю ту информацию, которая звучит в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8F8-69F2-4A81-9FD1-530DEB34A0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1. Иногда вопросы имеют общий характер, они касаются высказанных мнений, намерения автора или контекста ситуации. Следует обращать внимание не только н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отдельные фраз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и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на наиболее длинные отрезки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текст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2. Во время второго прослушивания надо проверить выбранные ответы и обратить внимание на ту информацию, которая была пропущена во время первого прослуши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F61-428F-4607-A791-86CE20DCEF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26172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Федеральный компонент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государственного образовательного стандарта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результате изучения иностранного язык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льно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 уровне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ученик должен 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носительно полно (общий смысл)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ысказывание на изучаемом иностранном  языке в различных ситуациях об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сновное содержани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аутентичных аудио- или видеотекстов познавательного характера на темы. связанные с личными интересами или с выбранным профи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борочно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извлекат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из них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необходимую информацию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ценивать важность/новизну информации, передавать свое отношение к н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368-9CA3-434B-A3CA-4B4D28C5B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дификатор элементов содержания по английскому языку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составления контрольных измерительных материалов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единого государственного экзамена 2010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г.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ификатор составлен на базе обязательного минимума содержания основного общего и среднего (полного) образования по иностранным язы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AFE-37FA-4DC1-A8E3-FC22D34AF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1440" y="407880"/>
            <a:ext cx="6613200" cy="1073160"/>
            <a:chOff x="-1440" y="407880"/>
            <a:chExt cx="6613200" cy="1073160"/>
          </a:xfrm>
        </p:grpSpPr>
        <p:grpSp>
          <p:nvGrpSpPr>
            <p:cNvPr id="150" name=""/>
            <p:cNvGrpSpPr/>
            <p:nvPr/>
          </p:nvGrpSpPr>
          <p:grpSpPr>
            <a:xfrm>
              <a:off x="1440" y="411120"/>
              <a:ext cx="6606360" cy="1066680"/>
              <a:chOff x="1440" y="411120"/>
              <a:chExt cx="6606360" cy="10666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40" y="411120"/>
                <a:ext cx="936360" cy="1066680"/>
                <a:chOff x="1440" y="411120"/>
                <a:chExt cx="936360" cy="1066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480" y="411120"/>
                  <a:ext cx="7995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д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раздела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440" y="411120"/>
                  <a:ext cx="93636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37800" y="411120"/>
                <a:ext cx="1050480" cy="1066680"/>
                <a:chOff x="937800" y="411120"/>
                <a:chExt cx="1050480" cy="1066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005480" y="411120"/>
                  <a:ext cx="91404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д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нтроли-руемого элемента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37800" y="411120"/>
                  <a:ext cx="105048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988640" y="411120"/>
                <a:ext cx="4619160" cy="1066680"/>
                <a:chOff x="1988640" y="411120"/>
                <a:chExt cx="4619160" cy="1066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56680" y="411120"/>
                  <a:ext cx="4482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Элементы содержания, проверяемые заданиями КИМ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88640" y="411120"/>
                  <a:ext cx="461916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-1440" y="407880"/>
              <a:ext cx="6613200" cy="107316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40" y="1481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440" y="2087640"/>
            <a:ext cx="6613200" cy="4363920"/>
            <a:chOff x="-1440" y="2087640"/>
            <a:chExt cx="6613200" cy="4363920"/>
          </a:xfrm>
        </p:grpSpPr>
        <p:grpSp>
          <p:nvGrpSpPr>
            <p:cNvPr id="163" name=""/>
            <p:cNvGrpSpPr/>
            <p:nvPr/>
          </p:nvGrpSpPr>
          <p:grpSpPr>
            <a:xfrm>
              <a:off x="1440" y="2090520"/>
              <a:ext cx="6606360" cy="4357800"/>
              <a:chOff x="1440" y="2090520"/>
              <a:chExt cx="6606360" cy="43578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440" y="2090520"/>
                <a:ext cx="936360" cy="914400"/>
                <a:chOff x="1440" y="2090520"/>
                <a:chExt cx="936360" cy="91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9480" y="2090520"/>
                  <a:ext cx="7995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40" y="2090520"/>
                  <a:ext cx="936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937800" y="2090520"/>
                <a:ext cx="1050480" cy="914400"/>
                <a:chOff x="937800" y="2090520"/>
                <a:chExt cx="1050480" cy="914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005480" y="2090520"/>
                  <a:ext cx="914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37800" y="2090520"/>
                  <a:ext cx="1050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988640" y="2090520"/>
                <a:ext cx="4619160" cy="914400"/>
                <a:chOff x="1988640" y="2090520"/>
                <a:chExt cx="4619160" cy="91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56680" y="2090520"/>
                  <a:ext cx="44827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              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Аудирование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 длительность звучания одного текста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           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до 3-4 минут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88640" y="2090520"/>
                  <a:ext cx="46191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440" y="3004920"/>
                <a:ext cx="936360" cy="1249560"/>
                <a:chOff x="1440" y="3004920"/>
                <a:chExt cx="936360" cy="1249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9480" y="3004920"/>
                  <a:ext cx="79956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40" y="3004920"/>
                  <a:ext cx="93636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937800" y="3004920"/>
                <a:ext cx="1050480" cy="1249560"/>
                <a:chOff x="937800" y="3004920"/>
                <a:chExt cx="1050480" cy="1249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05480" y="3004920"/>
                  <a:ext cx="91404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37800" y="3004920"/>
                  <a:ext cx="105048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88640" y="3004920"/>
                <a:ext cx="4619160" cy="1249560"/>
                <a:chOff x="1988640" y="3004920"/>
                <a:chExt cx="4619160" cy="1249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6680" y="3004920"/>
                  <a:ext cx="448272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нимание на слух </a:t>
                  </a: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основного содержания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несложных звучащих текстов монологического и диалогического характера в рамках изучаемых тем (прогноз погоды, объявления, программы теле-, радиопередач, интервью, репортажи, фрагменты радиопередач)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88640" y="3004920"/>
                  <a:ext cx="461916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440" y="4254480"/>
                <a:ext cx="936360" cy="1096920"/>
                <a:chOff x="1440" y="4254480"/>
                <a:chExt cx="936360" cy="10969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9480" y="4254480"/>
                  <a:ext cx="79956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440" y="4254480"/>
                  <a:ext cx="9363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937800" y="4254480"/>
                <a:ext cx="1050480" cy="1096920"/>
                <a:chOff x="937800" y="4254480"/>
                <a:chExt cx="1050480" cy="10969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005480" y="4254480"/>
                  <a:ext cx="91404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37800" y="4254480"/>
                  <a:ext cx="105048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988640" y="4254480"/>
                <a:ext cx="4619160" cy="1096920"/>
                <a:chOff x="1988640" y="4254480"/>
                <a:chExt cx="4619160" cy="1096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056680" y="4254480"/>
                  <a:ext cx="448272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Выборочное понимание на слух необходимой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информации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в объявлениях, информационной рекламе, значимой/ запрашиваемой информации из несложных аудио- и видеотекстов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988640" y="4254480"/>
                  <a:ext cx="46191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440" y="5351400"/>
                <a:ext cx="936360" cy="1096920"/>
                <a:chOff x="1440" y="5351400"/>
                <a:chExt cx="936360" cy="1096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9480" y="5351400"/>
                  <a:ext cx="79956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40" y="5351400"/>
                  <a:ext cx="9363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37800" y="5351400"/>
                <a:ext cx="1050480" cy="1096920"/>
                <a:chOff x="937800" y="5351400"/>
                <a:chExt cx="1050480" cy="10969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005480" y="5351400"/>
                  <a:ext cx="91404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37800" y="5351400"/>
                  <a:ext cx="105048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988640" y="5351400"/>
                <a:ext cx="4619160" cy="1096920"/>
                <a:chOff x="1988640" y="5351400"/>
                <a:chExt cx="4619160" cy="10969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6680" y="5351400"/>
                  <a:ext cx="448272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Относительно полное понимание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текстов монологического и диалогического характера в наиболее типичных ситуациях повседневного и элементарного профессионального общения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88640" y="5351400"/>
                  <a:ext cx="46191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-1440" y="2087640"/>
              <a:ext cx="6613200" cy="43639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561-ADF0-4E35-80BA-A67AA4B5BD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Распределение заданий в</a:t>
            </a: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 разделе </a:t>
            </a:r>
            <a:r>
              <a:rPr b="1" lang="ru-RU" sz="4000" spc="-1" strike="noStrike">
                <a:solidFill>
                  <a:srgbClr val="ffcc00"/>
                </a:solidFill>
                <a:latin typeface="Verdana"/>
              </a:rPr>
              <a:t>«Аудирование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Разде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1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включа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15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задани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дание на установление соответ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даний с выбором одного правильного ответа из трёх предложенных вариа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ксимальный первичный балл –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омендуемое время на выполнение данного раздела –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ми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740-3C8B-4104-94D6-97BA2693F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47700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Оценивание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ния в разделе «Аудирование» оцениваются по дихотомическ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 верное выполнение задания ученик получает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ба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 неверный ответ или за отсутствие ответа выставляется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0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стовый балл определяется на основании первичных баллов по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делам экза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AAB-55DF-4FB0-90F5-11AB28931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2638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Структура КИМ ЕГЭ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по иностранному язык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25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выш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25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аз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98d43"/>
                </a:solidFill>
                <a:latin typeface="Arial"/>
              </a:rPr>
              <a:t>Высок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удирование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1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1-А7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А8-А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2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А15-А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ммати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4-В10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ксика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11-В16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22-А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о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1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С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воре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98d43"/>
                </a:solidFill>
                <a:latin typeface="Arial"/>
              </a:rPr>
              <a:t>С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235-BAD1-4622-A23C-BACC4439E5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азовый уровень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нимание основного содержания услыш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на установление соответ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0B7-96BC-4AF8-845A-33FF24B51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9-11-25T18:41:56Z</dcterms:modified>
  <cp:revision>70</cp:revision>
  <dc:subject/>
  <dc:title>PowerPoint Presentation</dc:title>
</cp:coreProperties>
</file>