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7A2-79AE-4FE5-8382-89D6BA56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75E-BBC4-4E58-9F8F-6AA446A7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3E2-1627-4A40-99DC-2D0606A1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7E7-86F6-4C91-A9CF-CEA7DB61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A655-394A-4B40-B80D-13E71842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040D-20CA-45B8-AB65-42192A76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B60A-74FF-43C8-94C2-540EC746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5A84-3E07-4FCD-A803-59A596A4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F4BC-490B-45BB-B02B-D9D2518A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84C3-8374-48C0-927A-3073A18B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5CDC-9209-46BE-9D78-88D7C988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D80E-07C8-4A86-A22C-AAC3A79E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C6BB-13B2-4A2A-AF45-BC402A52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8A01-12F7-4987-9B51-DE495265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6DBA-78B2-44AF-9C53-7BBBC3B1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2708-0257-4222-BBA4-1C4FEF3B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BFDC-1AA3-49AE-BB54-806EB6D3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822-CB7F-4779-919D-D81F6B20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9C1E-636D-48C2-8DFD-9B20D3E4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DF5-EBB1-4232-A22B-B10677A6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780-53CE-4A3B-A907-246D1F1E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97B-DB43-436B-BF61-BEF2E264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28B-CBAE-421A-B349-30113A20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A5D-DAFB-4964-8D6B-1FB240D8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A33F-74BC-43DD-A5F3-06ADB337C3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29A4-669D-4802-93B7-C6556CB9F11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Verdana"/>
              </a:rPr>
              <a:t>Раздел</a:t>
            </a:r>
            <a:r>
              <a:rPr b="0" lang="ru-RU" sz="4400" spc="-1" strike="noStrike">
                <a:solidFill>
                  <a:srgbClr val="ffcc00"/>
                </a:solidFill>
                <a:latin typeface="Verdana"/>
              </a:rPr>
              <a:t> 1 «Аудирование»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Аудиров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 формат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ЕГ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A4E-F734-4A3B-8644-E511143479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17160" y="29304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Повышенный уровень</a:t>
            </a:r>
            <a:br>
              <a:rPr sz="4000"/>
            </a:b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А1 – А7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Умение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нимание выборочной информ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Тип задания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адание с выбором отв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True/ False/ Not stated)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Количество вопросов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Время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ыполнения задания –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570E-9AAA-4FD5-A10C-91500519C0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7160" y="29304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Высокий уровень</a:t>
            </a:r>
            <a:br>
              <a:rPr sz="4000"/>
            </a:b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А8 – А1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Умение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лное понимание содержания услышанного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Тип задания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адание с множественным выбором ответ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Количество вопросов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Время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ыполнения задания – 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727-300D-47F6-A8F2-E3F1846BBC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7160" y="293400"/>
            <a:ext cx="863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Типичные ошибки в заданиях В1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и выполнении задания на установление соответствия некоторые экзаменуем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внимательно читают инструкцию к заданию и соответственно неправильно заносят ответы в бланк отве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8d4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8d43"/>
                </a:solidFill>
                <a:latin typeface="Verdana"/>
              </a:rPr>
              <a:t>Неверно определяют ключевые слова, соответствующие основной теме высказывания в микротекст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5FFD-7D5F-4699-911E-16011B38AE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7160" y="29304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Типичные ошибки в заданиях А1-А7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задании на выбор из трёх вариантов ответа (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rue/False/Not stated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некоторые экзаменуемы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8d4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8d43"/>
                </a:solidFill>
                <a:latin typeface="Verdana"/>
              </a:rPr>
              <a:t>Ставят </a:t>
            </a:r>
            <a:r>
              <a:rPr b="1" lang="en-US" sz="2800" spc="-1" strike="noStrike">
                <a:solidFill>
                  <a:srgbClr val="f98d43"/>
                </a:solidFill>
                <a:latin typeface="Verdana"/>
              </a:rPr>
              <a:t>True/False</a:t>
            </a:r>
            <a:r>
              <a:rPr b="0" lang="ru-RU" sz="2800" spc="-1" strike="noStrike">
                <a:solidFill>
                  <a:srgbClr val="f98d43"/>
                </a:solidFill>
                <a:latin typeface="Verdana"/>
              </a:rPr>
              <a:t> исходя не из содержания текста, а из своего социального опыта, в то время как в тексте данной информации 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8A4-AF8E-4F75-B184-1EDFD70B5E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7160" y="29304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Типичные ошибки в заданиях А</a:t>
            </a:r>
            <a:r>
              <a:rPr b="1" lang="en-US" sz="3600" spc="-1" strike="noStrike">
                <a:solidFill>
                  <a:srgbClr val="ffcc00"/>
                </a:solidFill>
                <a:latin typeface="Verdana"/>
              </a:rPr>
              <a:t>8</a:t>
            </a: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-А</a:t>
            </a:r>
            <a:r>
              <a:rPr b="1" lang="en-US" sz="3600" spc="-1" strike="noStrike">
                <a:solidFill>
                  <a:srgbClr val="ffcc00"/>
                </a:solidFill>
                <a:latin typeface="Verdana"/>
              </a:rPr>
              <a:t>1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и выполнении задания с выбором ответа некоторые экзаменуем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оотносят ключевые слова в вопросах и в аудиотекст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8d4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8d43"/>
                </a:solidFill>
                <a:latin typeface="Verdana"/>
              </a:rPr>
              <a:t>Выбирают варианты ответов только потому, что эти же слова звучат в тексте и забывают о том, что верный ответ, как правило, выражен синоним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9451-F57C-4DEC-B82B-DFE7607CEE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Методические рекомендации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ажно, чтоб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качестве материала для подготовки к экзамену привлекались те же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жанры и типы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аутентичных текст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которые даются в контрольно-измерительных материал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ысказывания собеседников в распространенных стандартных ситуациях повседневного об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агматические (объявл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ублицистические (интервью, репортаж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193-E9BC-4936-83CD-8B8FA23505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7160" y="659520"/>
            <a:ext cx="86374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Типы текстов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зовый 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ткие высказывания информационно-прагматического характе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ышенный 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1-А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седа или высказывание в стандартных ситуациях повседневного общ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 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8-А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рвью, развёрнутое тематическое высказывание, репорта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CD5-35FC-4909-8D2A-439D1AF0BD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Базовый уровень –В1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Задание на установление соответствия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нимание основного содерж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и выполнении данного задания необходим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 Внимательно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очитать инструкцию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понять, что требуется сделать в зада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  Прочитать формулировку задания, т.е. утверждения, (высказывания, заголовки, подзаголовки)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-G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подчеркнуть в них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лючевые слов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 Как правило, они близки тематически, поэтому искать надо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различ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стараясь ответить на вопрос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«Чем высказывания отличаются друг от друга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1A5-C1DC-4C47-ABB1-F175C70B60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Базовый уровень –В1</a:t>
            </a:r>
            <a:br>
              <a:rPr sz="24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Задание на установление соответствия –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нимание основного содерж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  Определив различия, следует подумать о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синонимах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Заголовок, подзаголовок и т.д. формулирует главную мысль фрагмента, но излагает это другими словами, не копируя исходный аудиотек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   В данном задании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не требуется полного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нимания текст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здесь необходимо  умение понимать основное содержание по ключевым словам, не обращая внимания на слова, от которых не зависит общее понимание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C2DB-3A72-409D-9C87-2494FB1696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Базовый уровень –В1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Задание на установление соответствия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нимание основного содерж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  После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первого прослушиван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ледует отметить наиболее вероятные ответы, выделяя в звучащем тексте ключевые слова и соотнося с теми, что уже подчеркнуты  в утверждения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.   Во время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второго прослушиван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необходимо сконцентрировать внимание на той информации, которая была пропущена в первый раз или в правильности которой есть сомнения.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дача – проверить правильность первоначальных отве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F3F-1E75-495B-8A6E-5552FCCF1A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14004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Федеральный компонент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государственного образовательного стандарта</a:t>
            </a: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результате изучения иностранного языка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базовом уровне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ученик должен уме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тносительно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олно и точно понимать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высказывания собеседника в распространенных стандартных ситуация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вседневного общ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нимать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основное содержание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различных аудио- и видеотекс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Извлекать необходимую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информацию из различных аудио- и видеотекстов: прагматических (объявления, прогноз погоды), публицистических (интервью, репортаж), соответствующей тематике данной ступени обучения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178-E2B7-4359-990D-D85B565730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Базовый уровень –В1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Задание на установление соответствия –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нимание основного содерж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. Не следует оставлять ни одного вопроса без ответа, даже если нет полной уверенности в его прави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8. Переносить ответы в Бланк ответов следует по окончании выполнения всего раздела «Аудирование».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екомендуется руководствоваться инструкцией и образцом написания букв и циф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9. Не следует забывать, что одно из утверждений является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лишним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36B-243D-4C92-9FDB-1B68030168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Повышенный  уровень – А1-А7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выбор ответа из 3-х вариантов- Понимание запрашиваемой информаци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При выполнении данного задания необходим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Перед прослушиванием записи внимательно прочитать текст инструкции и сами утвер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В этом задании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не надо пытаться определить правильный ответ до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ослушивания текст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т.к. ответ зависит исключительно от содержания текста. Общие знания и догадка в данном случае могут подве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33C-81B2-440C-86C9-B5043EBDE5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Повышенный  уровень – А1-А7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выбор ответа из 3-х вариантов Понимание запрашиваемой информаци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Следует также продумать,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ого род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нформация потребуетс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пример, цифры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ремя, имена собственные, какие-то детали), чтобы определить данное утверждение как верное, неверное или вообще в тексте не затронуто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Необходимо учитывать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разницу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ежду вариантом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Неверно»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вариантом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В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ексте не сказано»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верное предложение содержит информацию, которая противоречит тексту, а  вариант «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 тексте не сказано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» означает, что в тексте ничего не говорится по этому пов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493-1C2F-48C8-9857-5151EBC6A2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Повышенный  уровень – А1-А7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выбор ответа из 3-х вариантов Понимание запрашиваемой информаци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 В заданиях такого типа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рядок приведенных утверждений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, как правило, соответствует тому порядку, в каком информация даётся в аудиозаписи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 прослушивании текста следует обратить внимание на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трицательные предложен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, поскольку правильный ответ часто имеет форму утвердительного предложения, которое включает слово противоположное  по значению тому, что прозвучало в запис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E3D9-C13E-4355-B2F3-74F70A5B31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Высокий  уровень – А8-А14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множественный выбор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лное понимание текс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Перед прослушиванием записи надо прочитать только вопросы в задании, без предложенных вариантов отве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Но если вопрос состоит из одного или нескольких слов, не образующих полного предложения, рекомендуется прочитать вопросы вместе с предложенными вариантами отве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Рекомендуется найти в  вопросах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лючевые слова и подобрать к ним синони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B66-AEAF-41CC-9BEB-8324C0F53A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Высокий  уровень – А8-А14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множественный выбор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лное понимание текс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Когда прослушивание началось, следует прекратить чтение вопросов (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аже если они не прочитаны до конц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) и сконцентрировать внимание на понимании аудиозапис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 Во всех заданиях на множественный выбор порядок вопросов соответствует тому порядку, в каком информация появляется в тексте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. Во время первого прослушивания надо отметить возможные варианты отве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0D5-A753-4A0A-B5BA-BA51991DBD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Высокий  уровень – А8-А14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множественный выбор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лное понимание текс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. При выборе ответа надо руководствоваться только той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нформацией, которая дается в тексте,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а не тем , что вы сами знаете и или думаете по данному вопросу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8. И правильные и неправильные варианты могут включать слова и выражения из текста аудиозаписи. Надо обращать внимание не столько на слова, сколько на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онтекст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888-B0BB-486F-9732-8F5B499336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Высокий  уровень – А8-А14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множественный выбор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лное понимание текс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9. Следует быть осторожным с теми вариантами ответа, в которых встречаются те же слова и фразы, что звучат в записи. Часто это неверные варианты. Информация не всегда передаётся одними и теми же словами. Как правило, для этого используются синоним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0.   Правильный ответ не всегда включает всю ту информацию, которая звучит в запис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C7E-472B-4320-A320-4B914F39A4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17160" y="415800"/>
            <a:ext cx="863748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Высокий  уровень – А8-А14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 Задание на множественный выбор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олное понимание текс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1. Иногда вопросы имеют общий характер, они касаются высказанных мнений, намерения автора или контекста ситуации. Следует обращать внимание не только на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отдельные фразы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о и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на наиболее длинные отрезки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ли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текст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2. Во время второго прослушивания надо проверить выбранные ответы и обратить внимание на ту информацию, которая была пропущена во время первого прослушив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1A2-E4D9-40C3-A5B4-1B66841C86D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26172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Федеральный компонент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государственного образовательного стандарта</a:t>
            </a: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результате изучения иностранного языка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рофильно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 уровне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ученик должен уме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     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нимать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относительно полно (общий смысл)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высказывание на изучаемом иностранном  языке в различных ситуациях общ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     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нимать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основное содержание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аутентичных аудио- или видеотекстов познавательного характера на темы. связанные с личными интересами или с выбранным профиле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     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ыборочно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извлекать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из них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необходимую информацию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     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ценивать важность/новизну информации, передавать свое отношение к н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0FD1-34BE-431E-82D1-D66622A19E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одификатор элементов содержания по английскому языку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составления контрольных измерительных материалов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единого государственного экзамена 2010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г.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дификатор составлен на базе обязательного минимума содержания основного общего и среднего (полного) образования по иностранным язык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17E1-23EB-4C5A-A047-4B737311BE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-1440" y="407880"/>
            <a:ext cx="6613200" cy="1073160"/>
            <a:chOff x="-1440" y="407880"/>
            <a:chExt cx="6613200" cy="1073160"/>
          </a:xfrm>
        </p:grpSpPr>
        <p:grpSp>
          <p:nvGrpSpPr>
            <p:cNvPr id="150" name=""/>
            <p:cNvGrpSpPr/>
            <p:nvPr/>
          </p:nvGrpSpPr>
          <p:grpSpPr>
            <a:xfrm>
              <a:off x="1440" y="411120"/>
              <a:ext cx="6606360" cy="1066680"/>
              <a:chOff x="1440" y="411120"/>
              <a:chExt cx="6606360" cy="10666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440" y="411120"/>
                <a:ext cx="936360" cy="1066680"/>
                <a:chOff x="1440" y="411120"/>
                <a:chExt cx="936360" cy="10666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9480" y="411120"/>
                  <a:ext cx="79956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д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раздела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440" y="411120"/>
                  <a:ext cx="93636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937800" y="411120"/>
                <a:ext cx="1050480" cy="1066680"/>
                <a:chOff x="937800" y="411120"/>
                <a:chExt cx="1050480" cy="10666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005480" y="411120"/>
                  <a:ext cx="91404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д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нтроли-руемого элемента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937800" y="411120"/>
                  <a:ext cx="105048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1988640" y="411120"/>
                <a:ext cx="4619160" cy="1066680"/>
                <a:chOff x="1988640" y="411120"/>
                <a:chExt cx="4619160" cy="10666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056680" y="411120"/>
                  <a:ext cx="4482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Элементы содержания, проверяемые заданиями КИМ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988640" y="411120"/>
                  <a:ext cx="461916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" name=""/>
            <p:cNvSpPr/>
            <p:nvPr/>
          </p:nvSpPr>
          <p:spPr>
            <a:xfrm>
              <a:off x="-1440" y="407880"/>
              <a:ext cx="6613200" cy="107316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440" y="14810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-1440" y="2087640"/>
            <a:ext cx="6613200" cy="4363920"/>
            <a:chOff x="-1440" y="2087640"/>
            <a:chExt cx="6613200" cy="4363920"/>
          </a:xfrm>
        </p:grpSpPr>
        <p:grpSp>
          <p:nvGrpSpPr>
            <p:cNvPr id="163" name=""/>
            <p:cNvGrpSpPr/>
            <p:nvPr/>
          </p:nvGrpSpPr>
          <p:grpSpPr>
            <a:xfrm>
              <a:off x="1440" y="2090520"/>
              <a:ext cx="6606360" cy="4357800"/>
              <a:chOff x="1440" y="2090520"/>
              <a:chExt cx="6606360" cy="435780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1440" y="2090520"/>
                <a:ext cx="936360" cy="914400"/>
                <a:chOff x="1440" y="2090520"/>
                <a:chExt cx="936360" cy="9144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69480" y="2090520"/>
                  <a:ext cx="79956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440" y="2090520"/>
                  <a:ext cx="936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937800" y="2090520"/>
                <a:ext cx="1050480" cy="914400"/>
                <a:chOff x="937800" y="2090520"/>
                <a:chExt cx="1050480" cy="9144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1005480" y="2090520"/>
                  <a:ext cx="9140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937800" y="2090520"/>
                  <a:ext cx="1050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1988640" y="2090520"/>
                <a:ext cx="4619160" cy="914400"/>
                <a:chOff x="1988640" y="2090520"/>
                <a:chExt cx="4619160" cy="914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056680" y="2090520"/>
                  <a:ext cx="44827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                         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Аудирование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     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( длительность звучания одного текста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                      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до 3-4 минут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988640" y="2090520"/>
                  <a:ext cx="46191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440" y="3004920"/>
                <a:ext cx="936360" cy="1249560"/>
                <a:chOff x="1440" y="3004920"/>
                <a:chExt cx="936360" cy="12495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9480" y="3004920"/>
                  <a:ext cx="799560" cy="124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440" y="3004920"/>
                  <a:ext cx="936360" cy="124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937800" y="3004920"/>
                <a:ext cx="1050480" cy="1249560"/>
                <a:chOff x="937800" y="3004920"/>
                <a:chExt cx="1050480" cy="12495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005480" y="3004920"/>
                  <a:ext cx="914040" cy="124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3.1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937800" y="3004920"/>
                  <a:ext cx="1050480" cy="124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988640" y="3004920"/>
                <a:ext cx="4619160" cy="1249560"/>
                <a:chOff x="1988640" y="3004920"/>
                <a:chExt cx="4619160" cy="12495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6680" y="3004920"/>
                  <a:ext cx="4482720" cy="124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Понимание на слух </a:t>
                  </a:r>
                  <a:r>
                    <a:rPr b="1" lang="en-US" sz="10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"/>
                    </a:rPr>
                    <a:t>основного содержания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несложных звучащих текстов монологического и диалогического характера в рамках изучаемых тем (прогноз погоды, объявления, программы теле-, радиопередач, интервью, репортажи, фрагменты радиопередач)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988640" y="3004920"/>
                  <a:ext cx="4619160" cy="124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1440" y="4254480"/>
                <a:ext cx="936360" cy="1096920"/>
                <a:chOff x="1440" y="4254480"/>
                <a:chExt cx="936360" cy="10969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9480" y="4254480"/>
                  <a:ext cx="799560" cy="10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440" y="4254480"/>
                  <a:ext cx="936360" cy="109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937800" y="4254480"/>
                <a:ext cx="1050480" cy="1096920"/>
                <a:chOff x="937800" y="4254480"/>
                <a:chExt cx="1050480" cy="10969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1005480" y="4254480"/>
                  <a:ext cx="914040" cy="10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3.2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37800" y="4254480"/>
                  <a:ext cx="1050480" cy="109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1988640" y="4254480"/>
                <a:ext cx="4619160" cy="1096920"/>
                <a:chOff x="1988640" y="4254480"/>
                <a:chExt cx="4619160" cy="10969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056680" y="4254480"/>
                  <a:ext cx="4482720" cy="10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"/>
                    </a:rPr>
                    <a:t>Выборочное понимание на слух необходимой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10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"/>
                    </a:rPr>
                    <a:t>информации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в объявлениях, информационной рекламе, значимой/ запрашиваемой информации из несложных аудио- и видеотекстов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988640" y="4254480"/>
                  <a:ext cx="4619160" cy="109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1440" y="5351400"/>
                <a:ext cx="936360" cy="1096920"/>
                <a:chOff x="1440" y="5351400"/>
                <a:chExt cx="936360" cy="10969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69480" y="5351400"/>
                  <a:ext cx="799560" cy="10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440" y="5351400"/>
                  <a:ext cx="936360" cy="109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937800" y="5351400"/>
                <a:ext cx="1050480" cy="1096920"/>
                <a:chOff x="937800" y="5351400"/>
                <a:chExt cx="1050480" cy="109692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005480" y="5351400"/>
                  <a:ext cx="914040" cy="10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3.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937800" y="5351400"/>
                  <a:ext cx="1050480" cy="109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1988640" y="5351400"/>
                <a:ext cx="4619160" cy="1096920"/>
                <a:chOff x="1988640" y="5351400"/>
                <a:chExt cx="4619160" cy="10969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056680" y="5351400"/>
                  <a:ext cx="4482720" cy="10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"/>
                    </a:rPr>
                    <a:t>Относительно полное понимание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текстов монологического и диалогического характера в наиболее типичных ситуациях повседневного и элементарного профессионального общения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988640" y="5351400"/>
                  <a:ext cx="4619160" cy="109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0" name=""/>
            <p:cNvSpPr/>
            <p:nvPr/>
          </p:nvSpPr>
          <p:spPr>
            <a:xfrm>
              <a:off x="-1440" y="2087640"/>
              <a:ext cx="6613200" cy="436392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9C2-BCBC-4014-98B5-ADB5B0C6BC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7160" y="232560"/>
            <a:ext cx="8637480" cy="12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Распределение заданий в</a:t>
            </a: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 разделе </a:t>
            </a:r>
            <a:r>
              <a:rPr b="1" lang="ru-RU" sz="4000" spc="-1" strike="noStrike">
                <a:solidFill>
                  <a:srgbClr val="ffcc00"/>
                </a:solidFill>
                <a:latin typeface="Verdana"/>
              </a:rPr>
              <a:t>«Аудирование»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Раздел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1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 включает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15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 заданий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задание на установление соответст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4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заданий с выбором одного правильного ответа из трёх предложенных вариа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ксимальный первичный балл –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екомендуемое время на выполнение данного раздела –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30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мину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CC0-E490-4442-9B33-5F998B7082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7160" y="477000"/>
            <a:ext cx="863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imes New Roman"/>
              </a:rPr>
              <a:t>Оценивание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дания в разделе «Аудирование» оцениваются по дихотомической мод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 верное выполнение задания ученик получает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бал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 неверный ответ или за отсутствие ответа выставляется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0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ал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естовый балл определяется на основании первичных баллов по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разделам экзам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E44-FCA8-49FB-827D-A296529771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7160" y="26388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Структура КИМ ЕГЭ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по иностранному языку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25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7254"/>
                </a:solidFill>
                <a:latin typeface="Arial"/>
              </a:rPr>
              <a:t>                                                      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выш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25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7254"/>
                </a:solidFill>
                <a:latin typeface="Arial"/>
              </a:rPr>
              <a:t>                             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Базо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254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98d43"/>
                </a:solidFill>
                <a:latin typeface="Arial"/>
              </a:rPr>
              <a:t>Высокий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удирование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1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1-А7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98d43"/>
                </a:solidFill>
                <a:latin typeface="Arial"/>
              </a:rPr>
              <a:t>А8-А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ение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2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3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98d43"/>
                </a:solidFill>
                <a:latin typeface="Arial"/>
              </a:rPr>
              <a:t>А15-А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амматика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4-В10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лексика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11-В16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22-А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исьмо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С1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f98d43"/>
                </a:solidFill>
                <a:latin typeface="Arial"/>
              </a:rPr>
              <a:t>С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оворени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С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f98d43"/>
                </a:solidFill>
                <a:latin typeface="Arial"/>
              </a:rPr>
              <a:t>С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A78D-8B38-4E01-8ADE-9BC27D1F57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7160" y="293040"/>
            <a:ext cx="863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Базовый уровень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В1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Умение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нимание основного содержания услыша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Тип задания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адание на установление соответст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Количество вопросов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Время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ыполнения задания –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Латышева Н.Е., ст преподаватель кафедры филологии ПАПО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25E-9A2C-4B38-86BF-7597482EFF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09-11-25T18:41:56Z</dcterms:modified>
  <cp:revision>70</cp:revision>
  <dc:subject/>
  <dc:title>PowerPoint Presentation</dc:title>
</cp:coreProperties>
</file>