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E2D8-D277-42BE-B0EC-C23649AF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852D-5351-4837-AD5C-B1299EF5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2954-AAC7-4939-BE05-A232EE8C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3552-D988-4038-A5A0-95E01A82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85C8-804C-487C-9A11-23915D16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FF0F-D506-48CC-8E3C-A32A8868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7755-0F3F-451F-9991-73A40196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8694-08FF-4A46-949B-6A1EBB8C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68AB-0505-4DBA-A02A-98F1E009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4B71-C5C0-4B80-BB33-4834A0C6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91E5-C0E2-49CA-88BF-0B4309D9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ACB1-DB34-4F3B-995E-C4292246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8B3F-F707-4A0B-8026-6E73C5D3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6D35-5271-4876-BE51-4A6E2FC9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8ACA-9C91-4F8C-BD01-BE59E376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871B-3B5A-497D-B81F-41C8FC4E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8DCF-65FB-462B-8359-20554CC4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0C936-706D-4B7A-A988-E78798D4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281F3-426D-4424-9074-7CB72D52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FD51B-6889-466A-A34F-C379C249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89F14-39D9-461A-9354-390D0AF7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CA756-CA6B-4EF7-B075-4595587A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AF8D-671F-475D-B4EB-DFC657D3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83E81-B3FD-43C2-B7B8-FB84DE5D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AB55E-8CCD-4535-B7FA-0DDAB763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86FFF-79C6-4C2D-B41B-70119AE2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4448A-7DFC-4DD7-8483-F8F0127B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951A0-CECF-4B4E-B00A-811210AF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EC01F-46C8-4276-BCF0-09A0F3A3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78F8C-F86D-4B72-B0E2-A6E2C9D4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3D837-0BEF-480D-A012-0A534E8F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143BF-47CF-4084-AF26-15D0001E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64838-1E56-4B46-ADF6-9163E4DD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7BCE-C3B4-4A41-8FCD-E477B0E6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FE8DE-6BE2-481F-ABB4-4C4C35E7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6A28B-B9D4-4E83-BA20-F1407285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C3ACD-013F-4F0A-A47F-0A1DFD0D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505B8-6A15-44E1-BFB4-E9978022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1E915-6FDD-4170-BEC6-D3BB4213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0021E-9CD6-4C9B-B8C3-53C50B80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F7593-0FBD-4205-953A-E0DCF641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85965-ED37-499D-87FF-CE34BC01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47318-7557-4630-B3EC-94A990C8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010A5-61CD-4CCF-B800-5D72CBE2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CBC8-C3BC-49BE-B02C-B263AADF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DA228-9AD9-44FB-A6FD-2C403460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1BCD0-C4EE-4144-8618-540DEF10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22498-4317-4B0B-A48C-89B085A8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9A75B-73D6-4172-A0DF-0437F070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3795E-092E-43D1-A292-588EC24F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68FE8-32CE-41B1-B541-5E805B02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ECC8E-15DC-4C92-BC6A-B76B9211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6E15B-40D0-4B81-9283-4111E879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1CECD-5207-4DE8-A41A-DC3184DD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45738-0B6D-41FB-A67C-3684EF16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79B2-DC78-48A0-B372-2EDB8E79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D548C-9312-4B92-9B84-28CF70D2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21A-FDDF-496C-9E20-066208A2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CFEB-EEEF-4266-8056-21353BEE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60F7-1A23-4C45-B09C-2F25D6E7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A96B-5D50-4776-A4DE-AAEDBBA6085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D979-0137-4A0D-A559-F6B7FF36237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4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5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6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B795-1787-480D-92CF-0967E073533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C01E-4978-4178-BEDF-06B97F67020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AFFE-59C4-47BF-A47D-0AA51E938E8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642920" y="4357800"/>
            <a:ext cx="398628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Выполнила: Пинусова А., ученица 8а класса МОУ «Кормиловский лицей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9 Мая – День Победы</a:t>
            </a:r>
            <a:endParaRPr b="0" lang="en-US" sz="6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C:\Documents and Settings\Пользователь\Мои документы\Downloads\лент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9 Мая День Победы - праздник всей страны!!!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28760" y="1357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mbria"/>
              </a:rPr>
              <a:t>9 Мая- День легендарной победы над фашизмом во Второй Мировой войне и День памяти погибших воинов. Сколько отдано было сил, сколько пролито было крови, сколько человеческих жизней унесено ради этой Победы, ради счастья и независимости проживающих на сегодняшний день россиян.  Всех с праздником Великой Победы!!!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4" name="Picture 2" descr="C:\Documents and Settings\Пользователь\Мои документы\Downloads\24584628_Aleksandr_Goncharov_with_fram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3" descr="C:\Documents and Settings\Пользователь\Мои документы\Downloads\м79a145e8ff29ba741d975ca7772_pr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8588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огила Неизвестного Солдата в Москв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Documents and Settings\Пользователь\Мои документы\Downloads\4160816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5716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ликая Отечественная войн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1941-1945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Documents and Settings\Пользователь\Мои документы\Downloads\542149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2" name="Picture 2" descr="C:\Documents and Settings\Пользователь\Мои документы\Downloads\6433243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4" name="Picture 6" descr="C:\Documents and Settings\Пользователь\Мои документы\Downloads\9_may_0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06:46:31Z</dcterms:created>
  <dc:creator>I</dc:creator>
  <dc:description/>
  <dc:language>en-US</dc:language>
  <cp:lastModifiedBy>Коля</cp:lastModifiedBy>
  <dcterms:modified xsi:type="dcterms:W3CDTF">2013-03-24T18:09:12Z</dcterms:modified>
  <cp:revision>8</cp:revision>
  <dc:subject/>
  <dc:title>9 Мая – День Победы</dc:title>
</cp:coreProperties>
</file>