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D72-7C2C-4392-89E4-47088F05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82A-367E-450A-A05A-B7099A9E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EBB-8724-480E-9C91-362279AF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E2D-E3FD-4914-97E0-E96401FC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921B-4A90-428C-9783-EF70261B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BFD6-8CD7-4BE8-B342-A0262E40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DB1C-A85F-499E-A0C3-F51C107E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7247-26E0-4CD4-BD03-19167A99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2A66-0BCE-436C-80EE-19D1BC55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6FB2-8474-4AD4-9C0C-353875F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6B91-3D53-49D5-93E0-D463676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47F-5967-4D19-BE7E-D8F22817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3B50-1370-4AD1-ABFA-F31D29FB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62E-AE50-4A68-B712-89B5979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DEB2-9800-414E-BA14-E1DF309D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1337-DA57-4B7A-B4D2-CAF1C372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927F-69EC-4DA2-A972-DE6BB987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B896-72D8-487A-83D7-C7FAC5D3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6F43-DE8F-49DF-8403-C3B23BD3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9984-E021-4750-A268-E24C1B56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C1B0-A062-40E7-A701-9FD1748C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8DFF-A484-4E2D-8ABF-EF89E7CB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9E1-E116-4EBF-8538-55FE4955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81FE-0DA0-42D1-987D-E2A8AF41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283E-EC14-4270-8FF9-EC081DD3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3F43-0566-4E0E-A0C0-13B29028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1737-C449-40BA-84E9-41C88401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4D8D-23D6-4FC3-8105-183047CA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13F0-52FD-4AE1-B385-11148E68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08E6-6924-4A17-96B4-5193E910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A20F-7E98-4F0B-B694-E9D1D057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969E-FF49-4290-A966-60F080BE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1C39-8DEF-44A6-8233-77256338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EC6-3B29-4724-A848-7C157F7A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5710C-D108-487C-B9A8-0B39E7B1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D959-8B02-4757-AFE1-A584154C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3D4B-2E60-47F3-AA9F-2128D77E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A5E7-FBF8-4A23-9A2F-85B13C6D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DE1F-FB8E-4A77-852D-9AD8335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AF55-27CE-498A-B37C-3969D80C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5232-9410-4E35-89F8-713F591A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A62F-949E-47DE-8D37-AA521BB0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B01F-5E6B-4994-9776-C3724ADA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80285-EE42-4FD2-817B-298A2C06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CA2-1273-4979-8FC0-EC6C5207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5F599-40FE-4FB4-9095-2D497213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B385-A6F8-4CDB-BE60-56089CA6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E261-635B-4E02-801F-1A442DC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DBAF4-7079-41C6-BB32-523A0FA8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2B9B8-0B31-43CD-8B88-0306BD6B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466B1-CA87-432B-A92C-266DE8D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1CBE9-5F81-46E8-94D8-BBEFA55C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82D7-6648-4166-9F4A-DA575BC6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29496-078D-47CB-BDCD-D75E88A5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9647C-7FC5-4346-A0BE-0C20CE4F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10B-DE21-4C29-B897-884846E1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3F27-5F00-4CFE-ADCD-856DDC6D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482-2D32-4650-9769-3B6CD397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8EC-8E35-431F-B784-E0BD7304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770-CF2F-43BE-9414-8B5F900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0C68-C106-488B-B2C4-8F45ECB89D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93D7-A263-4380-9DEE-D995DA85042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4B80-445D-41F5-9C02-3BF78AF9618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AB58-B5DF-40F9-8D39-C97870E9B97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CF13-9831-4DEE-BB86-992EEA93E3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642920" y="4357800"/>
            <a:ext cx="39862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Выполнила: Пинусова А., ученица 8а класса МОУ «Кормиловский лицей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9 Мая – День Победы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Documents and Settings\Пользователь\Мои документы\Downloads\лент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9 Мая День Победы - праздник всей страны!!!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8760" y="13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mbria"/>
              </a:rPr>
              <a:t>9 Мая- День легендарной победы над фашизмом во Второй Мировой войне и День памяти погибших воинов. Сколько отдано было сил, сколько пролито было крови, сколько человеческих жизней унесено ради этой Победы, ради счастья и независимости проживающих на сегодняшний день россиян.  Всех с праздником Великой Победы!!!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4" name="Picture 2" descr="C:\Documents and Settings\Пользователь\Мои документы\Downloads\24584628_Aleksandr_Goncharov_with_fra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Documents and Settings\Пользователь\Мои документы\Downloads\м79a145e8ff29ba741d975ca7772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58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гила Неизвестного Солдата в Москв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Пользователь\Мои документы\Downloads\4160816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5716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ликая Отечественная войн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1941-1945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Пользователь\Мои документы\Downloads\542149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Picture 2" descr="C:\Documents and Settings\Пользователь\Мои документы\Downloads\6433243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Picture 6" descr="C:\Documents and Settings\Пользователь\Мои документы\Downloads\9_may_0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6:46:31Z</dcterms:created>
  <dc:creator>I</dc:creator>
  <dc:description/>
  <dc:language>en-US</dc:language>
  <cp:lastModifiedBy>Коля</cp:lastModifiedBy>
  <dcterms:modified xsi:type="dcterms:W3CDTF">2013-03-24T18:09:12Z</dcterms:modified>
  <cp:revision>8</cp:revision>
  <dc:subject/>
  <dc:title>9 Мая – День Победы</dc:title>
</cp:coreProperties>
</file>