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180-C68E-4452-86E1-CAE683A5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FF2-C9B1-46F5-9BF4-6DC72CAE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2B5-8BA3-494F-8610-C48CA3B0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8CC-8C07-41F3-97BD-89D9908E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9680-EDEC-4A83-9E3D-2A02CB09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E90E-E11C-4EE0-BCF2-B4D794A2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033D-0750-47DF-B051-42BD22A9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15B8-8902-4905-9184-26A21C70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7424-E84A-408D-AEC7-DF15CA8C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753A-77A5-49E8-93C5-7F688520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B67A-A9E0-430E-9EB3-0FBCF4A8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395-3305-41A6-9EE5-7F84AA63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2821-32EC-41DC-A80B-4AE3542A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0B81-5976-4BE0-BA5E-31F09436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A5A9-B7F3-453C-9917-C63D741C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B912-2CFB-4F2E-A960-E3706E9B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0BE1-5211-4A12-BD2E-DDD8CE1A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8DD4F-D0ED-452D-AE3E-5ADFE321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AE421-2E06-47C8-81E0-FAC05975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9F6B0-5731-497A-9EB7-992856D7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B1ECB-E385-4EB7-B889-A16A07CD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7BF75-AEEF-45DD-9894-E3D0D642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6C06-7803-4113-8DF5-8DD3EB87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13F22-B6A2-40AC-A7DD-9BAA424E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64FCE-4971-422F-A55B-06BEA5B8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AF57F-35D6-4F44-9EB7-A540217A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F7DAE-047C-4F5C-ADC9-DA024628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F567F-466B-4DCF-A0A1-5BC4DAA3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43A37-BC57-4510-8BE1-6078B109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89AF1-F303-46C8-B023-0AAB77C0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71AEE-02BB-47A1-BE19-6FA34A5F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42A1B-36C1-4111-A977-7EB76204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C8A9A-329D-4037-8F24-8548A035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EABA-25AE-4871-A0AE-94CDA11D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000B9-2544-4371-B245-993D1BAF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F76E4-0FC0-49B6-AC98-D2D12F53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F64DA-7E6A-427B-94FF-D2BA4A7C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1C2B5-6FEB-4D00-A1AB-8CF4996A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0D55F-C41D-421F-BCEA-51EF12CF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1EBB8-83A3-4C67-8C2D-D70785E7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C013F-DF64-42C7-A833-BCF5E95D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9B049-6905-4A72-80E8-7F5A13C3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96EFD-2DD8-462A-B68F-587C2E79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AFA06-E6DC-4EB0-ADEF-1FA87842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A04-E914-4128-9DEA-F823BEE5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9678C-7033-41DB-9EF4-2D88E66F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F0DCF-B086-4B78-B1AB-2024A7A7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51896-3FF0-4ED7-A83A-42795AD2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985A2-D690-4408-B2BC-717F2F26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E9C4B-24A2-45FE-A8AD-21604204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3702A-2B28-4809-8173-0DF2586F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16661-9378-4613-85D4-CCC1570F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0A3C3-BD8F-4030-8EA7-4A77E548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31F2B-AD4C-4C59-9521-89BF6298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EC6B0-D0BC-4132-A7F2-7159EEE9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4476-AD53-4089-9179-1BD19842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80BCC-8889-474B-95DC-2A4085FC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FD3-6D28-4C81-8298-5996A3A8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164-58BE-42A7-BA04-4EA665DB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3C0-2830-4A6D-9E33-78BCD20D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69A7-6307-4F96-B06C-7E0829C15A1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0757-D10A-4897-BBFE-21048422E27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4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5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6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8D5B-FC8E-4ACD-9C61-FF0EFA06F19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16D2-F90E-405E-886D-C8B2096FC55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5E1E-6095-4A0D-8E25-D2FA208EFF9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642920" y="4357800"/>
            <a:ext cx="39862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Выполнила: Пинусова А., ученица 8а класса МОУ «Кормиловский лицей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9 Мая – День Победы</a:t>
            </a:r>
            <a:endParaRPr b="0" lang="en-US" sz="6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C:\Documents and Settings\Пользователь\Мои документы\Downloads\лент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9 Мая День Победы - праздник всей страны!!!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28760" y="1357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mbria"/>
              </a:rPr>
              <a:t>9 Мая- День легендарной победы над фашизмом во Второй Мировой войне и День памяти погибших воинов. Сколько отдано было сил, сколько пролито было крови, сколько человеческих жизней унесено ради этой Победы, ради счастья и независимости проживающих на сегодняшний день россиян.  Всех с праздником Великой Победы!!!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4" name="Picture 2" descr="C:\Documents and Settings\Пользователь\Мои документы\Downloads\24584628_Aleksandr_Goncharov_with_fram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C:\Documents and Settings\Пользователь\Мои документы\Downloads\м79a145e8ff29ba741d975ca7772_pre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858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огила Неизвестного Солдата в Москв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Пользователь\Мои документы\Downloads\4160816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5716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ликая Отечественная войн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1941-1945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Documents and Settings\Пользователь\Мои документы\Downloads\542149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2" name="Picture 2" descr="C:\Documents and Settings\Пользователь\Мои документы\Downloads\6433243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4" name="Picture 6" descr="C:\Documents and Settings\Пользователь\Мои документы\Downloads\9_may_0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06:46:31Z</dcterms:created>
  <dc:creator>I</dc:creator>
  <dc:description/>
  <dc:language>en-US</dc:language>
  <cp:lastModifiedBy>Коля</cp:lastModifiedBy>
  <dcterms:modified xsi:type="dcterms:W3CDTF">2013-03-24T18:09:12Z</dcterms:modified>
  <cp:revision>8</cp:revision>
  <dc:subject/>
  <dc:title>9 Мая – День Победы</dc:title>
</cp:coreProperties>
</file>