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drumroll.wav" ContentType="audio/x-wav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494-91B7-4061-9D92-AC5129D2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9A5-CD25-418E-80AD-1B7D98B3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DCF-2112-44A9-BA82-7031AB22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ED9-1A80-4486-8117-A0E602C4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C2B-5F09-4210-997E-BFA000AC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4D3-C28D-4F11-BCC6-166CD7FC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254-9232-4E3F-B43D-CD71EB81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57F-A4FA-459E-9150-C16F171B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9AF-56AC-4A6A-9B9A-A37B096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C57-2B8A-4A42-8D10-FF2CA5F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6BC-687B-48EC-AE6C-9220667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8B7-4D94-4D48-AB3E-7DCD2F2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B3F-70B6-4126-A46D-54F1940A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569080" cy="397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3789360"/>
            <a:ext cx="108108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700360" y="4653000"/>
            <a:ext cx="2592360" cy="28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581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4581360"/>
            <a:ext cx="71640" cy="21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5564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5141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5203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229360"/>
            <a:ext cx="0" cy="287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5516640"/>
            <a:ext cx="14472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8000" y="13222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ве непересекающиеся прямые на плоскости называют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6021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езки (лучи), лежащие на параллельных прямых, называются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 отрезками (лучам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434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76360" y="4508280"/>
            <a:ext cx="71928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87640" y="4292280"/>
            <a:ext cx="115272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5800" y="44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5080" y="5516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езки (лучи), лежащие на параллельных прямых, называются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 отрезками (лучам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34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476360" y="4508280"/>
            <a:ext cx="71928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7640" y="4292280"/>
            <a:ext cx="115272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51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11216" t="9851" r="0" b="0"/>
          <a:stretch/>
        </p:blipFill>
        <p:spPr>
          <a:xfrm>
            <a:off x="5148360" y="1700280"/>
            <a:ext cx="3576600" cy="439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1687680"/>
            <a:ext cx="41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Впервые термин «Параллельные прямые» возник в книге «Начала», автором которой является древнегреческий математик</a:t>
            </a:r>
            <a:r>
              <a:rPr b="1" i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Евкл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2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Если две прямые в плоскости перпендикулярны третьей прямой, то они параллель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589720"/>
            <a:ext cx="4392720" cy="100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42920" y="4221000"/>
            <a:ext cx="576360" cy="2448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11280" y="4221000"/>
            <a:ext cx="576360" cy="2448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8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Построение параллель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157720"/>
            <a:ext cx="7559640" cy="432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11280" y="3789360"/>
            <a:ext cx="1656000" cy="1368360"/>
            <a:chOff x="2411280" y="3789360"/>
            <a:chExt cx="1656000" cy="1368360"/>
          </a:xfrm>
        </p:grpSpPr>
        <p:sp>
          <p:nvSpPr>
            <p:cNvPr id="172" name=""/>
            <p:cNvSpPr/>
            <p:nvPr/>
          </p:nvSpPr>
          <p:spPr>
            <a:xfrm>
              <a:off x="2411280" y="3789360"/>
              <a:ext cx="1656000" cy="136836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8560" y="4437000"/>
              <a:ext cx="720720" cy="5047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2411280" y="177300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1774800"/>
            <a:ext cx="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41736 2.59259E-006 E">
                                      <p:cBhvr>
                                        <p:cTn id="46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Параллельные прямые вокруг 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3132360" cy="3770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0673" b="49884"/>
          <a:stretch/>
        </p:blipFill>
        <p:spPr>
          <a:xfrm>
            <a:off x="5003640" y="1844640"/>
            <a:ext cx="3456000" cy="367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и электропереда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580536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волы деревье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Arial"/>
              </a:rPr>
              <a:t>Какое высказывание вер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125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непересекающиеся линии называются параллельными прямым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913120"/>
            <a:ext cx="66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прямые называются параллельными, если они не пересекаю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47847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прямые на плоскости, не имеющие общих точек, называются параллельным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59080" cy="1459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Проверьте свои знания по изученной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700"/>
              </a:spcBef>
              <a:buClr>
                <a:srgbClr val="499155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9155"/>
                </a:solidFill>
                <a:latin typeface="Arial"/>
              </a:rPr>
              <a:t>Вставьте пропущен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349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прямые … называются параллельными, если они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33577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68300"/>
                </a:solidFill>
                <a:latin typeface="Arial"/>
              </a:rPr>
              <a:t>2) Укажите параллельные пря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5084640"/>
            <a:ext cx="172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971640" y="4436640"/>
            <a:ext cx="12967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5086440"/>
            <a:ext cx="17287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4437000"/>
            <a:ext cx="1152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508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172000" y="4508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659640" y="4653000"/>
            <a:ext cx="115236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020000" y="5013360"/>
            <a:ext cx="10810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5799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Две прямые, образующие при пересечении прямые углы, называют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ерпендикулярны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4365720"/>
            <a:ext cx="208908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4221000"/>
            <a:ext cx="194436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42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59500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2920" y="602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4149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5059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5086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537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Построение перпендикуляр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397200">
            <a:off x="3779280" y="2853000"/>
            <a:ext cx="2160720" cy="331308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3397200">
            <a:off x="3855240" y="3497040"/>
            <a:ext cx="1360800" cy="20876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08000" y="2276280"/>
            <a:ext cx="4392720" cy="2881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07640" y="3141720"/>
            <a:ext cx="2303640" cy="3456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Построение перпендикуляр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928200">
            <a:off x="2556000" y="2133360"/>
            <a:ext cx="3887640" cy="3889080"/>
          </a:xfrm>
          <a:prstGeom prst="noSmoking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4005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00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407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580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141720"/>
            <a:ext cx="144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0920" y="2421000"/>
            <a:ext cx="73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35640" y="242100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011640" y="3068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73440" y="4870440"/>
            <a:ext cx="1429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21080" y="558936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84360" y="4869000"/>
            <a:ext cx="1429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435280" y="5516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4005360"/>
            <a:ext cx="6121440" cy="712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1628280"/>
            <a:ext cx="0" cy="49690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Отрезки, лежащие на перпендикулярных прямых, называют перпендикулярными отрез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84360" y="3500280"/>
            <a:ext cx="410364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645000"/>
            <a:ext cx="1584360" cy="26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16360" y="3932280"/>
            <a:ext cx="11527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716280"/>
            <a:ext cx="719280" cy="1224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32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0920" y="458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86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D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522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04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3645000"/>
            <a:ext cx="14436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797360"/>
            <a:ext cx="14436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58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836640"/>
            <a:ext cx="820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ьные прям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лоскост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6800760" cy="2863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2920" y="1600200"/>
            <a:ext cx="8893080" cy="4892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2920" y="3141720"/>
            <a:ext cx="882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724280"/>
            <a:ext cx="882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225440"/>
            <a:ext cx="8785440" cy="533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709640"/>
            <a:ext cx="8713800" cy="467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6:37:02Z</dcterms:created>
  <dc:creator>Щенникова</dc:creator>
  <dc:description/>
  <dc:language>en-US</dc:language>
  <cp:lastModifiedBy>Александр</cp:lastModifiedBy>
  <dcterms:modified xsi:type="dcterms:W3CDTF">2006-03-22T05:19:51Z</dcterms:modified>
  <cp:revision>89</cp:revision>
  <dc:subject/>
  <dc:title>Слайд 1</dc:title>
</cp:coreProperties>
</file>