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drumroll.wav" ContentType="audio/x-wav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B1C-28C9-4235-9863-69930BB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2D4-9543-47E2-9D60-190789E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6E5-0306-432C-B46E-12AF4716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E63-94D5-4016-8567-A5D1E99E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112-8D23-4279-9BE8-D95828B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F8C-D3E7-459E-A79D-E257F5D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837-A297-4FB7-94D0-1CD7D1DE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08E-B797-40EA-8E89-432CAF7A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046-A4B1-4C42-9544-CCC51765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61E-704D-4779-999C-F20F974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CD3-1C29-4D67-A12C-5C5CD105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304-59DA-49A8-9C8A-1BED677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BD1-99F8-4258-AAC9-BDFB5CB5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569080" cy="397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3789360"/>
            <a:ext cx="10810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00360" y="4653000"/>
            <a:ext cx="2592360" cy="28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581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581360"/>
            <a:ext cx="71640" cy="21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5564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5141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5203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229360"/>
            <a:ext cx="0" cy="287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5516640"/>
            <a:ext cx="14472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1322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ве непересекающиеся прямые на плоскости называют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6021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5800" y="44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5080" y="5516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51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11216" t="9851" r="0" b="0"/>
          <a:stretch/>
        </p:blipFill>
        <p:spPr>
          <a:xfrm>
            <a:off x="5148360" y="1700280"/>
            <a:ext cx="357660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16876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Впервые термин «Параллельные прямые» возник в книге «Начала», автором которой является древнегреческий математик</a:t>
            </a:r>
            <a:r>
              <a:rPr b="1" i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Евкл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2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Если две прямые в плоскости перпендикулярны третьей прямой, то они параллель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589720"/>
            <a:ext cx="4392720" cy="100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4292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1128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8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остроение параллель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157720"/>
            <a:ext cx="7559640" cy="432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11280" y="3789360"/>
            <a:ext cx="1656000" cy="1368360"/>
            <a:chOff x="2411280" y="3789360"/>
            <a:chExt cx="1656000" cy="1368360"/>
          </a:xfrm>
        </p:grpSpPr>
        <p:sp>
          <p:nvSpPr>
            <p:cNvPr id="172" name=""/>
            <p:cNvSpPr/>
            <p:nvPr/>
          </p:nvSpPr>
          <p:spPr>
            <a:xfrm>
              <a:off x="2411280" y="3789360"/>
              <a:ext cx="1656000" cy="136836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8560" y="4437000"/>
              <a:ext cx="720720" cy="504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2411280" y="177300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1774800"/>
            <a:ext cx="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41736 2.59259E-006 E">
                                      <p:cBhvr>
                                        <p:cTn id="4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араллельные прямые вокруг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3132360" cy="3770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0673" b="49884"/>
          <a:stretch/>
        </p:blipFill>
        <p:spPr>
          <a:xfrm>
            <a:off x="5003640" y="1844640"/>
            <a:ext cx="3456000" cy="367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и электропереда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5805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волы деревье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Arial"/>
              </a:rPr>
              <a:t>Какое высказывание вер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125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непересекающиеся линии называются параллельными прямым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913120"/>
            <a:ext cx="66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зываются параллельными, если они не пересека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47847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 плоскости, не имеющие общих точек, называются параллельным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Проверьте свои знания по изученной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700"/>
              </a:spcBef>
              <a:buClr>
                <a:srgbClr val="499155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9155"/>
                </a:solidFill>
                <a:latin typeface="Arial"/>
              </a:rPr>
              <a:t>Вставьте пропущен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349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прямые … называются параллельными, если они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3577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68300"/>
                </a:solidFill>
                <a:latin typeface="Arial"/>
              </a:rPr>
              <a:t>2) Укажите параллельные 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5084640"/>
            <a:ext cx="172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971640" y="4436640"/>
            <a:ext cx="12967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5086440"/>
            <a:ext cx="17287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4437000"/>
            <a:ext cx="1152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17200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659640" y="4653000"/>
            <a:ext cx="115236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020000" y="5013360"/>
            <a:ext cx="10810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5799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Две прямые, образующие при пересечении прямые углы, называют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ерпендикуляр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4365720"/>
            <a:ext cx="208908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4221000"/>
            <a:ext cx="194436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42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950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292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4149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5059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5086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537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397200">
            <a:off x="3779280" y="2853000"/>
            <a:ext cx="2160720" cy="3313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397200">
            <a:off x="3855240" y="3497040"/>
            <a:ext cx="1360800" cy="20876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08000" y="2276280"/>
            <a:ext cx="4392720" cy="2881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3141720"/>
            <a:ext cx="2303640" cy="3456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28200">
            <a:off x="2556000" y="2133360"/>
            <a:ext cx="3887640" cy="3889080"/>
          </a:xfrm>
          <a:prstGeom prst="noSmoking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4005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40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141720"/>
            <a:ext cx="144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0920" y="2421000"/>
            <a:ext cx="73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35640" y="242100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011640" y="3068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3440" y="4870440"/>
            <a:ext cx="1429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21080" y="558936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84360" y="4869000"/>
            <a:ext cx="1429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43528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4005360"/>
            <a:ext cx="6121440" cy="712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1628280"/>
            <a:ext cx="0" cy="49690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Отрезки, лежащие на перпендикулярных прямых, называют перпендикулярными отрез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84360" y="3500280"/>
            <a:ext cx="410364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645000"/>
            <a:ext cx="1584360" cy="26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16360" y="393228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716280"/>
            <a:ext cx="719280" cy="1224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32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0920" y="458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86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04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364500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79736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58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836640"/>
            <a:ext cx="820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оскост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6800760" cy="2863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2920" y="1600200"/>
            <a:ext cx="8893080" cy="4892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2920" y="314172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72428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225440"/>
            <a:ext cx="8785440" cy="533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709640"/>
            <a:ext cx="8713800" cy="467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6:37:02Z</dcterms:created>
  <dc:creator>Щенникова</dc:creator>
  <dc:description/>
  <dc:language>en-US</dc:language>
  <cp:lastModifiedBy>Александр</cp:lastModifiedBy>
  <dcterms:modified xsi:type="dcterms:W3CDTF">2006-03-22T05:19:51Z</dcterms:modified>
  <cp:revision>89</cp:revision>
  <dc:subject/>
  <dc:title>Слайд 1</dc:title>
</cp:coreProperties>
</file>