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8.png" ContentType="image/png"/>
  <Override PartName="/ppt/media/drumroll.wav" ContentType="audio/x-wav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media/image9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6AA-88F8-4B1A-9EE7-B3F39C64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94C-13B5-41D0-A0F9-CB9D1931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91A-A0B8-4097-ACA5-37A63F5D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562-510E-4777-9B92-E748CC7A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27B-41DE-408D-8D26-11F4E7A2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D21-8708-4B91-8DB9-A78B2874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0FE-F1A4-4837-869D-AF412F6C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647-9E56-4B23-810C-702B0DEF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F7B-FC7F-45CC-BA11-367AB9AE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619-9989-4DE1-8CE5-641BF0DC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777-1D01-4CB9-8F4E-0A47C2B6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0B4-A517-44F4-A79F-EF067FAF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0E00-C213-4A48-9C30-3B362D6FA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8569080" cy="3973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3789360"/>
            <a:ext cx="1081080" cy="216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700360" y="4653000"/>
            <a:ext cx="2592360" cy="288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4581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4581360"/>
            <a:ext cx="71640" cy="216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55641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5141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38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6720" y="52038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229360"/>
            <a:ext cx="0" cy="287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5516640"/>
            <a:ext cx="14472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Пересекаются ли пря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8000" y="1322280"/>
            <a:ext cx="8964720" cy="54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ве непересекающиеся прямые на плоскости называют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араллельны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042920" y="3789360"/>
            <a:ext cx="1657440" cy="23763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00000" y="3789360"/>
            <a:ext cx="1800360" cy="2448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386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6021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3860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4653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трезки (лучи), лежащие на параллельных прямых, называются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араллельными отрезками (лучами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042920" y="3789360"/>
            <a:ext cx="1657440" cy="2376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700000" y="3789360"/>
            <a:ext cx="1800360" cy="24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537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4340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54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476360" y="4508280"/>
            <a:ext cx="719280" cy="10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87640" y="4292280"/>
            <a:ext cx="115272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19640" y="4653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036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5800" y="4437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5805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5080" y="551664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4221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трезки (лучи), лежащие на параллельных прямых, называются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араллельными отрезками (лучами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042920" y="3789360"/>
            <a:ext cx="1657440" cy="2376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00000" y="3789360"/>
            <a:ext cx="1800360" cy="24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537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4340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54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476360" y="4508280"/>
            <a:ext cx="719280" cy="10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987640" y="4292280"/>
            <a:ext cx="115272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4653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84720" y="479592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5805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51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11216" t="9851" r="0" b="0"/>
          <a:stretch/>
        </p:blipFill>
        <p:spPr>
          <a:xfrm>
            <a:off x="5148360" y="1700280"/>
            <a:ext cx="3576600" cy="4392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1687680"/>
            <a:ext cx="417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Arial"/>
              </a:rPr>
              <a:t>Впервые термин «Параллельные прямые» возник в книге «Начала», автором которой является древнегреческий математик</a:t>
            </a:r>
            <a:r>
              <a:rPr b="1" i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Евкл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2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Если две прямые в плоскости перпендикулярны третьей прямой, то они параллель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5589720"/>
            <a:ext cx="4392720" cy="100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842920" y="4221000"/>
            <a:ext cx="576360" cy="244800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211280" y="4221000"/>
            <a:ext cx="576360" cy="244800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8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7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407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ff"/>
                </a:solidFill>
                <a:latin typeface="Arial"/>
              </a:rPr>
              <a:t>Построение параллельных пря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5157720"/>
            <a:ext cx="7559640" cy="432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11280" y="3789360"/>
            <a:ext cx="1656000" cy="1368360"/>
            <a:chOff x="2411280" y="3789360"/>
            <a:chExt cx="1656000" cy="1368360"/>
          </a:xfrm>
        </p:grpSpPr>
        <p:sp>
          <p:nvSpPr>
            <p:cNvPr id="172" name=""/>
            <p:cNvSpPr/>
            <p:nvPr/>
          </p:nvSpPr>
          <p:spPr>
            <a:xfrm>
              <a:off x="2411280" y="3789360"/>
              <a:ext cx="1656000" cy="1368360"/>
            </a:xfrm>
            <a:prstGeom prst="rtTriangle">
              <a:avLst/>
            </a:prstGeom>
            <a:solidFill>
              <a:srgbClr val="996600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98560" y="4437000"/>
              <a:ext cx="720720" cy="50472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V="1">
            <a:off x="2411280" y="1773000"/>
            <a:ext cx="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227640" y="1774800"/>
            <a:ext cx="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41736 2.59259E-006 E">
                                      <p:cBhvr>
                                        <p:cTn id="46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99ff"/>
                </a:solidFill>
                <a:latin typeface="Arial"/>
              </a:rPr>
              <a:t>Параллельные прямые вокруг н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3132360" cy="3770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rcRect l="0" t="0" r="20673" b="49884"/>
          <a:stretch/>
        </p:blipFill>
        <p:spPr>
          <a:xfrm>
            <a:off x="5003640" y="1844640"/>
            <a:ext cx="3456000" cy="3672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0920" y="5805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и электропереда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03640" y="580536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волы деревье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200"/>
                            </p:stCondLst>
                            <p:childTnLst>
                              <p:par>
                                <p:cTn id="4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7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Arial"/>
              </a:rPr>
              <a:t>Какое высказывание верн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0" y="1700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12536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ве непересекающиеся линии называются параллельными прямым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913120"/>
            <a:ext cx="66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ве прямые называются параллельными, если они не пересекаю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47847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ве прямые на плоскости, не имеющие общих точек, называются параллельным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451640" y="1125360"/>
            <a:ext cx="1459080" cy="1459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00"/>
                </a:solidFill>
                <a:latin typeface="Arial"/>
              </a:rPr>
              <a:t>Проверьте свои знания по изученной те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9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700"/>
              </a:spcBef>
              <a:buClr>
                <a:srgbClr val="499155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99155"/>
                </a:solidFill>
                <a:latin typeface="Arial"/>
              </a:rPr>
              <a:t>Вставьте пропущенные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2349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е прямые … называются параллельными, если они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33577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68300"/>
                </a:solidFill>
                <a:latin typeface="Arial"/>
              </a:rPr>
              <a:t>2) Укажите параллельные прям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71640" y="5084640"/>
            <a:ext cx="172872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971640" y="4436640"/>
            <a:ext cx="129672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5086440"/>
            <a:ext cx="172872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4437000"/>
            <a:ext cx="115236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50864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4508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27640" y="5445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172000" y="450864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659640" y="4653000"/>
            <a:ext cx="115236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020000" y="5013360"/>
            <a:ext cx="10810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200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24360" y="58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64360" y="5799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59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Times New Roman"/>
              </a:rPr>
              <a:t>Две прямые, образующие при пересечении прямые углы, называют 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перпендикулярны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59280" y="4365720"/>
            <a:ext cx="208908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4221000"/>
            <a:ext cx="194436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42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595008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2920" y="602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4149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0360" y="5059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501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5086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5373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20000" y="501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Построение перпендикулярных прям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3397200">
            <a:off x="3779280" y="2853000"/>
            <a:ext cx="2160720" cy="3313080"/>
          </a:xfrm>
          <a:prstGeom prst="rtTriangl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3397200">
            <a:off x="3855240" y="3497040"/>
            <a:ext cx="1360800" cy="208764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08000" y="2276280"/>
            <a:ext cx="4392720" cy="28810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907640" y="3141720"/>
            <a:ext cx="2303640" cy="34560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Построение перпендикулярных прям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8928200">
            <a:off x="2556000" y="2133360"/>
            <a:ext cx="3887640" cy="3889080"/>
          </a:xfrm>
          <a:prstGeom prst="noSmoking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4005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4005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4076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2133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580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3141720"/>
            <a:ext cx="144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0920" y="2421000"/>
            <a:ext cx="730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435640" y="2421000"/>
            <a:ext cx="712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011640" y="3068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773440" y="4870440"/>
            <a:ext cx="1429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421080" y="5589360"/>
            <a:ext cx="712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084360" y="4869000"/>
            <a:ext cx="1429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435280" y="551628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4005360"/>
            <a:ext cx="6121440" cy="7128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1628280"/>
            <a:ext cx="0" cy="496908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Отрезки, лежащие на перпендикулярных прямых, называют перпендикулярными отрез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84360" y="3500280"/>
            <a:ext cx="410364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3645000"/>
            <a:ext cx="1584360" cy="26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716360" y="3932280"/>
            <a:ext cx="115272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716280"/>
            <a:ext cx="719280" cy="1224000"/>
          </a:xfrm>
          <a:prstGeom prst="line">
            <a:avLst/>
          </a:prstGeom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360" y="3213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0920" y="458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486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D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88000" y="522936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804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3645000"/>
            <a:ext cx="144360" cy="1443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4797360"/>
            <a:ext cx="144360" cy="1443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581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9640" y="836640"/>
            <a:ext cx="8209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ллельные прямы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плоскости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6800760" cy="28638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drumroll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Пересекаются ли пря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2920" y="1600200"/>
            <a:ext cx="8893080" cy="4892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2920" y="3141720"/>
            <a:ext cx="8821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724280"/>
            <a:ext cx="8821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Пересекаются ли пря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225440"/>
            <a:ext cx="8785440" cy="533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Arial"/>
              </a:rPr>
              <a:t>Пересекаются ли пря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709640"/>
            <a:ext cx="8713800" cy="467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06:37:02Z</dcterms:created>
  <dc:creator>Щенникова</dc:creator>
  <dc:description/>
  <dc:language>en-US</dc:language>
  <cp:lastModifiedBy>Александр</cp:lastModifiedBy>
  <dcterms:modified xsi:type="dcterms:W3CDTF">2006-03-22T05:19:51Z</dcterms:modified>
  <cp:revision>89</cp:revision>
  <dc:subject/>
  <dc:title>Слайд 1</dc:title>
</cp:coreProperties>
</file>