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17.png" ContentType="image/png"/>
  <Override PartName="/ppt/media/image19.png" ContentType="image/png"/>
  <Override PartName="/ppt/media/image79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77.jpeg" ContentType="image/jpeg"/>
  <Override PartName="/ppt/media/image64.png" ContentType="image/png"/>
  <Override PartName="/ppt/media/image76.png" ContentType="image/png"/>
  <Override PartName="/ppt/media/image75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0.png" ContentType="image/png"/>
  <Override PartName="/ppt/media/image28.png" ContentType="image/png"/>
  <Override PartName="/ppt/media/image69.png" ContentType="image/png"/>
  <Override PartName="/ppt/media/image24.png" ContentType="image/png"/>
  <Override PartName="/ppt/media/image68.jpeg" ContentType="image/jpeg"/>
  <Override PartName="/ppt/media/image67.png" ContentType="image/png"/>
  <Override PartName="/ppt/media/image30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5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80E-98D3-4578-9212-5ACF7643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7D1-2CC2-4776-9915-404DB03C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813-C706-4866-8E97-87D6B1D0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364-286C-4F50-B787-CE653F46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B78-0555-4E81-9B3B-D18398F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9BE-FBA6-4535-9C78-97D7D818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377-8A09-4C48-A392-C547AEAC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45B-905C-4919-8D0C-AD03616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207-6D4B-4F1E-B238-793637CD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551-5030-4915-86BE-9736AA06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1FA-B29C-4E98-B382-A12090D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F92-4F64-4D9D-B380-EF082603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B4FA-156C-480F-A68B-A882DB2340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Е.К.Афтаева  МОУ СОШ №36г. Пен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3B60-2575-4C91-9374-3121051D9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jpeg"/><Relationship Id="rId15" Type="http://schemas.openxmlformats.org/officeDocument/2006/relationships/image" Target="../media/image69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14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5.xml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5700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Ca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, B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n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gS, C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0B7-19BC-46E8-8053-554E31497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571680" y="1428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каждое вещество. Определите принадлежность к классам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>
            <a:hlinkClick r:id="rId1" action="ppaction://hlinksldjump"/>
          </p:cNvPr>
          <p:cNvSpPr/>
          <p:nvPr/>
        </p:nvSpPr>
        <p:spPr>
          <a:xfrm>
            <a:off x="3216240" y="192888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Что будем изучать сего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Лабораторный опыт №1 «Знакомство с образцами сол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876320"/>
          <a:ext cx="8258040" cy="2124360"/>
        </p:xfrm>
        <a:graphic>
          <a:graphicData uri="http://schemas.openxmlformats.org/drawingml/2006/table">
            <a:tbl>
              <a:tblPr/>
              <a:tblGrid>
                <a:gridCol w="1650960"/>
                <a:gridCol w="1833480"/>
                <a:gridCol w="1289160"/>
                <a:gridCol w="1362240"/>
                <a:gridCol w="2122200"/>
              </a:tblGrid>
              <a:tr h="6426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гатн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твор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 txBox="1"/>
          <p:nvPr/>
        </p:nvSpPr>
        <p:spPr>
          <a:xfrm>
            <a:off x="428400" y="4160520"/>
            <a:ext cx="825804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в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твердые кристаллические веще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бесцветные, иногда окраше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растворимые и нерастворимые в 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FF9-4C8C-48FD-A526-61ABCC332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онтро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200" y="1356840"/>
            <a:ext cx="542952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выполнение мыслительных операций.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дание на соответ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поиск закономерностей.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«Поле ввода»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отработку тривиальных названий солей.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Кроссворд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A386-F32D-4B21-AA9D-18F4A01FD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0" y="428616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rcRect l="0" t="0" r="11" b="-48"/>
          <a:stretch/>
        </p:blipFill>
        <p:spPr>
          <a:xfrm>
            <a:off x="428760" y="3060720"/>
            <a:ext cx="5929200" cy="2797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3643200" y="4286160"/>
            <a:ext cx="5214960" cy="1987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5548320" y="1500120"/>
            <a:ext cx="3381480" cy="2500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Название кислотного ост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0" y="1928880"/>
            <a:ext cx="40719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57160" y="1428840"/>
            <a:ext cx="291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фос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арб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или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ло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857840" y="1643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ШПАР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авая фигурная скобка 7"/>
          <p:cNvSpPr/>
          <p:nvPr/>
        </p:nvSpPr>
        <p:spPr>
          <a:xfrm>
            <a:off x="3071880" y="1571760"/>
            <a:ext cx="428400" cy="4071960"/>
          </a:xfrm>
          <a:custGeom>
            <a:avLst/>
            <a:gdLst>
              <a:gd name="textAreaLeft" fmla="*/ 0 w 428400"/>
              <a:gd name="textAreaRight" fmla="*/ 154800 w 428400"/>
              <a:gd name="textAreaTop" fmla="*/ 10800 h 4071960"/>
              <a:gd name="textAreaBottom" fmla="*/ 406116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8" descr=""/>
          <p:cNvPicPr/>
          <p:nvPr/>
        </p:nvPicPr>
        <p:blipFill>
          <a:blip r:embed="rId4"/>
          <a:stretch/>
        </p:blipFill>
        <p:spPr>
          <a:xfrm>
            <a:off x="3176640" y="2809800"/>
            <a:ext cx="1511280" cy="137808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4654-C9AF-4261-81DA-4519E2820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286680" y="16714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279"/>
          <p:cNvSpPr/>
          <p:nvPr/>
        </p:nvSpPr>
        <p:spPr>
          <a:xfrm>
            <a:off x="3214800" y="4427640"/>
            <a:ext cx="2052360" cy="201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266"/>
          <p:cNvGrpSpPr/>
          <p:nvPr/>
        </p:nvGrpSpPr>
        <p:grpSpPr>
          <a:xfrm>
            <a:off x="1157400" y="2054160"/>
            <a:ext cx="2496960" cy="2034720"/>
            <a:chOff x="1157400" y="2054160"/>
            <a:chExt cx="2496960" cy="2034720"/>
          </a:xfrm>
        </p:grpSpPr>
        <p:pic>
          <p:nvPicPr>
            <p:cNvPr id="188" name="Group 56" descr=""/>
            <p:cNvPicPr/>
            <p:nvPr/>
          </p:nvPicPr>
          <p:blipFill>
            <a:blip r:embed="rId2"/>
            <a:stretch/>
          </p:blipFill>
          <p:spPr>
            <a:xfrm>
              <a:off x="1626840" y="2559960"/>
              <a:ext cx="1315800" cy="70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Group 56" descr=""/>
            <p:cNvPicPr/>
            <p:nvPr/>
          </p:nvPicPr>
          <p:blipFill>
            <a:blip r:embed="rId3"/>
            <a:stretch/>
          </p:blipFill>
          <p:spPr>
            <a:xfrm>
              <a:off x="1285920" y="2432160"/>
              <a:ext cx="204552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Хорда 155"/>
            <p:cNvSpPr/>
            <p:nvPr/>
          </p:nvSpPr>
          <p:spPr>
            <a:xfrm rot="15100200">
              <a:off x="1691280" y="1992600"/>
              <a:ext cx="1428840" cy="2157120"/>
            </a:xfrm>
            <a:prstGeom prst="pie">
              <a:avLst/>
            </a:pr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Group 56" descr=""/>
            <p:cNvPicPr/>
            <p:nvPr/>
          </p:nvPicPr>
          <p:blipFill>
            <a:blip r:embed="rId4"/>
            <a:stretch/>
          </p:blipFill>
          <p:spPr>
            <a:xfrm>
              <a:off x="1351440" y="2748960"/>
              <a:ext cx="170460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Скругленный прямоугольник 241" descr=""/>
          <p:cNvPicPr/>
          <p:nvPr/>
        </p:nvPicPr>
        <p:blipFill>
          <a:blip r:embed="rId5"/>
          <a:stretch/>
        </p:blipFill>
        <p:spPr>
          <a:xfrm>
            <a:off x="500040" y="1017720"/>
            <a:ext cx="266400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Скругленный прямоугольник 242" descr=""/>
          <p:cNvPicPr/>
          <p:nvPr/>
        </p:nvPicPr>
        <p:blipFill>
          <a:blip r:embed="rId6"/>
          <a:stretch/>
        </p:blipFill>
        <p:spPr>
          <a:xfrm>
            <a:off x="4363920" y="1414440"/>
            <a:ext cx="2938680" cy="676440"/>
          </a:xfrm>
          <a:prstGeom prst="rect">
            <a:avLst/>
          </a:prstGeom>
          <a:ln w="0">
            <a:noFill/>
          </a:ln>
        </p:spPr>
      </p:pic>
      <p:grpSp>
        <p:nvGrpSpPr>
          <p:cNvPr id="194" name="Группа 244"/>
          <p:cNvGrpSpPr/>
          <p:nvPr/>
        </p:nvGrpSpPr>
        <p:grpSpPr>
          <a:xfrm>
            <a:off x="285840" y="4340160"/>
            <a:ext cx="2714400" cy="2266920"/>
            <a:chOff x="285840" y="4340160"/>
            <a:chExt cx="2714400" cy="2266920"/>
          </a:xfrm>
        </p:grpSpPr>
        <p:pic>
          <p:nvPicPr>
            <p:cNvPr id="195" name="Скругленный прямоугольник 245" descr=""/>
            <p:cNvPicPr/>
            <p:nvPr/>
          </p:nvPicPr>
          <p:blipFill>
            <a:blip r:embed="rId7"/>
            <a:stretch/>
          </p:blipFill>
          <p:spPr>
            <a:xfrm>
              <a:off x="285840" y="4340160"/>
              <a:ext cx="271440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Рисунок 246" descr="солевые озера.gif"/>
            <p:cNvPicPr/>
            <p:nvPr/>
          </p:nvPicPr>
          <p:blipFill>
            <a:blip r:embed="rId8"/>
            <a:stretch/>
          </p:blipFill>
          <p:spPr>
            <a:xfrm>
              <a:off x="585000" y="5009040"/>
              <a:ext cx="2199240" cy="1344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97" name="TextBox 43" descr=""/>
            <p:cNvPicPr/>
            <p:nvPr/>
          </p:nvPicPr>
          <p:blipFill>
            <a:blip r:embed="rId9"/>
            <a:stretch/>
          </p:blipFill>
          <p:spPr>
            <a:xfrm>
              <a:off x="731160" y="4352040"/>
              <a:ext cx="1426320" cy="40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Скругленный прямоугольник 248" descr=""/>
          <p:cNvPicPr/>
          <p:nvPr/>
        </p:nvPicPr>
        <p:blipFill>
          <a:blip r:embed="rId10"/>
          <a:stretch/>
        </p:blipFill>
        <p:spPr>
          <a:xfrm>
            <a:off x="420840" y="4492800"/>
            <a:ext cx="2584440" cy="2084040"/>
          </a:xfrm>
          <a:prstGeom prst="rect">
            <a:avLst/>
          </a:prstGeom>
          <a:ln w="0">
            <a:noFill/>
          </a:ln>
        </p:spPr>
      </p:pic>
      <p:pic>
        <p:nvPicPr>
          <p:cNvPr id="199" name="Скругленный прямоугольник 249" descr="состав"/>
          <p:cNvPicPr/>
          <p:nvPr/>
        </p:nvPicPr>
        <p:blipFill>
          <a:blip r:embed="rId11"/>
          <a:stretch/>
        </p:blipFill>
        <p:spPr>
          <a:xfrm>
            <a:off x="579600" y="1311120"/>
            <a:ext cx="2511360" cy="481320"/>
          </a:xfrm>
          <a:prstGeom prst="rect">
            <a:avLst/>
          </a:prstGeom>
          <a:ln w="0">
            <a:noFill/>
          </a:ln>
        </p:spPr>
      </p:pic>
      <p:pic>
        <p:nvPicPr>
          <p:cNvPr id="200" name="Скругленный прямоугольник 250" descr=""/>
          <p:cNvPicPr/>
          <p:nvPr/>
        </p:nvPicPr>
        <p:blipFill>
          <a:blip r:embed="rId12"/>
          <a:stretch/>
        </p:blipFill>
        <p:spPr>
          <a:xfrm>
            <a:off x="4565520" y="1523880"/>
            <a:ext cx="2584440" cy="48096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259"/>
          <p:cNvSpPr/>
          <p:nvPr/>
        </p:nvSpPr>
        <p:spPr>
          <a:xfrm>
            <a:off x="321480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Выгнутая вправо стрелка 263"/>
          <p:cNvSpPr/>
          <p:nvPr/>
        </p:nvSpPr>
        <p:spPr>
          <a:xfrm rot="17643600">
            <a:off x="3069360" y="1838880"/>
            <a:ext cx="436680" cy="1215720"/>
          </a:xfrm>
          <a:custGeom>
            <a:avLst/>
            <a:gdLst>
              <a:gd name="textAreaLeft" fmla="*/ 58320 w 436680"/>
              <a:gd name="textAreaRight" fmla="*/ 378360 w 436680"/>
              <a:gd name="textAreaTop" fmla="*/ 258480 h 1215720"/>
              <a:gd name="textAreaBottom" fmla="*/ 88452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2016553"/>
                <a:lnTo>
                  <a:pt x="11641" y="20152"/>
                </a:lnTo>
                <a:lnTo>
                  <a:pt x="0" y="19339"/>
                </a:lnTo>
                <a:lnTo>
                  <a:pt x="11641" y="15630"/>
                </a:lnTo>
                <a:lnTo>
                  <a:pt x="11641" y="16922"/>
                </a:lnTo>
                <a:arcTo wR="21600" hR="9185" stAng="2016553" swAng="-1861571"/>
                <a:lnTo>
                  <a:pt x="21479" y="10154"/>
                </a:lnTo>
                <a:arcTo wR="21600" hR="9185" stAng="-154982" swAng="-5245018"/>
                <a:close/>
              </a:path>
              <a:path fill="darkenLess"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-154982"/>
                <a:lnTo>
                  <a:pt x="21479" y="10154"/>
                </a:lnTo>
                <a:arcTo wR="21600" hR="9185" stAng="-154982" swAng="-52450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264"/>
          <p:cNvSpPr/>
          <p:nvPr/>
        </p:nvSpPr>
        <p:spPr>
          <a:xfrm rot="3940800">
            <a:off x="847800" y="1922400"/>
            <a:ext cx="459000" cy="1217520"/>
          </a:xfrm>
          <a:custGeom>
            <a:avLst/>
            <a:gdLst>
              <a:gd name="textAreaLeft" fmla="*/ 61200 w 459000"/>
              <a:gd name="textAreaRight" fmla="*/ 397800 w 459000"/>
              <a:gd name="textAreaTop" fmla="*/ 252000 h 1217520"/>
              <a:gd name="textAreaBottom" fmla="*/ 874440 h 121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44" stAng="-5400000" swAng="-5400000"/>
                <a:lnTo>
                  <a:pt x="0" y="11041"/>
                </a:lnTo>
                <a:arcTo wR="21600" hR="8944" stAng="10800000" swAng="-2114661"/>
                <a:lnTo>
                  <a:pt x="10679" y="20373"/>
                </a:lnTo>
                <a:lnTo>
                  <a:pt x="21600" y="18937"/>
                </a:lnTo>
                <a:lnTo>
                  <a:pt x="10679" y="15046"/>
                </a:lnTo>
                <a:lnTo>
                  <a:pt x="10679" y="16661"/>
                </a:lnTo>
                <a:arcTo wR="21600" hR="8944" stAng="8685339" swAng="1946763"/>
                <a:lnTo>
                  <a:pt x="149" y="9993"/>
                </a:lnTo>
                <a:arcTo wR="21600" hR="8944" stAng="-10632101" swAng="5232101"/>
                <a:close/>
              </a:path>
              <a:path fill="darkenLess" w="21600" h="21600">
                <a:moveTo>
                  <a:pt x="21600" y="0"/>
                </a:moveTo>
                <a:arcTo wR="21600" hR="8944" stAng="-5400000" swAng="-5400000"/>
                <a:lnTo>
                  <a:pt x="0" y="8944"/>
                </a:lnTo>
                <a:arcTo wR="21600" hR="8944" stAng="10800000" swAng="-167899"/>
                <a:lnTo>
                  <a:pt x="149" y="9993"/>
                </a:lnTo>
                <a:arcTo wR="21600" hR="8944" stAng="-10632101" swAng="523210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269"/>
          <p:cNvGrpSpPr/>
          <p:nvPr/>
        </p:nvGrpSpPr>
        <p:grpSpPr>
          <a:xfrm>
            <a:off x="3286080" y="2928960"/>
            <a:ext cx="914400" cy="914400"/>
            <a:chOff x="3286080" y="2928960"/>
            <a:chExt cx="914400" cy="914400"/>
          </a:xfrm>
        </p:grpSpPr>
        <p:sp>
          <p:nvSpPr>
            <p:cNvPr id="205" name="Овал 267"/>
            <p:cNvSpPr/>
            <p:nvPr/>
          </p:nvSpPr>
          <p:spPr>
            <a:xfrm>
              <a:off x="3286080" y="2977560"/>
              <a:ext cx="885600" cy="8658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Прямоугольник 268" descr=""/>
            <p:cNvPicPr/>
            <p:nvPr/>
          </p:nvPicPr>
          <p:blipFill>
            <a:blip r:embed="rId13"/>
            <a:stretch/>
          </p:blipFill>
          <p:spPr>
            <a:xfrm>
              <a:off x="3746160" y="2928960"/>
              <a:ext cx="45432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Группа 273"/>
          <p:cNvGrpSpPr/>
          <p:nvPr/>
        </p:nvGrpSpPr>
        <p:grpSpPr>
          <a:xfrm>
            <a:off x="357120" y="3000240"/>
            <a:ext cx="857160" cy="857520"/>
            <a:chOff x="357120" y="3000240"/>
            <a:chExt cx="857160" cy="857520"/>
          </a:xfrm>
        </p:grpSpPr>
        <p:sp>
          <p:nvSpPr>
            <p:cNvPr id="208" name="Овал 271"/>
            <p:cNvSpPr/>
            <p:nvPr/>
          </p:nvSpPr>
          <p:spPr>
            <a:xfrm>
              <a:off x="357120" y="3047400"/>
              <a:ext cx="852480" cy="81036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Прямоугольник 272" descr=""/>
            <p:cNvPicPr/>
            <p:nvPr/>
          </p:nvPicPr>
          <p:blipFill>
            <a:blip r:embed="rId14"/>
            <a:stretch/>
          </p:blipFill>
          <p:spPr>
            <a:xfrm>
              <a:off x="686880" y="3000240"/>
              <a:ext cx="527400" cy="48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Box 274"/>
          <p:cNvSpPr/>
          <p:nvPr/>
        </p:nvSpPr>
        <p:spPr>
          <a:xfrm>
            <a:off x="3296880" y="40006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права к п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5"/>
          <p:cNvSpPr/>
          <p:nvPr/>
        </p:nvSpPr>
        <p:spPr>
          <a:xfrm>
            <a:off x="5222880" y="378612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ервиру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6"/>
          <p:cNvSpPr/>
          <p:nvPr/>
        </p:nvSpPr>
        <p:spPr>
          <a:xfrm>
            <a:off x="6994800" y="40006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кругленный прямоугольник 281" descr=""/>
          <p:cNvPicPr/>
          <p:nvPr/>
        </p:nvPicPr>
        <p:blipFill>
          <a:blip r:embed="rId15"/>
          <a:stretch/>
        </p:blipFill>
        <p:spPr>
          <a:xfrm>
            <a:off x="4413240" y="2266920"/>
            <a:ext cx="4608360" cy="13971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82" descr=""/>
          <p:cNvPicPr/>
          <p:nvPr/>
        </p:nvPicPr>
        <p:blipFill>
          <a:blip r:embed="rId16"/>
          <a:stretch/>
        </p:blipFill>
        <p:spPr>
          <a:xfrm>
            <a:off x="4645080" y="2322360"/>
            <a:ext cx="2620800" cy="439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83"/>
          <p:cNvSpPr/>
          <p:nvPr/>
        </p:nvSpPr>
        <p:spPr>
          <a:xfrm>
            <a:off x="4714920" y="2714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еная на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 растворяется в воде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ая температура  пл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Скругленный прямоугольник 286" descr=""/>
          <p:cNvPicPr/>
          <p:nvPr/>
        </p:nvPicPr>
        <p:blipFill>
          <a:blip r:embed="rId17"/>
          <a:stretch/>
        </p:blipFill>
        <p:spPr>
          <a:xfrm>
            <a:off x="4565520" y="2352600"/>
            <a:ext cx="4297320" cy="1225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65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аренная с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2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2A1C-2882-4CF4-9283-DA0A38A88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80"/>
          <p:cNvSpPr/>
          <p:nvPr/>
        </p:nvSpPr>
        <p:spPr>
          <a:xfrm>
            <a:off x="5000760" y="4427640"/>
            <a:ext cx="2052360" cy="201600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84"/>
          <p:cNvSpPr/>
          <p:nvPr/>
        </p:nvSpPr>
        <p:spPr>
          <a:xfrm>
            <a:off x="6572160" y="4427640"/>
            <a:ext cx="2052720" cy="20160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60"/>
          <p:cNvSpPr/>
          <p:nvPr/>
        </p:nvSpPr>
        <p:spPr>
          <a:xfrm>
            <a:off x="500076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61"/>
          <p:cNvSpPr/>
          <p:nvPr/>
        </p:nvSpPr>
        <p:spPr>
          <a:xfrm>
            <a:off x="6572160" y="4413240"/>
            <a:ext cx="205272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кругленный прямоугольник 36" descr=""/>
          <p:cNvPicPr/>
          <p:nvPr/>
        </p:nvPicPr>
        <p:blipFill>
          <a:blip r:embed="rId1"/>
          <a:stretch/>
        </p:blipFill>
        <p:spPr>
          <a:xfrm>
            <a:off x="6126120" y="1341360"/>
            <a:ext cx="2749680" cy="2766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бонат каль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3090960" y="1274760"/>
            <a:ext cx="2786040" cy="669960"/>
          </a:xfrm>
          <a:prstGeom prst="rect">
            <a:avLst/>
          </a:prstGeom>
          <a:ln w="0">
            <a:noFill/>
          </a:ln>
        </p:spPr>
      </p:pic>
      <p:pic>
        <p:nvPicPr>
          <p:cNvPr id="227" name="Группа 21" descr=""/>
          <p:cNvPicPr/>
          <p:nvPr/>
        </p:nvPicPr>
        <p:blipFill>
          <a:blip r:embed="rId3"/>
          <a:stretch/>
        </p:blipFill>
        <p:spPr>
          <a:xfrm>
            <a:off x="341280" y="4194000"/>
            <a:ext cx="5578560" cy="230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Группа 32"/>
          <p:cNvGrpSpPr/>
          <p:nvPr/>
        </p:nvGrpSpPr>
        <p:grpSpPr>
          <a:xfrm>
            <a:off x="6143760" y="4214880"/>
            <a:ext cx="2714400" cy="2268360"/>
            <a:chOff x="6143760" y="4214880"/>
            <a:chExt cx="2714400" cy="2268360"/>
          </a:xfrm>
        </p:grpSpPr>
        <p:pic>
          <p:nvPicPr>
            <p:cNvPr id="229" name="Скругленный 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6143760" y="4214880"/>
              <a:ext cx="2714400" cy="22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extBox 43" descr=""/>
            <p:cNvPicPr/>
            <p:nvPr/>
          </p:nvPicPr>
          <p:blipFill>
            <a:blip r:embed="rId5"/>
            <a:stretch/>
          </p:blipFill>
          <p:spPr>
            <a:xfrm>
              <a:off x="6589080" y="4226760"/>
              <a:ext cx="142632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Группа 38"/>
          <p:cNvGrpSpPr/>
          <p:nvPr/>
        </p:nvGrpSpPr>
        <p:grpSpPr>
          <a:xfrm>
            <a:off x="357120" y="2052720"/>
            <a:ext cx="5543640" cy="2019240"/>
            <a:chOff x="357120" y="2052720"/>
            <a:chExt cx="5543640" cy="2019240"/>
          </a:xfrm>
        </p:grpSpPr>
        <p:pic>
          <p:nvPicPr>
            <p:cNvPr id="232" name="Скругленный прямоугольник 33" descr=""/>
            <p:cNvPicPr/>
            <p:nvPr/>
          </p:nvPicPr>
          <p:blipFill>
            <a:blip r:embed="rId6"/>
            <a:stretch/>
          </p:blipFill>
          <p:spPr>
            <a:xfrm>
              <a:off x="357120" y="2052720"/>
              <a:ext cx="554364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TextBox 34" descr=""/>
            <p:cNvPicPr/>
            <p:nvPr/>
          </p:nvPicPr>
          <p:blipFill>
            <a:blip r:embed="rId7"/>
            <a:stretch/>
          </p:blipFill>
          <p:spPr>
            <a:xfrm>
              <a:off x="871920" y="2106360"/>
              <a:ext cx="3259440" cy="4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TextBox 37" descr=""/>
          <p:cNvPicPr/>
          <p:nvPr/>
        </p:nvPicPr>
        <p:blipFill>
          <a:blip r:embed="rId8"/>
          <a:stretch/>
        </p:blipFill>
        <p:spPr>
          <a:xfrm>
            <a:off x="6431040" y="1322280"/>
            <a:ext cx="1755720" cy="439920"/>
          </a:xfrm>
          <a:prstGeom prst="rect">
            <a:avLst/>
          </a:prstGeom>
          <a:ln w="0">
            <a:noFill/>
          </a:ln>
        </p:spPr>
      </p:pic>
      <p:pic>
        <p:nvPicPr>
          <p:cNvPr id="235" name="Скругленный прямоугольник 26" descr=""/>
          <p:cNvPicPr/>
          <p:nvPr/>
        </p:nvPicPr>
        <p:blipFill>
          <a:blip r:embed="rId9"/>
          <a:stretch/>
        </p:blipFill>
        <p:spPr>
          <a:xfrm>
            <a:off x="407880" y="1182600"/>
            <a:ext cx="266400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Скругленный прямоугольник 29" descr=""/>
          <p:cNvPicPr/>
          <p:nvPr/>
        </p:nvPicPr>
        <p:blipFill>
          <a:blip r:embed="rId10"/>
          <a:stretch/>
        </p:blipFill>
        <p:spPr>
          <a:xfrm>
            <a:off x="3279600" y="138420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0" descr=""/>
          <p:cNvPicPr/>
          <p:nvPr/>
        </p:nvPicPr>
        <p:blipFill>
          <a:blip r:embed="rId11"/>
          <a:stretch/>
        </p:blipFill>
        <p:spPr>
          <a:xfrm>
            <a:off x="493560" y="142092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43" descr=""/>
          <p:cNvPicPr/>
          <p:nvPr/>
        </p:nvPicPr>
        <p:blipFill>
          <a:blip r:embed="rId12"/>
          <a:stretch/>
        </p:blipFill>
        <p:spPr>
          <a:xfrm>
            <a:off x="353880" y="4565520"/>
            <a:ext cx="5370480" cy="187164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44" descr=""/>
          <p:cNvPicPr/>
          <p:nvPr/>
        </p:nvPicPr>
        <p:blipFill>
          <a:blip r:embed="rId13"/>
          <a:stretch/>
        </p:blipFill>
        <p:spPr>
          <a:xfrm>
            <a:off x="420840" y="4280040"/>
            <a:ext cx="5370480" cy="21762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5"/>
          <p:cNvSpPr/>
          <p:nvPr/>
        </p:nvSpPr>
        <p:spPr>
          <a:xfrm>
            <a:off x="7651800" y="8571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2" descr="c3215p.jpg"/>
          <p:cNvPicPr/>
          <p:nvPr/>
        </p:nvPicPr>
        <p:blipFill>
          <a:blip r:embed="rId14"/>
          <a:stretch/>
        </p:blipFill>
        <p:spPr>
          <a:xfrm>
            <a:off x="6232680" y="2000160"/>
            <a:ext cx="24825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2" name="Скругленный прямоугольник 41" descr=""/>
          <p:cNvPicPr/>
          <p:nvPr/>
        </p:nvPicPr>
        <p:blipFill>
          <a:blip r:embed="rId15"/>
          <a:stretch/>
        </p:blipFill>
        <p:spPr>
          <a:xfrm>
            <a:off x="6211800" y="1420920"/>
            <a:ext cx="2578320" cy="26082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6"/>
          <p:cNvSpPr/>
          <p:nvPr/>
        </p:nvSpPr>
        <p:spPr>
          <a:xfrm>
            <a:off x="6215040" y="450072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ат кальция - одно из самых распространенных на Земле соединений. Его содержат такие горные породы как мел, мрамор, известн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кругленный прямоугольник 42" descr=""/>
          <p:cNvPicPr/>
          <p:nvPr/>
        </p:nvPicPr>
        <p:blipFill>
          <a:blip r:embed="rId16"/>
          <a:stretch/>
        </p:blipFill>
        <p:spPr>
          <a:xfrm>
            <a:off x="6211800" y="4352760"/>
            <a:ext cx="2578320" cy="20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5A3-0212-4638-AD44-B62FBF4A9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071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я. Базовый курс, 8-9 к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3 -  «Свойства неорганических вещест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урок «Щелочные и щелочноземельные металлы»/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ли щелочных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Содержимое 9" descr="1С Базовый уровень-1.gif"/>
          <p:cNvPicPr/>
          <p:nvPr/>
        </p:nvPicPr>
        <p:blipFill>
          <a:blip r:embed="rId1"/>
          <a:srcRect l="0" t="21172" r="0" b="0"/>
          <a:stretch/>
        </p:blipFill>
        <p:spPr>
          <a:xfrm>
            <a:off x="5072040" y="1357200"/>
            <a:ext cx="2143080" cy="133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 Образовательная коллек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Химия. Базовый курс, 8-9 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1С Базовый уровень"/>
          <p:cNvPicPr/>
          <p:nvPr/>
        </p:nvPicPr>
        <p:blipFill>
          <a:blip r:embed="rId2"/>
          <a:srcRect l="0" t="0" r="0" b="62499"/>
          <a:stretch/>
        </p:blipFill>
        <p:spPr>
          <a:xfrm>
            <a:off x="5072040" y="2714760"/>
            <a:ext cx="3214800" cy="88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Picture 3" descr="1С Базовый уровень-2"/>
          <p:cNvPicPr/>
          <p:nvPr/>
        </p:nvPicPr>
        <p:blipFill>
          <a:blip r:embed="rId3"/>
          <a:stretch/>
        </p:blipFill>
        <p:spPr>
          <a:xfrm>
            <a:off x="5072040" y="3722760"/>
            <a:ext cx="3214800" cy="7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1" name="Picture 4" descr="1С Базовый уровень-3"/>
          <p:cNvPicPr/>
          <p:nvPr/>
        </p:nvPicPr>
        <p:blipFill>
          <a:blip r:embed="rId4"/>
          <a:stretch/>
        </p:blipFill>
        <p:spPr>
          <a:xfrm>
            <a:off x="5000760" y="4500720"/>
            <a:ext cx="2214360" cy="139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941-7ABA-4717-B7F5-59CE9EEAF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С:Школа. Химия, 8кла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«Галере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Фотоальб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и/Кислые/Основны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ералы/ Полудрагоценные и поделочные камни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ядок/ Малах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ссылки, рассмотрите фотографии  и познакомьтесь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Школа. Химия, 8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1С Школа 8 класс"/>
          <p:cNvPicPr/>
          <p:nvPr/>
        </p:nvPicPr>
        <p:blipFill>
          <a:blip r:embed="rId1"/>
          <a:stretch/>
        </p:blipFill>
        <p:spPr>
          <a:xfrm>
            <a:off x="5286240" y="1500120"/>
            <a:ext cx="2928960" cy="219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1С Школа 8 класс-1"/>
          <p:cNvPicPr/>
          <p:nvPr/>
        </p:nvPicPr>
        <p:blipFill>
          <a:blip r:embed="rId2"/>
          <a:srcRect l="0" t="0" r="6542" b="0"/>
          <a:stretch/>
        </p:blipFill>
        <p:spPr>
          <a:xfrm>
            <a:off x="4857840" y="3929040"/>
            <a:ext cx="3838320" cy="1601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9DD-3479-42DF-9A60-93A6060A3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Виртуальная лаборатор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вкладку Коллекц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«Свойства неорганических веществ»/выбери урок «Щелочные и щелочноземельные металлы»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∙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ли кальция и маг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Учебное электронное издание. Химия (8-11 класс). Виртуальная лаборато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Содержимое 9" descr="Виртуальная-лаборатория-1.gif"/>
          <p:cNvPicPr/>
          <p:nvPr/>
        </p:nvPicPr>
        <p:blipFill>
          <a:blip r:embed="rId1"/>
          <a:stretch/>
        </p:blipFill>
        <p:spPr>
          <a:xfrm>
            <a:off x="5619600" y="1428840"/>
            <a:ext cx="2595600" cy="1857240"/>
          </a:xfrm>
          <a:prstGeom prst="rect">
            <a:avLst/>
          </a:prstGeom>
          <a:ln w="0">
            <a:noFill/>
          </a:ln>
        </p:spPr>
      </p:pic>
      <p:sp>
        <p:nvSpPr>
          <p:cNvPr id="263" name="Oval 3"/>
          <p:cNvSpPr/>
          <p:nvPr/>
        </p:nvSpPr>
        <p:spPr>
          <a:xfrm>
            <a:off x="5592600" y="1541520"/>
            <a:ext cx="3366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11" descr="Виртуальная-лаборатория-3.gif"/>
          <p:cNvPicPr/>
          <p:nvPr/>
        </p:nvPicPr>
        <p:blipFill>
          <a:blip r:embed="rId2"/>
          <a:stretch/>
        </p:blipFill>
        <p:spPr>
          <a:xfrm>
            <a:off x="5214960" y="3429000"/>
            <a:ext cx="3571920" cy="11556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5"/>
          <p:cNvSpPr/>
          <p:nvPr/>
        </p:nvSpPr>
        <p:spPr>
          <a:xfrm>
            <a:off x="7143840" y="4319640"/>
            <a:ext cx="129960" cy="142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4" descr=""/>
          <p:cNvPicPr/>
          <p:nvPr/>
        </p:nvPicPr>
        <p:blipFill>
          <a:blip r:embed="rId3"/>
          <a:stretch/>
        </p:blipFill>
        <p:spPr>
          <a:xfrm>
            <a:off x="5214960" y="4643280"/>
            <a:ext cx="3571920" cy="12859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6286680" y="5000760"/>
            <a:ext cx="142560" cy="642960"/>
          </a:xfrm>
          <a:custGeom>
            <a:avLst/>
            <a:gdLst>
              <a:gd name="textAreaLeft" fmla="*/ 0 w 142560"/>
              <a:gd name="textAreaRight" fmla="*/ 51480 w 142560"/>
              <a:gd name="textAreaTop" fmla="*/ 19080 h 642960"/>
              <a:gd name="textAreaBottom" fmla="*/ 62388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3"/>
                  <a:pt x="10800" y="2065"/>
                </a:cubicBezTo>
                <a:lnTo>
                  <a:pt x="10800" y="8735"/>
                </a:lnTo>
                <a:cubicBezTo>
                  <a:pt x="10800" y="9768"/>
                  <a:pt x="16200" y="10800"/>
                  <a:pt x="21600" y="10800"/>
                </a:cubicBezTo>
                <a:cubicBezTo>
                  <a:pt x="16200" y="10800"/>
                  <a:pt x="10800" y="11833"/>
                  <a:pt x="10800" y="12865"/>
                </a:cubicBezTo>
                <a:lnTo>
                  <a:pt x="10800" y="19535"/>
                </a:lnTo>
                <a:cubicBezTo>
                  <a:pt x="10800" y="205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ли как производны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ислот и основ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96"/>
                </a:solidFill>
                <a:latin typeface="Calibri"/>
              </a:rPr>
              <a:t>Соли как производные кислот и осн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42960" y="121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Подготовка к восприятию нов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Н о в о е</a:t>
            </a: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ли вокруг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став и названия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«Обратные» генетические 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р р е к ц и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Важнейшие представители солей. Свойства и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1. Работа с образовательными </a:t>
            </a:r>
            <a:r>
              <a:rPr b="0" lang="en-US" sz="2400" spc="-1" strike="noStrike">
                <a:solidFill>
                  <a:srgbClr val="0047d6"/>
                </a:solidFill>
                <a:latin typeface="Calibri"/>
              </a:rPr>
              <a:t>CD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по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2. Лабораторный опыт №1 «Знакомство с образцами со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н т р о л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Задания, направленные на развитие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ED3-C3AA-4AF7-8662-E87AF433D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ли вокруг н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11"/>
          <p:cNvGrpSpPr/>
          <p:nvPr/>
        </p:nvGrpSpPr>
        <p:grpSpPr>
          <a:xfrm>
            <a:off x="500040" y="1928880"/>
            <a:ext cx="7734240" cy="1836720"/>
            <a:chOff x="500040" y="1928880"/>
            <a:chExt cx="7734240" cy="1836720"/>
          </a:xfrm>
        </p:grpSpPr>
        <p:pic>
          <p:nvPicPr>
            <p:cNvPr id="52" name="Рисунок 4" descr="L25p1p06.jpg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7862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3" name="Рисунок 6" descr="L18w2p00.jpg"/>
            <p:cNvPicPr/>
            <p:nvPr/>
          </p:nvPicPr>
          <p:blipFill>
            <a:blip r:embed="rId3"/>
            <a:stretch/>
          </p:blipFill>
          <p:spPr>
            <a:xfrm>
              <a:off x="31240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4" name="Рисунок 7" descr="L25p7p05.jpg"/>
            <p:cNvPicPr/>
            <p:nvPr/>
          </p:nvPicPr>
          <p:blipFill>
            <a:blip r:embed="rId4"/>
            <a:stretch/>
          </p:blipFill>
          <p:spPr>
            <a:xfrm>
              <a:off x="50004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5" name="Группа 12"/>
          <p:cNvGrpSpPr/>
          <p:nvPr/>
        </p:nvGrpSpPr>
        <p:grpSpPr>
          <a:xfrm>
            <a:off x="428760" y="1928880"/>
            <a:ext cx="7753320" cy="1857240"/>
            <a:chOff x="428760" y="1928880"/>
            <a:chExt cx="7753320" cy="1857240"/>
          </a:xfrm>
        </p:grpSpPr>
        <p:pic>
          <p:nvPicPr>
            <p:cNvPr id="56" name="Рисунок 5" descr="L25p8p01.jpg"/>
            <p:cNvPicPr/>
            <p:nvPr/>
          </p:nvPicPr>
          <p:blipFill>
            <a:blip r:embed="rId5"/>
            <a:stretch/>
          </p:blipFill>
          <p:spPr>
            <a:xfrm>
              <a:off x="30718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7" name="Рисунок 8" descr="L25p8p03.jp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34080" y="194940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8" name="Рисунок 9" descr="L25p8p04.jpg"/>
            <p:cNvPicPr/>
            <p:nvPr/>
          </p:nvPicPr>
          <p:blipFill>
            <a:blip r:embed="rId8"/>
            <a:stretch/>
          </p:blipFill>
          <p:spPr>
            <a:xfrm>
              <a:off x="42876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" name="Пятиугольник 10"/>
          <p:cNvSpPr/>
          <p:nvPr/>
        </p:nvSpPr>
        <p:spPr>
          <a:xfrm>
            <a:off x="8429760" y="1928880"/>
            <a:ext cx="357120" cy="1979640"/>
          </a:xfrm>
          <a:custGeom>
            <a:avLst/>
            <a:gdLst>
              <a:gd name="textAreaLeft" fmla="*/ 0 w 357120"/>
              <a:gd name="textAreaRight" fmla="*/ 357480 w 35712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357120" y="4214880"/>
            <a:ext cx="8229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часто встречающиеся соединения, входящие в состав камней и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ие из них широко используются нами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6712200" y="1571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перссы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EDE-B01C-4A01-9DAA-678D24D51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8340840" y="27147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ж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и – это сложные вещества, состоящие из ионов металлов и кислотных оста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7160" y="3286080"/>
            <a:ext cx="7929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Cl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00280" y="278604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ионов входят в состав со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1CC-81F4-4F8D-8AB7-00B431E2D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7"/>
          <p:cNvGrpSpPr/>
          <p:nvPr/>
        </p:nvGrpSpPr>
        <p:grpSpPr>
          <a:xfrm>
            <a:off x="500040" y="4000680"/>
            <a:ext cx="1079640" cy="1079280"/>
            <a:chOff x="500040" y="4000680"/>
            <a:chExt cx="1079640" cy="1079280"/>
          </a:xfrm>
        </p:grpSpPr>
        <p:sp>
          <p:nvSpPr>
            <p:cNvPr id="70" name="Овал 8"/>
            <p:cNvSpPr/>
            <p:nvPr/>
          </p:nvSpPr>
          <p:spPr>
            <a:xfrm>
              <a:off x="500040" y="4048560"/>
              <a:ext cx="1079640" cy="10314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987480" y="4000680"/>
              <a:ext cx="53028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0"/>
          <p:cNvGrpSpPr/>
          <p:nvPr/>
        </p:nvGrpSpPr>
        <p:grpSpPr>
          <a:xfrm>
            <a:off x="1428840" y="4000680"/>
            <a:ext cx="1079280" cy="1079280"/>
            <a:chOff x="1428840" y="4000680"/>
            <a:chExt cx="1079280" cy="1079280"/>
          </a:xfrm>
        </p:grpSpPr>
        <p:sp>
          <p:nvSpPr>
            <p:cNvPr id="73" name="Овал 11"/>
            <p:cNvSpPr/>
            <p:nvPr/>
          </p:nvSpPr>
          <p:spPr>
            <a:xfrm>
              <a:off x="1428840" y="4048560"/>
              <a:ext cx="1079280" cy="10314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2030040" y="4000680"/>
              <a:ext cx="4694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13"/>
          <p:cNvGrpSpPr/>
          <p:nvPr/>
        </p:nvGrpSpPr>
        <p:grpSpPr>
          <a:xfrm>
            <a:off x="2714760" y="4357800"/>
            <a:ext cx="1071360" cy="928440"/>
            <a:chOff x="2714760" y="4357800"/>
            <a:chExt cx="1071360" cy="928440"/>
          </a:xfrm>
        </p:grpSpPr>
        <p:sp>
          <p:nvSpPr>
            <p:cNvPr id="76" name="Овал 14"/>
            <p:cNvSpPr/>
            <p:nvPr/>
          </p:nvSpPr>
          <p:spPr>
            <a:xfrm>
              <a:off x="2714760" y="4408560"/>
              <a:ext cx="107136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3194280" y="435780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Группа 16"/>
          <p:cNvGrpSpPr/>
          <p:nvPr/>
        </p:nvGrpSpPr>
        <p:grpSpPr>
          <a:xfrm>
            <a:off x="3500280" y="4786200"/>
            <a:ext cx="1285920" cy="1285920"/>
            <a:chOff x="3500280" y="4786200"/>
            <a:chExt cx="1285920" cy="1285920"/>
          </a:xfrm>
        </p:grpSpPr>
        <p:sp>
          <p:nvSpPr>
            <p:cNvPr id="79" name="Овал 17"/>
            <p:cNvSpPr/>
            <p:nvPr/>
          </p:nvSpPr>
          <p:spPr>
            <a:xfrm>
              <a:off x="3500280" y="4786200"/>
              <a:ext cx="1285920" cy="128592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4132800" y="5016960"/>
              <a:ext cx="621720" cy="70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19"/>
          <p:cNvGrpSpPr/>
          <p:nvPr/>
        </p:nvGrpSpPr>
        <p:grpSpPr>
          <a:xfrm>
            <a:off x="4857840" y="3929040"/>
            <a:ext cx="1143000" cy="1143000"/>
            <a:chOff x="4857840" y="3929040"/>
            <a:chExt cx="1143000" cy="1143000"/>
          </a:xfrm>
        </p:grpSpPr>
        <p:sp>
          <p:nvSpPr>
            <p:cNvPr id="82" name="Овал 20"/>
            <p:cNvSpPr/>
            <p:nvPr/>
          </p:nvSpPr>
          <p:spPr>
            <a:xfrm>
              <a:off x="4857840" y="3929040"/>
              <a:ext cx="1143000" cy="11430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Прямоугольник 21" descr=""/>
            <p:cNvPicPr/>
            <p:nvPr/>
          </p:nvPicPr>
          <p:blipFill>
            <a:blip r:embed="rId5"/>
            <a:stretch/>
          </p:blipFill>
          <p:spPr>
            <a:xfrm>
              <a:off x="5303520" y="3949920"/>
              <a:ext cx="68292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Группа 22"/>
          <p:cNvGrpSpPr/>
          <p:nvPr/>
        </p:nvGrpSpPr>
        <p:grpSpPr>
          <a:xfrm>
            <a:off x="5572080" y="4572000"/>
            <a:ext cx="1285920" cy="1214280"/>
            <a:chOff x="5572080" y="4572000"/>
            <a:chExt cx="1285920" cy="1214280"/>
          </a:xfrm>
        </p:grpSpPr>
        <p:sp>
          <p:nvSpPr>
            <p:cNvPr id="85" name="Овал 23"/>
            <p:cNvSpPr/>
            <p:nvPr/>
          </p:nvSpPr>
          <p:spPr>
            <a:xfrm>
              <a:off x="5572080" y="4572000"/>
              <a:ext cx="128592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P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Прямоугольник 24" descr=""/>
            <p:cNvPicPr/>
            <p:nvPr/>
          </p:nvPicPr>
          <p:blipFill>
            <a:blip r:embed="rId6"/>
            <a:stretch/>
          </p:blipFill>
          <p:spPr>
            <a:xfrm>
              <a:off x="6181200" y="4699800"/>
              <a:ext cx="62172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25"/>
          <p:cNvGrpSpPr/>
          <p:nvPr/>
        </p:nvGrpSpPr>
        <p:grpSpPr>
          <a:xfrm>
            <a:off x="7072200" y="4143240"/>
            <a:ext cx="1285920" cy="1214640"/>
            <a:chOff x="7072200" y="4143240"/>
            <a:chExt cx="1285920" cy="1214640"/>
          </a:xfrm>
        </p:grpSpPr>
        <p:sp>
          <p:nvSpPr>
            <p:cNvPr id="88" name="Овал 26"/>
            <p:cNvSpPr/>
            <p:nvPr/>
          </p:nvSpPr>
          <p:spPr>
            <a:xfrm>
              <a:off x="7072200" y="4143240"/>
              <a:ext cx="1285920" cy="1214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Прямоугольник 27" descr=""/>
            <p:cNvPicPr/>
            <p:nvPr/>
          </p:nvPicPr>
          <p:blipFill>
            <a:blip r:embed="rId7"/>
            <a:stretch/>
          </p:blipFill>
          <p:spPr>
            <a:xfrm>
              <a:off x="7546680" y="4175280"/>
              <a:ext cx="68292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Группа 28"/>
          <p:cNvGrpSpPr/>
          <p:nvPr/>
        </p:nvGrpSpPr>
        <p:grpSpPr>
          <a:xfrm>
            <a:off x="7358040" y="5214960"/>
            <a:ext cx="1174680" cy="1214280"/>
            <a:chOff x="7358040" y="5214960"/>
            <a:chExt cx="1174680" cy="1214280"/>
          </a:xfrm>
        </p:grpSpPr>
        <p:sp>
          <p:nvSpPr>
            <p:cNvPr id="91" name="Овал 29"/>
            <p:cNvSpPr/>
            <p:nvPr/>
          </p:nvSpPr>
          <p:spPr>
            <a:xfrm>
              <a:off x="7358040" y="5214960"/>
              <a:ext cx="117468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Прямоугольник 30" descr=""/>
            <p:cNvPicPr/>
            <p:nvPr/>
          </p:nvPicPr>
          <p:blipFill>
            <a:blip r:embed="rId8"/>
            <a:stretch/>
          </p:blipFill>
          <p:spPr>
            <a:xfrm>
              <a:off x="7821000" y="5407200"/>
              <a:ext cx="621720" cy="6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па 31"/>
          <p:cNvGrpSpPr/>
          <p:nvPr/>
        </p:nvGrpSpPr>
        <p:grpSpPr>
          <a:xfrm>
            <a:off x="2500200" y="5357880"/>
            <a:ext cx="1071720" cy="928800"/>
            <a:chOff x="2500200" y="5357880"/>
            <a:chExt cx="1071720" cy="928800"/>
          </a:xfrm>
        </p:grpSpPr>
        <p:sp>
          <p:nvSpPr>
            <p:cNvPr id="94" name="Овал 32"/>
            <p:cNvSpPr/>
            <p:nvPr/>
          </p:nvSpPr>
          <p:spPr>
            <a:xfrm>
              <a:off x="2500200" y="5409000"/>
              <a:ext cx="107172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Прямоугольник 33" descr=""/>
            <p:cNvPicPr/>
            <p:nvPr/>
          </p:nvPicPr>
          <p:blipFill>
            <a:blip r:embed="rId9"/>
            <a:stretch/>
          </p:blipFill>
          <p:spPr>
            <a:xfrm>
              <a:off x="2980800" y="535788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2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Группа 14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5170320" cy="803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ление формулы с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Группа 4" descr=""/>
          <p:cNvPicPr/>
          <p:nvPr/>
        </p:nvPicPr>
        <p:blipFill>
          <a:blip r:embed="rId2"/>
          <a:stretch/>
        </p:blipFill>
        <p:spPr>
          <a:xfrm>
            <a:off x="5651640" y="1285920"/>
            <a:ext cx="882360" cy="768240"/>
          </a:xfrm>
          <a:prstGeom prst="rect">
            <a:avLst/>
          </a:prstGeom>
          <a:ln w="0">
            <a:noFill/>
          </a:ln>
        </p:spPr>
      </p:pic>
      <p:pic>
        <p:nvPicPr>
          <p:cNvPr id="100" name="Группа 5" descr=""/>
          <p:cNvPicPr/>
          <p:nvPr/>
        </p:nvPicPr>
        <p:blipFill>
          <a:blip r:embed="rId3"/>
          <a:stretch/>
        </p:blipFill>
        <p:spPr>
          <a:xfrm>
            <a:off x="6437160" y="1285920"/>
            <a:ext cx="884520" cy="768240"/>
          </a:xfrm>
          <a:prstGeom prst="rect">
            <a:avLst/>
          </a:prstGeom>
          <a:ln w="0">
            <a:noFill/>
          </a:ln>
        </p:spPr>
      </p:pic>
      <p:pic>
        <p:nvPicPr>
          <p:cNvPr id="101" name="Группа 8" descr=""/>
          <p:cNvPicPr/>
          <p:nvPr/>
        </p:nvPicPr>
        <p:blipFill>
          <a:blip r:embed="rId4"/>
          <a:stretch/>
        </p:blipFill>
        <p:spPr>
          <a:xfrm>
            <a:off x="7223040" y="1285920"/>
            <a:ext cx="884160" cy="768240"/>
          </a:xfrm>
          <a:prstGeom prst="rect">
            <a:avLst/>
          </a:prstGeom>
          <a:ln w="0">
            <a:noFill/>
          </a:ln>
        </p:spPr>
      </p:pic>
      <p:pic>
        <p:nvPicPr>
          <p:cNvPr id="102" name="Группа 11" descr=""/>
          <p:cNvPicPr/>
          <p:nvPr/>
        </p:nvPicPr>
        <p:blipFill>
          <a:blip r:embed="rId5"/>
          <a:stretch/>
        </p:blipFill>
        <p:spPr>
          <a:xfrm>
            <a:off x="8010360" y="1285920"/>
            <a:ext cx="884520" cy="7682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1. Записать химические знаки металла и кислотного остатка, указать их за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1"/>
          <p:cNvSpPr/>
          <p:nvPr/>
        </p:nvSpPr>
        <p:spPr>
          <a:xfrm>
            <a:off x="5786280" y="2286000"/>
            <a:ext cx="3071880" cy="392904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3929040"/>
              <a:gd name="textAreaBottom" fmla="*/ 3779280 h 3929040"/>
            </a:gdLst>
            <a:ahLst/>
            <a:rect l="textAreaLeft" t="textAreaTop" r="textAreaRight" b="textAreaBottom"/>
            <a:pathLst>
              <a:path w="21600" h="27626">
                <a:moveTo>
                  <a:pt x="3600" y="0"/>
                </a:moveTo>
                <a:arcTo wR="3600" hR="3600" stAng="16200000" swAng="-5400000"/>
                <a:lnTo>
                  <a:pt x="0" y="24026"/>
                </a:lnTo>
                <a:arcTo wR="3600" hR="3600" stAng="10800000" swAng="-5400000"/>
                <a:lnTo>
                  <a:pt x="18000" y="27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6286680" y="3214800"/>
            <a:ext cx="192852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. Найти наименьшее общее кратное значений заря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143760" y="2643120"/>
            <a:ext cx="2076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3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3. Разделить получ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) на заряд металла и записать индекс справа внизу от знака мет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) на заряд кислотного остатка и записать индекс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929200" y="2214720"/>
            <a:ext cx="2928960" cy="385740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3857400"/>
              <a:gd name="textAreaBottom" fmla="*/ 3714480 h 3857400"/>
            </a:gdLst>
            <a:ahLst/>
            <a:rect l="textAreaLeft" t="textAreaTop" r="textAreaRight" b="textAreaBottom"/>
            <a:pathLst>
              <a:path w="21600" h="28446">
                <a:moveTo>
                  <a:pt x="3600" y="0"/>
                </a:moveTo>
                <a:arcTo wR="3600" hR="3600" stAng="16200000" swAng="-5400000"/>
                <a:lnTo>
                  <a:pt x="0" y="24846"/>
                </a:lnTo>
                <a:arcTo wR="3600" hR="3600" stAng="10800000" swAng="-5400000"/>
                <a:lnTo>
                  <a:pt x="18000" y="284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2 =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9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: произведение значения заряда металла на его индекс должно быть равно аналогичному произведению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929200" y="2857680"/>
            <a:ext cx="2857680" cy="300024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00240"/>
              <a:gd name="textAreaBottom" fmla="*/ 2860920 h 3000240"/>
            </a:gdLst>
            <a:ahLst/>
            <a:rect l="textAreaLeft" t="textAreaTop" r="textAreaRight" b="textAreaBottom"/>
            <a:pathLst>
              <a:path w="21600" h="22677">
                <a:moveTo>
                  <a:pt x="3600" y="0"/>
                </a:moveTo>
                <a:arcTo wR="3600" hR="3600" stAng="16200000" swAng="-5400000"/>
                <a:lnTo>
                  <a:pt x="0" y="19077"/>
                </a:lnTo>
                <a:arcTo wR="3600" hR="3600" stAng="10800000" swAng="-5400000"/>
                <a:lnTo>
                  <a:pt x="18000" y="22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= 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 -) ∙ 2 =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6 +) + (6-)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1"/>
          <p:cNvSpPr/>
          <p:nvPr/>
        </p:nvSpPr>
        <p:spPr>
          <a:xfrm>
            <a:off x="846000" y="2143080"/>
            <a:ext cx="365472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2"/>
          <p:cNvSpPr/>
          <p:nvPr/>
        </p:nvSpPr>
        <p:spPr>
          <a:xfrm>
            <a:off x="6143760" y="2143080"/>
            <a:ext cx="185724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F48E-D743-46D6-9CE7-07DD94FBF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Названия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213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йте названия сол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g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622440" y="2139840"/>
            <a:ext cx="788832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22"/>
          <p:cNvGrpSpPr/>
          <p:nvPr/>
        </p:nvGrpSpPr>
        <p:grpSpPr>
          <a:xfrm>
            <a:off x="1071720" y="4214880"/>
            <a:ext cx="7715160" cy="1214280"/>
            <a:chOff x="1071720" y="4214880"/>
            <a:chExt cx="7715160" cy="1214280"/>
          </a:xfrm>
        </p:grpSpPr>
        <p:sp>
          <p:nvSpPr>
            <p:cNvPr id="119" name="Rectangle 2"/>
            <p:cNvSpPr/>
            <p:nvPr/>
          </p:nvSpPr>
          <p:spPr>
            <a:xfrm>
              <a:off x="1071720" y="4786200"/>
              <a:ext cx="7715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(SO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4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)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16"/>
            <p:cNvGrpSpPr/>
            <p:nvPr/>
          </p:nvGrpSpPr>
          <p:grpSpPr>
            <a:xfrm>
              <a:off x="4714560" y="4214880"/>
              <a:ext cx="785880" cy="642960"/>
              <a:chOff x="4714560" y="4214880"/>
              <a:chExt cx="785880" cy="642960"/>
            </a:xfrm>
          </p:grpSpPr>
          <p:sp>
            <p:nvSpPr>
              <p:cNvPr id="121" name="Прямоугольник 17"/>
              <p:cNvSpPr/>
              <p:nvPr/>
            </p:nvSpPr>
            <p:spPr>
              <a:xfrm>
                <a:off x="4962240" y="4214880"/>
                <a:ext cx="323640" cy="42876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Прямая соединительная линия 18"/>
              <p:cNvSpPr/>
              <p:nvPr/>
            </p:nvSpPr>
            <p:spPr>
              <a:xfrm>
                <a:off x="5288040" y="4643640"/>
                <a:ext cx="2124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19"/>
              <p:cNvSpPr/>
              <p:nvPr/>
            </p:nvSpPr>
            <p:spPr>
              <a:xfrm flipH="1">
                <a:off x="4714560" y="4643640"/>
                <a:ext cx="2142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Box 20"/>
          <p:cNvSpPr/>
          <p:nvPr/>
        </p:nvSpPr>
        <p:spPr>
          <a:xfrm>
            <a:off x="1741680" y="557208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ется -«алюминий-два, эс-о-четыре триж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ывается соль –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ульфат алюм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79600" y="4429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618B-CFCB-4A39-A338-4EF4A2160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744560" y="45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«Обратные» генетические 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680" y="39290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формулу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нитрата каль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затем формул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идроксид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.е. формулы соответствующих этой соли основания и кислородной кислоты, для последних напишите формулы соответствующих и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ксид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ля них, в свою очередь, формулы соответвующих и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алла и немет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42960" y="207180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Al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(SO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)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3</a:t>
            </a:r>
            <a:r>
              <a:rPr b="1" lang="ru-RU" sz="3600" spc="-1" strike="noStrike" baseline="-25000">
                <a:solidFill>
                  <a:srgbClr val="006666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 flipV="1">
            <a:off x="2356920" y="1999440"/>
            <a:ext cx="429480" cy="25308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2" name="Прямая со стрелкой 8"/>
          <p:cNvCxnSpPr/>
          <p:nvPr/>
        </p:nvCxnSpPr>
        <p:spPr>
          <a:xfrm>
            <a:off x="2356920" y="2714400"/>
            <a:ext cx="429480" cy="14364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3" name="Группа 26"/>
          <p:cNvGrpSpPr/>
          <p:nvPr/>
        </p:nvGrpSpPr>
        <p:grpSpPr>
          <a:xfrm>
            <a:off x="2857680" y="1643040"/>
            <a:ext cx="1785600" cy="1571400"/>
            <a:chOff x="2857680" y="1643040"/>
            <a:chExt cx="1785600" cy="1571400"/>
          </a:xfrm>
        </p:grpSpPr>
        <p:sp>
          <p:nvSpPr>
            <p:cNvPr id="134" name="Rectangle 2"/>
            <p:cNvSpPr/>
            <p:nvPr/>
          </p:nvSpPr>
          <p:spPr>
            <a:xfrm>
              <a:off x="2857680" y="1643040"/>
              <a:ext cx="1785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(OH)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"/>
            <p:cNvSpPr/>
            <p:nvPr/>
          </p:nvSpPr>
          <p:spPr>
            <a:xfrm>
              <a:off x="2928960" y="2643120"/>
              <a:ext cx="1428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Прямая со стрелкой 16"/>
          <p:cNvCxnSpPr/>
          <p:nvPr/>
        </p:nvCxnSpPr>
        <p:spPr>
          <a:xfrm>
            <a:off x="4429080" y="1999800"/>
            <a:ext cx="57240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/>
          <p:nvPr/>
        </p:nvCxnSpPr>
        <p:spPr>
          <a:xfrm>
            <a:off x="4429080" y="2998800"/>
            <a:ext cx="572400" cy="216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8" name="Группа 29"/>
          <p:cNvGrpSpPr/>
          <p:nvPr/>
        </p:nvGrpSpPr>
        <p:grpSpPr>
          <a:xfrm>
            <a:off x="5143680" y="1643040"/>
            <a:ext cx="1234800" cy="1571400"/>
            <a:chOff x="5143680" y="1643040"/>
            <a:chExt cx="1234800" cy="1571400"/>
          </a:xfrm>
        </p:grpSpPr>
        <p:sp>
          <p:nvSpPr>
            <p:cNvPr id="139" name="Rectangle 4"/>
            <p:cNvSpPr/>
            <p:nvPr/>
          </p:nvSpPr>
          <p:spPr>
            <a:xfrm>
              <a:off x="5143680" y="1643040"/>
              <a:ext cx="1234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O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5143680" y="2643120"/>
              <a:ext cx="1071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ru-RU" sz="3600" spc="-1" strike="noStrike" baseline="-25000">
                  <a:solidFill>
                    <a:srgbClr val="c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Прямая со стрелкой 23"/>
          <p:cNvCxnSpPr/>
          <p:nvPr/>
        </p:nvCxnSpPr>
        <p:spPr>
          <a:xfrm>
            <a:off x="6143400" y="299988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2" name="Прямая со стрелкой 24"/>
          <p:cNvCxnSpPr/>
          <p:nvPr/>
        </p:nvCxnSpPr>
        <p:spPr>
          <a:xfrm>
            <a:off x="6286320" y="199980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43" name="Группа 28"/>
          <p:cNvGrpSpPr/>
          <p:nvPr/>
        </p:nvGrpSpPr>
        <p:grpSpPr>
          <a:xfrm>
            <a:off x="6786720" y="1643040"/>
            <a:ext cx="857160" cy="1571400"/>
            <a:chOff x="6786720" y="1643040"/>
            <a:chExt cx="857160" cy="1571400"/>
          </a:xfrm>
        </p:grpSpPr>
        <p:sp>
          <p:nvSpPr>
            <p:cNvPr id="144" name="Rectangle 3"/>
            <p:cNvSpPr/>
            <p:nvPr/>
          </p:nvSpPr>
          <p:spPr>
            <a:xfrm>
              <a:off x="6786720" y="2643120"/>
              <a:ext cx="7142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6908760" y="1643040"/>
              <a:ext cx="7351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Прямоугольник 30" descr=""/>
          <p:cNvPicPr/>
          <p:nvPr/>
        </p:nvPicPr>
        <p:blipFill>
          <a:blip r:embed="rId1"/>
          <a:stretch/>
        </p:blipFill>
        <p:spPr>
          <a:xfrm>
            <a:off x="287640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31" descr=""/>
          <p:cNvPicPr/>
          <p:nvPr/>
        </p:nvPicPr>
        <p:blipFill>
          <a:blip r:embed="rId2"/>
          <a:stretch/>
        </p:blipFill>
        <p:spPr>
          <a:xfrm>
            <a:off x="2803680" y="251784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32" descr=""/>
          <p:cNvPicPr/>
          <p:nvPr/>
        </p:nvPicPr>
        <p:blipFill>
          <a:blip r:embed="rId3"/>
          <a:stretch/>
        </p:blipFill>
        <p:spPr>
          <a:xfrm>
            <a:off x="4876920" y="1517760"/>
            <a:ext cx="834840" cy="7808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3" descr=""/>
          <p:cNvPicPr/>
          <p:nvPr/>
        </p:nvPicPr>
        <p:blipFill>
          <a:blip r:embed="rId4"/>
          <a:stretch/>
        </p:blipFill>
        <p:spPr>
          <a:xfrm>
            <a:off x="4876920" y="244476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34" descr=""/>
          <p:cNvPicPr/>
          <p:nvPr/>
        </p:nvPicPr>
        <p:blipFill>
          <a:blip r:embed="rId5"/>
          <a:stretch/>
        </p:blipFill>
        <p:spPr>
          <a:xfrm>
            <a:off x="680256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35" descr=""/>
          <p:cNvPicPr/>
          <p:nvPr/>
        </p:nvPicPr>
        <p:blipFill>
          <a:blip r:embed="rId6"/>
          <a:stretch/>
        </p:blipFill>
        <p:spPr>
          <a:xfrm>
            <a:off x="6729480" y="2444760"/>
            <a:ext cx="834840" cy="779400"/>
          </a:xfrm>
          <a:prstGeom prst="rect">
            <a:avLst/>
          </a:prstGeom>
          <a:ln w="0">
            <a:noFill/>
          </a:ln>
        </p:spPr>
      </p:pic>
      <p:sp>
        <p:nvSpPr>
          <p:cNvPr id="152" name="Номер слайда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B86-3326-4522-BD15-467C7F32D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Важнейшие представители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729-3F46-4301-9189-FC30F5AD4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хема 6" descr=""/>
          <p:cNvPicPr/>
          <p:nvPr/>
        </p:nvPicPr>
        <p:blipFill>
          <a:blip r:embed="rId1"/>
          <a:stretch/>
        </p:blipFill>
        <p:spPr>
          <a:xfrm>
            <a:off x="476280" y="3121200"/>
            <a:ext cx="8082000" cy="272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71680" y="1357200"/>
            <a:ext cx="8015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апустите ди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мотрите фотографии  и прослушайте информацию 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одготовьте ответы на 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(о конкретных вещества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Стрелка вправо 9"/>
          <p:cNvGrpSpPr/>
          <p:nvPr/>
        </p:nvGrpSpPr>
        <p:grpSpPr>
          <a:xfrm>
            <a:off x="7296120" y="3249720"/>
            <a:ext cx="976320" cy="547560"/>
            <a:chOff x="7296120" y="3249720"/>
            <a:chExt cx="976320" cy="547560"/>
          </a:xfrm>
        </p:grpSpPr>
        <p:pic>
          <p:nvPicPr>
            <p:cNvPr id="158" name="Стрелка вправо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96120" y="324972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58040" y="3392640"/>
              <a:ext cx="75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право 10"/>
          <p:cNvGrpSpPr/>
          <p:nvPr/>
        </p:nvGrpSpPr>
        <p:grpSpPr>
          <a:xfrm>
            <a:off x="7296120" y="4108320"/>
            <a:ext cx="976320" cy="549360"/>
            <a:chOff x="7296120" y="4108320"/>
            <a:chExt cx="976320" cy="549360"/>
          </a:xfrm>
        </p:grpSpPr>
        <p:pic>
          <p:nvPicPr>
            <p:cNvPr id="161" name="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7296120" y="4108320"/>
              <a:ext cx="9763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358040" y="4251240"/>
              <a:ext cx="750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право 11"/>
          <p:cNvGrpSpPr/>
          <p:nvPr/>
        </p:nvGrpSpPr>
        <p:grpSpPr>
          <a:xfrm>
            <a:off x="7296120" y="5035680"/>
            <a:ext cx="976320" cy="547560"/>
            <a:chOff x="7296120" y="5035680"/>
            <a:chExt cx="976320" cy="547560"/>
          </a:xfrm>
        </p:grpSpPr>
        <p:pic>
          <p:nvPicPr>
            <p:cNvPr id="164" name="Стрелка вправо 11" descr=""/>
            <p:cNvPicPr/>
            <p:nvPr/>
          </p:nvPicPr>
          <p:blipFill>
            <a:blip r:embed="rId5"/>
            <a:stretch/>
          </p:blipFill>
          <p:spPr>
            <a:xfrm>
              <a:off x="7296120" y="503568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58040" y="5180040"/>
              <a:ext cx="75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23:08Z</dcterms:created>
  <dc:creator>Афтаева Е.К.</dc:creator>
  <dc:description/>
  <dc:language>en-US</dc:language>
  <cp:lastModifiedBy>COMP</cp:lastModifiedBy>
  <dcterms:modified xsi:type="dcterms:W3CDTF">2011-10-16T14:47:44Z</dcterms:modified>
  <cp:revision>117</cp:revision>
  <dc:subject>Уроки химии в 8 классе</dc:subject>
  <dc:title>Соли как производные кислот и основа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3100207f6000400038000</vt:lpwstr>
  </property>
</Properties>
</file>