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F205-DCC7-4289-A819-063EFEDA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DEF5-4B73-41C9-8951-63CA080C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8B84-1F45-4130-BE61-9FFFEA03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2BC-1B0F-4687-BF03-7DD86EF5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814C-C69D-41EA-B19C-8964B762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F671-7CBE-4B9E-820C-DFB15B2E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A95E-DAC4-47B4-AB4A-4557A5B8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C550-3895-45D0-9E09-AA0A5B87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5A79-9D68-4142-B318-B900B394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8751-8F4A-4442-A603-057E1496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AB38-8ADB-4843-9FFE-92EBE43A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B87F-8475-4426-AF84-C8BA9DC3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CE24-5434-477E-B1DA-0619F0F8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51AF-EF64-48B1-8037-5917D715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7B1F-F145-4E56-A03C-888931C7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4F98-FDFC-471A-9395-99589A5F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18C3-1455-4A41-85D5-ED9ACB4F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03D7-753A-4128-B9A1-B99AB343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C6A6-5B7E-4EC7-AFB2-1D14E213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80C8-121A-46C8-9EF1-6522509B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BD01-0D87-442E-B307-8615D3AA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7E97-4F29-44C0-AC3A-3615AF6F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67B2-3179-4BC1-83A7-B68D21D4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2A71-AF5C-41ED-B378-142AFEF0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56ED-F2D0-4D1C-B481-D47FC1D561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3093-4525-4582-A765-C20203669EB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27376-2560x1600"/>
          <p:cNvPicPr/>
          <p:nvPr/>
        </p:nvPicPr>
        <p:blipFill>
          <a:blip r:embed="rId1"/>
          <a:stretch/>
        </p:blipFill>
        <p:spPr>
          <a:xfrm>
            <a:off x="395280" y="404640"/>
            <a:ext cx="8458200" cy="60962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268360" y="4653000"/>
            <a:ext cx="6336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абота выполнена воспитателем ГПД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БОУ школы №120 Выборгского райо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анкт- 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тепановой Мариной Владимировно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684360" y="1268280"/>
            <a:ext cx="763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олотая осень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Чайковский Петр Ильич [club13333245] - Времена года - Октябрь Осенняя песня.mp3" descr=""/>
          <p:cNvPicPr/>
          <p:nvPr/>
        </p:nvPicPr>
        <p:blipFill>
          <a:blip r:embed="rId2"/>
          <a:stretch/>
        </p:blipFill>
        <p:spPr>
          <a:xfrm>
            <a:off x="8317080" y="6093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advTm="37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4" descr="654206036"/>
          <p:cNvPicPr/>
          <p:nvPr/>
        </p:nvPicPr>
        <p:blipFill>
          <a:blip r:embed="rId1"/>
          <a:stretch/>
        </p:blipFill>
        <p:spPr>
          <a:xfrm>
            <a:off x="324000" y="260280"/>
            <a:ext cx="8389800" cy="619128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А.С. Пушкин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небо осенью дышало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реже солнышко блистало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оче становился день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сов таинственная сень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ечальным шумом обнажалась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ожился на поля туман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усей крикливых караван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нулся к югу: приближалась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ольно скучная пора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ял ноябрь уж у двор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23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4" descr="88509_zlota_jesien_zolte_drzewa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927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ИСТОПАД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Иван Буни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Лес, точно терем расписной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Лиловый, золотой, багряный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еселой, пестрою стен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тоит над светлою поляно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ерезы желтою резьб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лестят в лазури голубой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к вышки, елочки темнеют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 между кленами синеют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о там, то здесь в листве сквозн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осветы в небо, что оконц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Лес пахнет дубом и сосной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 лето высох он от солнца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 Осень тихою вдов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ступает в пестрый терем свой…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19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6" name="Объект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193080"/>
          </a:xfrm>
          <a:prstGeom prst="rect">
            <a:avLst/>
          </a:prstGeom>
          <a:ln w="0">
            <a:noFill/>
          </a:ln>
        </p:spPr>
      </p:pic>
    </p:spTree>
  </p:cSld>
  <p:transition spd="slow" advTm="32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стематизировать и закрепить знания детей о приметах осен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комить со стихами поэтов  об осен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комить с отрывком из произведения П.И. Чайковского «Времена года» «Октябрь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итывать любовь к природ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ширять знания об окружающем мир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ОСЕНЬ</a:t>
            </a:r>
            <a:br>
              <a:rPr sz="1600"/>
            </a:br>
            <a:r>
              <a:rPr b="1" i="1" lang="en-US" sz="1600" spc="-1" strike="noStrike">
                <a:solidFill>
                  <a:srgbClr val="ffff99"/>
                </a:solidFill>
                <a:latin typeface="Arial"/>
              </a:rPr>
              <a:t>М. Ходякова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Если на деревьях листья пожелтели,</a:t>
            </a:r>
            <a:br>
              <a:rPr sz="1600"/>
            </a:b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Если в край далекий птицы улетели,</a:t>
            </a:r>
            <a:br>
              <a:rPr sz="1600"/>
            </a:b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Если небо хмурое, если дождик льется,</a:t>
            </a:r>
            <a:br>
              <a:rPr sz="1600"/>
            </a:b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Это время года осенью зовется.</a:t>
            </a:r>
            <a:br>
              <a:rPr sz="1600"/>
            </a:b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6" descr="1829"/>
          <p:cNvPicPr/>
          <p:nvPr/>
        </p:nvPicPr>
        <p:blipFill>
          <a:blip r:embed="rId1"/>
          <a:stretch/>
        </p:blipFill>
        <p:spPr>
          <a:xfrm>
            <a:off x="468360" y="1989000"/>
            <a:ext cx="8207280" cy="449748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5" descr="32529-2560x1600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3564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СЕННИЙ КЛАД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И. Пивоваро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ают с ветки жёлтые монетки…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огами целый клад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осень золота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ит листья не считая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ые дарит листь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м, и нам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подряд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21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4" descr="17956-1600x1200"/>
          <p:cNvPicPr/>
          <p:nvPr/>
        </p:nvPicPr>
        <p:blipFill>
          <a:blip r:embed="rId1"/>
          <a:stretch/>
        </p:blipFill>
        <p:spPr>
          <a:xfrm>
            <a:off x="324000" y="404640"/>
            <a:ext cx="8567640" cy="612000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259920"/>
            <a:ext cx="8218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Е. Трутнев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ром мы во двор идем —Листья сыплются дождём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огами шелестят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етят… летят… летят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етают паутинк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аучками в серединке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соко от земл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етели журавл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летит! Должно быть, эт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летает наше лето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22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4" descr="79214313_large_0_5ea1e_3ff44465_XL"/>
          <p:cNvPicPr/>
          <p:nvPr/>
        </p:nvPicPr>
        <p:blipFill>
          <a:blip r:embed="rId1"/>
          <a:stretch/>
        </p:blipFill>
        <p:spPr>
          <a:xfrm>
            <a:off x="395280" y="189000"/>
            <a:ext cx="8353440" cy="617364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В. Нирови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стопад, листопад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стья желтые летят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тый клен, желтый бук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тый в небе солнца круг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тый двор, желтый дом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земля желта кругом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тизна, желтизна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чит, осень – не весн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22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04:37:36Z</dcterms:created>
  <dc:creator>учитель</dc:creator>
  <dc:description/>
  <dc:language>en-US</dc:language>
  <cp:lastModifiedBy>HOME</cp:lastModifiedBy>
  <dcterms:modified xsi:type="dcterms:W3CDTF">2012-10-29T19:36:58Z</dcterms:modified>
  <cp:revision>16</cp:revision>
  <dc:subject/>
  <dc:title>Слайд 1</dc:title>
</cp:coreProperties>
</file>