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30E-2826-4228-96A2-50A0D0A1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AF1-E3FB-48ED-A68F-A68D5886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C83-BBEC-44CD-8147-73DAED96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633-7AAE-4EC8-8D4B-AA61F19D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A3D2-6879-44EF-B4E1-43855BFE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89EB-3FAD-4407-9C9A-F6958C2A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3C32-3AF0-4B9E-BF5F-E42AA75F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0B71-48DD-4265-8570-5060013D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F114-A116-4F1A-8B2E-0086C79B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E728-029E-4CA5-8A36-50075491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679E-584A-4907-B2DE-51D55670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707-267B-4357-AC86-A40F186B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A2F9-EE84-49C5-9431-96C920F0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6E1A-EC04-4A2C-BD05-87064258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6C98-B10A-450B-8ABA-7221FFF5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25C1-FD41-489D-A691-1399DA5F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8F0C-1D3A-486F-9383-7664985F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B28-1D1E-4BD4-868A-DCC30B75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828-9116-4FB8-B96E-EE2E3B39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D48-9FE6-477F-8521-8F9660D5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03E-462F-4CDF-AB90-6D61E9C9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CA6-6D20-42EB-BB1B-7FC8B963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30A-355B-4C9D-A9DD-C60EA6BE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47A-7A26-4ED8-A456-CF7BDDF1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2077-F4FA-4FD3-8ED2-F5493B8A4A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7EE4-80F0-4E31-A519-A32F08C03C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27376-2560x1600"/>
          <p:cNvPicPr/>
          <p:nvPr/>
        </p:nvPicPr>
        <p:blipFill>
          <a:blip r:embed="rId1"/>
          <a:stretch/>
        </p:blipFill>
        <p:spPr>
          <a:xfrm>
            <a:off x="395280" y="404640"/>
            <a:ext cx="8458200" cy="6096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268360" y="4653000"/>
            <a:ext cx="633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бота выполнена воспитателем ГП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БОУ школы №120 Выборгского райо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 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епановой Мариной Владимировно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684360" y="1268280"/>
            <a:ext cx="763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олотая осен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Чайковский Петр Ильич [club13333245] - Времена года - Октябрь Осенняя песня.mp3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37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654206036"/>
          <p:cNvPicPr/>
          <p:nvPr/>
        </p:nvPicPr>
        <p:blipFill>
          <a:blip r:embed="rId1"/>
          <a:stretch/>
        </p:blipFill>
        <p:spPr>
          <a:xfrm>
            <a:off x="324000" y="260280"/>
            <a:ext cx="838980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.С. Пушкин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ебо осенью дышал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реже солнышко блистал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че становился ден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ов таинственная сен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чальным шумом обнажалас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жился на поля туман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усей крикливых караван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нулся к югу: приближалас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ольно скучная пор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ял ноябрь уж у дво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3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4" descr="88509_zlota_jesien_zolte_drzewa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2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ИСТОПАД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ван Бун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ес, точно терем расписн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иловый, золотой, багряны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еселой, пестрою стен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оит над светлою полян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ерезы желтою резьб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лестят в лазури голуб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 вышки, елочки темнею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 между кленами синею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о там, то здесь в листве сквозн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светы в небо, что оконц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ес пахнет дубом и сосн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 лето высох он от солнц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Осень тихою вдо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тупает в пестрый терем свой…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19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6" name="Объект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19308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тизировать и закрепить знания детей о приметах ос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со стихами поэтов  об ос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с отрывком из произведения П.И. Чайковского «Времена года» «Октябрь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ывать любовь к природ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ширять знания об окружающем мир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ОСЕНЬ</a:t>
            </a:r>
            <a:br>
              <a:rPr sz="1600"/>
            </a:b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М. Ходякова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Если на деревьях листья пожелтели,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Если в край далекий птицы улетели,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Если небо хмурое, если дождик льется,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Это время года осенью зовется.</a:t>
            </a:r>
            <a:br>
              <a:rPr sz="1600"/>
            </a:b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6" descr="1829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44974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32529-2560x1600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564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ЕННИЙ КЛАД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. Пивоваро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ют с ветки жёлтые монетки…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огами целый клад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осень золота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ит листья не счита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ые дарит листь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, и нам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подряд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1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17956-1600x1200"/>
          <p:cNvPicPr/>
          <p:nvPr/>
        </p:nvPicPr>
        <p:blipFill>
          <a:blip r:embed="rId1"/>
          <a:stretch/>
        </p:blipFill>
        <p:spPr>
          <a:xfrm>
            <a:off x="324000" y="404640"/>
            <a:ext cx="856764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59920"/>
            <a:ext cx="8218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Е. Трутнев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ром мы во двор идем —Листья сыплются дождём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огами шелестя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етят… летят… летят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етают паутинк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аучками в серединк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соко от зем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етели журав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летит! Должно быть, эт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летает наше лет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2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79214313_large_0_5ea1e_3ff44465_XL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1736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В. Нирови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стопад, листопад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стья желтые летя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ый клен, желтый бук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ый в небе солнца круг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ый двор, желтый дом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земля желта кругом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изна, желтизн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, осень – не вес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2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04:37:36Z</dcterms:created>
  <dc:creator>учитель</dc:creator>
  <dc:description/>
  <dc:language>en-US</dc:language>
  <cp:lastModifiedBy>HOME</cp:lastModifiedBy>
  <dcterms:modified xsi:type="dcterms:W3CDTF">2012-10-29T19:36:58Z</dcterms:modified>
  <cp:revision>16</cp:revision>
  <dc:subject/>
  <dc:title>Слайд 1</dc:title>
</cp:coreProperties>
</file>