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67D-C91D-4503-B54B-A5473BB7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87D-117B-4CDB-9776-FA39A783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AFA-EB0F-4047-A705-E0B32CEC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A4C-5604-4A60-9A39-73F65318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6CF0-141E-489D-AED4-BF4FB1F4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52EA-A43D-4BD6-9A20-F593B72D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B517-8F06-4B47-94B9-8BBC969C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CE21-3B09-4709-927B-71CBA1DC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CE9B-DD8C-4ED1-BBD0-54D3F66F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5B81-B5F8-403F-B0F3-C2E98208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A29A-41BC-4FDF-9BFC-8FC8F3A7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5BF-B667-4892-9715-88DC4A20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90A6-DDB0-456D-9EC0-CEEB6009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6613-2DA5-42E1-BD77-6CC289B6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6B2A-111C-4030-B7A6-7EA3BF21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4C07-C6EF-4BB5-A1DC-76542790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44B3-0FAE-483E-807C-CDB07A6C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C940-08A5-4E29-AA7A-B97913F6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E36-84A8-4A30-A3CA-7DB3FCA0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B4D-5E54-4B21-B36E-5ADBCCC8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EE8-6F23-4DE1-A8BA-0FDBFAEC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75B-F2F1-466C-AF13-F2893B02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4424-646D-466E-B378-55F6228E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B5B-DBB6-4D0F-9773-D1D49D5D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AC4B-11C4-4E08-AA27-E54E5D5415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DAD9-CC43-446B-80F9-EA64FF052F8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27376-2560x1600"/>
          <p:cNvPicPr/>
          <p:nvPr/>
        </p:nvPicPr>
        <p:blipFill>
          <a:blip r:embed="rId1"/>
          <a:stretch/>
        </p:blipFill>
        <p:spPr>
          <a:xfrm>
            <a:off x="395280" y="404640"/>
            <a:ext cx="8458200" cy="60962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268360" y="4653000"/>
            <a:ext cx="6336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бота выполнена воспитателем ГП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БОУ школы №120 Выборгского райо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нкт- 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епановой Мариной Владимировно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684360" y="1268280"/>
            <a:ext cx="763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олотая осен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Чайковский Петр Ильич [club13333245] - Времена года - Октябрь Осенняя песня.mp3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37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4" descr="654206036"/>
          <p:cNvPicPr/>
          <p:nvPr/>
        </p:nvPicPr>
        <p:blipFill>
          <a:blip r:embed="rId1"/>
          <a:stretch/>
        </p:blipFill>
        <p:spPr>
          <a:xfrm>
            <a:off x="324000" y="260280"/>
            <a:ext cx="8389800" cy="619128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А.С. Пушкин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ебо осенью дышало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реже солнышко блистало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че становился день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сов таинственная сен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чальным шумом обнажалас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ожился на поля туман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усей крикливых караван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нулся к югу: приближалас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ольно скучная пора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ял ноябрь уж у дво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23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4" descr="88509_zlota_jesien_zolte_drzewa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927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ИСТОПАД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ван Бун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ес, точно терем расписно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иловый, золотой, багряны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еселой, пестрою стен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оит над светлою поляно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ерезы желтою резьб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лестят в лазури голубо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к вышки, елочки темнею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 между кленами синею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о там, то здесь в листве сквозн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светы в небо, что оконц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ес пахнет дубом и сосной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 лето высох он от солнц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 Осень тихою вдов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тупает в пестрый терем свой…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19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6" name="Объект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193080"/>
          </a:xfrm>
          <a:prstGeom prst="rect">
            <a:avLst/>
          </a:prstGeom>
          <a:ln w="0">
            <a:noFill/>
          </a:ln>
        </p:spPr>
      </p:pic>
    </p:spTree>
  </p:cSld>
  <p:transition spd="slow" advTm="32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стематизировать и закрепить знания детей о приметах осе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ь со стихами поэтов  об осе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ь с отрывком из произведения П.И. Чайковского «Времена года» «Октябрь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ывать любовь к природ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ширять знания об окружающем мир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ОСЕНЬ</a:t>
            </a:r>
            <a:br>
              <a:rPr sz="1600"/>
            </a:b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М. Ходякова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Если на деревьях листья пожелтели,</a:t>
            </a:r>
            <a:br>
              <a:rPr sz="1600"/>
            </a:b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Если в край далекий птицы улетели,</a:t>
            </a:r>
            <a:br>
              <a:rPr sz="1600"/>
            </a:b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Если небо хмурое, если дождик льется,</a:t>
            </a:r>
            <a:br>
              <a:rPr sz="1600"/>
            </a:b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Это время года осенью зовется.</a:t>
            </a:r>
            <a:br>
              <a:rPr sz="1600"/>
            </a:b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6" descr="1829"/>
          <p:cNvPicPr/>
          <p:nvPr/>
        </p:nvPicPr>
        <p:blipFill>
          <a:blip r:embed="rId1"/>
          <a:stretch/>
        </p:blipFill>
        <p:spPr>
          <a:xfrm>
            <a:off x="468360" y="1989000"/>
            <a:ext cx="8207280" cy="449748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5" descr="32529-2560x1600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564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СЕННИЙ КЛАД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. Пивоваро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ают с ветки жёлтые монетки…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огами целый клад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осень золота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ит листья не счита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ые дарит листь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, и нам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подряд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21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4" descr="17956-1600x1200"/>
          <p:cNvPicPr/>
          <p:nvPr/>
        </p:nvPicPr>
        <p:blipFill>
          <a:blip r:embed="rId1"/>
          <a:stretch/>
        </p:blipFill>
        <p:spPr>
          <a:xfrm>
            <a:off x="324000" y="404640"/>
            <a:ext cx="8567640" cy="612000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259920"/>
            <a:ext cx="8218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Е. Трутнев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ром мы во двор идем —Листья сыплются дождём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огами шелестят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етят… летят… летят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етают паутинк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аучками в серединке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соко от земл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етели журав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летит! Должно быть, эт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летает наше лет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22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79214313_large_0_5ea1e_3ff44465_XL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617364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В. Нирови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стопад, листопад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стья желтые летя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тый клен, желтый бук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тый в небе солнца круг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тый двор, желтый дом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земля желта кругом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тизна, желтизна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чит, осень – не вес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22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04:37:36Z</dcterms:created>
  <dc:creator>учитель</dc:creator>
  <dc:description/>
  <dc:language>en-US</dc:language>
  <cp:lastModifiedBy>HOME</cp:lastModifiedBy>
  <dcterms:modified xsi:type="dcterms:W3CDTF">2012-10-29T19:36:58Z</dcterms:modified>
  <cp:revision>16</cp:revision>
  <dc:subject/>
  <dc:title>Слайд 1</dc:title>
</cp:coreProperties>
</file>