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.png" ContentType="image/png"/>
  <Override PartName="/ppt/media/image12.wmf" ContentType="image/x-wmf"/>
  <Override PartName="/ppt/media/image29.jpeg" ContentType="image/jpeg"/>
  <Override PartName="/ppt/media/image10.jpeg" ContentType="image/jpeg"/>
  <Override PartName="/ppt/media/image13.gif" ContentType="image/gif"/>
  <Override PartName="/ppt/media/image31.jpeg" ContentType="image/jpeg"/>
  <Override PartName="/ppt/media/image33.jpeg" ContentType="image/jpeg"/>
  <Override PartName="/ppt/media/image16.jpeg" ContentType="image/jpeg"/>
  <Override PartName="/ppt/media/image5.wmf" ContentType="image/x-wmf"/>
  <Override PartName="/ppt/media/image27.jpeg" ContentType="image/jpeg"/>
  <Override PartName="/ppt/media/image34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2EE-A092-487E-934F-A25ADEB9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49D-CE9B-4CFF-98CB-D170AB4C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097-3EA3-4ABE-A62C-9DDE5A23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6C2-43B0-4648-A048-CB766D41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E88-94A9-462F-8F27-67B7042D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2A2-B687-4211-A4F9-27C91D5D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A8C-6C6F-4670-A2EF-76899833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056-FB0B-446F-A4A6-0A90E1C3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5AE-E0D9-4EDB-BC73-C79B5C73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E54-388D-4F6F-A4D1-8B1FAF6C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DBB-D019-42D4-9555-D99E5E43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C2C-9C70-4ED5-8B6E-474733E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2334-8B7A-4857-845A-90E803B29D17}" type="datetime">
              <a:rPr b="0" lang="ru-RU" sz="1200" spc="-1" strike="noStrike">
                <a:solidFill>
                  <a:srgbClr val="a7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01AC-B91A-492B-A208-B7F2F65F2252}" type="slidenum">
              <a:rPr b="0" lang="ru-RU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патрет"/>
          <p:cNvPicPr/>
          <p:nvPr/>
        </p:nvPicPr>
        <p:blipFill>
          <a:blip r:embed="rId2"/>
          <a:stretch/>
        </p:blipFill>
        <p:spPr>
          <a:xfrm>
            <a:off x="6012000" y="0"/>
            <a:ext cx="2947680" cy="4302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1941-45 логотип.jpg"/>
          <p:cNvPicPr/>
          <p:nvPr/>
        </p:nvPicPr>
        <p:blipFill>
          <a:blip r:embed="rId3"/>
          <a:stretch/>
        </p:blipFill>
        <p:spPr>
          <a:xfrm>
            <a:off x="0" y="4411800"/>
            <a:ext cx="2178000" cy="2043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0" y="923760"/>
            <a:ext cx="60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й из лучших книг о войне заслуженно считается повесть В.Распутина «Живи и помни», которая сразу же после её издания в 1974 году вызвала живой интерес и получила европейское признание.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</p:txBody>
      </p:sp>
      <p:pic>
        <p:nvPicPr>
          <p:cNvPr id="44" name="Picture 3" descr="C:\Documents and Settings\Администратор\Мои документы\Мои рисунки\Организатор клипов (Microsoft)\j0331780.wmf"/>
          <p:cNvPicPr/>
          <p:nvPr/>
        </p:nvPicPr>
        <p:blipFill>
          <a:blip r:embed="rId4"/>
          <a:stretch/>
        </p:blipFill>
        <p:spPr>
          <a:xfrm>
            <a:off x="2627280" y="4108320"/>
            <a:ext cx="1825560" cy="23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Укрылся Андрей в старом зимовье, расшурудил  печку и впервые за много волчьих дней согрелся. Сюда мало кто и раньше заглядывал, а сейчас и подавно никто не полезет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5" name="Picture 4" descr="izba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Arial"/>
              </a:rPr>
              <a:t>Вот что я скажу тебе, Настёна. Ни одна собака не должна знать, что я здесь. Скажешь кому – убью. Убью – мне терять нечего. Так и запомни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64000" y="2852280"/>
            <a:ext cx="37800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Как же этот человек, честно защищавший от врагов родину, заслуживший уважение товарищей, решился на поступок, презираемый всеми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8" name="Picture 4" descr="2"/>
          <p:cNvPicPr/>
          <p:nvPr/>
        </p:nvPicPr>
        <p:blipFill>
          <a:blip r:embed="rId1"/>
          <a:stretch/>
        </p:blipFill>
        <p:spPr>
          <a:xfrm>
            <a:off x="179280" y="1628640"/>
            <a:ext cx="540540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Андрея взяли в первые дни войны. Долго воевал удачно. Был ранен, контужен, лежал в госпитале. Но летом 44 года пропал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- Ну как ты насмелился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- Не знаю. Невмоготу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стало. Дышать нечем 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было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- Война кончится, - 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может, простят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- Нет. За это не 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рощают!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1" name="Picture 4" descr="05"/>
          <p:cNvPicPr/>
          <p:nvPr/>
        </p:nvPicPr>
        <p:blipFill>
          <a:blip r:embed="rId1"/>
          <a:stretch/>
        </p:blipFill>
        <p:spPr>
          <a:xfrm>
            <a:off x="0" y="1628640"/>
            <a:ext cx="5003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Я к тебе шёл. Не к отцу, не к матери – к тебе. И никто: ни мать, ни отец – не должен обо мне знать. Не было меня и нету. Пропал я без вести. Убили по дороге, сожгли…</a:t>
            </a:r>
            <a:br>
              <a:rPr sz="2400"/>
            </a:b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Я теперь в твоих руках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3" name="Picture 5" descr="3"/>
          <p:cNvPicPr/>
          <p:nvPr/>
        </p:nvPicPr>
        <p:blipFill>
          <a:blip r:embed="rId1"/>
          <a:stretch/>
        </p:blipFill>
        <p:spPr>
          <a:xfrm>
            <a:off x="3564000" y="2276640"/>
            <a:ext cx="5333760" cy="2571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_givipomni_big_08"/>
          <p:cNvPicPr/>
          <p:nvPr/>
        </p:nvPicPr>
        <p:blipFill>
          <a:blip r:embed="rId2"/>
          <a:stretch/>
        </p:blipFill>
        <p:spPr>
          <a:xfrm>
            <a:off x="324000" y="2924280"/>
            <a:ext cx="5029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Господи, научи, что делать! Не вынести Андрею этой вины. Так что же, отказаться от него? Это совсем надо не иметь сердц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7" name="Picture 4" descr="13588_3"/>
          <p:cNvPicPr/>
          <p:nvPr/>
        </p:nvPicPr>
        <p:blipFill>
          <a:blip r:embed="rId1"/>
          <a:stretch/>
        </p:blipFill>
        <p:spPr>
          <a:xfrm>
            <a:off x="179280" y="170028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8200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Настёна думала об Андрее, любя его горькой любовью. Она любила его жалея и жалела любя – эти два чувства неразрывно сошлись в одно. И ничего с собой Настёна сделать не могл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9" name="Picture 4" descr="g_givipomni_big_03"/>
          <p:cNvPicPr/>
          <p:nvPr/>
        </p:nvPicPr>
        <p:blipFill>
          <a:blip r:embed="rId1"/>
          <a:stretch/>
        </p:blipFill>
        <p:spPr>
          <a:xfrm>
            <a:off x="250920" y="2133720"/>
            <a:ext cx="5029200" cy="439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g_givipomni_big_02"/>
          <p:cNvPicPr/>
          <p:nvPr/>
        </p:nvPicPr>
        <p:blipFill>
          <a:blip r:embed="rId2"/>
          <a:stretch/>
        </p:blipFill>
        <p:spPr>
          <a:xfrm>
            <a:off x="4043520" y="2133720"/>
            <a:ext cx="5100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Коней отец любил. С тех пор, как потерялся Андрей. Михеич стал чураться людей, он больше отмалчивался…Вид Михеича был измученный, безнадёжный. Так сильно сдал Михеич за один год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02" name="Picture 4" descr="02"/>
          <p:cNvPicPr/>
          <p:nvPr/>
        </p:nvPicPr>
        <p:blipFill>
          <a:blip r:embed="rId1"/>
          <a:stretch/>
        </p:blipFill>
        <p:spPr>
          <a:xfrm>
            <a:off x="179280" y="1989000"/>
            <a:ext cx="4969080" cy="4584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kinopoisk_ru-Zhivi-i-pomni-775495"/>
          <p:cNvPicPr/>
          <p:nvPr/>
        </p:nvPicPr>
        <p:blipFill>
          <a:blip r:embed="rId2"/>
          <a:stretch/>
        </p:blipFill>
        <p:spPr>
          <a:xfrm>
            <a:off x="3851280" y="1989000"/>
            <a:ext cx="5292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Он здесь, Настёна. Не отказывайся, я знаю. Я ить отец ему. Дай один только и последний раз увидаться. 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05" name="Picture 4" descr="g_givipomni_big_07"/>
          <p:cNvPicPr/>
          <p:nvPr/>
        </p:nvPicPr>
        <p:blipFill>
          <a:blip r:embed="rId1"/>
          <a:stretch/>
        </p:blipFill>
        <p:spPr>
          <a:xfrm>
            <a:off x="4211640" y="1700280"/>
            <a:ext cx="4681440" cy="489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Христом – богом молю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Хочу я спросить его,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на что он надеется. А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ожалей меня, Настёна,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одмогни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И тебе легче будет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Как быть? Что делать? Счастье-то, где ж оно было раньше жданное – пережданное, почему открылось только сейчас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08" name="Picture 4" descr="04"/>
          <p:cNvPicPr/>
          <p:nvPr/>
        </p:nvPicPr>
        <p:blipFill>
          <a:blip r:embed="rId1"/>
          <a:stretch/>
        </p:blipFill>
        <p:spPr>
          <a:xfrm>
            <a:off x="324000" y="1700280"/>
            <a:ext cx="4824360" cy="316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g_givipomni_big_01"/>
          <p:cNvPicPr/>
          <p:nvPr/>
        </p:nvPicPr>
        <p:blipFill>
          <a:blip r:embed="rId2"/>
          <a:stretch/>
        </p:blipFill>
        <p:spPr>
          <a:xfrm>
            <a:off x="4114800" y="2997360"/>
            <a:ext cx="5029200" cy="3528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5219640" y="141300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Она взяла его ладонь и приставила туда, где начинал бугриться, уже чем-то упираясь, ребёнок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ростить его – не простят: горе народное не позволит. Вину Андрея она берёт на себя. А как с таким грузом жить? Дитя рожать? Что ребёнку передать в наследство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13" name="Picture 4" descr="01"/>
          <p:cNvPicPr/>
          <p:nvPr/>
        </p:nvPicPr>
        <p:blipFill>
          <a:blip r:embed="rId1"/>
          <a:stretch/>
        </p:blipFill>
        <p:spPr>
          <a:xfrm>
            <a:off x="971640" y="1773360"/>
            <a:ext cx="69850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60000"/>
              </a:solidFill>
              <a:latin typeface="Calibri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403280" y="404640"/>
            <a:ext cx="5905440" cy="5715000"/>
            <a:chOff x="1403280" y="404640"/>
            <a:chExt cx="5905440" cy="5715000"/>
          </a:xfrm>
        </p:grpSpPr>
        <p:grpSp>
          <p:nvGrpSpPr>
            <p:cNvPr id="47" name="Group 5"/>
            <p:cNvGrpSpPr/>
            <p:nvPr/>
          </p:nvGrpSpPr>
          <p:grpSpPr>
            <a:xfrm>
              <a:off x="1479600" y="596520"/>
              <a:ext cx="5729040" cy="5391360"/>
              <a:chOff x="1479600" y="596520"/>
              <a:chExt cx="5729040" cy="5391360"/>
            </a:xfrm>
          </p:grpSpPr>
          <p:sp>
            <p:nvSpPr>
              <p:cNvPr id="48" name="Freeform 6"/>
              <p:cNvSpPr/>
              <p:nvPr/>
            </p:nvSpPr>
            <p:spPr>
              <a:xfrm>
                <a:off x="1479600" y="596520"/>
                <a:ext cx="5729040" cy="5391360"/>
              </a:xfrm>
              <a:custGeom>
                <a:avLst/>
                <a:gdLst>
                  <a:gd name="textAreaLeft" fmla="*/ 0 w 5729040"/>
                  <a:gd name="textAreaRight" fmla="*/ 5729400 w 5729040"/>
                  <a:gd name="textAreaTop" fmla="*/ 0 h 5391360"/>
                  <a:gd name="textAreaBottom" fmla="*/ 5391720 h 5391360"/>
                </a:gdLst>
                <a:ahLst/>
                <a:rect l="textAreaLeft" t="textAreaTop" r="textAreaRight" b="textAreaBottom"/>
                <a:pathLst>
                  <a:path w="3609" h="3396">
                    <a:moveTo>
                      <a:pt x="33" y="2006"/>
                    </a:moveTo>
                    <a:cubicBezTo>
                      <a:pt x="45" y="1897"/>
                      <a:pt x="49" y="1879"/>
                      <a:pt x="53" y="1748"/>
                    </a:cubicBezTo>
                    <a:cubicBezTo>
                      <a:pt x="60" y="1532"/>
                      <a:pt x="0" y="1309"/>
                      <a:pt x="133" y="1132"/>
                    </a:cubicBezTo>
                    <a:cubicBezTo>
                      <a:pt x="143" y="1093"/>
                      <a:pt x="171" y="1017"/>
                      <a:pt x="192" y="983"/>
                    </a:cubicBezTo>
                    <a:cubicBezTo>
                      <a:pt x="201" y="969"/>
                      <a:pt x="212" y="957"/>
                      <a:pt x="222" y="943"/>
                    </a:cubicBezTo>
                    <a:cubicBezTo>
                      <a:pt x="236" y="924"/>
                      <a:pt x="262" y="884"/>
                      <a:pt x="262" y="884"/>
                    </a:cubicBezTo>
                    <a:cubicBezTo>
                      <a:pt x="278" y="821"/>
                      <a:pt x="265" y="856"/>
                      <a:pt x="311" y="784"/>
                    </a:cubicBezTo>
                    <a:cubicBezTo>
                      <a:pt x="322" y="767"/>
                      <a:pt x="320" y="743"/>
                      <a:pt x="331" y="725"/>
                    </a:cubicBezTo>
                    <a:cubicBezTo>
                      <a:pt x="352" y="691"/>
                      <a:pt x="399" y="649"/>
                      <a:pt x="431" y="625"/>
                    </a:cubicBezTo>
                    <a:cubicBezTo>
                      <a:pt x="460" y="536"/>
                      <a:pt x="499" y="505"/>
                      <a:pt x="589" y="477"/>
                    </a:cubicBezTo>
                    <a:cubicBezTo>
                      <a:pt x="618" y="439"/>
                      <a:pt x="664" y="387"/>
                      <a:pt x="709" y="367"/>
                    </a:cubicBezTo>
                    <a:cubicBezTo>
                      <a:pt x="728" y="358"/>
                      <a:pt x="748" y="354"/>
                      <a:pt x="768" y="347"/>
                    </a:cubicBezTo>
                    <a:cubicBezTo>
                      <a:pt x="778" y="344"/>
                      <a:pt x="798" y="337"/>
                      <a:pt x="798" y="337"/>
                    </a:cubicBezTo>
                    <a:cubicBezTo>
                      <a:pt x="821" y="321"/>
                      <a:pt x="856" y="314"/>
                      <a:pt x="868" y="288"/>
                    </a:cubicBezTo>
                    <a:cubicBezTo>
                      <a:pt x="872" y="280"/>
                      <a:pt x="895" y="225"/>
                      <a:pt x="907" y="218"/>
                    </a:cubicBezTo>
                    <a:cubicBezTo>
                      <a:pt x="943" y="196"/>
                      <a:pt x="997" y="194"/>
                      <a:pt x="1036" y="179"/>
                    </a:cubicBezTo>
                    <a:cubicBezTo>
                      <a:pt x="1149" y="136"/>
                      <a:pt x="1027" y="185"/>
                      <a:pt x="1126" y="129"/>
                    </a:cubicBezTo>
                    <a:cubicBezTo>
                      <a:pt x="1152" y="114"/>
                      <a:pt x="1220" y="111"/>
                      <a:pt x="1235" y="109"/>
                    </a:cubicBezTo>
                    <a:cubicBezTo>
                      <a:pt x="1295" y="79"/>
                      <a:pt x="1334" y="77"/>
                      <a:pt x="1404" y="69"/>
                    </a:cubicBezTo>
                    <a:cubicBezTo>
                      <a:pt x="1518" y="32"/>
                      <a:pt x="1635" y="30"/>
                      <a:pt x="1751" y="0"/>
                    </a:cubicBezTo>
                    <a:cubicBezTo>
                      <a:pt x="1877" y="3"/>
                      <a:pt x="2003" y="4"/>
                      <a:pt x="2129" y="10"/>
                    </a:cubicBezTo>
                    <a:cubicBezTo>
                      <a:pt x="2223" y="14"/>
                      <a:pt x="2323" y="63"/>
                      <a:pt x="2417" y="79"/>
                    </a:cubicBezTo>
                    <a:cubicBezTo>
                      <a:pt x="2509" y="148"/>
                      <a:pt x="2644" y="161"/>
                      <a:pt x="2754" y="189"/>
                    </a:cubicBezTo>
                    <a:cubicBezTo>
                      <a:pt x="2825" y="311"/>
                      <a:pt x="2762" y="211"/>
                      <a:pt x="2874" y="357"/>
                    </a:cubicBezTo>
                    <a:cubicBezTo>
                      <a:pt x="2881" y="366"/>
                      <a:pt x="2882" y="382"/>
                      <a:pt x="2893" y="387"/>
                    </a:cubicBezTo>
                    <a:cubicBezTo>
                      <a:pt x="2921" y="400"/>
                      <a:pt x="2953" y="400"/>
                      <a:pt x="2983" y="407"/>
                    </a:cubicBezTo>
                    <a:cubicBezTo>
                      <a:pt x="3039" y="449"/>
                      <a:pt x="3070" y="463"/>
                      <a:pt x="3122" y="496"/>
                    </a:cubicBezTo>
                    <a:cubicBezTo>
                      <a:pt x="3129" y="523"/>
                      <a:pt x="3126" y="554"/>
                      <a:pt x="3142" y="576"/>
                    </a:cubicBezTo>
                    <a:cubicBezTo>
                      <a:pt x="3161" y="603"/>
                      <a:pt x="3199" y="611"/>
                      <a:pt x="3221" y="635"/>
                    </a:cubicBezTo>
                    <a:cubicBezTo>
                      <a:pt x="3239" y="655"/>
                      <a:pt x="3244" y="684"/>
                      <a:pt x="3261" y="705"/>
                    </a:cubicBezTo>
                    <a:cubicBezTo>
                      <a:pt x="3284" y="734"/>
                      <a:pt x="3319" y="753"/>
                      <a:pt x="3340" y="784"/>
                    </a:cubicBezTo>
                    <a:cubicBezTo>
                      <a:pt x="3379" y="839"/>
                      <a:pt x="3405" y="979"/>
                      <a:pt x="3460" y="1023"/>
                    </a:cubicBezTo>
                    <a:cubicBezTo>
                      <a:pt x="3481" y="1039"/>
                      <a:pt x="3506" y="1049"/>
                      <a:pt x="3529" y="1062"/>
                    </a:cubicBezTo>
                    <a:cubicBezTo>
                      <a:pt x="3532" y="1089"/>
                      <a:pt x="3533" y="1116"/>
                      <a:pt x="3539" y="1142"/>
                    </a:cubicBezTo>
                    <a:cubicBezTo>
                      <a:pt x="3546" y="1172"/>
                      <a:pt x="3569" y="1231"/>
                      <a:pt x="3569" y="1231"/>
                    </a:cubicBezTo>
                    <a:cubicBezTo>
                      <a:pt x="3576" y="1371"/>
                      <a:pt x="3586" y="1510"/>
                      <a:pt x="3609" y="1648"/>
                    </a:cubicBezTo>
                    <a:cubicBezTo>
                      <a:pt x="3606" y="1734"/>
                      <a:pt x="3607" y="1821"/>
                      <a:pt x="3599" y="1907"/>
                    </a:cubicBezTo>
                    <a:cubicBezTo>
                      <a:pt x="3593" y="1974"/>
                      <a:pt x="3541" y="2065"/>
                      <a:pt x="3519" y="2125"/>
                    </a:cubicBezTo>
                    <a:cubicBezTo>
                      <a:pt x="3479" y="2234"/>
                      <a:pt x="3437" y="2338"/>
                      <a:pt x="3390" y="2443"/>
                    </a:cubicBezTo>
                    <a:cubicBezTo>
                      <a:pt x="3381" y="2462"/>
                      <a:pt x="3377" y="2482"/>
                      <a:pt x="3370" y="2502"/>
                    </a:cubicBezTo>
                    <a:cubicBezTo>
                      <a:pt x="3358" y="2536"/>
                      <a:pt x="3313" y="2589"/>
                      <a:pt x="3291" y="2622"/>
                    </a:cubicBezTo>
                    <a:cubicBezTo>
                      <a:pt x="3285" y="2631"/>
                      <a:pt x="3287" y="2643"/>
                      <a:pt x="3281" y="2651"/>
                    </a:cubicBezTo>
                    <a:cubicBezTo>
                      <a:pt x="3265" y="2671"/>
                      <a:pt x="3238" y="2681"/>
                      <a:pt x="3221" y="2701"/>
                    </a:cubicBezTo>
                    <a:cubicBezTo>
                      <a:pt x="3171" y="2761"/>
                      <a:pt x="3163" y="2810"/>
                      <a:pt x="3082" y="2830"/>
                    </a:cubicBezTo>
                    <a:cubicBezTo>
                      <a:pt x="3035" y="2900"/>
                      <a:pt x="3055" y="2870"/>
                      <a:pt x="3023" y="2920"/>
                    </a:cubicBezTo>
                    <a:cubicBezTo>
                      <a:pt x="3017" y="2930"/>
                      <a:pt x="3002" y="2932"/>
                      <a:pt x="2993" y="2939"/>
                    </a:cubicBezTo>
                    <a:cubicBezTo>
                      <a:pt x="2961" y="2965"/>
                      <a:pt x="2924" y="2992"/>
                      <a:pt x="2893" y="3019"/>
                    </a:cubicBezTo>
                    <a:cubicBezTo>
                      <a:pt x="2844" y="3063"/>
                      <a:pt x="2834" y="3088"/>
                      <a:pt x="2774" y="3108"/>
                    </a:cubicBezTo>
                    <a:cubicBezTo>
                      <a:pt x="2745" y="3128"/>
                      <a:pt x="2712" y="3135"/>
                      <a:pt x="2685" y="3158"/>
                    </a:cubicBezTo>
                    <a:cubicBezTo>
                      <a:pt x="2659" y="3180"/>
                      <a:pt x="2656" y="3194"/>
                      <a:pt x="2625" y="3208"/>
                    </a:cubicBezTo>
                    <a:cubicBezTo>
                      <a:pt x="2494" y="3266"/>
                      <a:pt x="2361" y="3295"/>
                      <a:pt x="2218" y="3307"/>
                    </a:cubicBezTo>
                    <a:cubicBezTo>
                      <a:pt x="2172" y="3323"/>
                      <a:pt x="2089" y="3370"/>
                      <a:pt x="2049" y="3376"/>
                    </a:cubicBezTo>
                    <a:cubicBezTo>
                      <a:pt x="1964" y="3388"/>
                      <a:pt x="1877" y="3386"/>
                      <a:pt x="1791" y="3396"/>
                    </a:cubicBezTo>
                    <a:cubicBezTo>
                      <a:pt x="1698" y="3393"/>
                      <a:pt x="1606" y="3392"/>
                      <a:pt x="1513" y="3386"/>
                    </a:cubicBezTo>
                    <a:cubicBezTo>
                      <a:pt x="1476" y="3384"/>
                      <a:pt x="1476" y="3373"/>
                      <a:pt x="1444" y="3366"/>
                    </a:cubicBezTo>
                    <a:cubicBezTo>
                      <a:pt x="1366" y="3349"/>
                      <a:pt x="1284" y="3337"/>
                      <a:pt x="1205" y="3327"/>
                    </a:cubicBezTo>
                    <a:cubicBezTo>
                      <a:pt x="1159" y="3304"/>
                      <a:pt x="1107" y="3289"/>
                      <a:pt x="1066" y="3257"/>
                    </a:cubicBezTo>
                    <a:cubicBezTo>
                      <a:pt x="1033" y="3231"/>
                      <a:pt x="979" y="3176"/>
                      <a:pt x="937" y="3158"/>
                    </a:cubicBezTo>
                    <a:cubicBezTo>
                      <a:pt x="874" y="3131"/>
                      <a:pt x="816" y="3096"/>
                      <a:pt x="758" y="3059"/>
                    </a:cubicBezTo>
                    <a:cubicBezTo>
                      <a:pt x="735" y="3029"/>
                      <a:pt x="718" y="2994"/>
                      <a:pt x="689" y="2969"/>
                    </a:cubicBezTo>
                    <a:cubicBezTo>
                      <a:pt x="673" y="2955"/>
                      <a:pt x="642" y="2965"/>
                      <a:pt x="629" y="2949"/>
                    </a:cubicBezTo>
                    <a:cubicBezTo>
                      <a:pt x="596" y="2909"/>
                      <a:pt x="577" y="2859"/>
                      <a:pt x="560" y="2810"/>
                    </a:cubicBezTo>
                    <a:cubicBezTo>
                      <a:pt x="553" y="2790"/>
                      <a:pt x="555" y="2766"/>
                      <a:pt x="540" y="2751"/>
                    </a:cubicBezTo>
                    <a:cubicBezTo>
                      <a:pt x="519" y="2730"/>
                      <a:pt x="465" y="2713"/>
                      <a:pt x="431" y="2701"/>
                    </a:cubicBezTo>
                    <a:cubicBezTo>
                      <a:pt x="431" y="2701"/>
                      <a:pt x="391" y="2661"/>
                      <a:pt x="371" y="2641"/>
                    </a:cubicBezTo>
                    <a:cubicBezTo>
                      <a:pt x="328" y="2599"/>
                      <a:pt x="289" y="2565"/>
                      <a:pt x="262" y="2512"/>
                    </a:cubicBezTo>
                    <a:cubicBezTo>
                      <a:pt x="242" y="2384"/>
                      <a:pt x="242" y="2280"/>
                      <a:pt x="123" y="2205"/>
                    </a:cubicBezTo>
                    <a:cubicBezTo>
                      <a:pt x="113" y="2192"/>
                      <a:pt x="98" y="2181"/>
                      <a:pt x="93" y="2165"/>
                    </a:cubicBezTo>
                    <a:cubicBezTo>
                      <a:pt x="77" y="2117"/>
                      <a:pt x="96" y="2061"/>
                      <a:pt x="73" y="2016"/>
                    </a:cubicBezTo>
                    <a:cubicBezTo>
                      <a:pt x="28" y="1926"/>
                      <a:pt x="33" y="1992"/>
                      <a:pt x="33" y="200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7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60000"/>
                  </a:solidFill>
                  <a:latin typeface="Times New Roman"/>
                </a:endParaRPr>
              </a:p>
            </p:txBody>
          </p:sp>
          <p:sp>
            <p:nvSpPr>
              <p:cNvPr id="49" name="Rectangle 7"/>
              <p:cNvSpPr/>
              <p:nvPr/>
            </p:nvSpPr>
            <p:spPr>
              <a:xfrm>
                <a:off x="2317680" y="1776240"/>
                <a:ext cx="41148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760000"/>
                    </a:solidFill>
                    <a:latin typeface="Times New Roman"/>
                  </a:rPr>
                  <a:t>В. Г. Распутин</a:t>
                </a:r>
                <a:endParaRPr b="0" lang="en-US" sz="3200" spc="-1" strike="noStrike">
                  <a:solidFill>
                    <a:srgbClr val="76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76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AutoShape 8"/>
            <p:cNvSpPr/>
            <p:nvPr/>
          </p:nvSpPr>
          <p:spPr>
            <a:xfrm>
              <a:off x="1403280" y="404640"/>
              <a:ext cx="5905440" cy="5715000"/>
            </a:xfrm>
            <a:custGeom>
              <a:avLst/>
              <a:gdLst>
                <a:gd name="textAreaLeft" fmla="*/ 865080 w 5905440"/>
                <a:gd name="textAreaRight" fmla="*/ 5040360 w 5905440"/>
                <a:gd name="textAreaTop" fmla="*/ 836640 h 5715000"/>
                <a:gd name="textAreaBottom" fmla="*/ 4878360 h 57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61" y="10800"/>
                  </a:moveTo>
                  <a:cubicBezTo>
                    <a:pt x="1061" y="16179"/>
                    <a:pt x="5421" y="20539"/>
                    <a:pt x="10800" y="20539"/>
                  </a:cubicBezTo>
                  <a:cubicBezTo>
                    <a:pt x="16179" y="20539"/>
                    <a:pt x="20539" y="16179"/>
                    <a:pt x="20539" y="10800"/>
                  </a:cubicBezTo>
                  <a:cubicBezTo>
                    <a:pt x="20539" y="5421"/>
                    <a:pt x="16179" y="1061"/>
                    <a:pt x="10800" y="1061"/>
                  </a:cubicBezTo>
                  <a:cubicBezTo>
                    <a:pt x="5421" y="1061"/>
                    <a:pt x="1061" y="5421"/>
                    <a:pt x="106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76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60000"/>
                </a:solidFill>
                <a:latin typeface="Times New Roman"/>
              </a:endParaRPr>
            </a:p>
          </p:txBody>
        </p:sp>
      </p:grpSp>
      <p:pic>
        <p:nvPicPr>
          <p:cNvPr id="51" name="Picture 11" descr="BOOK1"/>
          <p:cNvPicPr/>
          <p:nvPr/>
        </p:nvPicPr>
        <p:blipFill>
          <a:blip r:embed="rId2"/>
          <a:stretch/>
        </p:blipFill>
        <p:spPr>
          <a:xfrm>
            <a:off x="2411280" y="2637000"/>
            <a:ext cx="3816360" cy="2224080"/>
          </a:xfrm>
          <a:prstGeom prst="rect">
            <a:avLst/>
          </a:prstGeom>
          <a:ln w="0">
            <a:noFill/>
          </a:ln>
        </p:spPr>
      </p:pic>
      <p:sp>
        <p:nvSpPr>
          <p:cNvPr id="52" name="WordArt 10"/>
          <p:cNvSpPr txBox="1"/>
          <p:nvPr/>
        </p:nvSpPr>
        <p:spPr>
          <a:xfrm>
            <a:off x="2050920" y="2637000"/>
            <a:ext cx="18878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11"/>
          <p:cNvSpPr txBox="1"/>
          <p:nvPr/>
        </p:nvSpPr>
        <p:spPr>
          <a:xfrm>
            <a:off x="4427640" y="364500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м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WordArt 12"/>
          <p:cNvSpPr txBox="1"/>
          <p:nvPr/>
        </p:nvSpPr>
        <p:spPr>
          <a:xfrm>
            <a:off x="3780000" y="3573360"/>
            <a:ext cx="536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Возьми сердце в камень. Я знаю. Что тебе придётся ходить по раскалённым углям. Вытерпи, Настён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16" name="Picture 4" descr="13588_1"/>
          <p:cNvPicPr/>
          <p:nvPr/>
        </p:nvPicPr>
        <p:blipFill>
          <a:blip r:embed="rId1"/>
          <a:stretch/>
        </p:blipFill>
        <p:spPr>
          <a:xfrm>
            <a:off x="179280" y="155736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Все держались открыто и ясно. Настёна таила такое, что было против всех. Она была уже чужой, посторонней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19" name="Picture 4" descr="13588_2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Не мог мой живым остаться…смертью храбрых. А что с его храброй смертью я теперь делать буду? Их что ли кормить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22" name="Picture 4" descr="g_givipomni_big_06"/>
          <p:cNvPicPr/>
          <p:nvPr/>
        </p:nvPicPr>
        <p:blipFill>
          <a:blip r:embed="rId1"/>
          <a:stretch/>
        </p:blipFill>
        <p:spPr>
          <a:xfrm>
            <a:off x="179280" y="1413000"/>
            <a:ext cx="8964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Гуськов однажды, чтобы спугнуть волка, от злости ответил ему своим воем. Ответил и поразился: его голос сошёлся с волчьим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25" name="Picture 4" descr="4"/>
          <p:cNvPicPr/>
          <p:nvPr/>
        </p:nvPicPr>
        <p:blipFill>
          <a:blip r:embed="rId1"/>
          <a:stretch/>
        </p:blipFill>
        <p:spPr>
          <a:xfrm>
            <a:off x="250920" y="1628640"/>
            <a:ext cx="86421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Огни в окнах взволновали Гускова, ему представился самовар на столе, половики под босыми ногами – пахнуло родным, и сладко и безнадёжно заныла душа – и  свернулась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27" name="Picture 4" descr="phoca_thumb_l_jan04"/>
          <p:cNvPicPr/>
          <p:nvPr/>
        </p:nvPicPr>
        <p:blipFill>
          <a:blip r:embed="rId1"/>
          <a:stretch/>
        </p:blipFill>
        <p:spPr>
          <a:xfrm>
            <a:off x="250920" y="2133720"/>
            <a:ext cx="8713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30" name="Picture 4" descr="530157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335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8730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чь была тихая, потёмистая. На Ангаре виделось хорошо.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стёна сняла с берега лодку, оттолкнула её…Надо успеть предупредить. Надо попрощаться. Навсегда, до других времён – неизвестно.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ыдно…почему так истошно стыдно и перед Андреем, и перед людьми, и перед собой? Где набрала она вины для такого стыда?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34" name="Picture 4" descr="1193552_20090802130424"/>
          <p:cNvPicPr/>
          <p:nvPr/>
        </p:nvPicPr>
        <p:blipFill>
          <a:blip r:embed="rId1"/>
          <a:stretch/>
        </p:blipFill>
        <p:spPr>
          <a:xfrm>
            <a:off x="3819600" y="2867040"/>
            <a:ext cx="1504800" cy="1123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1_edited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826920" y="2276640"/>
            <a:ext cx="749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Arial"/>
              </a:rPr>
              <a:t>Поперёк Ангары проплыла широкая тень. Далеко из воды шло мерцание, в нём струилось и трепетало небо.  Сколько людей решилось пойти туда и скольким ещё решаться!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60000"/>
                </a:solidFill>
                <a:latin typeface="Arial"/>
              </a:rPr>
              <a:t>- Настёна, не смей! Настё-ё-о-на!.. последнее, что  довелось ей услышать, и осторожно перевалилась в воду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…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редали Настёну земле среди своих, только чуть с краюшку. После похорон собрались у Надьки и всплакнули: жалко было Настёну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39" name="Picture 4" descr="326106_63"/>
          <p:cNvPicPr/>
          <p:nvPr/>
        </p:nvPicPr>
        <p:blipFill>
          <a:blip r:embed="rId1"/>
          <a:stretch/>
        </p:blipFill>
        <p:spPr>
          <a:xfrm>
            <a:off x="250920" y="1773360"/>
            <a:ext cx="8569080" cy="4824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755640" y="247032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60000"/>
                </a:solidFill>
                <a:uFillTx/>
                <a:latin typeface="Times New Roman"/>
              </a:rPr>
              <a:t>Распутин ответил так:</a:t>
            </a:r>
            <a:endParaRPr b="0" lang="en-US" sz="32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Boyarsky"/>
              </a:rPr>
              <a:t>«Ну какая же страсть, это любовь. Любовь – жертва. В страсти нет желания отдавать. В страсти есть желание получать».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Презентацию подготовила: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Келлер Александра Сергеевна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Алтайский край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г. Камень – на – Оби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МОУ «Лицей № 4».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Это заглавие притягивает. Здесь таится какой-то смысл. Кому и зачем предназначены эти слова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57" name="Picture 4" descr="Онегин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71640" y="2637000"/>
            <a:ext cx="3085920" cy="356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g_givipomni_big_10"/>
          <p:cNvPicPr/>
          <p:nvPr/>
        </p:nvPicPr>
        <p:blipFill>
          <a:blip r:embed="rId2"/>
          <a:stretch/>
        </p:blipFill>
        <p:spPr>
          <a:xfrm>
            <a:off x="5292720" y="1557360"/>
            <a:ext cx="349560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55640" y="1916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Написана в 1974 году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684360" y="2421000"/>
            <a:ext cx="602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Экранизация повести 2007 год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Режиссёр Александр Прошкин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3" name="Picture 4" descr="215940_68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26"/>
          <p:cNvSpPr txBox="1"/>
          <p:nvPr/>
        </p:nvSpPr>
        <p:spPr>
          <a:xfrm>
            <a:off x="0" y="4365720"/>
            <a:ext cx="183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Велик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ечестве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вой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332000" y="2708280"/>
            <a:ext cx="781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Boyarsky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yarsky"/>
              </a:rPr>
              <a:t>«Живи и помни, человек, в беде, в кручине, в самые тяжкие дни испытания место твоё – с твоим народом – всякое отступничество, вызванное слабостью ль твоей, неразуменьем ли, оборачивается большим горем для твоей Родины и народа, а стало быть, и для тебя»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yarsky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yarsky"/>
              </a:rPr>
              <a:t>------------------------------------------------------В.Астафьев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0000"/>
                </a:solidFill>
                <a:latin typeface="Times New Roman"/>
              </a:rPr>
              <a:t>Сажусь возле окна. Беру  в руки книгу Распутина и забываюсь, листая страницы этой повести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7" name="Picture 4" descr="книга"/>
          <p:cNvPicPr/>
          <p:nvPr/>
        </p:nvPicPr>
        <p:blipFill>
          <a:blip r:embed="rId1"/>
          <a:stretch/>
        </p:blipFill>
        <p:spPr>
          <a:xfrm>
            <a:off x="179280" y="1413000"/>
            <a:ext cx="4140360" cy="510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Администратор\Мои документы\Мои рисунки\Организатор клипов (Microsoft)\j0404643.wmf"/>
          <p:cNvPicPr/>
          <p:nvPr/>
        </p:nvPicPr>
        <p:blipFill>
          <a:blip r:embed="rId2"/>
          <a:stretch/>
        </p:blipFill>
        <p:spPr>
          <a:xfrm>
            <a:off x="7093080" y="5013360"/>
            <a:ext cx="1857240" cy="1619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2290680" y="2276640"/>
            <a:ext cx="638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760000"/>
                </a:solidFill>
                <a:latin typeface="Times New Roman"/>
              </a:rPr>
              <a:t>Смертью жены и неродившегося ребёнка карает автор героя: </a:t>
            </a:r>
            <a:r>
              <a:rPr b="0" lang="ru-RU" sz="2800" spc="-1" strike="noStrike">
                <a:solidFill>
                  <a:srgbClr val="ea0000"/>
                </a:solidFill>
                <a:latin typeface="Times New Roman"/>
              </a:rPr>
              <a:t>«Живи и помни. Живи и помни!»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60000"/>
                </a:solidFill>
                <a:latin typeface="Times New Roman"/>
              </a:rPr>
              <a:t>Нельзя прожить врозь от народной судьбы.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60000"/>
                </a:solidFill>
                <a:latin typeface="Times New Roman"/>
              </a:rPr>
              <a:t>Бывает наказание смертью, а бывает – жизнью. Так вот и Андрей </a:t>
            </a:r>
            <a:r>
              <a:rPr b="0" lang="ru-RU" sz="2800" spc="-1" strike="noStrike">
                <a:solidFill>
                  <a:srgbClr val="ea0000"/>
                </a:solidFill>
                <a:latin typeface="Times New Roman"/>
              </a:rPr>
              <a:t>вынужден жить </a:t>
            </a:r>
            <a:r>
              <a:rPr b="0" lang="ru-RU" sz="2800" spc="-1" strike="noStrike">
                <a:solidFill>
                  <a:srgbClr val="760000"/>
                </a:solidFill>
                <a:latin typeface="Times New Roman"/>
              </a:rPr>
              <a:t>загнанным, озверевшим. 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</p:txBody>
      </p:sp>
      <p:pic>
        <p:nvPicPr>
          <p:cNvPr id="70" name="Picture 8" descr="book25"/>
          <p:cNvPicPr/>
          <p:nvPr/>
        </p:nvPicPr>
        <p:blipFill>
          <a:blip r:embed="rId3"/>
          <a:stretch/>
        </p:blipFill>
        <p:spPr>
          <a:xfrm>
            <a:off x="6443640" y="476280"/>
            <a:ext cx="24462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Зима на 45-й, последний военный год, простояла сиротской, но крещенские морозы своё взяли, отстучали за сорок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3" name="Picture 4" descr="phoca_thumb_l_l03"/>
          <p:cNvPicPr/>
          <p:nvPr/>
        </p:nvPicPr>
        <p:blipFill>
          <a:blip r:embed="rId1"/>
          <a:stretch/>
        </p:blipFill>
        <p:spPr>
          <a:xfrm>
            <a:off x="250920" y="155736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Отстал с деревьев куржак, и лес совсем помертвел. В жёстком воздухе по утрам трудно было продохнуть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6" name="Picture 4" descr="landscape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В морозы в бане Гуськовых, стоящей на нижнем огороде у Ангары, исчез хороший, плотницкий топор Михеич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9" name="Picture 4" descr="izbushka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Ёкнуло сердце у Настёны…Она чуть не задохнулась от этой мысли. Днём возила солому и всякий раз посматривала, как заворожённая,  на баню снова и снов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2" name="Picture 4" descr="zimoy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5:30:21Z</dcterms:created>
  <dc:creator>USER</dc:creator>
  <dc:description>http://aida.ucoz.ru</dc:description>
  <dc:language>en-US</dc:language>
  <cp:lastModifiedBy>Коля</cp:lastModifiedBy>
  <dcterms:modified xsi:type="dcterms:W3CDTF">2013-05-03T18:15:42Z</dcterms:modified>
  <cp:revision>20</cp:revision>
  <dc:subject/>
  <dc:title>Слайд 1</dc:title>
</cp:coreProperties>
</file>