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.png" ContentType="image/png"/>
  <Override PartName="/ppt/media/image12.wmf" ContentType="image/x-wmf"/>
  <Override PartName="/ppt/media/image29.jpeg" ContentType="image/jpeg"/>
  <Override PartName="/ppt/media/image10.jpeg" ContentType="image/jpeg"/>
  <Override PartName="/ppt/media/image13.gif" ContentType="image/gif"/>
  <Override PartName="/ppt/media/image31.jpeg" ContentType="image/jpeg"/>
  <Override PartName="/ppt/media/image33.jpeg" ContentType="image/jpeg"/>
  <Override PartName="/ppt/media/image16.jpeg" ContentType="image/jpeg"/>
  <Override PartName="/ppt/media/image5.wmf" ContentType="image/x-wmf"/>
  <Override PartName="/ppt/media/image27.jpeg" ContentType="image/jpeg"/>
  <Override PartName="/ppt/media/image34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E2C-064A-48F1-9E53-A09FA2A0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00B-18DF-4DD5-BAB2-AB6466B6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14B-F693-4FD6-8707-29DE0B6C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D1E-A569-4D8F-942A-96939DF7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D01-261A-41E8-AB8A-5F51FD64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C76-81AD-46D8-95E1-0A8D3AC3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68B-64E7-445A-8359-3F8BCE34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44D-051E-49B9-8131-25BB2D19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959-23B3-4AF1-AE25-6E77494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A66-8A3C-4FF3-8310-A948173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E70-9620-414B-BEB4-E2D95FA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290-A6C8-48B6-9736-9FCF7CB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1E93-DDD7-4288-943C-5B25B85B441C}" type="datetime">
              <a:rPr b="0" lang="ru-RU" sz="1200" spc="-1" strike="noStrike">
                <a:solidFill>
                  <a:srgbClr val="a7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1DFF-11D2-4AA9-8BE0-61D8A80F467A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патрет"/>
          <p:cNvPicPr/>
          <p:nvPr/>
        </p:nvPicPr>
        <p:blipFill>
          <a:blip r:embed="rId2"/>
          <a:stretch/>
        </p:blipFill>
        <p:spPr>
          <a:xfrm>
            <a:off x="6012000" y="0"/>
            <a:ext cx="2947680" cy="4302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1941-45 логотип.jpg"/>
          <p:cNvPicPr/>
          <p:nvPr/>
        </p:nvPicPr>
        <p:blipFill>
          <a:blip r:embed="rId3"/>
          <a:stretch/>
        </p:blipFill>
        <p:spPr>
          <a:xfrm>
            <a:off x="0" y="4411800"/>
            <a:ext cx="2178000" cy="2043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923760"/>
            <a:ext cx="60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й из лучших книг о войне заслуженно считается повесть В.Распутина «Живи и помни», которая сразу же после её издания в 1974 году вызвала живой интерес и получила европейское признание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44" name="Picture 3" descr="C:\Documents and Settings\Администратор\Мои документы\Мои рисунки\Организатор клипов (Microsoft)\j0331780.wmf"/>
          <p:cNvPicPr/>
          <p:nvPr/>
        </p:nvPicPr>
        <p:blipFill>
          <a:blip r:embed="rId4"/>
          <a:stretch/>
        </p:blipFill>
        <p:spPr>
          <a:xfrm>
            <a:off x="2627280" y="4108320"/>
            <a:ext cx="182556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Укрылся Андрей в старом зимовье, расшурудил  печку и впервые за много волчьих дней согрелся. Сюда мало кто и раньше заглядывал, а сейчас и подавно никто не полезе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4" descr="izba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Вот что я скажу тебе, Настёна. Ни одна собака не должна знать, что я здесь. Скажешь кому – убью. Убью – мне терять нечего. Так и запомни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64000" y="2852280"/>
            <a:ext cx="3780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ак же этот человек, честно защищавший от врагов родину, заслуживший уважение товарищей, решился на поступок, презираемый всеми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4" descr="2"/>
          <p:cNvPicPr/>
          <p:nvPr/>
        </p:nvPicPr>
        <p:blipFill>
          <a:blip r:embed="rId1"/>
          <a:stretch/>
        </p:blipFill>
        <p:spPr>
          <a:xfrm>
            <a:off x="179280" y="1628640"/>
            <a:ext cx="54054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Андрея взяли в первые дни войны. Долго воевал удачно. Был ранен, контужен, лежал в госпитале. Но летом 44 года пропал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у как ты насмелился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е знаю. Невмоготу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стало. Дышать нечем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было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Война кончится, -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может, простя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ет. За это не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ощают!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1" name="Picture 4" descr="05"/>
          <p:cNvPicPr/>
          <p:nvPr/>
        </p:nvPicPr>
        <p:blipFill>
          <a:blip r:embed="rId1"/>
          <a:stretch/>
        </p:blipFill>
        <p:spPr>
          <a:xfrm>
            <a:off x="0" y="1628640"/>
            <a:ext cx="5003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Я к тебе шёл. Не к отцу, не к матери – к тебе. И никто: ни мать, ни отец – не должен обо мне знать. Не было меня и нету. Пропал я без вести. Убили по дороге, сожгли…</a:t>
            </a:r>
            <a:br>
              <a:rPr sz="2400"/>
            </a:b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Я теперь в твоих руках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3" name="Picture 5" descr="3"/>
          <p:cNvPicPr/>
          <p:nvPr/>
        </p:nvPicPr>
        <p:blipFill>
          <a:blip r:embed="rId1"/>
          <a:stretch/>
        </p:blipFill>
        <p:spPr>
          <a:xfrm>
            <a:off x="3564000" y="2276640"/>
            <a:ext cx="5333760" cy="257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_givipomni_big_08"/>
          <p:cNvPicPr/>
          <p:nvPr/>
        </p:nvPicPr>
        <p:blipFill>
          <a:blip r:embed="rId2"/>
          <a:stretch/>
        </p:blipFill>
        <p:spPr>
          <a:xfrm>
            <a:off x="324000" y="2924280"/>
            <a:ext cx="5029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Господи, научи, что делать! Не вынести Андрею этой вины. Так что же, отказаться от него? Это совсем надо не иметь сердц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7" name="Picture 4" descr="13588_3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820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стёна думала об Андрее, любя его горькой любовью. Она любила его жалея и жалела любя – эти два чувства неразрывно сошлись в одно. И ничего с собой Настёна сделать не могл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9" name="Picture 4" descr="g_givipomni_big_03"/>
          <p:cNvPicPr/>
          <p:nvPr/>
        </p:nvPicPr>
        <p:blipFill>
          <a:blip r:embed="rId1"/>
          <a:stretch/>
        </p:blipFill>
        <p:spPr>
          <a:xfrm>
            <a:off x="250920" y="2133720"/>
            <a:ext cx="5029200" cy="43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g_givipomni_big_02"/>
          <p:cNvPicPr/>
          <p:nvPr/>
        </p:nvPicPr>
        <p:blipFill>
          <a:blip r:embed="rId2"/>
          <a:stretch/>
        </p:blipFill>
        <p:spPr>
          <a:xfrm>
            <a:off x="4043520" y="2133720"/>
            <a:ext cx="5100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оней отец любил. С тех пор, как потерялся Андрей. Михеич стал чураться людей, он больше отмалчивался…Вид Михеича был измученный, безнадёжный. Так сильно сдал Михеич за один год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2" name="Picture 4" descr="02"/>
          <p:cNvPicPr/>
          <p:nvPr/>
        </p:nvPicPr>
        <p:blipFill>
          <a:blip r:embed="rId1"/>
          <a:stretch/>
        </p:blipFill>
        <p:spPr>
          <a:xfrm>
            <a:off x="179280" y="1989000"/>
            <a:ext cx="4969080" cy="4584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kinopoisk_ru-Zhivi-i-pomni-775495"/>
          <p:cNvPicPr/>
          <p:nvPr/>
        </p:nvPicPr>
        <p:blipFill>
          <a:blip r:embed="rId2"/>
          <a:stretch/>
        </p:blipFill>
        <p:spPr>
          <a:xfrm>
            <a:off x="3851280" y="1989000"/>
            <a:ext cx="52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н здесь, Настёна. Не отказывайся, я знаю. Я ить отец ему. Дай один только и последний раз увидаться.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5" name="Picture 4" descr="g_givipomni_big_07"/>
          <p:cNvPicPr/>
          <p:nvPr/>
        </p:nvPicPr>
        <p:blipFill>
          <a:blip r:embed="rId1"/>
          <a:stretch/>
        </p:blipFill>
        <p:spPr>
          <a:xfrm>
            <a:off x="4211640" y="1700280"/>
            <a:ext cx="4681440" cy="489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Христом – богом молю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Хочу я спросить его,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 что он надеется. А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ожалей меня, Настёна,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одмогни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И тебе легче буде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ак быть? Что делать? Счастье-то, где ж оно было раньше жданное – пережданное, почему открылось только сейчас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8" name="Picture 4" descr="04"/>
          <p:cNvPicPr/>
          <p:nvPr/>
        </p:nvPicPr>
        <p:blipFill>
          <a:blip r:embed="rId1"/>
          <a:stretch/>
        </p:blipFill>
        <p:spPr>
          <a:xfrm>
            <a:off x="324000" y="1700280"/>
            <a:ext cx="482436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g_givipomni_big_01"/>
          <p:cNvPicPr/>
          <p:nvPr/>
        </p:nvPicPr>
        <p:blipFill>
          <a:blip r:embed="rId2"/>
          <a:stretch/>
        </p:blipFill>
        <p:spPr>
          <a:xfrm>
            <a:off x="4114800" y="2997360"/>
            <a:ext cx="5029200" cy="3528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5219640" y="14130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на взяла его ладонь и приставила туда, где начинал бугриться, уже чем-то упираясь, ребёнок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остить его – не простят: горе народное не позволит. Вину Андрея она берёт на себя. А как с таким грузом жить? Дитя рожать? Что ребёнку передать в наследство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3" name="Picture 4" descr="01"/>
          <p:cNvPicPr/>
          <p:nvPr/>
        </p:nvPicPr>
        <p:blipFill>
          <a:blip r:embed="rId1"/>
          <a:stretch/>
        </p:blipFill>
        <p:spPr>
          <a:xfrm>
            <a:off x="971640" y="1773360"/>
            <a:ext cx="69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403280" y="404640"/>
            <a:ext cx="5905440" cy="5715000"/>
            <a:chOff x="1403280" y="404640"/>
            <a:chExt cx="5905440" cy="5715000"/>
          </a:xfrm>
        </p:grpSpPr>
        <p:grpSp>
          <p:nvGrpSpPr>
            <p:cNvPr id="47" name="Group 5"/>
            <p:cNvGrpSpPr/>
            <p:nvPr/>
          </p:nvGrpSpPr>
          <p:grpSpPr>
            <a:xfrm>
              <a:off x="1479600" y="596520"/>
              <a:ext cx="5729040" cy="5391360"/>
              <a:chOff x="1479600" y="596520"/>
              <a:chExt cx="5729040" cy="5391360"/>
            </a:xfrm>
          </p:grpSpPr>
          <p:sp>
            <p:nvSpPr>
              <p:cNvPr id="48" name="Freeform 6"/>
              <p:cNvSpPr/>
              <p:nvPr/>
            </p:nvSpPr>
            <p:spPr>
              <a:xfrm>
                <a:off x="1479600" y="596520"/>
                <a:ext cx="5729040" cy="5391360"/>
              </a:xfrm>
              <a:custGeom>
                <a:avLst/>
                <a:gdLst>
                  <a:gd name="textAreaLeft" fmla="*/ 0 w 5729040"/>
                  <a:gd name="textAreaRight" fmla="*/ 5729400 w 5729040"/>
                  <a:gd name="textAreaTop" fmla="*/ 0 h 5391360"/>
                  <a:gd name="textAreaBottom" fmla="*/ 5391720 h 539136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7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60000"/>
                  </a:solidFill>
                  <a:latin typeface="Times New Roman"/>
                </a:endParaRPr>
              </a:p>
            </p:txBody>
          </p:sp>
          <p:sp>
            <p:nvSpPr>
              <p:cNvPr id="49" name="Rectangle 7"/>
              <p:cNvSpPr/>
              <p:nvPr/>
            </p:nvSpPr>
            <p:spPr>
              <a:xfrm>
                <a:off x="2317680" y="1776240"/>
                <a:ext cx="41148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60000"/>
                    </a:solidFill>
                    <a:latin typeface="Times New Roman"/>
                  </a:rPr>
                  <a:t>В. Г. Распутин</a:t>
                </a:r>
                <a:endParaRPr b="0" lang="en-US" sz="3200" spc="-1" strike="noStrike">
                  <a:solidFill>
                    <a:srgbClr val="76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76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AutoShape 8"/>
            <p:cNvSpPr/>
            <p:nvPr/>
          </p:nvSpPr>
          <p:spPr>
            <a:xfrm>
              <a:off x="1403280" y="404640"/>
              <a:ext cx="5905440" cy="5715000"/>
            </a:xfrm>
            <a:custGeom>
              <a:avLst/>
              <a:gdLst>
                <a:gd name="textAreaLeft" fmla="*/ 865080 w 5905440"/>
                <a:gd name="textAreaRight" fmla="*/ 5040360 w 5905440"/>
                <a:gd name="textAreaTop" fmla="*/ 836640 h 5715000"/>
                <a:gd name="textAreaBottom" fmla="*/ 4878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76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60000"/>
                </a:solidFill>
                <a:latin typeface="Times New Roman"/>
              </a:endParaRPr>
            </a:p>
          </p:txBody>
        </p:sp>
      </p:grpSp>
      <p:pic>
        <p:nvPicPr>
          <p:cNvPr id="51" name="Picture 11" descr="BOOK1"/>
          <p:cNvPicPr/>
          <p:nvPr/>
        </p:nvPicPr>
        <p:blipFill>
          <a:blip r:embed="rId2"/>
          <a:stretch/>
        </p:blipFill>
        <p:spPr>
          <a:xfrm>
            <a:off x="2411280" y="2637000"/>
            <a:ext cx="3816360" cy="222408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 txBox="1"/>
          <p:nvPr/>
        </p:nvSpPr>
        <p:spPr>
          <a:xfrm>
            <a:off x="2050920" y="2637000"/>
            <a:ext cx="1887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4427640" y="3645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м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WordArt 12"/>
          <p:cNvSpPr txBox="1"/>
          <p:nvPr/>
        </p:nvSpPr>
        <p:spPr>
          <a:xfrm>
            <a:off x="3780000" y="3573360"/>
            <a:ext cx="536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озьми сердце в камень. Я знаю. Что тебе придётся ходить по раскалённым углям. Вытерпи, Настён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6" name="Picture 4" descr="13588_1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се держались открыто и ясно. Настёна таила такое, что было против всех. Она была уже чужой, посторонней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9" name="Picture 4" descr="13588_2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е мог мой живым остаться…смертью храбрых. А что с его храброй смертью я теперь делать буду? Их что ли кормить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2" name="Picture 4" descr="g_givipomni_big_06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Гуськов однажды, чтобы спугнуть волка, от злости ответил ему своим воем. Ответил и поразился: его голос сошёлся с волчьим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5" name="Picture 4" descr="4"/>
          <p:cNvPicPr/>
          <p:nvPr/>
        </p:nvPicPr>
        <p:blipFill>
          <a:blip r:embed="rId1"/>
          <a:stretch/>
        </p:blipFill>
        <p:spPr>
          <a:xfrm>
            <a:off x="250920" y="1628640"/>
            <a:ext cx="86421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гни в окнах взволновали Гускова, ему представился самовар на столе, половики под босыми ногами – пахнуло родным, и сладко и безнадёжно заныла душа – и  свернулась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7" name="Picture 4" descr="phoca_thumb_l_jan04"/>
          <p:cNvPicPr/>
          <p:nvPr/>
        </p:nvPicPr>
        <p:blipFill>
          <a:blip r:embed="rId1"/>
          <a:stretch/>
        </p:blipFill>
        <p:spPr>
          <a:xfrm>
            <a:off x="250920" y="213372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0" name="Picture 4" descr="530157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8730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чь была тихая, потёмистая. На Ангаре виделось хорошо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тёна сняла с берега лодку, оттолкнула её…Надо успеть предупредить. Надо попрощаться. Навсегда, до других времён – неизвестно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ыдно…почему так истошно стыдно и перед Андреем, и перед людьми, и перед собой? Где набрала она вины для такого стыда?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4" name="Picture 4" descr="1193552_20090802130424"/>
          <p:cNvPicPr/>
          <p:nvPr/>
        </p:nvPicPr>
        <p:blipFill>
          <a:blip r:embed="rId1"/>
          <a:stretch/>
        </p:blipFill>
        <p:spPr>
          <a:xfrm>
            <a:off x="3819600" y="2867040"/>
            <a:ext cx="1504800" cy="112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1_edited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826920" y="2276640"/>
            <a:ext cx="749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Поперёк Ангары проплыла широкая тень. Далеко из воды шло мерцание, в нём струилось и трепетало небо.  Сколько людей решилось пойти туда и скольким ещё решаться!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- Настёна, не смей! Настё-ё-о-на!.. последнее, что  довелось ей услышать, и осторожно перевалилась в воду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…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едали Настёну земле среди своих, только чуть с краюшку. После похорон собрались у Надьки и всплакнули: жалко было Настёну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9" name="Picture 4" descr="326106_63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24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755640" y="24703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60000"/>
                </a:solidFill>
                <a:uFillTx/>
                <a:latin typeface="Times New Roman"/>
              </a:rPr>
              <a:t>Распутин ответил так:</a:t>
            </a:r>
            <a:endParaRPr b="0" lang="en-US" sz="32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Boyarsky"/>
              </a:rPr>
              <a:t>«Ну какая же страсть, это любовь. Любовь – жертва. В страсти нет желания отдавать. В страсти есть желание получать».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Презентацию подготовила: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Келлер Александра Сергеевна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Алтайский край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г. Камень – на – Оби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МОУ «Лицей № 4».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Это заглавие притягивает. Здесь таится какой-то смысл. Кому и зачем предназначены эти слова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4" descr="Онегин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71640" y="2637000"/>
            <a:ext cx="3085920" cy="35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_givipomni_big_10"/>
          <p:cNvPicPr/>
          <p:nvPr/>
        </p:nvPicPr>
        <p:blipFill>
          <a:blip r:embed="rId2"/>
          <a:stretch/>
        </p:blipFill>
        <p:spPr>
          <a:xfrm>
            <a:off x="5292720" y="1557360"/>
            <a:ext cx="349560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55640" y="1916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писана в 1974 году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84360" y="2421000"/>
            <a:ext cx="60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Экранизация повести 2007 год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Режиссёр Александр Прошкин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3" name="Picture 4" descr="215940_68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26"/>
          <p:cNvSpPr txBox="1"/>
          <p:nvPr/>
        </p:nvSpPr>
        <p:spPr>
          <a:xfrm>
            <a:off x="0" y="4365720"/>
            <a:ext cx="183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елик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ечестве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ой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332000" y="2708280"/>
            <a:ext cx="78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Boyarsky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«Живи и помни, человек, в беде, в кручине, в самые тяжкие дни испытания место твоё – с твоим народом – всякое отступничество, вызванное слабостью ль твоей, неразуменьем ли, оборачивается большим горем для твоей Родины и народа, а стало быть, и для тебя»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------------------------------------------------------В.Астафьев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0000"/>
                </a:solidFill>
                <a:latin typeface="Times New Roman"/>
              </a:rPr>
              <a:t>Сажусь возле окна. Беру  в руки книгу Распутина и забываюсь, листая страницы этой повести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7" name="Picture 4" descr="книга"/>
          <p:cNvPicPr/>
          <p:nvPr/>
        </p:nvPicPr>
        <p:blipFill>
          <a:blip r:embed="rId1"/>
          <a:stretch/>
        </p:blipFill>
        <p:spPr>
          <a:xfrm>
            <a:off x="179280" y="1413000"/>
            <a:ext cx="4140360" cy="51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дминистратор\Мои документы\Мои рисунки\Организатор клипов (Microsoft)\j0404643.wmf"/>
          <p:cNvPicPr/>
          <p:nvPr/>
        </p:nvPicPr>
        <p:blipFill>
          <a:blip r:embed="rId2"/>
          <a:stretch/>
        </p:blipFill>
        <p:spPr>
          <a:xfrm>
            <a:off x="7093080" y="5013360"/>
            <a:ext cx="1857240" cy="1619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2290680" y="2276640"/>
            <a:ext cx="638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Смертью жены и неродившегося ребёнка карает автор героя: </a:t>
            </a:r>
            <a:r>
              <a:rPr b="0" lang="ru-RU" sz="2800" spc="-1" strike="noStrike">
                <a:solidFill>
                  <a:srgbClr val="ea0000"/>
                </a:solidFill>
                <a:latin typeface="Times New Roman"/>
              </a:rPr>
              <a:t>«Живи и помни. Живи и помни!»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Нельзя прожить врозь от народной судьбы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Бывает наказание смертью, а бывает – жизнью. Так вот и Андрей </a:t>
            </a:r>
            <a:r>
              <a:rPr b="0" lang="ru-RU" sz="2800" spc="-1" strike="noStrike">
                <a:solidFill>
                  <a:srgbClr val="ea0000"/>
                </a:solidFill>
                <a:latin typeface="Times New Roman"/>
              </a:rPr>
              <a:t>вынужден жить </a:t>
            </a: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загнанным, озверевшим. 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70" name="Picture 8" descr="book25"/>
          <p:cNvPicPr/>
          <p:nvPr/>
        </p:nvPicPr>
        <p:blipFill>
          <a:blip r:embed="rId3"/>
          <a:stretch/>
        </p:blipFill>
        <p:spPr>
          <a:xfrm>
            <a:off x="6443640" y="476280"/>
            <a:ext cx="24462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Зима на 45-й, последний военный год, простояла сиротской, но крещенские морозы своё взяли, отстучали за сорок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4" descr="phoca_thumb_l_l03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тстал с деревьев куржак, и лес совсем помертвел. В жёстком воздухе по утрам трудно было продохнуть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6" name="Picture 4" descr="landscape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 морозы в бане Гуськовых, стоящей на нижнем огороде у Ангары, исчез хороший, плотницкий топор Михеич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4" descr="izbushka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Ёкнуло сердце у Настёны…Она чуть не задохнулась от этой мысли. Днём возила солому и всякий раз посматривала, как заворожённая,  на баню снова и снов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Picture 4" descr="zimoy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5:30:21Z</dcterms:created>
  <dc:creator>USER</dc:creator>
  <dc:description>http://aida.ucoz.ru</dc:description>
  <dc:language>en-US</dc:language>
  <cp:lastModifiedBy>Коля</cp:lastModifiedBy>
  <dcterms:modified xsi:type="dcterms:W3CDTF">2013-05-03T18:15:42Z</dcterms:modified>
  <cp:revision>20</cp:revision>
  <dc:subject/>
  <dc:title>Слайд 1</dc:title>
</cp:coreProperties>
</file>