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C139A-5081-4FF9-B0F3-D1FC339F9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49B33-7387-46C9-BB49-57D97718B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3BCFFE-233F-4671-B2B0-CD26CD79F0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B198E-A9E0-4B74-86BD-ED41812731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1E1B5-B246-4E43-9CE1-DBADF813E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81F30-8905-4BFF-8190-70CCD3D84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A4999-75B0-40B0-BB1C-6C14A1D71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778448-F6A0-4DA0-8DE0-D2940133F9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9F84BF-1760-428F-962F-11A83DD1C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9D3B80-B321-4455-9219-BE66452F5C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364F4-748C-467B-9720-6C03105E04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58B5A58-6C43-443C-9A25-A1B0F7147C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DEC6E-4824-43CD-98DB-2BBBC6D12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8F34481-FFB4-478E-9B31-9F41CDABAC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8F9EBBD-AB6A-4138-8A0E-12C9D23D8E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48AC4A7-C066-4B28-B07E-D77E292D8F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AD9B380-1690-4B29-86DA-D9771B6275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3260B1F-0921-453C-B239-ED2ECB58BE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9ADB39A-0262-43DB-8009-F0B2AE4D86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919E10D-2D32-4E8E-8ADE-8AD956C513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EB3AD60-29EC-41DC-9EC0-DC1405D3ED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C6D14AF-7838-4D4B-85C8-9100B4D3A4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038A504-7C47-42F6-B24B-5651A233E0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71244-AA67-4870-8EF1-D2DDFF3A8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75E4B16-C1B1-49C9-A5B8-8E03DA397B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A6FA42-68A8-4444-864E-BE1CBFB655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153829-3FB6-4614-B0E3-A5F5DA3732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69E980-E598-4200-A85D-877F3403E5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CCBD43-4365-43AF-B3B5-3866819348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D678E0-1087-44FF-BB7D-27EE47864D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297B69-E335-46BE-8F55-244AF158A6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0B08E2-A0AA-4081-AAA1-B8D220BF38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3E3E6D-3323-4032-A727-CEA3AF5C65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59396-DCF9-44FE-AFEF-69A24C5FD4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7C1121-8370-4DDF-B2B7-BDBE67AD8B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6A1BBD-77FA-455A-B8B6-B8C504C4D7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6F5AD4-76E3-4CDF-8DC9-7748ACDADD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2E8FBC-887F-4ACC-AA37-88E23D2AF5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FA9E01-64AE-48E6-B6ED-6E90618257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EA1615-FCDB-4396-BB8B-56A5CF669A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4581E9-0AD4-4091-ADBB-3DE40E080F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C8C966-59A6-459E-89C8-97BD125F4C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CEF4EA-7EA2-43BA-8127-D4EBCB0560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9478EA-6BA1-41E4-BBD5-98F1E2FA13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FC6B28-D48E-4D93-AFD8-3A071348E5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0C694-0AB9-44DA-B3C7-971015E51E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C4B929-9221-4B36-99CB-F59184ABA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EEB7BD-31AC-459F-9FB5-45603EC9F3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A77B53-D17A-4825-9CFC-03F7F9DC75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B89631-2338-4E9E-AADA-6F63145BE1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1F832C-C4CA-4A54-9A1A-D182B9C429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214175-358C-409F-83AE-7283F0CCED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A9A6F4-C08C-4B44-977C-C38C5E2284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D14F35-8CDE-4F2D-B63D-C1A8F4556A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DC525D-C7A8-43A6-B8B1-0A836FDF54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B12DFB-1E52-4A37-9495-AB2B322798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819A2-BDD8-4B92-AF70-7C806832BB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5FD229-E9A0-4E13-A962-A4E7481B61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218154-C9F9-4C55-8A64-A240F32DCC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513E24-D412-4245-970D-836F779735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5E5207-A619-4866-9328-AD182F1D3D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8D2481-C196-4D46-B4A9-D58910CC4A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00F10C3-F44F-4728-8A39-A8DED5FE53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E0D2050-9F11-4002-9257-8FB0238887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36BDDF-C820-4C85-9994-23133EC9806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F3BE16-7CED-4287-8EAA-292C4FEAD5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66B72C-AFCE-45AD-BBD3-E4CCE5A9CC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23236-0395-4988-B42A-BEF3595280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9C1B71-6E89-4394-99D8-4272FD9E0D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A526C3-EFCB-4A31-A2A6-22036AA162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C90D07-BCF6-4121-B46D-A4D4A3632A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7FC7D0-C61E-4835-AC5A-30064C895F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5A4CF9-4F72-42DA-90C6-C3A5EB4ABC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D5BB55-3D56-42DA-9824-03ECD32281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6D6CFD-03F3-41BB-8E14-06AB014F06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334AB9D-6D60-4A2D-B110-F370C6C1AE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E1DEF6-D6B7-4EA8-A670-8044D228C6B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678C2-05A2-4554-AB74-651AF7171E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F7E68-AB88-486F-921A-F936D2F1ED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6F4CA-51EF-48B2-9B3A-7DD682698F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92768-91F4-4CE0-98D8-43CC8DE2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18B1A-91A8-4835-ACEA-3D5882941E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8F3E6-616B-4526-8AA2-331DFDA7D7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FAA1E-633D-4D4F-82B4-76B77810F5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D13596-2E95-42BB-B29A-10F302393AC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4C5B22-109D-4A29-961F-6DC3A0AAA1C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17112D-46EE-4449-BF5B-0DB569427F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CD00C-7D36-41B5-BE66-72FA16BC8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FBBB2-CBED-4EB5-9713-706EF44F2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C1BF37-5067-47F1-87B7-34AF5E1FFF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94FE1-76C8-4DE9-A3A7-21F46AD61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B8ED-0CEC-4F87-9045-BC320E83A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406D2-D10A-4DDE-B5FB-7BD8BB25D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3E02A-E2F6-40D7-A8AD-D85C7CF12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442F0-8B86-4393-9A4E-B467F013C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6F690-B5AF-4D69-8DE5-03C0CD424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D01BB-0A62-4656-B68B-04EB42CCC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D7EA24-08A9-4EB1-874A-68B89EE8D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7FF70-88BB-4162-AABA-5A2258DCF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940828-327B-4B13-9A92-CB545209A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B5402-A64B-4F7C-80DD-EBF68983C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2AFF2-D0F4-4EBD-948C-94A5CC1D0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73297-9E9A-4CA8-B7AD-7D3EF35FA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A03A3-BA65-4B5B-A03C-30D0BA300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27086-8EB3-442B-88E6-D46C56E88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D6969-FB4F-42E5-BCDA-49761601B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445E7-BEC4-4ED2-9CDB-6F6573B8C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051F8-807F-46B1-AB03-DC92C8046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E6D29-086B-4733-9837-514525C8C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BFCD5-4FD8-4E84-B224-C4A49ACC8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96C064-75B1-448A-854D-65CC84F35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18B8E-9648-48F6-BD3B-25BDB5AAA5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2C9CF-BE25-4379-9D86-71E49F977D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A420F-2D5A-4362-A16C-EA2923D1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2434E-844F-47A9-9043-EB08603B0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3EBAB-469C-4A86-B5C8-564E20FC0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965F4-D019-40E1-9024-D2C273EBCA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D68E9-B598-48AB-8771-EA83E9C85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A80306-9157-4338-A892-25CE21EF2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0BE6A-C5F5-462C-B64F-153737D6E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3E195-C1F6-499D-BC27-02FD9084D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35CDB-4135-4273-9779-40CC1EDEF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9AC2B-8C66-42FA-951B-0DD8921CC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9E5149-EA45-4E3D-8BC9-191A8E2D3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DE28-7349-4043-BBDC-9BEF044D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1C29FA-7D4B-48BF-BE39-0C5A19886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E6F656-A227-4B2D-A33C-D277335D67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E4CE4-50ED-41C4-A984-72F2EF1CD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C0575-5BE9-497E-89B6-3294DC6F3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678CE5-AAEF-4C50-B2D4-E5E130FDD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3F658-FD64-4D92-B8FB-F684C8F72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62428-7BEE-4960-B16D-8AC8B427C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99499-2878-4583-AEA8-D9F317915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5E319-5A80-43D5-B2F0-FDB4B9224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FDEAD-B307-4C93-B03E-57860019C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B8FE1-5533-489B-A87B-AD641F262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D1D0D-6A19-47AA-92D7-8745773F4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1819FB-2FD5-4FD0-A15F-7CB0CE520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571F1-5D6A-4B51-AD48-79AEAA3AC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6270E-CCBA-4F28-86D4-BAFB70F8F8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CC8430-0E63-46D0-9F7C-415A8F8FD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51D74-0B9D-4259-BF70-A681A2A059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6BDE1D-B8C1-4CAF-82EE-ABB6A8277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3F082-99E7-405F-B404-8ABEC64EC2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01B0E-AF00-49D1-B923-058EDB737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33E5E-291F-4AB4-86E7-532CEBEDE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6F66-0FC9-4D14-B946-D158340D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7DF6E-EA21-400C-A32A-0929CF7E9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2146F-BECC-4DAC-AE69-4CCD43EA4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21EEFA-4EAC-49CE-AD6B-B2D4421C5C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B82244-CA4E-47B1-AA0A-857C35962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50A37A-F3E0-4920-8148-42C9E77170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BBDED2-EC5C-45F0-9E09-B34F4BF3B2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8DBA6-CE87-40C3-A053-C527D1836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8C1D4-EE14-4884-874F-7F7A6E342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56667B-C189-4BD5-9DFF-2D1A5A1ACE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1F112B-6FCD-4B0B-B619-10809C6DE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F229-F4CA-4B64-9137-EB99D139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09D38-F2DA-4CA1-AF92-A8B2FFB1A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545D1-0F6D-426A-A147-A7259CDD6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1C49C-3A48-4998-AA99-7B83D7DB6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6F23F-0599-473C-A4ED-4C2CFCA4F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1EB751-C70F-4734-BAE3-963BDB806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400324-4028-463D-B71E-718912A809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1209C3-3B92-47F3-8FD7-CFFB3106E1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8839A7-C346-470E-971D-6CA55979EB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C26023-EF78-4ED6-BFA7-235BBD8766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D5A67-DB17-4FB4-84AD-A4630F57B6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0ACF-B4D1-4D4A-B2CB-762B57C1E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27" name=""/>
          <p:cNvGrpSpPr/>
          <p:nvPr/>
        </p:nvGrpSpPr>
        <p:grpSpPr>
          <a:xfrm>
            <a:off x="-6480" y="20520"/>
            <a:ext cx="9144000" cy="6858000"/>
            <a:chOff x="-6480" y="20520"/>
            <a:chExt cx="9144000" cy="6858000"/>
          </a:xfrm>
        </p:grpSpPr>
        <p:sp>
          <p:nvSpPr>
            <p:cNvPr id="728"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0"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1" name=""/>
          <p:cNvGrpSpPr/>
          <p:nvPr/>
        </p:nvGrpSpPr>
        <p:grpSpPr>
          <a:xfrm>
            <a:off x="-1440" y="6033960"/>
            <a:ext cx="7844400" cy="850680"/>
            <a:chOff x="-1440" y="6033960"/>
            <a:chExt cx="7844400" cy="850680"/>
          </a:xfrm>
        </p:grpSpPr>
        <p:sp>
          <p:nvSpPr>
            <p:cNvPr id="732"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3944880" y="6033960"/>
              <a:ext cx="3898080" cy="850680"/>
              <a:chOff x="3944880" y="6033960"/>
              <a:chExt cx="3898080" cy="850680"/>
            </a:xfrm>
          </p:grpSpPr>
          <p:sp>
            <p:nvSpPr>
              <p:cNvPr id="734"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0" name=""/>
          <p:cNvGrpSpPr/>
          <p:nvPr/>
        </p:nvGrpSpPr>
        <p:grpSpPr>
          <a:xfrm>
            <a:off x="627120" y="6021360"/>
            <a:ext cx="5684760" cy="849240"/>
            <a:chOff x="627120" y="6021360"/>
            <a:chExt cx="5684760" cy="849240"/>
          </a:xfrm>
        </p:grpSpPr>
        <p:sp>
          <p:nvSpPr>
            <p:cNvPr id="74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74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9"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85EE-AABE-4C31-B0B2-1B00EB951A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0"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787" name=""/>
          <p:cNvGrpSpPr/>
          <p:nvPr/>
        </p:nvGrpSpPr>
        <p:grpSpPr>
          <a:xfrm>
            <a:off x="0" y="0"/>
            <a:ext cx="9142560" cy="6856560"/>
            <a:chOff x="0" y="0"/>
            <a:chExt cx="9142560" cy="6856560"/>
          </a:xfrm>
        </p:grpSpPr>
        <p:sp>
          <p:nvSpPr>
            <p:cNvPr id="78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 name=""/>
            <p:cNvGrpSpPr/>
            <p:nvPr/>
          </p:nvGrpSpPr>
          <p:grpSpPr>
            <a:xfrm>
              <a:off x="0" y="0"/>
              <a:ext cx="9142560" cy="6856560"/>
              <a:chOff x="0" y="0"/>
              <a:chExt cx="9142560" cy="6856560"/>
            </a:xfrm>
          </p:grpSpPr>
          <p:sp>
            <p:nvSpPr>
              <p:cNvPr id="79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9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9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9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9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0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0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1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1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1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15" name=""/>
              <p:cNvGrpSpPr/>
              <p:nvPr/>
            </p:nvGrpSpPr>
            <p:grpSpPr>
              <a:xfrm>
                <a:off x="0" y="0"/>
                <a:ext cx="9140760" cy="1658880"/>
                <a:chOff x="0" y="0"/>
                <a:chExt cx="9140760" cy="1658880"/>
              </a:xfrm>
            </p:grpSpPr>
            <p:sp>
              <p:nvSpPr>
                <p:cNvPr id="81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1" name=""/>
              <p:cNvGrpSpPr/>
              <p:nvPr/>
            </p:nvGrpSpPr>
            <p:grpSpPr>
              <a:xfrm>
                <a:off x="0" y="885960"/>
                <a:ext cx="9140760" cy="772920"/>
                <a:chOff x="0" y="885960"/>
                <a:chExt cx="9140760" cy="772920"/>
              </a:xfrm>
            </p:grpSpPr>
            <p:sp>
              <p:nvSpPr>
                <p:cNvPr id="83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4" name=""/>
              <p:cNvGrpSpPr/>
              <p:nvPr/>
            </p:nvGrpSpPr>
            <p:grpSpPr>
              <a:xfrm>
                <a:off x="419040" y="1649520"/>
                <a:ext cx="8255160" cy="5207040"/>
                <a:chOff x="419040" y="1649520"/>
                <a:chExt cx="8255160" cy="5207040"/>
              </a:xfrm>
            </p:grpSpPr>
            <p:sp>
              <p:nvSpPr>
                <p:cNvPr id="83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3" name="PlaceHolder 2"/>
          <p:cNvSpPr>
            <a:spLocks noGrp="1"/>
          </p:cNvSpPr>
          <p:nvPr>
            <p:ph type="dt" idx="3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4" name="PlaceHolder 3"/>
          <p:cNvSpPr>
            <a:spLocks noGrp="1"/>
          </p:cNvSpPr>
          <p:nvPr>
            <p:ph type="ftr" idx="3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5" name="PlaceHolder 4"/>
          <p:cNvSpPr>
            <a:spLocks noGrp="1"/>
          </p:cNvSpPr>
          <p:nvPr>
            <p:ph type="sldNum" idx="3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ED2F-E3E0-45AC-B5C0-0B486AD14C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93" name=""/>
          <p:cNvGrpSpPr/>
          <p:nvPr/>
        </p:nvGrpSpPr>
        <p:grpSpPr>
          <a:xfrm>
            <a:off x="0" y="0"/>
            <a:ext cx="9142560" cy="6856560"/>
            <a:chOff x="0" y="0"/>
            <a:chExt cx="9142560" cy="6856560"/>
          </a:xfrm>
        </p:grpSpPr>
        <p:sp>
          <p:nvSpPr>
            <p:cNvPr id="89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5" name=""/>
            <p:cNvGrpSpPr/>
            <p:nvPr/>
          </p:nvGrpSpPr>
          <p:grpSpPr>
            <a:xfrm>
              <a:off x="0" y="0"/>
              <a:ext cx="9142560" cy="6856560"/>
              <a:chOff x="0" y="0"/>
              <a:chExt cx="9142560" cy="6856560"/>
            </a:xfrm>
          </p:grpSpPr>
          <p:sp>
            <p:nvSpPr>
              <p:cNvPr id="89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9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9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0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0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0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0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0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1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1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1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2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21" name=""/>
              <p:cNvGrpSpPr/>
              <p:nvPr/>
            </p:nvGrpSpPr>
            <p:grpSpPr>
              <a:xfrm>
                <a:off x="0" y="0"/>
                <a:ext cx="9140760" cy="1658880"/>
                <a:chOff x="0" y="0"/>
                <a:chExt cx="9140760" cy="1658880"/>
              </a:xfrm>
            </p:grpSpPr>
            <p:sp>
              <p:nvSpPr>
                <p:cNvPr id="92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7" name=""/>
              <p:cNvGrpSpPr/>
              <p:nvPr/>
            </p:nvGrpSpPr>
            <p:grpSpPr>
              <a:xfrm>
                <a:off x="0" y="885960"/>
                <a:ext cx="9140760" cy="772920"/>
                <a:chOff x="0" y="885960"/>
                <a:chExt cx="9140760" cy="772920"/>
              </a:xfrm>
            </p:grpSpPr>
            <p:sp>
              <p:nvSpPr>
                <p:cNvPr id="93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40" name=""/>
              <p:cNvGrpSpPr/>
              <p:nvPr/>
            </p:nvGrpSpPr>
            <p:grpSpPr>
              <a:xfrm>
                <a:off x="419040" y="1649520"/>
                <a:ext cx="8255160" cy="5207040"/>
                <a:chOff x="419040" y="1649520"/>
                <a:chExt cx="8255160" cy="5207040"/>
              </a:xfrm>
            </p:grpSpPr>
            <p:sp>
              <p:nvSpPr>
                <p:cNvPr id="94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5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59" name="PlaceHolder 2"/>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0" name="PlaceHolder 3"/>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1" name="PlaceHolder 4"/>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F792-3CA4-416A-A7F0-C2041056AD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98" name=""/>
          <p:cNvGrpSpPr/>
          <p:nvPr/>
        </p:nvGrpSpPr>
        <p:grpSpPr>
          <a:xfrm>
            <a:off x="0" y="2438280"/>
            <a:ext cx="9144000" cy="4046760"/>
            <a:chOff x="0" y="2438280"/>
            <a:chExt cx="9144000" cy="4046760"/>
          </a:xfrm>
        </p:grpSpPr>
        <p:sp>
          <p:nvSpPr>
            <p:cNvPr id="99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015"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01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017"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E7DD-903C-4933-A6C4-9C0986DC8B4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1018"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55" name=""/>
          <p:cNvGrpSpPr/>
          <p:nvPr/>
        </p:nvGrpSpPr>
        <p:grpSpPr>
          <a:xfrm>
            <a:off x="0" y="2438280"/>
            <a:ext cx="9144000" cy="4046760"/>
            <a:chOff x="0" y="2438280"/>
            <a:chExt cx="9144000" cy="4046760"/>
          </a:xfrm>
        </p:grpSpPr>
        <p:sp>
          <p:nvSpPr>
            <p:cNvPr id="105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6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72"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073"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074"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0E54-C073-400D-B0EB-C1F02C9EC78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EA7C-FE5D-44DF-874F-FD3C7366A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729D-EB32-4372-A489-C0CB8EF46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B2C9-2CC4-46EB-957A-F4EC3C577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3600" y="1422360"/>
            <a:ext cx="9143640" cy="5435640"/>
            <a:chOff x="3600" y="1422360"/>
            <a:chExt cx="9143640" cy="5435640"/>
          </a:xfrm>
        </p:grpSpPr>
        <p:grpSp>
          <p:nvGrpSpPr>
            <p:cNvPr id="165" name=""/>
            <p:cNvGrpSpPr/>
            <p:nvPr/>
          </p:nvGrpSpPr>
          <p:grpSpPr>
            <a:xfrm>
              <a:off x="31680" y="1422360"/>
              <a:ext cx="9115560" cy="5435640"/>
              <a:chOff x="31680" y="1422360"/>
              <a:chExt cx="9115560" cy="5435640"/>
            </a:xfrm>
          </p:grpSpPr>
          <p:sp>
            <p:nvSpPr>
              <p:cNvPr id="16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79" name=""/>
            <p:cNvGrpSpPr/>
            <p:nvPr/>
          </p:nvGrpSpPr>
          <p:grpSpPr>
            <a:xfrm>
              <a:off x="3600" y="3639960"/>
              <a:ext cx="2193840" cy="2694240"/>
              <a:chOff x="3600" y="3639960"/>
              <a:chExt cx="2193840" cy="2694240"/>
            </a:xfrm>
          </p:grpSpPr>
          <p:sp>
            <p:nvSpPr>
              <p:cNvPr id="18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16"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7"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8"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3AD7-995D-43B0-B2B5-6928F95D74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3600" y="1422360"/>
            <a:ext cx="9143640" cy="5435640"/>
            <a:chOff x="3600" y="1422360"/>
            <a:chExt cx="9143640" cy="5435640"/>
          </a:xfrm>
        </p:grpSpPr>
        <p:grpSp>
          <p:nvGrpSpPr>
            <p:cNvPr id="357" name=""/>
            <p:cNvGrpSpPr/>
            <p:nvPr/>
          </p:nvGrpSpPr>
          <p:grpSpPr>
            <a:xfrm>
              <a:off x="31680" y="1422360"/>
              <a:ext cx="9115560" cy="5435640"/>
              <a:chOff x="31680" y="1422360"/>
              <a:chExt cx="9115560" cy="5435640"/>
            </a:xfrm>
          </p:grpSpPr>
          <p:sp>
            <p:nvSpPr>
              <p:cNvPr id="35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71" name=""/>
            <p:cNvGrpSpPr/>
            <p:nvPr/>
          </p:nvGrpSpPr>
          <p:grpSpPr>
            <a:xfrm>
              <a:off x="3600" y="3639960"/>
              <a:ext cx="2193840" cy="2694240"/>
              <a:chOff x="3600" y="3639960"/>
              <a:chExt cx="2193840" cy="2694240"/>
            </a:xfrm>
          </p:grpSpPr>
          <p:sp>
            <p:nvSpPr>
              <p:cNvPr id="37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4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08"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0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10"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0089-731F-4239-84A7-01E821D69FF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47" name=""/>
          <p:cNvGrpSpPr/>
          <p:nvPr/>
        </p:nvGrpSpPr>
        <p:grpSpPr>
          <a:xfrm>
            <a:off x="0" y="0"/>
            <a:ext cx="9144000" cy="6934320"/>
            <a:chOff x="0" y="0"/>
            <a:chExt cx="9144000" cy="6934320"/>
          </a:xfrm>
        </p:grpSpPr>
        <p:sp>
          <p:nvSpPr>
            <p:cNvPr id="54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7079-F084-492A-BE45-A0C920B19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934320"/>
            <a:chOff x="0" y="0"/>
            <a:chExt cx="9144000" cy="6934320"/>
          </a:xfrm>
        </p:grpSpPr>
        <p:sp>
          <p:nvSpPr>
            <p:cNvPr id="60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27"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9"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DF2F-1D0B-4A83-9634-C1E965AA7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6" name=""/>
          <p:cNvGrpSpPr/>
          <p:nvPr/>
        </p:nvGrpSpPr>
        <p:grpSpPr>
          <a:xfrm>
            <a:off x="0" y="0"/>
            <a:ext cx="9144000" cy="6858000"/>
            <a:chOff x="0" y="0"/>
            <a:chExt cx="9144000" cy="6858000"/>
          </a:xfrm>
        </p:grpSpPr>
        <p:sp>
          <p:nvSpPr>
            <p:cNvPr id="667"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9"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0" name=""/>
          <p:cNvGrpSpPr/>
          <p:nvPr/>
        </p:nvGrpSpPr>
        <p:grpSpPr>
          <a:xfrm>
            <a:off x="0" y="6019920"/>
            <a:ext cx="7848720" cy="857160"/>
            <a:chOff x="0" y="6019920"/>
            <a:chExt cx="7848720" cy="857160"/>
          </a:xfrm>
        </p:grpSpPr>
        <p:sp>
          <p:nvSpPr>
            <p:cNvPr id="671"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3946680" y="6019920"/>
              <a:ext cx="3902040" cy="857160"/>
              <a:chOff x="3946680" y="6019920"/>
              <a:chExt cx="3902040" cy="857160"/>
            </a:xfrm>
          </p:grpSpPr>
          <p:sp>
            <p:nvSpPr>
              <p:cNvPr id="673"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8"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9" name=""/>
          <p:cNvGrpSpPr/>
          <p:nvPr/>
        </p:nvGrpSpPr>
        <p:grpSpPr>
          <a:xfrm>
            <a:off x="627120" y="6021360"/>
            <a:ext cx="5684760" cy="849240"/>
            <a:chOff x="627120" y="6021360"/>
            <a:chExt cx="5684760" cy="849240"/>
          </a:xfrm>
        </p:grpSpPr>
        <p:sp>
          <p:nvSpPr>
            <p:cNvPr id="68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9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CF0D-644A-4BC7-A981-26FD50C098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60"/>
            <a:ext cx="777240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ПРОЕКТ</a:t>
            </a:r>
            <a:endParaRPr b="0" lang="en-US" sz="4400" spc="-1" strike="noStrike">
              <a:solidFill>
                <a:srgbClr val="ffffff"/>
              </a:solidFill>
              <a:latin typeface="Tahoma"/>
            </a:endParaRPr>
          </a:p>
        </p:txBody>
      </p:sp>
      <p:sp>
        <p:nvSpPr>
          <p:cNvPr id="1112" name="DownRibbonSharp"/>
          <p:cNvSpPr/>
          <p:nvPr/>
        </p:nvSpPr>
        <p:spPr>
          <a:xfrm>
            <a:off x="685800" y="5095800"/>
            <a:ext cx="7829640" cy="1257480"/>
          </a:xfrm>
          <a:custGeom>
            <a:avLst/>
            <a:gdLst>
              <a:gd name="textAreaLeft" fmla="*/ 1957320 w 7829640"/>
              <a:gd name="textAreaRight" fmla="*/ 5872320 w 7829640"/>
              <a:gd name="textAreaTop" fmla="*/ 156960 h 1257480"/>
              <a:gd name="textAreaBottom" fmla="*/ 1257840 h 125748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г. Москва 2008 г.</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360" y="1752120"/>
            <a:ext cx="891540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Каждый народ веками, тысячелетиями приспосабливался к окружающей природе, стремился максимально использовать ее ресурсы. Но, по всей вероятности, нигде на земле не проходило это так трудно, как на Крайнем Севере, где и до настоящего времени жители тундры не могут перейти к оседлому образу жизн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С раннего детства жители тайги и тундры усваивают знания, накопленные поколениями. Они хорошо знают повадки зверей, птиц, рыб, разбираются в травах, лишайниках и их питательных свойствах.</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Ямало-Ненецкий автономный округ образован 10 декабря 1930 года. О древнейшей истории коренных народов - ненцев, ханты, селькупов - имеются скудные сведения. Первыми источниками, в которых встречаются упоминания о ненцах, являются летописи.</a:t>
            </a:r>
            <a:endParaRPr b="0" lang="en-US" sz="2000" spc="-1" strike="noStrike">
              <a:solidFill>
                <a:srgbClr val="ffffff"/>
              </a:solidFill>
              <a:latin typeface="Tahoma"/>
            </a:endParaRPr>
          </a:p>
        </p:txBody>
      </p:sp>
      <p:sp>
        <p:nvSpPr>
          <p:cNvPr id="1127" name=""/>
          <p:cNvSpPr txBox="1"/>
          <p:nvPr/>
        </p:nvSpPr>
        <p:spPr>
          <a:xfrm>
            <a:off x="914400" y="3808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2. Историческое развитие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северных народов</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PlaceHolder 1"/>
          <p:cNvSpPr>
            <a:spLocks noGrp="1"/>
          </p:cNvSpPr>
          <p:nvPr>
            <p:ph/>
          </p:nvPr>
        </p:nvSpPr>
        <p:spPr>
          <a:xfrm>
            <a:off x="-914400" y="1905120"/>
            <a:ext cx="9601200" cy="5790960"/>
          </a:xfrm>
          <a:prstGeom prst="rect">
            <a:avLst/>
          </a:prstGeom>
          <a:noFill/>
          <a:ln w="0">
            <a:noFill/>
          </a:ln>
        </p:spPr>
        <p:txBody>
          <a:bodyPr lIns="90000" rIns="90000" tIns="46800" bIns="46800" anchor="t">
            <a:normAutofit/>
          </a:bodyPr>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 Ямале проживают следующие коренные северные народы: ненцы, ханты, манси, селькупы, татары. </a:t>
            </a:r>
            <a:endParaRPr b="0"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u="sng">
                <a:solidFill>
                  <a:srgbClr val="ffffff"/>
                </a:solidFill>
                <a:uFillTx/>
                <a:latin typeface="Tahoma"/>
              </a:rPr>
              <a:t>Ненцы.</a:t>
            </a:r>
            <a:r>
              <a:rPr b="1" lang="ru-RU" sz="1600" spc="-1" strike="noStrike">
                <a:solidFill>
                  <a:srgbClr val="ffffff"/>
                </a:solidFill>
                <a:latin typeface="Tahoma"/>
              </a:rPr>
              <a:t> Сами себя ненцы называют ненэй ненэць (буквально – ненецкий человек, человек-ненец. Буквосочетание ць близко по звучанию к русскому языку ч с придыханием). Это самый многочисленный из 26 народов российского Севера – его численность достигает 35 тысяч человек. В Ямало-Ненецком автономном округе проживает около 22 тысяч ненцев, они населяют также Ненецкий округ Архангельской области и Таймырский (Долгано-Ненецкий) округ Красноярского края. Раньше ненцев называли самоедами. Язык ненцев относится к самодийской группе уральской семьи языков.</a:t>
            </a:r>
            <a:endParaRPr b="0"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u="sng">
                <a:solidFill>
                  <a:srgbClr val="ffffff"/>
                </a:solidFill>
                <a:uFillTx/>
                <a:latin typeface="Tahoma"/>
              </a:rPr>
              <a:t>Ханты.</a:t>
            </a:r>
            <a:r>
              <a:rPr b="1" lang="ru-RU" sz="1600" spc="-1" strike="noStrike">
                <a:solidFill>
                  <a:srgbClr val="ffffff"/>
                </a:solidFill>
                <a:latin typeface="Tahoma"/>
              </a:rPr>
              <a:t> Их в России около 21 тысячи человек. Проживают в Ханты-Мансийском и Ямало-Ненецком автономных округах, а также в Александровском и Каргасоксом районах Томской области. В ЯНАО проживает 7,3 тысячи хантов. Прежнее название – остяки.</a:t>
            </a:r>
            <a:endParaRPr b="0" lang="en-US" sz="1600" spc="-1" strike="noStrike">
              <a:solidFill>
                <a:srgbClr val="ffffff"/>
              </a:solidFill>
              <a:latin typeface="Tahoma"/>
            </a:endParaRPr>
          </a:p>
        </p:txBody>
      </p:sp>
      <p:sp>
        <p:nvSpPr>
          <p:cNvPr id="1129" name=""/>
          <p:cNvSpPr txBox="1"/>
          <p:nvPr/>
        </p:nvSpPr>
        <p:spPr>
          <a:xfrm>
            <a:off x="685800" y="685800"/>
            <a:ext cx="7210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3. Национальности коренны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народов севера</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p:nvPr>
        </p:nvSpPr>
        <p:spPr>
          <a:xfrm>
            <a:off x="457200" y="456840"/>
            <a:ext cx="82296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u="sng">
                <a:solidFill>
                  <a:srgbClr val="ffffff"/>
                </a:solidFill>
                <a:uFillTx/>
                <a:latin typeface="Tahoma"/>
              </a:rPr>
              <a:t>Манси.</a:t>
            </a:r>
            <a:r>
              <a:rPr b="1" lang="ru-RU" sz="2000" spc="-1" strike="noStrike">
                <a:solidFill>
                  <a:srgbClr val="ffffff"/>
                </a:solidFill>
                <a:latin typeface="Tahoma"/>
              </a:rPr>
              <a:t> Численность этого народа – около 8 тысячи человек. Проживают в основном в Ханты-Мансийском округе, на Ямале их единицы. Прежнее название – вогул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Ханты и Манси (эти слова не принято изменять по падежам) называют ещё обскими уграми – поскольку они жили в доле Оби. Языки Ханты и Манси относятся к угорской группе уральской семи языков.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ffff"/>
                </a:solidFill>
                <a:uFillTx/>
                <a:latin typeface="Tahoma"/>
              </a:rPr>
              <a:t>Селькупы.</a:t>
            </a:r>
            <a:r>
              <a:rPr b="1" lang="ru-RU" sz="2000" spc="-1" strike="noStrike">
                <a:solidFill>
                  <a:srgbClr val="ffffff"/>
                </a:solidFill>
                <a:latin typeface="Tahoma"/>
              </a:rPr>
              <a:t> (Остяко-самоеды) – народ, проживающий на востоке ЯНАО и насчитывающий одну и пять тысячи человек. Их язык относится к самодийской группе уральской семьи языков.</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ыше перечисленные народы объединены  общей принадлежностью к уральской семье языков и исконным проживаниям на территории, примыкающей Полярному круг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ffff"/>
                </a:solidFill>
                <a:uFillTx/>
                <a:latin typeface="Tahoma"/>
              </a:rPr>
              <a:t>Татары. </a:t>
            </a:r>
            <a:r>
              <a:rPr b="1" lang="ru-RU" sz="2000" spc="-1" strike="noStrike">
                <a:solidFill>
                  <a:srgbClr val="ffffff"/>
                </a:solidFill>
                <a:latin typeface="Tahoma"/>
              </a:rPr>
              <a:t>Особое место среди народов Ямала занимают татары. Их на Ямале около 27 тысяч, их язык относится к тюркской группе языков. Важно помнить, что сибирские татары также являются не пришлым, а коренным сибирским народом, поскольку они испокон веков жили в Сибири и потому отличаются от татар казанских, крымских, астраханских.</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Теперь приведём данные, касающиеся пришлых народов. Самыми многочисленными на Ямале являются </a:t>
            </a:r>
            <a:r>
              <a:rPr b="1" lang="en-US" sz="2800" spc="-1" strike="noStrike" u="sng">
                <a:solidFill>
                  <a:srgbClr val="ffffff"/>
                </a:solidFill>
                <a:uFillTx/>
                <a:latin typeface="Tahoma"/>
              </a:rPr>
              <a:t>русские</a:t>
            </a:r>
            <a:r>
              <a:rPr b="1" lang="en-US" sz="2800" spc="-1" strike="noStrike">
                <a:solidFill>
                  <a:srgbClr val="ffffff"/>
                </a:solidFill>
                <a:latin typeface="Tahoma"/>
              </a:rPr>
              <a:t> (их около 300 тысяч). Затем следуют </a:t>
            </a:r>
            <a:r>
              <a:rPr b="1" lang="en-US" sz="2800" spc="-1" strike="noStrike" u="sng">
                <a:solidFill>
                  <a:srgbClr val="ffffff"/>
                </a:solidFill>
                <a:uFillTx/>
                <a:latin typeface="Tahoma"/>
              </a:rPr>
              <a:t>украинцы </a:t>
            </a:r>
            <a:r>
              <a:rPr b="1" lang="en-US" sz="2800" spc="-1" strike="noStrike">
                <a:solidFill>
                  <a:srgbClr val="ffffff"/>
                </a:solidFill>
                <a:latin typeface="Tahoma"/>
              </a:rPr>
              <a:t>(86 тысяч) и </a:t>
            </a:r>
            <a:r>
              <a:rPr b="1" lang="en-US" sz="2800" spc="-1" strike="noStrike" u="sng">
                <a:solidFill>
                  <a:srgbClr val="ffffff"/>
                </a:solidFill>
                <a:uFillTx/>
                <a:latin typeface="Tahoma"/>
              </a:rPr>
              <a:t>белорусы</a:t>
            </a:r>
            <a:r>
              <a:rPr b="1" lang="en-US" sz="2800" spc="-1" strike="noStrike">
                <a:solidFill>
                  <a:srgbClr val="ffffff"/>
                </a:solidFill>
                <a:latin typeface="Tahoma"/>
              </a:rPr>
              <a:t> (13 тысяч). Менее многочисленный </a:t>
            </a:r>
            <a:r>
              <a:rPr b="1" lang="en-US" sz="2800" spc="-1" strike="noStrike" u="sng">
                <a:solidFill>
                  <a:srgbClr val="ffffff"/>
                </a:solidFill>
                <a:uFillTx/>
                <a:latin typeface="Tahoma"/>
              </a:rPr>
              <a:t>коми</a:t>
            </a:r>
            <a:r>
              <a:rPr b="1" lang="en-US" sz="2800" spc="-1" strike="noStrike">
                <a:solidFill>
                  <a:srgbClr val="ffffff"/>
                </a:solidFill>
                <a:latin typeface="Tahoma"/>
              </a:rPr>
              <a:t> (устаревшее  название – зыряне) – 5,8 тысячи человек, их язык относится к финско-пермской группе уральской семьи языков.</a:t>
            </a:r>
            <a:endParaRPr b="0" lang="en-US" sz="2800" spc="-1" strike="noStrike">
              <a:solidFill>
                <a:srgbClr val="ffffff"/>
              </a:solidFill>
              <a:latin typeface="Tahoma"/>
            </a:endParaRPr>
          </a:p>
        </p:txBody>
      </p:sp>
      <p:sp>
        <p:nvSpPr>
          <p:cNvPr id="1132" name=""/>
          <p:cNvSpPr txBox="1"/>
          <p:nvPr/>
        </p:nvSpPr>
        <p:spPr>
          <a:xfrm>
            <a:off x="990720" y="533520"/>
            <a:ext cx="7238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4. Национальности пришлы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народов севера</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3" name=""/>
          <p:cNvSpPr txBox="1"/>
          <p:nvPr/>
        </p:nvSpPr>
        <p:spPr>
          <a:xfrm>
            <a:off x="990720" y="1905120"/>
            <a:ext cx="732456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5. Устное народное</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творчеств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Поговорки</a:t>
            </a:r>
            <a:br>
              <a:rPr sz="4000"/>
            </a:br>
            <a:endParaRPr b="0" lang="en-US" sz="4000" spc="-1" strike="noStrike">
              <a:solidFill>
                <a:srgbClr val="ffffff"/>
              </a:solidFill>
              <a:latin typeface="Tahoma"/>
            </a:endParaRPr>
          </a:p>
        </p:txBody>
      </p:sp>
      <p:sp>
        <p:nvSpPr>
          <p:cNvPr id="113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Поговорка - краткое  народное выражение, характеризующее образное народное  то или иное явление человека. Поговорка отличается  от пословицы тем, что она более  кратка и чаще всего не несёт  морального смысла. Например: Семь пятниц  на неделе&gt;&gt;; Положить зубы на полку&gt;&gt;; Чужими руками жар загребать&gt;&gt;; После дождичка в четверг&gt;&gt; и  т. п.</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А вот интересная, на наш взгляд, северная поговорка: &lt;&lt; Язык развязался на несколько узлов&lt;&lt;&lt;</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Пословицы</a:t>
            </a:r>
            <a:endParaRPr b="0" lang="en-US" sz="4400" spc="-1" strike="noStrike">
              <a:solidFill>
                <a:srgbClr val="ffffff"/>
              </a:solidFill>
              <a:latin typeface="Tahoma"/>
            </a:endParaRPr>
          </a:p>
        </p:txBody>
      </p:sp>
      <p:sp>
        <p:nvSpPr>
          <p:cNvPr id="1137" name="PlaceHolder 2"/>
          <p:cNvSpPr>
            <a:spLocks noGrp="1"/>
          </p:cNvSpPr>
          <p:nvPr>
            <p:ph/>
          </p:nvPr>
        </p:nvSpPr>
        <p:spPr>
          <a:xfrm>
            <a:off x="457200" y="167652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Пословицы и поговорки северных народов часто перекликаются с русскими.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пример: Сеткой воды  не зачерпнёшь. – Носить воду в решете.</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уда мышь бежит, туда и песец стремится. – Куда иголка, туда и нитк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сякая сосна своему бору шумит. – Каждый кулик своё болото хвалит.</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леня узнаешь по упряжке, человека – на промысле. – Птицу видно по полёту, а человека - по труд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У неубитого рябчика перья не ощипывают. – Не дели шкурку неубитого медведя.</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Заговор (Заклинание)</a:t>
            </a:r>
            <a:br>
              <a:rPr sz="4000"/>
            </a:br>
            <a:endParaRPr b="0" lang="en-US" sz="4000" spc="-1" strike="noStrike">
              <a:solidFill>
                <a:srgbClr val="ffffff"/>
              </a:solidFill>
              <a:latin typeface="Tahoma"/>
            </a:endParaRPr>
          </a:p>
        </p:txBody>
      </p:sp>
      <p:sp>
        <p:nvSpPr>
          <p:cNvPr id="1139" name="PlaceHolder 2"/>
          <p:cNvSpPr>
            <a:spLocks noGrp="1"/>
          </p:cNvSpPr>
          <p:nvPr>
            <p:ph/>
          </p:nvPr>
        </p:nvSpPr>
        <p:spPr>
          <a:xfrm>
            <a:off x="304920" y="1142640"/>
            <a:ext cx="82296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u="sng">
                <a:solidFill>
                  <a:srgbClr val="ffffff"/>
                </a:solidFill>
                <a:uFillTx/>
                <a:latin typeface="Tahoma"/>
              </a:rPr>
              <a:t> </a:t>
            </a:r>
            <a:r>
              <a:rPr b="1" lang="ru-RU" sz="3200" spc="-1" strike="noStrike" u="sng">
                <a:solidFill>
                  <a:srgbClr val="ffffff"/>
                </a:solidFill>
                <a:uFillTx/>
                <a:latin typeface="Tahoma"/>
              </a:rPr>
              <a:t>Заговор</a:t>
            </a:r>
            <a:r>
              <a:rPr b="1" lang="ru-RU" sz="3200" spc="-1" strike="noStrike">
                <a:solidFill>
                  <a:srgbClr val="ffffff"/>
                </a:solidFill>
                <a:latin typeface="Tahoma"/>
              </a:rPr>
              <a:t> – словесная формула, якобы имеющая магическую (сверхъестественную) сил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ru-RU" sz="3200" spc="-1" strike="noStrike">
                <a:solidFill>
                  <a:srgbClr val="ffffff"/>
                </a:solidFill>
                <a:latin typeface="Tahoma"/>
              </a:rPr>
              <a:t>Существуют заговоры земледельческие, охотничьи, медицинские, любовные и др. Вот пример обращения ненца к духу – Хозяину озера перед началом промысла (записано от уроженца Ямала А. Сэротэтто):</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Хозяин этого озера, где ты?</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Ты нужен людям.</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о словам шаманов и ясновидящих,</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Ты – как человек, только спина – как у щуки.</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К нам пусть подойдё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мы будем обещать за хороший улов рыбы?</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Ясновидящие  шаманы сказали:</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усть будет человек!»</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Загадка</a:t>
            </a:r>
            <a:br>
              <a:rPr sz="4000"/>
            </a:br>
            <a:endParaRPr b="0" lang="en-US" sz="4000" spc="-1" strike="noStrike">
              <a:solidFill>
                <a:srgbClr val="ffffff"/>
              </a:solidFill>
              <a:latin typeface="Tahoma"/>
            </a:endParaRPr>
          </a:p>
        </p:txBody>
      </p:sp>
      <p:sp>
        <p:nvSpPr>
          <p:cNvPr id="1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Загадка – иносказательное описание предмета или явления, предлагаемое как вопрос для отгадыван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   </a:t>
            </a:r>
            <a:r>
              <a:rPr b="1" lang="ru-RU" sz="2400" spc="-1" strike="noStrike">
                <a:solidFill>
                  <a:srgbClr val="ffffff"/>
                </a:solidFill>
                <a:latin typeface="Tahoma"/>
              </a:rPr>
              <a:t>Вот загадка ненецкого писателя Прокопия Явтысия:</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на, как оленья шкура,</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т моря до моря лежит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о рыжей, то белой, а то зелёной становится.</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Гусиный пух тундру заметает,</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 гусей нигде нет.</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p:nvPr>
        </p:nvSpPr>
        <p:spPr>
          <a:xfrm>
            <a:off x="301680" y="380880"/>
            <a:ext cx="8540640" cy="5718240"/>
          </a:xfrm>
          <a:prstGeom prst="rect">
            <a:avLst/>
          </a:prstGeom>
          <a:solidFill>
            <a:srgbClr val="33cccc"/>
          </a:solid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Проект выполнили:</a:t>
            </a:r>
            <a:endParaRPr b="0" lang="en-US" sz="32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Нистратова Дарь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Окинина Анастаси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Рыбакова Софи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Ситохин Иван,</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ббасова Ирада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ученики 6 класса «А»  ГОУ СОШ № 1970</a:t>
            </a:r>
            <a:endParaRPr b="0" lang="en-US" sz="2400" spc="-1" strike="noStrike">
              <a:solidFill>
                <a:srgbClr val="ffffff"/>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Руководитель проекта:</a:t>
            </a:r>
            <a:endParaRPr b="0" lang="en-US" sz="32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арпенко Наталия Александровна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учитель русского языка и литературы</a:t>
            </a:r>
            <a:endParaRPr b="0" lang="en-US" sz="24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Сказки</a:t>
            </a:r>
            <a:br>
              <a:rPr sz="4000"/>
            </a:br>
            <a:endParaRPr b="0" lang="en-US" sz="4000" spc="-1" strike="noStrike">
              <a:solidFill>
                <a:srgbClr val="ffffff"/>
              </a:solidFill>
              <a:latin typeface="Tahoma"/>
            </a:endParaRPr>
          </a:p>
        </p:txBody>
      </p:sp>
      <p:sp>
        <p:nvSpPr>
          <p:cNvPr id="1144"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ru-RU" sz="2800" spc="-1" strike="noStrike">
                <a:solidFill>
                  <a:srgbClr val="ffffff"/>
                </a:solidFill>
                <a:latin typeface="Tahoma"/>
              </a:rPr>
              <a:t>Наверное, нет человека, который бы в детстве не любил сказок. Многие проносят эту любовь через всю жизнь, только у взрослых эти сказки называются иначе - научная фантастика, детективы, телевизионный сериал о любви.</a:t>
            </a:r>
            <a:r>
              <a:rPr b="0" lang="ru-RU" sz="2800" spc="-1" strike="noStrike">
                <a:solidFill>
                  <a:srgbClr val="ffffff"/>
                </a:solidFill>
                <a:latin typeface="Tahoma"/>
              </a:rPr>
              <a:t> </a:t>
            </a:r>
            <a:r>
              <a:rPr b="1" lang="ru-RU" sz="2800" spc="-1" strike="noStrike">
                <a:solidFill>
                  <a:srgbClr val="ffffff"/>
                </a:solidFill>
                <a:latin typeface="Tahoma"/>
              </a:rPr>
              <a:t>В русских сказках ум человека чаще всего торжествует над силой животного. А вот в сказках коренных народов Севера животные нередко выступают в роли учителя и наставника человека.</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есня</a:t>
            </a:r>
            <a:endParaRPr b="0" lang="en-US" sz="4400" spc="-1" strike="noStrike">
              <a:solidFill>
                <a:srgbClr val="ffffff"/>
              </a:solidFill>
              <a:latin typeface="Tahoma"/>
            </a:endParaRPr>
          </a:p>
        </p:txBody>
      </p:sp>
      <p:sp>
        <p:nvSpPr>
          <p:cNvPr id="1146"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Песня для народов Севера есть нечто иное, чем то, к чему мы привыкли. Для европейцев песня – это либо торжественное произведение, например, гимн, либо же произведение, созданное для развлечения, словесно-музыкальное сопровождение обыденной жизни.                       В песнях северных народов – сама жизнь, отношение к миру, его восприятие и ощущение: доброе, радостное, тревожное, трагическое. В песнях ненцы, ханты, селькупы выражают сою душу, свои чувства по поводу даже самого незначительного события окружающей их жизни. То, что мы проговариваем как бы «про себя», внутри нашего сознания, северный человек склонен пропеть вслух: о себе, о своей земле, о своих способностях и возможностях, о том, что его более всего в данный момент волнует.</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глаз мой види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ухо слыши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сердце чуе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лушай песню мою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знаешь душу мою.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Из народной песни)</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457200" y="1295280"/>
            <a:ext cx="82296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Первый букварь на Ямале был создан приобским ненцем П.Е. Хатанзеевым, выросшим среди ханты. Его « Ханты – книга» вышла в 1930 году. Первые книги на ненецком языке вышли под редакцией русского этнографа Г.Д. Вербова, который с помощью И.Ф. Ного, и Н. Салиндера выпустил в 1937 году две книги: «Ненецкие сказки и былины» и «Краткий ненецко-русский словар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Первый букварь и учебник селькупского языка были созданы Г.Н. Прокофьевым и Е.Д. Прокофьевой в 1934 – 1935 год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Появление письменности у народов Ямала способствовало формированию национальной культуры и литературы. У её истоков стояли Илья Константинович Тыко Вылка (1886 – 1960), Иван Федорович Ного (1891 – 1947) и Иван  Григорьевич Истомин (1917 – 1988).</a:t>
            </a:r>
            <a:endParaRPr b="0" lang="en-US" sz="2400" spc="-1" strike="noStrike">
              <a:solidFill>
                <a:srgbClr val="ffffff"/>
              </a:solidFill>
              <a:latin typeface="Tahoma"/>
            </a:endParaRPr>
          </a:p>
        </p:txBody>
      </p:sp>
      <p:sp>
        <p:nvSpPr>
          <p:cNvPr id="1149" name=""/>
          <p:cNvSpPr txBox="1"/>
          <p:nvPr/>
        </p:nvSpPr>
        <p:spPr>
          <a:xfrm>
            <a:off x="1219320" y="380880"/>
            <a:ext cx="6629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6. Создание письменност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За всё время своего существования человечество так и не смогло научиться жить в мире и согласии. Людям покорилась планета. Постепенно осваиваются космос и океанские глубины. Но мы так и не научились самому главному – мирно сосуществовать. Не смогли совладать с животной агрессией, которая в течение тысячелетий охватывала и терзала целые народы, ввергая их в пучину войн и конфликтов.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Мы считаем, что конфликты между людьми зачастую вызваны непониманием друг друга, незнанием национально-культурных особенностей людей других национальностей.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В нашей школе учатся ребята из многих регионов России. В наших семьях – разные традиции, разное воспитание. Но мы хотим, чтобы между нами было как можно меньше споров и разногласий, чтобы мы стали ближе друг к другу. Поэтому  ребята нашего класса решили каждый год знакомиться с историей, культурой и традициями разных народов нашей многонациональной Родины. Мы думаем, что эти знания не только обогатят наш духовный мир, но и  сблизят нас с другими народами России.</a:t>
            </a:r>
            <a:endParaRPr b="0" lang="en-US" sz="1800" spc="-1" strike="noStrike">
              <a:solidFill>
                <a:srgbClr val="ffffff"/>
              </a:solidFill>
              <a:latin typeface="Tahoma"/>
            </a:endParaRPr>
          </a:p>
        </p:txBody>
      </p:sp>
      <p:sp>
        <p:nvSpPr>
          <p:cNvPr id="1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6" name=""/>
          <p:cNvSpPr txBox="1"/>
          <p:nvPr/>
        </p:nvSpPr>
        <p:spPr>
          <a:xfrm>
            <a:off x="1676520" y="228600"/>
            <a:ext cx="495288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Monotype Corsiva"/>
              </a:rPr>
              <a:t>Введение</a:t>
            </a:r>
            <a:endParaRPr b="0" lang="en-US" sz="1800" spc="1" strike="noStrike">
              <a:ln w="9360">
                <a:solidFill>
                  <a:srgbClr val="000000"/>
                </a:solidFill>
                <a:miter/>
              </a:ln>
              <a:solidFill>
                <a:srgbClr val="ff0000"/>
              </a:solidFill>
              <a:latin typeface="Monotype Corsiva"/>
              <a:ea typeface="Monotype Corsiva"/>
            </a:endParaRPr>
          </a:p>
        </p:txBody>
      </p:sp>
      <p:sp>
        <p:nvSpPr>
          <p:cNvPr id="1117"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зучить    культурное   наследие    народов   Север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расширить</a:t>
            </a:r>
            <a:r>
              <a:rPr b="1" lang="en-US" sz="3200" spc="-1" strike="noStrike">
                <a:solidFill>
                  <a:srgbClr val="ffffff"/>
                </a:solidFill>
                <a:latin typeface="Times New Roman"/>
              </a:rPr>
              <a:t> </a:t>
            </a:r>
            <a:r>
              <a:rPr b="1" lang="ru-RU" sz="3200" spc="-1" strike="noStrike">
                <a:solidFill>
                  <a:srgbClr val="ffffff"/>
                </a:solidFill>
                <a:latin typeface="Times New Roman"/>
              </a:rPr>
              <a:t>представление о творческой и духовной жизни северных народов,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ривлечь     внимание    учащихся    к   культуре   других   народов Российской   Федерации.</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Разработать и провести классный час «Путешествие на  Ямал»;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подготовить презентацию в электронном виде для пополнения медиа-фонда «Библиотека будущег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разработать альманах «В гостях у народов Ямала».</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Мы   считаем,   что   знакомство  с  историей,   культурой  и  традициями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разных   народов   России  не  только   расширит   кругозор   учащихся,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но  и  поможет  им  стать   терпимее   и   уважительнее   по   отношению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друг   к   другу.</a:t>
            </a:r>
            <a:endParaRPr b="0" lang="en-US" sz="32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304920" y="1142640"/>
            <a:ext cx="86104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1. Научно-поисковые: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сбор и изучение литературы по данной тем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проведение социологического опрос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интервью с ребятами из других регионов России.</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2. Аналитическ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анализ и синтез собранного материал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анализ результатов опрос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3. Систематизирующ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систематизация полученных данных.</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4. Практическ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разработка и проведение классного часа;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разработка альманаха «Путешествие на Ямал»;</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компьютерная презентац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Размерам полуострова Ямал могут позавидовать многие государства мира. Полуостров занимает площадь около 148 тыс. кв. км. Однако Ямалом часто называют не только полуостров, но и весь Ямало-Ненецкий автономный округ, территория которого занимает 769,3 тыс. кв. км. По размерам округ находится на 2 месте среди 7 автономных округов. Климат суровый, лето короткое, зима продолжительная, кругом тундра и тайга.</a:t>
            </a:r>
            <a:endParaRPr b="0" lang="en-US" sz="2800" spc="-1" strike="noStrike">
              <a:solidFill>
                <a:srgbClr val="ffffff"/>
              </a:solidFill>
              <a:latin typeface="Tahoma"/>
            </a:endParaRPr>
          </a:p>
        </p:txBody>
      </p:sp>
      <p:sp>
        <p:nvSpPr>
          <p:cNvPr id="1123" name=""/>
          <p:cNvSpPr txBox="1"/>
          <p:nvPr/>
        </p:nvSpPr>
        <p:spPr>
          <a:xfrm>
            <a:off x="228600" y="380880"/>
            <a:ext cx="8686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 Географическое положение полуострова Ямал</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35344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Карта Ямало-Ненецкого автономного округа</a:t>
            </a:r>
            <a:endParaRPr b="0" lang="en-US" sz="4000" spc="-1" strike="noStrike">
              <a:solidFill>
                <a:srgbClr val="b7e7ff"/>
              </a:solidFill>
              <a:latin typeface="Arial"/>
            </a:endParaRPr>
          </a:p>
        </p:txBody>
      </p:sp>
      <p:pic>
        <p:nvPicPr>
          <p:cNvPr id="1125" name="" descr=""/>
          <p:cNvPicPr/>
          <p:nvPr/>
        </p:nvPicPr>
        <p:blipFill>
          <a:blip r:embed="rId2"/>
          <a:stretch/>
        </p:blipFill>
        <p:spPr>
          <a:xfrm>
            <a:off x="533520" y="1219320"/>
            <a:ext cx="800100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p</cp:lastModifiedBy>
  <dcterms:modified xsi:type="dcterms:W3CDTF">2008-12-29T09:20:36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