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D01-BF59-4E6E-81AD-063ACDE4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997-DE75-4F78-830C-D4047BE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A51-5685-4FF2-B3BD-4E6C0D35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3FA-A0E4-4183-AF94-1270440F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0D37-D5FD-49DD-B510-D40F6010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F273-16C1-4FE2-958B-032D28B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B0D-A0BE-425C-91D3-B905375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52D6-757F-4345-8950-976BBE1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342-74EE-4D8B-AB69-AB690B2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B0B5-2098-41F1-BD09-05E4F7E8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704-1E18-4533-9AC6-6AD08A2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AE6-6969-4423-8B1E-982E8C85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2EE7-89BD-4CD7-9463-7518904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64E-E656-42AF-9FA5-B0B0955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1C3F-1767-4CC4-8CA9-D8F8504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E5A-E651-42B5-B5CF-BF246BD6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D447-F4A8-4683-974A-14E0703A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EE1-EB29-4A2E-A77A-2CA8595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2AA-1D96-4CE1-8F1D-224DA622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9BF-8866-42D7-89F2-E99A6E0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B32-98FF-4BCE-AAEC-0FA11CD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2FE-5F5A-452D-A081-F5BD5F9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724-F765-46DA-8CB9-CB1B555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526-970F-4DD7-93B4-DC72D72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10C-4F05-4B40-A80D-81F617FE2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3CC-DB2B-420B-A619-527DEE6A5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водный ур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а 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Вводный урок. </a:t>
            </a:r>
            <a:br>
              <a:rPr sz="4400"/>
            </a:b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Литературе так же нужны талантливые читатели, как и талантливые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.Я. Марш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Дом, в котором нет книг, подобен телу, лишённому души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.Цицеро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Знакомство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с учебн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автор-состав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продукции каких картин помещены на обложках и форзацах учебн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разделы литературы будете изуч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авторов, представленных в содержании, вам уже знаком? По каким произведения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оизведения были вами прочитаны лето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Не на пользу читать, коли только вершки хвата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ыбирай писателей так, как выбираешь друг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ниги –    это маяки  в океане    времен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итайте! И пусть в вашей   жизни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удет ни одного дня, когда бы вы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чли хоть одной странички 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вой кни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.Паустовски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ишите небольшое рассуждение на тему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Книга в моей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9:56:28Z</dcterms:created>
  <dc:creator>Окуловы</dc:creator>
  <dc:description/>
  <dc:language>en-US</dc:language>
  <cp:lastModifiedBy>Окуловы</cp:lastModifiedBy>
  <dcterms:modified xsi:type="dcterms:W3CDTF">2010-09-01T20:41:10Z</dcterms:modified>
  <cp:revision>3</cp:revision>
  <dc:subject/>
  <dc:title>Вводный урок</dc:title>
</cp:coreProperties>
</file>