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DE07-5ACE-407E-8D51-2E0C9A52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9B49-EF2E-475D-9B42-1CFE67BB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F57-B904-4DCB-B191-1E3C38A3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FFB-5F1B-4F64-886A-FD40664E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3C6C-5A62-42E3-BC4D-724A9D41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D26D-4D1F-4B3A-81F4-B3F0ABD4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0FB5-32E8-447E-BCE3-69B949F9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276D-28E5-4244-A0A3-C1B68B22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46D9-9F8E-45FA-BD6C-B4F174D8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6B38-0691-4EAF-A939-9A60763D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B234-ABAC-4FCC-A722-6A63C8EB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255-CEBD-406C-9DE0-75E80500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A9B8-33C5-472C-B55C-6232B5D5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C43B-8DCF-4BB8-863A-A1B49772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4A58-54F9-484F-AFAD-D32C9359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2722-1524-4646-A560-697816B6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08AA-3A94-4D75-A30B-3FB87024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B9A-07BF-476C-9B77-790C1827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B08-230E-48B4-B8CD-426B8D29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C363-7F26-46BB-AC83-67B496C6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0247-38A7-4055-8F76-CDACCC00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B71-D39B-4308-A140-C3C77BC1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D88-E6E3-490B-8556-CEDFD350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29BD-0C18-461E-81F5-2178337A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6652-4ADD-4485-9D22-E074A4A19E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86B5-937F-4FA5-9214-324EC9748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водный уро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итература 7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Вводный урок. </a:t>
            </a:r>
            <a:br>
              <a:rPr sz="4400"/>
            </a:b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Литературное развит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Литературе так же нужны талантливые читатели, как и талантливые писа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.Я. Марш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Дом, в котором нет книг, подобен телу, лишённому души!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М.Цицеро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Знакомство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с учебник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автор-составител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продукции каких картин помещены на обложках и форзацах учебни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разделы литературы будете изуча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Литературное развит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из авторов, представленных в содержании, вам уже знаком? По каким произведения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произведения были вами прочитаны лето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Объясните смысл пословиц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Не на пользу читать, коли только вершки хватать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Выбирай писателей так, как выбираешь друг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Книги –    это маяки  в океане    времени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Читайте! И пусть в вашей   жизни 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будет ни одного дня, когда бы вы 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очли хоть одной странички 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овой книг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.Паустовский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апишите небольшое рассуждение на тему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Книга в моей жизн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9:56:28Z</dcterms:created>
  <dc:creator>Окуловы</dc:creator>
  <dc:description/>
  <dc:language>en-US</dc:language>
  <cp:lastModifiedBy>Окуловы</cp:lastModifiedBy>
  <dcterms:modified xsi:type="dcterms:W3CDTF">2010-09-01T20:41:10Z</dcterms:modified>
  <cp:revision>3</cp:revision>
  <dc:subject/>
  <dc:title>Вводный урок</dc:title>
</cp:coreProperties>
</file>