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FA46C-138F-4FF1-927F-98A7D96E7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7A3E7-C96B-4136-8DD2-32FBDE1D7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41EA1-A7FA-4F64-9793-EF502CFFB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29BBD-7184-482E-B66C-B6836F0E6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5CBF0-EBEA-4EB6-B404-FF5E60E67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0ED20-5E9A-445A-BE11-36F9D831C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9924D-8EC6-4888-B497-FD07EA61E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BA850-653C-4154-A9E2-15F434FD3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6299B-912C-4941-8EA9-5FE3F1ACD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849FD-77B4-4FBC-B0CB-9DB9B28D6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0C370-4E1C-469D-8CBF-6B08523B7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46D73-62F7-4471-AD8D-5D02F0098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4F9FA-9FAC-478A-ABB4-3B44A7553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AE09E-89D7-407E-83AA-D1553A2ED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6F7F2-385E-4FCD-8C74-813B77F7C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596C7-A710-4681-BFAC-0AAE2C848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EFB0A-BCE1-480E-8FFC-7EED29216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BA69C-AE52-42F7-AC5F-37349D082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3C404-3486-402B-A1A4-AB578C50B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3E70F-1517-4D1F-9219-08AA804B8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01C52-6DF9-4383-A9C0-1716D067B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D6746-E297-4C38-810E-E6D1BFC22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373CE-833A-4D0C-96ED-04923AC0E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0FC60-4D92-444E-A71D-139B78F29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4D415-598C-40FB-92FD-4E4B68A4710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13B82-63A8-43CC-A8BB-86C71436A38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Вводный урок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Литература 7 класс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60407"/>
                </a:solidFill>
                <a:latin typeface="Tahoma"/>
              </a:rPr>
              <a:t>Вводный урок. </a:t>
            </a:r>
            <a:br>
              <a:rPr sz="4400"/>
            </a:br>
            <a:r>
              <a:rPr b="0" lang="en-US" sz="4400" spc="-1" strike="noStrike">
                <a:solidFill>
                  <a:srgbClr val="860407"/>
                </a:solidFill>
                <a:latin typeface="Tahoma"/>
              </a:rPr>
              <a:t>Литературное развитие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Литературе так же нужны талантливые читатели, как и талантливые писател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С.Я. Маршак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Дом, в котором нет книг, подобен телу, лишённому души!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              </a:t>
            </a: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М.Цицерон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60407"/>
                </a:solidFill>
                <a:latin typeface="Tahoma"/>
              </a:rPr>
              <a:t>Знакомство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860407"/>
                </a:solidFill>
                <a:latin typeface="Tahoma"/>
              </a:rPr>
              <a:t>с учебником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95280" y="2205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Кто автор-составитель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Репродукции каких картин помещены на обложках и форзацах учебника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Какие разделы литературы будете изучать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60407"/>
                </a:solidFill>
                <a:latin typeface="Tahoma"/>
              </a:rPr>
              <a:t>Литературное развитие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68360" y="2565000"/>
            <a:ext cx="8229600" cy="28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Кто из авторов, представленных в содержании, вам уже знаком? По каким произведениям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Какие произведения были вами прочитаны летом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60407"/>
                </a:solidFill>
                <a:latin typeface="Tahoma"/>
              </a:rPr>
              <a:t>Объясните смысл пословиц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«Не на пользу читать, коли только вершки хватать»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«Выбирай писателей так, как выбираешь друга»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«Книги –    это маяки  в океане    времени…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Читайте! И пусть в вашей   жизни н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будет ни одного дня, когда бы вы н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прочли хоть одной странички из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новой книг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К.Паустовский.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60407"/>
                </a:solidFill>
                <a:latin typeface="Tahoma"/>
              </a:rPr>
              <a:t>Домашнее задание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8229600" cy="26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Напишите небольшое рассуждение на тему: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«Книга в моей жизни»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1T19:56:28Z</dcterms:created>
  <dc:creator>Окуловы</dc:creator>
  <dc:description/>
  <dc:language>en-US</dc:language>
  <cp:lastModifiedBy>Окуловы</cp:lastModifiedBy>
  <dcterms:modified xsi:type="dcterms:W3CDTF">2010-09-01T20:41:10Z</dcterms:modified>
  <cp:revision>3</cp:revision>
  <dc:subject/>
  <dc:title>Вводный урок</dc:title>
</cp:coreProperties>
</file>