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0249-D72E-4968-A050-B5A2610F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3036-A4E7-4710-910E-EEDB481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CE30-2A75-4D38-A0F1-D157CCC0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A57E-E220-42F2-A3EB-07A9A1BC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76B4-1DCC-4FAD-87DD-9D51371B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70DC-10A3-4078-9086-6444E18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8360-5A8F-45BB-969C-2BF70066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37E1-28D3-41D2-8A89-16E65ECB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691-910E-45ED-9D97-A4D60B3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EC94-6F59-49ED-A914-7A21C57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B90-BF12-4986-976B-586C40E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29E9-F31F-4500-8A59-FDD6BFA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8421-BEAB-4A43-AA7A-E3E089A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D85-9360-4412-AEB8-038491F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B4E8-C52A-4322-8662-2881809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8A40-9169-421D-99A6-B36D30DE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D6F1-EC7F-45D5-8282-59A0203C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1F2D-58E6-4B9C-9992-F866012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36C7-12B2-4043-958B-28844D24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3486-0DFE-402C-9D0C-C0A0745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244B-51E0-4B38-9BBF-FD057F5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CCD9-06EC-4E45-B164-25A3B5F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44B0-C872-433D-A009-259AF0B3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06A3-9452-4E89-B1AD-60A07FE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C8C-86D4-4307-AC92-CE2E8FE1538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48DE-8A26-4D9A-ABDF-96DCF7D9B6A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06240"/>
            <a:ext cx="4038480" cy="2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720" y="787320"/>
            <a:ext cx="44020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иппова Елена Константиновна – уч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ого языка и литературы Квалификационная категория – пер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ируемый класс –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ий педстаж – 3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ное руководство-34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виз жизни: Полным шагом и вперё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5667120"/>
            <a:ext cx="403848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709800"/>
            <a:ext cx="403848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1"/>
          <a:stretch/>
        </p:blipFill>
        <p:spPr>
          <a:xfrm>
            <a:off x="468360" y="1330200"/>
            <a:ext cx="35179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41148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1692360" y="260280"/>
            <a:ext cx="5191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дравствуйте, это мы,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ти нового поколения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427280" cy="33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42728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3"/>
          <a:stretch/>
        </p:blipFill>
        <p:spPr>
          <a:xfrm>
            <a:off x="826920" y="40910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374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3610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Юля, Зоя, Катя ,Све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оля, Саша и Алё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ёня ,Витя, Никола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офья, Ольга и Мар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Эдуард, Сергей, Волод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танислав, Надежда, Н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ва, Коля и Татьян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месте с ними и Ел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1835280" y="404640"/>
            <a:ext cx="590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дь здорово, что в этот класс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дачно мы пришли…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2 учащихся: 13 мальчиков,9 дево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икрорайон класса: Сеспель,Малдыка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аткасы, Аты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Возьмёмся за руки друзья, чтоб не пропасть поодиночке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971640" y="476280"/>
            <a:ext cx="741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ведения о классном коллектив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843280" y="350028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виз класса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 Александр- отв. по дневникам 3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а Ирина    - отв.по спортивной работе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а Софья   - староста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рсентьев Николай- отв.за оформит. рабо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фанасьева Света-цветовод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асильева Нина –физор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ладимирова Марина- отв.по чисто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анилов Андрей-  трудорг 3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Ефимов Владимир- учеб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анов Виталий – цветовод в корид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анова Алина – художник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льин Вова  --   трудорг 1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льина Надежда –культор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узьмина Татьяна –старший дежу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Москов Леонид – хозорг 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колаев Виктор – учеб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етров Эдуард   - зам. старо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емёнов Николай – зам. физо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адеева Ольга – командир взв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ёдоров Сергей – зам.ст. дежур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042920" y="0"/>
            <a:ext cx="6481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еловек- это то, что он хочет,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множенное на то, что он может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юбовь                                Ненави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мех                                    Пл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щение                            Обви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нимание                          Об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тветственность                  Чувства 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добрение                           Стр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вободу                               Сом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инятие себя                     О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2340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ы выбираем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3672000" y="3166920"/>
            <a:ext cx="1800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место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2 учащихся: 13 мальчиков,9 дево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икрорайон класса: Сеспель,Малдыка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аткасы, Аты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Возьмёмся за руки друзья, чтоб не пропасть поодиночке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971640" y="476280"/>
            <a:ext cx="741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ведения о классном коллектив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2843280" y="3500280"/>
            <a:ext cx="2689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виз класса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юби себя – полюбишь и друг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Если хочешь победить весь мир- победи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 узнавай друга в три дня,- узнавай в три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дно дерево срубил- посади дес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чи других и сам поймё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люби ближнего как самого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стинная любовь к своей стране немыслима без любви к свое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484360" y="620640"/>
            <a:ext cx="39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поведи класс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00360" y="1341000"/>
            <a:ext cx="433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971640" y="476280"/>
            <a:ext cx="782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ы самый читающий класс в школе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343400" cy="3325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56360" cy="3284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580000" y="4299120"/>
            <a:ext cx="33796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2124000" y="549360"/>
            <a:ext cx="2876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досуге...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960720" cy="259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635280" cy="267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3"/>
          <a:stretch/>
        </p:blipFill>
        <p:spPr>
          <a:xfrm>
            <a:off x="250920" y="4030560"/>
            <a:ext cx="3960720" cy="2640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4"/>
          <a:stretch/>
        </p:blipFill>
        <p:spPr>
          <a:xfrm>
            <a:off x="5508720" y="4075200"/>
            <a:ext cx="3635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сенний праздник «Здравствуй, осень золотая!»- «Самые оригинальны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йонный конкурс исследовательских работ по русскому языку и литературе- 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мотр строя и песни в честь Победы – подряд два года 1- 2 ме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ень здоровья: «Весёлые старты»- 1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амое большое количество участников в конкурсе «Сердце матери» на школьном эта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частники конкурса «Канашен мерченесем» в составе танцевального круж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дя Ильина, Ольга Фадеева, Софья Андреева – участницы районного конкурса «Рождественский перезвон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755640" y="404640"/>
            <a:ext cx="67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яжело в ученье – легко в бою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наши достижения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66920" y="2565000"/>
            <a:ext cx="4537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ограмма развития классного коллектива 7 класса МОУ «Сеспельская СО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468360" y="549360"/>
            <a:ext cx="7448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Нравственность – это разум сердц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066920" cy="2968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47280" y="1341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WordArt 18"/>
          <p:cNvSpPr txBox="1"/>
          <p:nvPr/>
        </p:nvSpPr>
        <p:spPr>
          <a:xfrm>
            <a:off x="1258920" y="333360"/>
            <a:ext cx="734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яжело в ученье – легко в бою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наши достижения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20" name="Picture 2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2446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46680" cy="232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"/>
          <p:cNvPicPr/>
          <p:nvPr/>
        </p:nvPicPr>
        <p:blipFill>
          <a:blip r:embed="rId3"/>
          <a:stretch/>
        </p:blipFill>
        <p:spPr>
          <a:xfrm>
            <a:off x="395280" y="4344840"/>
            <a:ext cx="3384720" cy="221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"/>
          <p:cNvPicPr/>
          <p:nvPr/>
        </p:nvPicPr>
        <p:blipFill>
          <a:blip r:embed="rId4"/>
          <a:stretch/>
        </p:blipFill>
        <p:spPr>
          <a:xfrm>
            <a:off x="5753160" y="4334040"/>
            <a:ext cx="3127320" cy="233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"/>
          <p:cNvPicPr/>
          <p:nvPr/>
        </p:nvPicPr>
        <p:blipFill>
          <a:blip r:embed="rId5"/>
          <a:stretch/>
        </p:blipFill>
        <p:spPr>
          <a:xfrm>
            <a:off x="3059280" y="2565360"/>
            <a:ext cx="3456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WordArt 18"/>
          <p:cNvSpPr txBox="1"/>
          <p:nvPr/>
        </p:nvSpPr>
        <p:spPr>
          <a:xfrm>
            <a:off x="2195640" y="47628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ши достижения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27" name="Picture 20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2070000" cy="28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192888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2155680" cy="287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"/>
          <p:cNvPicPr/>
          <p:nvPr/>
        </p:nvPicPr>
        <p:blipFill>
          <a:blip r:embed="rId4"/>
          <a:stretch/>
        </p:blipFill>
        <p:spPr>
          <a:xfrm>
            <a:off x="6659640" y="836640"/>
            <a:ext cx="2192400" cy="287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2122200" cy="291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9" descr=""/>
          <p:cNvPicPr/>
          <p:nvPr/>
        </p:nvPicPr>
        <p:blipFill>
          <a:blip r:embed="rId6"/>
          <a:stretch/>
        </p:blipFill>
        <p:spPr>
          <a:xfrm>
            <a:off x="2195640" y="3573360"/>
            <a:ext cx="2352600" cy="30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0" descr=""/>
          <p:cNvPicPr/>
          <p:nvPr/>
        </p:nvPicPr>
        <p:blipFill>
          <a:blip r:embed="rId7"/>
          <a:stretch/>
        </p:blipFill>
        <p:spPr>
          <a:xfrm>
            <a:off x="4284720" y="3762360"/>
            <a:ext cx="2306520" cy="309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1" descr=""/>
          <p:cNvPicPr/>
          <p:nvPr/>
        </p:nvPicPr>
        <p:blipFill>
          <a:blip r:embed="rId8"/>
          <a:stretch/>
        </p:blipFill>
        <p:spPr>
          <a:xfrm>
            <a:off x="6616800" y="3429000"/>
            <a:ext cx="252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оздание максимально благоприятных условий для раскрытия и развития способностей каждой отдельной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азвитие воспитанников, обладающих нравственной культурой, интеллектуальным, творческим и физическим потенциа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419640" y="333360"/>
            <a:ext cx="1622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Цели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39640" y="1610640"/>
            <a:ext cx="787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) формировать представление об общечеловеческих нормах мора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2) воспитывать патриотизм и интернационализм, терпимость и уважительное отношение к окружающи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) развивать навыки самоуправления в классе, школе, проявление инициатив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5) формировать потребность участвовать в коллективных творческих делах кла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3203640" y="549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: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2771640" y="2421000"/>
            <a:ext cx="3362400" cy="1800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539640" y="620640"/>
            <a:ext cx="24498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амоупр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3564000" y="5084640"/>
            <a:ext cx="244944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Интеллекту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395280" y="4869000"/>
            <a:ext cx="25941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рав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0" y="2781360"/>
            <a:ext cx="248436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Труд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3276720" y="260280"/>
            <a:ext cx="259056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Нравств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6372360" y="4941720"/>
            <a:ext cx="2771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Творче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6372360" y="2781360"/>
            <a:ext cx="277164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ражданское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атриот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6588000" y="404640"/>
            <a:ext cx="2376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портив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оздоровите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дти стоит только за тем, кто может изменить тебя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492360" y="5013360"/>
            <a:ext cx="2448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7200" y="3007080"/>
            <a:ext cx="2299320" cy="1090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ИНЦИ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059280" y="1052640"/>
            <a:ext cx="259236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ТКРЫТ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0920" y="1773360"/>
            <a:ext cx="237816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УСПЕШ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0920" y="4437000"/>
            <a:ext cx="23050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ТВОРЧЕ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588000" y="4508640"/>
            <a:ext cx="2556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6516720" y="1916280"/>
            <a:ext cx="262728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Срок реализации:</a:t>
            </a:r>
            <a:br>
              <a:rPr sz="3800"/>
            </a:b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2008-2014годы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1040436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95280" y="2833560"/>
            <a:ext cx="813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 результате осуществления программы нравственный уровень учащихся должен достигнуть высокого показателя, должно быть сформировано патриотическое и гражданское сознание и самосознание, коммуникативная толерантность, должна появиться потребность творческой и интеллектуальной самореализации, а также самореализации в спорте посредством участия в конкурсах, смотрах, викторинах, соревнов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763640" y="1989000"/>
            <a:ext cx="3745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жидаемый результат: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лассные часы нравственного, патриотического, интеллектуального, творческого содержа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ведение совместных праздников (родители, педагоги, учащиеся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смотр и создание видеофильмов, использование аудиозаписей и мультимедийной продукци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частие в акциях благотворительной направлен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тические вечера эстетической направленности (живопись, музыка, поэзия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рганизация выставок (совместная деятельность детей и родителей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ведение «круглых столов», дебатов, дискуссий, деловых и ролевых иг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268360" y="69228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Формы работы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600200"/>
          <a:ext cx="8147160" cy="4519440"/>
        </p:xfrm>
        <a:graphic>
          <a:graphicData uri="http://schemas.openxmlformats.org/drawingml/2006/table">
            <a:tbl>
              <a:tblPr/>
              <a:tblGrid>
                <a:gridCol w="4464000"/>
                <a:gridCol w="2016360"/>
                <a:gridCol w="1666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я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пр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«Крупным шрифтом о главном». Классный час с приглашением родител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Беседа: «Наркотики—свобода или зависимость, полёт или падение?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Кл. час. «Безвредного табака не быва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Кл. род. собр . «Роль отца и матери в семь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Урок делового общения «Плохие отметки и их причи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Тематич.кл. час «Великие люди мира»(сов. писатели и поэты, люди искусства—неделя русского языка и литератур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02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2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02.11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раб,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инфор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.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ники.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 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Тематч. Кл. час «Люди, на которых хотелось бы быть похожи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Кл. час с приглашением родителей «Азбука вежлив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Кл.час. «Страны изучаемого язы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Удо «Улицы, от названия которых становится теп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кл.Кл. час «Памятные даты моей стра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Беседа: «Научные учреждения и их роль в жизни челове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Урок вежливости «Театральный этик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.05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05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,соц.пе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 отв. уч-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готовл. уч-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WordArt 52"/>
          <p:cNvSpPr txBox="1"/>
          <p:nvPr/>
        </p:nvSpPr>
        <p:spPr>
          <a:xfrm>
            <a:off x="1908000" y="620640"/>
            <a:ext cx="540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лан работы с классом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3:26Z</dcterms:created>
  <dc:creator>школа</dc:creator>
  <dc:description/>
  <dc:language>en-US</dc:language>
  <cp:lastModifiedBy>Коля</cp:lastModifiedBy>
  <dcterms:modified xsi:type="dcterms:W3CDTF">2013-04-07T11:26:40Z</dcterms:modified>
  <cp:revision>23</cp:revision>
  <dc:subject/>
  <dc:title>Слайд 1</dc:title>
</cp:coreProperties>
</file>