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FA02-D1BB-454A-A588-AF46241E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E952-D48D-4DB6-A0A0-043309F5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5FFA-9247-4401-B6B6-DC12647F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DD76-E73C-499F-9125-7A4E6768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BA7-0A23-4B91-9CE8-6BB3C655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90AF-8F5A-4B70-9369-B75C903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C4D0-E4A2-4AC9-9D22-A2E280D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F97-9880-45EC-ADCA-E671D73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D259-A2BE-4FE6-8E5D-C303B20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C552-694D-41D3-9427-42BC649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2FC5-1CF0-414C-8FB0-7D8134E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DEF6-4264-4FC6-BC90-006E2B79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BED2-0196-4DB4-990F-2C1ABED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5DF-D5AE-4373-9EBB-EADBFAC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7352-7F26-4DEF-AE60-A3AFAA3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2D2-4055-4AF6-AAFD-A5E3116B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94BF-D9DF-4C68-B975-2BFA571C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5A35-B2BC-4436-923D-10FE7C9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9C20-91AD-42B6-B015-1859BBE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3F3B-2628-40A4-8949-D5E0438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73E1-7215-4942-96A8-A317561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DB04-C232-4FE3-AF4A-441483F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0F5B-7BA1-4046-AC5E-132DF90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F113-697C-40C2-AABF-0DF3271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CC7-5999-4A5F-9110-EE738F45237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CB9-C66C-4611-9ACF-04B4FD45CC7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06240"/>
            <a:ext cx="4038480" cy="2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720" y="787320"/>
            <a:ext cx="44020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иппова Елена Константиновна – уч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ого языка и литературы Квалификационная категория – пер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ируемый класс –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ий педстаж – 3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ое руководство-34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виз жизни: Полным шагом и вперё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5667120"/>
            <a:ext cx="403848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709800"/>
            <a:ext cx="403848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1"/>
          <a:stretch/>
        </p:blipFill>
        <p:spPr>
          <a:xfrm>
            <a:off x="468360" y="1330200"/>
            <a:ext cx="35179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41148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1692360" y="260280"/>
            <a:ext cx="5191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дравствуйте, это мы,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ти нового поколения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427280" cy="33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42728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3"/>
          <a:stretch/>
        </p:blipFill>
        <p:spPr>
          <a:xfrm>
            <a:off x="826920" y="40910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3745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3610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Юля, Зоя, Катя ,Св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ля, Саша и Алё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ёня ,Витя, Никола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офья, Ольга и Мар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Эдуард, Сергей, Волод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танислав, Надежда, Ни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ва, Коля и Татьян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месте с ними и Ел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1835280" y="404640"/>
            <a:ext cx="590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дь здорово, что в этот клас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дачно мы пришли…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843280" y="350028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 Александр- отв. по дневникам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Ирина    - отв.по спортивной работе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ндреева Софья   - староста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рсентьев Николай- отв.за оформит. рабо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фанасьева Света-цветовод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асильева Нина –физ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Владимирова Марина- отв.по чисто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анилов Андрей-  трудорг 3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Ефимов Владимир-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 Виталий – цветовод в корид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ванова Алина – художник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 Вова  --   трудорг 1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льина Надежда –культор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узьмина Татьяна –старший дежу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Москов Леонид – хозорг  2 ря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колаев Виктор – учеб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етров Эдуард   - зам. стар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емёнов Николай – зам. физо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адеева Ольга – командир взв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Фёдоров Сергей – зам.ст. дежур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042920" y="0"/>
            <a:ext cx="648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еловек- это то, что он хочет,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множенное на то, что он может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юбовь                                Ненави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мех                                    Пл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щение                            Обв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нимание                          Об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тветственность                  Чувства 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обрение                           Стр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вободу                               Сом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инятие себя                     О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2340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выбирае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3672000" y="3166920"/>
            <a:ext cx="1800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место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2 учащихся: 13 мальчиков,9 дево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икрорайон класса: Сеспель,Малдыка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аткасы, Атык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Возьмёмся за руки друзья, чтоб не пропасть поодиночке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971640" y="476280"/>
            <a:ext cx="741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ведения о классном коллектив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2843280" y="3500280"/>
            <a:ext cx="2689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виз класса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юби себя – полюбишь и друг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Если хочешь победить весь мир- победи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узнавай друга в три дня,- узнавай в три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дно дерево срубил- посади дес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чи других и сам поймё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люби ближнего как самого себ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стинная любовь к своей стране немыслима без любви к свое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484360" y="620640"/>
            <a:ext cx="39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поведи класс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00360" y="1341000"/>
            <a:ext cx="433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971640" y="476280"/>
            <a:ext cx="782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ы самый читающий класс в школе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43400" cy="3325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56360" cy="328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580000" y="4299120"/>
            <a:ext cx="33796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2124000" y="549360"/>
            <a:ext cx="2876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досуге...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259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635280" cy="267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3"/>
          <a:stretch/>
        </p:blipFill>
        <p:spPr>
          <a:xfrm>
            <a:off x="250920" y="403056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4"/>
          <a:stretch/>
        </p:blipFill>
        <p:spPr>
          <a:xfrm>
            <a:off x="5508720" y="4075200"/>
            <a:ext cx="3635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сенний праздник «Здравствуй, осень золотая!»- «Самые оригинальны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айонный конкурс исследовательских работ по русскому языку и литературе- 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мотр строя и песни в честь Победы – подряд два года 1- 2 ме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ень здоровья: «Весёлые старты»- 1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амое большое количество участников в конкурсе «Сердце матери» на школьном эта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частники конкурса «Канашен мерченесем» в составе танцевального круж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дя Ильина, Ольга Фадеева, Софья Андреева – участницы районного конкурса «Рождественский перезвон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755640" y="40464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66920" y="2565000"/>
            <a:ext cx="4537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ограмма развития классного коллектива 7 класса МОУ «Сеспельская СО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468360" y="549360"/>
            <a:ext cx="7448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Нравственность – это разум сердц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066920" cy="2968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547280" y="1341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WordArt 18"/>
          <p:cNvSpPr txBox="1"/>
          <p:nvPr/>
        </p:nvSpPr>
        <p:spPr>
          <a:xfrm>
            <a:off x="1258920" y="333360"/>
            <a:ext cx="734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яжело в ученье – легко в бою!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наши достижения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0" name="Picture 2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244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46680" cy="23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"/>
          <p:cNvPicPr/>
          <p:nvPr/>
        </p:nvPicPr>
        <p:blipFill>
          <a:blip r:embed="rId3"/>
          <a:stretch/>
        </p:blipFill>
        <p:spPr>
          <a:xfrm>
            <a:off x="395280" y="4344840"/>
            <a:ext cx="3384720" cy="221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"/>
          <p:cNvPicPr/>
          <p:nvPr/>
        </p:nvPicPr>
        <p:blipFill>
          <a:blip r:embed="rId4"/>
          <a:stretch/>
        </p:blipFill>
        <p:spPr>
          <a:xfrm>
            <a:off x="5753160" y="4334040"/>
            <a:ext cx="3127320" cy="233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3456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2195640" y="47628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ши достиже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27" name="Picture 20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2070000" cy="28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92888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2155680" cy="287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"/>
          <p:cNvPicPr/>
          <p:nvPr/>
        </p:nvPicPr>
        <p:blipFill>
          <a:blip r:embed="rId4"/>
          <a:stretch/>
        </p:blipFill>
        <p:spPr>
          <a:xfrm>
            <a:off x="6659640" y="836640"/>
            <a:ext cx="2192400" cy="287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2122200" cy="291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"/>
          <p:cNvPicPr/>
          <p:nvPr/>
        </p:nvPicPr>
        <p:blipFill>
          <a:blip r:embed="rId6"/>
          <a:stretch/>
        </p:blipFill>
        <p:spPr>
          <a:xfrm>
            <a:off x="2195640" y="3573360"/>
            <a:ext cx="235260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0" descr=""/>
          <p:cNvPicPr/>
          <p:nvPr/>
        </p:nvPicPr>
        <p:blipFill>
          <a:blip r:embed="rId7"/>
          <a:stretch/>
        </p:blipFill>
        <p:spPr>
          <a:xfrm>
            <a:off x="4284720" y="3762360"/>
            <a:ext cx="230652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1" descr=""/>
          <p:cNvPicPr/>
          <p:nvPr/>
        </p:nvPicPr>
        <p:blipFill>
          <a:blip r:embed="rId8"/>
          <a:stretch/>
        </p:blipFill>
        <p:spPr>
          <a:xfrm>
            <a:off x="6616800" y="3429000"/>
            <a:ext cx="252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здание максимально благоприятных условий для раскрытия и развития способностей каждой отдельной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азвитие воспитанников, обладающих нравственной культурой, интеллектуальным, творческим и физическим потенциа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419640" y="333360"/>
            <a:ext cx="1622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39640" y="1610640"/>
            <a:ext cx="787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) формировать представление об общечеловеческих нормах мора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2) воспитывать патриотизм и интернационализм, терпимость и уважительное отношение к окружающи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) развивать навыки самоуправления в классе, школе, проявление инициатив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5) формировать потребность участвовать в коллективных творческих делах кла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3203640" y="549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2771640" y="2421000"/>
            <a:ext cx="3362400" cy="1800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539640" y="620640"/>
            <a:ext cx="24498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амоупр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3564000" y="5084640"/>
            <a:ext cx="244944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Интеллекту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95280" y="4869000"/>
            <a:ext cx="25941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ав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0" y="2781360"/>
            <a:ext cx="2484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руд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3276720" y="260280"/>
            <a:ext cx="259056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Нравств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372360" y="4941720"/>
            <a:ext cx="2771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Творче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6372360" y="2781360"/>
            <a:ext cx="27716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ражданское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атриот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6588000" y="404640"/>
            <a:ext cx="2376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портив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оздоровите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дти стоит только за тем, кто может изменить тебя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492360" y="5013360"/>
            <a:ext cx="2448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7200" y="3007080"/>
            <a:ext cx="2299320" cy="1090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ИНЦИ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59280" y="1052640"/>
            <a:ext cx="259236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ТКРЫТ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0920" y="1773360"/>
            <a:ext cx="23781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0920" y="4437000"/>
            <a:ext cx="23050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ТВОРЧ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588000" y="4508640"/>
            <a:ext cx="2556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516720" y="1916280"/>
            <a:ext cx="262728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Срок реализации:</a:t>
            </a:r>
            <a:br>
              <a:rPr sz="3800"/>
            </a:b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2008-2014годы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104043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95280" y="2833560"/>
            <a:ext cx="81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 результате осуществления программы нравственный уровень учащихся должен достигнуть высокого показателя, должно быть сформировано патриотическое и гражданское сознание и самосознание, коммуникативная толерантность, должна появиться потребность творческой и интеллектуальной самореализации, а также самореализации в спорте посредством участия в конкурсах, смотрах, викторинах, соревнов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763640" y="1989000"/>
            <a:ext cx="3745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жидаемый результат: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лассные часы нравственного, патриотического, интеллектуального, творческого содержа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совместных праздников (родители, педагоги, учащиес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смотр и создание видеофильмов, использование аудиозаписей и мультимедийной продукци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частие в акциях благотворительной направлен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тические вечера эстетической направленности (живопись, музыка, поэзия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рганизация выставок (совместная деятельность детей и родителей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ведение «круглых столов», дебатов, дискуссий, деловых и ролевых иг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268360" y="69228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Формы работы: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4464000"/>
                <a:gridCol w="2016360"/>
                <a:gridCol w="1666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я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«Крупным шрифтом о главном». Классный час с приглашением родител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Беседа: «Наркотики—свобода или зависимость, полёт или падение?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Кл. час. «Безвредного табака не быва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Кл. род. собр . «Роль отца и матери в семь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Урок делового общения «Плохие отметки и их причи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Тематич.кл. час «Великие люди мира»(сов. писатели и поэты, люди искусства—неделя русского языка и литератур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2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2.11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раб,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инфор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ники. 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 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Тематч. Кл. час «Люди, на которых хотелось бы быть похожи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Кл. час с приглашением родителей «Азбука вежлив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Кл.час. «Страны изучаемого я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Удо «Улицы, от названия которых становится теп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кл.Кл. час «Памятные даты моей стра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Беседа: «Научные учреждения и их роль в жизни челове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Урок вежливости «Театральный этик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03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04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05.11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,соц.пе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, отв. уч-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сь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.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л. уч-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WordArt 52"/>
          <p:cNvSpPr txBox="1"/>
          <p:nvPr/>
        </p:nvSpPr>
        <p:spPr>
          <a:xfrm>
            <a:off x="1908000" y="620640"/>
            <a:ext cx="540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лан работы с классом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3:26Z</dcterms:created>
  <dc:creator>школа</dc:creator>
  <dc:description/>
  <dc:language>en-US</dc:language>
  <cp:lastModifiedBy>Коля</cp:lastModifiedBy>
  <dcterms:modified xsi:type="dcterms:W3CDTF">2013-04-07T11:26:40Z</dcterms:modified>
  <cp:revision>23</cp:revision>
  <dc:subject/>
  <dc:title>Слайд 1</dc:title>
</cp:coreProperties>
</file>