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7484-90DC-49DD-903E-3C9F1419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8ED7-17BF-4F07-BFE6-EA7EC476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F28B-7F1C-460E-8573-69AFD3E7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9573-C2F6-410D-9268-C2537F63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07B2-BC34-489E-AD59-BB1C4060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0710-E9E2-4AA6-BC2B-1DA915D9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3689-CF06-4A4D-AFDF-837E9255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F862-87FD-49FF-B503-5810499D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79A5-2C57-480D-9CA0-493E553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B943-1E72-4265-BC5D-D7B6F4E9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985C-5316-4A12-83B4-3A54F3E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0848-1E13-4793-B4C2-40CBE362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0C9E-D77D-41C6-9C48-4798216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9A27-F693-4D3F-8E86-41BEAC2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ECD2-656C-414E-9B04-17132806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A938-FEC3-4077-B893-4FDF9BC6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9648-0BE5-4AD1-AB0C-055BB98E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6B35-D475-4B27-AC93-55E798D5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534B-8784-488E-ABE0-D037BBD7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4B96-5B15-465B-AA93-14E9EE0C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BC5F-03A0-4A37-B847-6B74901D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6737-9916-4AB7-9E99-B680F8A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CF81-77D3-4225-B9CB-82911F42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55E9-11BB-4204-B418-659780A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9A0A-6112-45CB-8ADF-30175998D50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F32F-8907-49AE-8CC0-B93D915DF5B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06240"/>
            <a:ext cx="4038480" cy="2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4720" y="787320"/>
            <a:ext cx="44020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липпова Елена Константиновна – учите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ого языка и литературы Квалификационная категория – пер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ируемый класс –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ий педстаж – 37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сное руководство-34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виз жизни: Полным шагом и вперёд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5667120"/>
            <a:ext cx="403848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3709800"/>
            <a:ext cx="4038480" cy="20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4" descr=""/>
          <p:cNvPicPr/>
          <p:nvPr/>
        </p:nvPicPr>
        <p:blipFill>
          <a:blip r:embed="rId1"/>
          <a:stretch/>
        </p:blipFill>
        <p:spPr>
          <a:xfrm>
            <a:off x="468360" y="1330200"/>
            <a:ext cx="35179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41148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1692360" y="260280"/>
            <a:ext cx="5191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дравствуйте, это мы,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ти нового поколения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427280" cy="3300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427280" cy="330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3"/>
          <a:stretch/>
        </p:blipFill>
        <p:spPr>
          <a:xfrm>
            <a:off x="826920" y="409104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3745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3610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Юля, Зоя, Катя ,Свет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Толя, Саша и Алё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Лёня ,Витя, Никола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офья, Ольга и Мари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Эдуард, Сергей, Волод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танислав, Надежда, Ни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ова, Коля и Татьян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месте с ними и Еле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1835280" y="404640"/>
            <a:ext cx="590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едь здорово, что в этот класс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дачно мы пришли…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2 учащихся: 13 мальчиков,9 дево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икрорайон класса: Сеспель,Малдыкас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наткасы, Атык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«Возьмёмся за руки друзья, чтоб не пропасть поодиночке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971640" y="476280"/>
            <a:ext cx="7418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ведения о классном коллективе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843280" y="350028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виз класса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ндреев Александр- отв. по дневникам 3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ндреева Ирина    - отв.по спортивной работе 2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ндреева Софья   - староста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рсентьев Николай- отв.за оформит. рабо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фанасьева Света-цветовод 2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асильева Нина –физорг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ладимирова Марина- отв.по чисто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Данилов Андрей-  трудорг 3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Ефимов Владимир- учеб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ванов Виталий – цветовод в корид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ванова Алина – художник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льин Вова  --   трудорг 1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льина Надежда –культорг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узьмина Татьяна –старший дежур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Москов Леонид – хозорг  2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Николаев Виктор – учеб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етров Эдуард   - зам. старо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емёнов Николай – зам. физо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Фадеева Ольга – командир взв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Фёдоров Сергей – зам.ст. дежур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042920" y="0"/>
            <a:ext cx="6481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еловек- это то, что он хочет,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множенное на то, что он может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юбовь                                Ненави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мех                                    Пла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щение                            Обви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нимание                          Об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тветственность                  Чувства 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добрение                           Стра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вободу                               Сом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инятие себя                     Осу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2340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ы выбираем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94" name="WordArt 5"/>
          <p:cNvSpPr txBox="1"/>
          <p:nvPr/>
        </p:nvSpPr>
        <p:spPr>
          <a:xfrm>
            <a:off x="3672000" y="3166920"/>
            <a:ext cx="1800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место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2 учащихся: 13 мальчиков,9 дево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икрорайон класса: Сеспель,Малдыкас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наткасы, Атык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«Возьмёмся за руки друзья, чтоб не пропасть поодиночке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971640" y="476280"/>
            <a:ext cx="7418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ведения о классном коллективе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2843280" y="3500280"/>
            <a:ext cx="2689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виз класса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люби себя – полюбишь и друг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Если хочешь победить весь мир- победи себ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Не узнавай друга в три дня,- узнавай в три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дно дерево срубил- посади дес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чи других и сам поймё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злюби ближнего как самого себ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стинная любовь к своей стране немыслима без любви к свое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2484360" y="620640"/>
            <a:ext cx="39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поведи класс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00360" y="1341000"/>
            <a:ext cx="433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971640" y="476280"/>
            <a:ext cx="782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ы самый читающий класс в школе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343400" cy="3325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56360" cy="3284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580000" y="4299120"/>
            <a:ext cx="33796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2124000" y="549360"/>
            <a:ext cx="28767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досуге...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960720" cy="2595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635280" cy="267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3"/>
          <a:stretch/>
        </p:blipFill>
        <p:spPr>
          <a:xfrm>
            <a:off x="250920" y="4030560"/>
            <a:ext cx="3960720" cy="2640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"/>
          <p:cNvPicPr/>
          <p:nvPr/>
        </p:nvPicPr>
        <p:blipFill>
          <a:blip r:embed="rId4"/>
          <a:stretch/>
        </p:blipFill>
        <p:spPr>
          <a:xfrm>
            <a:off x="5508720" y="4075200"/>
            <a:ext cx="36352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Осенний праздник «Здравствуй, осень золотая!»- «Самые оригинальны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айонный конкурс исследовательских работ по русскому языку и литературе- 2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мотр строя и песни в честь Победы – подряд два года 1- 2 мес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ень здоровья: «Весёлые старты»- 1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амое большое количество участников в конкурсе «Сердце матери» на школьном эта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Участники конкурса «Канашен мерченесем» в составе танцевального круж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адя Ильина, Ольга Фадеева, Софья Андреева – участницы районного конкурса «Рождественский перезвон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755640" y="404640"/>
            <a:ext cx="67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яжело в ученье – легко в бою!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наши достижения)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66920" y="2565000"/>
            <a:ext cx="4537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рограмма развития классного коллектива 7 класса МОУ «Сеспельская СОШ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9"/>
          <p:cNvSpPr txBox="1"/>
          <p:nvPr/>
        </p:nvSpPr>
        <p:spPr>
          <a:xfrm>
            <a:off x="468360" y="549360"/>
            <a:ext cx="7448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Нравственность – это разум сердца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066920" cy="2968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547280" y="1341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WordArt 18"/>
          <p:cNvSpPr txBox="1"/>
          <p:nvPr/>
        </p:nvSpPr>
        <p:spPr>
          <a:xfrm>
            <a:off x="1258920" y="333360"/>
            <a:ext cx="7345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яжело в ученье – легко в бою!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наши достижения)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20" name="Picture 2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240000" cy="2446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3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3046680" cy="2327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5" descr=""/>
          <p:cNvPicPr/>
          <p:nvPr/>
        </p:nvPicPr>
        <p:blipFill>
          <a:blip r:embed="rId3"/>
          <a:stretch/>
        </p:blipFill>
        <p:spPr>
          <a:xfrm>
            <a:off x="395280" y="4344840"/>
            <a:ext cx="3384720" cy="2217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"/>
          <p:cNvPicPr/>
          <p:nvPr/>
        </p:nvPicPr>
        <p:blipFill>
          <a:blip r:embed="rId4"/>
          <a:stretch/>
        </p:blipFill>
        <p:spPr>
          <a:xfrm>
            <a:off x="5753160" y="4334040"/>
            <a:ext cx="3127320" cy="233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8" descr=""/>
          <p:cNvPicPr/>
          <p:nvPr/>
        </p:nvPicPr>
        <p:blipFill>
          <a:blip r:embed="rId5"/>
          <a:stretch/>
        </p:blipFill>
        <p:spPr>
          <a:xfrm>
            <a:off x="3059280" y="2565360"/>
            <a:ext cx="3456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WordArt 18"/>
          <p:cNvSpPr txBox="1"/>
          <p:nvPr/>
        </p:nvSpPr>
        <p:spPr>
          <a:xfrm>
            <a:off x="2195640" y="47628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Наши достижения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27" name="Picture 20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2070000" cy="28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192888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4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2155680" cy="287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6" descr=""/>
          <p:cNvPicPr/>
          <p:nvPr/>
        </p:nvPicPr>
        <p:blipFill>
          <a:blip r:embed="rId4"/>
          <a:stretch/>
        </p:blipFill>
        <p:spPr>
          <a:xfrm>
            <a:off x="6659640" y="836640"/>
            <a:ext cx="2192400" cy="2879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8" descr=""/>
          <p:cNvPicPr/>
          <p:nvPr/>
        </p:nvPicPr>
        <p:blipFill>
          <a:blip r:embed="rId5"/>
          <a:stretch/>
        </p:blipFill>
        <p:spPr>
          <a:xfrm>
            <a:off x="324000" y="3716280"/>
            <a:ext cx="2122200" cy="2916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9" descr=""/>
          <p:cNvPicPr/>
          <p:nvPr/>
        </p:nvPicPr>
        <p:blipFill>
          <a:blip r:embed="rId6"/>
          <a:stretch/>
        </p:blipFill>
        <p:spPr>
          <a:xfrm>
            <a:off x="2195640" y="3573360"/>
            <a:ext cx="2352600" cy="3095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0" descr=""/>
          <p:cNvPicPr/>
          <p:nvPr/>
        </p:nvPicPr>
        <p:blipFill>
          <a:blip r:embed="rId7"/>
          <a:stretch/>
        </p:blipFill>
        <p:spPr>
          <a:xfrm>
            <a:off x="4284720" y="3762360"/>
            <a:ext cx="2306520" cy="309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1" descr=""/>
          <p:cNvPicPr/>
          <p:nvPr/>
        </p:nvPicPr>
        <p:blipFill>
          <a:blip r:embed="rId8"/>
          <a:stretch/>
        </p:blipFill>
        <p:spPr>
          <a:xfrm>
            <a:off x="6616800" y="3429000"/>
            <a:ext cx="2527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оздание максимально благоприятных условий для раскрытия и развития способностей каждой отдельной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азвитие воспитанников, обладающих нравственной культурой, интеллектуальным, творческим и физическим потенциа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3419640" y="333360"/>
            <a:ext cx="1622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Цели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39640" y="1610640"/>
            <a:ext cx="7874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) формировать представление об общечеловеческих нормах мора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2) воспитывать патриотизм и интернационализм, терпимость и уважительное отношение к окружающи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3) развивать навыки самоуправления в классе, школе, проявление инициатив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5) формировать потребность участвовать в коллективных творческих делах кла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3203640" y="54936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дачи: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2771640" y="2421000"/>
            <a:ext cx="3362400" cy="1800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а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539640" y="620640"/>
            <a:ext cx="24498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амоуправл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3564000" y="5084640"/>
            <a:ext cx="244944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Интеллекту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16"/>
          <p:cNvSpPr/>
          <p:nvPr/>
        </p:nvSpPr>
        <p:spPr>
          <a:xfrm>
            <a:off x="395280" y="4869000"/>
            <a:ext cx="259416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равов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val 17"/>
          <p:cNvSpPr/>
          <p:nvPr/>
        </p:nvSpPr>
        <p:spPr>
          <a:xfrm>
            <a:off x="0" y="2781360"/>
            <a:ext cx="248436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Трудов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18"/>
          <p:cNvSpPr/>
          <p:nvPr/>
        </p:nvSpPr>
        <p:spPr>
          <a:xfrm>
            <a:off x="3276720" y="260280"/>
            <a:ext cx="2590560" cy="144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Нравствен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6372360" y="4941720"/>
            <a:ext cx="2771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Творче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Oval 20"/>
          <p:cNvSpPr/>
          <p:nvPr/>
        </p:nvSpPr>
        <p:spPr>
          <a:xfrm>
            <a:off x="6372360" y="2781360"/>
            <a:ext cx="277164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Гражданское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атриотическ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21"/>
          <p:cNvSpPr/>
          <p:nvPr/>
        </p:nvSpPr>
        <p:spPr>
          <a:xfrm>
            <a:off x="6588000" y="404640"/>
            <a:ext cx="237672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портив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оздоровите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дти стоит только за тем, кто может изменить тебя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3492360" y="5013360"/>
            <a:ext cx="244800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ОБРАТНАЯ СВЯ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7200" y="3007080"/>
            <a:ext cx="2299320" cy="1090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ИНЦИП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3059280" y="1052640"/>
            <a:ext cx="259236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ОТКРЫТ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0920" y="1773360"/>
            <a:ext cx="237816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УСПЕШ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0920" y="4437000"/>
            <a:ext cx="230508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ОТВОРЧЕ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6588000" y="4508640"/>
            <a:ext cx="2556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6516720" y="1916280"/>
            <a:ext cx="262728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ffff00"/>
                </a:solidFill>
                <a:latin typeface="Tahoma"/>
              </a:rPr>
              <a:t>Срок реализации:</a:t>
            </a:r>
            <a:br>
              <a:rPr sz="3800"/>
            </a:br>
            <a:r>
              <a:rPr b="0" lang="ru-RU" sz="3800" spc="-1" strike="noStrike">
                <a:solidFill>
                  <a:srgbClr val="ffff00"/>
                </a:solidFill>
                <a:latin typeface="Tahoma"/>
              </a:rPr>
              <a:t>2008-2014годы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1040436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95280" y="2833560"/>
            <a:ext cx="813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 результате осуществления программы нравственный уровень учащихся должен достигнуть высокого показателя, должно быть сформировано патриотическое и гражданское сознание и самосознание, коммуникативная толерантность, должна появиться потребность творческой и интеллектуальной самореализации, а также самореализации в спорте посредством участия в конкурсах, смотрах, викторинах, соревнов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1763640" y="1989000"/>
            <a:ext cx="3745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жидаемый результат: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лассные часы нравственного, патриотического, интеллектуального, творческого содержа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оведение совместных праздников (родители, педагоги, учащиеся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осмотр и создание видеофильмов, использование аудиозаписей и мультимедийной продукци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участие в акциях благотворительной направлен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ематические вечера эстетической направленности (живопись, музыка, поэзия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организация выставок (совместная деятельность детей и родителей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оведение «круглых столов», дебатов, дискуссий, деловых и ролевых иг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268360" y="692280"/>
            <a:ext cx="42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Формы работы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600200"/>
          <a:ext cx="8147160" cy="4519440"/>
        </p:xfrm>
        <a:graphic>
          <a:graphicData uri="http://schemas.openxmlformats.org/drawingml/2006/table">
            <a:tbl>
              <a:tblPr/>
              <a:tblGrid>
                <a:gridCol w="4464000"/>
                <a:gridCol w="2016360"/>
                <a:gridCol w="16668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я меропри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про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«Крупным шрифтом о главном». Классный час с приглашением родител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Беседа: «Наркотики—свобода или зависимость, полёт или падение?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Кл. час. «Безвредного табака не бывае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Кл. род. собр . «Роль отца и матери в семь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Урок делового общения «Плохие отметки и их причин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Тематич.кл. час «Великие люди мира»(сов. писатели и поэты, люди искусства—неделя русского языка и литератур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02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02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.02.11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раб, 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,инфор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. 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метники. 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 весь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Тематч. Кл. час «Люди, на которых хотелось бы быть похожим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Кл. час с приглашением родителей «Азбука вежливо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Кл.час. «Страны изучаемого язы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Удо «Улицы, от названия которых становится теп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кл.Кл. час «Памятные даты моей стран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Беседа: «Научные учреждения и их роль в жизни челове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Урок вежливости «Театральный этике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04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04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.05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04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05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,соц.пе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сь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, отв. уч-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сь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готовл. уч-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WordArt 52"/>
          <p:cNvSpPr txBox="1"/>
          <p:nvPr/>
        </p:nvSpPr>
        <p:spPr>
          <a:xfrm>
            <a:off x="1908000" y="620640"/>
            <a:ext cx="540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лан работы с классом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23:26Z</dcterms:created>
  <dc:creator>школа</dc:creator>
  <dc:description/>
  <dc:language>en-US</dc:language>
  <cp:lastModifiedBy>Коля</cp:lastModifiedBy>
  <dcterms:modified xsi:type="dcterms:W3CDTF">2013-04-07T11:26:40Z</dcterms:modified>
  <cp:revision>23</cp:revision>
  <dc:subject/>
  <dc:title>Слайд 1</dc:title>
</cp:coreProperties>
</file>