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5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7C4-B777-4362-96DD-DB63DBE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BC9-0A59-462D-8787-3DC9E3D3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7BC-2CC8-4363-A4A2-1465189F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79E-FAC5-4C19-97F2-3F060C13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3D8-3CC7-4947-9111-8F8EBB8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16E-0D04-42F4-8C00-1027950D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DE4-E3CA-44BB-A4E0-12B0C46F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6B9-052D-41B4-B25B-1E6EAEF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560-191D-48D2-83E6-F41F23CE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920-8AC7-43E0-B734-379BB63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217-385E-47C6-BFDE-07CC104B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8D6-C24A-4D5D-991F-5DC506FD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B447-7CCA-44AB-93CE-E3726EE9DA1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8D48-8D09-4454-8C45-3153F79204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DA6-B9C2-4FBA-A5D6-D433EBB113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79280" y="1052640"/>
            <a:ext cx="8785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лейбол.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бинации из освоенных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ов техники.</a:t>
            </a:r>
            <a:endParaRPr b="0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360" y="577800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Arial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5267-7F83-4D39-BDDE-040B3836C0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13" descr="вол1"/>
          <p:cNvPicPr/>
          <p:nvPr/>
        </p:nvPicPr>
        <p:blipFill>
          <a:blip r:embed="rId1"/>
          <a:stretch/>
        </p:blipFill>
        <p:spPr>
          <a:xfrm>
            <a:off x="684360" y="1706400"/>
            <a:ext cx="2046240" cy="2811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4" descr="прием мяча снизу двумя руками"/>
          <p:cNvPicPr/>
          <p:nvPr/>
        </p:nvPicPr>
        <p:blipFill>
          <a:blip r:embed="rId2"/>
          <a:stretch/>
        </p:blipFill>
        <p:spPr>
          <a:xfrm>
            <a:off x="3708360" y="1484280"/>
            <a:ext cx="4826160" cy="307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429-D8A2-428B-A341-1B9AD8D1FC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CB9-05F3-49ED-AD96-277348F2F4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2327040"/>
            <a:ext cx="64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нужно пробить по мячу, тем расслабленней должна быть кисть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11280" y="836640"/>
            <a:ext cx="620244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AC0-8F92-4D2C-AF41-71D5448047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119D-1323-4975-8C68-A3FF9F5DE0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Стойка волейболис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98800" y="1676160"/>
            <a:ext cx="4943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ги расположены на ширине плеч и согнуты в коленн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а нога впереди, или ступни расположены паралл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Чем ниже стойка, тем больше вперед наклонено туловищ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уки согнуты в локтевых сустав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волейб"/>
          <p:cNvPicPr/>
          <p:nvPr/>
        </p:nvPicPr>
        <p:blipFill>
          <a:blip r:embed="rId1"/>
          <a:stretch/>
        </p:blipFill>
        <p:spPr>
          <a:xfrm>
            <a:off x="536400" y="1986120"/>
            <a:ext cx="2710080" cy="3773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EEC-F328-45C4-BA91-E86A0F6E2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волейб"/>
          <p:cNvPicPr/>
          <p:nvPr/>
        </p:nvPicPr>
        <p:blipFill>
          <a:blip r:embed="rId2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CDED-9EC5-4D27-ACBF-3A4B5197DE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ыжок выполняется с места и с укороченного разбега (1-2 шага) толчком двух но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в высшей точка прыжка за счет активного разгибания рук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7" descr="волейб3"/>
          <p:cNvPicPr/>
          <p:nvPr/>
        </p:nvPicPr>
        <p:blipFill>
          <a:blip r:embed="rId1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A01-BFBF-46F7-A4CA-5DDA20A7B3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5"/>
          <p:cNvPicPr/>
          <p:nvPr/>
        </p:nvPicPr>
        <p:blipFill>
          <a:blip r:embed="rId1"/>
          <a:stretch/>
        </p:blipFill>
        <p:spPr>
          <a:xfrm>
            <a:off x="4643280" y="2781360"/>
            <a:ext cx="4192920" cy="22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8304-F3D1-4DF9-9630-EFECCEE4E4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треча рук с мячом происходит над ли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1" descr="волейб8"/>
          <p:cNvPicPr/>
          <p:nvPr/>
        </p:nvPicPr>
        <p:blipFill>
          <a:blip r:embed="rId2"/>
          <a:stretch/>
        </p:blipFill>
        <p:spPr>
          <a:xfrm>
            <a:off x="5506920" y="1706400"/>
            <a:ext cx="2649600" cy="330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8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385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9602-338F-4AAB-B64D-752C32D26E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евая рука, согнутая в локтевом суставе, удерживает мяч на уровне поя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авая (бьющая) рука отведена назад в положении замах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0480" indent="-420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ьющая рука направляет мяч вперед-ввер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3" descr="нижняя прямая подача"/>
          <p:cNvPicPr/>
          <p:nvPr/>
        </p:nvPicPr>
        <p:blipFill>
          <a:blip r:embed="rId1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7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8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0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8D7-862B-433E-8FEC-370563EBAD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.п. – лицом к сетке, левая нога вперед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6" descr="верхняя прямая подача"/>
          <p:cNvPicPr/>
          <p:nvPr/>
        </p:nvPicPr>
        <p:blipFill>
          <a:blip r:embed="rId1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68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68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6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998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998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998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8FA4-D138-478B-A346-83CCF0B4C1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04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d4d4d"/>
                </a:solidFill>
                <a:latin typeface="Arial"/>
              </a:rPr>
              <a:t>Прием мяч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11" descr="в2"/>
          <p:cNvPicPr/>
          <p:nvPr/>
        </p:nvPicPr>
        <p:blipFill>
          <a:blip r:embed="rId1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9760" y="1676160"/>
            <a:ext cx="4192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астасия</cp:lastModifiedBy>
  <dcterms:modified xsi:type="dcterms:W3CDTF">2014-01-28T14:30:12Z</dcterms:modified>
  <cp:revision>70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