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gif" ContentType="image/gif"/>
  <Override PartName="/ppt/media/image10.gif" ContentType="image/gif"/>
  <Override PartName="/ppt/media/image13.png" ContentType="image/png"/>
  <Override PartName="/ppt/media/image9.png" ContentType="image/png"/>
  <Override PartName="/ppt/media/image17.gif" ContentType="image/gif"/>
  <Override PartName="/ppt/media/image3.png" ContentType="image/png"/>
  <Override PartName="/ppt/media/image16.gif" ContentType="image/gif"/>
  <Override PartName="/ppt/media/image2.png" ContentType="image/png"/>
  <Override PartName="/ppt/media/image15.gif" ContentType="image/gif"/>
  <Override PartName="/ppt/media/image14.gif" ContentType="image/gif"/>
  <Override PartName="/ppt/media/image5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913E-88E6-4AF7-AA43-867B6891E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C9E1-3755-4268-8145-507E96F03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5D1D-ECB7-4DD9-A6FB-9911A80FC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6137-7218-4F76-B66E-D66984F3A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723A-8E38-44DE-B607-280FBC087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4D4E-2F43-4B4B-8A5A-FA2AB1598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80A3-DB27-480A-AD87-C6834682B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22D8-B2D5-42F2-BA96-9E0A4ABCC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CC7E-CEFD-4824-AD0A-C20FCE909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AB77-5DE5-4BD3-BDE9-E31BAD40C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A3E4-8A7F-4D00-9ECD-A6EE5715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8BEF-0855-4495-916C-63A214E10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1311C-5CB5-4FD2-B486-A3338CB88236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2410E-B06A-489F-A435-1FA2D36239C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омер слайда 3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AEDEB-7FDF-4A74-BE59-7A51C0172EF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79280" y="1052640"/>
            <a:ext cx="878544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олейбол.</a:t>
            </a:r>
            <a:endParaRPr b="0" lang="en-US" sz="4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мбинации из освоенных</a:t>
            </a:r>
            <a:endParaRPr b="0" lang="en-US" sz="40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лементов техники.</a:t>
            </a:r>
            <a:endParaRPr b="0" lang="en-US" sz="40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468360" y="5778000"/>
            <a:ext cx="820728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00"/>
                </a:solidFill>
                <a:latin typeface="Arial"/>
              </a:rPr>
              <a:t>Методические рекоменд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00"/>
                </a:solidFill>
                <a:latin typeface="Arial"/>
              </a:rPr>
              <a:t>Учитель физической культуры: Завалей Анастасия Валерье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Номер слайда 3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76440-5E8C-490C-BB13-B4D08E76DD6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d4d4d"/>
                </a:solidFill>
                <a:latin typeface="Arial"/>
              </a:rPr>
              <a:t>Техника выполнения приема мяча снизу двумя руками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2" name="Picture 13" descr="вол1"/>
          <p:cNvPicPr/>
          <p:nvPr/>
        </p:nvPicPr>
        <p:blipFill>
          <a:blip r:embed="rId1"/>
          <a:stretch/>
        </p:blipFill>
        <p:spPr>
          <a:xfrm>
            <a:off x="684360" y="1706400"/>
            <a:ext cx="2046240" cy="28116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4508280"/>
            <a:ext cx="8229600" cy="198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Туловище слегка наклонено вперед, прямые руки опущены вперед - вниз, локти сближены, кисти вместе. Мяч принимается на внутреннюю часть сближенных предплечий, ближе к кистям рук. В момент приема руки не должны сгибаться в локтях. Прямые руки небыстрым движением в плечевых суставах поднимаются навстречу мячу, ноги в момент приема выпрямляются. Чем выше скорость полета мяча, тем меньше должно быть встречное движение рук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24" descr="прием мяча снизу двумя руками"/>
          <p:cNvPicPr/>
          <p:nvPr/>
        </p:nvPicPr>
        <p:blipFill>
          <a:blip r:embed="rId2"/>
          <a:stretch/>
        </p:blipFill>
        <p:spPr>
          <a:xfrm>
            <a:off x="3708360" y="1484280"/>
            <a:ext cx="4826160" cy="3078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Номер слайда 3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B3AC0-011D-462F-887E-8011543F938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132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d4d4d"/>
                </a:solidFill>
                <a:latin typeface="Arial"/>
              </a:rPr>
              <a:t>Техника выполнения приема мяча одной рукой впадении вперед и последующим скольжением на груди - животе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4221000"/>
            <a:ext cx="822960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рименяют в основном юноши. Игрок как бы «ныряет» под мяч, после отбивания мяча руки касаются площадки и амортизируют касание грудью за счет сгибания рук, ноги сгибаются в коленях, туловище прогибается, руки после отталкивания вперед убирают вдоль туловищ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19" descr="прием мяча одной рукой в падении вперед и последующим скольжением на груди -животе"/>
          <p:cNvPicPr/>
          <p:nvPr/>
        </p:nvPicPr>
        <p:blipFill>
          <a:blip r:embed="rId1"/>
          <a:stretch/>
        </p:blipFill>
        <p:spPr>
          <a:xfrm>
            <a:off x="1258920" y="1413000"/>
            <a:ext cx="633744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0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0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омер слайда 3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B956F-EFFE-4B0A-B9CB-654140759F9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d4d4d"/>
                </a:solidFill>
                <a:latin typeface="Arial"/>
              </a:rPr>
              <a:t>Техника выполнения нападающего удара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56000" y="2327040"/>
            <a:ext cx="6408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Во время выполнения прыжка быстро разогнуть ноги и резко поднять руки вверх. В прыжке  плечи и бьющая рука отводится назад, туловище прогибается (замах).Ударное движение начинается с выведения вперед локтя бьющей руки. бьющая рука, разгибаясь в локтевом суставе, хлестким  движением кистью ударяет по мячу  вниз – вперед. Чем сильней нужно пробить по мячу, тем расслабленней должна быть кисть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16" descr="нападающий удар"/>
          <p:cNvPicPr/>
          <p:nvPr/>
        </p:nvPicPr>
        <p:blipFill>
          <a:blip r:embed="rId1"/>
          <a:stretch/>
        </p:blipFill>
        <p:spPr>
          <a:xfrm>
            <a:off x="611280" y="836640"/>
            <a:ext cx="6202440" cy="451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77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2" dur="770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4" dur="77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6" dur="77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0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Номер слайда 3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76278-CD02-4226-89E1-061A6EDB223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d4d4d"/>
                </a:solidFill>
                <a:latin typeface="Arial"/>
              </a:rPr>
              <a:t>Техника выполнения блокирования мяча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5300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Техника блокирования включает в себя: перемещение к месту постановки блока, прыжок, постановку рук на пути движения мяча и приземл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14" descr="одиночное блокирование мяча"/>
          <p:cNvPicPr/>
          <p:nvPr/>
        </p:nvPicPr>
        <p:blipFill>
          <a:blip r:embed="rId1"/>
          <a:stretch/>
        </p:blipFill>
        <p:spPr>
          <a:xfrm>
            <a:off x="2411280" y="1425600"/>
            <a:ext cx="5329440" cy="387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0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Номер слайда 3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814A1-DEF2-4E64-AD77-894D8B24290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d4d4d"/>
                </a:solidFill>
                <a:latin typeface="Arial"/>
              </a:rPr>
              <a:t>Стойка волейболиста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98800" y="1676160"/>
            <a:ext cx="49435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Ноги расположены на ширине плеч и согнуты в коленных суставах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Одна нога впереди, или ступни расположены параллельн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Туловище наклонено впере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Чем ниже стойка, тем больше вперед наклонено туловищ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Руки согнуты в локтевых суставах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7" descr="волейб"/>
          <p:cNvPicPr/>
          <p:nvPr/>
        </p:nvPicPr>
        <p:blipFill>
          <a:blip r:embed="rId1"/>
          <a:stretch/>
        </p:blipFill>
        <p:spPr>
          <a:xfrm>
            <a:off x="536400" y="1986120"/>
            <a:ext cx="2710080" cy="37731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1"/>
          <p:cNvSpPr/>
          <p:nvPr/>
        </p:nvSpPr>
        <p:spPr>
          <a:xfrm>
            <a:off x="468360" y="5734080"/>
            <a:ext cx="127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Высокая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стойк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325240" y="5734080"/>
            <a:ext cx="107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Средняя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стойк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Номер слайда 3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CD3D6-DB18-4506-A619-5527A194E45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d4d4d"/>
                </a:solidFill>
                <a:latin typeface="Arial"/>
              </a:rPr>
              <a:t>Техника выполнения передачи мяча сверху двумя руками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2" name="Picture 7" descr="волейб1"/>
          <p:cNvPicPr/>
          <p:nvPr/>
        </p:nvPicPr>
        <p:blipFill>
          <a:blip r:embed="rId1"/>
          <a:stretch/>
        </p:blipFill>
        <p:spPr>
          <a:xfrm>
            <a:off x="755640" y="1557360"/>
            <a:ext cx="3384720" cy="2976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волейб"/>
          <p:cNvPicPr/>
          <p:nvPr/>
        </p:nvPicPr>
        <p:blipFill>
          <a:blip r:embed="rId2"/>
          <a:stretch/>
        </p:blipFill>
        <p:spPr>
          <a:xfrm>
            <a:off x="4886280" y="1341360"/>
            <a:ext cx="3059280" cy="31672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443664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выполнении передачи нужно успеть занять устойчивое исходное положение, затем, разгибая ноги и руки, отрывистыми касанием кончиков пальцев рук мячу придается нужное направл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стреча рук с мячом происходит над лицом несколько впереди, нельзя мяч отбивать ладонями, это нарушение правил игр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Номер слайда 3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EA12E-D125-4C83-9C44-2FF516E73C6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d4d4d"/>
                </a:solidFill>
                <a:latin typeface="Arial"/>
              </a:rPr>
              <a:t>Техника выполнения передачи мяча через сетку в прыжке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256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рыжок выполняется с места и с укороченного разбега (1-2 шага) толчком двух но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ередача выполняется в высшей точка прыжка за счет активного разгибания рук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7" descr="волейб3"/>
          <p:cNvPicPr/>
          <p:nvPr/>
        </p:nvPicPr>
        <p:blipFill>
          <a:blip r:embed="rId1"/>
          <a:stretch/>
        </p:blipFill>
        <p:spPr>
          <a:xfrm>
            <a:off x="5292720" y="1628640"/>
            <a:ext cx="2700360" cy="453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Номер слайда 3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69509-6631-4924-A754-5F2E3EC7AE2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d4d4d"/>
                </a:solidFill>
                <a:latin typeface="Arial"/>
              </a:rPr>
              <a:t>Техника выполнения передачи мяча двумя руками снизу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ри передаче следует выполнять некоторое сопровождение мяча руками. Руки должны занимать одинаковое,  постоянное положение. Малейшее повышение одного предплечья над другим изменит направление отскока мяч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7" descr="5"/>
          <p:cNvPicPr/>
          <p:nvPr/>
        </p:nvPicPr>
        <p:blipFill>
          <a:blip r:embed="rId1"/>
          <a:stretch/>
        </p:blipFill>
        <p:spPr>
          <a:xfrm>
            <a:off x="4643280" y="2781360"/>
            <a:ext cx="4192920" cy="223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Номер слайда 3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8813B-5519-4717-BA38-F2CE7BD9D48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d4d4d"/>
                </a:solidFill>
                <a:latin typeface="Arial"/>
              </a:rPr>
              <a:t>Техника выполнения передачи мяча, стоя спиной к цели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5" name="Picture 7" descr="волейб2"/>
          <p:cNvPicPr/>
          <p:nvPr/>
        </p:nvPicPr>
        <p:blipFill>
          <a:blip r:embed="rId1"/>
          <a:stretch/>
        </p:blipFill>
        <p:spPr>
          <a:xfrm>
            <a:off x="903240" y="1557360"/>
            <a:ext cx="3079800" cy="3456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9640" y="4868640"/>
            <a:ext cx="8229600" cy="16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Встреча рук с мячом происходит над лиц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ередача выполняется за счет разгибания рук в локтях и движения назад - вверх с одновременным пригибанием в грудной и поясничной ча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11" descr="волейб8"/>
          <p:cNvPicPr/>
          <p:nvPr/>
        </p:nvPicPr>
        <p:blipFill>
          <a:blip r:embed="rId2"/>
          <a:stretch/>
        </p:blipFill>
        <p:spPr>
          <a:xfrm>
            <a:off x="5506920" y="1706400"/>
            <a:ext cx="2649600" cy="33022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8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385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4" dur="385" fill="hold"/>
                                        <p:tgtEl>
                                          <p:spTgt spid="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6" dur="385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8" dur="385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385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" dur="385" fill="hold"/>
                                        <p:tgtEl>
                                          <p:spTgt spid="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6" dur="385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8" dur="385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Номер слайда 3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4BCB9-005B-4DDF-804D-DB396A4397E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d4d4d"/>
                </a:solidFill>
                <a:latin typeface="Arial"/>
              </a:rPr>
              <a:t>Техника выполнения нижней прямой подачи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42498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20480" indent="-420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И.п. – стоя лицом к сетки, ноги согнуты в коленях, левая нога впереди, туловище наклонено впере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20480" indent="-420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Левая рука, согнутая в локтевом суставе, удерживает мяч на уровне пояс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20480" indent="-420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равая (бьющая) рука отведена назад в положении замах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20480" indent="-420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одбросит мяч на высоту 20-30 см вверх и выполнить удар напряженной кистью по опускающемуся мячу на уровне плеч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20480" indent="-420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Бьющая рука направляет мяч вперед-ввер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13" descr="нижняя прямая подача"/>
          <p:cNvPicPr/>
          <p:nvPr/>
        </p:nvPicPr>
        <p:blipFill>
          <a:blip r:embed="rId1"/>
          <a:stretch/>
        </p:blipFill>
        <p:spPr>
          <a:xfrm>
            <a:off x="5435640" y="1916280"/>
            <a:ext cx="6188040" cy="4500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65" dur="1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16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17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4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4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17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4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4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6900"/>
                            </p:stCondLst>
                            <p:childTnLst>
                              <p:par>
                                <p:cTn id="18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4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4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7900"/>
                            </p:stCondLst>
                            <p:childTnLst>
                              <p:par>
                                <p:cTn id="19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4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4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8900"/>
                            </p:stCondLst>
                            <p:childTnLst>
                              <p:par>
                                <p:cTn id="20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4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4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Номер слайда 3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6BF6B-1B52-48A9-97CD-C29C3387B88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d4d4d"/>
                </a:solidFill>
                <a:latin typeface="Arial"/>
              </a:rPr>
              <a:t>Техника выполнения верхней прямой подачи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4581360"/>
            <a:ext cx="8229600" cy="18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И.п. – лицом к сетке, левая нога вперед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Мяч подбрасывается левой рукой вверх у правого плеча. Туловище отклонятся назад (замах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одбросив мяч последовательным разгибанием сзади стоящей ноги, с движением туловища вперед и кистью руки вперед – вверх, производится удар по мяч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16" descr="верхняя прямая подача"/>
          <p:cNvPicPr/>
          <p:nvPr/>
        </p:nvPicPr>
        <p:blipFill>
          <a:blip r:embed="rId1"/>
          <a:stretch/>
        </p:blipFill>
        <p:spPr>
          <a:xfrm>
            <a:off x="3059280" y="620640"/>
            <a:ext cx="5249520" cy="3818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768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7" dur="768" fill="hold"/>
                                        <p:tgtEl>
                                          <p:spTgt spid="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9" dur="768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1" dur="768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998"/>
                            </p:stCondLst>
                            <p:childTnLst>
                              <p:par>
                                <p:cTn id="22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3998"/>
                            </p:stCondLst>
                            <p:childTnLst>
                              <p:par>
                                <p:cTn id="22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0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4998"/>
                            </p:stCondLst>
                            <p:childTnLst>
                              <p:par>
                                <p:cTn id="23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4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5998"/>
                            </p:stCondLst>
                            <p:childTnLst>
                              <p:par>
                                <p:cTn id="23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8" dur="1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Номер слайда 3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C63A6-1207-4455-9D82-326C3FE7955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510400" cy="78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d4d4d"/>
                </a:solidFill>
                <a:latin typeface="Arial"/>
              </a:rPr>
              <a:t>Прием мяча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8" name="Picture 11" descr="в2"/>
          <p:cNvPicPr/>
          <p:nvPr/>
        </p:nvPicPr>
        <p:blipFill>
          <a:blip r:embed="rId1"/>
          <a:stretch/>
        </p:blipFill>
        <p:spPr>
          <a:xfrm>
            <a:off x="826920" y="1628640"/>
            <a:ext cx="3357720" cy="45309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49760" y="1676160"/>
            <a:ext cx="419256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рименяется в защитных действиях, чтобы не допустить падения мяча, посланного соперником, на площадк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рием подачи считается удачным, когда после приема мяча он оказывается в зоне напад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8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8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8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8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настасия</cp:lastModifiedBy>
  <dcterms:modified xsi:type="dcterms:W3CDTF">2014-01-28T14:30:12Z</dcterms:modified>
  <cp:revision>70</cp:revision>
  <dc:subject/>
  <dc:title>Игра волейбо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4330000000000010243000207f6000400038000</vt:lpwstr>
  </property>
</Properties>
</file>