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3.png" ContentType="image/png"/>
  <Override PartName="/ppt/media/image9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5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85C-37CB-4BB7-AC03-2F4EF902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4CB-5F5E-4DE0-B7F0-2785888D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A75-7F6C-4218-A395-0E728C72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A0B-1BE6-4B15-8399-B2D93A9F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C07-94AE-46E1-A3BD-8E6D7694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61D-3EB1-4247-B78E-BA6313AE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992-0C9F-4278-9CC7-2A20372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EAE-9212-4922-8A8C-4F453A9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1E9-7CDE-41A7-9FDE-959C85D5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699-D090-454E-80A6-72EBBD77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541-124B-41A7-B055-0B0C165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051-666E-4E5C-9F31-64C963D1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5E4-0D7E-42CD-A573-FC7CF3FD4E2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1612-45BA-4E2B-8CB8-1A2A39131B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5C34-EFC9-48C0-8EC4-4BF69AD075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79280" y="1052640"/>
            <a:ext cx="8785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ейбол.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бинации из освоенных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ов техники.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360" y="5778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Методические рекоменд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Учитель физической культуры: Завалей Анастасия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7A43-7B1E-4BDC-BE3E-821207BC3C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13" descr="вол1"/>
          <p:cNvPicPr/>
          <p:nvPr/>
        </p:nvPicPr>
        <p:blipFill>
          <a:blip r:embed="rId1"/>
          <a:stretch/>
        </p:blipFill>
        <p:spPr>
          <a:xfrm>
            <a:off x="684360" y="1706400"/>
            <a:ext cx="2046240" cy="281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4" descr="прием мяча снизу двумя руками"/>
          <p:cNvPicPr/>
          <p:nvPr/>
        </p:nvPicPr>
        <p:blipFill>
          <a:blip r:embed="rId2"/>
          <a:stretch/>
        </p:blipFill>
        <p:spPr>
          <a:xfrm>
            <a:off x="3708360" y="1484280"/>
            <a:ext cx="4826160" cy="307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E008-40C5-4265-A138-E76AC9D99A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072C-64A8-4567-8F2D-2F47EF9873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0" y="2327040"/>
            <a:ext cx="64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нужно пробить по мячу, тем расслабленней должна быть кисть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6" descr="нападающий удар"/>
          <p:cNvPicPr/>
          <p:nvPr/>
        </p:nvPicPr>
        <p:blipFill>
          <a:blip r:embed="rId1"/>
          <a:stretch/>
        </p:blipFill>
        <p:spPr>
          <a:xfrm>
            <a:off x="611280" y="836640"/>
            <a:ext cx="620244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7792-C2AE-4A44-846B-7BFF82CCBF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4" descr="одиночное блокирование мяча"/>
          <p:cNvPicPr/>
          <p:nvPr/>
        </p:nvPicPr>
        <p:blipFill>
          <a:blip r:embed="rId1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CEAC-5D71-4E67-9045-91E5F6840C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Стойка волейболис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98800" y="1676160"/>
            <a:ext cx="49435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ги расположены на ширине плеч и согнуты в коленных сустав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дна нога впереди, или ступни расположены паралл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уловище наклонено впер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ем ниже стойка, тем больше вперед наклонено туловищ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уки согнуты в локтевых сустав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волейб"/>
          <p:cNvPicPr/>
          <p:nvPr/>
        </p:nvPicPr>
        <p:blipFill>
          <a:blip r:embed="rId1"/>
          <a:stretch/>
        </p:blipFill>
        <p:spPr>
          <a:xfrm>
            <a:off x="536400" y="1986120"/>
            <a:ext cx="2710080" cy="3773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11E0-E36B-419B-AC34-C54A6E4AA6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волейб"/>
          <p:cNvPicPr/>
          <p:nvPr/>
        </p:nvPicPr>
        <p:blipFill>
          <a:blip r:embed="rId2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D0D8-6690-45BF-99F5-BAB02303A5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ыжок выполняется с места и с укороченного разбега (1-2 шага) толчком двух н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дача выполняется в высшей точка прыжка за счет активного разгибания рук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7" descr="волейб3"/>
          <p:cNvPicPr/>
          <p:nvPr/>
        </p:nvPicPr>
        <p:blipFill>
          <a:blip r:embed="rId1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ACF8-C22D-4B96-B49E-FFB62FEDE0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5"/>
          <p:cNvPicPr/>
          <p:nvPr/>
        </p:nvPicPr>
        <p:blipFill>
          <a:blip r:embed="rId1"/>
          <a:stretch/>
        </p:blipFill>
        <p:spPr>
          <a:xfrm>
            <a:off x="4643280" y="2781360"/>
            <a:ext cx="4192920" cy="22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332-7A68-4905-8FD5-17EB2FE38A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треча рук с мячом происходит над лиц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1" descr="волейб8"/>
          <p:cNvPicPr/>
          <p:nvPr/>
        </p:nvPicPr>
        <p:blipFill>
          <a:blip r:embed="rId2"/>
          <a:stretch/>
        </p:blipFill>
        <p:spPr>
          <a:xfrm>
            <a:off x="5506920" y="1706400"/>
            <a:ext cx="2649600" cy="3302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8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385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7058-EB3D-48EC-829F-08ED21704F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евая рука, согнутая в локтевом суставе, удерживает мяч на уровне поя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авая (бьющая) рука отведена назад в положении зама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ьющая рука направляет мяч вперед-ввер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13" descr="нижняя прямая подача"/>
          <p:cNvPicPr/>
          <p:nvPr/>
        </p:nvPicPr>
        <p:blipFill>
          <a:blip r:embed="rId1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5173-02C2-40D2-B34C-56509FFA85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.п. – лицом к сетке, левая нога вперед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6" descr="верхняя прямая подача"/>
          <p:cNvPicPr/>
          <p:nvPr/>
        </p:nvPicPr>
        <p:blipFill>
          <a:blip r:embed="rId1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68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68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6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264F-70D6-4935-9032-84D3400A54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104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Прием мяч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11" descr="в2"/>
          <p:cNvPicPr/>
          <p:nvPr/>
        </p:nvPicPr>
        <p:blipFill>
          <a:blip r:embed="rId1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976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стасия</cp:lastModifiedBy>
  <dcterms:modified xsi:type="dcterms:W3CDTF">2014-01-28T14:30:12Z</dcterms:modified>
  <cp:revision>70</cp:revision>
  <dc:subject/>
  <dc:title>Игра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30000000000010243000207f6000400038000</vt:lpwstr>
  </property>
</Properties>
</file>