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DB33-2B74-496E-BB90-B84922151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15B6-CCE6-4A68-A42D-208D6B47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0203-1D47-45E6-B659-30B13D93D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09D0-ABA9-4FF8-B68D-FBAA5EF36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D429-747F-4341-B0F6-4C91CC7C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5FE4-7DDA-438D-8ECB-8EE8D4DC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0DF1-F84C-4E66-A3C7-5D6C0BF2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DAC4-DD9E-41C4-8197-7AD13C99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CA7B-C12A-4427-8E59-D64608D3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141E-1B0B-41D0-BB17-F47961A6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CA69-5142-45AA-9A6E-3DEDD082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E6AB-0D4C-49FF-8A0C-519FEAB3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80DD-C008-47A8-BE73-44C0C35003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ozon.ru/context/detail/id/255878/?type=308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Великие композиторы Венской школ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95280" y="60480"/>
            <a:ext cx="8424720" cy="6796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ледние сонаты, написанные в 1790-х гг,. явно ориентированы на выразительные возможности нового инструмента — фортепиа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ю жизнь искусство было для Гайдна главной опорой и постоянным источником внутренней гармонии, душевного равновесия и здоровья, Он надеялся, что таковым оно останется и для будущих слушателей. «В этом мире так мало радостных и довольных людей», — писал семидесятилетний композитор, — «везде их преследуют горе и заботы; быть может, твой труд послужит подчас источником, из которого полный забот и обремененный делами человек будет черпать минутами свое спокойствие и отды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39640" y="1700280"/>
            <a:ext cx="8229600" cy="144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Иоганн Вольфганг Моцар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5076360" y="404640"/>
            <a:ext cx="3754440" cy="666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ное им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оганн Хризостом Вольфганг Теофил Моца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та рожде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7 января 17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сто рожде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льц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та смер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 декабря 1791 (35 л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фесс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озитор, органист, скрипач, дирижёр,педаг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струмент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ган, скрипка, клавесин, клав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42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07672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еопольд Моц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ария Анна Моцарт, старшая сестра Вольфганга Амаде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835280" y="1474920"/>
            <a:ext cx="5216400" cy="5383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40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292720" y="160020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нтонио Саль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596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88000" y="4652640"/>
            <a:ext cx="255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аленькая ночная серен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на. Кенотаф Моцар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766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Йозеф Гайдн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867280" y="1700280"/>
            <a:ext cx="2819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732-180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3476520" cy="4797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Великий и всегда известный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755640" y="836640"/>
            <a:ext cx="74167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ЕТХОВ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Beethoven) Людвиг в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1770—1827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мецкий композитор, пианист, дирижёр. Первоначальное музыкальное образование получил у отца, певчего Боннской придворной капеллы, и его сослуживцев. С 1780 ученик К. Г. Нефе, воспитавшего Бетховена в духе немецкого просветительства. С 13-летнего возраста органист Боннской придворной капел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851280" y="691920"/>
            <a:ext cx="492768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Людвиг Ван Бетховен родился в Бонне, в семье музыканта - певца и преподавателя игры на клавесине. До 10 лет учителями музыки у Людвига были знакомые его отца. В 1780 году он начинает заниматься у талантливого педагога Готлиба Нефе, изучая музыку прошлого и современности и формируя собственный стиль. Первое сочинение – вариации на тему Дресслера – датировано 1783 годом. В последующее десятилетие было написано около 50 работ, среди которых – трио, квартеты, фортепьянные сонаты, вариации, пес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Содержимое 4" descr="Людвиг Ван Бетховен: фотография 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04640"/>
            <a:ext cx="3638520" cy="9501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50920" y="1197000"/>
            <a:ext cx="8456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1792 года Бетховен живет в Вене, одном из крупнейших культурных центров того времени. Он выступает в аристократических салонах как блестящий импровизатор, учится у прославленных мастеров – Гайдна, Сальери, Альбрехтсбергера. Охватывая все основные жанры эпохи, композитор создает за 1795-1803 годы более ста сочинений: первую и вторую симфонии, сонаты, квартеты, трио, оперу “Фиделио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851280" y="981000"/>
            <a:ext cx="4927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период между 1803 и 1812 годами им написано шесть симфоний (3 – 8), пять квартетов (7 –11), два фортепьянных (4, 5) и скрипичный концерты, увертюры “Леонора” и “Кориолан”, музыка к “Эгмонту”, фортепьянные, вокальные произведения и многое друг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3543480" cy="4103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0560" y="1268280"/>
            <a:ext cx="831204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1820-е годы рождаются такие шедевры, как “Торжественная месса”, пять квартетов (12 – 16), последние сонаты, девятая симфония. Последние годы жизни – цепь горестей и разочарований: тяжелым грузом давят материальные затруднения и, главное, усиливающаяся с каждым годом глухота. Скончался Бетховен в Вене 26 марта 1827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ЙДН ЙОЗЕФ  — австрийский композитор. Сын бедного каретника. С 6 лет начал петь в церковных хорах, добывал средства к жизни игрой на музыкальных инструмент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течение жизни сочинил огромное количество произведений: более 100 (ста!) симфоний, более 70 (семидесяти!) струнных квартетов, оперы, мессы (хоровые произведения религиозного содержания), сонаты, трио, оратории, песни и многие друг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ком Й. Гайдна был Л. ван Бетхов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ранц Йозеф Гайдн родился 31 марта 1732 года в Нижней Австрии, в небольшом местечке Рорау, расположенном на левом берегу реки Лейты, между городками Брук и Хайнбург, вблизи венгерской границы. Предки Гайдна были потомственными австро-немецкими ремесленниками-крестьянами. Отец композитора, Матиас, занимался каретным делом. Мать - урожденная Анна Мария Коллер - служила кухар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узыкальность отца, его любовь к музыке унаследовали дети. Маленький Йозеф уже в пять лет обратил на себя внимание музыкантов. Он обладал прекрасным слухом, памятью, чувством ритма. Его звонкий серебристый голос приводил всех в восхищение. Благодаря своим выдающимся музыкальным способностям мальчик попал сначала в церковный хор небольшого городка Гайнбурга, а затем в хоровую капеллу при кафедральном (главном) соборе Св. Стефана в Вене. Это было знаменательным событием в жизни Гайдна. Ведь иной возможности получить музыкальное образование он не им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Йозеф был понятливым и быстро воспринимал все новое. Он даже находил время заниматься игрой на скрипке и клавикорде и достиг значительных успехов. Только вот его попытки сочинять музыку не встречали поддержки. За девять лет пребывания в хоровой капелле он получил от ее руководителя всего два урока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гда у Гайдна стал ломаться голос и он не смог больше петь в хоре, его бесцеремонно уволили. Для юноши началась самостоятельная жизнь, полная невзгод и лишений, а главное - непрерывного и упорного тру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Когда я, наконец, потерял свой голос, - пишет Гайдн в автобиографической заметке, - мне пришлось целых восемь лет едва перебиваться обучением юношества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9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рно в 1750 году Гайдн написал маленькую мессу (в фа мажоре), выказав в ней не только талантливое усвоение современных приемов данного жанра, но и очевидную наклонность к сочинению "веселой" церковной музыки. Более важным фактом является сочинение композитором первого струнного квартета в 1755 го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лчком послужило знакомство с любителем музыки, помещиком Карлом Фюрнбергом. Окрыленный вниманием и материальной поддержкой со стороны Фюрнберга, Гайдн написал сначала ряд струнных трио, а затем и первый струнный квартет за которым вскоре последовало около двух десятков других. В 1756 году Гайдн сочинил концерт до мажор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69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ценат Гайдна позаботился также об упрочении его материального положения. Он рекомендовал композитора венскому аристократу из Чехии и любителю музыки графу Йозефу Францу Морцину. Зиму Морцин проводил в Вене, а летом жил в своем имении Лукавец около Плзеня. На службе у Морцина, в качестве композитора и капельмейстера, Гайдн получал даровое помещение, питание и жалованье. Служба эта оказалась кратковременной (1759-1760 годы), но все же помогла Гайдну сделать дальнейшие шаги в компози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759 году Гайдн создает свою первую симфонию, а вслед за ней в ближайшие годы четыре друг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08:12:35Z</dcterms:created>
  <dc:creator>UserXP</dc:creator>
  <dc:description/>
  <dc:language>en-US</dc:language>
  <cp:lastModifiedBy>User</cp:lastModifiedBy>
  <dcterms:modified xsi:type="dcterms:W3CDTF">2012-07-22T14:07:44Z</dcterms:modified>
  <cp:revision>17</cp:revision>
  <dc:subject/>
  <dc:title>Слайд 1</dc:title>
</cp:coreProperties>
</file>