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8BB-2993-4CE4-A743-875C3F3E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378-824B-444A-ACFB-238B1DD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B5F-EEAA-4AED-87C9-5333C661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9E1-8FE3-4EE1-A4A0-88F4CB8A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307-8CE7-47E1-ABD0-CA75AEC8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5DC-580A-420B-A6B1-AFDF0F5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5A9-37AE-410A-A03F-6E622D7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48B-8CEE-4084-AC93-FC76724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E0B-202B-42D7-B32C-6756FB47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9FB-AF67-4811-BF51-51DCF22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09C-FE47-493D-8B9B-3838FBE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A1D-6287-4023-AD36-4006152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FFF-B81E-49AF-9E6C-8C8F823FA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zon.ru/context/detail/id/255878/?type=308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Великие композиторы Венской шк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60480"/>
            <a:ext cx="8424720" cy="679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ние сонаты, написанные в 1790-х гг,. явно ориентированы на выразительные возможности нового инструмента — фортепи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ю жизнь искусство было для Гайдна главной опорой и постоянным источником внутренней гармонии, душевного равновесия и здоровья, Он надеялся, что таковым оно останется и для будущих слушателей. «В этом мире так мало радостных и довольных людей», — писал семидесятилетний композитор, — «везде их преследуют горе и заботы; быть может, твой труд послужит подчас источником, из которого полный забот и обремененный делами человек будет черпать минутами свое спокойствие и отд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144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Иоганн Вольфганг Моц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76360" y="404640"/>
            <a:ext cx="375444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им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оганн Хризостом Вольфганг Теофил Моц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7 января 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льц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смер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декабря 1791 (35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зитор, органист, скрипач, дирижёр,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мен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, скрипка, клавесин, кла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опольд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ия Анна Моцарт, старшая сестра Вольфганга Ама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474920"/>
            <a:ext cx="5216400" cy="538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онио Саль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88000" y="465264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енькая ночная серен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а. Кенотаф Моц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Йозеф Гайд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67280" y="1700280"/>
            <a:ext cx="281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732-18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3476520" cy="479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еликий и всегда извест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83664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ТХО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Beethoven) Людвиг в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770—182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ий композитор, пианист, дирижёр. Первоначальное музыкальное образование получил у отца, певчего Боннской придворной капеллы, и его сослуживцев. С 1780 ученик К. Г. Нефе, воспитавшего Бетховена в духе немецкого просветительства. С 13-летнего возраста органист Боннской придворной кап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51280" y="691920"/>
            <a:ext cx="492768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двиг Ван Бетховен родился в Бонне, в семье музыканта - певца и преподавателя игры на клавесине. До 10 лет учителями музыки у Людвига были знакомые его отца. В 1780 году он начинает заниматься у талантливого педагога Готлиба Нефе, изучая музыку прошлого и современности и формируя собственный стиль. Первое сочинение – вариации на тему Дресслера – датировано 1783 годом. В последующее десятилетие было написано около 50 работ, среди которых – трио, квартеты, фортепьянные сонаты, вариации, пес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4" descr="Людвиг Ван Бетховен: фотография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638520" cy="950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197000"/>
            <a:ext cx="845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92 года Бетховен живет в Вене, одном из крупнейших культурных центров того времени. Он выступает в аристократических салонах как блестящий импровизатор, учится у прославленных мастеров – Гайдна, Сальери, Альбрехтсбергера. Охватывая все основные жанры эпохи, композитор создает за 1795-1803 годы более ста сочинений: первую и вторую симфонии, сонаты, квартеты, трио, оперу “Фиделио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51280" y="981000"/>
            <a:ext cx="4927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между 1803 и 1812 годами им написано шесть симфоний (3 – 8), пять квартетов (7 –11), два фортепьянных (4, 5) и скрипичный концерты, увертюры “Леонора” и “Кориолан”, музыка к “Эгмонту”, фортепьянные, вокальные произведения и многое друг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543480" cy="410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1268280"/>
            <a:ext cx="83120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20-е годы рождаются такие шедевры, как “Торжественная месса”, пять квартетов (12 – 16), последние сонаты, девятая симфония. Последние годы жизни – цепь горестей и разочарований: тяжелым грузом давят материальные затруднения и, главное, усиливающаяся с каждым годом глухота. Скончался Бетховен в Вене 26 марта 1827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ЙДН ЙОЗЕФ  — австрийский композитор. Сын бедного каретника. С 6 лет начал петь в церковных хорах, добывал средства к жизни игрой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жизни сочинил огромное количество произведений: более 100 (ста!) симфоний, более 70 (семидесяти!) струнных квартетов, оперы, мессы (хоровые произведения религиозного содержания), сонаты, трио, оратории, песни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ом Й. Гайдна был Л. ван 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ц Йозеф Гайдн родился 31 марта 1732 года в Нижней Австрии, в небольшом местечке Рорау, расположенном на левом берегу реки Лейты, между городками Брук и Хайнбург, вблизи венгерской границы. Предки Гайдна были потомственными австро-немецкими ремесленниками-крестьянами. Отец композитора, Матиас, занимался каретным делом. Мать - урожденная Анна Мария Коллер - служила кухар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сть отца, его любовь к музыке унаследовали дети. Маленький Йозеф уже в пять лет обратил на себя внимание музыкантов. Он обладал прекрасным слухом, памятью, чувством ритма. Его звонкий серебристый голос приводил всех в восхищение. Благодаря своим выдающимся музыкальным способностям мальчик попал сначала в церковный хор небольшого городка Гайнбурга, а затем в хоровую капеллу при кафедральном (главном) соборе Св. Стефана в Вене. Это было знаменательным событием в жизни Гайдна. Ведь иной возможности получить музыкальное образование он не и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Йозеф был понятливым и быстро воспринимал все новое. Он даже находил время заниматься игрой на скрипке и клавикорде и достиг значительных успехов. Только вот его попытки сочинять музыку не встречали поддержки. За девять лет пребывания в хоровой капелле он получил от ее руководителя всего два уро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у Гайдна стал ломаться голос и он не смог больше петь в хоре, его бесцеремонно уволили. Для юноши началась самостоятельная жизнь, полная невзгод и лишений, а главное - непрерывного и упор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гда я, наконец, потерял свой голос, - пишет Гайдн в автобиографической заметке, - мне пришлось целых восемь лет едва перебиваться обучением юношест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но в 1750 году Гайдн написал маленькую мессу (в фа мажоре), выказав в ней не только талантливое усвоение современных приемов данного жанра, но и очевидную наклонность к сочинению "веселой" церковной музыки. Более важным фактом является сочинение композитором первого струнного квартета в 175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чком послужило знакомство с любителем музыки, помещиком Карлом Фюрнбергом. Окрыленный вниманием и материальной поддержкой со стороны Фюрнберга, Гайдн написал сначала ряд струнных трио, а затем и первый струнный квартет за которым вскоре последовало около двух десятков других. В 1756 году Гайдн сочинил концерт до маж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ценат Гайдна позаботился также об упрочении его материального положения. Он рекомендовал композитора венскому аристократу из Чехии и любителю музыки графу Йозефу Францу Морцину. Зиму Морцин проводил в Вене, а летом жил в своем имении Лукавец около Плзеня. На службе у Морцина, в качестве композитора и капельмейстера, Гайдн получал даровое помещение, питание и жалованье. Служба эта оказалась кратковременной (1759-1760 годы), но все же помогла Гайдну сделать дальнейшие шаги в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59 году Гайдн создает свою первую симфонию, а вслед за ней в ближайшие годы четыре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8:12:35Z</dcterms:created>
  <dc:creator>UserXP</dc:creator>
  <dc:description/>
  <dc:language>en-US</dc:language>
  <cp:lastModifiedBy>User</cp:lastModifiedBy>
  <dcterms:modified xsi:type="dcterms:W3CDTF">2012-07-22T14:07:44Z</dcterms:modified>
  <cp:revision>17</cp:revision>
  <dc:subject/>
  <dc:title>Слайд 1</dc:title>
</cp:coreProperties>
</file>