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01E-0165-46E3-BC8F-3BD95F0D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855-6EAA-41C2-BCEA-D4D5F04C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6BB-DF91-43F7-BDA7-3A7B563C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939-C60B-47F0-9000-029FAF1A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2A1A-D4DA-4071-90E0-62B1FFC5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AE7C-A22B-4018-ABD8-C2E6FF44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EF66-3C94-4BAD-BED2-851B9EC3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012F-59B7-44B0-9C9A-7340385A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75F2-2719-4139-85AB-22289204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75C7-7EC9-4BE1-8C75-A2AD3230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86F4-6DA1-4E0A-AFDD-535DE036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99F-F0ED-4D59-BF84-636EE00A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407B-34EC-4132-9B17-937794FB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BD2A-F97C-4A54-B27E-F3917CB5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D980-98BC-40E0-96A5-0D04EE50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8D9C-6959-47C0-B241-B7B4B722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775B-821B-45A9-9610-5DAAD86D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BA34-58E3-44F5-85C3-6318B9D8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45B-80D0-4B3B-A2AD-0463727E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C4F2-0941-4DBE-B068-2BECD1EF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D8D-8CE6-499A-8D17-24638B49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2D7-EAA9-44DA-AFDF-CD531B17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C33-8800-401B-882A-9E62EF74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A2C-B639-43CF-9BD2-2AF5D14F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2C34-0C80-4928-B81F-B00697CA1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E9F2-0C90-4A19-A8D5-E38024859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Урок по  творчеству И.С. Тургенева.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360" y="3765600"/>
            <a:ext cx="7989840" cy="26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а урок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 Идейные разногласия  Базарова и Кирсановых старших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л. 5-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DA5C-6729-4BD0-A045-FDD2FE66C5C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                     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П.П. Кирсанов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64000" y="2708280"/>
            <a:ext cx="2735280" cy="1557000"/>
          </a:xfrm>
          <a:prstGeom prst="rect">
            <a:avLst/>
          </a:prstGeom>
          <a:noFill/>
          <a:ln w="57240">
            <a:solidFill>
              <a:srgbClr val="a26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то чувствуется в портрете Павла Петрович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871800" cy="4464000"/>
          </a:xfrm>
          <a:prstGeom prst="rect">
            <a:avLst/>
          </a:prstGeom>
          <a:ln w="57240">
            <a:solidFill>
              <a:srgbClr val="a26d18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83B-134F-4B57-84D4-C8BE9E26A8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692280"/>
            <a:ext cx="7848360" cy="3728880"/>
          </a:xfrm>
          <a:prstGeom prst="rect">
            <a:avLst/>
          </a:prstGeom>
          <a:noFill/>
          <a:ln w="57240">
            <a:solidFill>
              <a:srgbClr val="a26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л. 5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понимают НИГИЛИЗМ  отцы и де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л.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Как  относится  Базаров к ИСКУС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читайте его афориз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реагирует  на его слова  Аркад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d79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9d793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26E-1B14-4D7D-80B5-B4156EBC439A}" type="slidenum">
              <a:t>11</a:t>
            </a:fld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Нигилизм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игилизм- отрицание общепринятых ценностей: идеалов, моральных норм, культуры, форм общественной жиз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ьшой энциклопедический слов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игилизм- «безобразное  и безнравственное учение, отвергающее всё, чего нельзя ощущать. »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.ДА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игилизм- «голое отрицание всего, логически неоправданный скептициз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Толковый словарь русского язы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770-1C7F-410E-A3E2-161E0684A47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"Но не любить природу, музыку?"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66680" y="1268280"/>
            <a:ext cx="2799000" cy="3816360"/>
          </a:xfrm>
          <a:prstGeom prst="rect">
            <a:avLst/>
          </a:prstGeom>
          <a:ln w="9360">
            <a:solidFill>
              <a:srgbClr val="a26d18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651640" y="1197000"/>
            <a:ext cx="3003480" cy="1666800"/>
          </a:xfrm>
          <a:prstGeom prst="rect">
            <a:avLst/>
          </a:prstGeom>
          <a:ln w="9360">
            <a:solidFill>
              <a:srgbClr val="a26d18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940360" y="3141720"/>
            <a:ext cx="2519280" cy="3355920"/>
          </a:xfrm>
          <a:prstGeom prst="rect">
            <a:avLst/>
          </a:prstGeom>
          <a:ln w="9360">
            <a:solidFill>
              <a:srgbClr val="a26d18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826920" y="5516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AB0-A6F5-4834-BBC7-135F91398F97}" type="slidenum">
              <a:t>13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37344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7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7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ИСТОРИЯ ЖИЗНИ ПАВЛА ПЕТРОВИЧ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  какой целью  Аркадий рассказывает  биографию дяд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воспринимает ее Базаро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ерна ли фраза Аркадия, что Павел Петрович « скорее сожаления достоин, чем насмешки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F6F-0CCF-4DB0-846C-6BF0EA1F1D0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Times New Roman"/>
              </a:rPr>
              <a:t>Глава 10.</a:t>
            </a:r>
            <a:br>
              <a:rPr sz="3200"/>
            </a:br>
            <a:r>
              <a:rPr b="1" lang="en-US" sz="2400" spc="-1" strike="noStrike">
                <a:solidFill>
                  <a:srgbClr val="a26d18"/>
                </a:solidFill>
                <a:latin typeface="Times New Roman"/>
              </a:rPr>
              <a:t>Идеологический конфликт  между  Базаровым и Кирсановыми</a:t>
            </a: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.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76320">
            <a:solidFill>
              <a:srgbClr val="a26d1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новные линии спор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Об отношении к дворянству, аристократии и ее принципа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О принципе деятельности нигилис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Об отношении к наро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О взглядах на искус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О взглядах на приро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69F0-F135-4301-8CCF-C818A0E4D1F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50920" y="1700280"/>
          <a:ext cx="8713800" cy="5064120"/>
        </p:xfrm>
        <a:graphic>
          <a:graphicData uri="http://schemas.openxmlformats.org/drawingml/2006/table">
            <a:tbl>
              <a:tblPr/>
              <a:tblGrid>
                <a:gridCol w="3728880"/>
                <a:gridCol w="2492280"/>
                <a:gridCol w="2492640"/>
              </a:tblGrid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за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рсанов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Отношение к дворянству, аристократ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Принцип деятельнос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илист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Отношение к народ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Взгляды на искусств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гляды на природ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26d18"/>
                </a:solidFill>
                <a:latin typeface="Times New Roman"/>
              </a:rPr>
              <a:t>Заполните таблицу: «Основные линии спора»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4449-4BD0-4A19-9B75-FFA09B7414B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26d18"/>
                </a:solidFill>
                <a:latin typeface="Times New Roman"/>
              </a:rPr>
              <a:t>Закрепление по теме</a:t>
            </a:r>
            <a:br>
              <a:rPr sz="3200"/>
            </a:br>
            <a:r>
              <a:rPr b="1" lang="en-US" sz="3200" spc="-1" strike="noStrike">
                <a:solidFill>
                  <a:srgbClr val="a26d18"/>
                </a:solidFill>
                <a:latin typeface="Times New Roman"/>
              </a:rPr>
              <a:t> Тест по роману  И.С.Тургенева «Отцы и дети»</a:t>
            </a:r>
            <a:br>
              <a:rPr sz="3200"/>
            </a:br>
            <a:r>
              <a:rPr b="1" lang="en-US" sz="2000" spc="-1" strike="noStrike">
                <a:solidFill>
                  <a:srgbClr val="a26d18"/>
                </a:solidFill>
                <a:latin typeface="Times New Roman"/>
              </a:rPr>
              <a:t>1.</a:t>
            </a:r>
            <a:r>
              <a:rPr b="0" i="1" lang="en-US" sz="2000" spc="-1" strike="noStrike">
                <a:solidFill>
                  <a:srgbClr val="a26d18"/>
                </a:solidFill>
                <a:latin typeface="Times New Roman"/>
              </a:rPr>
              <a:t>Кому адресовано посвящение романа «Отцы и дети»:</a:t>
            </a:r>
            <a:br>
              <a:rPr sz="2000"/>
            </a:br>
            <a:r>
              <a:rPr b="0" i="1" lang="en-US" sz="2000" spc="-1" strike="noStrike">
                <a:solidFill>
                  <a:srgbClr val="a26d18"/>
                </a:solidFill>
                <a:latin typeface="Times New Roman"/>
              </a:rPr>
              <a:t>1.А.И.Герцену</a:t>
            </a:r>
            <a:br>
              <a:rPr sz="2000"/>
            </a:br>
            <a:r>
              <a:rPr b="0" i="1" lang="en-US" sz="2000" spc="-1" strike="noStrike">
                <a:solidFill>
                  <a:srgbClr val="a26d18"/>
                </a:solidFill>
                <a:latin typeface="Times New Roman"/>
              </a:rPr>
              <a:t>2.В.Г.Белинскому</a:t>
            </a:r>
            <a:br>
              <a:rPr sz="2000"/>
            </a:br>
            <a:r>
              <a:rPr b="0" i="1" lang="en-US" sz="2000" spc="-1" strike="noStrike">
                <a:solidFill>
                  <a:srgbClr val="a26d18"/>
                </a:solidFill>
                <a:latin typeface="Times New Roman"/>
              </a:rPr>
              <a:t>3.Н.А.Некрасову</a:t>
            </a:r>
            <a:br>
              <a:rPr sz="2000"/>
            </a:br>
            <a:r>
              <a:rPr b="0" i="1" lang="en-US" sz="2000" spc="-1" strike="noStrike">
                <a:solidFill>
                  <a:srgbClr val="a26d18"/>
                </a:solidFill>
                <a:latin typeface="Times New Roman"/>
              </a:rPr>
              <a:t>4.Другому лицу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58920" y="2349360"/>
            <a:ext cx="669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32A-A572-4A94-91C0-A0CF672F34A8}" type="slidenum">
              <a:t>17</a:t>
            </a:fld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ние 2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сновой конфликта романа  «Отцы и дети» являетс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.Ссора между П.П.Кирсановым  и Е.Базаровы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Конфликт, возникший между Е.В.Базаровым и Н.П.Кирсановы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3.Борьба буржуазно-дворянского либерализма и революционных демокра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4.Борьба между либеральными монархистами и народ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327-EA5A-4C77-A074-597FF5650AE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ние 3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поры героев романа «Отцы и дети» велись вокруг разных вопросов, волновавших общественную мысль России. Найдите лишне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.Об отношении к дворянскому культурному наслед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.Об искусстве, нау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3.О системе поведения человека, о нравственных принцип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.О положении рабочего кла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5.Об общественном долге, о воспита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0F46-1B8C-4269-9E54-1651B641A53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197000"/>
            <a:ext cx="6912000" cy="3751560"/>
          </a:xfrm>
          <a:prstGeom prst="rect">
            <a:avLst/>
          </a:prstGeom>
          <a:noFill/>
          <a:ln w="76320">
            <a:solidFill>
              <a:srgbClr val="a26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учить  видеть в тексте разницу авторского отношения к своим геро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вивать навыки составления портретных характеристик героев и их сопоставления (портретные детали, речь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ступки, отношение к народу..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делить основные моменты спора между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представителями разных социальных слоев, идеологических лагерей ( Базаровым и Кирсановыми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3CA-82DE-4333-88F5-4391CBF1F28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ние 4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Давая общую оценку политического содержания «Отцов и детей»,И.С.Тургенев писал: «Вся моя повесть направлена против …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.Пролетариата как передового кла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.Дворянства как передового кла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3.Крестьянства как передового кла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.Революционных демократов как передового кла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43A2-86AF-4631-92EA-AE263CE8041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ние 5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.На какие круги русского общества возлагает надежды Е.Базар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1.Крестьянств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2.Дворянскую аристократ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3.Русское патриархальное дворян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4.Интеллиген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8757-89A3-4839-A04D-A5397E3A0AD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Домашнее задание</a:t>
            </a: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ыпишите  из романа цитаты, которые объясняют  отношение  главных героев к любви и  ее месту в жизни челове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асскажите об А. Одинцов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3E0B-6AD5-4930-823E-D69293084444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26d18"/>
                </a:solidFill>
                <a:latin typeface="Times New Roman"/>
              </a:rPr>
              <a:t>1. Сбор материала по героям </a:t>
            </a:r>
            <a:br>
              <a:rPr sz="2000"/>
            </a:br>
            <a:r>
              <a:rPr b="1" lang="en-US" sz="2000" spc="-1" strike="noStrike">
                <a:solidFill>
                  <a:srgbClr val="a26d18"/>
                </a:solidFill>
                <a:latin typeface="Times New Roman"/>
              </a:rPr>
              <a:t>(развернутый лист на каждого героя)</a:t>
            </a:r>
            <a:endParaRPr b="1" lang="en-US" sz="20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95280" y="1773360"/>
          <a:ext cx="8497800" cy="4856040"/>
        </p:xfrm>
        <a:graphic>
          <a:graphicData uri="http://schemas.openxmlformats.org/drawingml/2006/table">
            <a:tbl>
              <a:tblPr/>
              <a:tblGrid>
                <a:gridCol w="1800360"/>
                <a:gridCol w="1871640"/>
                <a:gridCol w="4825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довательность матери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чий матери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ЗАРОВ Е.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Внеш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picture" descr=""/>
          <p:cNvPicPr/>
          <p:nvPr/>
        </p:nvPicPr>
        <p:blipFill>
          <a:blip r:embed="rId1"/>
          <a:srcRect l="0" t="0" r="0" b="7429"/>
          <a:stretch/>
        </p:blipFill>
        <p:spPr>
          <a:xfrm>
            <a:off x="7164360" y="333360"/>
            <a:ext cx="1584360" cy="1800360"/>
          </a:xfrm>
          <a:prstGeom prst="rect">
            <a:avLst/>
          </a:prstGeom>
          <a:ln w="38160">
            <a:solidFill>
              <a:srgbClr val="000000"/>
            </a:solidFill>
            <a:round/>
          </a:ln>
        </p:spPr>
      </p:pic>
      <p:sp>
        <p:nvSpPr>
          <p:cNvPr id="127" name=""/>
          <p:cNvSpPr/>
          <p:nvPr/>
        </p:nvSpPr>
        <p:spPr>
          <a:xfrm>
            <a:off x="4284720" y="2924280"/>
            <a:ext cx="4176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еловек «высокого роста в длинном балахоне с кистя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.П. Кирсанов крепко стиснул его обнаженную красную рук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цо «длинное и худое, с широким лбом, сверху плоским, книзу заостренным носом, большими зеленоватыми глазами и висячими бакенбардами  песочного цвету… оживилось спокойной улыбкой  и выражало самоуверенность и ум» (гл.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A91-B6E9-4BB6-A4A0-4D2F0AA80648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476280"/>
          <a:ext cx="8229600" cy="5970240"/>
        </p:xfrm>
        <a:graphic>
          <a:graphicData uri="http://schemas.openxmlformats.org/drawingml/2006/table">
            <a:tbl>
              <a:tblPr/>
              <a:tblGrid>
                <a:gridCol w="1162080"/>
                <a:gridCol w="2305080"/>
                <a:gridCol w="4762440"/>
              </a:tblGrid>
              <a:tr h="22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Происхо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Воспит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95280" y="2565360"/>
            <a:ext cx="41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620640"/>
            <a:ext cx="417672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отца небольшое именьице. Он прежде всего толковый доктор (гл.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Мой  дед землю пахал» (гл.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2924280"/>
            <a:ext cx="4176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«Всякий человек сам себя  воспитать должен – ну хоть как я, например». (гл.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«- Скажи,… тебя в детстве не притесня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ы видишь, какие у меня родители. Народ не строгий.» (гл 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E073-82C8-4E6B-9ADA-5C31BC5F9931}" type="slidenum">
              <a:t>4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457200" y="765000"/>
          <a:ext cx="8229600" cy="5472000"/>
        </p:xfrm>
        <a:graphic>
          <a:graphicData uri="http://schemas.openxmlformats.org/drawingml/2006/table">
            <a:tbl>
              <a:tblPr/>
              <a:tblGrid>
                <a:gridCol w="1162080"/>
                <a:gridCol w="2305080"/>
                <a:gridCol w="4762440"/>
              </a:tblGrid>
              <a:tr h="31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Обра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Общественно- политические взгля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067280" y="981000"/>
            <a:ext cx="4176720" cy="30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Главный предмет его- естественные науки. Да он все знает. Он в будущем году хочет держать на доктора» (гл. 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Он скучает без работы» (гл. 1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…Базаров умен и знающ» (гл 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5640" y="4100400"/>
            <a:ext cx="4176720" cy="27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Аристократизм, либерализм, прогресс, принципы…подумаешь, сколько иностранных и бесполезных слов! Русскому человеку они даром не нужны» (гл. 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F59C-0441-4E76-B3CA-6D5088CA3609}" type="slidenum">
              <a:t>5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611280" y="1341360"/>
          <a:ext cx="8086680" cy="5184720"/>
        </p:xfrm>
        <a:graphic>
          <a:graphicData uri="http://schemas.openxmlformats.org/drawingml/2006/table">
            <a:tbl>
              <a:tblPr/>
              <a:tblGrid>
                <a:gridCol w="1019160"/>
                <a:gridCol w="2305080"/>
                <a:gridCol w="4762440"/>
              </a:tblGrid>
              <a:tr h="15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Отношение к окружающ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заров встал утром рано(не как баре), со слугами разговаривает без барского то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Отношение окружающих  к Базаров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няшу не могло не привлечь, что Базаров обратился к ней на «Вы» и спросил её о здоровье.  Фенечка чувствует себя с Базаровым тоже свобод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Речь, лекс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речи Базарова характерны простота, меткость и точность выражений, обилие народных пословиц, поговорок (песенка  спета; слыхали мы эту песню много раз…,туда и дорога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050920" y="765000"/>
            <a:ext cx="59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ПОЛНИТЕ ТАБЛИЦУ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D8A-F183-48E4-ADCA-5B7396C0E5D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Взаимоотношение Базарова с Н.П. и П.П. Кирсановым, народом. </a:t>
            </a:r>
            <a:br>
              <a:rPr sz="4000"/>
            </a:b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(работа с текстом)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987640" y="3212640"/>
            <a:ext cx="216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059280" y="3573000"/>
            <a:ext cx="20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4005360"/>
            <a:ext cx="20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59280" y="4149720"/>
            <a:ext cx="21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4221000"/>
            <a:ext cx="2089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4292640"/>
            <a:ext cx="21603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62064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35733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3860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АЗ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2720" y="2924280"/>
            <a:ext cx="2158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.П. Кирс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3429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.П. Кирс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19640" y="4149720"/>
            <a:ext cx="259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ркадий Кирс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465300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инц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530064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тников, Кук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5803920"/>
            <a:ext cx="194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FC3-BF41-44BB-9255-0388A99FBB38}" type="slidenum">
              <a:t>7</a:t>
            </a:fld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ние по тексту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1700280"/>
            <a:ext cx="64090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ратко назвать основные события, описанные  в 5-11 г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акой основной общественный конфликт  лежит в основе рома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 столкновении каких героев он  раскрывается наиболее отчетлив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256-153B-4BE4-BBB2-5E6088EE8DC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Базаров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1663" r="0" b="0"/>
          <a:stretch/>
        </p:blipFill>
        <p:spPr>
          <a:xfrm>
            <a:off x="611280" y="1916280"/>
            <a:ext cx="2935080" cy="4248000"/>
          </a:xfrm>
          <a:prstGeom prst="rect">
            <a:avLst/>
          </a:prstGeom>
          <a:ln w="38160">
            <a:solidFill>
              <a:srgbClr val="f9d793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4284720" y="2276640"/>
            <a:ext cx="4319640" cy="2837160"/>
          </a:xfrm>
          <a:prstGeom prst="rect">
            <a:avLst/>
          </a:prstGeom>
          <a:noFill/>
          <a:ln w="76320">
            <a:solidFill>
              <a:srgbClr val="a26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то подчеркнул автор в портрете  Базарова?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то дает портрет для понимания  характера этого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020-19ED-481B-89BE-1DDCD4C66D7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2:06:16Z</dcterms:created>
  <dc:creator>AVG</dc:creator>
  <dc:description/>
  <dc:language>en-US</dc:language>
  <cp:lastModifiedBy>Харитонова Н.Н.</cp:lastModifiedBy>
  <dcterms:modified xsi:type="dcterms:W3CDTF">2007-10-25T08:45:42Z</dcterms:modified>
  <cp:revision>69</cp:revision>
  <dc:subject/>
  <dc:title>Урок по  творчеству И.С. Тургенева</dc:title>
</cp:coreProperties>
</file>