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0A4-A707-4FFA-A234-68DA0CE5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89D-2764-4BD6-B2D2-B59D14C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362-E884-4E3E-B47A-C8AF95A7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9A1-72CA-4FF4-8801-1FEC99DD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1B35-32DB-47DD-882F-2BE50FF2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8440-D653-491D-820F-0A1C581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D452-7E10-475F-A379-C27D7E7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F447-9D24-4E45-A9CD-7934370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B5C-3FCA-4F0C-B502-FAE678E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C94-EE88-4E4D-BE60-B89577C7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698B-5B2D-4872-B3FB-021CFBF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782-08C7-48F9-92C2-0E6C3A3C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AFC-2C5E-4314-A4C8-28C3AC7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48C-66C0-4DCB-933D-BA8F7DBC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1CC-D232-4DEF-BA74-44F7A2B6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D9D-F575-4D1D-860B-3861CE7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B1E9-4C29-4E31-BAF6-9CC4E876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244-F3A9-4B47-B4FE-3796FA2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292-D7DB-4577-841A-A22ADAB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2A9-2A5B-4163-8E80-08FA238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FC7-9A6A-44A5-ACCB-054D4C5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3C9-1BD5-43DF-9C61-DB78474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2AD-E424-4712-B262-0A34B50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C3A-49EE-4CFD-AD1D-E6393CE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872-97FF-47FB-9884-06EEF5E56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0E5-8811-4421-9029-6024F4CC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Урок по  творчеству И.С. Тургенева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3765600"/>
            <a:ext cx="798984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Идейные разногласия  Базарова и Кирсановых старших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. 5-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C33C-3A06-4952-BDB8-4D034236FC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.П. Кирсан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708280"/>
            <a:ext cx="2735280" cy="155700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чувствуется в портрете Павла Петров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871800" cy="4464000"/>
          </a:xfrm>
          <a:prstGeom prst="rect">
            <a:avLst/>
          </a:prstGeom>
          <a:ln w="57240">
            <a:solidFill>
              <a:srgbClr val="a26d18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669-54CA-4C06-85A9-6F658BC588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692280"/>
            <a:ext cx="7848360" cy="3728880"/>
          </a:xfrm>
          <a:prstGeom prst="rect">
            <a:avLst/>
          </a:prstGeom>
          <a:noFill/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 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онимают НИГИЛИЗМ  отцы и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.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Как  относится  Базаров к ИСКУС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итайте его афориз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реагирует  на его слова  Аркад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7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9d79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C2A-3556-4A82-B153-B7D9CB51865D}" type="slidenum">
              <a:t>11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Нигилизм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отрицание общепринятых ценностей: идеалов, моральных норм, культуры, форм общественн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ой энциклопедический 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безобразное  и безнравственное учение, отвергающее всё, чего нельзя ощущать. »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.Д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гилизм- «голое отрицание всего, логически неоправданный скептициз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Толковый словарь русского язы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93D-2E04-4F87-920E-2AC741266E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"Но не любить природу, музыку?"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268280"/>
            <a:ext cx="2799000" cy="381636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3003480" cy="166680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2519280" cy="3355920"/>
          </a:xfrm>
          <a:prstGeom prst="rect">
            <a:avLst/>
          </a:prstGeom>
          <a:ln w="9360">
            <a:solidFill>
              <a:srgbClr val="a26d18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30D-819C-4EFA-9A6D-BA18BA353CB5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734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ИСТОРИЯ ЖИЗНИ ПАВЛА ПЕТРОВИЧ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 какой целью  Аркадий рассказывает  биографию дяд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оспринимает ее Базар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рна ли фраза Аркадия, что Павел Петрович « скорее сожаления достоин, чем насмешки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EEB-C9E3-47E7-B5A5-A3F5DDF541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Глава 10.</a:t>
            </a:r>
            <a:br>
              <a:rPr sz="3200"/>
            </a:b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Идеологический конфликт  между  Базаровым и Кирсановыми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линии спор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дворянству, аристократии и ее принцип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принципе деятельности ниги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б отношении к на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О взглядах на прир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EB7-390A-4CDD-B601-10A619F3F1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50920" y="1700280"/>
          <a:ext cx="8713800" cy="5064120"/>
        </p:xfrm>
        <a:graphic>
          <a:graphicData uri="http://schemas.openxmlformats.org/drawingml/2006/table">
            <a:tbl>
              <a:tblPr/>
              <a:tblGrid>
                <a:gridCol w="3728880"/>
                <a:gridCol w="2492280"/>
                <a:gridCol w="249264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сано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Отношение к дворянству, аристократ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нцип деятель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илис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Отношение к на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згляды на искусст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гляды на приро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26d18"/>
                </a:solidFill>
                <a:latin typeface="Times New Roman"/>
              </a:rPr>
              <a:t>Заполните таблицу: «Основные линии спора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8DC-C7C4-4943-B528-1FD06BA29CE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Закрепление по теме</a:t>
            </a:r>
            <a:br>
              <a:rPr sz="3200"/>
            </a:b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 Тест по роману  И.С.Тургенева «Отцы и дети»</a:t>
            </a:r>
            <a:br>
              <a:rPr sz="32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</a:t>
            </a: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Кому адресовано посвящение романа «Отцы и дети»: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1.А.И.Герцен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2.В.Г.Белинском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3.Н.А.Некрасову</a:t>
            </a:r>
            <a:br>
              <a:rPr sz="2000"/>
            </a:br>
            <a:r>
              <a:rPr b="0" i="1" lang="en-US" sz="2000" spc="-1" strike="noStrike">
                <a:solidFill>
                  <a:srgbClr val="a26d18"/>
                </a:solidFill>
                <a:latin typeface="Times New Roman"/>
              </a:rPr>
              <a:t>4.Другому лицу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34936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14-5454-43A3-A438-9D530C1C8684}" type="slidenum">
              <a:t>17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2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ой конфликта романа  «Отцы и дети» являе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Ссора между П.П.Кирсановым  и Е.Базаров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Конфликт, возникший между Е.В.Базаровым и Н.П.Кирсанов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Борьба буржуазно-дворянского либерализма и революционных демокр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Борьба между либеральными монархистами и наро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C5F-3E46-4D49-8E5B-EFEE591A50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3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Об отношении к дворянскому культурному наслед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Об искусстве, нау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О системе поведения человека, о нравственных принцип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О положении рабоче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.Об общественном долге, о воспит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BBF-2085-4650-B9BC-35998A89E2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197000"/>
            <a:ext cx="6912000" cy="37515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ить  видеть в тексте разницу авторского отношения к своим геро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навыки составления портретных характеристик героев и их сопоставления (портретные детали, речь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ки, отношение к народу..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делить основные моменты спора между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едставителями разных социальных слоев, идеологических лагерей ( Базаровым и Кирсановыми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6EA-94CD-44F5-BBF5-EA497C51426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4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авая общую оценку политического содержания «Отцов и детей»,И.С.Тургенев писал: «Вся моя повесть направлена против 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Пролетариат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Дворянства как передово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Крестьянства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Революционных демократов как передового кла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8A0-C8AC-4060-A543-F5F5B6C5DDD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5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На какие круги русского общества возлагает надежды Е.База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.Крестьян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.Дворянскую аристократ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Русское патриархальное дворян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Интеллиген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DA8-0353-48A2-B0BA-41161E2C7A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ишите  из романа цитаты, которые объясняют  отношение  главных героев к любви и  ее месту в жизни 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скажите об А. Одинцов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A71-5C3E-4838-AFCB-E2AA94C7A4D4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1. Сбор материала по героям </a:t>
            </a:r>
            <a:br>
              <a:rPr sz="2000"/>
            </a:br>
            <a:r>
              <a:rPr b="1" lang="en-US" sz="2000" spc="-1" strike="noStrike">
                <a:solidFill>
                  <a:srgbClr val="a26d18"/>
                </a:solidFill>
                <a:latin typeface="Times New Roman"/>
              </a:rPr>
              <a:t>(развернутый лист на каждого героя)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773360"/>
          <a:ext cx="8497800" cy="485604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4825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сть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Е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Внеш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" descr=""/>
          <p:cNvPicPr/>
          <p:nvPr/>
        </p:nvPicPr>
        <p:blipFill>
          <a:blip r:embed="rId1"/>
          <a:srcRect l="0" t="0" r="0" b="7429"/>
          <a:stretch/>
        </p:blipFill>
        <p:spPr>
          <a:xfrm>
            <a:off x="7164360" y="333360"/>
            <a:ext cx="1584360" cy="18003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127" name=""/>
          <p:cNvSpPr/>
          <p:nvPr/>
        </p:nvSpPr>
        <p:spPr>
          <a:xfrm>
            <a:off x="4284720" y="2924280"/>
            <a:ext cx="4176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ловек «высокого роста в длинном балахоне с кист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.П. Кирсанов крепко стиснул его обнаженную красную ру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цо «длинное и худое, с широким лбом, сверху плоским, книзу заостренным носом, большими зеленоватыми глазами и висячими бакенбардами  песочного цвету… оживилось спокойной улыбкой  и выражало самоуверенность и ум» (гл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93D-C903-4D8C-9805-B970D90956C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476280"/>
          <a:ext cx="8229600" cy="597024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22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исх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ос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95280" y="256536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620640"/>
            <a:ext cx="41767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отца небольшое именьице. Он прежде всего толковый доктор (гл.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й  дед землю пахал» (гл.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924280"/>
            <a:ext cx="4176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«Всякий человек сам себя  воспитать должен – ну хоть как я, например». (гл.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«- Скажи,… тебя в детстве не притесня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ы видишь, какие у меня родители. Народ не строгий.» (гл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6BB-BA4F-4521-82B9-D7134164C340}" type="slidenum">
              <a:t>4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57200" y="765000"/>
          <a:ext cx="8229600" cy="5472000"/>
        </p:xfrm>
        <a:graphic>
          <a:graphicData uri="http://schemas.openxmlformats.org/drawingml/2006/table">
            <a:tbl>
              <a:tblPr/>
              <a:tblGrid>
                <a:gridCol w="1162080"/>
                <a:gridCol w="2305080"/>
                <a:gridCol w="4762440"/>
              </a:tblGrid>
              <a:tr h="31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Общественно- политические взгля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067280" y="981000"/>
            <a:ext cx="417672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Главный предмет его- естественные науки. Да он все знает. Он в будущем году хочет держать на доктора» (гл. 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н скучает без работы» (гл. 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…Базаров умен и знающ» (гл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4100400"/>
            <a:ext cx="417672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Аристократизм, либерализм, прогресс, принципы…подумаешь, сколько иностранных и бесполезных слов! Русскому человеку они даром не нужны» (гл.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87B-C662-4A47-B655-F9697B978A15}" type="slidenum">
              <a:t>5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11280" y="1341360"/>
          <a:ext cx="8086680" cy="5184720"/>
        </p:xfrm>
        <a:graphic>
          <a:graphicData uri="http://schemas.openxmlformats.org/drawingml/2006/table">
            <a:tbl>
              <a:tblPr/>
              <a:tblGrid>
                <a:gridCol w="1019160"/>
                <a:gridCol w="2305080"/>
                <a:gridCol w="476244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тношение к окружаю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ров встал утром рано(не как баре), со слугами разговаривает без барского то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тношение окружающих  к Базаро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няшу не могло не привлечь, что Базаров обратился к ней на «Вы» и спросил её о здоровье.  Фенечка чувствует себя с Базаровым тоже свобод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Речь, лекс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ечи Базарова характерны простота, меткость и точность выражений, обилие народных пословиц, поговорок (песенка  спета; слыхали мы эту песню много раз…,туда и дорога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50920" y="76500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Е ТАБЛИЦУ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BC3-FCD8-478C-8B7C-00281C1C91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заимоотношение Базарова с Н.П. и П.П. Кирсановым, народом. </a:t>
            </a:r>
            <a:br>
              <a:rPr sz="40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(работа с текстом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87640" y="3212640"/>
            <a:ext cx="216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59280" y="3573000"/>
            <a:ext cx="20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05360"/>
            <a:ext cx="20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4149720"/>
            <a:ext cx="21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4221000"/>
            <a:ext cx="2089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292640"/>
            <a:ext cx="2160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620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3573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З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924280"/>
            <a:ext cx="215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.П.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4149720"/>
            <a:ext cx="25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кадий Кирс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465300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инц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530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тников, Кук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803920"/>
            <a:ext cx="194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B19-882C-4BC8-8548-5C89109617AC}" type="slidenum">
              <a:t>7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ние по текст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700280"/>
            <a:ext cx="6409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атко назвать основные события, описанные  в 5-11 г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ой основной общественный конфликт  лежит в основе рома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толкновении каких героев он  раскрывается наиболее отчетли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D27-0391-4F10-A35B-BAD71488DF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азаров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663" r="0" b="0"/>
          <a:stretch/>
        </p:blipFill>
        <p:spPr>
          <a:xfrm>
            <a:off x="611280" y="1916280"/>
            <a:ext cx="2935080" cy="4248000"/>
          </a:xfrm>
          <a:prstGeom prst="rect">
            <a:avLst/>
          </a:prstGeom>
          <a:ln w="38160">
            <a:solidFill>
              <a:srgbClr val="f9d793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284720" y="2276640"/>
            <a:ext cx="4319640" cy="283716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подчеркнул автор в портрете  Базарова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 дает портрет для понимания  характера этого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236-FCD9-4E40-9AC6-803778AAB9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6:16Z</dcterms:created>
  <dc:creator>AVG</dc:creator>
  <dc:description/>
  <dc:language>en-US</dc:language>
  <cp:lastModifiedBy>Харитонова Н.Н.</cp:lastModifiedBy>
  <dcterms:modified xsi:type="dcterms:W3CDTF">2007-10-25T08:45:42Z</dcterms:modified>
  <cp:revision>69</cp:revision>
  <dc:subject/>
  <dc:title>Урок по  творчеству И.С. Тургенева</dc:title>
</cp:coreProperties>
</file>