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D7E-EBC4-40C3-AA07-CA0367FD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990-2559-47D8-A37A-31F293C8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8FD-A2FA-49D7-A68D-A5FD72CF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587-6D58-4C11-B071-34DA915B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E93-97E7-42DC-88B0-83B6D946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3FD-7A07-4F2E-AF19-8E290E05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6606-FA8E-4674-B9EE-59E6B480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D91C-9711-4CCC-B78F-C99A14B3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047E-17CF-413A-B020-DDF51CEA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AA3C-4CA0-4E4C-98EF-BA2F6C4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7EF3-BD2B-4D54-80CD-7850116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833-72F3-4AFD-B68F-04F2EC3D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1EFB-6DA7-4FDA-9405-D10B7FF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7AE8-A8DB-4711-8CAD-589E4265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066A-64BD-4242-BA67-E805E98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5226-393A-4BE5-8AB8-5983A740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FD64-B2A8-47A8-950E-5F929865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1F0-17A4-4DA9-8B2A-429072CF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20B-3927-4DBA-9560-EDC070DA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30C-D29A-408F-A7F8-02ECEC71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D76-3298-4FB9-9F63-DCC4F064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988-6AEF-4305-8DAA-D66CB39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CFD-8107-4E23-B190-FD33B64C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F8B-0A7F-4BE5-9E28-9D29C3F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50B1-F757-4EA9-BE1A-6C4AB99C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4F3-9427-4E00-863E-88194AE7F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Урок по  творчеству И.С. Тургенева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3765600"/>
            <a:ext cx="798984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Идейные разногласия  Базарова и Кирсановых старши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. 5-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3038-DD4D-4DAE-A917-BEB18323B1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.П. Кирсан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708280"/>
            <a:ext cx="2735280" cy="1557000"/>
          </a:xfrm>
          <a:prstGeom prst="rect">
            <a:avLst/>
          </a:prstGeom>
          <a:noFill/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чувствуется в портрете Павла Петрови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871800" cy="4464000"/>
          </a:xfrm>
          <a:prstGeom prst="rect">
            <a:avLst/>
          </a:prstGeom>
          <a:ln w="57240">
            <a:solidFill>
              <a:srgbClr val="a26d1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2B6-8C7C-423F-83BC-A194367433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692280"/>
            <a:ext cx="7848360" cy="3728880"/>
          </a:xfrm>
          <a:prstGeom prst="rect">
            <a:avLst/>
          </a:prstGeom>
          <a:noFill/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. 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понимают НИГИЛИЗМ  отцы и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.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Как  относится  Базаров к ИСКУС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итайте его афориз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реагирует  на его слова  Аркад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d79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9d79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59F-B560-4267-9E50-235049FFA45B}" type="slidenum">
              <a:t>11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Нигилизм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отрицание общепринятых ценностей: идеалов, моральных норм, культуры, форм общественно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ой энциклопедический 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«безобразное  и безнравственное учение, отвергающее всё, чего нельзя ощущать. »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.ДА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«голое отрицание всего, логически неоправданный скептициз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Толковый словарь русского язы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BCE-F590-4EC2-8DBE-DB02EB457B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"Но не любить природу, музыку?"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268280"/>
            <a:ext cx="2799000" cy="381636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3003480" cy="166680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2519280" cy="335592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2692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101-B7B9-40D6-8BD0-CB55BC86AB22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3734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ИСТОРИЯ ЖИЗНИ ПАВЛА ПЕТРОВИЧ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 какой целью  Аркадий рассказывает  биографию дяд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воспринимает ее Базар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рна ли фраза Аркадия, что Павел Петрович « скорее сожаления достоин, чем насмешки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B6F-1372-4319-9EC6-3ED885594C5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Глава 10.</a:t>
            </a:r>
            <a:br>
              <a:rPr sz="3200"/>
            </a:b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Идеологический конфликт  между  Базаровым и Кирсановыми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линии спор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б отношении к дворянству, аристократии и ее принцип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принципе деятельности ниги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б отношении к нар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взглядах на искус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взглядах на прир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63E-523D-467E-A498-C523D22B8FE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50920" y="1700280"/>
          <a:ext cx="8713800" cy="5064120"/>
        </p:xfrm>
        <a:graphic>
          <a:graphicData uri="http://schemas.openxmlformats.org/drawingml/2006/table">
            <a:tbl>
              <a:tblPr/>
              <a:tblGrid>
                <a:gridCol w="3728880"/>
                <a:gridCol w="2492280"/>
                <a:gridCol w="249264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сано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Отношение к дворянству, аристократ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нцип деятель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илис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Отношение к наро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згляды на искусст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гляды на приро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Заполните таблицу: «Основные линии спора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862-A3F1-4CC4-B61C-9F0E7266A0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Закрепление по теме</a:t>
            </a:r>
            <a:br>
              <a:rPr sz="3200"/>
            </a:b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 Тест по роману  И.С.Тургенева «Отцы и дети»</a:t>
            </a:r>
            <a:br>
              <a:rPr sz="32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1.</a:t>
            </a: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Кому адресовано посвящение романа «Отцы и дети»: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1.А.И.Герцен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2.В.Г.Белинском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3.Н.А.Некрасов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4.Другому лицу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2349360"/>
            <a:ext cx="66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969-AD2A-4230-86CE-FD13D67D36F0}" type="slidenum">
              <a:t>17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2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ой конфликта романа  «Отцы и дети» являет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Ссора между П.П.Кирсановым  и Е.Базаров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Конфликт, возникший между Е.В.Базаровым и Н.П.Кирсанов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Борьба буржуазно-дворянского либерализма и революционных демокр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Борьба между либеральными монархистами и наро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2BC-5075-46A5-AE48-8E8BA47BE0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3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оры героев романа «Отцы и дети» велись вокруг разных вопросов, волновавших общественную мысль России. Найдите лишн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Об отношении к дворянскому культурному наслед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Об искусстве, нау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О системе поведения человека, о нравственных принцип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О положении рабоче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.Об общественном долге, о воспит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CCF-8E61-4255-BBFE-CE65FA6812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197000"/>
            <a:ext cx="6912000" cy="375156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учить  видеть в тексте разницу авторского отношения к своим геро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ть навыки составления портретных характеристик героев и их сопоставления (портретные детали, речь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тупки, отношение к народу..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делить основные моменты спора между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едставителями разных социальных слоев, идеологических лагерей ( Базаровым и Кирсановыми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959-5B64-4963-9561-DDADD102EDB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4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авая общую оценку политического содержания «Отцов и детей»,И.С.Тургенев писал: «Вся моя повесть направлена против 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Пролетариата как передово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Дворянства как передово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Крестьянства как передово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Революционных демократов как передово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B05-D53A-4292-AF33-4EE969FFEB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5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На какие круги русского общества возлагает надежды Е.Базар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.Крестьянст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.Дворянскую аристократ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.Русское патриархальное дворян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4.Интеллиген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1DB-E871-4195-A4E6-F7E8F327179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ишите  из романа цитаты, которые объясняют  отношение  главных героев к любви и  ее месту в жизни 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сскажите об А. Одинцов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1EF-CB9D-4513-8E95-EAE5A50F695A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1. Сбор материала по героям </a:t>
            </a:r>
            <a:br>
              <a:rPr sz="20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(развернутый лист на каждого героя)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773360"/>
          <a:ext cx="8497800" cy="485604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4825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сть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й матер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 Е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Внеш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" descr=""/>
          <p:cNvPicPr/>
          <p:nvPr/>
        </p:nvPicPr>
        <p:blipFill>
          <a:blip r:embed="rId1"/>
          <a:srcRect l="0" t="0" r="0" b="7429"/>
          <a:stretch/>
        </p:blipFill>
        <p:spPr>
          <a:xfrm>
            <a:off x="7164360" y="333360"/>
            <a:ext cx="1584360" cy="180036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127" name=""/>
          <p:cNvSpPr/>
          <p:nvPr/>
        </p:nvSpPr>
        <p:spPr>
          <a:xfrm>
            <a:off x="4284720" y="2924280"/>
            <a:ext cx="417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ловек «высокого роста в длинном балахоне с кист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.П. Кирсанов крепко стиснул его обнаженную красную рук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цо «длинное и худое, с широким лбом, сверху плоским, книзу заостренным носом, большими зеленоватыми глазами и висячими бакенбардами  песочного цвету… оживилось спокойной улыбкой  и выражало самоуверенность и ум» (гл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A6C-5BF3-4061-BB56-C2BD592738F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476280"/>
          <a:ext cx="8229600" cy="5970240"/>
        </p:xfrm>
        <a:graphic>
          <a:graphicData uri="http://schemas.openxmlformats.org/drawingml/2006/table">
            <a:tbl>
              <a:tblPr/>
              <a:tblGrid>
                <a:gridCol w="1162080"/>
                <a:gridCol w="2305080"/>
                <a:gridCol w="4762440"/>
              </a:tblGrid>
              <a:tr h="22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роисхо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ос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95280" y="256536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620640"/>
            <a:ext cx="41767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отца небольшое именьице. Он прежде всего толковый доктор (гл.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Мой  дед землю пахал» (гл.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924280"/>
            <a:ext cx="4176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«Всякий человек сам себя  воспитать должен – ну хоть как я, например». (гл.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«- Скажи,… тебя в детстве не притесня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ы видишь, какие у меня родители. Народ не строгий.» (гл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735-2B0A-4DBE-98F3-C755A0DD090A}" type="slidenum">
              <a:t>4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57200" y="765000"/>
          <a:ext cx="8229600" cy="5472000"/>
        </p:xfrm>
        <a:graphic>
          <a:graphicData uri="http://schemas.openxmlformats.org/drawingml/2006/table">
            <a:tbl>
              <a:tblPr/>
              <a:tblGrid>
                <a:gridCol w="1162080"/>
                <a:gridCol w="2305080"/>
                <a:gridCol w="4762440"/>
              </a:tblGrid>
              <a:tr h="31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Общественно- политические взгля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067280" y="981000"/>
            <a:ext cx="417672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Главный предмет его- естественные науки. Да он все знает. Он в будущем году хочет держать на доктора» (гл. 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н скучает без работы» (гл. 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…Базаров умен и знающ» (гл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5640" y="4100400"/>
            <a:ext cx="417672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Аристократизм, либерализм, прогресс, принципы…подумаешь, сколько иностранных и бесполезных слов! Русскому человеку они даром не нужны» (гл.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893-2488-4FE7-949B-45EAA38FE0B3}" type="slidenum">
              <a:t>5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11280" y="1341360"/>
          <a:ext cx="8086680" cy="5184720"/>
        </p:xfrm>
        <a:graphic>
          <a:graphicData uri="http://schemas.openxmlformats.org/drawingml/2006/table">
            <a:tbl>
              <a:tblPr/>
              <a:tblGrid>
                <a:gridCol w="1019160"/>
                <a:gridCol w="2305080"/>
                <a:gridCol w="4762440"/>
              </a:tblGrid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тношение к окружаю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 встал утром рано(не как баре), со слугами разговаривает без барского то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Отношение окружающих  к Базаро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няшу не могло не привлечь, что Базаров обратился к ней на «Вы» и спросил её о здоровье.  Фенечка чувствует себя с Базаровым тоже свобод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Речь, л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речи Базарова характерны простота, меткость и точность выражений, обилие народных пословиц, поговорок (песенка  спета; слыхали мы эту песню много раз…,туда и дорога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50920" y="76500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ОЛНИТЕ ТАБЛИЦУ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10A-5748-43FB-B0AC-3FD40EC5AC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заимоотношение Базарова с Н.П. и П.П. Кирсановым, народом. </a:t>
            </a:r>
            <a:br>
              <a:rPr sz="4000"/>
            </a:b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(работа с текстом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87640" y="3212640"/>
            <a:ext cx="216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59280" y="3573000"/>
            <a:ext cx="20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005360"/>
            <a:ext cx="20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4149720"/>
            <a:ext cx="21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422100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292640"/>
            <a:ext cx="2160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620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3573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38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АЗ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924280"/>
            <a:ext cx="215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.П.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342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.П.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4149720"/>
            <a:ext cx="25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кадий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465300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инц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530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тников, Кук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5803920"/>
            <a:ext cx="194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780-A3D0-4680-BDA5-4F1E1A84E2DC}" type="slidenum">
              <a:t>7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по текст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1700280"/>
            <a:ext cx="6409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атко назвать основные события, описанные  в 5-11 г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ой основной общественный конфликт  лежит в основе рома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столкновении каких героев он  раскрывается наиболее отчетли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9A4-1D9D-4C26-A362-6D335E8C42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азаров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663" r="0" b="0"/>
          <a:stretch/>
        </p:blipFill>
        <p:spPr>
          <a:xfrm>
            <a:off x="611280" y="1916280"/>
            <a:ext cx="2935080" cy="4248000"/>
          </a:xfrm>
          <a:prstGeom prst="rect">
            <a:avLst/>
          </a:prstGeom>
          <a:ln w="38160">
            <a:solidFill>
              <a:srgbClr val="f9d793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284720" y="2276640"/>
            <a:ext cx="4319640" cy="283716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подчеркнул автор в портрете  Базарова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дает портрет для понимания  характера этого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08E-7470-4C76-9922-BA0BA759AE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6:16Z</dcterms:created>
  <dc:creator>AVG</dc:creator>
  <dc:description/>
  <dc:language>en-US</dc:language>
  <cp:lastModifiedBy>Харитонова Н.Н.</cp:lastModifiedBy>
  <dcterms:modified xsi:type="dcterms:W3CDTF">2007-10-25T08:45:42Z</dcterms:modified>
  <cp:revision>69</cp:revision>
  <dc:subject/>
  <dc:title>Урок по  творчеству И.С. Тургенева</dc:title>
</cp:coreProperties>
</file>