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525-6D02-414A-9D26-C9BF2B5F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5BA-2E5B-43B5-A417-F9EF4D6E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1E3-D6DA-43D9-B748-A0E3F22E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5B1-7EA0-442E-B561-C732607C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663-2A08-496D-9429-7BE5901F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4E0-4DA9-409C-AEEC-7053FB2B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5E9-D9CF-44C7-A65B-B977B467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0E7-43EB-4FFC-83D4-A0C1D570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CE92-3B4A-45D7-89A0-0B244021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06B-458A-4133-8461-08A7EA6A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A13-F35C-4076-A63E-791C14F3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4C2-BD4F-4BC6-A44F-0532ADF1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12BD-582B-45B1-8EA1-1647C0A464CE}" type="slidenum">
              <a:rPr b="0" lang="ru-RU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Медианы, биссектрисы и высоты треугольника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рок 15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чертите     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MNK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постройте его медианы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В, КА,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МВ, КА,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С – медианы    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MNK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МВ </a:t>
            </a:r>
            <a:r>
              <a:rPr b="1" lang="ru-RU" sz="4000" spc="-1" strike="noStrike">
                <a:solidFill>
                  <a:srgbClr val="ff0066"/>
                </a:solidFill>
                <a:latin typeface="Symbol"/>
                <a:ea typeface="Symbol"/>
              </a:rPr>
              <a:t>З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КА </a:t>
            </a:r>
            <a:r>
              <a:rPr b="1" lang="ru-RU" sz="4000" spc="-1" strike="noStrike">
                <a:solidFill>
                  <a:srgbClr val="ff0066"/>
                </a:solidFill>
                <a:latin typeface="Symbol"/>
                <a:ea typeface="Symbol"/>
              </a:rPr>
              <a:t>З</a:t>
            </a:r>
            <a:r>
              <a:rPr b="1" i="1" lang="ru-RU" sz="40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С = О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10666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510552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4724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остройте треугольник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АВС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ведите биссектрису угла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точку пересечения биссектрисы с 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тиволежащей стороны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бозначьте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L.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8600" y="4191120"/>
            <a:ext cx="4572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BL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– биссектриса  АВС, </a:t>
            </a:r>
            <a:r>
              <a:rPr b="1" i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Р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LB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С,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где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О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С.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Отрезок биссектрисы угла треугольника, соединяющий вершину треугольника с точкой противоположной стороны, называется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биссектрисой треугольника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784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502920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чертите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F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 постройте его биссектрисы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N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K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F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DN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К,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FM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– биссектрисы    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DEF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DN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З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EK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З</a:t>
            </a:r>
            <a:r>
              <a:rPr b="1" i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FM</a:t>
            </a:r>
            <a:r>
              <a:rPr b="1" i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= О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10666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502920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505320" y="1371600"/>
            <a:ext cx="4419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Постройте треугольник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АВ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Проведите перпендикуляр АН из точки А к стороне ВС.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4114800"/>
            <a:ext cx="4800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АН – высота     АВС,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если АН </a:t>
            </a:r>
            <a:r>
              <a:rPr b="1" lang="en-US" sz="3600" spc="-1" strike="noStrike">
                <a:solidFill>
                  <a:srgbClr val="ff0066"/>
                </a:solidFill>
                <a:latin typeface="Symbol"/>
                <a:ea typeface="Symbol"/>
              </a:rPr>
              <a:t></a:t>
            </a: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 ВС,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Н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О</a:t>
            </a: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 ВС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: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Перпендикуляр, проведённый из вершины треугольника к прямой, содержащей противоположную сторону, называется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высотой треугольника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3695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00400" y="42670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чертите      АВС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 постройте его  высоты АН, ВР, СХ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АН, ВР, СХ – биссектрисы    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DEF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АН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З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ВР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З</a:t>
            </a:r>
            <a:r>
              <a:rPr b="1" i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СХ</a:t>
            </a:r>
            <a:r>
              <a:rPr b="1" i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= О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10666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525780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4419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114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стройте высоты прямоугольного и тупоугольного треугольников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2280" y="2895480"/>
            <a:ext cx="3971880" cy="2962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349880" y="838080"/>
            <a:ext cx="4356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стно решит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0 (а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з рабочей тетради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исьменно решит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05 (б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вести понятие перпендикуляра к прямой, медианы, биссектрисы и высоты треугольника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оказать теорему о перпендикуляр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учить строить медианы, биссектрисы и высоты треугольника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№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105 (б)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47676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№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106 (б)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640080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. 16, 17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1 уровень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- № 61, 62 из рабчей тетради, № 105(а) из учебник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2 уровень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- № 64, 65 из рабочей тетради, № 106(а), 100 из учебник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Ход урока.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гр. момент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верка домашнего задания. Повторение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нализ самостоятельной работы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чертите прямую </a:t>
            </a:r>
            <a:r>
              <a:rPr b="1" i="1" lang="en-US" sz="3200" spc="-1" strike="noStrike">
                <a:solidFill>
                  <a:srgbClr val="0000ff"/>
                </a:solidFill>
                <a:latin typeface="Georgia"/>
              </a:rPr>
              <a:t>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и отметьте точку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не лежащую на прямой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01028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Через точку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проведите прямую, перпендикулярную прямой </a:t>
            </a:r>
            <a:r>
              <a:rPr b="1" i="1" lang="en-US" sz="3200" spc="-1" strike="noStrike">
                <a:solidFill>
                  <a:srgbClr val="0000ff"/>
                </a:solidFill>
                <a:latin typeface="Georgia"/>
              </a:rPr>
              <a:t>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 Точку пересечения обозначьте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2844720"/>
            <a:ext cx="66294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0" y="304920"/>
            <a:ext cx="4114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Отрезок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АН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ерпендикуляр,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проведённый из точки А к прямой а, если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АН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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A </a:t>
            </a:r>
            <a:r>
              <a:rPr b="1" lang="ru-RU" sz="3200" spc="-1" strike="noStrike">
                <a:solidFill>
                  <a:srgbClr val="ff0066"/>
                </a:solidFill>
                <a:latin typeface="Symbol"/>
                <a:ea typeface="Symbol"/>
              </a:rPr>
              <a:t>П</a:t>
            </a:r>
            <a:r>
              <a:rPr b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a,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1" lang="ru-RU" sz="3200" spc="-1" strike="noStrike">
                <a:solidFill>
                  <a:srgbClr val="ff0066"/>
                </a:solidFill>
                <a:latin typeface="Symbol"/>
                <a:ea typeface="Symbol"/>
              </a:rPr>
              <a:t>О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Теорема о перпендикуляре: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Из точки, не лежащей .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на прямой, можно провести перпендикуляр к этой прямой и притом только один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ано: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а – прямая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0" lang="ru-RU" sz="3200" spc="-1" strike="noStrike">
                <a:solidFill>
                  <a:srgbClr val="0000ff"/>
                </a:solidFill>
                <a:latin typeface="Symbol"/>
                <a:ea typeface="Symbol"/>
              </a:rPr>
              <a:t>О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оказать: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из точки А к прямой а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можно  провести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перпендикуляр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из точки А к прямой а можно  провести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единственный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перпендикуляр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4038840" cy="3124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724280" y="990720"/>
            <a:ext cx="3886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Постройте треугольник АВС,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соедините вершину А с серединой 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противолежащей стороны М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240" y="3885840"/>
            <a:ext cx="4724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АМ</a:t>
            </a:r>
            <a:r>
              <a:rPr b="0" i="1" lang="en-US" sz="4000" spc="-1" strike="noStrike">
                <a:solidFill>
                  <a:srgbClr val="ff0066"/>
                </a:solidFill>
                <a:latin typeface="Times New Roman"/>
              </a:rPr>
              <a:t> – медиана  АВС, если ВМ = СМ,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0066"/>
                </a:solidFill>
                <a:latin typeface="Times New Roman"/>
              </a:rPr>
              <a:t>где М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О</a:t>
            </a:r>
            <a:r>
              <a:rPr b="0" i="1" lang="en-US" sz="4000" spc="-1" strike="noStrike">
                <a:solidFill>
                  <a:srgbClr val="ff0066"/>
                </a:solidFill>
                <a:latin typeface="Times New Roman"/>
              </a:rPr>
              <a:t>ВС.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Отрезок соединяющий вершину треугольника с серединой противолежащей стороны, называется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66"/>
                </a:solidFill>
                <a:latin typeface="Georgia"/>
              </a:rPr>
              <a:t>медианой треугольник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190760" cy="331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505320" y="419112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13-11-08T19:57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