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F29-6F53-4BD3-BDE0-E52F0AE9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5041-7979-4FD2-9BCA-A8FE80D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5F1-6C23-4270-AAD0-04CEAE76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6BA-2D5A-4E68-A4F0-D77DD31C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874-E34E-4A58-8DBF-F6494CE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005-CB8F-4F99-9800-C0A0FAE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2B5-EDF3-4651-9A23-99C319D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341-7CF7-4FE5-B6AA-4835C6AC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505-A02A-4D41-843C-F9F21A8C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30A-6379-4485-9F39-787145B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EDF-701F-4B39-8C2E-747476D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D68-6A19-4C07-8AC2-D8A36D0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0EAB-67EF-4D0F-9C24-00C86BBA2352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Медианы, биссектрисы и высоты треугольника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рок 15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MNK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 постройте его медианы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В, КА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, КА,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– медианы   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MNK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МВ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КА </a:t>
            </a:r>
            <a:r>
              <a:rPr b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40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С = О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1055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4724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ведите биссектрису угла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чку пересечения биссектрисы с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тиволежащей стороны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бозначьте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L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41911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B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– биссектриса  АВС, 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Р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B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где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биссектрисы угла треугольника, соединяющий вершину треугольника с точкой противоположной стороны, называется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биссектрисой треугольника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84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биссектрисы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N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K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,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N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EK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FM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50292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4419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АВС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ведите перпендикуляр АН из точки А к стороне ВС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АН – высота     АВС,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если АН </a:t>
            </a:r>
            <a:r>
              <a:rPr b="1" lang="en-US" sz="36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,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О</a:t>
            </a:r>
            <a:r>
              <a:rPr b="1" i="1" lang="ru-RU" sz="3200" spc="-1" strike="noStrike">
                <a:solidFill>
                  <a:srgbClr val="ff0066"/>
                </a:solidFill>
                <a:latin typeface="Georgia"/>
              </a:rPr>
              <a:t> ВС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Перпендикуляр, проведённый из вершины треугольника к прямой, содержащей противоположную сторону, называется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высотой треугольника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69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42670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ертите      АВС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 постройте его  высоты АН, ВР, СХ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, ВР, СХ – биссектрисы    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DEF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АН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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ВР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З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СХ</a:t>
            </a:r>
            <a:r>
              <a:rPr b="1" i="1" lang="ru-RU" sz="36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= О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06668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525780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419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114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стройте высоты прямоугольного и тупоугольного треугольников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971880" cy="2962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49880" y="838080"/>
            <a:ext cx="435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Уст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0 (а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 рабочей тетради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исьменно решит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5 (б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вести понятие перпендикуляра к прямой,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оказать теорему о перпендикуляре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учить строить медианы, биссектрисы и высоты треугольник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5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767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№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06 (б)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4008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. 16, 17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1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1, 62 из рабчей тетради, № 105(а)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2 уровень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- № 64, 65 из рабочей тетради, № 106(а), 100 из учеб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од урока.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гр. момент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верка домашнего задания. Повторение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самостоятельной работ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нового материала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чертите прямую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и отметьте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не лежащую на прямо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70102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ерез точку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проведите прямую, перпендикулярную прямой </a:t>
            </a:r>
            <a:r>
              <a:rPr b="1" i="1" lang="en-US" sz="3200" spc="-1" strike="noStrike">
                <a:solidFill>
                  <a:srgbClr val="0000ff"/>
                </a:solidFill>
                <a:latin typeface="Georgi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Точку пересечения обозначьте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2844720"/>
            <a:ext cx="66294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Отрезок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перпендикуляр,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проведённый из точки А к прямой а, если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АН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П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,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</a:t>
            </a:r>
            <a:r>
              <a:rPr b="1" lang="ru-RU" sz="32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Теорема о перпендикуляре: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Из точки, не лежащей 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на прямой, можно провести перпендикуляр к этой прямой и притом только один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но: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 – пряма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О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оказать: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можно  провести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из точки А к прямой а можно  провести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единственный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перпендикуляр;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038840" cy="312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24280" y="99072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остройте треугольник АВС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соедините вершину А с серединой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противолежащей стороны М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240" y="3885840"/>
            <a:ext cx="4724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АМ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– медиана  АВС, если ВМ = СМ,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где М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О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</a:rPr>
              <a:t>ВС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Отрезок соединяющий вершину треугольника с серединой противолежащей стороны, называетс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Georgia"/>
              </a:rPr>
              <a:t>медианой треугольника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19076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05320" y="4191120"/>
            <a:ext cx="22860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3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3-11-08T19:57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