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468-4560-4A75-AA2E-D13BBE27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765-A78B-4B96-BC86-0684A95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4B2-D9FE-4B9D-A502-2D8A51EE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DD4-AA70-4394-B85C-B2A443B2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014-9753-479F-B3B3-9C06790B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F9C-F1D9-4A0A-83AE-F87AE489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556-30EE-4FA9-A0A0-8FDA568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8770-46C3-4762-B058-F604ED6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38A-598F-437C-B66D-D7DBC9F3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DC7-0BD3-4783-B4B6-98B1E8F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EB2-7A30-48E3-A242-878C7E0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303-336D-40F6-9486-AA774EB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46D9-49B2-4A33-904A-79C13EE63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03.olx.ru/ui/1/97/72/41979572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Урок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05264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 приме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аксиом стер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и их следстви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10 из 68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0" y="4941720"/>
            <a:ext cx="13557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88000" y="549360"/>
            <a:ext cx="4356000" cy="59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уб АВСДА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колько точек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точек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лежат в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 которые пересекают прямую В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прямых, которые не пересекают прямую 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280" y="765000"/>
            <a:ext cx="21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333360"/>
            <a:ext cx="6481800" cy="2087640"/>
          </a:xfrm>
          <a:prstGeom prst="parallelogram">
            <a:avLst>
              <a:gd name="adj" fmla="val 77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98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203640" y="907920"/>
            <a:ext cx="4753080" cy="8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692280"/>
            <a:ext cx="309708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56000" y="620640"/>
            <a:ext cx="8636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1628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126828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10526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76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907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14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5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3068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пуски, чтобы получилось верное утвержд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3443400"/>
                <a:ext cx="576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3080" y="4724280"/>
                <a:ext cx="6586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С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60360" y="5380200"/>
                <a:ext cx="7343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М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t xml:space="preserve">М</m:t>
                    </m:r>
                    <m:r>
                      <m:t xml:space="preserve">∈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4000" y="4076640"/>
                <a:ext cx="5715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А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В</m:t>
                    </m:r>
                    <m:r>
                      <m:t xml:space="preserve">∈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645000"/>
            <a:ext cx="4968720" cy="1584360"/>
          </a:xfrm>
          <a:prstGeom prst="parallelogram">
            <a:avLst>
              <a:gd name="adj" fmla="val 784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59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Уст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47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6560" y="364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227664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1905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86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47280" y="364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15640" y="3645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4724280"/>
            <a:ext cx="3382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проходят через точку А, но не лежат в одной 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125360"/>
            <a:ext cx="345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жат ли прямые АА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АВ, АД в одной плос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9842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шит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адачи из учебного пособ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. 8    № 7, 10,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89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Работа учащихся на доске и в тетрад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557360"/>
            <a:ext cx="3240000" cy="32400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08000" y="40053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16000" y="4005360"/>
            <a:ext cx="792000" cy="79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557360"/>
            <a:ext cx="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724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205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1197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26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220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5280" y="2060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9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011480"/>
            <a:ext cx="360072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9840"/>
            <a:ext cx="4608720" cy="187164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63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4294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27000"/>
            <a:ext cx="4968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б АВСД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М лежит на ребре ВВ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жит на ребре СС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чка К лежит на ребре ДД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2560" y="507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и, в которых лежат точки М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568440"/>
            <a:ext cx="42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у пересечения прямых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С. Каким свойством обладает точ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41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чку пересечения прямой 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плоскост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843280" y="3141720"/>
            <a:ext cx="1512720" cy="237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71280" y="4797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954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йд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инию пересечения плоскостей 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и А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644640"/>
            <a:ext cx="576108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189000"/>
            <a:ext cx="6408720" cy="2376360"/>
          </a:xfrm>
          <a:prstGeom prst="parallelogram">
            <a:avLst>
              <a:gd name="adj" fmla="val 674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482920" y="549000"/>
            <a:ext cx="57636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59280" y="259920"/>
            <a:ext cx="1296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60280"/>
            <a:ext cx="647640" cy="18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2060280"/>
            <a:ext cx="251928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84360" y="260280"/>
            <a:ext cx="1873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49360"/>
            <a:ext cx="1944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0680" y="2421000"/>
                <a:ext cx="2508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0036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0461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64000" y="71136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0" y="2565000"/>
            <a:ext cx="914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348000" y="852480"/>
                <a:ext cx="262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64000" y="2637000"/>
                <a:ext cx="216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1840" y="4697280"/>
                <a:ext cx="248760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5440" y="3274920"/>
                <a:ext cx="5327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4581360"/>
                <a:ext cx="540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127400" y="5603760"/>
                <a:ext cx="33973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1280" y="3816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5280" y="1159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Формула для вычисления площади четырех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80000" y="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дач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692280"/>
            <a:ext cx="4608360" cy="2305080"/>
          </a:xfrm>
          <a:prstGeom prst="parallelogram">
            <a:avLst>
              <a:gd name="adj" fmla="val 499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9162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5640" y="126828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1268280"/>
            <a:ext cx="792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916280"/>
            <a:ext cx="792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95640" y="191592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1268280"/>
            <a:ext cx="165564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77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69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800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189000"/>
            <a:ext cx="41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то все вершины четырехугольника АВСД лежат в одной плоскости, если его диагонали АС и ВД пересек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лощадь четырехугольника, если 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ВД, АС = 10см, ВД = 12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3213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39942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(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∩ ВД) 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АС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ВД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        (А, В, С, Д )  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68360" y="4076640"/>
                <a:ext cx="28764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32360" y="4076640"/>
                <a:ext cx="2872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32000" y="407664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140360" y="407664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659640" y="4005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50920" y="4653000"/>
            <a:ext cx="80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АВ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А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90º = 10 · 12 = 120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551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08000" y="765000"/>
            <a:ext cx="73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нкты 1-3 прочи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задачи № 9;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полнительно № 11; 15 ( по желани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5:01:14Z</dcterms:created>
  <dc:creator>Зиновьевы</dc:creator>
  <dc:description/>
  <dc:language>en-US</dc:language>
  <cp:lastModifiedBy>ufssp</cp:lastModifiedBy>
  <dcterms:modified xsi:type="dcterms:W3CDTF">2011-04-14T14:05:21Z</dcterms:modified>
  <cp:revision>25</cp:revision>
  <dc:subject/>
  <dc:title>Слайд 1</dc:title>
</cp:coreProperties>
</file>