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559-2C55-42A1-916D-1DD67611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B24-E96F-4CF4-BA98-7354AC82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062-71CF-4427-9C6C-AE73B735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A07-13BD-43ED-8255-F5FF37DB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6CD-7737-4F1A-995A-5571CDDC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2FA-95FB-4747-8AFF-2DB03076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BCC-8102-40E6-871C-1D747AAF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E9C-850E-4047-BB27-5E71BCE1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91F-B219-4E0E-A348-0FC25912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996-ADD6-4733-9751-5CB8B6F3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C17-0787-409D-949D-7D0622FE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2D0-8ECC-426B-AC57-027239C4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1446-AA53-4754-B7D7-D3898FA1B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03.olx.ru/ui/1/97/72/41979572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Урок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1052640"/>
            <a:ext cx="7201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ешение 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а приме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аксиом стереомет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 их следстви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43" name="" descr="Картинка 10 из 68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4941720"/>
            <a:ext cx="1355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645000"/>
            <a:ext cx="4968720" cy="1584360"/>
          </a:xfrm>
          <a:prstGeom prst="parallelogram">
            <a:avLst>
              <a:gd name="adj" fmla="val 7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Уст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656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27664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1905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280" y="3645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15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549360"/>
            <a:ext cx="4356000" cy="59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уб АВСДА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йд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колько точек, которы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точек, которые н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, которы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, которые н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 которые пересекают прямую В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, которые не пересекают прямую 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Уст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280" y="765000"/>
            <a:ext cx="21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333360"/>
            <a:ext cx="6481800" cy="2087640"/>
          </a:xfrm>
          <a:prstGeom prst="parallelogram">
            <a:avLst>
              <a:gd name="adj" fmla="val 7762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198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203640" y="907920"/>
            <a:ext cx="4753080" cy="8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692280"/>
            <a:ext cx="309708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156000" y="620640"/>
            <a:ext cx="86364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1628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126828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1052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76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907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141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34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54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8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068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олн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пуски, чтобы получилось верное утверждени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3443400"/>
                <a:ext cx="5760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А</m:t>
                    </m:r>
                    <m:r>
                      <m:t xml:space="preserve">∈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а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3080" y="4724280"/>
                <a:ext cx="6586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А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В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С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60360" y="5380200"/>
                <a:ext cx="7343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М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М</m:t>
                    </m:r>
                    <m:r>
                      <m:t xml:space="preserve">∈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∩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4000" y="4076640"/>
                <a:ext cx="5715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А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В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А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3645000"/>
            <a:ext cx="4968720" cy="1584360"/>
          </a:xfrm>
          <a:prstGeom prst="parallelogram">
            <a:avLst>
              <a:gd name="adj" fmla="val 7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Уст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656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227664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11905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47280" y="3645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15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4724280"/>
            <a:ext cx="33829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ые А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АВ, АД проходят через точку А, но не лежат в одной плос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1125360"/>
            <a:ext cx="345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жат ли прямые А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АВ, АД в одной плос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98424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ешит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задачи из учебного пособ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. 8    № 7, 10,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1890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абота учащихся на доске и в тетрад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80000" y="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465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1197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220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2060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3068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393372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4011480"/>
            <a:ext cx="36007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2139840"/>
            <a:ext cx="4608720" cy="187164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2781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63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42940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27000"/>
            <a:ext cx="4968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б АВСД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М лежит на ребре В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жит на ребре С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очка К лежит на ребре ДД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2560" y="507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и, в которых лежат точки М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56844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ку пересечения прямых 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ВС. Каким свойством обладает точ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14191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чку пересечения прямой 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плоскости 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843280" y="3141720"/>
            <a:ext cx="1512720" cy="237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71280" y="479736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30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5229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19954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линию пересечения плоскостей 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и 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644640"/>
            <a:ext cx="5761080" cy="21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9640" y="189000"/>
            <a:ext cx="6408720" cy="2376360"/>
          </a:xfrm>
          <a:prstGeom prst="parallelogram">
            <a:avLst>
              <a:gd name="adj" fmla="val 674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482920" y="549000"/>
            <a:ext cx="57636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59280" y="259920"/>
            <a:ext cx="129672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60280"/>
            <a:ext cx="64764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484360" y="2060280"/>
            <a:ext cx="25192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84360" y="260280"/>
            <a:ext cx="18734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549360"/>
            <a:ext cx="19443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0680" y="2421000"/>
                <a:ext cx="25081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2700360" y="33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3236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0461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64000" y="711360"/>
                <a:ext cx="287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0" y="2565000"/>
            <a:ext cx="914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348000" y="852480"/>
                <a:ext cx="262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64000" y="2637000"/>
                <a:ext cx="2160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31840" y="4697280"/>
                <a:ext cx="248760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5440" y="3274920"/>
                <a:ext cx="5327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92360" y="4581360"/>
                <a:ext cx="5400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127400" y="5603760"/>
                <a:ext cx="33973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71280" y="381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5280" y="11592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Формула для вычисления площади четырех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80000" y="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692280"/>
            <a:ext cx="4608360" cy="2305080"/>
          </a:xfrm>
          <a:prstGeom prst="parallelogram">
            <a:avLst>
              <a:gd name="adj" fmla="val 499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1268280"/>
            <a:ext cx="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403280" y="1268280"/>
            <a:ext cx="79236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1916280"/>
            <a:ext cx="792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195640" y="1915920"/>
            <a:ext cx="1655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1268280"/>
            <a:ext cx="165564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7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17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98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693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162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189000"/>
            <a:ext cx="417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каж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что все вершины четырехугольника АВСД лежат в одной плоскости, если его диагонали АС и ВД пересек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числ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лощадь четырехугольника, если 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┴ВД, АС = 10см, ВД = 12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32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399420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(А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∩ ВД) 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АС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ВД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         (А, В, С, Д )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268360" y="4076640"/>
                <a:ext cx="28764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932360" y="4076640"/>
                <a:ext cx="28728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132000" y="4076640"/>
                <a:ext cx="287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40360" y="407664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659640" y="4005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50920" y="4653000"/>
            <a:ext cx="806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АВС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А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90º = 10 · 12 = 120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551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08000" y="765000"/>
            <a:ext cx="730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нкты 1-3 прочи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ть задачи № 9;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полнительно № 11; 15 ( по жел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5:01:14Z</dcterms:created>
  <dc:creator>Зиновьевы</dc:creator>
  <dc:description/>
  <dc:language>en-US</dc:language>
  <cp:lastModifiedBy>ufssp</cp:lastModifiedBy>
  <dcterms:modified xsi:type="dcterms:W3CDTF">2011-04-14T14:05:21Z</dcterms:modified>
  <cp:revision>25</cp:revision>
  <dc:subject/>
  <dc:title>Слайд 1</dc:title>
</cp:coreProperties>
</file>