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11.wmf" ContentType="image/x-wmf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93CA-8A37-4C52-AB10-89058CAD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4E2-F841-4EBF-8192-78263F01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9AE-9015-4891-8983-9F7AA1B9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0250-478B-4A77-8C87-F417528B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A400-6882-42E1-8CCD-0C79BBEA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395D-2D99-42C0-B764-CF714627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BC88-4712-4FC0-8849-9436E4FA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C4D0-D98A-42E7-B3E2-9595D42D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F501-A4BB-4669-9334-3ADF5EE8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C579-8984-4A5F-9A2A-88432712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ADB2-50A2-427C-B712-D2B269AD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8BE-8DFF-4A66-88AB-BB3929BE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6104-5762-4354-BE8B-E635BCC8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44F3-32C1-4581-AEEB-8508D643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F7DE-F4A9-40EF-9FEB-6F2974EF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9B20-6E8E-478E-A863-C74DF2C5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8622-1FA7-45A2-9E2C-5980DB0A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EA5BC-7849-4255-A74D-D320C85B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9A41D-C98D-4301-8F59-C163F15E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099A3-BADE-4378-824D-2982575C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7B7D2-1F21-496D-AD5E-18313CAB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34299-0E5B-476E-B253-42F6118B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B663-228D-4ABF-82C5-7E88FB83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6CE70-AB9A-41D1-8975-4109341C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5EE8F-A055-4D4F-84CA-BCAC895F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F697D-6FA0-482A-924D-3CDBA688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9121B-9A50-4D10-99B7-3A857004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54E45-EB14-4C87-BBF4-6018C285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1F151-FDF8-4AE2-B3D6-8C54231F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6E44F-6D9D-4EDB-B4AF-732E6508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86F6E-5DCE-4A0D-BE2A-B5FF210F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1EC5D-355D-49D7-AE2C-6A9C0ADB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01FC9-B64F-451A-8E07-F6BF2D21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262-8F5E-4DC6-B51F-ECC2193D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C5609-284A-4E25-9DB8-F9CDF5EC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00758-4784-442C-9DCD-4CFD6185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8B1BC-CB49-4A45-98B4-DF4B00DA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9A02D-AB32-42C1-8830-232F7FD1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9D9BE-EC01-4ACB-A37E-6623BE24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6748B-DD5C-4D0D-88EA-83B89769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FE47B-128F-45A3-AB3A-44D28B65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30A63-9CD0-48CB-B582-F3ED4442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57772-1747-42F9-9E15-5D33A1F2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2F88B-123E-4261-BDE7-6A9D84CB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1F6-E27E-438B-8818-0BB0F0A2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89F49-8007-42CC-8072-A35E151D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698F1-E2DC-4369-B127-5F019783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2C9E8-832E-47A4-934E-3B1D8120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600B0-D480-40A7-8492-73DA3E4A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02955-4681-40DA-8326-043F870C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3906E-7460-46AD-AF52-1B41CE9C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84DD9-D892-4692-A44A-351ADC6B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840C0-279C-440E-8821-798F7F07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8323B-0013-42A9-8225-1D74D298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01E3A-9F85-48BD-9AAB-A881BEE4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DAF-A342-49BC-9599-92F01428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B8680-CF2C-44B0-AF5C-2F7779A5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50265-D197-43E0-A5EB-F2B0E329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2A3FF-A777-4FCB-9ACB-97790115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68A4D-622B-4EA0-8603-38B24EB3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06CDF-201C-4A57-B715-12B31927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D6499-BD25-4C50-B0F1-23DF121A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C01CA-918B-438F-9873-4E7C3F30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647FD-1403-4FFD-ADD9-887FD026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57323-E8BA-4195-B112-E79940C9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5EF8F-5D4F-4D77-82D1-2AF72E95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64A5-ED4D-419B-A632-F5CFFB83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DDF90-0FF6-498E-9367-DA42B085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B6F2E-A98B-437D-AEE1-9CC74F3F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344B9-029A-43C3-9BFB-EC4C1192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69B2D-1B4F-41E3-AE80-9874C54F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ED389-46C5-4517-98B6-0F80D464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52DF3-FA29-415E-8950-73992C63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E7D24-D699-4C22-B5C3-72359E00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A4024-7814-430C-BF1A-ECAC619D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CD3BC-BDCD-446E-A503-B18DA2E3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8B3B9-3EC1-4FE3-8821-0566D49D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515-49CD-4E5A-8E4E-E0612DC0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A4A2A-F279-4DCF-8F10-163F9D8B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77586-17D4-4CE9-9A42-DF562AED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FEB55-31A4-46EC-89C1-B3673F01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1126B-30B7-4C4B-B369-8C930EAA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3A95E-CE5B-4C40-B5C8-87C8117A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458B-052E-43FF-88B6-284F210B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2DB7-FE03-4169-9F0D-2007ACFA771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E3C7-3A10-4E7F-9670-993D2C9C5A5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51C7-A0DB-41B0-BF48-CA10530B611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DE0C-F466-4DE5-9B65-D4211434140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4C62-BC4C-48F2-8CB0-65B526F7C49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A906-A975-41B5-824C-41B9FF9BE8F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9ACA-B5B1-40D7-9B63-5DE8278CA1E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nc.edu/~sbettez/Carnegie/images/socialr9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dou41.edu.yar.ru/images/ucheniki_w450_h468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Картинка 30 из 1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71800"/>
            <a:ext cx="4340160" cy="4286160"/>
          </a:xfrm>
          <a:prstGeom prst="rect">
            <a:avLst/>
          </a:prstGeom>
          <a:ln w="0">
            <a:noFill/>
          </a:ln>
        </p:spPr>
      </p:pic>
      <p:sp>
        <p:nvSpPr>
          <p:cNvPr id="319" name="Выноска со стрелкой вниз 3"/>
          <p:cNvSpPr/>
          <p:nvPr/>
        </p:nvSpPr>
        <p:spPr>
          <a:xfrm>
            <a:off x="2428920" y="428760"/>
            <a:ext cx="6357960" cy="714240"/>
          </a:xfrm>
          <a:prstGeom prst="downArrowCallout">
            <a:avLst>
              <a:gd name="adj1" fmla="val 24977"/>
              <a:gd name="adj2" fmla="val 118772"/>
              <a:gd name="adj3" fmla="val 25000"/>
              <a:gd name="adj4" fmla="val 6497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Учебная  мотивация школьни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A289-99EB-4EAA-AB77-FA99F7F37286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6"/>
          <p:cNvSpPr/>
          <p:nvPr/>
        </p:nvSpPr>
        <p:spPr>
          <a:xfrm>
            <a:off x="2643120" y="285840"/>
            <a:ext cx="4857840" cy="571320"/>
          </a:xfrm>
          <a:prstGeom prst="rec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МО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71" name="Прямая со стрелкой 11"/>
          <p:cNvCxnSpPr/>
          <p:nvPr/>
        </p:nvCxnSpPr>
        <p:spPr>
          <a:xfrm flipH="1">
            <a:off x="2714400" y="1000080"/>
            <a:ext cx="1286640" cy="28656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cxnSp>
        <p:nvCxnSpPr>
          <p:cNvPr id="372" name="Прямая со стрелкой 12"/>
          <p:cNvCxnSpPr/>
          <p:nvPr/>
        </p:nvCxnSpPr>
        <p:spPr>
          <a:xfrm>
            <a:off x="6000480" y="1000080"/>
            <a:ext cx="1143720" cy="35784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sp>
        <p:nvSpPr>
          <p:cNvPr id="373" name="Блок-схема: документ 10"/>
          <p:cNvSpPr/>
          <p:nvPr/>
        </p:nvSpPr>
        <p:spPr>
          <a:xfrm>
            <a:off x="1928880" y="164304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нутрен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Блок-схема: документ 14"/>
          <p:cNvSpPr/>
          <p:nvPr/>
        </p:nvSpPr>
        <p:spPr>
          <a:xfrm>
            <a:off x="5857920" y="164304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неш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5" name="Picture 2" descr="Картинка 30 из 187"/>
          <p:cNvPicPr/>
          <p:nvPr/>
        </p:nvPicPr>
        <p:blipFill>
          <a:blip r:embed="rId1"/>
          <a:stretch/>
        </p:blipFill>
        <p:spPr>
          <a:xfrm>
            <a:off x="6929280" y="2643120"/>
            <a:ext cx="1928880" cy="19051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428760" y="2571840"/>
            <a:ext cx="1755720" cy="2135160"/>
          </a:xfrm>
          <a:prstGeom prst="rect">
            <a:avLst/>
          </a:prstGeom>
          <a:ln w="38160">
            <a:solidFill>
              <a:srgbClr val="66ff66"/>
            </a:solidFill>
            <a:miter/>
          </a:ln>
        </p:spPr>
      </p:pic>
      <p:sp>
        <p:nvSpPr>
          <p:cNvPr id="377" name="Прямоугольник 13"/>
          <p:cNvSpPr/>
          <p:nvPr/>
        </p:nvSpPr>
        <p:spPr>
          <a:xfrm>
            <a:off x="2476800" y="2786040"/>
            <a:ext cx="197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амостоятельно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знавательно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бот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Прямоугольник 15"/>
          <p:cNvSpPr/>
          <p:nvPr/>
        </p:nvSpPr>
        <p:spPr>
          <a:xfrm>
            <a:off x="5111280" y="2786040"/>
            <a:ext cx="156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 оказан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мощ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зрослы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Прямоугольник 16"/>
          <p:cNvSpPr/>
          <p:nvPr/>
        </p:nvSpPr>
        <p:spPr>
          <a:xfrm>
            <a:off x="481680" y="5357880"/>
            <a:ext cx="35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терес к процессу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Прямоугольник 17"/>
          <p:cNvSpPr/>
          <p:nvPr/>
        </p:nvSpPr>
        <p:spPr>
          <a:xfrm>
            <a:off x="420480" y="4929120"/>
            <a:ext cx="37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терес к результату деятель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Прямоугольник 18"/>
          <p:cNvSpPr/>
          <p:nvPr/>
        </p:nvSpPr>
        <p:spPr>
          <a:xfrm>
            <a:off x="362880" y="5715000"/>
            <a:ext cx="30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ремление к саморазвити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Прямоугольник 19"/>
          <p:cNvSpPr/>
          <p:nvPr/>
        </p:nvSpPr>
        <p:spPr>
          <a:xfrm>
            <a:off x="285840" y="60721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витию каких-либо своих качеств, способност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Прямоугольник 20"/>
          <p:cNvSpPr/>
          <p:nvPr/>
        </p:nvSpPr>
        <p:spPr>
          <a:xfrm>
            <a:off x="5560560" y="4929120"/>
            <a:ext cx="304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уществляется в силу долг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Прямоугольник 21"/>
          <p:cNvSpPr/>
          <p:nvPr/>
        </p:nvSpPr>
        <p:spPr>
          <a:xfrm>
            <a:off x="4929120" y="535788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ди достижения определенного положения среди сверстни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Прямоугольник 22"/>
          <p:cNvSpPr/>
          <p:nvPr/>
        </p:nvSpPr>
        <p:spPr>
          <a:xfrm>
            <a:off x="5150880" y="6143760"/>
            <a:ext cx="34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з-за давления родных, учител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Номер слайда 19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96FF-1E4E-4DA3-B2D7-A95AD1AB5866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6"/>
          <p:cNvSpPr/>
          <p:nvPr/>
        </p:nvSpPr>
        <p:spPr>
          <a:xfrm>
            <a:off x="2786040" y="1071720"/>
            <a:ext cx="4857840" cy="571320"/>
          </a:xfrm>
          <a:prstGeom prst="rec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МО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88" name="Прямая со стрелкой 11"/>
          <p:cNvCxnSpPr/>
          <p:nvPr/>
        </p:nvCxnSpPr>
        <p:spPr>
          <a:xfrm flipH="1">
            <a:off x="2856960" y="1785960"/>
            <a:ext cx="1286280" cy="28656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cxnSp>
        <p:nvCxnSpPr>
          <p:cNvPr id="389" name="Прямая со стрелкой 12"/>
          <p:cNvCxnSpPr/>
          <p:nvPr/>
        </p:nvCxnSpPr>
        <p:spPr>
          <a:xfrm>
            <a:off x="6143400" y="1785960"/>
            <a:ext cx="1143720" cy="35784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sp>
        <p:nvSpPr>
          <p:cNvPr id="390" name="Блок-схема: документ 10"/>
          <p:cNvSpPr/>
          <p:nvPr/>
        </p:nvSpPr>
        <p:spPr>
          <a:xfrm>
            <a:off x="2071800" y="242892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достижение успех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Блок-схема: документ 14"/>
          <p:cNvSpPr/>
          <p:nvPr/>
        </p:nvSpPr>
        <p:spPr>
          <a:xfrm>
            <a:off x="6000840" y="242892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недопущение неудач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Номер слайда 9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ED46-8157-4436-AF3D-95D16F3DD555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Прямоугольник 13"/>
          <p:cNvSpPr/>
          <p:nvPr/>
        </p:nvSpPr>
        <p:spPr>
          <a:xfrm>
            <a:off x="5214960" y="3500280"/>
            <a:ext cx="3429000" cy="1191240"/>
          </a:xfrm>
          <a:prstGeom prst="rect">
            <a:avLst/>
          </a:prstGeom>
          <a:solidFill>
            <a:srgbClr val="7ec3d4"/>
          </a:solidFill>
          <a:ln w="9360">
            <a:solidFill>
              <a:srgbClr val="1c48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ебе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  самооценка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рие в возможность успех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Прямоугольник 15"/>
          <p:cNvSpPr/>
          <p:nvPr/>
        </p:nvSpPr>
        <p:spPr>
          <a:xfrm>
            <a:off x="1214280" y="3500280"/>
            <a:ext cx="3429000" cy="1191240"/>
          </a:xfrm>
          <a:prstGeom prst="rect">
            <a:avLst/>
          </a:prstGeom>
          <a:solidFill>
            <a:srgbClr val="7ec3d4"/>
          </a:solidFill>
          <a:ln w="9360">
            <a:solidFill>
              <a:srgbClr val="1c48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е эмоции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изация  внутренних ресурсов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редоточение внима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C:\мои документы\разное\МО\картинки ШКОЛА\attachment.jpg"/>
          <p:cNvPicPr/>
          <p:nvPr/>
        </p:nvPicPr>
        <p:blipFill>
          <a:blip r:embed="rId1"/>
          <a:stretch/>
        </p:blipFill>
        <p:spPr>
          <a:xfrm>
            <a:off x="1714680" y="2357280"/>
            <a:ext cx="6381720" cy="427068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оугольник 4"/>
          <p:cNvSpPr/>
          <p:nvPr/>
        </p:nvSpPr>
        <p:spPr>
          <a:xfrm>
            <a:off x="3000240" y="14292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b1d15"/>
                </a:solidFill>
                <a:latin typeface="Monotype Corsiva"/>
              </a:rPr>
              <a:t>"научиться учиться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A761-9E04-4910-BC8A-B8E4F6BAF6FF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1357200" y="862200"/>
            <a:ext cx="7358040" cy="1313640"/>
          </a:xfrm>
          <a:prstGeom prst="rect">
            <a:avLst/>
          </a:prstGeom>
          <a:solidFill>
            <a:srgbClr val="a9d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познавательный мотив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не только к новым знания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аже не только к общим закономерностя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именно к способам добывания новых знан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CD71-4C66-49E6-900F-3BB10F038ECE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Прямоугольник 5"/>
          <p:cNvSpPr/>
          <p:nvPr/>
        </p:nvSpPr>
        <p:spPr>
          <a:xfrm>
            <a:off x="1357200" y="4286160"/>
            <a:ext cx="6858000" cy="2286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 уровни - высокий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уровень – средний (норма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уровень – сниженный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Прямоугольник 6"/>
          <p:cNvSpPr/>
          <p:nvPr/>
        </p:nvSpPr>
        <p:spPr>
          <a:xfrm>
            <a:off x="1357200" y="1214280"/>
            <a:ext cx="6858000" cy="1785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о-познавательны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ционны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Прямоугольник 9"/>
          <p:cNvSpPr/>
          <p:nvPr/>
        </p:nvSpPr>
        <p:spPr>
          <a:xfrm>
            <a:off x="1500120" y="214200"/>
            <a:ext cx="6357960" cy="7858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Виды мотива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Прямоугольник 10"/>
          <p:cNvSpPr/>
          <p:nvPr/>
        </p:nvSpPr>
        <p:spPr>
          <a:xfrm>
            <a:off x="1428840" y="3214800"/>
            <a:ext cx="6357960" cy="7858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Уровни мотива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Номер слайда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BE55-3A71-40DC-9363-2DB646CF40F7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143000" y="285480"/>
            <a:ext cx="7429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тивация – это внутренняя психологическая характеристика личности, которая находит выражение во внешних проявлениях, в отношении человека к окружающему миру, различным видам деятельно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4" descr="Картинка 43 из 1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71880" y="3500280"/>
            <a:ext cx="3000240" cy="3117960"/>
          </a:xfrm>
          <a:prstGeom prst="rect">
            <a:avLst/>
          </a:prstGeom>
          <a:ln w="0">
            <a:noFill/>
          </a:ln>
        </p:spPr>
      </p:pic>
      <p:sp>
        <p:nvSpPr>
          <p:cNvPr id="323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F5CB-421F-41AF-808D-4EB76571716C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434960" y="285480"/>
            <a:ext cx="749952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203"/>
                </a:solidFill>
                <a:latin typeface="Corbel"/>
              </a:rPr>
              <a:t>Деятельность без мотива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ли со слабым мотивом либо не </a:t>
            </a:r>
            <a:r>
              <a:rPr b="0" lang="ru-RU" sz="3200" spc="-1" strike="noStrike">
                <a:solidFill>
                  <a:srgbClr val="4b2203"/>
                </a:solidFill>
                <a:latin typeface="Corbel"/>
              </a:rPr>
              <a:t>осуществляется вообще, либо оказывается крайне неустойчивой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От того, как чувствует себя ученик в определённой ситуации, зависит объём усилий, которые он прилагает в своей учёбе. Поэтому важно, чтобы весь </a:t>
            </a:r>
            <a:r>
              <a:rPr b="0" i="1" lang="ru-RU" sz="3200" spc="-1" strike="noStrike">
                <a:solidFill>
                  <a:srgbClr val="611617"/>
                </a:solidFill>
                <a:latin typeface="Corbel"/>
              </a:rPr>
              <a:t>процесс обучения вызывал у ребенка интенсивное и внутреннее побуждение к знаниям, напряженному умственному труд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EF38-3AC4-44B2-8A3B-CD69E2EB34B1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285560" y="2854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Учебная деятельность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это такая деятельность, которая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оворачивает ребенка на самого себя,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ребует рефлексии, оценки того, "чем я был" и "чем я стал"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2" descr="Картинка 6 из 187"/>
          <p:cNvPicPr/>
          <p:nvPr/>
        </p:nvPicPr>
        <p:blipFill>
          <a:blip r:embed="rId1"/>
          <a:stretch/>
        </p:blipFill>
        <p:spPr>
          <a:xfrm>
            <a:off x="3357720" y="2857680"/>
            <a:ext cx="2857320" cy="3362040"/>
          </a:xfrm>
          <a:prstGeom prst="rect">
            <a:avLst/>
          </a:prstGeom>
          <a:ln w="0">
            <a:noFill/>
          </a:ln>
        </p:spPr>
      </p:pic>
      <p:sp>
        <p:nvSpPr>
          <p:cNvPr id="328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AAAA-176C-4177-9027-E5EFC3211ECD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3" descr="C:\мои документы\разное\МО\картинки ШКОЛА\ученики.jpg"/>
          <p:cNvPicPr/>
          <p:nvPr/>
        </p:nvPicPr>
        <p:blipFill>
          <a:blip r:embed="rId1"/>
          <a:stretch/>
        </p:blipFill>
        <p:spPr>
          <a:xfrm>
            <a:off x="7643880" y="214200"/>
            <a:ext cx="1285920" cy="15559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PE02604_"/>
          <p:cNvPicPr/>
          <p:nvPr/>
        </p:nvPicPr>
        <p:blipFill>
          <a:blip r:embed="rId2"/>
          <a:stretch/>
        </p:blipFill>
        <p:spPr>
          <a:xfrm>
            <a:off x="285840" y="214200"/>
            <a:ext cx="1428840" cy="107172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6"/>
          <p:cNvSpPr/>
          <p:nvPr/>
        </p:nvSpPr>
        <p:spPr>
          <a:xfrm>
            <a:off x="2643120" y="285840"/>
            <a:ext cx="4857840" cy="571320"/>
          </a:xfrm>
          <a:prstGeom prst="rec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МО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Блок-схема: документ 7"/>
          <p:cNvSpPr/>
          <p:nvPr/>
        </p:nvSpPr>
        <p:spPr>
          <a:xfrm>
            <a:off x="1000080" y="107172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учебно-познаватель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Блок-схема: документ 8"/>
          <p:cNvSpPr/>
          <p:nvPr/>
        </p:nvSpPr>
        <p:spPr>
          <a:xfrm>
            <a:off x="3714840" y="1928880"/>
            <a:ext cx="2143080" cy="78588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социаль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Блок-схема: документ 9"/>
          <p:cNvSpPr/>
          <p:nvPr/>
        </p:nvSpPr>
        <p:spPr>
          <a:xfrm>
            <a:off x="6286680" y="157176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озицион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35" name="Прямая со стрелкой 11"/>
          <p:cNvCxnSpPr/>
          <p:nvPr/>
        </p:nvCxnSpPr>
        <p:spPr>
          <a:xfrm flipH="1">
            <a:off x="3214080" y="999000"/>
            <a:ext cx="786600" cy="21492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cxnSp>
        <p:nvCxnSpPr>
          <p:cNvPr id="336" name="Прямая со стрелкой 12"/>
          <p:cNvCxnSpPr/>
          <p:nvPr/>
        </p:nvCxnSpPr>
        <p:spPr>
          <a:xfrm>
            <a:off x="6000480" y="1000080"/>
            <a:ext cx="1143720" cy="35784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cxnSp>
        <p:nvCxnSpPr>
          <p:cNvPr id="337" name="Прямая со стрелкой 13"/>
          <p:cNvCxnSpPr/>
          <p:nvPr/>
        </p:nvCxnSpPr>
        <p:spPr>
          <a:xfrm flipH="1">
            <a:off x="4928400" y="1143000"/>
            <a:ext cx="2520" cy="71496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sp>
        <p:nvSpPr>
          <p:cNvPr id="338" name="Прямоугольник 10"/>
          <p:cNvSpPr/>
          <p:nvPr/>
        </p:nvSpPr>
        <p:spPr>
          <a:xfrm>
            <a:off x="3643200" y="2928960"/>
            <a:ext cx="242892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ть полезным общ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Прямоугольник 14"/>
          <p:cNvSpPr/>
          <p:nvPr/>
        </p:nvSpPr>
        <p:spPr>
          <a:xfrm>
            <a:off x="3643200" y="3786120"/>
            <a:ext cx="242892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ание выполнить свой дол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Прямоугольник 16"/>
          <p:cNvSpPr/>
          <p:nvPr/>
        </p:nvSpPr>
        <p:spPr>
          <a:xfrm>
            <a:off x="3643200" y="4572000"/>
            <a:ext cx="242892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имание необходимости учитьс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Прямоугольник 17"/>
          <p:cNvSpPr/>
          <p:nvPr/>
        </p:nvSpPr>
        <p:spPr>
          <a:xfrm>
            <a:off x="3643200" y="5357880"/>
            <a:ext cx="242892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увство ответстве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Прямоугольник 18"/>
          <p:cNvSpPr/>
          <p:nvPr/>
        </p:nvSpPr>
        <p:spPr>
          <a:xfrm>
            <a:off x="500040" y="2071800"/>
            <a:ext cx="242892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ладение новыми знания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Прямоугольник 19"/>
          <p:cNvSpPr/>
          <p:nvPr/>
        </p:nvSpPr>
        <p:spPr>
          <a:xfrm>
            <a:off x="500040" y="2928960"/>
            <a:ext cx="2428920" cy="8571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ес к приемам самостоятельного приобретения зна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Прямоугольник 20"/>
          <p:cNvSpPr/>
          <p:nvPr/>
        </p:nvSpPr>
        <p:spPr>
          <a:xfrm>
            <a:off x="500040" y="4000680"/>
            <a:ext cx="2428920" cy="1071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амостоятельное совершенствование способов добывания зна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Прямоугольник 22"/>
          <p:cNvSpPr/>
          <p:nvPr/>
        </p:nvSpPr>
        <p:spPr>
          <a:xfrm>
            <a:off x="500040" y="5214960"/>
            <a:ext cx="242892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циональной организации собственного учебного тру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Прямоугольник 25"/>
          <p:cNvSpPr/>
          <p:nvPr/>
        </p:nvSpPr>
        <p:spPr>
          <a:xfrm>
            <a:off x="6500880" y="2428920"/>
            <a:ext cx="242892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енную позицию в отношениях с окружающи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Прямоугольник 27"/>
          <p:cNvSpPr/>
          <p:nvPr/>
        </p:nvSpPr>
        <p:spPr>
          <a:xfrm>
            <a:off x="6500880" y="5357880"/>
            <a:ext cx="242892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азывать влияние на других учеников, доминировать в коллектив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Прямоугольник 28"/>
          <p:cNvSpPr/>
          <p:nvPr/>
        </p:nvSpPr>
        <p:spPr>
          <a:xfrm>
            <a:off x="6500880" y="4572000"/>
            <a:ext cx="242892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утвержд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Прямоугольник 29"/>
          <p:cNvSpPr/>
          <p:nvPr/>
        </p:nvSpPr>
        <p:spPr>
          <a:xfrm>
            <a:off x="6500880" y="3786120"/>
            <a:ext cx="242892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служить авторит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Номер слайда 2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3756-A5D2-468B-9630-F50241B43DD8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214280" y="356760"/>
            <a:ext cx="749808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Учебно-познавательные мотивы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рямо заложены в самой учебной деятельности и связаны с 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содержанием и процессом учения,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 овладением прежде всего 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способом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деятельности. Они обнаруживаются в познавательных интересах, стремлении преодолевать трудности в процессе познания, проявлять интеллектуальную активность. Развитие мотивов этой группы зависит от уровня познавательной потребности, с которой ребенок приходит в школу, и от уровня содержания и организации учебного процесса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Управляющая кнопка: в начало 3"/>
          <p:cNvSpPr/>
          <p:nvPr/>
        </p:nvSpPr>
        <p:spPr>
          <a:xfrm>
            <a:off x="7643880" y="5857920"/>
            <a:ext cx="714240" cy="571320"/>
          </a:xfrm>
          <a:custGeom>
            <a:avLst/>
            <a:gdLst>
              <a:gd name="textAreaLeft" fmla="*/ 36720 w 714240"/>
              <a:gd name="textAreaRight" fmla="*/ 677520 w 7142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115F-404B-4952-89FD-43EA3510998F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142640" y="285480"/>
            <a:ext cx="779148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Широкие социальные мотивы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младших школьников выглядят как мотивы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самосовершенствовани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быть культурным, развитым) и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самоопределени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после школы продолжать учиться или работать, выбрав профессию). Тот факт, что ребенок осознает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общественную значимость учения,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оздает личностную готовность к школе и положительные ожидания к ней как результат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социальной установки.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Эти мотивы выступают как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понимаемые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и связаны с далекими, отсроченными целями. К ним примыкают мотивы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долга и ответственности,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оторые сначала не осознаются детьми, но реально действуют в форме добросовестного выполнения заданий учителя, стремления соответствовать всем его требованиям. Однако эти мотивы присущи далеко не всем детям, что связано с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1) неточным пониманием ответственности и безответственности в этом возрасте и с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2) некритичным отношением к себе и часто — завышенной самооценко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Управляющая кнопка: в начало 3"/>
          <p:cNvSpPr/>
          <p:nvPr/>
        </p:nvSpPr>
        <p:spPr>
          <a:xfrm>
            <a:off x="7796160" y="6010200"/>
            <a:ext cx="714600" cy="571680"/>
          </a:xfrm>
          <a:custGeom>
            <a:avLst/>
            <a:gdLst>
              <a:gd name="textAreaLeft" fmla="*/ 36720 w 714600"/>
              <a:gd name="textAreaRight" fmla="*/ 677880 w 7146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6997" h="21600">
                <a:moveTo>
                  <a:pt x="0" y="0"/>
                </a:moveTo>
                <a:lnTo>
                  <a:pt x="26997" y="0"/>
                </a:lnTo>
                <a:lnTo>
                  <a:pt x="26997" y="21600"/>
                </a:lnTo>
                <a:lnTo>
                  <a:pt x="0" y="21600"/>
                </a:lnTo>
                <a:close/>
              </a:path>
              <a:path fill="lightenLess" w="26997" h="21600">
                <a:moveTo>
                  <a:pt x="0" y="0"/>
                </a:moveTo>
                <a:lnTo>
                  <a:pt x="26997" y="0"/>
                </a:lnTo>
                <a:lnTo>
                  <a:pt x="25597" y="1400"/>
                </a:lnTo>
                <a:lnTo>
                  <a:pt x="1400" y="1400"/>
                </a:lnTo>
                <a:close/>
              </a:path>
              <a:path fill="darken" w="26997" h="21600">
                <a:moveTo>
                  <a:pt x="26997" y="0"/>
                </a:moveTo>
                <a:lnTo>
                  <a:pt x="26997" y="21600"/>
                </a:lnTo>
                <a:lnTo>
                  <a:pt x="25597" y="20200"/>
                </a:lnTo>
                <a:lnTo>
                  <a:pt x="25597" y="1400"/>
                </a:lnTo>
                <a:close/>
              </a:path>
              <a:path fill="darkenLess" w="26997" h="21600">
                <a:moveTo>
                  <a:pt x="26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7" y="20200"/>
                </a:lnTo>
                <a:close/>
              </a:path>
              <a:path fill="lighten" w="26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7" h="21600">
                <a:moveTo>
                  <a:pt x="9999" y="10800"/>
                </a:moveTo>
                <a:lnTo>
                  <a:pt x="20505" y="3794"/>
                </a:lnTo>
                <a:lnTo>
                  <a:pt x="20505" y="17806"/>
                </a:lnTo>
                <a:close/>
              </a:path>
              <a:path fill="darken" w="26997" h="21600">
                <a:moveTo>
                  <a:pt x="6492" y="3794"/>
                </a:moveTo>
                <a:lnTo>
                  <a:pt x="8154" y="3794"/>
                </a:lnTo>
                <a:lnTo>
                  <a:pt x="8154" y="17806"/>
                </a:lnTo>
                <a:lnTo>
                  <a:pt x="6492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FF54-31F9-4650-BB7C-922C0E758679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Узколичные мотивы (позиционные)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ыступают в форме стремления получить хорошую отметку любой ценой, заслужить похвалу учителя или одобрение родителей, избежать наказания, получить награду (мотивы 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благополучия)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или в форме желания выделиться среди сверстников, занять определенное положение в классе 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(престижные мотивы).</a:t>
            </a: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Управляющая кнопка: в начало 3"/>
          <p:cNvSpPr/>
          <p:nvPr/>
        </p:nvSpPr>
        <p:spPr>
          <a:xfrm>
            <a:off x="7796160" y="6010200"/>
            <a:ext cx="714600" cy="571680"/>
          </a:xfrm>
          <a:custGeom>
            <a:avLst/>
            <a:gdLst>
              <a:gd name="textAreaLeft" fmla="*/ 36720 w 714600"/>
              <a:gd name="textAreaRight" fmla="*/ 677880 w 7146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6997" h="21600">
                <a:moveTo>
                  <a:pt x="0" y="0"/>
                </a:moveTo>
                <a:lnTo>
                  <a:pt x="26997" y="0"/>
                </a:lnTo>
                <a:lnTo>
                  <a:pt x="26997" y="21600"/>
                </a:lnTo>
                <a:lnTo>
                  <a:pt x="0" y="21600"/>
                </a:lnTo>
                <a:close/>
              </a:path>
              <a:path fill="lightenLess" w="26997" h="21600">
                <a:moveTo>
                  <a:pt x="0" y="0"/>
                </a:moveTo>
                <a:lnTo>
                  <a:pt x="26997" y="0"/>
                </a:lnTo>
                <a:lnTo>
                  <a:pt x="25597" y="1400"/>
                </a:lnTo>
                <a:lnTo>
                  <a:pt x="1400" y="1400"/>
                </a:lnTo>
                <a:close/>
              </a:path>
              <a:path fill="darken" w="26997" h="21600">
                <a:moveTo>
                  <a:pt x="26997" y="0"/>
                </a:moveTo>
                <a:lnTo>
                  <a:pt x="26997" y="21600"/>
                </a:lnTo>
                <a:lnTo>
                  <a:pt x="25597" y="20200"/>
                </a:lnTo>
                <a:lnTo>
                  <a:pt x="25597" y="1400"/>
                </a:lnTo>
                <a:close/>
              </a:path>
              <a:path fill="darkenLess" w="26997" h="21600">
                <a:moveTo>
                  <a:pt x="26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7" y="20200"/>
                </a:lnTo>
                <a:close/>
              </a:path>
              <a:path fill="lighten" w="26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7" h="21600">
                <a:moveTo>
                  <a:pt x="9999" y="10800"/>
                </a:moveTo>
                <a:lnTo>
                  <a:pt x="20505" y="3794"/>
                </a:lnTo>
                <a:lnTo>
                  <a:pt x="20505" y="17806"/>
                </a:lnTo>
                <a:close/>
              </a:path>
              <a:path fill="darken" w="26997" h="21600">
                <a:moveTo>
                  <a:pt x="6492" y="3794"/>
                </a:moveTo>
                <a:lnTo>
                  <a:pt x="8154" y="3794"/>
                </a:lnTo>
                <a:lnTo>
                  <a:pt x="8154" y="17806"/>
                </a:lnTo>
                <a:lnTo>
                  <a:pt x="6492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88EE-5B9F-49F7-B257-F688DC1CC5C5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6"/>
          <p:cNvSpPr/>
          <p:nvPr/>
        </p:nvSpPr>
        <p:spPr>
          <a:xfrm>
            <a:off x="2643120" y="285840"/>
            <a:ext cx="4857840" cy="571320"/>
          </a:xfrm>
          <a:prstGeom prst="rec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МО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61" name="Прямая со стрелкой 11"/>
          <p:cNvCxnSpPr/>
          <p:nvPr/>
        </p:nvCxnSpPr>
        <p:spPr>
          <a:xfrm flipH="1">
            <a:off x="2714400" y="1000080"/>
            <a:ext cx="1286640" cy="28656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cxnSp>
        <p:nvCxnSpPr>
          <p:cNvPr id="362" name="Прямая со стрелкой 12"/>
          <p:cNvCxnSpPr/>
          <p:nvPr/>
        </p:nvCxnSpPr>
        <p:spPr>
          <a:xfrm>
            <a:off x="6000480" y="1000080"/>
            <a:ext cx="1143720" cy="35784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sp>
        <p:nvSpPr>
          <p:cNvPr id="363" name="Блок-схема: документ 10"/>
          <p:cNvSpPr/>
          <p:nvPr/>
        </p:nvSpPr>
        <p:spPr>
          <a:xfrm>
            <a:off x="1928880" y="164304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нутрен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Блок-схема: документ 14"/>
          <p:cNvSpPr/>
          <p:nvPr/>
        </p:nvSpPr>
        <p:spPr>
          <a:xfrm>
            <a:off x="5857920" y="164304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неш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2" descr="Картинка 30 из 187"/>
          <p:cNvPicPr/>
          <p:nvPr/>
        </p:nvPicPr>
        <p:blipFill>
          <a:blip r:embed="rId1"/>
          <a:stretch/>
        </p:blipFill>
        <p:spPr>
          <a:xfrm>
            <a:off x="5572080" y="2714760"/>
            <a:ext cx="1928880" cy="19047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research_sozaev"/>
          <p:cNvPicPr/>
          <p:nvPr/>
        </p:nvPicPr>
        <p:blipFill>
          <a:blip r:embed="rId2"/>
          <a:stretch/>
        </p:blipFill>
        <p:spPr>
          <a:xfrm>
            <a:off x="1214280" y="2643120"/>
            <a:ext cx="2071800" cy="19288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0" descr="j0232068"/>
          <p:cNvPicPr/>
          <p:nvPr/>
        </p:nvPicPr>
        <p:blipFill>
          <a:blip r:embed="rId3"/>
          <a:stretch/>
        </p:blipFill>
        <p:spPr>
          <a:xfrm>
            <a:off x="7643880" y="3500280"/>
            <a:ext cx="931680" cy="1843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"/>
          <p:cNvPicPr/>
          <p:nvPr/>
        </p:nvPicPr>
        <p:blipFill>
          <a:blip r:embed="rId4"/>
          <a:stretch/>
        </p:blipFill>
        <p:spPr>
          <a:xfrm>
            <a:off x="2786040" y="4143240"/>
            <a:ext cx="1755720" cy="2135160"/>
          </a:xfrm>
          <a:prstGeom prst="rect">
            <a:avLst/>
          </a:prstGeom>
          <a:ln w="38160">
            <a:solidFill>
              <a:srgbClr val="66ff66"/>
            </a:solidFill>
            <a:miter/>
          </a:ln>
        </p:spPr>
      </p:pic>
      <p:sp>
        <p:nvSpPr>
          <p:cNvPr id="369" name="Номер слайда 1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11AE-1FE2-4F4F-ADA3-5FE544715EEC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8:13:03Z</dcterms:created>
  <dc:creator>марина</dc:creator>
  <dc:description/>
  <dc:language>en-US</dc:language>
  <cp:lastModifiedBy>Admin</cp:lastModifiedBy>
  <dcterms:modified xsi:type="dcterms:W3CDTF">2011-03-14T22:54:10Z</dcterms:modified>
  <cp:revision>68</cp:revision>
  <dc:subject/>
  <dc:title>Сосчитай сколько букв А </dc:title>
</cp:coreProperties>
</file>