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3B9-C9A1-468F-9D25-96D2F268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D87-383F-47B5-B1C4-BB98275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2A4-086B-47D8-8477-BCC6AA8F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D12-6AE8-4FA4-81FE-D04955EB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F516-EA03-46FB-88E4-08006741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87F-ACE7-4B47-B433-D5E68FE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55ED-4AAB-4736-8713-A0841AF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28A5-CA1C-46E3-94A7-3E57FA63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F600-0318-4498-BDB9-8707859F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F47-06AB-45ED-AE2F-02C39F8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51E-3A2C-43BA-B107-2AADD7A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4A9-60AF-46F8-B9BE-BDDA93BD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5FD4-E0F2-4588-A084-A3C5C1A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F6E-9A24-4485-A55A-F35207C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B5D-B1C6-4FF2-B700-1CA038B1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3B7A-7077-4512-9E99-2082C73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72E-C6BF-4746-97F1-FE96FACD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DF67-5249-42F7-B6D3-6827F67D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BD2D-2563-4461-953A-2A33404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D39B-92B7-4006-9C91-28138AC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01D3-E71A-4A54-9601-AE91AA1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72EC-5B29-46D5-B3FF-41B83FDB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7F2-97E9-4C17-85DB-CCCF75F2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B405-B88C-4B02-B4B6-D755EA4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5707-BA76-453E-A54B-C81B2CC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FC18-2E26-4122-86D0-0815AA8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1629-A2C8-44C9-B74C-62AAE4C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5851-2AE1-42ED-A813-D609FC66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227E-5643-412D-AECD-4986C3B9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268D-DBF7-4EA5-AB55-EE764D78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0A2D-CDF3-466E-8EF9-2DDBB967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F545-66B4-4267-B9CF-22B17AAD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9446-9733-4AE4-AE69-CB2D069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A94-CB94-4239-9CE7-E7EE387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52EB-54DB-49FF-A831-A38907F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708B-F631-4A0D-A13E-E81418A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FE36-E0B3-48DE-A932-37E2B85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0055-F5AE-4DD6-BA24-8299A36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9D62-5247-4834-8013-98E7EB4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9E88-500D-4F78-96A8-2BA815B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B42C-F11B-445D-A819-75E988F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E309-9B72-471F-8FF3-EADE0E37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914C-D2BF-46B6-B581-0D6D8D0C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BC0F-9836-41CA-BE4F-17936DE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77E-9A64-452A-A8B8-8A9F1D2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E3A4-0ABD-47AC-A801-EC58C88D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8F4C-B560-4BC2-8494-4FB8E3F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27D2-8D76-4915-B94F-8046DD5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F96A-FEC7-4F29-A5E7-D1500E2D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BF2D-D489-47A1-B5D8-207C6319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E509-4022-49AB-8B30-29318AE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5D38-036C-4DD7-AD9D-8F336EB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8BAD-A967-4C42-84B9-5422A76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A48A-ECF9-44BB-86F3-7F2E3B30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C6A5-1CC3-475A-BC48-0DEE5495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588-FB19-4DFF-BFF7-E3728BB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0278-86A3-4651-94D5-5A6D5E20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DC36-76BE-4EE5-9432-A938F92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E46B-8C4E-4991-AB03-2270DF32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D74A-1EA3-4ABC-9EFC-B234995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2CA07-29FE-4225-9C69-5C84612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96CCD-D254-4D26-984B-327A12E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9B4B-9375-4237-9A17-FCB36B1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5BB9-FB15-4507-97F3-57D1278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67F9-5785-4BA0-AA4B-534CCC8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DC661-8C17-4F23-BC4A-A8F7B25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797-527B-4D0A-AFDF-E43EDDF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9671-EEA0-42A4-898C-DFD1F72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6C96-CB82-4A37-B6FF-2A5B3774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69E3-417F-439F-810F-80AA7022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F504-83A6-4E27-AFA0-E5F05C1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F6BD-B599-4E4A-B30D-CD147F61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498C5-5584-42A3-B735-A864497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0C982-35A8-4B55-AE1A-61BF016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B5BB8-DE2E-4521-83AF-948E735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C7FD-0AE1-477F-9155-77D0D30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CCA6-3329-49DF-88A9-BA96292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121-37D9-471E-B158-EF49B5BE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794C0-C65F-45A3-9552-40353C4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1016-B638-4AC5-8029-B95C0710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F9286-1ABA-449A-8F94-30602FE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B214-C9F4-4B44-88A1-86B28114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71F4-462D-471B-BB2B-8C3D57C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4DE-7AEB-4137-87E9-7269C2C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5CC-D0E0-4E86-BDEF-9A68848053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817-053A-421B-85AC-BC51E3DE46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25FF-DED9-44B1-B218-1ACB5E8D29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CE73-1F37-4AB9-86C6-81FCD84FC5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ABE3-150A-4EF0-B49E-70EFC7371C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573-445F-4560-B9B7-BFDB94AB92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6F76-06C2-48AD-A36E-015732A414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c.edu/~sbettez/Carnegie/images/socialr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dou41.edu.yar.ru/images/ucheniki_w450_h4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Картинка 30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71800"/>
            <a:ext cx="4340160" cy="4286160"/>
          </a:xfrm>
          <a:prstGeom prst="rect">
            <a:avLst/>
          </a:prstGeom>
          <a:ln w="0">
            <a:noFill/>
          </a:ln>
        </p:spPr>
      </p:pic>
      <p:sp>
        <p:nvSpPr>
          <p:cNvPr id="319" name="Выноска со стрелкой вниз 3"/>
          <p:cNvSpPr/>
          <p:nvPr/>
        </p:nvSpPr>
        <p:spPr>
          <a:xfrm>
            <a:off x="2428920" y="428760"/>
            <a:ext cx="6357960" cy="714240"/>
          </a:xfrm>
          <a:prstGeom prst="downArrowCallout">
            <a:avLst>
              <a:gd name="adj1" fmla="val 24977"/>
              <a:gd name="adj2" fmla="val 118772"/>
              <a:gd name="adj3" fmla="val 25000"/>
              <a:gd name="adj4" fmla="val 6497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ебная  мотивация школь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954-7447-4722-98D6-0AF83F9A06D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7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7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6929280" y="2643120"/>
            <a:ext cx="192888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77" name="Прямоугольник 13"/>
          <p:cNvSpPr/>
          <p:nvPr/>
        </p:nvSpPr>
        <p:spPr>
          <a:xfrm>
            <a:off x="2476800" y="2786040"/>
            <a:ext cx="19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стоя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знава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5111280" y="2786040"/>
            <a:ext cx="156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оказ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ощ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росл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481680" y="5357880"/>
            <a:ext cx="35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процессу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420480" y="4929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результату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362880" y="5715000"/>
            <a:ext cx="30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мление к саморазвит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285840" y="607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ю каких-либо своих качеств,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5560560" y="4929120"/>
            <a:ext cx="30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ется в силу дол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929120" y="535788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ди достижения определенного положения среди сверстн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5150880" y="6143760"/>
            <a:ext cx="34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-за давления родных, учител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Номер слайда 1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A18-929B-49D6-B183-990B06B94C5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2786040" y="107172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8" name="Прямая со стрелкой 11"/>
          <p:cNvCxnSpPr/>
          <p:nvPr/>
        </p:nvCxnSpPr>
        <p:spPr>
          <a:xfrm flipH="1">
            <a:off x="2856960" y="1785960"/>
            <a:ext cx="128628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89" name="Прямая со стрелкой 12"/>
          <p:cNvCxnSpPr/>
          <p:nvPr/>
        </p:nvCxnSpPr>
        <p:spPr>
          <a:xfrm>
            <a:off x="6143400" y="178596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90" name="Блок-схема: документ 10"/>
          <p:cNvSpPr/>
          <p:nvPr/>
        </p:nvSpPr>
        <p:spPr>
          <a:xfrm>
            <a:off x="207180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достижение успе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Блок-схема: документ 14"/>
          <p:cNvSpPr/>
          <p:nvPr/>
        </p:nvSpPr>
        <p:spPr>
          <a:xfrm>
            <a:off x="600084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едопущение неу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Номер слайда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574-65BB-4F52-8D39-083460EB0B3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521496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еб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 самооцен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ие в возможность успех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121428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моци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я  внутренних ресурс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вним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мои документы\разное\МО\картинки ШКОЛА\attachment.jpg"/>
          <p:cNvPicPr/>
          <p:nvPr/>
        </p:nvPicPr>
        <p:blipFill>
          <a:blip r:embed="rId1"/>
          <a:stretch/>
        </p:blipFill>
        <p:spPr>
          <a:xfrm>
            <a:off x="1714680" y="2357280"/>
            <a:ext cx="6381720" cy="42706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3000240" y="14292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1d15"/>
                </a:solidFill>
                <a:latin typeface="Monotype Corsiva"/>
              </a:rPr>
              <a:t>"научиться учиться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DDD-20AC-49FD-ABBC-5ED4CDE46B7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357200" y="862200"/>
            <a:ext cx="7358040" cy="13136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й мотив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не только к новым знания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же не только к общим закономерностя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енно к способам добывания новых зна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AFD-0419-4B97-9257-0619F4ABEED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357200" y="4286160"/>
            <a:ext cx="6858000" cy="2286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 уровни - высокий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уровень – средний (норм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уровень – сниженный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Прямоугольник 6"/>
          <p:cNvSpPr/>
          <p:nvPr/>
        </p:nvSpPr>
        <p:spPr>
          <a:xfrm>
            <a:off x="1357200" y="1214280"/>
            <a:ext cx="6858000" cy="1785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он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500120" y="2142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Виды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428840" y="32148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Уровни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9550-F5EF-493E-A52A-031DBE779BD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43000" y="285480"/>
            <a:ext cx="742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тивация – 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Картинка 43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500280"/>
            <a:ext cx="3000240" cy="311796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6EBE-EBB1-4333-89FF-4E2C227CB3D6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Деятельность без моти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ли со слабым мотивом либо не </a:t>
            </a: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осуществляется вообще, либо оказывается крайне неустойчиво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От того, как чувствует себя ученик в определённой ситуации, зависит объём усилий, которые он прилагает в своей учёбе. Поэтому важно, чтобы весь </a:t>
            </a:r>
            <a:r>
              <a:rPr b="0" i="1" lang="ru-RU" sz="3200" spc="-1" strike="noStrike">
                <a:solidFill>
                  <a:srgbClr val="611617"/>
                </a:solidFill>
                <a:latin typeface="Corbel"/>
              </a:rPr>
              <a:t>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8FD-5A04-4E2A-960F-BDCEF7D7649D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чеб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такая деятельность, котора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ворачивает ребенка на самого себя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ует рефлексии, оценки того, "чем я был" и "чем я стал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Картинка 6 из 187"/>
          <p:cNvPicPr/>
          <p:nvPr/>
        </p:nvPicPr>
        <p:blipFill>
          <a:blip r:embed="rId1"/>
          <a:stretch/>
        </p:blipFill>
        <p:spPr>
          <a:xfrm>
            <a:off x="3357720" y="2857680"/>
            <a:ext cx="2857320" cy="3362040"/>
          </a:xfrm>
          <a:prstGeom prst="rect">
            <a:avLst/>
          </a:prstGeom>
          <a:ln w="0">
            <a:noFill/>
          </a:ln>
        </p:spPr>
      </p:pic>
      <p:sp>
        <p:nvSpPr>
          <p:cNvPr id="32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7D6-4E2F-435C-A583-98A87EB8627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C:\мои документы\разное\МО\картинки ШКОЛА\ученики.jpg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55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PE02604_"/>
          <p:cNvPicPr/>
          <p:nvPr/>
        </p:nvPicPr>
        <p:blipFill>
          <a:blip r:embed="rId2"/>
          <a:stretch/>
        </p:blipFill>
        <p:spPr>
          <a:xfrm>
            <a:off x="285840" y="21420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Блок-схема: документ 7"/>
          <p:cNvSpPr/>
          <p:nvPr/>
        </p:nvSpPr>
        <p:spPr>
          <a:xfrm>
            <a:off x="1000080" y="10717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чебно-познавате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Блок-схема: документ 8"/>
          <p:cNvSpPr/>
          <p:nvPr/>
        </p:nvSpPr>
        <p:spPr>
          <a:xfrm>
            <a:off x="3714840" y="1928880"/>
            <a:ext cx="2143080" cy="78588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Блок-схема: документ 9"/>
          <p:cNvSpPr/>
          <p:nvPr/>
        </p:nvSpPr>
        <p:spPr>
          <a:xfrm>
            <a:off x="6286680" y="157176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озицио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5" name="Прямая со стрелкой 11"/>
          <p:cNvCxnSpPr/>
          <p:nvPr/>
        </p:nvCxnSpPr>
        <p:spPr>
          <a:xfrm flipH="1">
            <a:off x="3214080" y="999000"/>
            <a:ext cx="786600" cy="21492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6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7" name="Прямая со стрелкой 13"/>
          <p:cNvCxnSpPr/>
          <p:nvPr/>
        </p:nvCxnSpPr>
        <p:spPr>
          <a:xfrm flipH="1">
            <a:off x="4928400" y="1143000"/>
            <a:ext cx="2520" cy="7149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38" name="Прямоугольник 10"/>
          <p:cNvSpPr/>
          <p:nvPr/>
        </p:nvSpPr>
        <p:spPr>
          <a:xfrm>
            <a:off x="3643200" y="292896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полезным общ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Прямоугольник 14"/>
          <p:cNvSpPr/>
          <p:nvPr/>
        </p:nvSpPr>
        <p:spPr>
          <a:xfrm>
            <a:off x="364320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выполнить свой дол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Прямоугольник 16"/>
          <p:cNvSpPr/>
          <p:nvPr/>
        </p:nvSpPr>
        <p:spPr>
          <a:xfrm>
            <a:off x="364320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е необходимости учить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3643200" y="535788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ответств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500040" y="20718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ладение новыми знания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оугольник 19"/>
          <p:cNvSpPr/>
          <p:nvPr/>
        </p:nvSpPr>
        <p:spPr>
          <a:xfrm>
            <a:off x="500040" y="2928960"/>
            <a:ext cx="242892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приемам самостоятельного приобрете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Прямоугольник 20"/>
          <p:cNvSpPr/>
          <p:nvPr/>
        </p:nvSpPr>
        <p:spPr>
          <a:xfrm>
            <a:off x="500040" y="4000680"/>
            <a:ext cx="2428920" cy="1071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остоятельное совершенствование способов добыва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Прямоугольник 22"/>
          <p:cNvSpPr/>
          <p:nvPr/>
        </p:nvSpPr>
        <p:spPr>
          <a:xfrm>
            <a:off x="500040" y="521496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й организации собственного учебного тру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Прямоугольник 25"/>
          <p:cNvSpPr/>
          <p:nvPr/>
        </p:nvSpPr>
        <p:spPr>
          <a:xfrm>
            <a:off x="6500880" y="242892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ую позицию в отношениях с окружающ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6500880" y="535788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ть влияние на других учеников, доминировать в коллекти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Прямоугольник 28"/>
          <p:cNvSpPr/>
          <p:nvPr/>
        </p:nvSpPr>
        <p:spPr>
          <a:xfrm>
            <a:off x="650088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Прямоугольник 29"/>
          <p:cNvSpPr/>
          <p:nvPr/>
        </p:nvSpPr>
        <p:spPr>
          <a:xfrm>
            <a:off x="650088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лужить авторит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2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2BB-B515-4FCC-919F-8EC73DD8703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4280" y="356760"/>
            <a:ext cx="74980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Учебно-познавательные мотивы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ямо заложены в самой учебной деятельности и связаны с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держанием и процессом учения,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 овладением прежде всего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пособом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еятельности. Они обнаруживаются в познавательных интересах, стремлении преодолевать трудности в процессе познания, проявлять интеллектуальную активность. Развитие мотивов этой группы зависит от уровня познавательной потребности, с которой ребенок приходит в школу, и от уровня содержания и организации учебного процесс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Управляющая кнопка: в начало 3"/>
          <p:cNvSpPr/>
          <p:nvPr/>
        </p:nvSpPr>
        <p:spPr>
          <a:xfrm>
            <a:off x="7643880" y="585792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45C-1FB6-4936-A3B4-BBDF13C9115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Широкие социальные мотивы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ладших школьников выглядят как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совершенствова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быть культурным, развитым) и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определе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осле школы продолжать учиться или работать, выбрав профессию). Тот факт, что ребенок осознае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общественную значимость учения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здает личностную готовность к школе и положительные ожидания к ней как результа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оциальной установки.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Эти мотивы выступают как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понимаемые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 связаны с далекими, отсроченными целями. К ним примыкают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долга и ответственности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торые сначала не осознаются детьми, но реально действуют в форме добросовестного выполнения заданий учителя, стремления соответствовать всем его требованиям. Однако эти мотивы присущи далеко не всем детям, что связано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неточным пониманием ответственности и безответственности в этом возрасте и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некритичным отношением к себе и часто — завышенной самооценко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9117-EEB3-489C-A14C-FE798A34973B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зколичные мотивы (позиционные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ают в форме стремления получить хорошую отметку любой ценой, заслужить похвалу учителя или одобрение родителей, избежать наказания, получить награду (мотивы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благополучия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ли в форме желания выделиться среди сверстников, занять определенное положение в классе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(престижные мотивы)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2FE7-0D95-42AA-B1F5-0DC0976B890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6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6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5572080" y="2714760"/>
            <a:ext cx="1928880" cy="1904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research_sozaev"/>
          <p:cNvPicPr/>
          <p:nvPr/>
        </p:nvPicPr>
        <p:blipFill>
          <a:blip r:embed="rId2"/>
          <a:stretch/>
        </p:blipFill>
        <p:spPr>
          <a:xfrm>
            <a:off x="1214280" y="2643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j0232068"/>
          <p:cNvPicPr/>
          <p:nvPr/>
        </p:nvPicPr>
        <p:blipFill>
          <a:blip r:embed="rId3"/>
          <a:stretch/>
        </p:blipFill>
        <p:spPr>
          <a:xfrm>
            <a:off x="7643880" y="3500280"/>
            <a:ext cx="931680" cy="1843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4"/>
          <a:stretch/>
        </p:blipFill>
        <p:spPr>
          <a:xfrm>
            <a:off x="2786040" y="41432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69" name="Номер слайда 1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2617-8D3D-4BBF-BE2B-3B96898BEE7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8:13:03Z</dcterms:created>
  <dc:creator>марина</dc:creator>
  <dc:description/>
  <dc:language>en-US</dc:language>
  <cp:lastModifiedBy>Admin</cp:lastModifiedBy>
  <dcterms:modified xsi:type="dcterms:W3CDTF">2011-03-14T22:54:10Z</dcterms:modified>
  <cp:revision>68</cp:revision>
  <dc:subject/>
  <dc:title>Сосчитай сколько букв А </dc:title>
</cp:coreProperties>
</file>