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11.wmf" ContentType="image/x-wmf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1F8-E803-46D1-B153-D6817056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370-50EB-4A1A-9BAC-C0B06F6A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D40-7078-4539-941B-5601C630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3B2-2E95-40EC-B0F0-FF0D5A82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4EB6-CDC1-4899-8503-54145405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41E4-E088-4AD5-BB20-BD8F0AC1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2C1F-038C-41FC-ADB5-7A2322FC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3D2D-B5DA-4E9A-9C12-A6D970D6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9043-97B0-41A4-B863-6033C68C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6813-3EDE-4EC2-9DE8-9C66CDC0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C1B2-49FA-4623-97A7-8368558F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8F6-2627-4DF7-9716-58C7314B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552A-6CE0-4B35-BA8F-CCAC5382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69D5-4A1F-4337-8B04-82DC73F8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5E46-6805-4AB5-8C85-BB8F3F2A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52DA-65D1-463B-9D3A-EB075250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AB14-FF61-4FD9-966B-26EDE1E6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17763-EF9D-4921-99E8-E3EDC053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B72B-0EAD-41C4-A58F-D69ADE3F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4597-DF18-484C-8729-7CDFD06F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62E7-2DF6-40C0-8DB9-EBA352F2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F775-B907-4D25-9B30-A824CE16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EF7-4438-4DCA-8ABC-FBC68EFE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1FD3B-771C-4388-9158-FE92593F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66E55-E23C-4E98-8305-ACDDD1D1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909B7-3E2E-4448-9029-24B5AD56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BEA99-00F7-47A2-AEE8-3ED4140C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D8F2F-1F91-4DF6-85DD-2D0E93B6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E0D09-362E-4C06-B44C-252998D3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96C4-2356-4D3F-BADE-CCC547E5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7F68-9442-4DD0-8C7C-A867F9ED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2FCD6-29B8-4609-8700-9196E33F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13EC-BD6E-485E-86A8-84B2F16E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8DB-46D2-475B-8D04-41376BE0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F8F2-C44B-4A71-B1CB-D89FEC72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3293-1399-4BB3-B3BE-306D2EDA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EDDDB-BB83-4CF0-9E51-9D0CB59C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2DBA0-2A1E-4F0C-8B3F-11A80B22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2CC18-F755-4109-B676-7F01F414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68451-6B75-4CA4-8E34-A7A4D5C4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E7D1-B8B6-4BA3-87F3-59E8E0D8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85CD-895E-4077-9DB0-8B022F7E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0D48B-353A-4622-9E92-6D25C006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D2A2D-FDB2-4CB5-8D8E-41255412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388-AD5E-4D44-8C40-3A3DB26A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F6234-8574-4A75-8330-D53E5590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16B40-573D-487E-B263-A4ABA93A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E8F44-8684-4750-8442-C64A9FDA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C9823-E169-493F-B072-037D9406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833ED-269D-4DA5-AC5F-F9488EE9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A344F-2F57-4DD1-AA57-E7FB53F0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C53E5-A65F-4282-A1DB-5690394B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30B0B-7E8C-47EE-B372-87FE5416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D8F31-5460-4ECD-98B6-7AB2058B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F4C64-1E84-4CBC-B6BE-1B2DE0AC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DF8-26FC-4375-8FE3-8774C25B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73C71-CD4A-4661-A32B-0ACF3FAB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8CD45-D62C-4031-9382-4CAA5F74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85188-F28A-418E-9859-56262320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15717-EDF0-42B2-9994-39D29277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1A224-FAC0-4CD6-9AFA-E33C0DE7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EB7EC-FE13-4BA2-AD24-FDDE6A59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CDE8C-C8C9-4901-AA94-6B67FF88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1B12D-D3BC-4C42-93AE-9676B82C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1D6F4-F73F-44FE-B0A4-16D51C4B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4E3A6-ABE2-4EB5-9726-B7F5499E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0B0-BB01-474D-957D-3F93009A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5C5CA-7574-4FE9-AF2E-F7BF2C73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00D63-6FA5-4592-ADD4-B98B84B1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7F656-B77A-4C97-B708-AF3C5E26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01149-095A-4533-9B57-B17F70CF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92DE7-A88A-44EE-A203-6E81B8B7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D1D47-9E8E-41CB-BE97-7A15660B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A5100-B680-4893-BA1B-54016D40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9810F-59FE-404A-8817-00A39F3C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EAEB3-EB98-46B0-B065-01FB60C0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B041B-C17E-40A6-B1F2-3571108D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B0A-E0CA-4F46-8D48-1E615FC1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89701-6A56-4F62-B875-4DFAE8EB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CDF41-97F5-4372-8021-457477E4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F774C-B16C-4919-B36D-5D564020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12445-3C5F-4D67-8F23-2A78D8CF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B69C3-5757-46BB-97FA-4F0C997D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BC9-40E8-4644-8E88-2DBAF03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7F12-D111-43C2-AB27-A2C5EA2B015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AB81-A754-42F3-8B25-C952AD7B10A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2E20-27F9-471B-9CA6-B1372284BD7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F2BE-341D-4A49-AB9A-7C76EC684D1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5063-5D9F-48F0-ABC7-A1D7376CDC3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72BA-4815-4634-9594-7E467F2465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7A54-ABE4-43F4-922D-70242A861E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nc.edu/~sbettez/Carnegie/images/socialr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dou41.edu.yar.ru/images/ucheniki_w450_h4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Картинка 30 из 1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71800"/>
            <a:ext cx="4340160" cy="4286160"/>
          </a:xfrm>
          <a:prstGeom prst="rect">
            <a:avLst/>
          </a:prstGeom>
          <a:ln w="0">
            <a:noFill/>
          </a:ln>
        </p:spPr>
      </p:pic>
      <p:sp>
        <p:nvSpPr>
          <p:cNvPr id="319" name="Выноска со стрелкой вниз 3"/>
          <p:cNvSpPr/>
          <p:nvPr/>
        </p:nvSpPr>
        <p:spPr>
          <a:xfrm>
            <a:off x="2428920" y="428760"/>
            <a:ext cx="6357960" cy="714240"/>
          </a:xfrm>
          <a:prstGeom prst="downArrowCallout">
            <a:avLst>
              <a:gd name="adj1" fmla="val 24977"/>
              <a:gd name="adj2" fmla="val 118772"/>
              <a:gd name="adj3" fmla="val 25000"/>
              <a:gd name="adj4" fmla="val 6497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Учебная  мотивация школьни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F090-2194-4911-9B87-0A04B998C295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6"/>
          <p:cNvSpPr/>
          <p:nvPr/>
        </p:nvSpPr>
        <p:spPr>
          <a:xfrm>
            <a:off x="2643120" y="285840"/>
            <a:ext cx="4857840" cy="571320"/>
          </a:xfrm>
          <a:prstGeom prst="rec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МО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71" name="Прямая со стрелкой 11"/>
          <p:cNvCxnSpPr/>
          <p:nvPr/>
        </p:nvCxnSpPr>
        <p:spPr>
          <a:xfrm flipH="1">
            <a:off x="2714400" y="1000080"/>
            <a:ext cx="1286640" cy="28656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72" name="Прямая со стрелкой 12"/>
          <p:cNvCxnSpPr/>
          <p:nvPr/>
        </p:nvCxnSpPr>
        <p:spPr>
          <a:xfrm>
            <a:off x="6000480" y="1000080"/>
            <a:ext cx="1143720" cy="35784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sp>
        <p:nvSpPr>
          <p:cNvPr id="373" name="Блок-схема: документ 10"/>
          <p:cNvSpPr/>
          <p:nvPr/>
        </p:nvSpPr>
        <p:spPr>
          <a:xfrm>
            <a:off x="1928880" y="164304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нутрен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Блок-схема: документ 14"/>
          <p:cNvSpPr/>
          <p:nvPr/>
        </p:nvSpPr>
        <p:spPr>
          <a:xfrm>
            <a:off x="5857920" y="164304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неш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2" descr="Картинка 30 из 187"/>
          <p:cNvPicPr/>
          <p:nvPr/>
        </p:nvPicPr>
        <p:blipFill>
          <a:blip r:embed="rId1"/>
          <a:stretch/>
        </p:blipFill>
        <p:spPr>
          <a:xfrm>
            <a:off x="6929280" y="2643120"/>
            <a:ext cx="1928880" cy="19051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428760" y="2571840"/>
            <a:ext cx="1755720" cy="2135160"/>
          </a:xfrm>
          <a:prstGeom prst="rect">
            <a:avLst/>
          </a:prstGeom>
          <a:ln w="38160">
            <a:solidFill>
              <a:srgbClr val="66ff66"/>
            </a:solidFill>
            <a:miter/>
          </a:ln>
        </p:spPr>
      </p:pic>
      <p:sp>
        <p:nvSpPr>
          <p:cNvPr id="377" name="Прямоугольник 13"/>
          <p:cNvSpPr/>
          <p:nvPr/>
        </p:nvSpPr>
        <p:spPr>
          <a:xfrm>
            <a:off x="2476800" y="2786040"/>
            <a:ext cx="197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мостоятель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знаватель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бот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5111280" y="2786040"/>
            <a:ext cx="156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оказан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мощ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зросл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Прямоугольник 16"/>
          <p:cNvSpPr/>
          <p:nvPr/>
        </p:nvSpPr>
        <p:spPr>
          <a:xfrm>
            <a:off x="481680" y="5357880"/>
            <a:ext cx="35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рес к процессу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Прямоугольник 17"/>
          <p:cNvSpPr/>
          <p:nvPr/>
        </p:nvSpPr>
        <p:spPr>
          <a:xfrm>
            <a:off x="420480" y="492912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рес к результату деят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Прямоугольник 18"/>
          <p:cNvSpPr/>
          <p:nvPr/>
        </p:nvSpPr>
        <p:spPr>
          <a:xfrm>
            <a:off x="362880" y="5715000"/>
            <a:ext cx="30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емление к саморазвит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Прямоугольник 19"/>
          <p:cNvSpPr/>
          <p:nvPr/>
        </p:nvSpPr>
        <p:spPr>
          <a:xfrm>
            <a:off x="285840" y="6072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тию каких-либо своих качеств, способнос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Прямоугольник 20"/>
          <p:cNvSpPr/>
          <p:nvPr/>
        </p:nvSpPr>
        <p:spPr>
          <a:xfrm>
            <a:off x="5560560" y="4929120"/>
            <a:ext cx="304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уществляется в силу долг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Прямоугольник 21"/>
          <p:cNvSpPr/>
          <p:nvPr/>
        </p:nvSpPr>
        <p:spPr>
          <a:xfrm>
            <a:off x="4929120" y="535788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ди достижения определенного положения среди сверстни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Прямоугольник 22"/>
          <p:cNvSpPr/>
          <p:nvPr/>
        </p:nvSpPr>
        <p:spPr>
          <a:xfrm>
            <a:off x="5150880" y="6143760"/>
            <a:ext cx="34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з-за давления родных, учител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Номер слайда 19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5DB7-5CD0-4DA2-B5B3-4F5F2B8D6FAF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2786040" y="1071720"/>
            <a:ext cx="4857840" cy="571320"/>
          </a:xfrm>
          <a:prstGeom prst="rec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МО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88" name="Прямая со стрелкой 11"/>
          <p:cNvCxnSpPr/>
          <p:nvPr/>
        </p:nvCxnSpPr>
        <p:spPr>
          <a:xfrm flipH="1">
            <a:off x="2856960" y="1785960"/>
            <a:ext cx="1286280" cy="28656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89" name="Прямая со стрелкой 12"/>
          <p:cNvCxnSpPr/>
          <p:nvPr/>
        </p:nvCxnSpPr>
        <p:spPr>
          <a:xfrm>
            <a:off x="6143400" y="1785960"/>
            <a:ext cx="1143720" cy="35784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sp>
        <p:nvSpPr>
          <p:cNvPr id="390" name="Блок-схема: документ 10"/>
          <p:cNvSpPr/>
          <p:nvPr/>
        </p:nvSpPr>
        <p:spPr>
          <a:xfrm>
            <a:off x="2071800" y="242892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достижение успех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Блок-схема: документ 14"/>
          <p:cNvSpPr/>
          <p:nvPr/>
        </p:nvSpPr>
        <p:spPr>
          <a:xfrm>
            <a:off x="6000840" y="242892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недопущение неуда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Номер слайда 9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60AC-81EA-4A80-AF79-AEF9CA9B5E13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5214960" y="3500280"/>
            <a:ext cx="3429000" cy="1191240"/>
          </a:xfrm>
          <a:prstGeom prst="rect">
            <a:avLst/>
          </a:prstGeom>
          <a:solidFill>
            <a:srgbClr val="7ec3d4"/>
          </a:solidFill>
          <a:ln w="9360">
            <a:solidFill>
              <a:srgbClr val="1c48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еб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 самооценк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ие в возможность успех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Прямоугольник 15"/>
          <p:cNvSpPr/>
          <p:nvPr/>
        </p:nvSpPr>
        <p:spPr>
          <a:xfrm>
            <a:off x="1214280" y="3500280"/>
            <a:ext cx="3429000" cy="1191240"/>
          </a:xfrm>
          <a:prstGeom prst="rect">
            <a:avLst/>
          </a:prstGeom>
          <a:solidFill>
            <a:srgbClr val="7ec3d4"/>
          </a:solidFill>
          <a:ln w="9360">
            <a:solidFill>
              <a:srgbClr val="1c48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е эмоции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изация  внутренних ресурсов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редоточение внима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C:\мои документы\разное\МО\картинки ШКОЛА\attachment.jpg"/>
          <p:cNvPicPr/>
          <p:nvPr/>
        </p:nvPicPr>
        <p:blipFill>
          <a:blip r:embed="rId1"/>
          <a:stretch/>
        </p:blipFill>
        <p:spPr>
          <a:xfrm>
            <a:off x="1714680" y="2357280"/>
            <a:ext cx="6381720" cy="427068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4"/>
          <p:cNvSpPr/>
          <p:nvPr/>
        </p:nvSpPr>
        <p:spPr>
          <a:xfrm>
            <a:off x="3000240" y="14292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b1d15"/>
                </a:solidFill>
                <a:latin typeface="Monotype Corsiva"/>
              </a:rPr>
              <a:t>"научиться учиться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54A0-A839-43F9-A654-407607426672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1357200" y="862200"/>
            <a:ext cx="7358040" cy="1313640"/>
          </a:xfrm>
          <a:prstGeom prst="rect">
            <a:avLst/>
          </a:prstGeom>
          <a:solidFill>
            <a:srgbClr val="a9d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познавательный мотив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не только к новым знания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аже не только к общим закономерностя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менно к способам добывания новых зна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C5C1-09A8-4036-A23F-B57B098C3C12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Прямоугольник 5"/>
          <p:cNvSpPr/>
          <p:nvPr/>
        </p:nvSpPr>
        <p:spPr>
          <a:xfrm>
            <a:off x="1357200" y="4286160"/>
            <a:ext cx="6858000" cy="2286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 уровни - высокий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уровень – средний (норма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уровень – сниженный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Прямоугольник 6"/>
          <p:cNvSpPr/>
          <p:nvPr/>
        </p:nvSpPr>
        <p:spPr>
          <a:xfrm>
            <a:off x="1357200" y="1214280"/>
            <a:ext cx="6858000" cy="1785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-познаватель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цион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Прямоугольник 9"/>
          <p:cNvSpPr/>
          <p:nvPr/>
        </p:nvSpPr>
        <p:spPr>
          <a:xfrm>
            <a:off x="1500120" y="214200"/>
            <a:ext cx="6357960" cy="7858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Виды мотив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Прямоугольник 10"/>
          <p:cNvSpPr/>
          <p:nvPr/>
        </p:nvSpPr>
        <p:spPr>
          <a:xfrm>
            <a:off x="1428840" y="3214800"/>
            <a:ext cx="6357960" cy="7858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Уровни мотив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Номер слайда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B63D-0EC0-4A63-BFC1-251F152A2ACA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143000" y="285480"/>
            <a:ext cx="742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тивация – это внутренняя психологическая характеристика личности, которая находит выражение во внешних проявлениях, в отношении человека к окружающему миру, различным видам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4" descr="Картинка 43 из 1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1880" y="3500280"/>
            <a:ext cx="3000240" cy="3117960"/>
          </a:xfrm>
          <a:prstGeom prst="rect">
            <a:avLst/>
          </a:prstGeom>
          <a:ln w="0">
            <a:noFill/>
          </a:ln>
        </p:spPr>
      </p:pic>
      <p:sp>
        <p:nvSpPr>
          <p:cNvPr id="323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C542-C2AF-4438-A74B-089FC813B1BF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203"/>
                </a:solidFill>
                <a:latin typeface="Corbel"/>
              </a:rPr>
              <a:t>Деятельность без мотив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ли со слабым мотивом либо не </a:t>
            </a:r>
            <a:r>
              <a:rPr b="0" lang="ru-RU" sz="3200" spc="-1" strike="noStrike">
                <a:solidFill>
                  <a:srgbClr val="4b2203"/>
                </a:solidFill>
                <a:latin typeface="Corbel"/>
              </a:rPr>
              <a:t>осуществляется вообще, либо оказывается крайне неустойчивой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От того, как чувствует себя ученик в определённой ситуации, зависит объём усилий, которые он прилагает в своей учёбе. Поэтому важно, чтобы весь </a:t>
            </a:r>
            <a:r>
              <a:rPr b="0" i="1" lang="ru-RU" sz="3200" spc="-1" strike="noStrike">
                <a:solidFill>
                  <a:srgbClr val="611617"/>
                </a:solidFill>
                <a:latin typeface="Corbel"/>
              </a:rPr>
              <a:t>процесс обучения вызывал у ребенка интенсивное и внутреннее побуждение к знаниям, напряженному умственному тру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282A-893B-4F4D-AA88-16FFA3776DFE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85560" y="285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Учебная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это такая деятельность, которая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ворачивает ребенка на самого себя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бует рефлексии, оценки того, "чем я был" и "чем я стал"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Картинка 6 из 187"/>
          <p:cNvPicPr/>
          <p:nvPr/>
        </p:nvPicPr>
        <p:blipFill>
          <a:blip r:embed="rId1"/>
          <a:stretch/>
        </p:blipFill>
        <p:spPr>
          <a:xfrm>
            <a:off x="3357720" y="2857680"/>
            <a:ext cx="2857320" cy="3362040"/>
          </a:xfrm>
          <a:prstGeom prst="rect">
            <a:avLst/>
          </a:prstGeom>
          <a:ln w="0">
            <a:noFill/>
          </a:ln>
        </p:spPr>
      </p:pic>
      <p:sp>
        <p:nvSpPr>
          <p:cNvPr id="328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941F-9A27-419A-9284-95947AFFF325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C:\мои документы\разное\МО\картинки ШКОЛА\ученики.jpg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555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PE02604_"/>
          <p:cNvPicPr/>
          <p:nvPr/>
        </p:nvPicPr>
        <p:blipFill>
          <a:blip r:embed="rId2"/>
          <a:stretch/>
        </p:blipFill>
        <p:spPr>
          <a:xfrm>
            <a:off x="285840" y="214200"/>
            <a:ext cx="1428840" cy="107172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6"/>
          <p:cNvSpPr/>
          <p:nvPr/>
        </p:nvSpPr>
        <p:spPr>
          <a:xfrm>
            <a:off x="2643120" y="285840"/>
            <a:ext cx="4857840" cy="571320"/>
          </a:xfrm>
          <a:prstGeom prst="rec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МО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Блок-схема: документ 7"/>
          <p:cNvSpPr/>
          <p:nvPr/>
        </p:nvSpPr>
        <p:spPr>
          <a:xfrm>
            <a:off x="1000080" y="107172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учебно-познаватель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Блок-схема: документ 8"/>
          <p:cNvSpPr/>
          <p:nvPr/>
        </p:nvSpPr>
        <p:spPr>
          <a:xfrm>
            <a:off x="3714840" y="1928880"/>
            <a:ext cx="2143080" cy="78588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оциаль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Блок-схема: документ 9"/>
          <p:cNvSpPr/>
          <p:nvPr/>
        </p:nvSpPr>
        <p:spPr>
          <a:xfrm>
            <a:off x="6286680" y="157176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озицион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5" name="Прямая со стрелкой 11"/>
          <p:cNvCxnSpPr/>
          <p:nvPr/>
        </p:nvCxnSpPr>
        <p:spPr>
          <a:xfrm flipH="1">
            <a:off x="3214080" y="999000"/>
            <a:ext cx="786600" cy="21492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36" name="Прямая со стрелкой 12"/>
          <p:cNvCxnSpPr/>
          <p:nvPr/>
        </p:nvCxnSpPr>
        <p:spPr>
          <a:xfrm>
            <a:off x="6000480" y="1000080"/>
            <a:ext cx="1143720" cy="35784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37" name="Прямая со стрелкой 13"/>
          <p:cNvCxnSpPr/>
          <p:nvPr/>
        </p:nvCxnSpPr>
        <p:spPr>
          <a:xfrm flipH="1">
            <a:off x="4928400" y="1143000"/>
            <a:ext cx="2520" cy="71496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sp>
        <p:nvSpPr>
          <p:cNvPr id="338" name="Прямоугольник 10"/>
          <p:cNvSpPr/>
          <p:nvPr/>
        </p:nvSpPr>
        <p:spPr>
          <a:xfrm>
            <a:off x="3643200" y="292896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ть полезным общ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Прямоугольник 14"/>
          <p:cNvSpPr/>
          <p:nvPr/>
        </p:nvSpPr>
        <p:spPr>
          <a:xfrm>
            <a:off x="3643200" y="378612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ние выполнить свой дол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Прямоугольник 16"/>
          <p:cNvSpPr/>
          <p:nvPr/>
        </p:nvSpPr>
        <p:spPr>
          <a:xfrm>
            <a:off x="3643200" y="457200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мание необходимости учить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Прямоугольник 17"/>
          <p:cNvSpPr/>
          <p:nvPr/>
        </p:nvSpPr>
        <p:spPr>
          <a:xfrm>
            <a:off x="3643200" y="535788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о ответстве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Прямоугольник 18"/>
          <p:cNvSpPr/>
          <p:nvPr/>
        </p:nvSpPr>
        <p:spPr>
          <a:xfrm>
            <a:off x="500040" y="207180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ладение новыми знания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Прямоугольник 19"/>
          <p:cNvSpPr/>
          <p:nvPr/>
        </p:nvSpPr>
        <p:spPr>
          <a:xfrm>
            <a:off x="500040" y="2928960"/>
            <a:ext cx="2428920" cy="8571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 к приемам самостоятельного приобретения зна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Прямоугольник 20"/>
          <p:cNvSpPr/>
          <p:nvPr/>
        </p:nvSpPr>
        <p:spPr>
          <a:xfrm>
            <a:off x="500040" y="4000680"/>
            <a:ext cx="2428920" cy="1071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амостоятельное совершенствование способов добывания зна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Прямоугольник 22"/>
          <p:cNvSpPr/>
          <p:nvPr/>
        </p:nvSpPr>
        <p:spPr>
          <a:xfrm>
            <a:off x="500040" y="5214960"/>
            <a:ext cx="242892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циональной организации собственного учебного тру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Прямоугольник 25"/>
          <p:cNvSpPr/>
          <p:nvPr/>
        </p:nvSpPr>
        <p:spPr>
          <a:xfrm>
            <a:off x="6500880" y="2428920"/>
            <a:ext cx="242892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енную позицию в отношениях с окружающи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Прямоугольник 27"/>
          <p:cNvSpPr/>
          <p:nvPr/>
        </p:nvSpPr>
        <p:spPr>
          <a:xfrm>
            <a:off x="6500880" y="5357880"/>
            <a:ext cx="242892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азывать влияние на других учеников, доминировать в коллекти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Прямоугольник 28"/>
          <p:cNvSpPr/>
          <p:nvPr/>
        </p:nvSpPr>
        <p:spPr>
          <a:xfrm>
            <a:off x="6500880" y="457200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твержд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Прямоугольник 29"/>
          <p:cNvSpPr/>
          <p:nvPr/>
        </p:nvSpPr>
        <p:spPr>
          <a:xfrm>
            <a:off x="6500880" y="3786120"/>
            <a:ext cx="242892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лужить авторит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Номер слайда 2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F958-A179-4663-830F-BDE9DB063E05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214280" y="356760"/>
            <a:ext cx="74980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Учебно-познавательные мотивы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ямо заложены в самой учебной деятельности и связаны с 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держанием и процессом учения,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 овладением прежде всего 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пособом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деятельности. Они обнаруживаются в познавательных интересах, стремлении преодолевать трудности в процессе познания, проявлять интеллектуальную активность. Развитие мотивов этой группы зависит от уровня познавательной потребности, с которой ребенок приходит в школу, и от уровня содержания и организации учебного процесса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Управляющая кнопка: в начало 3"/>
          <p:cNvSpPr/>
          <p:nvPr/>
        </p:nvSpPr>
        <p:spPr>
          <a:xfrm>
            <a:off x="7643880" y="5857920"/>
            <a:ext cx="714240" cy="57132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253F-4B9A-443E-973F-CC9F1D4513D8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142640" y="285480"/>
            <a:ext cx="779148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Широкие социальные мотивы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ладших школьников выглядят как мотивы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самосовершенствован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быть культурным, развитым) и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самоопределен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после школы продолжать учиться или работать, выбрав профессию). Тот факт, что ребенок осознае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общественную значимость учения,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здает личностную готовность к школе и положительные ожидания к ней как результат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социальной установки.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Эти мотивы выступают как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понимаемые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и связаны с далекими, отсроченными целями. К ним примыкают мотивы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долга и ответственности,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торые сначала не осознаются детьми, но реально действуют в форме добросовестного выполнения заданий учителя, стремления соответствовать всем его требованиям. Однако эти мотивы присущи далеко не всем детям, что связано с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) неточным пониманием ответственности и безответственности в этом возрасте и с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) некритичным отношением к себе и часто — завышенной самооценко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Управляющая кнопка: в начало 3"/>
          <p:cNvSpPr/>
          <p:nvPr/>
        </p:nvSpPr>
        <p:spPr>
          <a:xfrm>
            <a:off x="7796160" y="6010200"/>
            <a:ext cx="714600" cy="571680"/>
          </a:xfrm>
          <a:custGeom>
            <a:avLst/>
            <a:gdLst>
              <a:gd name="textAreaLeft" fmla="*/ 36720 w 714600"/>
              <a:gd name="textAreaRight" fmla="*/ 677880 w 7146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97" h="21600">
                <a:moveTo>
                  <a:pt x="0" y="0"/>
                </a:moveTo>
                <a:lnTo>
                  <a:pt x="26997" y="0"/>
                </a:lnTo>
                <a:lnTo>
                  <a:pt x="26997" y="21600"/>
                </a:lnTo>
                <a:lnTo>
                  <a:pt x="0" y="21600"/>
                </a:lnTo>
                <a:close/>
              </a:path>
              <a:path fill="lightenLess" w="26997" h="21600">
                <a:moveTo>
                  <a:pt x="0" y="0"/>
                </a:moveTo>
                <a:lnTo>
                  <a:pt x="26997" y="0"/>
                </a:lnTo>
                <a:lnTo>
                  <a:pt x="25597" y="1400"/>
                </a:lnTo>
                <a:lnTo>
                  <a:pt x="1400" y="1400"/>
                </a:lnTo>
                <a:close/>
              </a:path>
              <a:path fill="darken" w="26997" h="21600">
                <a:moveTo>
                  <a:pt x="26997" y="0"/>
                </a:moveTo>
                <a:lnTo>
                  <a:pt x="26997" y="21600"/>
                </a:lnTo>
                <a:lnTo>
                  <a:pt x="25597" y="20200"/>
                </a:lnTo>
                <a:lnTo>
                  <a:pt x="25597" y="1400"/>
                </a:lnTo>
                <a:close/>
              </a:path>
              <a:path fill="darkenLess" w="26997" h="21600">
                <a:moveTo>
                  <a:pt x="26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7" y="20200"/>
                </a:lnTo>
                <a:close/>
              </a:path>
              <a:path fill="lighten" w="26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7" h="21600">
                <a:moveTo>
                  <a:pt x="9999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7" h="21600">
                <a:moveTo>
                  <a:pt x="6492" y="3794"/>
                </a:moveTo>
                <a:lnTo>
                  <a:pt x="8154" y="3794"/>
                </a:lnTo>
                <a:lnTo>
                  <a:pt x="8154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C89C-3121-492D-B428-EB9ED728DB40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Узколичные мотивы (позиционные)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ыступают в форме стремления получить хорошую отметку любой ценой, заслужить похвалу учителя или одобрение родителей, избежать наказания, получить награду (мотивы 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благополучия)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ли в форме желания выделиться среди сверстников, занять определенное положение в классе 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(престижные мотивы).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Управляющая кнопка: в начало 3"/>
          <p:cNvSpPr/>
          <p:nvPr/>
        </p:nvSpPr>
        <p:spPr>
          <a:xfrm>
            <a:off x="7796160" y="6010200"/>
            <a:ext cx="714600" cy="571680"/>
          </a:xfrm>
          <a:custGeom>
            <a:avLst/>
            <a:gdLst>
              <a:gd name="textAreaLeft" fmla="*/ 36720 w 714600"/>
              <a:gd name="textAreaRight" fmla="*/ 677880 w 7146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97" h="21600">
                <a:moveTo>
                  <a:pt x="0" y="0"/>
                </a:moveTo>
                <a:lnTo>
                  <a:pt x="26997" y="0"/>
                </a:lnTo>
                <a:lnTo>
                  <a:pt x="26997" y="21600"/>
                </a:lnTo>
                <a:lnTo>
                  <a:pt x="0" y="21600"/>
                </a:lnTo>
                <a:close/>
              </a:path>
              <a:path fill="lightenLess" w="26997" h="21600">
                <a:moveTo>
                  <a:pt x="0" y="0"/>
                </a:moveTo>
                <a:lnTo>
                  <a:pt x="26997" y="0"/>
                </a:lnTo>
                <a:lnTo>
                  <a:pt x="25597" y="1400"/>
                </a:lnTo>
                <a:lnTo>
                  <a:pt x="1400" y="1400"/>
                </a:lnTo>
                <a:close/>
              </a:path>
              <a:path fill="darken" w="26997" h="21600">
                <a:moveTo>
                  <a:pt x="26997" y="0"/>
                </a:moveTo>
                <a:lnTo>
                  <a:pt x="26997" y="21600"/>
                </a:lnTo>
                <a:lnTo>
                  <a:pt x="25597" y="20200"/>
                </a:lnTo>
                <a:lnTo>
                  <a:pt x="25597" y="1400"/>
                </a:lnTo>
                <a:close/>
              </a:path>
              <a:path fill="darkenLess" w="26997" h="21600">
                <a:moveTo>
                  <a:pt x="26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7" y="20200"/>
                </a:lnTo>
                <a:close/>
              </a:path>
              <a:path fill="lighten" w="26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7" h="21600">
                <a:moveTo>
                  <a:pt x="9999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7" h="21600">
                <a:moveTo>
                  <a:pt x="6492" y="3794"/>
                </a:moveTo>
                <a:lnTo>
                  <a:pt x="8154" y="3794"/>
                </a:lnTo>
                <a:lnTo>
                  <a:pt x="8154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2D3C-A9FF-457E-892C-B4D64D6A5F29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6"/>
          <p:cNvSpPr/>
          <p:nvPr/>
        </p:nvSpPr>
        <p:spPr>
          <a:xfrm>
            <a:off x="2643120" y="285840"/>
            <a:ext cx="4857840" cy="571320"/>
          </a:xfrm>
          <a:prstGeom prst="rec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МО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61" name="Прямая со стрелкой 11"/>
          <p:cNvCxnSpPr/>
          <p:nvPr/>
        </p:nvCxnSpPr>
        <p:spPr>
          <a:xfrm flipH="1">
            <a:off x="2714400" y="1000080"/>
            <a:ext cx="1286640" cy="28656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cxnSp>
        <p:nvCxnSpPr>
          <p:cNvPr id="362" name="Прямая со стрелкой 12"/>
          <p:cNvCxnSpPr/>
          <p:nvPr/>
        </p:nvCxnSpPr>
        <p:spPr>
          <a:xfrm>
            <a:off x="6000480" y="1000080"/>
            <a:ext cx="1143720" cy="357840"/>
          </a:xfrm>
          <a:prstGeom prst="straightConnector1">
            <a:avLst/>
          </a:prstGeom>
          <a:ln w="38160">
            <a:solidFill>
              <a:srgbClr val="835e01"/>
            </a:solidFill>
            <a:miter/>
            <a:tailEnd len="med" type="arrow" w="med"/>
          </a:ln>
        </p:spPr>
      </p:cxnSp>
      <p:sp>
        <p:nvSpPr>
          <p:cNvPr id="363" name="Блок-схема: документ 10"/>
          <p:cNvSpPr/>
          <p:nvPr/>
        </p:nvSpPr>
        <p:spPr>
          <a:xfrm>
            <a:off x="1928880" y="164304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нутрен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Блок-схема: документ 14"/>
          <p:cNvSpPr/>
          <p:nvPr/>
        </p:nvSpPr>
        <p:spPr>
          <a:xfrm>
            <a:off x="5857920" y="1643040"/>
            <a:ext cx="2143080" cy="714240"/>
          </a:xfrm>
          <a:prstGeom prst="flowChartDocument">
            <a:avLst/>
          </a:prstGeom>
          <a:solidFill>
            <a:srgbClr val="fff1ce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неш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2" descr="Картинка 30 из 187"/>
          <p:cNvPicPr/>
          <p:nvPr/>
        </p:nvPicPr>
        <p:blipFill>
          <a:blip r:embed="rId1"/>
          <a:stretch/>
        </p:blipFill>
        <p:spPr>
          <a:xfrm>
            <a:off x="5572080" y="2714760"/>
            <a:ext cx="1928880" cy="19047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research_sozaev"/>
          <p:cNvPicPr/>
          <p:nvPr/>
        </p:nvPicPr>
        <p:blipFill>
          <a:blip r:embed="rId2"/>
          <a:stretch/>
        </p:blipFill>
        <p:spPr>
          <a:xfrm>
            <a:off x="1214280" y="264312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j0232068"/>
          <p:cNvPicPr/>
          <p:nvPr/>
        </p:nvPicPr>
        <p:blipFill>
          <a:blip r:embed="rId3"/>
          <a:stretch/>
        </p:blipFill>
        <p:spPr>
          <a:xfrm>
            <a:off x="7643880" y="3500280"/>
            <a:ext cx="931680" cy="1843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4"/>
          <a:stretch/>
        </p:blipFill>
        <p:spPr>
          <a:xfrm>
            <a:off x="2786040" y="4143240"/>
            <a:ext cx="1755720" cy="2135160"/>
          </a:xfrm>
          <a:prstGeom prst="rect">
            <a:avLst/>
          </a:prstGeom>
          <a:ln w="38160">
            <a:solidFill>
              <a:srgbClr val="66ff66"/>
            </a:solidFill>
            <a:miter/>
          </a:ln>
        </p:spPr>
      </p:pic>
      <p:sp>
        <p:nvSpPr>
          <p:cNvPr id="369" name="Номер слайда 1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25F5-505C-4E85-88E2-EDAFFDE68A00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8:13:03Z</dcterms:created>
  <dc:creator>марина</dc:creator>
  <dc:description/>
  <dc:language>en-US</dc:language>
  <cp:lastModifiedBy>Admin</cp:lastModifiedBy>
  <dcterms:modified xsi:type="dcterms:W3CDTF">2011-03-14T22:54:10Z</dcterms:modified>
  <cp:revision>68</cp:revision>
  <dc:subject/>
  <dc:title>Сосчитай сколько букв А </dc:title>
</cp:coreProperties>
</file>