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1B3-3F4C-4772-BE4C-98591698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97B-5FB1-4693-B3D2-8404DBCD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532-33F1-4CAD-ABAB-7461E0AC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4EA-DED4-47F7-A547-F0FADF69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FC1-065A-4710-BB7B-29D64C11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7CA2-77E3-498C-B670-EF8437D1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4F3-5FFA-4B74-A2AD-0ABE266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B8C3-4670-40F4-A652-D88E279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CFE9-CE3C-4F6B-8835-CF95E5CE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140-A262-4447-AED9-AABF1E2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872B-6A74-4B20-855A-CB11B67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BF2-A23D-45E0-94A8-12F28E3B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4FF6-2E5C-4306-AC28-589A064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ABE8-232B-46A8-A15E-D64938C9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3E00-6E41-4023-934A-B85151F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B698-506E-4CA0-8F48-61998D4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56D5-E041-4B7F-B475-C90A4EFB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7627-1538-48BE-8990-65E19282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7587-0F72-4862-B9B0-6F1477D8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98D6-D520-4A2D-8906-1DDF4DA2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8643-1631-45C8-BD20-784AE0D2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4F3ED-C149-49B9-AEA3-69797110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CAE-5CD0-4BB8-A2FC-4624B1F5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0247-1464-4CD7-890C-8BE0CA29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2EB3-8876-4CFA-BB0D-FA7AD38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89CA-CC3B-459E-AD7E-6963BF1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5967-56D1-4671-AA1A-82513FA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39A4-31E4-4DDE-99FE-18E3401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7F22-76EB-41FB-904C-FF5799AC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1061-06FA-4911-99A8-103194FF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108-3E8E-4EB3-80B7-6D54017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DED-DE5A-4EE9-9E3B-D6E362C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B82-FD27-47EC-982A-FECDCA71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A1D-4DE9-42B0-BBB3-3AF43089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F4E-58FA-4522-86CD-29F68FE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18B-E14E-4B1A-ACDC-382F008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167-BB8D-4D82-9889-AEF5BD91AD2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5ED-3198-4C96-84A4-0C47CB1232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E81-5544-4057-9C2A-429A967822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anbethoven.ru/foto/bethoven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4000" y="836640"/>
            <a:ext cx="8272440" cy="190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e2f11b"/>
                </a:solidFill>
                <a:latin typeface="Constantia"/>
              </a:rPr>
              <a:t>Великие наши современники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Дом-музей в Бонне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амятник Бетховену в Бонне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5450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Коллекция слуховых трубок композитора.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214880" y="285480"/>
            <a:ext cx="46432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до слуха гения глух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стигало уж людское сло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да он знал лишь бунт стихий немы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, страстью опьяняемый, из 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гал гармонии, чредой чудесной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 подошла. Великий и безвест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лавленный, осмеянный, ти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раб – он умирал. Сплошной ту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утал небо. Дали застил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ла гроза. Жестокость мыслей 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стречу ночи реяла над н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БЕТХОВЕН  04 - Соната для фортепьяно №14 до-диез минор 'Лунная' соч. 27 - Presto agitato.mp3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142920" y="3156120"/>
            <a:ext cx="500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руг жаждой ненасытною том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днялся – орел еще могуч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слышал, слышал! Ах, взлететь на кру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рыть всю землю, лишь бы радость 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ынам земли! – Он слышал, как оп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рил гром в небесное поднож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ваченный неповторимой дрожью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смерть уже на лбу чертила знак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ебу, гордый, показал ку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тховен! Этот взмах лад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ее самой страшной из симфоний.                                   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М.Ры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6"/>
          <p:cNvSpPr/>
          <p:nvPr/>
        </p:nvSpPr>
        <p:spPr>
          <a:xfrm>
            <a:off x="8429760" y="6429240"/>
            <a:ext cx="500040" cy="214560"/>
          </a:xfrm>
          <a:custGeom>
            <a:avLst/>
            <a:gdLst>
              <a:gd name="textAreaLeft" fmla="*/ 13680 w 500040"/>
              <a:gd name="textAreaRight" fmla="*/ 486360 w 5000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0291" h="21600">
                <a:moveTo>
                  <a:pt x="0" y="0"/>
                </a:moveTo>
                <a:lnTo>
                  <a:pt x="50291" y="0"/>
                </a:lnTo>
                <a:lnTo>
                  <a:pt x="50291" y="21600"/>
                </a:lnTo>
                <a:lnTo>
                  <a:pt x="0" y="21600"/>
                </a:lnTo>
                <a:close/>
              </a:path>
              <a:path fill="lightenLess" w="50291" h="21600">
                <a:moveTo>
                  <a:pt x="0" y="0"/>
                </a:moveTo>
                <a:lnTo>
                  <a:pt x="50291" y="0"/>
                </a:lnTo>
                <a:lnTo>
                  <a:pt x="48891" y="1400"/>
                </a:lnTo>
                <a:lnTo>
                  <a:pt x="1400" y="1400"/>
                </a:lnTo>
                <a:close/>
              </a:path>
              <a:path fill="darken" w="50291" h="21600">
                <a:moveTo>
                  <a:pt x="50291" y="0"/>
                </a:moveTo>
                <a:lnTo>
                  <a:pt x="50291" y="21600"/>
                </a:lnTo>
                <a:lnTo>
                  <a:pt x="48891" y="20200"/>
                </a:lnTo>
                <a:lnTo>
                  <a:pt x="48891" y="1400"/>
                </a:lnTo>
                <a:close/>
              </a:path>
              <a:path fill="darkenLess" w="50291" h="21600">
                <a:moveTo>
                  <a:pt x="50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91" y="20200"/>
                </a:lnTo>
                <a:close/>
              </a:path>
              <a:path fill="lighten" w="50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91" h="21600">
                <a:moveTo>
                  <a:pt x="18139" y="10800"/>
                </a:moveTo>
                <a:lnTo>
                  <a:pt x="32152" y="3794"/>
                </a:lnTo>
                <a:lnTo>
                  <a:pt x="32152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8" descr="Music-Notes-1-P66POQESKS-800x600.jpg"/>
          <p:cNvPicPr/>
          <p:nvPr/>
        </p:nvPicPr>
        <p:blipFill>
          <a:blip r:embed="rId2"/>
          <a:stretch/>
        </p:blipFill>
        <p:spPr>
          <a:xfrm>
            <a:off x="927000" y="695160"/>
            <a:ext cx="2651400" cy="46944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beethoven-06.jpg"/>
          <p:cNvPicPr/>
          <p:nvPr/>
        </p:nvPicPr>
        <p:blipFill>
          <a:blip r:embed="rId3"/>
          <a:stretch/>
        </p:blipFill>
        <p:spPr>
          <a:xfrm>
            <a:off x="5499000" y="3286080"/>
            <a:ext cx="271800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2870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19664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Годы жиз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1770-18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Девиз симфонии №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Борьба с судьб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дноименная повесть Л.Н.Толстого, прославляющая данное музыкальное произ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Крейцерова сона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пера Бетхов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Фидели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имфония, в которой впервые вводится п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Симфония №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Эту сонату назвал «Лунной» поэт Л.Рельштаб. Как назвал ее сам автор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Соната – фанта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ую симфонию Бетховена называют гимном природ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f11b"/>
                </a:solidFill>
                <a:latin typeface="Times New Roman"/>
                <a:ea typeface="Times New Roman"/>
              </a:rPr>
              <a:t>«Пасторальна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Управляющая кнопка: назад 4"/>
          <p:cNvSpPr/>
          <p:nvPr/>
        </p:nvSpPr>
        <p:spPr>
          <a:xfrm>
            <a:off x="7358040" y="6215040"/>
            <a:ext cx="714240" cy="285840"/>
          </a:xfrm>
          <a:custGeom>
            <a:avLst/>
            <a:gdLst>
              <a:gd name="textAreaLeft" fmla="*/ 18360 w 714240"/>
              <a:gd name="textAreaRight" fmla="*/ 695880 w 7142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3932" h="21600">
                <a:moveTo>
                  <a:pt x="0" y="0"/>
                </a:moveTo>
                <a:lnTo>
                  <a:pt x="53932" y="0"/>
                </a:lnTo>
                <a:lnTo>
                  <a:pt x="53932" y="21600"/>
                </a:lnTo>
                <a:lnTo>
                  <a:pt x="0" y="21600"/>
                </a:lnTo>
                <a:close/>
              </a:path>
              <a:path fill="lightenLess" w="53932" h="21600">
                <a:moveTo>
                  <a:pt x="0" y="0"/>
                </a:moveTo>
                <a:lnTo>
                  <a:pt x="53932" y="0"/>
                </a:lnTo>
                <a:lnTo>
                  <a:pt x="52532" y="1400"/>
                </a:lnTo>
                <a:lnTo>
                  <a:pt x="1400" y="1400"/>
                </a:lnTo>
                <a:close/>
              </a:path>
              <a:path fill="darken" w="53932" h="21600">
                <a:moveTo>
                  <a:pt x="53932" y="0"/>
                </a:moveTo>
                <a:lnTo>
                  <a:pt x="53932" y="21600"/>
                </a:lnTo>
                <a:lnTo>
                  <a:pt x="52532" y="20200"/>
                </a:lnTo>
                <a:lnTo>
                  <a:pt x="52532" y="1400"/>
                </a:lnTo>
                <a:close/>
              </a:path>
              <a:path fill="darkenLess" w="53932" h="21600">
                <a:moveTo>
                  <a:pt x="5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2" y="20200"/>
                </a:lnTo>
                <a:close/>
              </a:path>
              <a:path fill="lighten" w="5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2" h="21600">
                <a:moveTo>
                  <a:pt x="19960" y="10800"/>
                </a:moveTo>
                <a:lnTo>
                  <a:pt x="33973" y="3794"/>
                </a:lnTo>
                <a:lnTo>
                  <a:pt x="3397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одерж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Биография и твор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Проверь себ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Кроссворд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1680" y="1714680"/>
          <a:ext cx="7786440" cy="4501800"/>
        </p:xfrm>
        <a:graphic>
          <a:graphicData uri="http://schemas.openxmlformats.org/drawingml/2006/table">
            <a:tbl>
              <a:tblPr/>
              <a:tblGrid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9000"/>
                <a:gridCol w="457200"/>
                <a:gridCol w="458640"/>
                <a:gridCol w="457200"/>
                <a:gridCol w="458640"/>
                <a:gridCol w="457200"/>
                <a:gridCol w="459000"/>
                <a:gridCol w="457200"/>
                <a:gridCol w="458640"/>
              </a:tblGrid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Управляющая кнопка: назад 4"/>
          <p:cNvSpPr/>
          <p:nvPr/>
        </p:nvSpPr>
        <p:spPr>
          <a:xfrm>
            <a:off x="7929720" y="6286680"/>
            <a:ext cx="785520" cy="357120"/>
          </a:xfrm>
          <a:custGeom>
            <a:avLst/>
            <a:gdLst>
              <a:gd name="textAreaLeft" fmla="*/ 23040 w 785520"/>
              <a:gd name="textAreaRight" fmla="*/ 762480 w 7855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7485" h="21600">
                <a:moveTo>
                  <a:pt x="0" y="0"/>
                </a:moveTo>
                <a:lnTo>
                  <a:pt x="47485" y="0"/>
                </a:lnTo>
                <a:lnTo>
                  <a:pt x="47485" y="21600"/>
                </a:lnTo>
                <a:lnTo>
                  <a:pt x="0" y="21600"/>
                </a:lnTo>
                <a:close/>
              </a:path>
              <a:path fill="lightenLess" w="47485" h="21600">
                <a:moveTo>
                  <a:pt x="0" y="0"/>
                </a:moveTo>
                <a:lnTo>
                  <a:pt x="47485" y="0"/>
                </a:lnTo>
                <a:lnTo>
                  <a:pt x="46085" y="1400"/>
                </a:lnTo>
                <a:lnTo>
                  <a:pt x="1400" y="1400"/>
                </a:lnTo>
                <a:close/>
              </a:path>
              <a:path fill="darken" w="47485" h="21600">
                <a:moveTo>
                  <a:pt x="47485" y="0"/>
                </a:moveTo>
                <a:lnTo>
                  <a:pt x="47485" y="21600"/>
                </a:lnTo>
                <a:lnTo>
                  <a:pt x="46085" y="20200"/>
                </a:lnTo>
                <a:lnTo>
                  <a:pt x="46085" y="1400"/>
                </a:lnTo>
                <a:close/>
              </a:path>
              <a:path fill="darkenLess" w="47485" h="21600">
                <a:moveTo>
                  <a:pt x="4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85" y="20200"/>
                </a:lnTo>
                <a:close/>
              </a:path>
              <a:path fill="lighten" w="4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85" h="21600">
                <a:moveTo>
                  <a:pt x="16736" y="10800"/>
                </a:moveTo>
                <a:lnTo>
                  <a:pt x="30749" y="3794"/>
                </a:lnTo>
                <a:lnTo>
                  <a:pt x="30749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d700"/>
                </a:solidFill>
                <a:latin typeface="Constantia"/>
              </a:rPr>
              <a:t>Составить тест по творчеству Л. Бетхов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Управляющая кнопка: назад 3"/>
          <p:cNvSpPr/>
          <p:nvPr/>
        </p:nvSpPr>
        <p:spPr>
          <a:xfrm>
            <a:off x="800100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иография и творчество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4429080" y="2714760"/>
            <a:ext cx="45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1770-182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-main-pic" descr="Картинка 1 из 4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285920"/>
            <a:ext cx="385740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3249720" cy="6669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8000"/>
          </a:bodyPr>
          <a:p>
            <a:pPr marL="48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зненный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Детст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е способ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я с отц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концер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нужденная раб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Занятия с Христианом Неф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Университет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и мастер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а с Моцарт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ы о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ская револю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ереезд в Вену. Расцвет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ость композито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ый инструмент – фортепиа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и этик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хо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следние годы жизни и твор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74800" y="-360"/>
            <a:ext cx="511164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1000"/>
          </a:bodyPr>
          <a:p>
            <a:pPr marL="248040" indent="-248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 «Фидели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ртюры (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 к трагедии И.В.Гетте «Эгмон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фонии 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юношеских сонат для фортепи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тепианные сонаты (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аты для скрипки и фортепиано (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аты для виолончели и фортепиано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струнных кварт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кальный цикл «К далекой возлюбленн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концертов для фортепиано с оркес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рт для скрипки с оркест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 вари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ндо, экосезы, менуэты и др. пьесы (около 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оржественная ме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ботки народных пес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8040" indent="-2480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40 песен на слова различных ав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Детство.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дился в немецком г.Бонн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 в музыкальной семье.  Дед играл на скрипке и пел в хоре в придворной капеллы князя, наместника Бонна. Здесь же служил и отец. Раннее проявление музыкальных способност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ец Бетховена обучал сына музыке, но был неопытный, черствый, а порой и жестокий человек. По 7-8 часов заставлял ребенка играть упражнения. А иногда будил среди ночи, приходя домой после веселой вечеринки, и заставлял играть на фортепиано, демонстрируя своим друзьям успехи маленького музыканта. Яркий талант ребенка и влечение к музыке помогли преодолеть жестокое обращение и не отпугнули от искус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8 лет маленький Бетховен дал первый концерт в г.Кёльне и др. городах. В 10 лет отец забрал ребенка из школы, т.к. не хватало денег в семье. С 12 лет мальчик вынужден работать в придворной капелле в качестве органис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7236000" y="6372360"/>
            <a:ext cx="647640" cy="485640"/>
          </a:xfrm>
          <a:prstGeom prst="leftArrow">
            <a:avLst>
              <a:gd name="adj1" fmla="val 50000"/>
              <a:gd name="adj2" fmla="val 3334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нятия с Христианом Нефе.</a:t>
            </a:r>
            <a:r>
              <a:rPr b="0" lang="ru-RU" sz="4200" spc="-1" strike="noStrike" u="sng">
                <a:solidFill>
                  <a:srgbClr val="dbf5f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92г. – счастливая встреча с Х.Нефе – прекрасный педагог, композитор, органист, который стал его учителем. По его совету юноша много читал, изучал иностранные языки (латинский, французский, итальянский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87г. – поездка в Вену, где встретился с Моцартом. Моцарт сказал: «Обратите внимание на него! Он всех заставит о себе говорить!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рла мать. Юноша берет на себя все заботы о семье – воспитании двух младших братьев. Служит в оперном театре, играя в оркестре на альте, выступает с концертами, дает уро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789г. – революция во Франции. Провозглашены идеи революции – свобода, равенство и братство, которые нашли горячий отклик в душе композито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659640" y="6093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ереезд в Вену.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Расцвет творчества. 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792г. – переезд в Вену, где жил до конца своих дней. Имя Бетховена получила большую известность. Сначала завоевал Вену как пианист. Он играл на новом инструменте – фортепиано, изобретенным в начал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толетия итальянцем Кристофори, вытесняя клавесин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нешний облик Бетховена, его отношение к людям ломали все правила этикета. Без парика, с гривой густых черных волос, с упрямо сдвинутыми бровями и плотно сжатыми губами, небрежно и просто одетый по тем временам выделялся среди людей с галантными манерами. Нередко он был резок в обращении с богатыми вельможами. Он не переносил их высокомерного отношения к музыке. В одном из писем Бетховен писал: «Князей существует и будет существовать тысячи. Бетховен же один».  Друзья знали Бетховена как веселого и отзывчивого, доброго и нежного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агедией его жизни была глухота, которая сделала его замкнутым. Первые признаки почувствовал в 28 лет. Любовь к музыке, к людям спасли его от самоубийства. Известны его слова:  «Я схвачу судьбу за глотку и не позволю, чтобы она меня сокрушил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802г. – расцвет творчества. Это героический период творчества компози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588000" y="6381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Последние годы жизни </a:t>
            </a:r>
            <a:br>
              <a:rPr sz="4600"/>
            </a:br>
            <a:r>
              <a:rPr b="0" lang="ru-RU" sz="4600" spc="-1" strike="noStrike">
                <a:solidFill>
                  <a:srgbClr val="dbf5f9"/>
                </a:solidFill>
                <a:latin typeface="Arial"/>
              </a:rPr>
              <a:t>и творчеств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писано значительно меньше. Это фортепианные сонаты, вокальный цикл «К далекой возлюбленной». 1824г. – «Торжественная месса» - хоровое произведение духовного содержания на латинском языке, симфония №9, в в финале которой звучит ода Шиллера «К радости», напоминая гимн. Болезнь становится сильнее, но композитор продолжает работать. среди горячих почитателей таланта Франц Шуберт, но робость и чрезмерная скромность мешали ему познакомиться с Бетховеном. Бетховен знал музыку Шуберта и с похвалой о ней отзывалс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последни годы страдал тяжелой болезнью печени. Было сделано 4 операции, но ничто не могло помочь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мер в 1827г. Похороны его превратились в грандиозную манифестацию. Гроб провожала двадцатитысячная толпа. Похоронен на Венском кладбище. Дом, где он родился, превращен в муз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516720" y="6087960"/>
            <a:ext cx="237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32720" y="6014880"/>
            <a:ext cx="216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940360" y="6093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9:22Z</dcterms:created>
  <dc:creator>User</dc:creator>
  <dc:description/>
  <dc:language>en-US</dc:language>
  <cp:lastModifiedBy>Коля</cp:lastModifiedBy>
  <dcterms:modified xsi:type="dcterms:W3CDTF">2013-03-20T19:39:52Z</dcterms:modified>
  <cp:revision>29</cp:revision>
  <dc:subject/>
  <dc:title>Людвиг  ван Бетховен</dc:title>
</cp:coreProperties>
</file>