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38E-5A84-4136-9B85-A18098CA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4B7-6365-47EC-971A-F0B56837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92E-40EC-4D84-BEC7-926FE77E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E6F-F851-48AE-97B1-7A5148EE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C7C-8FFE-4807-89A8-D287BB7C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571-7CF1-4C15-82CD-88CD8B1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909D-798F-4468-8167-EDC67A7C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B58-04EF-4E1E-B576-47A300DB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1A4-EDA3-487A-AF4F-114D51C7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491-69C6-423C-B697-7FC1D9B0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3D3-4875-410F-BC28-BD283FC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5A0-9736-4A43-9674-6CE63454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DED-227D-4AFE-9015-8FC21DA9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C895-741B-4D23-853A-C3BD450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0788-D1A7-40E3-810A-12BD0DD1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A9AA-95F3-4D74-8BC3-7DB87D16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2BD5-E264-4364-8B93-0D48FA11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9E0B-50DF-4E7A-B8CC-431F007E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51A6-A97D-4F0A-AC7A-601E5390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D50F-FA14-43DA-8C8C-5CBB9E7B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F66C-875F-41A1-9920-F21B89F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62FA-D74D-4367-8EB2-61DDDFBF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A61-D100-45D9-BA23-191AA82E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D77F-29CA-4696-A529-6E0FCB7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C6BB-910B-4677-9CA6-484DC91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776C-022B-4515-9BD2-E15C817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5207-36AE-4F36-921D-1452620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611F-66AF-4523-B27C-21BAFA9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BEFD-4E5E-498F-8B5E-34078910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69F0-3A72-4E3C-B44F-F98DB74F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0B1-4C9B-4250-8D13-F0B392E9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C10-D895-4687-88C6-C6B19EE4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DE5-A748-4A81-BB53-F1CB153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6DC-9717-402F-B837-A1A7C290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582-2CA3-4D33-A1FD-64EDA66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AD0-2737-4D71-9273-DE11AF9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445-37B9-4E1B-A8CA-9786241CF7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7967-D63D-4BC1-ACC4-19F87CE2CC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5F5-E0B2-4421-87C3-A9C4FD6567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anbethoven.ru/foto/bethove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4000" y="836640"/>
            <a:ext cx="8272440" cy="190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e2f11b"/>
                </a:solidFill>
                <a:latin typeface="Constantia"/>
              </a:rPr>
              <a:t>Великие наши современники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Дом-музей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амятник Бетховену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5450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Коллекция слуховых трубок композитора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214880" y="285480"/>
            <a:ext cx="4643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до слуха гения глу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стигало уж людское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он знал лишь бунт стихий нем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страстью опьяняемый, из 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гал гармонии, чредой чудесной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 подошла. Великий и безвест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лавленный, осмеянный, т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раб – он умирал. Сплошной ту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тал небо. Дали застил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ла гроза. Жестокость мыслей 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стречу ночи реяла над н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БЕТХОВЕН  04 - Соната для фортепьяно №14 до-диез минор 'Лунная' соч. 27 - Presto agitato.mp3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142920" y="315612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жаждой ненасытною том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нялся – орел еще могу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лышал, слышал! Ах, взлететь на кру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рыть всю землю, лишь бы радость 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ам земли! – Он слышал, как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рил гром в небесное поднож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ваченный неповторимой дрожью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мерть уже на лбу чертила знак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бу, гордый, показал ку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ховен! Этот взмах лад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ее самой страшной из симфоний.                                   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.Ры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6"/>
          <p:cNvSpPr/>
          <p:nvPr/>
        </p:nvSpPr>
        <p:spPr>
          <a:xfrm>
            <a:off x="842976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10800"/>
                </a:moveTo>
                <a:lnTo>
                  <a:pt x="32152" y="3794"/>
                </a:lnTo>
                <a:lnTo>
                  <a:pt x="32152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8" descr="Music-Notes-1-P66POQESKS-800x600.jpg"/>
          <p:cNvPicPr/>
          <p:nvPr/>
        </p:nvPicPr>
        <p:blipFill>
          <a:blip r:embed="rId2"/>
          <a:stretch/>
        </p:blipFill>
        <p:spPr>
          <a:xfrm>
            <a:off x="927000" y="695160"/>
            <a:ext cx="2651400" cy="4694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beethoven-06.jpg"/>
          <p:cNvPicPr/>
          <p:nvPr/>
        </p:nvPicPr>
        <p:blipFill>
          <a:blip r:embed="rId3"/>
          <a:stretch/>
        </p:blipFill>
        <p:spPr>
          <a:xfrm>
            <a:off x="5499000" y="3286080"/>
            <a:ext cx="271800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2870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19664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Годы жиз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1770-18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Девиз симфонии №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Борьба с судьб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дноименная повесть Л.Н.Толстого, прославляющая данное музыкальное произ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Крейцерова сона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ера Бетхов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Фидели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имфония, в которой впервые вводится п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имфония №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Эту сонату назвал «Лунной» поэт Л.Рельштаб. Как назвал ее сам авто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оната – фанта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ую симфонию Бетховена называют гимном природ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Пастораль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Управляющая кнопка: назад 4"/>
          <p:cNvSpPr/>
          <p:nvPr/>
        </p:nvSpPr>
        <p:spPr>
          <a:xfrm>
            <a:off x="7358040" y="6215040"/>
            <a:ext cx="714240" cy="28584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3932" h="21600">
                <a:moveTo>
                  <a:pt x="0" y="0"/>
                </a:moveTo>
                <a:lnTo>
                  <a:pt x="53932" y="0"/>
                </a:lnTo>
                <a:lnTo>
                  <a:pt x="53932" y="21600"/>
                </a:lnTo>
                <a:lnTo>
                  <a:pt x="0" y="21600"/>
                </a:lnTo>
                <a:close/>
              </a:path>
              <a:path fill="lightenLess" w="53932" h="21600">
                <a:moveTo>
                  <a:pt x="0" y="0"/>
                </a:moveTo>
                <a:lnTo>
                  <a:pt x="53932" y="0"/>
                </a:lnTo>
                <a:lnTo>
                  <a:pt x="52532" y="1400"/>
                </a:lnTo>
                <a:lnTo>
                  <a:pt x="1400" y="1400"/>
                </a:lnTo>
                <a:close/>
              </a:path>
              <a:path fill="darken" w="53932" h="21600">
                <a:moveTo>
                  <a:pt x="53932" y="0"/>
                </a:moveTo>
                <a:lnTo>
                  <a:pt x="53932" y="21600"/>
                </a:lnTo>
                <a:lnTo>
                  <a:pt x="52532" y="20200"/>
                </a:lnTo>
                <a:lnTo>
                  <a:pt x="52532" y="1400"/>
                </a:lnTo>
                <a:close/>
              </a:path>
              <a:path fill="darkenLess" w="53932" h="21600">
                <a:moveTo>
                  <a:pt x="5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2" y="20200"/>
                </a:lnTo>
                <a:close/>
              </a:path>
              <a:path fill="lighten" w="5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2" h="21600">
                <a:moveTo>
                  <a:pt x="19960" y="10800"/>
                </a:moveTo>
                <a:lnTo>
                  <a:pt x="33973" y="3794"/>
                </a:lnTo>
                <a:lnTo>
                  <a:pt x="3397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одерж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Биография и твор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Проверь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Управляющая кнопка: назад 4"/>
          <p:cNvSpPr/>
          <p:nvPr/>
        </p:nvSpPr>
        <p:spPr>
          <a:xfrm>
            <a:off x="7929720" y="628668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10800"/>
                </a:moveTo>
                <a:lnTo>
                  <a:pt x="30749" y="3794"/>
                </a:lnTo>
                <a:lnTo>
                  <a:pt x="30749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700"/>
                </a:solidFill>
                <a:latin typeface="Constantia"/>
              </a:rPr>
              <a:t>Составить тест по творчеству Л. Бетхов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назад 3"/>
          <p:cNvSpPr/>
          <p:nvPr/>
        </p:nvSpPr>
        <p:spPr>
          <a:xfrm>
            <a:off x="80010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иография и творчество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429080" y="2714760"/>
            <a:ext cx="45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1770-182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-main-pic" descr="Картинка 1 из 4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285920"/>
            <a:ext cx="385740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3249720" cy="666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ый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ет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способ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с отц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концер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нужденная раб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нятия с Христианом Неф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ниверситет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и мастер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а с Моца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ы о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ская револю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ереезд в Вену. Расцвет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сть композит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инструмент – фортепиа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и этик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дние годы жизни и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4800" y="-360"/>
            <a:ext cx="511164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 «Фидели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ртюры (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к трагедии И.В.Гетте «Эгмон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фонии 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юношеских сонат для фортепи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тепианные сонаты (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скрипки и фортепиано (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виолончели и фортепиано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струнных кварт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кальный цикл «К далекой возлюбленн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концертов для фортепиано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рт для скрипки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 вари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до, экосезы, менуэты и др. пьесы (около 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оржественная ме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ботки народных пе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40 песен на слова различных ав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Детство.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дился в немецком г.Бон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 в музыкальной семье.  Дед играл на скрипке и пел в хоре в придворной капеллы князя, наместника Бонна. Здесь же служил и отец. Раннее проявление музыкальных способнос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ец Бетховена обучал сына музыке, но был неопытный, черствый, а порой и жестокий человек. По 7-8 часов заставлял ребенка играть упражнения. А иногда будил среди ночи, приходя домой после веселой вечеринки, и заставлял играть на фортепиано, демонстрируя своим друзьям успехи маленького музыканта. Яркий талант ребенка и влечение к музыке помогли преодолеть жестокое обращение и не отпугнули от искус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8 лет маленький Бетховен дал первый концерт в г.Кёльне и др. городах. В 10 лет отец забрал ребенка из школы, т.к. не хватало денег в семье. С 12 лет мальчик вынужден работать в придворной капелле в качестве органис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236000" y="6372360"/>
            <a:ext cx="647640" cy="48564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нятия с Христианом Нефе.</a:t>
            </a:r>
            <a:r>
              <a:rPr b="0" lang="ru-RU" sz="4200" spc="-1" strike="noStrike" u="sng">
                <a:solidFill>
                  <a:srgbClr val="dbf5f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92г. – счастливая встреча с Х.Нефе – прекрасный педагог, композитор, органист, который стал его учителем. По его совету юноша много читал, изучал иностранные языки (латинский, французский, итальянский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7г. – поездка в Вену, где встретился с Моцартом. Моцарт сказал: «Обратите внимание на него! Он всех заставит о себе говорить!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ла мать. Юноша берет на себя все заботы о семье – воспитании двух младших братьев. Служит в оперном театре, играя в оркестре на альте, выступает с концертами, дает уро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9г. – революция во Франции. Провозглашены идеи революции – свобода, равенство и братство, которые нашли горячий отклик в душе композито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65964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ереезд в Вену.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Расцвет творчества.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792г. – переезд в Вену, где жил до конца своих дней. Имя Бетховена получила большую известность. Сначала завоевал Вену как пианист. Он играл на новом инструменте – фортепиано, изобретенным в начал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олетия итальянцем Кристофори, вытесняя клавесин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шний облик Бетховена, его отношение к людям ломали все правила этикета. Без парика, с гривой густых черных волос, с упрямо сдвинутыми бровями и плотно сжатыми губами, небрежно и просто одетый по тем временам выделялся среди людей с галантными манерами. Нередко он был резок в обращении с богатыми вельможами. Он не переносил их высокомерного отношения к музыке. В одном из писем Бетховен писал: «Князей существует и будет существовать тысячи. Бетховен же один».  Друзья знали Бетховена как веселого и отзывчивого, доброго и нежного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гедией его жизни была глухота, которая сделала его замкнутым. Первые признаки почувствовал в 28 лет. Любовь к музыке, к людям спасли его от самоубийства. Известны его слова:  «Я схвачу судьбу за глотку и не позволю, чтобы она меня сокрушил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802г. – расцвет творчества. Это героический период творчества компози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588000" y="6381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оследние годы жизни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и творчеств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писано значительно меньше. Это фортепианные сонаты, вокальный цикл «К далекой возлюбленной». 1824г. – «Торжественная месса» - хоровое произведение духовного содержания на латинском языке, симфония №9, в в финале которой звучит ода Шиллера «К радости», напоминая гимн. Болезнь становится сильнее, но композитор продолжает работать. среди горячих почитателей таланта Франц Шуберт, но робость и чрезмерная скромность мешали ему познакомиться с Бетховеном. Бетховен знал музыку Шуберта и с похвалой о ней отзывал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оследни годы страдал тяжелой болезнью печени. Было сделано 4 операции, но ничто не могло помоч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 в 1827г. Похороны его превратились в грандиозную манифестацию. Гроб провожала двадцатитысячная толпа. Похоронен на Венском кладбище. Дом, где он родился, превращен в муз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516720" y="6087960"/>
            <a:ext cx="23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32720" y="60148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940360" y="6093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9:22Z</dcterms:created>
  <dc:creator>User</dc:creator>
  <dc:description/>
  <dc:language>en-US</dc:language>
  <cp:lastModifiedBy>Коля</cp:lastModifiedBy>
  <dcterms:modified xsi:type="dcterms:W3CDTF">2013-03-20T19:39:52Z</dcterms:modified>
  <cp:revision>29</cp:revision>
  <dc:subject/>
  <dc:title>Людвиг  ван Бетховен</dc:title>
</cp:coreProperties>
</file>