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DF1-A9C8-4560-A100-7B4724E5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548-496E-40CA-BF0D-1B59C13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CF6-D32F-42D3-8836-74690EBC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912-8797-4C01-8A85-22E850DD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0EEF-0009-48F2-87A7-17D66CE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8D1-F574-4083-951A-03C506D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187-9DEA-42C1-B01A-3B10FC75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D7E-734C-49AA-8DFD-637D6758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6D17-1884-4723-9D5D-65DB85E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0FED-3A65-4BEF-9975-9AA56FA1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BCD-784A-49C7-B790-866A7972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572-5A4E-4D0E-A32B-BB53081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89DB-A037-4769-A49D-6B276B19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BCD-BFB1-489B-A83E-1A2DFED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E471-DD2B-4122-8E5D-E4217F5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F486-F91A-4A41-846E-34E4F674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1F8F-EB2C-40F0-9ED7-FE9BE13E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F3D95-4F66-40D3-9E56-87C68BE3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3BE6-4E6E-445B-B975-7CA4C35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D375-2A8C-4C9E-9496-764331B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3812-516A-43B7-A386-94478B2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CBCD-718C-4ED6-BDEF-A9A077F7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FB0-65BE-418F-88D8-82E5D2A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D8A2-C587-483B-93FF-B4C67A6C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1650-223D-40F0-972B-70A0A5B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32A7-E73A-452F-8D0C-9B0C54B4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7BD1-23C0-464C-8BA4-0C270F73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1B61-5770-4F48-B034-EFB0D88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AB12-9748-4F39-9099-08FBE878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7407-89F9-4B46-9C5C-BB040D3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37A-3495-4732-9F8F-346A41F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41E-A930-47A5-8E03-6A951D84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8B7-0A4D-437C-862C-4C07E1A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C51-E621-4B0A-A2C9-58B7221C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3B8-8B49-48DC-82D3-0573B128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D27-93CC-4D5A-85E1-70DBDDB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F68C-073C-4C8C-99DF-27AC57A4F1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A7EF-D125-4607-A3EF-ED5EC0101F6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DAE-EDA3-4858-BBB6-A054AB2CA9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anbethoven.ru/foto/bethove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4000" y="836640"/>
            <a:ext cx="8272440" cy="190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e2f11b"/>
                </a:solidFill>
                <a:latin typeface="Constantia"/>
              </a:rPr>
              <a:t>Великие наши современники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Дом-музей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амятник Бетховену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5450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Коллекция слуховых трубок композитора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214880" y="285480"/>
            <a:ext cx="4643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до слуха гения глу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стигало уж людское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он знал лишь бунт стихий нем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страстью опьяняемый, из 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гал гармонии, чредой чудесной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 подошла. Великий и безвест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лавленный, осмеянный, т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раб – он умирал. Сплошной ту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тал небо. Дали застил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ла гроза. Жестокость мыслей 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стречу ночи реяла над н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БЕТХОВЕН  04 - Соната для фортепьяно №14 до-диез минор 'Лунная' соч. 27 - Presto agitato.mp3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142920" y="315612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жаждой ненасытною том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нялся – орел еще могу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лышал, слышал! Ах, взлететь на кру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рыть всю землю, лишь бы радость 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ам земли! – Он слышал, как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рил гром в небесное поднож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ваченный неповторимой дрожью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мерть уже на лбу чертила знак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бу, гордый, показал ку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ховен! Этот взмах лад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ее самой страшной из симфоний.                                   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.Ры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6"/>
          <p:cNvSpPr/>
          <p:nvPr/>
        </p:nvSpPr>
        <p:spPr>
          <a:xfrm>
            <a:off x="842976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10800"/>
                </a:moveTo>
                <a:lnTo>
                  <a:pt x="32152" y="3794"/>
                </a:lnTo>
                <a:lnTo>
                  <a:pt x="32152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8" descr="Music-Notes-1-P66POQESKS-800x600.jpg"/>
          <p:cNvPicPr/>
          <p:nvPr/>
        </p:nvPicPr>
        <p:blipFill>
          <a:blip r:embed="rId2"/>
          <a:stretch/>
        </p:blipFill>
        <p:spPr>
          <a:xfrm>
            <a:off x="927000" y="695160"/>
            <a:ext cx="2651400" cy="4694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beethoven-06.jpg"/>
          <p:cNvPicPr/>
          <p:nvPr/>
        </p:nvPicPr>
        <p:blipFill>
          <a:blip r:embed="rId3"/>
          <a:stretch/>
        </p:blipFill>
        <p:spPr>
          <a:xfrm>
            <a:off x="5499000" y="3286080"/>
            <a:ext cx="271800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2870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19664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Годы жиз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1770-18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Девиз симфонии №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Борьба с судьб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дноименная повесть Л.Н.Толстого, прославляющая данное музыкальное произ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Крейцерова сона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ера Бетхов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Фидели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имфония, в которой впервые вводится п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имфония №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Эту сонату назвал «Лунной» поэт Л.Рельштаб. Как назвал ее сам авто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оната – фанта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ую симфонию Бетховена называют гимном природ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Пастораль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Управляющая кнопка: назад 4"/>
          <p:cNvSpPr/>
          <p:nvPr/>
        </p:nvSpPr>
        <p:spPr>
          <a:xfrm>
            <a:off x="7358040" y="6215040"/>
            <a:ext cx="714240" cy="28584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3932" h="21600">
                <a:moveTo>
                  <a:pt x="0" y="0"/>
                </a:moveTo>
                <a:lnTo>
                  <a:pt x="53932" y="0"/>
                </a:lnTo>
                <a:lnTo>
                  <a:pt x="53932" y="21600"/>
                </a:lnTo>
                <a:lnTo>
                  <a:pt x="0" y="21600"/>
                </a:lnTo>
                <a:close/>
              </a:path>
              <a:path fill="lightenLess" w="53932" h="21600">
                <a:moveTo>
                  <a:pt x="0" y="0"/>
                </a:moveTo>
                <a:lnTo>
                  <a:pt x="53932" y="0"/>
                </a:lnTo>
                <a:lnTo>
                  <a:pt x="52532" y="1400"/>
                </a:lnTo>
                <a:lnTo>
                  <a:pt x="1400" y="1400"/>
                </a:lnTo>
                <a:close/>
              </a:path>
              <a:path fill="darken" w="53932" h="21600">
                <a:moveTo>
                  <a:pt x="53932" y="0"/>
                </a:moveTo>
                <a:lnTo>
                  <a:pt x="53932" y="21600"/>
                </a:lnTo>
                <a:lnTo>
                  <a:pt x="52532" y="20200"/>
                </a:lnTo>
                <a:lnTo>
                  <a:pt x="52532" y="1400"/>
                </a:lnTo>
                <a:close/>
              </a:path>
              <a:path fill="darkenLess" w="53932" h="21600">
                <a:moveTo>
                  <a:pt x="5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2" y="20200"/>
                </a:lnTo>
                <a:close/>
              </a:path>
              <a:path fill="lighten" w="5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2" h="21600">
                <a:moveTo>
                  <a:pt x="19960" y="10800"/>
                </a:moveTo>
                <a:lnTo>
                  <a:pt x="33973" y="3794"/>
                </a:lnTo>
                <a:lnTo>
                  <a:pt x="3397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одерж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Биография и твор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Проверь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Управляющая кнопка: назад 4"/>
          <p:cNvSpPr/>
          <p:nvPr/>
        </p:nvSpPr>
        <p:spPr>
          <a:xfrm>
            <a:off x="7929720" y="628668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10800"/>
                </a:moveTo>
                <a:lnTo>
                  <a:pt x="30749" y="3794"/>
                </a:lnTo>
                <a:lnTo>
                  <a:pt x="30749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700"/>
                </a:solidFill>
                <a:latin typeface="Constantia"/>
              </a:rPr>
              <a:t>Составить тест по творчеству Л. Бетхов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назад 3"/>
          <p:cNvSpPr/>
          <p:nvPr/>
        </p:nvSpPr>
        <p:spPr>
          <a:xfrm>
            <a:off x="80010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иография и творчество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429080" y="2714760"/>
            <a:ext cx="45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1770-182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-main-pic" descr="Картинка 1 из 4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285920"/>
            <a:ext cx="385740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3249720" cy="666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ый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ет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способ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с отц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концер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нужденная раб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нятия с Христианом Неф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ниверситет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и мастер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а с Моца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ы о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ская револю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ереезд в Вену. Расцвет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сть композит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инструмент – фортепиа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и этик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дние годы жизни и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4800" y="-360"/>
            <a:ext cx="511164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 «Фидели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ртюры (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к трагедии И.В.Гетте «Эгмон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фонии 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юношеских сонат для фортепи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тепианные сонаты (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скрипки и фортепиано (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виолончели и фортепиано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струнных кварт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кальный цикл «К далекой возлюбленн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концертов для фортепиано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рт для скрипки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 вари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до, экосезы, менуэты и др. пьесы (около 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оржественная ме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ботки народных пе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40 песен на слова различных ав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Детство.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дился в немецком г.Бон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 в музыкальной семье.  Дед играл на скрипке и пел в хоре в придворной капеллы князя, наместника Бонна. Здесь же служил и отец. Раннее проявление музыкальных способнос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ец Бетховена обучал сына музыке, но был неопытный, черствый, а порой и жестокий человек. По 7-8 часов заставлял ребенка играть упражнения. А иногда будил среди ночи, приходя домой после веселой вечеринки, и заставлял играть на фортепиано, демонстрируя своим друзьям успехи маленького музыканта. Яркий талант ребенка и влечение к музыке помогли преодолеть жестокое обращение и не отпугнули от искус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8 лет маленький Бетховен дал первый концерт в г.Кёльне и др. городах. В 10 лет отец забрал ребенка из школы, т.к. не хватало денег в семье. С 12 лет мальчик вынужден работать в придворной капелле в качестве органис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236000" y="6372360"/>
            <a:ext cx="647640" cy="48564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нятия с Христианом Нефе.</a:t>
            </a:r>
            <a:r>
              <a:rPr b="0" lang="ru-RU" sz="4200" spc="-1" strike="noStrike" u="sng">
                <a:solidFill>
                  <a:srgbClr val="dbf5f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92г. – счастливая встреча с Х.Нефе – прекрасный педагог, композитор, органист, который стал его учителем. По его совету юноша много читал, изучал иностранные языки (латинский, французский, итальянский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7г. – поездка в Вену, где встретился с Моцартом. Моцарт сказал: «Обратите внимание на него! Он всех заставит о себе говорить!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ла мать. Юноша берет на себя все заботы о семье – воспитании двух младших братьев. Служит в оперном театре, играя в оркестре на альте, выступает с концертами, дает уро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9г. – революция во Франции. Провозглашены идеи революции – свобода, равенство и братство, которые нашли горячий отклик в душе композито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65964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ереезд в Вену.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Расцвет творчества.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792г. – переезд в Вену, где жил до конца своих дней. Имя Бетховена получила большую известность. Сначала завоевал Вену как пианист. Он играл на новом инструменте – фортепиано, изобретенным в начал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олетия итальянцем Кристофори, вытесняя клавесин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шний облик Бетховена, его отношение к людям ломали все правила этикета. Без парика, с гривой густых черных волос, с упрямо сдвинутыми бровями и плотно сжатыми губами, небрежно и просто одетый по тем временам выделялся среди людей с галантными манерами. Нередко он был резок в обращении с богатыми вельможами. Он не переносил их высокомерного отношения к музыке. В одном из писем Бетховен писал: «Князей существует и будет существовать тысячи. Бетховен же один».  Друзья знали Бетховена как веселого и отзывчивого, доброго и нежного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гедией его жизни была глухота, которая сделала его замкнутым. Первые признаки почувствовал в 28 лет. Любовь к музыке, к людям спасли его от самоубийства. Известны его слова:  «Я схвачу судьбу за глотку и не позволю, чтобы она меня сокрушил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802г. – расцвет творчества. Это героический период творчества компози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588000" y="6381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оследние годы жизни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и творчеств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писано значительно меньше. Это фортепианные сонаты, вокальный цикл «К далекой возлюбленной». 1824г. – «Торжественная месса» - хоровое произведение духовного содержания на латинском языке, симфония №9, в в финале которой звучит ода Шиллера «К радости», напоминая гимн. Болезнь становится сильнее, но композитор продолжает работать. среди горячих почитателей таланта Франц Шуберт, но робость и чрезмерная скромность мешали ему познакомиться с Бетховеном. Бетховен знал музыку Шуберта и с похвалой о ней отзывал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оследни годы страдал тяжелой болезнью печени. Было сделано 4 операции, но ничто не могло помоч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 в 1827г. Похороны его превратились в грандиозную манифестацию. Гроб провожала двадцатитысячная толпа. Похоронен на Венском кладбище. Дом, где он родился, превращен в муз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516720" y="6087960"/>
            <a:ext cx="23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32720" y="60148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940360" y="6093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9:22Z</dcterms:created>
  <dc:creator>User</dc:creator>
  <dc:description/>
  <dc:language>en-US</dc:language>
  <cp:lastModifiedBy>Коля</cp:lastModifiedBy>
  <dcterms:modified xsi:type="dcterms:W3CDTF">2013-03-20T19:39:52Z</dcterms:modified>
  <cp:revision>29</cp:revision>
  <dc:subject/>
  <dc:title>Людвиг  ван Бетховен</dc:title>
</cp:coreProperties>
</file>