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4F8-B87E-46B0-947B-73FE6FFC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1A04-A303-4C93-B8DA-02F485BB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E18-7B6D-46DF-A66A-36EEEC52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EC4E-625A-4875-B102-F3F05821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7BE0-5D7E-4569-93CB-DF5FE30D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5C92-B9CE-4ED4-99D1-FDB0564F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BF0A-6215-4D16-979E-DAD241EF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85DF-210C-4B72-AF57-C8EB46E4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6686-C488-44FC-B844-A8505212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B524-02D0-40D0-B014-77DE6BE3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C35F-C91D-4E26-A14A-22E36548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45C-5249-4AFD-BAF1-10830985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FEB4-F82E-44E1-9082-91231886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F244-D735-4255-8977-869EF062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D109-F487-47DF-89DD-98FC7FC8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8E21-6257-4422-AAEA-EE4ADF2F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8215-C161-4818-8D81-42F0037B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FD44-C4AD-41E0-92B9-8AFFC2D4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D24-DC0A-4074-BB1C-122FA639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9F5-F740-46D6-B7BB-ED8C5E89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444-76B4-4AEA-8149-56294A8B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E6D-84FC-4998-BE6E-E194DF0B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C05-AB85-46F9-AFEB-B78A989F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E73-8982-4B5D-A534-ACEABA6E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13D7-8EBC-4755-B798-369DF62DC8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C5B2-9A71-40FD-8270-3240D2332F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09480" y="1295280"/>
            <a:ext cx="76201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иединая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урок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В качестве развивающих целей используются следующие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мышления, необходимого образованному человеку для полноценного функционирования в современном общест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элементов творческой деятельности как качеств мышления - интуиции, пространственного воображения, смекалки и т.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мировозз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навыков устной и письменной ре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"умений учиться":  использовать знания, умения и навыки в учеб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памя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критического мышления, навыков групповой самоорганизации, умения вести диало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эстетических представлений и художественного вкуса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логического мышления (на основе усвоения учащимися причинно-следственных связей, сравнительного анализа), способности четко формулировать свои мыс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Конструирование системы воспитательных целей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уважения к своей Роди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ывать активную жизненную позицию, честность, человеческую порядоч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ывать в учениках средствами урока уверенность в своих сил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гуманизма и любви к прекрасн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ести учащихся к выводу о самоценности человеческих кач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радиционном обучении  приоритетную роль играют обучающие цели, в развивающем - развивающие мышление, в личностно-ориентированном - развивающие ценностно- смысловую сферу сознания ли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ь под целью урока иногда понимает цель для себя - что он хотел бы сделать на уроке. Но ведь он приходит на урок для того, чтобы научить чему-нибудь учеников, поэтому цель урока должна определять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чему ученики должны научиться на урок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учитель формулирует цель для себя, то ученики не понимают, для чего они изучают материал, и начинают спрашивать: "А по этой теме будет контрольная?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ая цель тесно связана с оцениванием. Проверочная работа должна определять уровень достижения целей учениками. Четко сформулировать  цель - значит, облегчить подготовку к контрольной работе, быть готовым к составлению текста, ориентированного на комплекс учебных ц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ебные цели - это не название темы урока, а четкое и ясное описание учебных целей уче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ая цель тесно связана с оценив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ждый учитель должен уме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яснять, что такое цель у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еть преобразовать общую цель урока в систему знаний и умений, которыми должен овладеть ученик на уро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одить опрос с позиций достижения целей учителем и учени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яснять, почему новый материал - часть целостной "картины мира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и обучения условно разделяют на три группы (триединая дидактическая цель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образовательные (обучающи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развивающ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воспитатель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- это заранее запланированный конечный результат обучения, развития и воспитания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бразовательная цель</a:t>
            </a:r>
            <a:br>
              <a:rPr sz="38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поставленная педагогами нашей школы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 со средствами поражения и их поражающими факт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нить все, что знаем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новые элементы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ство с правилами поведения и формами общения в разных ситу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ить представления детей (9 кл!) о ЗОЖ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ить повелительное наклонени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нравственные качеств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положительное отношение к развитию ум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Развивающая цель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поставленная педагогами нашей школы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уч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выкам работы с картой, документами (7 кл!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ложительно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е к здоровь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логическое мышление (Уланова В.И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навыки чтения числовых промежутков (Бутанаева Л.П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навыков групповой работы (Монгуш З.Д.)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Воспитательная цель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поставленная педагогами нашей школы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ывать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любов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 прошлому своей Родин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чувства ответственности за свою здоровье  и ….(Хомушку М.К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ывать любовь и уважение к русскому языку (Куулар А.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риступая к формулировке целей, учитель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ает требования образовательного стандарта и програ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щает внимание на требования к системе знаний и умений по данной теме как основе развития познавательной самодеятельности школь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яет приемы учебной работы, которыми важно овладеть школьни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еляет ценностные ориентиры, которые могут обеспечить личностную заинтересованность школьника в результатах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Обучающие (дидактические)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дача учащимся  определенной системы знаний, умений, навыков, необходимых для общего образования, для изучения других дисциплин и для практической деятельности в повседневной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работка у учащихся на материале учебного предмета способов учебно-познавательной деятельности (технологии обучения) и т.д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рка знаний по т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бщение изученн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рка усвоения материала на основе творческих зад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ование умений применять полученные знания на практ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познавательной активности, творческих спосо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Определить основную дидактическую цель урока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ю нового материал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одна дидактическая 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сновное время урока будет отведено изучению нового материал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еплению нового материала и ранее пройденног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одна дидактическая цель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крепле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рольный урок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одна дидактическая цель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нтроль за  полученными знаниям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ве дидактические цели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торение и обобщение: на повторительно-обобщающем уроке именно этому будет посвящено основное время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ри дидактические цели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вторение, закрепление, сообщение нового материала - комбинированный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7:53:37Z</dcterms:created>
  <dc:creator>Татьяна Ивановна</dc:creator>
  <dc:description/>
  <dc:language>en-US</dc:language>
  <cp:lastModifiedBy>Татьяна Ивановна</cp:lastModifiedBy>
  <dcterms:modified xsi:type="dcterms:W3CDTF">2012-01-23T05:48:3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