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94B-8DC8-4E10-A79C-2F8FCCB2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081-D07B-4BF7-ADC9-004D312F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091-F397-4D45-AF7E-F14B04C5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570-2F92-4CF1-8E2A-6B8B7E7F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ACA7-C10F-4769-B97A-F1B3FCA0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439-EA00-4263-8481-37DBDA13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EDEE-B724-4F49-8136-DC4D605E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6C4C-0533-41C9-BF6C-661ACCE0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C5D-894C-450A-9B21-AAC7E602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7246-0B18-40B4-ACE4-C10BF636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FFDD-BC1A-42EB-96C2-8D438159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036-6F3E-4DD1-BA5D-25FEAC30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7D78-DD70-421E-9C85-AB334CE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0A7C-162F-49C0-8DAF-E624E18A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3EA1-4B74-467C-A475-47D8AEAF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3708-6905-4E3F-9050-37525976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233B-DB3E-4B5D-9353-2075E94D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B2F-CE07-41D0-8855-2FF43D25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1F5-C66C-4F11-9722-69F1C425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ADD-D170-42F6-9871-788B2853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148-3A65-4FC9-A0E4-81704661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23A-23F3-48D7-877E-7AE3E813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6AA-C973-470F-A9DA-F356DD09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667-645D-40E5-97FF-61989046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9393-5F63-4092-B52E-76B1999FC2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78CB-72BA-4AB9-8FFC-3E52D2E675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1295280"/>
            <a:ext cx="76201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иединая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уро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 качестве развивающих целей используются следующие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мышления, необходимого образованному человеку для полноценного функционирования в современном общест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элементов творческой деятельности как качеств мышления - интуиции, пространственного воображения, смекалки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мировоз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навыков устной и письменно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"умений учиться":  использовать знания, умения и навыки в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памя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, навыков групповой самоорганизации, умения вести диало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эстетических представлений и художественного вкуса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логического мышления (на основе усвоения учащимися причинно-следственных связей, сравнительного анализа), способности четко формулировать свои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Конструирование системы воспитательных целе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уважения к своей Род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активную жизненную позицию, честность, человеческую порядоч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в учениках средствами урока уверенность в своих сил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гуманизма и любви к прекрасн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сти учащихся к выводу о самоценности человеческих кач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радиционном обучении  приоритетную роль играют обучающие цели, в развивающем - развивающие мышление, в личностно-ориентированном - развивающие ценностно- смысловую сферу сознания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под целью урока иногда понимает цель для себя - что он хотел бы сделать на уроке. Но ведь он приходит на урок для того, чтобы научить чему-нибудь учеников, поэтому цель урока должна определять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чему ученики должны научиться на урок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учитель формулирует цель для себя, то ученики не понимают, для чего они изучают материал, и начинают спрашивать: "А по этой теме будет контрольная?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цель тесно связана с оцениванием. Проверочная работа должна определять уровень достижения целей учениками. Четко сформулировать  цель - значит, облегчить подготовку к контрольной работе, быть готовым к составлению текста, ориентированного на комплекс учебных ц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ебные цели - это не название темы урока, а четкое и ясное описание учебных целей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цель тесно связана с оцени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ждый учитель должен 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ять, что такое цель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ть преобразовать общую цель урока в систему знаний и умений, которыми должен овладеть ученик на уро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одить опрос с позиций достижения целей учителем и уче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ять, почему новый материал - часть целостной "картины мира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обучения условно разделяют на три группы (триединая дидактическая цель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бразовательные (обучающи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звивающ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оспитат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- это заранее запланированный конечный результат обучения, развития и воспитани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бразовательная цель</a:t>
            </a:r>
            <a:br>
              <a:rPr sz="38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поставленная педагогами нашей школ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со средствами поражения и их поражающими фак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ь все, что знаем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новые элементы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правилами поведения и формами общения в раз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ить представления детей (9 кл!) о ЗОЖ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ить повелительное наклон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нравственные качеств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оложительное отношение к развитию ум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азвивающая цель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поставленная педагогами нашей школ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уч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выкам работы с картой, документами (7 кл!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к здоровь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логическое мышление (Уланова В.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навыки чтения числовых промежутков (Бутанаева Л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навыков групповой работы (Монгуш З.Д.)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оспитательная цель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поставленная педагогами нашей школ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любов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 прошлому своей Родин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чувства ответственности за свою здоровье  и ….(Хомушку М.К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любовь и уважение к русскому языку (Куулар А.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иступая к формулировке целей, учител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ает требования образовательного стандарта и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щает внимание на требования к системе знаний и умений по данной теме как основе развития познавательной самодеятельности 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яет приемы учебной работы, которыми важно овладеть школьн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яет ценностные ориентиры, которые могут обеспечить личностную заинтересованность школьника в результатах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бучающие (дидактические)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ача учащимся  определенной системы знаний, умений, навыков, необходимых для общего образования, для изучения других дисциплин и для практической деятельности в повседнев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работка у учащихся на материале учебного предмета способов учебно-познавательной деятельности (технологии обучения)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знаний по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бщение изучен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усвоения материала на основе творческих за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умений применять полученные знания на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познавательной активности,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Определить основную дидактическую цель урока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ю нового материал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дна дидактическая 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сновное время урока будет отведено изучению нового материал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ению нового материала и ранее пройденног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дна дидактическая цель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крепл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ьный уро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дна дидактическая цель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нтроль за  полученными знания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е дидактические цели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торение и обобщение: на повторительно-обобщающем уроке именно этому будет посвящено основное время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и дидактические цели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вторение, закрепление, сообщение нового материала - комбинированный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53:37Z</dcterms:created>
  <dc:creator>Татьяна Ивановна</dc:creator>
  <dc:description/>
  <dc:language>en-US</dc:language>
  <cp:lastModifiedBy>Татьяна Ивановна</cp:lastModifiedBy>
  <dcterms:modified xsi:type="dcterms:W3CDTF">2012-01-23T05:48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