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591-A08A-433B-8C90-0E29BE0D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A97-E125-4835-9A6D-5D4A8D56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375-56E8-406B-8C5E-9EBC6739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D48-EF85-43C7-91ED-0F4A0AE8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5B5D-7783-432C-AA72-73DFBB8F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7FD4-8044-4205-82FE-010FE61B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EA6C-296D-496D-9761-88F62D8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0877-E537-4172-85EF-4B037402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97DC-32E7-48C6-AE11-E423431D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B26D-2C5F-41F7-8306-FE27010B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94C3-754E-461B-B69A-249A948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876-A442-41CE-ACC6-9A3582EC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FB17-F60B-48A2-96F6-6A2F01FA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37C0-3A12-4D68-82F8-7D5D75CB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ECE0-5200-4547-A232-4F01F449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34D-F088-4469-A394-31A11769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9233-2155-4FD5-820E-17FC43EE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75F-6A06-45C0-9F35-4BDB94AB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63B-5E52-4BE6-93D8-5BCE9307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E7E-CD25-4EE8-9FA4-3B38EA4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1D7-760A-4944-ADE1-43D5A1E7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B80-8F65-4902-A46B-76F55293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914-507A-4BE0-B1FC-4CF592C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D4A-E793-4ACC-80B1-45FCE934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5DBA-BD29-48B6-847E-DE89A491B5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16DB-F90D-4A25-836F-519215ABB7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1295280"/>
            <a:ext cx="76201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иединая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уро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 качестве развивающих целей используются следующие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мышления, необходимого образованному человеку для полноценного функционирования в современном общест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элементов творческой деятельности как качеств мышления - интуиции, пространственного воображения, смекалки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мировоз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навыков устной и письменно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"умений учиться":  использовать знания, умения и навыки в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памя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, навыков групповой самоорганизации, умения вести диало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эстетических представлений и художественного вкуса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логического мышления (на основе усвоения учащимися причинно-следственных связей, сравнительного анализа), способности четко формулировать свои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Конструирование системы воспитательных целе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уважения к своей Род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активную жизненную позицию, честность, человеческую порядоч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в учениках средствами урока уверенность в своих сил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гуманизма и любви к прекрасн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сти учащихся к выводу о самоценности человеческих кач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радиционном обучении  приоритетную роль играют обучающие цели, в развивающем - развивающие мышление, в личностно-ориентированном - развивающие ценностно- смысловую сферу сознания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под целью урока иногда понимает цель для себя - что он хотел бы сделать на уроке. Но ведь он приходит на урок для того, чтобы научить чему-нибудь учеников, поэтому цель урока должна определять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чему ученики должны научиться на урок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учитель формулирует цель для себя, то ученики не понимают, для чего они изучают материал, и начинают спрашивать: "А по этой теме будет контрольная?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цель тесно связана с оцениванием. Проверочная работа должна определять уровень достижения целей учениками. Четко сформулировать  цель - значит, облегчить подготовку к контрольной работе, быть готовым к составлению текста, ориентированного на комплекс учебных ц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ебные цели - это не название темы урока, а четкое и ясное описание учебных целей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цель тесно связана с оцени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ждый учитель должен 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ять, что такое цель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ть преобразовать общую цель урока в систему знаний и умений, которыми должен овладеть ученик на уро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одить опрос с позиций достижения целей учителем и уче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ять, почему новый материал - часть целостной "картины мира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обучения условно разделяют на три группы (триединая дидактическая цель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бразовательные (обучающи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звивающ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оспитат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- это заранее запланированный конечный результат обучения, развития и воспитани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бразовательная цель</a:t>
            </a:r>
            <a:br>
              <a:rPr sz="38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поставленная педагогами нашей школ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со средствами поражения и их поражающими фак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ь все, что знаем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новые элементы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правилами поведения и формами общения в раз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ить представления детей (9 кл!) о ЗОЖ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ить повелительное наклон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нравственные качеств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оложительное отношение к развитию ум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азвивающая цель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поставленная педагогами нашей школ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уч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выкам работы с картой, документами (7 кл!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к здоровь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логическое мышление (Уланова В.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навыки чтения числовых промежутков (Бутанаева Л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навыков групповой работы (Монгуш З.Д.)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оспитательная цель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поставленная педагогами нашей школ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любов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 прошлому своей Родин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чувства ответственности за свою здоровье  и ….(Хомушку М.К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любовь и уважение к русскому языку (Куулар А.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иступая к формулировке целей, учител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ает требования образовательного стандарта и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щает внимание на требования к системе знаний и умений по данной теме как основе развития познавательной самодеятельности 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яет приемы учебной работы, которыми важно овладеть школьн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яет ценностные ориентиры, которые могут обеспечить личностную заинтересованность школьника в результатах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бучающие (дидактические)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ача учащимся  определенной системы знаний, умений, навыков, необходимых для общего образования, для изучения других дисциплин и для практической деятельности в повседнев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работка у учащихся на материале учебного предмета способов учебно-познавательной деятельности (технологии обучения)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знаний по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бщение изучен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усвоения материала на основе творческих за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умений применять полученные знания на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познавательной активности,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Определить основную дидактическую цель урока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ю нового материал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дна дидактическая 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сновное время урока будет отведено изучению нового материал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ению нового материала и ранее пройденног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дна дидактическая цель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крепл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ьный уро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дна дидактическая цель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нтроль за  полученными знания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е дидактические цели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торение и обобщение: на повторительно-обобщающем уроке именно этому будет посвящено основное время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и дидактические цели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вторение, закрепление, сообщение нового материала - комбинированный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53:37Z</dcterms:created>
  <dc:creator>Татьяна Ивановна</dc:creator>
  <dc:description/>
  <dc:language>en-US</dc:language>
  <cp:lastModifiedBy>Татьяна Ивановна</cp:lastModifiedBy>
  <dcterms:modified xsi:type="dcterms:W3CDTF">2012-01-23T05:48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